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12.jpeg" ContentType="image/jpeg"/>
  <Override PartName="/ppt/media/image6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7781-C0F6-4FD9-BB4B-B3C9EA0C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78487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8000" y="3785400"/>
            <a:ext cx="78487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750-7D87-49FE-BE27-76AEB930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38300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29920" y="1341360"/>
            <a:ext cx="38300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8000" y="3785400"/>
            <a:ext cx="38300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29920" y="3785400"/>
            <a:ext cx="38300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E06-55C4-4FD6-BE6C-A5689EA4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2527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61920" y="1341360"/>
            <a:ext cx="2527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5840" y="1341360"/>
            <a:ext cx="2527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8000" y="3785400"/>
            <a:ext cx="2527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61920" y="3785400"/>
            <a:ext cx="2527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5840" y="3785400"/>
            <a:ext cx="2527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BEA-288C-4003-8F0C-C1DAE871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8000" y="1341360"/>
            <a:ext cx="784872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540-EBF8-46BA-9327-DC3C8369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78487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E6F-4152-4220-B6C9-2D8F3886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38300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29920" y="1341360"/>
            <a:ext cx="38300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A409-CB9B-40E6-86D4-95BA3984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BD7-C782-4D3D-8D3A-84FC6C57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8000" y="124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13F2-0CDE-4784-A8D5-8FA82ED4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38300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9920" y="1341360"/>
            <a:ext cx="38300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8000" y="3785400"/>
            <a:ext cx="38300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6D0-7001-438E-AB95-BCCCDAC9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38300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9920" y="1341360"/>
            <a:ext cx="38300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29920" y="3785400"/>
            <a:ext cx="38300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BD5-4702-4964-8C3E-56A2C4FB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38300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29920" y="1341360"/>
            <a:ext cx="38300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785400"/>
            <a:ext cx="78487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26B-1015-4382-9115-A5000FF2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1341360"/>
            <a:ext cx="78487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4859-3319-4C89-94C4-88E5FA546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68880"/>
            <a:ext cx="9144000" cy="816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956720" y="4757760"/>
            <a:ext cx="1187280" cy="5526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991640" y="5373720"/>
            <a:ext cx="1152360" cy="6001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579360" y="0"/>
            <a:ext cx="257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P6-IST-507336 Presto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.bbc.co.uk/catalogue/infax/" TargetMode="External"/><Relationship Id="rId2" Type="http://schemas.openxmlformats.org/officeDocument/2006/relationships/hyperlink" Target="http://open.bbc.co.uk/catalogue/infax/" TargetMode="External"/><Relationship Id="rId3" Type="http://schemas.openxmlformats.org/officeDocument/2006/relationships/hyperlink" Target="http://open.bbc.co.uk/catalogue/infax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restospace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European Media Wrapper Round Table 2007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tospace &amp; the BBC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t Miller, BBC FM&amp;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t.miller@bbc.co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Prestospace – MAD Continued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365720"/>
            <a:ext cx="759636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text for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match to contemporaneous textual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tructured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84360" y="1125360"/>
            <a:ext cx="5283360" cy="35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Prestospace – MAD continued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7848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ll text sear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usually applied by mostly popular search eng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atural Languages 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mantic brows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navigation through concepts, relations and instances of the ont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Prestospace MAD- Publication Platform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91080" y="3238560"/>
            <a:ext cx="1143000" cy="1600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05320" y="3019320"/>
            <a:ext cx="1204920" cy="844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748480" y="3629160"/>
            <a:ext cx="1204920" cy="844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991120" y="4467240"/>
            <a:ext cx="1204920" cy="844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68640" y="2066760"/>
            <a:ext cx="1752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ublic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latfor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776680" y="263808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57600" y="3247920"/>
            <a:ext cx="1023840" cy="3304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12" y="0"/>
                </a:lnTo>
                <a:lnTo>
                  <a:pt x="21600" y="10800"/>
                </a:lnTo>
                <a:lnTo>
                  <a:pt x="20012" y="21600"/>
                </a:lnTo>
                <a:lnTo>
                  <a:pt x="0" y="21600"/>
                </a:lnTo>
                <a:lnTo>
                  <a:pt x="1588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Key Frames 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57600" y="3591000"/>
            <a:ext cx="1023840" cy="3016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12" y="0"/>
                </a:lnTo>
                <a:lnTo>
                  <a:pt x="21600" y="10800"/>
                </a:lnTo>
                <a:lnTo>
                  <a:pt x="20012" y="21600"/>
                </a:lnTo>
                <a:lnTo>
                  <a:pt x="0" y="21600"/>
                </a:lnTo>
                <a:lnTo>
                  <a:pt x="1588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peech to tex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66960" y="3902040"/>
            <a:ext cx="1023840" cy="3016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12" y="0"/>
                </a:lnTo>
                <a:lnTo>
                  <a:pt x="21600" y="10800"/>
                </a:lnTo>
                <a:lnTo>
                  <a:pt x="20012" y="21600"/>
                </a:lnTo>
                <a:lnTo>
                  <a:pt x="0" y="21600"/>
                </a:lnTo>
                <a:lnTo>
                  <a:pt x="1588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Full mo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Video p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18000" y="1571760"/>
            <a:ext cx="782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Verdana"/>
              </a:rPr>
              <a:t>Web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Verdana"/>
              </a:rPr>
              <a:t>interf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48080" y="2143080"/>
            <a:ext cx="380880" cy="380880"/>
          </a:xfrm>
          <a:custGeom>
            <a:avLst/>
            <a:gdLst>
              <a:gd name="textAreaLeft" fmla="*/ 47520 w 380880"/>
              <a:gd name="textAreaRight" fmla="*/ 33336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10040" y="2143080"/>
            <a:ext cx="381240" cy="380880"/>
          </a:xfrm>
          <a:custGeom>
            <a:avLst/>
            <a:gdLst>
              <a:gd name="textAreaLeft" fmla="*/ 47520 w 381240"/>
              <a:gd name="textAreaRight" fmla="*/ 33372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76680" y="4219560"/>
            <a:ext cx="1023840" cy="3016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12" y="0"/>
                </a:lnTo>
                <a:lnTo>
                  <a:pt x="21600" y="10800"/>
                </a:lnTo>
                <a:lnTo>
                  <a:pt x="20012" y="21600"/>
                </a:lnTo>
                <a:lnTo>
                  <a:pt x="0" y="21600"/>
                </a:lnTo>
                <a:lnTo>
                  <a:pt x="1588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emantic Sea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(KIM Platfor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82800" y="4530600"/>
            <a:ext cx="1024200" cy="30168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12" y="0"/>
                </a:lnTo>
                <a:lnTo>
                  <a:pt x="21600" y="10800"/>
                </a:lnTo>
                <a:lnTo>
                  <a:pt x="20012" y="21600"/>
                </a:lnTo>
                <a:lnTo>
                  <a:pt x="0" y="21600"/>
                </a:lnTo>
                <a:lnTo>
                  <a:pt x="1588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opic Sea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(Full tex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681440" y="263844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834080" y="347652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10040" y="408636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10040" y="439092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3469320" y="379800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ultimedia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ublis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3324240"/>
            <a:ext cx="7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85240" y="1768320"/>
            <a:ext cx="712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Verdana"/>
              </a:rPr>
              <a:t>Ric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Verdana"/>
              </a:rPr>
              <a:t>Cont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709640" y="21049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4084560" y="4626000"/>
            <a:ext cx="381240" cy="190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5443560" y="2028960"/>
            <a:ext cx="771480" cy="771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29160" y="3238560"/>
            <a:ext cx="304920" cy="1600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8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Prestospace MAD- Publication Platform Continued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20720" y="1413000"/>
            <a:ext cx="680400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cc"/>
                </a:solidFill>
                <a:latin typeface="Arial"/>
              </a:rPr>
              <a:t>Key Prestospace Documents:</a:t>
            </a:r>
            <a:br>
              <a:rPr sz="4000"/>
            </a:br>
            <a:r>
              <a:rPr b="0" lang="en-GB" sz="4000" spc="-1" strike="noStrike">
                <a:solidFill>
                  <a:srgbClr val="0066cc"/>
                </a:solidFill>
                <a:latin typeface="Arial"/>
              </a:rPr>
              <a:t>All available at Prestospace.org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78487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VIDEO SEGMENTATION TO SEMANTIC INDEXING:THE PRESTOSPAC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able D15.1 Analysis of current audiovisual documentation models, Mapping of current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able D15.3 State of the Art of Content Analysis Tools for Video, Audio and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troveRAI: A Web Application for Semantic Indexing and Hyperlinking of Multimedia New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The next 20 minutes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78487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am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BBC archive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BC Catalogue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 Archive 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to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deo 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ther things we’ve se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Internal BBC Projects 1</a:t>
            </a:r>
            <a:br>
              <a:rPr sz="4000"/>
            </a:b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the core catalogue and taxonomy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78487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er assisted ind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 within the existing tax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hancements to current work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talogue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ax web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pen.bbc.co.uk/catalogue/infax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Internal BBC Projects 2</a:t>
            </a:r>
            <a:br>
              <a:rPr sz="4000"/>
            </a:b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revised metadata environments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78487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Archive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d trial leading to “Public Value Te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selected and ‘curated’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oadcast schedule oriented download and stream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PG typ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BC Program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web page for every transmitte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re and Format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uctured metadata for interactiv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External Projects:</a:t>
            </a:r>
            <a:br>
              <a:rPr sz="4000"/>
            </a:b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Prestospace 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78487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rge pro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t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adata Access &amp; Delivery - M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age and Archive Management – S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restospac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6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I, INA, ORF, Joanneum, University Tor Vergata, University of Sheffield, IT Innovations, SSL ltd, Eurix, BBC, Stream UK, Snell&amp;Wilcox, tudio Hamburg, ACM, Hi Stor, CRCDG-CNRS, OntoText Lab. Sirma, Österreichische Mediathek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Prestospace - MAD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78487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ed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utomated metadata annotation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and deliver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cal basis for information extraction (IE), annotation an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M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M is an extensible platform for semantics-based knowledge management which offers IE-based facilities for metadata creation, storage, and conceptual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Side Bar- Ontologies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78487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d knowledg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ningful relationships between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tag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er Information extraction and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Indep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advantage: Limited Doma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cc"/>
                </a:solidFill>
                <a:latin typeface="Arial"/>
              </a:rPr>
              <a:t>The MAD Data model</a:t>
            </a:r>
            <a:br>
              <a:rPr sz="4000"/>
            </a:b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(From: From video segmentation to semantic indexing:the Prestospace approach)</a:t>
            </a:r>
            <a:endParaRPr b="0" lang="en-US" sz="1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784872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interoperability with exist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U P/META, ISO MPEG7, Dublin Core, SMPTE MXF and DMS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rom the analysis of existing users data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ses a clean separation between editorial and material relate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the basic entities and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incremental 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cc"/>
                </a:solidFill>
                <a:latin typeface="Arial"/>
              </a:rPr>
              <a:t>Schema of PrestoSpace document format </a:t>
            </a:r>
            <a:r>
              <a:rPr b="0" lang="en-GB" sz="3200" spc="-1" strike="noStrike">
                <a:solidFill>
                  <a:srgbClr val="0066cc"/>
                </a:solidFill>
                <a:latin typeface="Arial"/>
              </a:rPr>
              <a:t>(XML)</a:t>
            </a:r>
            <a:br>
              <a:rPr sz="3200"/>
            </a:b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(From: From video segmentation to semantic indexing:the Prestospace approach)</a:t>
            </a:r>
            <a:endParaRPr b="0" lang="en-US" sz="16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332000" y="1697040"/>
            <a:ext cx="6191280" cy="4324320"/>
            <a:chOff x="1332000" y="1697040"/>
            <a:chExt cx="6191280" cy="4324320"/>
          </a:xfrm>
        </p:grpSpPr>
        <p:sp>
          <p:nvSpPr>
            <p:cNvPr id="63" name=""/>
            <p:cNvSpPr/>
            <p:nvPr/>
          </p:nvSpPr>
          <p:spPr>
            <a:xfrm>
              <a:off x="1332000" y="1697040"/>
              <a:ext cx="5981760" cy="4324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28800" y="2371680"/>
              <a:ext cx="2943360" cy="578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76720" y="2028960"/>
              <a:ext cx="22050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76720" y="2028960"/>
              <a:ext cx="21924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67440" y="2949840"/>
              <a:ext cx="134928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67440" y="2949840"/>
              <a:ext cx="133668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72160" y="2654280"/>
              <a:ext cx="63360" cy="74880"/>
            </a:xfrm>
            <a:custGeom>
              <a:avLst/>
              <a:gdLst/>
              <a:ahLst/>
              <a:rect l="l" t="t" r="r" b="b"/>
              <a:pathLst>
                <a:path w="159" h="185">
                  <a:moveTo>
                    <a:pt x="159" y="92"/>
                  </a:moveTo>
                  <a:lnTo>
                    <a:pt x="0" y="0"/>
                  </a:lnTo>
                  <a:lnTo>
                    <a:pt x="64" y="185"/>
                  </a:lnTo>
                  <a:lnTo>
                    <a:pt x="159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72160" y="2654280"/>
              <a:ext cx="63360" cy="74880"/>
            </a:xfrm>
            <a:custGeom>
              <a:avLst/>
              <a:gdLst/>
              <a:ahLst/>
              <a:rect l="l" t="t" r="r" b="b"/>
              <a:pathLst>
                <a:path w="159" h="185">
                  <a:moveTo>
                    <a:pt x="159" y="92"/>
                  </a:moveTo>
                  <a:lnTo>
                    <a:pt x="0" y="0"/>
                  </a:lnTo>
                  <a:lnTo>
                    <a:pt x="64" y="185"/>
                  </a:lnTo>
                  <a:lnTo>
                    <a:pt x="159" y="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08640" y="1967040"/>
              <a:ext cx="16686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08640" y="1967040"/>
              <a:ext cx="16700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54320" y="1906560"/>
              <a:ext cx="63720" cy="60480"/>
            </a:xfrm>
            <a:custGeom>
              <a:avLst/>
              <a:gdLst/>
              <a:ahLst/>
              <a:rect l="l" t="t" r="r" b="b"/>
              <a:pathLst>
                <a:path w="161" h="155">
                  <a:moveTo>
                    <a:pt x="161" y="0"/>
                  </a:moveTo>
                  <a:lnTo>
                    <a:pt x="0" y="93"/>
                  </a:lnTo>
                  <a:lnTo>
                    <a:pt x="161" y="155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54320" y="1906560"/>
              <a:ext cx="63720" cy="60480"/>
            </a:xfrm>
            <a:custGeom>
              <a:avLst/>
              <a:gdLst/>
              <a:ahLst/>
              <a:rect l="l" t="t" r="r" b="b"/>
              <a:pathLst>
                <a:path w="161" h="155">
                  <a:moveTo>
                    <a:pt x="161" y="0"/>
                  </a:moveTo>
                  <a:lnTo>
                    <a:pt x="0" y="93"/>
                  </a:lnTo>
                  <a:lnTo>
                    <a:pt x="161" y="155"/>
                  </a:lnTo>
                  <a:lnTo>
                    <a:pt x="16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72160" y="3170160"/>
              <a:ext cx="63360" cy="61920"/>
            </a:xfrm>
            <a:custGeom>
              <a:avLst/>
              <a:gdLst/>
              <a:ahLst/>
              <a:rect l="l" t="t" r="r" b="b"/>
              <a:pathLst>
                <a:path w="159" h="155">
                  <a:moveTo>
                    <a:pt x="0" y="0"/>
                  </a:moveTo>
                  <a:lnTo>
                    <a:pt x="0" y="155"/>
                  </a:lnTo>
                  <a:lnTo>
                    <a:pt x="159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3170160"/>
              <a:ext cx="63360" cy="61920"/>
            </a:xfrm>
            <a:custGeom>
              <a:avLst/>
              <a:gdLst/>
              <a:ahLst/>
              <a:rect l="l" t="t" r="r" b="b"/>
              <a:pathLst>
                <a:path w="159" h="155">
                  <a:moveTo>
                    <a:pt x="0" y="0"/>
                  </a:moveTo>
                  <a:lnTo>
                    <a:pt x="0" y="155"/>
                  </a:lnTo>
                  <a:lnTo>
                    <a:pt x="159" y="6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18200" y="4287960"/>
              <a:ext cx="20257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18200" y="4287960"/>
              <a:ext cx="20257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72160" y="3808440"/>
              <a:ext cx="63360" cy="74520"/>
            </a:xfrm>
            <a:custGeom>
              <a:avLst/>
              <a:gdLst/>
              <a:ahLst/>
              <a:rect l="l" t="t" r="r" b="b"/>
              <a:pathLst>
                <a:path w="159" h="186">
                  <a:moveTo>
                    <a:pt x="159" y="92"/>
                  </a:moveTo>
                  <a:lnTo>
                    <a:pt x="0" y="0"/>
                  </a:lnTo>
                  <a:lnTo>
                    <a:pt x="32" y="186"/>
                  </a:lnTo>
                  <a:lnTo>
                    <a:pt x="159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72160" y="3808440"/>
              <a:ext cx="63360" cy="74520"/>
            </a:xfrm>
            <a:custGeom>
              <a:avLst/>
              <a:gdLst/>
              <a:ahLst/>
              <a:rect l="l" t="t" r="r" b="b"/>
              <a:pathLst>
                <a:path w="159" h="186">
                  <a:moveTo>
                    <a:pt x="159" y="92"/>
                  </a:moveTo>
                  <a:lnTo>
                    <a:pt x="0" y="0"/>
                  </a:lnTo>
                  <a:lnTo>
                    <a:pt x="32" y="186"/>
                  </a:lnTo>
                  <a:lnTo>
                    <a:pt x="159" y="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72160" y="4399200"/>
              <a:ext cx="63360" cy="72720"/>
            </a:xfrm>
            <a:custGeom>
              <a:avLst/>
              <a:gdLst/>
              <a:ahLst/>
              <a:rect l="l" t="t" r="r" b="b"/>
              <a:pathLst>
                <a:path w="159" h="186">
                  <a:moveTo>
                    <a:pt x="159" y="0"/>
                  </a:moveTo>
                  <a:lnTo>
                    <a:pt x="0" y="92"/>
                  </a:lnTo>
                  <a:lnTo>
                    <a:pt x="159" y="186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72160" y="4399200"/>
              <a:ext cx="63360" cy="72720"/>
            </a:xfrm>
            <a:custGeom>
              <a:avLst/>
              <a:gdLst/>
              <a:ahLst/>
              <a:rect l="l" t="t" r="r" b="b"/>
              <a:pathLst>
                <a:path w="159" h="186">
                  <a:moveTo>
                    <a:pt x="159" y="0"/>
                  </a:moveTo>
                  <a:lnTo>
                    <a:pt x="0" y="92"/>
                  </a:lnTo>
                  <a:lnTo>
                    <a:pt x="159" y="186"/>
                  </a:lnTo>
                  <a:lnTo>
                    <a:pt x="15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2160" y="5011920"/>
              <a:ext cx="63360" cy="61920"/>
            </a:xfrm>
            <a:custGeom>
              <a:avLst/>
              <a:gdLst/>
              <a:ahLst/>
              <a:rect l="l" t="t" r="r" b="b"/>
              <a:pathLst>
                <a:path w="159" h="154">
                  <a:moveTo>
                    <a:pt x="159" y="0"/>
                  </a:moveTo>
                  <a:lnTo>
                    <a:pt x="0" y="62"/>
                  </a:lnTo>
                  <a:lnTo>
                    <a:pt x="159" y="15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72160" y="5011920"/>
              <a:ext cx="63360" cy="61920"/>
            </a:xfrm>
            <a:custGeom>
              <a:avLst/>
              <a:gdLst/>
              <a:ahLst/>
              <a:rect l="l" t="t" r="r" b="b"/>
              <a:pathLst>
                <a:path w="159" h="154">
                  <a:moveTo>
                    <a:pt x="159" y="0"/>
                  </a:moveTo>
                  <a:lnTo>
                    <a:pt x="0" y="62"/>
                  </a:lnTo>
                  <a:lnTo>
                    <a:pt x="159" y="154"/>
                  </a:lnTo>
                  <a:lnTo>
                    <a:pt x="15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332000" y="1697040"/>
              <a:ext cx="5988240" cy="4322880"/>
              <a:chOff x="1332000" y="1697040"/>
              <a:chExt cx="5988240" cy="4322880"/>
            </a:xfrm>
          </p:grpSpPr>
          <p:sp>
            <p:nvSpPr>
              <p:cNvPr id="86" name=""/>
              <p:cNvSpPr/>
              <p:nvPr/>
            </p:nvSpPr>
            <p:spPr>
              <a:xfrm>
                <a:off x="1332000" y="1697040"/>
                <a:ext cx="5988240" cy="432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535400" y="1943280"/>
                <a:ext cx="3236760" cy="40766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28800" y="2949840"/>
                <a:ext cx="2943360" cy="5760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828800" y="3527640"/>
                <a:ext cx="2943360" cy="576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28800" y="4103640"/>
                <a:ext cx="2943360" cy="675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828800" y="4778640"/>
                <a:ext cx="2943360" cy="528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828800" y="5307120"/>
                <a:ext cx="2943360" cy="528480"/>
              </a:xfrm>
              <a:prstGeom prst="rect">
                <a:avLst/>
              </a:prstGeom>
              <a:solidFill>
                <a:srgbClr val="949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1535400" y="1942920"/>
              <a:ext cx="5987880" cy="4077000"/>
              <a:chOff x="1535400" y="1942920"/>
              <a:chExt cx="5987880" cy="4077000"/>
            </a:xfrm>
          </p:grpSpPr>
          <p:sp>
            <p:nvSpPr>
              <p:cNvPr id="94" name=""/>
              <p:cNvSpPr/>
              <p:nvPr/>
            </p:nvSpPr>
            <p:spPr>
              <a:xfrm>
                <a:off x="1535400" y="1943280"/>
                <a:ext cx="3236760" cy="40766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828800" y="2371680"/>
                <a:ext cx="2943360" cy="5781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95240" y="2440080"/>
                <a:ext cx="1593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Identification and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424240" y="2660760"/>
                <a:ext cx="1963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Language inform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828800" y="2949840"/>
                <a:ext cx="2943360" cy="577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495880" y="3127320"/>
                <a:ext cx="1808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Material realis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28800" y="3527640"/>
                <a:ext cx="2943360" cy="576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128320" y="3705480"/>
                <a:ext cx="257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Editorial partitions and view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828800" y="4103640"/>
                <a:ext cx="2943360" cy="675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192040" y="4330800"/>
                <a:ext cx="2448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Content related inform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529720" y="2071800"/>
                <a:ext cx="2108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Root element / wrapp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00280" y="2981520"/>
                <a:ext cx="1242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P_META se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4810320" y="2703600"/>
                <a:ext cx="357120" cy="380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49040" y="1998720"/>
                <a:ext cx="158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Ad hoc structur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3217680" y="1942920"/>
                <a:ext cx="2190600" cy="160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4797360" y="2103480"/>
                <a:ext cx="610920" cy="1079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311800" y="4330800"/>
                <a:ext cx="20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99cc00"/>
                    </a:solidFill>
                    <a:latin typeface="Arial"/>
                  </a:rPr>
                  <a:t>MPEG7 profile nod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4809960" y="3857400"/>
                <a:ext cx="407880" cy="57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835160" y="4435560"/>
                <a:ext cx="382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828800" y="4778640"/>
                <a:ext cx="2943360" cy="528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62320" y="4932360"/>
                <a:ext cx="208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Enrichment inform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835520" y="2103480"/>
                <a:ext cx="2687760" cy="2933640"/>
              </a:xfrm>
              <a:custGeom>
                <a:avLst/>
                <a:gdLst/>
                <a:ahLst/>
                <a:rect l="l" t="t" r="r" b="b"/>
                <a:pathLst>
                  <a:path w="6036" h="7394">
                    <a:moveTo>
                      <a:pt x="5652" y="0"/>
                    </a:moveTo>
                    <a:lnTo>
                      <a:pt x="6036" y="0"/>
                    </a:lnTo>
                    <a:lnTo>
                      <a:pt x="6036" y="7394"/>
                    </a:lnTo>
                    <a:lnTo>
                      <a:pt x="0" y="73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28800" y="5307120"/>
                <a:ext cx="2943360" cy="528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752560" y="5461200"/>
                <a:ext cx="1254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Ancillary Dat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35520" y="2103480"/>
                <a:ext cx="2687760" cy="3460680"/>
              </a:xfrm>
              <a:custGeom>
                <a:avLst/>
                <a:gdLst/>
                <a:ahLst/>
                <a:rect l="l" t="t" r="r" b="b"/>
                <a:pathLst>
                  <a:path w="6036" h="8723">
                    <a:moveTo>
                      <a:pt x="5652" y="0"/>
                    </a:moveTo>
                    <a:lnTo>
                      <a:pt x="6036" y="0"/>
                    </a:lnTo>
                    <a:lnTo>
                      <a:pt x="6036" y="8723"/>
                    </a:lnTo>
                    <a:lnTo>
                      <a:pt x="0" y="87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4772160" y="5529240"/>
              <a:ext cx="63360" cy="73080"/>
            </a:xfrm>
            <a:custGeom>
              <a:avLst/>
              <a:gdLst/>
              <a:ahLst/>
              <a:rect l="l" t="t" r="r" b="b"/>
              <a:pathLst>
                <a:path w="159" h="185">
                  <a:moveTo>
                    <a:pt x="159" y="0"/>
                  </a:moveTo>
                  <a:lnTo>
                    <a:pt x="0" y="91"/>
                  </a:lnTo>
                  <a:lnTo>
                    <a:pt x="159" y="185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72160" y="5529240"/>
              <a:ext cx="63360" cy="73080"/>
            </a:xfrm>
            <a:custGeom>
              <a:avLst/>
              <a:gdLst/>
              <a:ahLst/>
              <a:rect l="l" t="t" r="r" b="b"/>
              <a:pathLst>
                <a:path w="159" h="185">
                  <a:moveTo>
                    <a:pt x="159" y="0"/>
                  </a:moveTo>
                  <a:lnTo>
                    <a:pt x="0" y="91"/>
                  </a:lnTo>
                  <a:lnTo>
                    <a:pt x="159" y="185"/>
                  </a:lnTo>
                  <a:lnTo>
                    <a:pt x="15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5:20:50Z</dcterms:created>
  <dc:creator>Rupert Preston Bell</dc:creator>
  <dc:description/>
  <dc:language>en-US</dc:language>
  <cp:lastModifiedBy>millea07</cp:lastModifiedBy>
  <dcterms:modified xsi:type="dcterms:W3CDTF">2007-10-21T10:20:54Z</dcterms:modified>
  <cp:revision>11</cp:revision>
  <dc:subject/>
  <dc:title>Slide 1</dc:title>
</cp:coreProperties>
</file>