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marL="216000"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4026960" y="0"/>
            <a:ext cx="307188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0720" y="766440"/>
            <a:ext cx="5122800" cy="38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47520" y="4863600"/>
            <a:ext cx="5203800" cy="4604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9723240"/>
            <a:ext cx="3071880" cy="510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marL="216000"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4026960" y="9723240"/>
            <a:ext cx="3071880" cy="510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8A71ED6-C12B-405D-9CD4-14C6D5448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026960" y="9723240"/>
            <a:ext cx="3071880" cy="510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5E752C9-86BC-422F-AA2F-6C8889315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9723240"/>
            <a:ext cx="3071880" cy="5108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0"/>
            <a:ext cx="307188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026960" y="0"/>
            <a:ext cx="307188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9320" y="4861080"/>
            <a:ext cx="52005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219A-041D-4CE9-910B-A888327AF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6C14-3578-4649-98DF-DEAD8B31D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D79B-ECA8-4F8E-BCB8-C91612E87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76AE-6048-44DE-A5B5-3BCE40F29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D03-F36E-4E93-812B-FA72351256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011-BE3B-44C7-97A6-F2B32AF030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352-3521-4AE7-A809-0D13C0F2DB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5D9-86E4-4888-AC4E-3A3FD2C4E1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DD7-85E5-4A63-A9EF-24CC4D8DF6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640-353C-4D63-8FEF-3A492A2D71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B85-1D56-4013-A4F6-30170FF03F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DFEF-3BD5-457D-9F46-98405E4BD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DD1-8303-4310-BB14-F163FE085B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F066-E77B-404E-942F-42C68A3CCE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71E-6532-4B72-9A7F-C2275101BE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7F6-4F9A-4EE5-986A-05E0A33C4C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84C-5BED-4F10-B267-A6D5BD3478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DCEB-F57A-4F9F-9043-100D47A36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FC78-1B9B-43A3-8179-4771182D4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726F-18C3-439A-BAC6-03D5E8AD0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C84E-7F0A-450F-9357-E2D565647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DE48-FB20-4156-A81B-989B5F0DB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56DF-54B2-486A-B9B1-F48909AA8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1C1E-5538-49F5-9CBB-8017B241E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9520" indent="-47952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228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938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12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12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12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22920" y="6248520"/>
            <a:ext cx="934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EEE0-6906-462C-8E9D-022171450DA0}" type="slidenum"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2320" y="6284880"/>
            <a:ext cx="17290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0CA4-15C4-4ACF-AC03-8BAEF625FCE2}" type="datetime3">
              <a:rPr b="0" i="1" lang="en-US" sz="1000" spc="-1" strike="noStrike">
                <a:solidFill>
                  <a:srgbClr val="5f5f5f"/>
                </a:solidFill>
                <a:latin typeface="Tahoma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9720" y="6194520"/>
            <a:ext cx="234324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42900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8077320" y="6329160"/>
            <a:ext cx="4572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23AA-C9A7-4A05-841E-9A3586B82025}" type="slidenum"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457200" indent="0" algn="ctr">
              <a:lnSpc>
                <a:spcPct val="11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31840" algn="ctr">
              <a:lnSpc>
                <a:spcPct val="11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936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5552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55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st-chorus.org/" TargetMode="External"/><Relationship Id="rId2" Type="http://schemas.openxmlformats.org/officeDocument/2006/relationships/hyperlink" Target="http://www.ist-chorus.org/" TargetMode="External"/><Relationship Id="rId3" Type="http://schemas.openxmlformats.org/officeDocument/2006/relationships/hyperlink" Target="http://www.ist-chorus.org/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st-chorus.eu/" TargetMode="External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1960" y="1282320"/>
            <a:ext cx="7324560" cy="264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21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CHORUS</a:t>
            </a: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General Objectives</a:t>
            </a: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CA </a:t>
            </a:r>
            <a:r>
              <a:rPr b="0" i="1" lang="en-GB" sz="3200" spc="-1" strike="noStrike">
                <a:solidFill>
                  <a:srgbClr val="000099"/>
                </a:solidFill>
                <a:latin typeface="Times New Roman"/>
              </a:rPr>
              <a:t>Audio-Visual Search Engines</a:t>
            </a:r>
            <a:r>
              <a:rPr b="0" i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all 6 – Start date: Nov 06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058080"/>
            <a:ext cx="8001000" cy="7617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8280" y="4203720"/>
            <a:ext cx="326376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212760" algn="ctr">
              <a:lnSpc>
                <a:spcPct val="125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Jean-Charles Point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1" marL="457200" indent="212760" algn="ctr">
              <a:lnSpc>
                <a:spcPct val="125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Project Coordinator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22760" y="4154400"/>
            <a:ext cx="347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5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N</a:t>
            </a:r>
            <a:r>
              <a:rPr b="1" lang="fr-FR" sz="2000" spc="-1" strike="noStrike">
                <a:solidFill>
                  <a:srgbClr val="990033"/>
                </a:solidFill>
                <a:latin typeface="Arial"/>
              </a:rPr>
              <a:t>ozha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B</a:t>
            </a:r>
            <a:r>
              <a:rPr b="1" lang="fr-FR" sz="2000" spc="-1" strike="noStrike">
                <a:solidFill>
                  <a:srgbClr val="990033"/>
                </a:solidFill>
                <a:latin typeface="Arial"/>
              </a:rPr>
              <a:t>oujemaa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Scientific Coordinator</a:t>
            </a:r>
            <a:r>
              <a:rPr b="1" lang="en-US" sz="1600" spc="-1" strike="noStrike">
                <a:solidFill>
                  <a:srgbClr val="990033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25520" y="5622840"/>
            <a:ext cx="8208720" cy="1190880"/>
            <a:chOff x="425520" y="5622840"/>
            <a:chExt cx="8208720" cy="119088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1677960" y="5986440"/>
              <a:ext cx="126684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425520" y="5975280"/>
              <a:ext cx="115092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3016080" y="5622840"/>
              <a:ext cx="129708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825880" y="5713560"/>
              <a:ext cx="792360" cy="4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5"/>
            <a:stretch/>
          </p:blipFill>
          <p:spPr>
            <a:xfrm>
              <a:off x="496800" y="5699160"/>
              <a:ext cx="86364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6"/>
            <a:stretch/>
          </p:blipFill>
          <p:spPr>
            <a:xfrm>
              <a:off x="4457520" y="5802480"/>
              <a:ext cx="136836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7"/>
            <a:stretch/>
          </p:blipFill>
          <p:spPr>
            <a:xfrm>
              <a:off x="6977160" y="569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8"/>
            <a:stretch/>
          </p:blipFill>
          <p:spPr>
            <a:xfrm>
              <a:off x="7843680" y="5697720"/>
              <a:ext cx="50184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9"/>
            <a:stretch/>
          </p:blipFill>
          <p:spPr>
            <a:xfrm>
              <a:off x="3335400" y="6058080"/>
              <a:ext cx="126684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0"/>
            <a:stretch/>
          </p:blipFill>
          <p:spPr>
            <a:xfrm>
              <a:off x="4889520" y="6273720"/>
              <a:ext cx="792000" cy="4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1"/>
            <a:stretch/>
          </p:blipFill>
          <p:spPr>
            <a:xfrm>
              <a:off x="5897520" y="6356520"/>
              <a:ext cx="7207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2"/>
            <a:stretch/>
          </p:blipFill>
          <p:spPr>
            <a:xfrm>
              <a:off x="6761160" y="6346800"/>
              <a:ext cx="86508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3"/>
            <a:stretch/>
          </p:blipFill>
          <p:spPr>
            <a:xfrm>
              <a:off x="7770600" y="6202440"/>
              <a:ext cx="86364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4"/>
            <a:stretch/>
          </p:blipFill>
          <p:spPr>
            <a:xfrm>
              <a:off x="1431720" y="5653080"/>
              <a:ext cx="2160720" cy="4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6EF-5C4A-42E0-8D24-CA47C79DAF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99"/>
                </a:solidFill>
                <a:latin typeface="Times New Roman"/>
              </a:rPr>
              <a:t>WGs list and focus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8400" y="1752120"/>
            <a:ext cx="777240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9520" indent="-47952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G3: Socio-economic and legal asp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of social implications, group behavior, user's technology acceptance, expected economic impact, and leg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G4: Use-Cases and New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 needs prospect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age scenarios in relation with content provid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ication of list killer applications in different sectors (not only large pub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&gt; Connection with the think-tank activity W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67D6-1F69-45CD-9B6D-91ECC08FBA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99"/>
                </a:solidFill>
                <a:latin typeface="Times New Roman"/>
              </a:rPr>
              <a:t>Deliverables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8560" y="149868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952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G will work within its topics on </a:t>
            </a:r>
            <a:r>
              <a:rPr b="1" i="1" lang="en-GB" sz="2800" spc="-1" strike="noStrike">
                <a:solidFill>
                  <a:srgbClr val="a50021"/>
                </a:solidFill>
                <a:latin typeface="Arial"/>
              </a:rPr>
              <a:t>3 objectiv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1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stablish up-to-date state-of-the art in the field (M12), special comment to WG1: no standard SOA as any EC project but synthesis of experience through joint project meetings to identify overlap, specificity, encountered problems, promising approaches, bottleneck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2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dentify key issues to address + roadmaps (M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3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stablish multi technological view that will provide gap analysis and recommendation (M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61BA-0562-4B88-AF82-485364585C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99"/>
                </a:solidFill>
                <a:latin typeface="Times New Roman"/>
              </a:rPr>
              <a:t>Chorus Events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1128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9520" indent="-479520">
              <a:lnSpc>
                <a:spcPct val="110000"/>
              </a:lnSpc>
              <a:spcBef>
                <a:spcPts val="700"/>
              </a:spcBef>
              <a:spcAft>
                <a:spcPts val="499"/>
              </a:spcAft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ORUS Practitioner days, ACM CIVR, Amsterdam, July 11 &amp; 12, 2007 – Including Joint Session with NEM -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10000"/>
              </a:lnSpc>
              <a:spcBef>
                <a:spcPts val="700"/>
              </a:spcBef>
              <a:spcAft>
                <a:spcPts val="499"/>
              </a:spcAft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vent on National Initiatives on Multimedia search, October 10, Geneva at E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10000"/>
              </a:lnSpc>
              <a:spcBef>
                <a:spcPts val="700"/>
              </a:spcBef>
              <a:spcAft>
                <a:spcPts val="499"/>
              </a:spcAft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notations and Metadata models for Audiovisual/multimedia Content, Munich, IRT,November 21-22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110000"/>
              </a:lnSpc>
              <a:spcBef>
                <a:spcPts val="7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ttp://www.ist-chorus.org/munich---november-21--22-07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0" algn="ctr">
              <a:lnSpc>
                <a:spcPct val="110000"/>
              </a:lnSpc>
              <a:spcBef>
                <a:spcPts val="7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rther information available on the CHORUS web sit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ist-chorus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1349-CC35-4BBC-B4BD-8098006D6B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52560" y="2933640"/>
            <a:ext cx="707400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99"/>
                </a:solidFill>
                <a:latin typeface="Times New Roman"/>
              </a:rPr>
              <a:t>Thanks for your attention</a:t>
            </a:r>
            <a:br>
              <a:rPr sz="3600"/>
            </a:b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80200" y="3740040"/>
            <a:ext cx="393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www.ist-chorus.eu/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67B-B6E7-4B2F-8886-C425187D2C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95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CHORUS Methodology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55840" y="2097000"/>
            <a:ext cx="2590920" cy="3457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160a1">
                  <a:alpha val="92156"/>
                </a:srgbClr>
              </a:gs>
              <a:gs pos="100000">
                <a:srgbClr val="002c4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4492800"/>
            <a:ext cx="344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WP2 Socio-economical                    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/legal asp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9840" y="2602080"/>
            <a:ext cx="219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WP3 Think-T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5840" y="4546440"/>
            <a:ext cx="226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P2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90200" y="4367160"/>
            <a:ext cx="2390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A, Roadblock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880" y="4581360"/>
            <a:ext cx="157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ap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91680" y="1738440"/>
            <a:ext cx="116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Road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49520" y="4905360"/>
            <a:ext cx="1793880" cy="433440"/>
          </a:xfrm>
          <a:custGeom>
            <a:avLst/>
            <a:gdLst/>
            <a:ahLst/>
            <a:rect l="l" t="t" r="r" b="b"/>
            <a:pathLst>
              <a:path w="4582" h="1157">
                <a:moveTo>
                  <a:pt x="0" y="0"/>
                </a:moveTo>
                <a:lnTo>
                  <a:pt x="1" y="30"/>
                </a:lnTo>
                <a:lnTo>
                  <a:pt x="2" y="59"/>
                </a:lnTo>
                <a:lnTo>
                  <a:pt x="5" y="90"/>
                </a:lnTo>
                <a:lnTo>
                  <a:pt x="8" y="119"/>
                </a:lnTo>
                <a:lnTo>
                  <a:pt x="13" y="148"/>
                </a:lnTo>
                <a:lnTo>
                  <a:pt x="19" y="176"/>
                </a:lnTo>
                <a:lnTo>
                  <a:pt x="26" y="205"/>
                </a:lnTo>
                <a:lnTo>
                  <a:pt x="33" y="233"/>
                </a:lnTo>
                <a:lnTo>
                  <a:pt x="42" y="261"/>
                </a:lnTo>
                <a:lnTo>
                  <a:pt x="52" y="289"/>
                </a:lnTo>
                <a:lnTo>
                  <a:pt x="63" y="316"/>
                </a:lnTo>
                <a:lnTo>
                  <a:pt x="74" y="345"/>
                </a:lnTo>
                <a:lnTo>
                  <a:pt x="87" y="371"/>
                </a:lnTo>
                <a:lnTo>
                  <a:pt x="100" y="398"/>
                </a:lnTo>
                <a:lnTo>
                  <a:pt x="114" y="424"/>
                </a:lnTo>
                <a:lnTo>
                  <a:pt x="129" y="450"/>
                </a:lnTo>
                <a:lnTo>
                  <a:pt x="145" y="476"/>
                </a:lnTo>
                <a:lnTo>
                  <a:pt x="162" y="501"/>
                </a:lnTo>
                <a:lnTo>
                  <a:pt x="180" y="526"/>
                </a:lnTo>
                <a:lnTo>
                  <a:pt x="198" y="551"/>
                </a:lnTo>
                <a:lnTo>
                  <a:pt x="217" y="575"/>
                </a:lnTo>
                <a:lnTo>
                  <a:pt x="237" y="600"/>
                </a:lnTo>
                <a:lnTo>
                  <a:pt x="258" y="624"/>
                </a:lnTo>
                <a:lnTo>
                  <a:pt x="280" y="647"/>
                </a:lnTo>
                <a:lnTo>
                  <a:pt x="302" y="670"/>
                </a:lnTo>
                <a:lnTo>
                  <a:pt x="325" y="692"/>
                </a:lnTo>
                <a:lnTo>
                  <a:pt x="349" y="714"/>
                </a:lnTo>
                <a:lnTo>
                  <a:pt x="374" y="736"/>
                </a:lnTo>
                <a:lnTo>
                  <a:pt x="399" y="757"/>
                </a:lnTo>
                <a:lnTo>
                  <a:pt x="425" y="778"/>
                </a:lnTo>
                <a:lnTo>
                  <a:pt x="452" y="798"/>
                </a:lnTo>
                <a:lnTo>
                  <a:pt x="479" y="818"/>
                </a:lnTo>
                <a:lnTo>
                  <a:pt x="537" y="857"/>
                </a:lnTo>
                <a:lnTo>
                  <a:pt x="596" y="893"/>
                </a:lnTo>
                <a:lnTo>
                  <a:pt x="658" y="927"/>
                </a:lnTo>
                <a:lnTo>
                  <a:pt x="722" y="959"/>
                </a:lnTo>
                <a:lnTo>
                  <a:pt x="788" y="989"/>
                </a:lnTo>
                <a:lnTo>
                  <a:pt x="857" y="1017"/>
                </a:lnTo>
                <a:lnTo>
                  <a:pt x="927" y="1042"/>
                </a:lnTo>
                <a:lnTo>
                  <a:pt x="1000" y="1065"/>
                </a:lnTo>
                <a:lnTo>
                  <a:pt x="1074" y="1086"/>
                </a:lnTo>
                <a:lnTo>
                  <a:pt x="1150" y="1105"/>
                </a:lnTo>
                <a:lnTo>
                  <a:pt x="1228" y="1121"/>
                </a:lnTo>
                <a:lnTo>
                  <a:pt x="1267" y="1128"/>
                </a:lnTo>
                <a:lnTo>
                  <a:pt x="1307" y="1134"/>
                </a:lnTo>
                <a:lnTo>
                  <a:pt x="1347" y="1139"/>
                </a:lnTo>
                <a:lnTo>
                  <a:pt x="1387" y="1144"/>
                </a:lnTo>
                <a:lnTo>
                  <a:pt x="1428" y="1148"/>
                </a:lnTo>
                <a:lnTo>
                  <a:pt x="1470" y="1151"/>
                </a:lnTo>
                <a:lnTo>
                  <a:pt x="1511" y="1154"/>
                </a:lnTo>
                <a:lnTo>
                  <a:pt x="1553" y="1156"/>
                </a:lnTo>
                <a:lnTo>
                  <a:pt x="1595" y="1157"/>
                </a:lnTo>
                <a:lnTo>
                  <a:pt x="1637" y="1157"/>
                </a:lnTo>
                <a:lnTo>
                  <a:pt x="2572" y="1157"/>
                </a:lnTo>
                <a:lnTo>
                  <a:pt x="2637" y="1156"/>
                </a:lnTo>
                <a:lnTo>
                  <a:pt x="2701" y="1153"/>
                </a:lnTo>
                <a:lnTo>
                  <a:pt x="2764" y="1149"/>
                </a:lnTo>
                <a:lnTo>
                  <a:pt x="2828" y="1143"/>
                </a:lnTo>
                <a:lnTo>
                  <a:pt x="2891" y="1135"/>
                </a:lnTo>
                <a:lnTo>
                  <a:pt x="2952" y="1126"/>
                </a:lnTo>
                <a:lnTo>
                  <a:pt x="3013" y="1114"/>
                </a:lnTo>
                <a:lnTo>
                  <a:pt x="3073" y="1102"/>
                </a:lnTo>
                <a:lnTo>
                  <a:pt x="3132" y="1086"/>
                </a:lnTo>
                <a:lnTo>
                  <a:pt x="3190" y="1071"/>
                </a:lnTo>
                <a:lnTo>
                  <a:pt x="3247" y="1053"/>
                </a:lnTo>
                <a:lnTo>
                  <a:pt x="3304" y="1034"/>
                </a:lnTo>
                <a:lnTo>
                  <a:pt x="3359" y="1014"/>
                </a:lnTo>
                <a:lnTo>
                  <a:pt x="3413" y="992"/>
                </a:lnTo>
                <a:lnTo>
                  <a:pt x="3466" y="969"/>
                </a:lnTo>
                <a:lnTo>
                  <a:pt x="3517" y="945"/>
                </a:lnTo>
                <a:lnTo>
                  <a:pt x="3567" y="919"/>
                </a:lnTo>
                <a:lnTo>
                  <a:pt x="3615" y="891"/>
                </a:lnTo>
                <a:lnTo>
                  <a:pt x="3662" y="863"/>
                </a:lnTo>
                <a:lnTo>
                  <a:pt x="3707" y="832"/>
                </a:lnTo>
                <a:lnTo>
                  <a:pt x="3751" y="801"/>
                </a:lnTo>
                <a:lnTo>
                  <a:pt x="3795" y="769"/>
                </a:lnTo>
                <a:lnTo>
                  <a:pt x="3835" y="736"/>
                </a:lnTo>
                <a:lnTo>
                  <a:pt x="3874" y="701"/>
                </a:lnTo>
                <a:lnTo>
                  <a:pt x="3911" y="665"/>
                </a:lnTo>
                <a:lnTo>
                  <a:pt x="3946" y="629"/>
                </a:lnTo>
                <a:lnTo>
                  <a:pt x="3979" y="591"/>
                </a:lnTo>
                <a:lnTo>
                  <a:pt x="4010" y="551"/>
                </a:lnTo>
                <a:lnTo>
                  <a:pt x="4039" y="511"/>
                </a:lnTo>
                <a:lnTo>
                  <a:pt x="4066" y="470"/>
                </a:lnTo>
                <a:lnTo>
                  <a:pt x="4091" y="429"/>
                </a:lnTo>
                <a:lnTo>
                  <a:pt x="4114" y="386"/>
                </a:lnTo>
                <a:lnTo>
                  <a:pt x="4582" y="386"/>
                </a:lnTo>
                <a:lnTo>
                  <a:pt x="3740" y="0"/>
                </a:lnTo>
                <a:lnTo>
                  <a:pt x="2712" y="386"/>
                </a:lnTo>
                <a:lnTo>
                  <a:pt x="3179" y="386"/>
                </a:lnTo>
                <a:lnTo>
                  <a:pt x="3162" y="418"/>
                </a:lnTo>
                <a:lnTo>
                  <a:pt x="3144" y="450"/>
                </a:lnTo>
                <a:lnTo>
                  <a:pt x="3124" y="481"/>
                </a:lnTo>
                <a:lnTo>
                  <a:pt x="3103" y="512"/>
                </a:lnTo>
                <a:lnTo>
                  <a:pt x="3081" y="543"/>
                </a:lnTo>
                <a:lnTo>
                  <a:pt x="3058" y="572"/>
                </a:lnTo>
                <a:lnTo>
                  <a:pt x="3034" y="603"/>
                </a:lnTo>
                <a:lnTo>
                  <a:pt x="3008" y="631"/>
                </a:lnTo>
                <a:lnTo>
                  <a:pt x="2982" y="659"/>
                </a:lnTo>
                <a:lnTo>
                  <a:pt x="2954" y="687"/>
                </a:lnTo>
                <a:lnTo>
                  <a:pt x="2925" y="713"/>
                </a:lnTo>
                <a:lnTo>
                  <a:pt x="2895" y="740"/>
                </a:lnTo>
                <a:lnTo>
                  <a:pt x="2864" y="765"/>
                </a:lnTo>
                <a:lnTo>
                  <a:pt x="2832" y="790"/>
                </a:lnTo>
                <a:lnTo>
                  <a:pt x="2798" y="814"/>
                </a:lnTo>
                <a:lnTo>
                  <a:pt x="2764" y="839"/>
                </a:lnTo>
                <a:lnTo>
                  <a:pt x="2729" y="862"/>
                </a:lnTo>
                <a:lnTo>
                  <a:pt x="2693" y="884"/>
                </a:lnTo>
                <a:lnTo>
                  <a:pt x="2656" y="905"/>
                </a:lnTo>
                <a:lnTo>
                  <a:pt x="2618" y="926"/>
                </a:lnTo>
                <a:lnTo>
                  <a:pt x="2580" y="945"/>
                </a:lnTo>
                <a:lnTo>
                  <a:pt x="2540" y="964"/>
                </a:lnTo>
                <a:lnTo>
                  <a:pt x="2500" y="983"/>
                </a:lnTo>
                <a:lnTo>
                  <a:pt x="2459" y="1000"/>
                </a:lnTo>
                <a:lnTo>
                  <a:pt x="2417" y="1017"/>
                </a:lnTo>
                <a:lnTo>
                  <a:pt x="2375" y="1032"/>
                </a:lnTo>
                <a:lnTo>
                  <a:pt x="2331" y="1047"/>
                </a:lnTo>
                <a:lnTo>
                  <a:pt x="2287" y="1061"/>
                </a:lnTo>
                <a:lnTo>
                  <a:pt x="2242" y="1074"/>
                </a:lnTo>
                <a:lnTo>
                  <a:pt x="2197" y="1086"/>
                </a:lnTo>
                <a:lnTo>
                  <a:pt x="2151" y="1099"/>
                </a:lnTo>
                <a:lnTo>
                  <a:pt x="2104" y="1109"/>
                </a:lnTo>
                <a:lnTo>
                  <a:pt x="2104" y="1109"/>
                </a:lnTo>
                <a:lnTo>
                  <a:pt x="2040" y="1093"/>
                </a:lnTo>
                <a:lnTo>
                  <a:pt x="1977" y="1077"/>
                </a:lnTo>
                <a:lnTo>
                  <a:pt x="1915" y="1059"/>
                </a:lnTo>
                <a:lnTo>
                  <a:pt x="1854" y="1040"/>
                </a:lnTo>
                <a:lnTo>
                  <a:pt x="1796" y="1018"/>
                </a:lnTo>
                <a:lnTo>
                  <a:pt x="1738" y="996"/>
                </a:lnTo>
                <a:lnTo>
                  <a:pt x="1683" y="971"/>
                </a:lnTo>
                <a:lnTo>
                  <a:pt x="1629" y="946"/>
                </a:lnTo>
                <a:lnTo>
                  <a:pt x="1577" y="918"/>
                </a:lnTo>
                <a:lnTo>
                  <a:pt x="1526" y="890"/>
                </a:lnTo>
                <a:lnTo>
                  <a:pt x="1477" y="860"/>
                </a:lnTo>
                <a:lnTo>
                  <a:pt x="1429" y="828"/>
                </a:lnTo>
                <a:lnTo>
                  <a:pt x="1384" y="795"/>
                </a:lnTo>
                <a:lnTo>
                  <a:pt x="1340" y="762"/>
                </a:lnTo>
                <a:lnTo>
                  <a:pt x="1299" y="727"/>
                </a:lnTo>
                <a:lnTo>
                  <a:pt x="1260" y="691"/>
                </a:lnTo>
                <a:lnTo>
                  <a:pt x="1222" y="654"/>
                </a:lnTo>
                <a:lnTo>
                  <a:pt x="1187" y="616"/>
                </a:lnTo>
                <a:lnTo>
                  <a:pt x="1154" y="576"/>
                </a:lnTo>
                <a:lnTo>
                  <a:pt x="1122" y="537"/>
                </a:lnTo>
                <a:lnTo>
                  <a:pt x="1094" y="496"/>
                </a:lnTo>
                <a:lnTo>
                  <a:pt x="1067" y="454"/>
                </a:lnTo>
                <a:lnTo>
                  <a:pt x="1043" y="412"/>
                </a:lnTo>
                <a:lnTo>
                  <a:pt x="1021" y="369"/>
                </a:lnTo>
                <a:lnTo>
                  <a:pt x="1001" y="325"/>
                </a:lnTo>
                <a:lnTo>
                  <a:pt x="984" y="279"/>
                </a:lnTo>
                <a:lnTo>
                  <a:pt x="969" y="234"/>
                </a:lnTo>
                <a:lnTo>
                  <a:pt x="957" y="189"/>
                </a:lnTo>
                <a:lnTo>
                  <a:pt x="947" y="142"/>
                </a:lnTo>
                <a:lnTo>
                  <a:pt x="944" y="119"/>
                </a:lnTo>
                <a:lnTo>
                  <a:pt x="941" y="96"/>
                </a:lnTo>
                <a:lnTo>
                  <a:pt x="938" y="72"/>
                </a:lnTo>
                <a:lnTo>
                  <a:pt x="936" y="48"/>
                </a:lnTo>
                <a:lnTo>
                  <a:pt x="935" y="24"/>
                </a:lnTo>
                <a:lnTo>
                  <a:pt x="935" y="0"/>
                </a:lnTo>
                <a:lnTo>
                  <a:pt x="0" y="0"/>
                </a:lnTo>
              </a:path>
            </a:pathLst>
          </a:custGeom>
          <a:solidFill>
            <a:srgbClr val="0066c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51480" y="4905360"/>
            <a:ext cx="1793880" cy="433440"/>
          </a:xfrm>
          <a:custGeom>
            <a:avLst/>
            <a:gdLst/>
            <a:ahLst/>
            <a:rect l="l" t="t" r="r" b="b"/>
            <a:pathLst>
              <a:path w="4582" h="1157">
                <a:moveTo>
                  <a:pt x="4582" y="0"/>
                </a:moveTo>
                <a:lnTo>
                  <a:pt x="4581" y="31"/>
                </a:lnTo>
                <a:lnTo>
                  <a:pt x="4580" y="60"/>
                </a:lnTo>
                <a:lnTo>
                  <a:pt x="4577" y="90"/>
                </a:lnTo>
                <a:lnTo>
                  <a:pt x="4574" y="119"/>
                </a:lnTo>
                <a:lnTo>
                  <a:pt x="4569" y="148"/>
                </a:lnTo>
                <a:lnTo>
                  <a:pt x="4563" y="177"/>
                </a:lnTo>
                <a:lnTo>
                  <a:pt x="4557" y="205"/>
                </a:lnTo>
                <a:lnTo>
                  <a:pt x="4549" y="233"/>
                </a:lnTo>
                <a:lnTo>
                  <a:pt x="4540" y="261"/>
                </a:lnTo>
                <a:lnTo>
                  <a:pt x="4531" y="290"/>
                </a:lnTo>
                <a:lnTo>
                  <a:pt x="4520" y="318"/>
                </a:lnTo>
                <a:lnTo>
                  <a:pt x="4509" y="345"/>
                </a:lnTo>
                <a:lnTo>
                  <a:pt x="4496" y="372"/>
                </a:lnTo>
                <a:lnTo>
                  <a:pt x="4483" y="398"/>
                </a:lnTo>
                <a:lnTo>
                  <a:pt x="4469" y="425"/>
                </a:lnTo>
                <a:lnTo>
                  <a:pt x="4454" y="451"/>
                </a:lnTo>
                <a:lnTo>
                  <a:pt x="4438" y="476"/>
                </a:lnTo>
                <a:lnTo>
                  <a:pt x="4421" y="502"/>
                </a:lnTo>
                <a:lnTo>
                  <a:pt x="4403" y="528"/>
                </a:lnTo>
                <a:lnTo>
                  <a:pt x="4385" y="552"/>
                </a:lnTo>
                <a:lnTo>
                  <a:pt x="4366" y="577"/>
                </a:lnTo>
                <a:lnTo>
                  <a:pt x="4346" y="601"/>
                </a:lnTo>
                <a:lnTo>
                  <a:pt x="4324" y="624"/>
                </a:lnTo>
                <a:lnTo>
                  <a:pt x="4302" y="647"/>
                </a:lnTo>
                <a:lnTo>
                  <a:pt x="4280" y="670"/>
                </a:lnTo>
                <a:lnTo>
                  <a:pt x="4257" y="693"/>
                </a:lnTo>
                <a:lnTo>
                  <a:pt x="4233" y="715"/>
                </a:lnTo>
                <a:lnTo>
                  <a:pt x="4208" y="736"/>
                </a:lnTo>
                <a:lnTo>
                  <a:pt x="4183" y="757"/>
                </a:lnTo>
                <a:lnTo>
                  <a:pt x="4157" y="778"/>
                </a:lnTo>
                <a:lnTo>
                  <a:pt x="4130" y="799"/>
                </a:lnTo>
                <a:lnTo>
                  <a:pt x="4103" y="819"/>
                </a:lnTo>
                <a:lnTo>
                  <a:pt x="4046" y="857"/>
                </a:lnTo>
                <a:lnTo>
                  <a:pt x="3987" y="893"/>
                </a:lnTo>
                <a:lnTo>
                  <a:pt x="3925" y="927"/>
                </a:lnTo>
                <a:lnTo>
                  <a:pt x="3860" y="959"/>
                </a:lnTo>
                <a:lnTo>
                  <a:pt x="3794" y="989"/>
                </a:lnTo>
                <a:lnTo>
                  <a:pt x="3726" y="1017"/>
                </a:lnTo>
                <a:lnTo>
                  <a:pt x="3655" y="1044"/>
                </a:lnTo>
                <a:lnTo>
                  <a:pt x="3583" y="1067"/>
                </a:lnTo>
                <a:lnTo>
                  <a:pt x="3509" y="1087"/>
                </a:lnTo>
                <a:lnTo>
                  <a:pt x="3433" y="1105"/>
                </a:lnTo>
                <a:lnTo>
                  <a:pt x="3355" y="1121"/>
                </a:lnTo>
                <a:lnTo>
                  <a:pt x="3315" y="1128"/>
                </a:lnTo>
                <a:lnTo>
                  <a:pt x="3276" y="1134"/>
                </a:lnTo>
                <a:lnTo>
                  <a:pt x="3236" y="1139"/>
                </a:lnTo>
                <a:lnTo>
                  <a:pt x="3195" y="1144"/>
                </a:lnTo>
                <a:lnTo>
                  <a:pt x="3155" y="1148"/>
                </a:lnTo>
                <a:lnTo>
                  <a:pt x="3114" y="1151"/>
                </a:lnTo>
                <a:lnTo>
                  <a:pt x="3073" y="1154"/>
                </a:lnTo>
                <a:lnTo>
                  <a:pt x="3031" y="1156"/>
                </a:lnTo>
                <a:lnTo>
                  <a:pt x="2989" y="1157"/>
                </a:lnTo>
                <a:lnTo>
                  <a:pt x="2946" y="1157"/>
                </a:lnTo>
                <a:lnTo>
                  <a:pt x="2010" y="1157"/>
                </a:lnTo>
                <a:lnTo>
                  <a:pt x="1945" y="1156"/>
                </a:lnTo>
                <a:lnTo>
                  <a:pt x="1881" y="1153"/>
                </a:lnTo>
                <a:lnTo>
                  <a:pt x="1818" y="1149"/>
                </a:lnTo>
                <a:lnTo>
                  <a:pt x="1755" y="1143"/>
                </a:lnTo>
                <a:lnTo>
                  <a:pt x="1692" y="1135"/>
                </a:lnTo>
                <a:lnTo>
                  <a:pt x="1631" y="1126"/>
                </a:lnTo>
                <a:lnTo>
                  <a:pt x="1570" y="1115"/>
                </a:lnTo>
                <a:lnTo>
                  <a:pt x="1509" y="1102"/>
                </a:lnTo>
                <a:lnTo>
                  <a:pt x="1450" y="1088"/>
                </a:lnTo>
                <a:lnTo>
                  <a:pt x="1392" y="1072"/>
                </a:lnTo>
                <a:lnTo>
                  <a:pt x="1335" y="1054"/>
                </a:lnTo>
                <a:lnTo>
                  <a:pt x="1279" y="1035"/>
                </a:lnTo>
                <a:lnTo>
                  <a:pt x="1224" y="1014"/>
                </a:lnTo>
                <a:lnTo>
                  <a:pt x="1170" y="993"/>
                </a:lnTo>
                <a:lnTo>
                  <a:pt x="1117" y="969"/>
                </a:lnTo>
                <a:lnTo>
                  <a:pt x="1065" y="945"/>
                </a:lnTo>
                <a:lnTo>
                  <a:pt x="1015" y="919"/>
                </a:lnTo>
                <a:lnTo>
                  <a:pt x="967" y="892"/>
                </a:lnTo>
                <a:lnTo>
                  <a:pt x="920" y="863"/>
                </a:lnTo>
                <a:lnTo>
                  <a:pt x="875" y="834"/>
                </a:lnTo>
                <a:lnTo>
                  <a:pt x="831" y="803"/>
                </a:lnTo>
                <a:lnTo>
                  <a:pt x="789" y="769"/>
                </a:lnTo>
                <a:lnTo>
                  <a:pt x="748" y="736"/>
                </a:lnTo>
                <a:lnTo>
                  <a:pt x="709" y="702"/>
                </a:lnTo>
                <a:lnTo>
                  <a:pt x="672" y="666"/>
                </a:lnTo>
                <a:lnTo>
                  <a:pt x="637" y="629"/>
                </a:lnTo>
                <a:lnTo>
                  <a:pt x="603" y="591"/>
                </a:lnTo>
                <a:lnTo>
                  <a:pt x="572" y="552"/>
                </a:lnTo>
                <a:lnTo>
                  <a:pt x="543" y="511"/>
                </a:lnTo>
                <a:lnTo>
                  <a:pt x="516" y="471"/>
                </a:lnTo>
                <a:lnTo>
                  <a:pt x="491" y="429"/>
                </a:lnTo>
                <a:lnTo>
                  <a:pt x="468" y="386"/>
                </a:lnTo>
                <a:lnTo>
                  <a:pt x="0" y="386"/>
                </a:lnTo>
                <a:lnTo>
                  <a:pt x="842" y="0"/>
                </a:lnTo>
                <a:lnTo>
                  <a:pt x="1870" y="386"/>
                </a:lnTo>
                <a:lnTo>
                  <a:pt x="1403" y="386"/>
                </a:lnTo>
                <a:lnTo>
                  <a:pt x="1420" y="418"/>
                </a:lnTo>
                <a:lnTo>
                  <a:pt x="1438" y="450"/>
                </a:lnTo>
                <a:lnTo>
                  <a:pt x="1458" y="482"/>
                </a:lnTo>
                <a:lnTo>
                  <a:pt x="1479" y="513"/>
                </a:lnTo>
                <a:lnTo>
                  <a:pt x="1501" y="544"/>
                </a:lnTo>
                <a:lnTo>
                  <a:pt x="1524" y="574"/>
                </a:lnTo>
                <a:lnTo>
                  <a:pt x="1548" y="603"/>
                </a:lnTo>
                <a:lnTo>
                  <a:pt x="1575" y="632"/>
                </a:lnTo>
                <a:lnTo>
                  <a:pt x="1601" y="660"/>
                </a:lnTo>
                <a:lnTo>
                  <a:pt x="1629" y="687"/>
                </a:lnTo>
                <a:lnTo>
                  <a:pt x="1658" y="714"/>
                </a:lnTo>
                <a:lnTo>
                  <a:pt x="1688" y="740"/>
                </a:lnTo>
                <a:lnTo>
                  <a:pt x="1719" y="766"/>
                </a:lnTo>
                <a:lnTo>
                  <a:pt x="1751" y="791"/>
                </a:lnTo>
                <a:lnTo>
                  <a:pt x="1784" y="816"/>
                </a:lnTo>
                <a:lnTo>
                  <a:pt x="1818" y="839"/>
                </a:lnTo>
                <a:lnTo>
                  <a:pt x="1853" y="862"/>
                </a:lnTo>
                <a:lnTo>
                  <a:pt x="1889" y="884"/>
                </a:lnTo>
                <a:lnTo>
                  <a:pt x="1926" y="905"/>
                </a:lnTo>
                <a:lnTo>
                  <a:pt x="1964" y="926"/>
                </a:lnTo>
                <a:lnTo>
                  <a:pt x="2002" y="946"/>
                </a:lnTo>
                <a:lnTo>
                  <a:pt x="2043" y="965"/>
                </a:lnTo>
                <a:lnTo>
                  <a:pt x="2083" y="983"/>
                </a:lnTo>
                <a:lnTo>
                  <a:pt x="2124" y="1000"/>
                </a:lnTo>
                <a:lnTo>
                  <a:pt x="2166" y="1017"/>
                </a:lnTo>
                <a:lnTo>
                  <a:pt x="2208" y="1032"/>
                </a:lnTo>
                <a:lnTo>
                  <a:pt x="2252" y="1048"/>
                </a:lnTo>
                <a:lnTo>
                  <a:pt x="2295" y="1062"/>
                </a:lnTo>
                <a:lnTo>
                  <a:pt x="2340" y="1075"/>
                </a:lnTo>
                <a:lnTo>
                  <a:pt x="2385" y="1087"/>
                </a:lnTo>
                <a:lnTo>
                  <a:pt x="2431" y="1099"/>
                </a:lnTo>
                <a:lnTo>
                  <a:pt x="2478" y="1109"/>
                </a:lnTo>
                <a:lnTo>
                  <a:pt x="2478" y="1109"/>
                </a:lnTo>
                <a:lnTo>
                  <a:pt x="2543" y="1095"/>
                </a:lnTo>
                <a:lnTo>
                  <a:pt x="2606" y="1078"/>
                </a:lnTo>
                <a:lnTo>
                  <a:pt x="2668" y="1060"/>
                </a:lnTo>
                <a:lnTo>
                  <a:pt x="2728" y="1041"/>
                </a:lnTo>
                <a:lnTo>
                  <a:pt x="2786" y="1019"/>
                </a:lnTo>
                <a:lnTo>
                  <a:pt x="2844" y="996"/>
                </a:lnTo>
                <a:lnTo>
                  <a:pt x="2899" y="972"/>
                </a:lnTo>
                <a:lnTo>
                  <a:pt x="2954" y="946"/>
                </a:lnTo>
                <a:lnTo>
                  <a:pt x="3006" y="919"/>
                </a:lnTo>
                <a:lnTo>
                  <a:pt x="3057" y="890"/>
                </a:lnTo>
                <a:lnTo>
                  <a:pt x="3106" y="861"/>
                </a:lnTo>
                <a:lnTo>
                  <a:pt x="3153" y="829"/>
                </a:lnTo>
                <a:lnTo>
                  <a:pt x="3198" y="797"/>
                </a:lnTo>
                <a:lnTo>
                  <a:pt x="3242" y="762"/>
                </a:lnTo>
                <a:lnTo>
                  <a:pt x="3283" y="728"/>
                </a:lnTo>
                <a:lnTo>
                  <a:pt x="3323" y="692"/>
                </a:lnTo>
                <a:lnTo>
                  <a:pt x="3360" y="655"/>
                </a:lnTo>
                <a:lnTo>
                  <a:pt x="3395" y="617"/>
                </a:lnTo>
                <a:lnTo>
                  <a:pt x="3429" y="578"/>
                </a:lnTo>
                <a:lnTo>
                  <a:pt x="3461" y="538"/>
                </a:lnTo>
                <a:lnTo>
                  <a:pt x="3489" y="496"/>
                </a:lnTo>
                <a:lnTo>
                  <a:pt x="3516" y="455"/>
                </a:lnTo>
                <a:lnTo>
                  <a:pt x="3540" y="412"/>
                </a:lnTo>
                <a:lnTo>
                  <a:pt x="3562" y="369"/>
                </a:lnTo>
                <a:lnTo>
                  <a:pt x="3582" y="325"/>
                </a:lnTo>
                <a:lnTo>
                  <a:pt x="3599" y="281"/>
                </a:lnTo>
                <a:lnTo>
                  <a:pt x="3613" y="235"/>
                </a:lnTo>
                <a:lnTo>
                  <a:pt x="3625" y="189"/>
                </a:lnTo>
                <a:lnTo>
                  <a:pt x="3635" y="143"/>
                </a:lnTo>
                <a:lnTo>
                  <a:pt x="3638" y="119"/>
                </a:lnTo>
                <a:lnTo>
                  <a:pt x="3642" y="96"/>
                </a:lnTo>
                <a:lnTo>
                  <a:pt x="3644" y="72"/>
                </a:lnTo>
                <a:lnTo>
                  <a:pt x="3646" y="49"/>
                </a:lnTo>
                <a:lnTo>
                  <a:pt x="3647" y="25"/>
                </a:lnTo>
                <a:lnTo>
                  <a:pt x="3647" y="0"/>
                </a:lnTo>
                <a:lnTo>
                  <a:pt x="4582" y="0"/>
                </a:lnTo>
              </a:path>
            </a:pathLst>
          </a:custGeom>
          <a:solidFill>
            <a:srgbClr val="0066c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2000" y="2457360"/>
            <a:ext cx="252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WP1, WP4 Workshop, cluster, exchange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17840" y="2530440"/>
            <a:ext cx="417600" cy="417600"/>
          </a:xfrm>
          <a:custGeom>
            <a:avLst/>
            <a:gdLst/>
            <a:ahLst/>
            <a:rect l="l" t="t" r="r" b="b"/>
            <a:pathLst>
              <a:path w="1450" h="1571">
                <a:moveTo>
                  <a:pt x="0" y="393"/>
                </a:moveTo>
                <a:lnTo>
                  <a:pt x="362" y="393"/>
                </a:lnTo>
                <a:lnTo>
                  <a:pt x="362" y="1571"/>
                </a:lnTo>
                <a:lnTo>
                  <a:pt x="1087" y="1571"/>
                </a:lnTo>
                <a:lnTo>
                  <a:pt x="1087" y="393"/>
                </a:lnTo>
                <a:lnTo>
                  <a:pt x="1450" y="393"/>
                </a:lnTo>
                <a:lnTo>
                  <a:pt x="725" y="0"/>
                </a:lnTo>
                <a:lnTo>
                  <a:pt x="0" y="393"/>
                </a:lnTo>
                <a:close/>
              </a:path>
            </a:pathLst>
          </a:custGeom>
          <a:solidFill>
            <a:srgbClr val="0066c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17840" y="3825720"/>
            <a:ext cx="417600" cy="414360"/>
          </a:xfrm>
          <a:custGeom>
            <a:avLst/>
            <a:gdLst/>
            <a:ahLst/>
            <a:rect l="l" t="t" r="r" b="b"/>
            <a:pathLst>
              <a:path w="1450" h="1570">
                <a:moveTo>
                  <a:pt x="0" y="392"/>
                </a:moveTo>
                <a:lnTo>
                  <a:pt x="362" y="392"/>
                </a:lnTo>
                <a:lnTo>
                  <a:pt x="362" y="1570"/>
                </a:lnTo>
                <a:lnTo>
                  <a:pt x="1087" y="1570"/>
                </a:lnTo>
                <a:lnTo>
                  <a:pt x="1087" y="392"/>
                </a:lnTo>
                <a:lnTo>
                  <a:pt x="1450" y="392"/>
                </a:lnTo>
                <a:lnTo>
                  <a:pt x="724" y="0"/>
                </a:lnTo>
                <a:lnTo>
                  <a:pt x="0" y="392"/>
                </a:lnTo>
                <a:close/>
              </a:path>
            </a:pathLst>
          </a:custGeom>
          <a:solidFill>
            <a:srgbClr val="0066c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70280" y="2962440"/>
            <a:ext cx="1322640" cy="430200"/>
          </a:xfrm>
          <a:custGeom>
            <a:avLst/>
            <a:gdLst/>
            <a:ahLst/>
            <a:rect l="l" t="t" r="r" b="b"/>
            <a:pathLst>
              <a:path w="4582" h="1157">
                <a:moveTo>
                  <a:pt x="4582" y="0"/>
                </a:moveTo>
                <a:lnTo>
                  <a:pt x="4581" y="30"/>
                </a:lnTo>
                <a:lnTo>
                  <a:pt x="4579" y="59"/>
                </a:lnTo>
                <a:lnTo>
                  <a:pt x="4577" y="89"/>
                </a:lnTo>
                <a:lnTo>
                  <a:pt x="4573" y="118"/>
                </a:lnTo>
                <a:lnTo>
                  <a:pt x="4568" y="148"/>
                </a:lnTo>
                <a:lnTo>
                  <a:pt x="4563" y="177"/>
                </a:lnTo>
                <a:lnTo>
                  <a:pt x="4556" y="205"/>
                </a:lnTo>
                <a:lnTo>
                  <a:pt x="4548" y="233"/>
                </a:lnTo>
                <a:lnTo>
                  <a:pt x="4540" y="261"/>
                </a:lnTo>
                <a:lnTo>
                  <a:pt x="4530" y="289"/>
                </a:lnTo>
                <a:lnTo>
                  <a:pt x="4520" y="316"/>
                </a:lnTo>
                <a:lnTo>
                  <a:pt x="4508" y="344"/>
                </a:lnTo>
                <a:lnTo>
                  <a:pt x="4496" y="371"/>
                </a:lnTo>
                <a:lnTo>
                  <a:pt x="4482" y="398"/>
                </a:lnTo>
                <a:lnTo>
                  <a:pt x="4468" y="425"/>
                </a:lnTo>
                <a:lnTo>
                  <a:pt x="4453" y="451"/>
                </a:lnTo>
                <a:lnTo>
                  <a:pt x="4437" y="476"/>
                </a:lnTo>
                <a:lnTo>
                  <a:pt x="4420" y="502"/>
                </a:lnTo>
                <a:lnTo>
                  <a:pt x="4402" y="527"/>
                </a:lnTo>
                <a:lnTo>
                  <a:pt x="4383" y="551"/>
                </a:lnTo>
                <a:lnTo>
                  <a:pt x="4364" y="576"/>
                </a:lnTo>
                <a:lnTo>
                  <a:pt x="4344" y="599"/>
                </a:lnTo>
                <a:lnTo>
                  <a:pt x="4323" y="623"/>
                </a:lnTo>
                <a:lnTo>
                  <a:pt x="4302" y="647"/>
                </a:lnTo>
                <a:lnTo>
                  <a:pt x="4279" y="670"/>
                </a:lnTo>
                <a:lnTo>
                  <a:pt x="4256" y="692"/>
                </a:lnTo>
                <a:lnTo>
                  <a:pt x="4232" y="714"/>
                </a:lnTo>
                <a:lnTo>
                  <a:pt x="4208" y="736"/>
                </a:lnTo>
                <a:lnTo>
                  <a:pt x="4182" y="757"/>
                </a:lnTo>
                <a:lnTo>
                  <a:pt x="4156" y="778"/>
                </a:lnTo>
                <a:lnTo>
                  <a:pt x="4130" y="798"/>
                </a:lnTo>
                <a:lnTo>
                  <a:pt x="4102" y="818"/>
                </a:lnTo>
                <a:lnTo>
                  <a:pt x="4046" y="856"/>
                </a:lnTo>
                <a:lnTo>
                  <a:pt x="3986" y="892"/>
                </a:lnTo>
                <a:lnTo>
                  <a:pt x="3924" y="927"/>
                </a:lnTo>
                <a:lnTo>
                  <a:pt x="3860" y="959"/>
                </a:lnTo>
                <a:lnTo>
                  <a:pt x="3793" y="989"/>
                </a:lnTo>
                <a:lnTo>
                  <a:pt x="3725" y="1017"/>
                </a:lnTo>
                <a:lnTo>
                  <a:pt x="3655" y="1042"/>
                </a:lnTo>
                <a:lnTo>
                  <a:pt x="3582" y="1066"/>
                </a:lnTo>
                <a:lnTo>
                  <a:pt x="3508" y="1086"/>
                </a:lnTo>
                <a:lnTo>
                  <a:pt x="3431" y="1104"/>
                </a:lnTo>
                <a:lnTo>
                  <a:pt x="3354" y="1120"/>
                </a:lnTo>
                <a:lnTo>
                  <a:pt x="3315" y="1127"/>
                </a:lnTo>
                <a:lnTo>
                  <a:pt x="3275" y="1133"/>
                </a:lnTo>
                <a:lnTo>
                  <a:pt x="3235" y="1138"/>
                </a:lnTo>
                <a:lnTo>
                  <a:pt x="3195" y="1143"/>
                </a:lnTo>
                <a:lnTo>
                  <a:pt x="3154" y="1147"/>
                </a:lnTo>
                <a:lnTo>
                  <a:pt x="3113" y="1150"/>
                </a:lnTo>
                <a:lnTo>
                  <a:pt x="3072" y="1153"/>
                </a:lnTo>
                <a:lnTo>
                  <a:pt x="3029" y="1156"/>
                </a:lnTo>
                <a:lnTo>
                  <a:pt x="2987" y="1157"/>
                </a:lnTo>
                <a:lnTo>
                  <a:pt x="2945" y="1157"/>
                </a:lnTo>
                <a:lnTo>
                  <a:pt x="2010" y="1157"/>
                </a:lnTo>
                <a:lnTo>
                  <a:pt x="1945" y="1156"/>
                </a:lnTo>
                <a:lnTo>
                  <a:pt x="1881" y="1152"/>
                </a:lnTo>
                <a:lnTo>
                  <a:pt x="1817" y="1148"/>
                </a:lnTo>
                <a:lnTo>
                  <a:pt x="1754" y="1142"/>
                </a:lnTo>
                <a:lnTo>
                  <a:pt x="1692" y="1134"/>
                </a:lnTo>
                <a:lnTo>
                  <a:pt x="1629" y="1125"/>
                </a:lnTo>
                <a:lnTo>
                  <a:pt x="1568" y="1113"/>
                </a:lnTo>
                <a:lnTo>
                  <a:pt x="1508" y="1101"/>
                </a:lnTo>
                <a:lnTo>
                  <a:pt x="1449" y="1086"/>
                </a:lnTo>
                <a:lnTo>
                  <a:pt x="1391" y="1071"/>
                </a:lnTo>
                <a:lnTo>
                  <a:pt x="1334" y="1053"/>
                </a:lnTo>
                <a:lnTo>
                  <a:pt x="1278" y="1034"/>
                </a:lnTo>
                <a:lnTo>
                  <a:pt x="1223" y="1014"/>
                </a:lnTo>
                <a:lnTo>
                  <a:pt x="1168" y="992"/>
                </a:lnTo>
                <a:lnTo>
                  <a:pt x="1116" y="969"/>
                </a:lnTo>
                <a:lnTo>
                  <a:pt x="1065" y="945"/>
                </a:lnTo>
                <a:lnTo>
                  <a:pt x="1015" y="919"/>
                </a:lnTo>
                <a:lnTo>
                  <a:pt x="966" y="891"/>
                </a:lnTo>
                <a:lnTo>
                  <a:pt x="919" y="862"/>
                </a:lnTo>
                <a:lnTo>
                  <a:pt x="874" y="832"/>
                </a:lnTo>
                <a:lnTo>
                  <a:pt x="830" y="801"/>
                </a:lnTo>
                <a:lnTo>
                  <a:pt x="788" y="769"/>
                </a:lnTo>
                <a:lnTo>
                  <a:pt x="747" y="736"/>
                </a:lnTo>
                <a:lnTo>
                  <a:pt x="707" y="701"/>
                </a:lnTo>
                <a:lnTo>
                  <a:pt x="671" y="666"/>
                </a:lnTo>
                <a:lnTo>
                  <a:pt x="635" y="628"/>
                </a:lnTo>
                <a:lnTo>
                  <a:pt x="602" y="590"/>
                </a:lnTo>
                <a:lnTo>
                  <a:pt x="571" y="551"/>
                </a:lnTo>
                <a:lnTo>
                  <a:pt x="542" y="511"/>
                </a:lnTo>
                <a:lnTo>
                  <a:pt x="515" y="471"/>
                </a:lnTo>
                <a:lnTo>
                  <a:pt x="490" y="429"/>
                </a:lnTo>
                <a:lnTo>
                  <a:pt x="467" y="386"/>
                </a:lnTo>
                <a:lnTo>
                  <a:pt x="0" y="386"/>
                </a:lnTo>
                <a:lnTo>
                  <a:pt x="841" y="0"/>
                </a:lnTo>
                <a:lnTo>
                  <a:pt x="1870" y="386"/>
                </a:lnTo>
                <a:lnTo>
                  <a:pt x="1402" y="386"/>
                </a:lnTo>
                <a:lnTo>
                  <a:pt x="1419" y="418"/>
                </a:lnTo>
                <a:lnTo>
                  <a:pt x="1437" y="450"/>
                </a:lnTo>
                <a:lnTo>
                  <a:pt x="1457" y="482"/>
                </a:lnTo>
                <a:lnTo>
                  <a:pt x="1478" y="512"/>
                </a:lnTo>
                <a:lnTo>
                  <a:pt x="1500" y="543"/>
                </a:lnTo>
                <a:lnTo>
                  <a:pt x="1523" y="573"/>
                </a:lnTo>
                <a:lnTo>
                  <a:pt x="1547" y="602"/>
                </a:lnTo>
                <a:lnTo>
                  <a:pt x="1573" y="630"/>
                </a:lnTo>
                <a:lnTo>
                  <a:pt x="1599" y="659"/>
                </a:lnTo>
                <a:lnTo>
                  <a:pt x="1627" y="687"/>
                </a:lnTo>
                <a:lnTo>
                  <a:pt x="1657" y="714"/>
                </a:lnTo>
                <a:lnTo>
                  <a:pt x="1687" y="740"/>
                </a:lnTo>
                <a:lnTo>
                  <a:pt x="1718" y="765"/>
                </a:lnTo>
                <a:lnTo>
                  <a:pt x="1750" y="790"/>
                </a:lnTo>
                <a:lnTo>
                  <a:pt x="1783" y="814"/>
                </a:lnTo>
                <a:lnTo>
                  <a:pt x="1817" y="838"/>
                </a:lnTo>
                <a:lnTo>
                  <a:pt x="1852" y="861"/>
                </a:lnTo>
                <a:lnTo>
                  <a:pt x="1888" y="883"/>
                </a:lnTo>
                <a:lnTo>
                  <a:pt x="1925" y="905"/>
                </a:lnTo>
                <a:lnTo>
                  <a:pt x="1963" y="926"/>
                </a:lnTo>
                <a:lnTo>
                  <a:pt x="2001" y="945"/>
                </a:lnTo>
                <a:lnTo>
                  <a:pt x="2041" y="964"/>
                </a:lnTo>
                <a:lnTo>
                  <a:pt x="2081" y="983"/>
                </a:lnTo>
                <a:lnTo>
                  <a:pt x="2123" y="1000"/>
                </a:lnTo>
                <a:lnTo>
                  <a:pt x="2165" y="1017"/>
                </a:lnTo>
                <a:lnTo>
                  <a:pt x="2207" y="1032"/>
                </a:lnTo>
                <a:lnTo>
                  <a:pt x="2251" y="1047"/>
                </a:lnTo>
                <a:lnTo>
                  <a:pt x="2294" y="1061"/>
                </a:lnTo>
                <a:lnTo>
                  <a:pt x="2339" y="1074"/>
                </a:lnTo>
                <a:lnTo>
                  <a:pt x="2384" y="1086"/>
                </a:lnTo>
                <a:lnTo>
                  <a:pt x="2430" y="1098"/>
                </a:lnTo>
                <a:lnTo>
                  <a:pt x="2477" y="1108"/>
                </a:lnTo>
                <a:lnTo>
                  <a:pt x="2477" y="1108"/>
                </a:lnTo>
                <a:lnTo>
                  <a:pt x="2541" y="1093"/>
                </a:lnTo>
                <a:lnTo>
                  <a:pt x="2605" y="1077"/>
                </a:lnTo>
                <a:lnTo>
                  <a:pt x="2667" y="1059"/>
                </a:lnTo>
                <a:lnTo>
                  <a:pt x="2727" y="1040"/>
                </a:lnTo>
                <a:lnTo>
                  <a:pt x="2785" y="1019"/>
                </a:lnTo>
                <a:lnTo>
                  <a:pt x="2843" y="996"/>
                </a:lnTo>
                <a:lnTo>
                  <a:pt x="2898" y="972"/>
                </a:lnTo>
                <a:lnTo>
                  <a:pt x="2952" y="946"/>
                </a:lnTo>
                <a:lnTo>
                  <a:pt x="3005" y="919"/>
                </a:lnTo>
                <a:lnTo>
                  <a:pt x="3056" y="889"/>
                </a:lnTo>
                <a:lnTo>
                  <a:pt x="3105" y="859"/>
                </a:lnTo>
                <a:lnTo>
                  <a:pt x="3152" y="828"/>
                </a:lnTo>
                <a:lnTo>
                  <a:pt x="3197" y="796"/>
                </a:lnTo>
                <a:lnTo>
                  <a:pt x="3241" y="762"/>
                </a:lnTo>
                <a:lnTo>
                  <a:pt x="3282" y="727"/>
                </a:lnTo>
                <a:lnTo>
                  <a:pt x="3322" y="692"/>
                </a:lnTo>
                <a:lnTo>
                  <a:pt x="3359" y="655"/>
                </a:lnTo>
                <a:lnTo>
                  <a:pt x="3395" y="616"/>
                </a:lnTo>
                <a:lnTo>
                  <a:pt x="3428" y="577"/>
                </a:lnTo>
                <a:lnTo>
                  <a:pt x="3459" y="537"/>
                </a:lnTo>
                <a:lnTo>
                  <a:pt x="3488" y="496"/>
                </a:lnTo>
                <a:lnTo>
                  <a:pt x="3515" y="455"/>
                </a:lnTo>
                <a:lnTo>
                  <a:pt x="3540" y="412"/>
                </a:lnTo>
                <a:lnTo>
                  <a:pt x="3562" y="368"/>
                </a:lnTo>
                <a:lnTo>
                  <a:pt x="3581" y="324"/>
                </a:lnTo>
                <a:lnTo>
                  <a:pt x="3598" y="280"/>
                </a:lnTo>
                <a:lnTo>
                  <a:pt x="3613" y="234"/>
                </a:lnTo>
                <a:lnTo>
                  <a:pt x="3625" y="189"/>
                </a:lnTo>
                <a:lnTo>
                  <a:pt x="3634" y="143"/>
                </a:lnTo>
                <a:lnTo>
                  <a:pt x="3638" y="118"/>
                </a:lnTo>
                <a:lnTo>
                  <a:pt x="3641" y="95"/>
                </a:lnTo>
                <a:lnTo>
                  <a:pt x="3643" y="71"/>
                </a:lnTo>
                <a:lnTo>
                  <a:pt x="3645" y="48"/>
                </a:lnTo>
                <a:lnTo>
                  <a:pt x="3646" y="24"/>
                </a:lnTo>
                <a:lnTo>
                  <a:pt x="3647" y="0"/>
                </a:lnTo>
                <a:lnTo>
                  <a:pt x="4582" y="0"/>
                </a:lnTo>
              </a:path>
            </a:pathLst>
          </a:custGeom>
          <a:solidFill>
            <a:srgbClr val="0066c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22560" y="2962440"/>
            <a:ext cx="1324080" cy="430200"/>
          </a:xfrm>
          <a:custGeom>
            <a:avLst/>
            <a:gdLst/>
            <a:ahLst/>
            <a:rect l="l" t="t" r="r" b="b"/>
            <a:pathLst>
              <a:path w="4582" h="1156">
                <a:moveTo>
                  <a:pt x="0" y="0"/>
                </a:moveTo>
                <a:lnTo>
                  <a:pt x="0" y="30"/>
                </a:lnTo>
                <a:lnTo>
                  <a:pt x="2" y="59"/>
                </a:lnTo>
                <a:lnTo>
                  <a:pt x="4" y="89"/>
                </a:lnTo>
                <a:lnTo>
                  <a:pt x="8" y="118"/>
                </a:lnTo>
                <a:lnTo>
                  <a:pt x="13" y="147"/>
                </a:lnTo>
                <a:lnTo>
                  <a:pt x="18" y="175"/>
                </a:lnTo>
                <a:lnTo>
                  <a:pt x="25" y="205"/>
                </a:lnTo>
                <a:lnTo>
                  <a:pt x="33" y="233"/>
                </a:lnTo>
                <a:lnTo>
                  <a:pt x="41" y="261"/>
                </a:lnTo>
                <a:lnTo>
                  <a:pt x="51" y="289"/>
                </a:lnTo>
                <a:lnTo>
                  <a:pt x="62" y="316"/>
                </a:lnTo>
                <a:lnTo>
                  <a:pt x="74" y="344"/>
                </a:lnTo>
                <a:lnTo>
                  <a:pt x="86" y="370"/>
                </a:lnTo>
                <a:lnTo>
                  <a:pt x="100" y="397"/>
                </a:lnTo>
                <a:lnTo>
                  <a:pt x="114" y="423"/>
                </a:lnTo>
                <a:lnTo>
                  <a:pt x="129" y="450"/>
                </a:lnTo>
                <a:lnTo>
                  <a:pt x="145" y="476"/>
                </a:lnTo>
                <a:lnTo>
                  <a:pt x="162" y="501"/>
                </a:lnTo>
                <a:lnTo>
                  <a:pt x="179" y="526"/>
                </a:lnTo>
                <a:lnTo>
                  <a:pt x="198" y="551"/>
                </a:lnTo>
                <a:lnTo>
                  <a:pt x="217" y="575"/>
                </a:lnTo>
                <a:lnTo>
                  <a:pt x="237" y="599"/>
                </a:lnTo>
                <a:lnTo>
                  <a:pt x="258" y="623"/>
                </a:lnTo>
                <a:lnTo>
                  <a:pt x="279" y="646"/>
                </a:lnTo>
                <a:lnTo>
                  <a:pt x="302" y="669"/>
                </a:lnTo>
                <a:lnTo>
                  <a:pt x="325" y="691"/>
                </a:lnTo>
                <a:lnTo>
                  <a:pt x="349" y="714"/>
                </a:lnTo>
                <a:lnTo>
                  <a:pt x="373" y="736"/>
                </a:lnTo>
                <a:lnTo>
                  <a:pt x="399" y="757"/>
                </a:lnTo>
                <a:lnTo>
                  <a:pt x="425" y="778"/>
                </a:lnTo>
                <a:lnTo>
                  <a:pt x="451" y="798"/>
                </a:lnTo>
                <a:lnTo>
                  <a:pt x="479" y="818"/>
                </a:lnTo>
                <a:lnTo>
                  <a:pt x="536" y="856"/>
                </a:lnTo>
                <a:lnTo>
                  <a:pt x="596" y="892"/>
                </a:lnTo>
                <a:lnTo>
                  <a:pt x="657" y="926"/>
                </a:lnTo>
                <a:lnTo>
                  <a:pt x="721" y="959"/>
                </a:lnTo>
                <a:lnTo>
                  <a:pt x="788" y="989"/>
                </a:lnTo>
                <a:lnTo>
                  <a:pt x="856" y="1017"/>
                </a:lnTo>
                <a:lnTo>
                  <a:pt x="926" y="1042"/>
                </a:lnTo>
                <a:lnTo>
                  <a:pt x="1000" y="1065"/>
                </a:lnTo>
                <a:lnTo>
                  <a:pt x="1074" y="1086"/>
                </a:lnTo>
                <a:lnTo>
                  <a:pt x="1150" y="1104"/>
                </a:lnTo>
                <a:lnTo>
                  <a:pt x="1227" y="1120"/>
                </a:lnTo>
                <a:lnTo>
                  <a:pt x="1267" y="1127"/>
                </a:lnTo>
                <a:lnTo>
                  <a:pt x="1306" y="1133"/>
                </a:lnTo>
                <a:lnTo>
                  <a:pt x="1346" y="1138"/>
                </a:lnTo>
                <a:lnTo>
                  <a:pt x="1387" y="1143"/>
                </a:lnTo>
                <a:lnTo>
                  <a:pt x="1428" y="1147"/>
                </a:lnTo>
                <a:lnTo>
                  <a:pt x="1470" y="1150"/>
                </a:lnTo>
                <a:lnTo>
                  <a:pt x="1511" y="1153"/>
                </a:lnTo>
                <a:lnTo>
                  <a:pt x="1552" y="1155"/>
                </a:lnTo>
                <a:lnTo>
                  <a:pt x="1594" y="1156"/>
                </a:lnTo>
                <a:lnTo>
                  <a:pt x="1637" y="1156"/>
                </a:lnTo>
                <a:lnTo>
                  <a:pt x="2572" y="1156"/>
                </a:lnTo>
                <a:lnTo>
                  <a:pt x="2636" y="1155"/>
                </a:lnTo>
                <a:lnTo>
                  <a:pt x="2700" y="1152"/>
                </a:lnTo>
                <a:lnTo>
                  <a:pt x="2764" y="1148"/>
                </a:lnTo>
                <a:lnTo>
                  <a:pt x="2827" y="1142"/>
                </a:lnTo>
                <a:lnTo>
                  <a:pt x="2890" y="1134"/>
                </a:lnTo>
                <a:lnTo>
                  <a:pt x="2952" y="1125"/>
                </a:lnTo>
                <a:lnTo>
                  <a:pt x="3013" y="1113"/>
                </a:lnTo>
                <a:lnTo>
                  <a:pt x="3073" y="1101"/>
                </a:lnTo>
                <a:lnTo>
                  <a:pt x="3132" y="1086"/>
                </a:lnTo>
                <a:lnTo>
                  <a:pt x="3190" y="1071"/>
                </a:lnTo>
                <a:lnTo>
                  <a:pt x="3247" y="1053"/>
                </a:lnTo>
                <a:lnTo>
                  <a:pt x="3304" y="1034"/>
                </a:lnTo>
                <a:lnTo>
                  <a:pt x="3359" y="1014"/>
                </a:lnTo>
                <a:lnTo>
                  <a:pt x="3413" y="992"/>
                </a:lnTo>
                <a:lnTo>
                  <a:pt x="3465" y="969"/>
                </a:lnTo>
                <a:lnTo>
                  <a:pt x="3516" y="944"/>
                </a:lnTo>
                <a:lnTo>
                  <a:pt x="3566" y="918"/>
                </a:lnTo>
                <a:lnTo>
                  <a:pt x="3615" y="890"/>
                </a:lnTo>
                <a:lnTo>
                  <a:pt x="3662" y="862"/>
                </a:lnTo>
                <a:lnTo>
                  <a:pt x="3707" y="832"/>
                </a:lnTo>
                <a:lnTo>
                  <a:pt x="3751" y="801"/>
                </a:lnTo>
                <a:lnTo>
                  <a:pt x="3794" y="769"/>
                </a:lnTo>
                <a:lnTo>
                  <a:pt x="3835" y="736"/>
                </a:lnTo>
                <a:lnTo>
                  <a:pt x="3874" y="701"/>
                </a:lnTo>
                <a:lnTo>
                  <a:pt x="3911" y="664"/>
                </a:lnTo>
                <a:lnTo>
                  <a:pt x="3946" y="628"/>
                </a:lnTo>
                <a:lnTo>
                  <a:pt x="3979" y="590"/>
                </a:lnTo>
                <a:lnTo>
                  <a:pt x="4010" y="551"/>
                </a:lnTo>
                <a:lnTo>
                  <a:pt x="4039" y="511"/>
                </a:lnTo>
                <a:lnTo>
                  <a:pt x="4066" y="470"/>
                </a:lnTo>
                <a:lnTo>
                  <a:pt x="4091" y="428"/>
                </a:lnTo>
                <a:lnTo>
                  <a:pt x="4114" y="385"/>
                </a:lnTo>
                <a:lnTo>
                  <a:pt x="4582" y="385"/>
                </a:lnTo>
                <a:lnTo>
                  <a:pt x="3740" y="0"/>
                </a:lnTo>
                <a:lnTo>
                  <a:pt x="2712" y="385"/>
                </a:lnTo>
                <a:lnTo>
                  <a:pt x="3179" y="385"/>
                </a:lnTo>
                <a:lnTo>
                  <a:pt x="3162" y="417"/>
                </a:lnTo>
                <a:lnTo>
                  <a:pt x="3144" y="450"/>
                </a:lnTo>
                <a:lnTo>
                  <a:pt x="3124" y="481"/>
                </a:lnTo>
                <a:lnTo>
                  <a:pt x="3103" y="512"/>
                </a:lnTo>
                <a:lnTo>
                  <a:pt x="3081" y="543"/>
                </a:lnTo>
                <a:lnTo>
                  <a:pt x="3058" y="572"/>
                </a:lnTo>
                <a:lnTo>
                  <a:pt x="3034" y="601"/>
                </a:lnTo>
                <a:lnTo>
                  <a:pt x="3008" y="630"/>
                </a:lnTo>
                <a:lnTo>
                  <a:pt x="2982" y="658"/>
                </a:lnTo>
                <a:lnTo>
                  <a:pt x="2954" y="686"/>
                </a:lnTo>
                <a:lnTo>
                  <a:pt x="2925" y="713"/>
                </a:lnTo>
                <a:lnTo>
                  <a:pt x="2895" y="740"/>
                </a:lnTo>
                <a:lnTo>
                  <a:pt x="2864" y="765"/>
                </a:lnTo>
                <a:lnTo>
                  <a:pt x="2831" y="790"/>
                </a:lnTo>
                <a:lnTo>
                  <a:pt x="2798" y="814"/>
                </a:lnTo>
                <a:lnTo>
                  <a:pt x="2764" y="838"/>
                </a:lnTo>
                <a:lnTo>
                  <a:pt x="2729" y="860"/>
                </a:lnTo>
                <a:lnTo>
                  <a:pt x="2693" y="882"/>
                </a:lnTo>
                <a:lnTo>
                  <a:pt x="2656" y="904"/>
                </a:lnTo>
                <a:lnTo>
                  <a:pt x="2618" y="924"/>
                </a:lnTo>
                <a:lnTo>
                  <a:pt x="2580" y="944"/>
                </a:lnTo>
                <a:lnTo>
                  <a:pt x="2540" y="964"/>
                </a:lnTo>
                <a:lnTo>
                  <a:pt x="2500" y="982"/>
                </a:lnTo>
                <a:lnTo>
                  <a:pt x="2459" y="1000"/>
                </a:lnTo>
                <a:lnTo>
                  <a:pt x="2417" y="1016"/>
                </a:lnTo>
                <a:lnTo>
                  <a:pt x="2375" y="1032"/>
                </a:lnTo>
                <a:lnTo>
                  <a:pt x="2331" y="1047"/>
                </a:lnTo>
                <a:lnTo>
                  <a:pt x="2287" y="1061"/>
                </a:lnTo>
                <a:lnTo>
                  <a:pt x="2242" y="1074"/>
                </a:lnTo>
                <a:lnTo>
                  <a:pt x="2197" y="1086"/>
                </a:lnTo>
                <a:lnTo>
                  <a:pt x="2151" y="1098"/>
                </a:lnTo>
                <a:lnTo>
                  <a:pt x="2104" y="1108"/>
                </a:lnTo>
                <a:lnTo>
                  <a:pt x="2104" y="1108"/>
                </a:lnTo>
                <a:lnTo>
                  <a:pt x="2040" y="1093"/>
                </a:lnTo>
                <a:lnTo>
                  <a:pt x="1977" y="1077"/>
                </a:lnTo>
                <a:lnTo>
                  <a:pt x="1915" y="1059"/>
                </a:lnTo>
                <a:lnTo>
                  <a:pt x="1854" y="1040"/>
                </a:lnTo>
                <a:lnTo>
                  <a:pt x="1796" y="1018"/>
                </a:lnTo>
                <a:lnTo>
                  <a:pt x="1738" y="996"/>
                </a:lnTo>
                <a:lnTo>
                  <a:pt x="1683" y="971"/>
                </a:lnTo>
                <a:lnTo>
                  <a:pt x="1629" y="945"/>
                </a:lnTo>
                <a:lnTo>
                  <a:pt x="1577" y="917"/>
                </a:lnTo>
                <a:lnTo>
                  <a:pt x="1526" y="889"/>
                </a:lnTo>
                <a:lnTo>
                  <a:pt x="1477" y="859"/>
                </a:lnTo>
                <a:lnTo>
                  <a:pt x="1429" y="828"/>
                </a:lnTo>
                <a:lnTo>
                  <a:pt x="1384" y="796"/>
                </a:lnTo>
                <a:lnTo>
                  <a:pt x="1340" y="762"/>
                </a:lnTo>
                <a:lnTo>
                  <a:pt x="1299" y="727"/>
                </a:lnTo>
                <a:lnTo>
                  <a:pt x="1260" y="690"/>
                </a:lnTo>
                <a:lnTo>
                  <a:pt x="1222" y="653"/>
                </a:lnTo>
                <a:lnTo>
                  <a:pt x="1187" y="615"/>
                </a:lnTo>
                <a:lnTo>
                  <a:pt x="1154" y="577"/>
                </a:lnTo>
                <a:lnTo>
                  <a:pt x="1122" y="537"/>
                </a:lnTo>
                <a:lnTo>
                  <a:pt x="1094" y="496"/>
                </a:lnTo>
                <a:lnTo>
                  <a:pt x="1067" y="454"/>
                </a:lnTo>
                <a:lnTo>
                  <a:pt x="1043" y="411"/>
                </a:lnTo>
                <a:lnTo>
                  <a:pt x="1021" y="368"/>
                </a:lnTo>
                <a:lnTo>
                  <a:pt x="1001" y="324"/>
                </a:lnTo>
                <a:lnTo>
                  <a:pt x="984" y="280"/>
                </a:lnTo>
                <a:lnTo>
                  <a:pt x="969" y="234"/>
                </a:lnTo>
                <a:lnTo>
                  <a:pt x="957" y="189"/>
                </a:lnTo>
                <a:lnTo>
                  <a:pt x="947" y="142"/>
                </a:lnTo>
                <a:lnTo>
                  <a:pt x="944" y="118"/>
                </a:lnTo>
                <a:lnTo>
                  <a:pt x="941" y="95"/>
                </a:lnTo>
                <a:lnTo>
                  <a:pt x="938" y="71"/>
                </a:lnTo>
                <a:lnTo>
                  <a:pt x="936" y="48"/>
                </a:lnTo>
                <a:lnTo>
                  <a:pt x="935" y="24"/>
                </a:lnTo>
                <a:lnTo>
                  <a:pt x="935" y="0"/>
                </a:lnTo>
                <a:lnTo>
                  <a:pt x="0" y="0"/>
                </a:lnTo>
              </a:path>
            </a:pathLst>
          </a:custGeom>
          <a:solidFill>
            <a:srgbClr val="0066c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89200" y="2928960"/>
            <a:ext cx="156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Stakeholder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CHO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2720" y="4944960"/>
            <a:ext cx="155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Project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stakeholder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CHO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85200" y="1954080"/>
            <a:ext cx="155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Project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stakeholder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CHO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35960" y="5089680"/>
            <a:ext cx="155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Project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stakeholder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CHO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89600" y="336240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393A-02FD-49A2-91CC-4604B59E1C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CHORUS objectives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9520" indent="-479520">
              <a:lnSpc>
                <a:spcPct val="80000"/>
              </a:lnSpc>
              <a:spcBef>
                <a:spcPts val="2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gration and strengthening of the European Research Ar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y stimulating interaction and co-ordination on a EU level, in the area of Audiovisual search engin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80000"/>
              </a:lnSpc>
              <a:spcBef>
                <a:spcPts val="2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the creation of a ‘holistic’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e implementation and realisation of Audiovisual search engin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80000"/>
              </a:lnSpc>
              <a:spcBef>
                <a:spcPts val="2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emination of resul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strategies developed within the IST Program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80000"/>
              </a:lnSpc>
              <a:spcBef>
                <a:spcPts val="2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the collaboration with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initiatives in the ar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which are external to the IST Program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80000"/>
              </a:lnSpc>
              <a:spcBef>
                <a:spcPts val="2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and facilitate the transition between FP6 and the new FP7 framework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F20F-FCFC-4B80-9263-6F00DC25FB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Activities and WPs Structure 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657440"/>
            <a:ext cx="8382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9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 and foster the R&amp;D actions on multimedia search engi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ment of roadmaps including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ultidisciplinary asp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WP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asp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asp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chnical aspects (Market, Regulatory, Legal, Poli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80000"/>
              </a:lnSpc>
              <a:spcBef>
                <a:spcPts val="18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-up a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hink-Tank ac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athering the main stakeholders (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WP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Workshops and confere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WP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vents (workshops, panels) in connection with major international conferences, annual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ordination and exchange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WP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IST project and external initiatives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exchange platform: Information about events/projects/publications, Discussion forum, periodic news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projects concertation, including external (non IST) projects: Set-up of a cluster for the differen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E45A-B773-442D-9E5E-948ED23D13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Times New Roman"/>
              </a:rPr>
              <a:t>Cluster activities/participants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9520" indent="-4795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-project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admap activities in the areas mentionned (contribution to CHORUS roadma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ribution to CHORUS think-tank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tion activities (workshop, conferences, summer scho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t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llaborative projects external to IST (Quaero, iAD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M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y interested stackeholder/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19D9-B197-409E-85FA-0451459553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Times New Roman"/>
              </a:rPr>
              <a:t>Methodology and main deliverables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5834880" y="3276000"/>
            <a:ext cx="42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WP1,4: exchange platfor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usters, con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ST and external projects,stacke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56080" y="887400"/>
            <a:ext cx="4824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8320" y="167940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WP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hink t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03200" y="4616280"/>
            <a:ext cx="5532480" cy="7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5000" y="486396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e of the 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63560" y="3703320"/>
            <a:ext cx="4762080" cy="911880"/>
            <a:chOff x="1663560" y="3703320"/>
            <a:chExt cx="4762080" cy="911880"/>
          </a:xfrm>
        </p:grpSpPr>
        <p:sp>
          <p:nvSpPr>
            <p:cNvPr id="120" name=""/>
            <p:cNvSpPr/>
            <p:nvPr/>
          </p:nvSpPr>
          <p:spPr>
            <a:xfrm flipV="1">
              <a:off x="1663560" y="3703320"/>
              <a:ext cx="0" cy="9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615760" y="3703320"/>
              <a:ext cx="0" cy="9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568320" y="3703320"/>
              <a:ext cx="0" cy="9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520880" y="3703320"/>
              <a:ext cx="0" cy="9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473440" y="3703320"/>
              <a:ext cx="0" cy="9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425640" y="3703320"/>
              <a:ext cx="0" cy="9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12840" y="3273480"/>
            <a:ext cx="563724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63760" y="335124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Gap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94800" y="21416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High level 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6280" y="1982880"/>
            <a:ext cx="233064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71720" y="26272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49360" y="26272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30600" y="26272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08240" y="26272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843440" y="2565000"/>
            <a:ext cx="1084320" cy="706680"/>
            <a:chOff x="4843440" y="2565000"/>
            <a:chExt cx="1084320" cy="706680"/>
          </a:xfrm>
        </p:grpSpPr>
        <p:sp>
          <p:nvSpPr>
            <p:cNvPr id="135" name=""/>
            <p:cNvSpPr/>
            <p:nvPr/>
          </p:nvSpPr>
          <p:spPr>
            <a:xfrm flipV="1">
              <a:off x="4843440" y="2565000"/>
              <a:ext cx="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113800" y="2565000"/>
              <a:ext cx="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385960" y="2565000"/>
              <a:ext cx="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656680" y="2565000"/>
              <a:ext cx="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927760" y="2565000"/>
              <a:ext cx="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192560" y="2082960"/>
            <a:ext cx="2657520" cy="4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06920" y="2198520"/>
            <a:ext cx="50616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0240" y="37288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W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37680" y="21398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6160" y="23526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" y="1663560"/>
            <a:ext cx="6442200" cy="3830760"/>
          </a:xfrm>
          <a:custGeom>
            <a:avLst/>
            <a:gdLst/>
            <a:ahLst/>
            <a:rect l="l" t="t" r="r" b="b"/>
            <a:pathLst>
              <a:path w="4944" h="2932">
                <a:moveTo>
                  <a:pt x="2449" y="0"/>
                </a:moveTo>
                <a:lnTo>
                  <a:pt x="2449" y="1117"/>
                </a:lnTo>
                <a:lnTo>
                  <a:pt x="0" y="1117"/>
                </a:lnTo>
                <a:lnTo>
                  <a:pt x="0" y="2932"/>
                </a:lnTo>
                <a:lnTo>
                  <a:pt x="4944" y="2932"/>
                </a:lnTo>
                <a:lnTo>
                  <a:pt x="4937" y="8"/>
                </a:lnTo>
                <a:lnTo>
                  <a:pt x="244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76000" y="47480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88600" y="32446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26760" y="21337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2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21520" y="1600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06520" y="1790640"/>
            <a:ext cx="26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70760" y="1611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848280" y="2247840"/>
            <a:ext cx="441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848280" y="2514600"/>
            <a:ext cx="441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848280" y="2781360"/>
            <a:ext cx="441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848280" y="3048120"/>
            <a:ext cx="441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848280" y="3314880"/>
            <a:ext cx="441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848280" y="3581280"/>
            <a:ext cx="441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848280" y="3848040"/>
            <a:ext cx="441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848280" y="4114800"/>
            <a:ext cx="441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848280" y="4381560"/>
            <a:ext cx="441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848280" y="4648320"/>
            <a:ext cx="441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848280" y="4915080"/>
            <a:ext cx="441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848280" y="5181480"/>
            <a:ext cx="441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9DDB-6445-4FBF-AE48-5B01EDB886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Consortium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9520" indent="-4795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hip, to execute the project, composed of major European and national actors in ongoing projec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RIA, IRT, SICS, JRC, UVA, Fraunhofer, CERTH, JCP-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ies / Research organizations covering the different technical and non technical aspects in the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son, IRT, Philips, France Telecom, FAST, Exalead, CIRCOM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keholders group representing market and industrial interest, will compose and feed the think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ion is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ll be extended to other stakeholders  (users) and non European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248E-A625-4615-B648-8416D2ECD4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99"/>
                </a:solidFill>
                <a:latin typeface="Times New Roman"/>
              </a:rPr>
              <a:t>CHORUS Strategy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65440"/>
            <a:ext cx="77724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95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field of Audio-Visual Search Engi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dge the gap between </a:t>
            </a:r>
            <a:r>
              <a:rPr b="0" i="1" lang="en-GB" sz="2000" spc="-1" strike="noStrike">
                <a:solidFill>
                  <a:srgbClr val="a50021"/>
                </a:solidFill>
                <a:latin typeface="Arial"/>
              </a:rPr>
              <a:t>researchers vie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industry and academia) and the </a:t>
            </a:r>
            <a:r>
              <a:rPr b="0" i="1" lang="en-GB" sz="2000" spc="-1" strike="noStrike">
                <a:solidFill>
                  <a:srgbClr val="a50021"/>
                </a:solidFill>
                <a:latin typeface="Arial"/>
              </a:rPr>
              <a:t>new servi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applications </a:t>
            </a:r>
            <a:r>
              <a:rPr b="0" i="1" lang="en-GB" sz="2000" spc="-1" strike="noStrike">
                <a:solidFill>
                  <a:srgbClr val="a50021"/>
                </a:solidFill>
                <a:latin typeface="Arial"/>
              </a:rPr>
              <a:t>prospec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very day lif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and derive </a:t>
            </a:r>
            <a:r>
              <a:rPr b="0" i="1" lang="en-GB" sz="2000" spc="-1" strike="noStrike">
                <a:solidFill>
                  <a:srgbClr val="a50021"/>
                </a:solidFill>
                <a:latin typeface="Arial"/>
              </a:rPr>
              <a:t>critical issu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common technological aspects that need a </a:t>
            </a:r>
            <a:r>
              <a:rPr b="0" i="1" lang="en-GB" sz="2000" spc="-1" strike="noStrike">
                <a:solidFill>
                  <a:srgbClr val="a50021"/>
                </a:solidFill>
                <a:latin typeface="Arial"/>
              </a:rPr>
              <a:t>multi-disciplinar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pproach, including socio-economic and legal asp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 a list of </a:t>
            </a:r>
            <a:r>
              <a:rPr b="0" i="1" lang="en-GB" sz="2000" spc="-1" strike="noStrike">
                <a:solidFill>
                  <a:srgbClr val="a50021"/>
                </a:solidFill>
                <a:latin typeface="Arial"/>
              </a:rPr>
              <a:t>cross-technolo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ritical issues in view of the ‘search engine”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action with </a:t>
            </a:r>
            <a:r>
              <a:rPr b="0" i="1" lang="en-GB" sz="2000" spc="-1" strike="noStrike">
                <a:solidFill>
                  <a:srgbClr val="a50021"/>
                </a:solidFill>
                <a:latin typeface="Arial"/>
              </a:rPr>
              <a:t>standardis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: </a:t>
            </a:r>
            <a:r>
              <a:rPr b="0" i="1" lang="en-GB" sz="2000" spc="-1" strike="noStrike">
                <a:solidFill>
                  <a:srgbClr val="a50021"/>
                </a:solidFill>
                <a:latin typeface="Arial"/>
              </a:rPr>
              <a:t>roadmap and synthe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cluding these multidisciplinary aspects, in coordination with the think-t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838F-D11F-40AC-9B40-E50B308E61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99"/>
                </a:solidFill>
                <a:latin typeface="Times New Roman"/>
              </a:rPr>
              <a:t>Organisation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1120" y="1582560"/>
            <a:ext cx="78548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74480" indent="-474480">
              <a:lnSpc>
                <a:spcPct val="95000"/>
              </a:lnSpc>
              <a:spcBef>
                <a:spcPts val="675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ut together the ongoing European and national effort in the field of </a:t>
            </a:r>
            <a:r>
              <a:rPr b="1" lang="en-GB" sz="2700" spc="-1" strike="noStrike">
                <a:solidFill>
                  <a:srgbClr val="003399"/>
                </a:solidFill>
                <a:latin typeface="Arial"/>
              </a:rPr>
              <a:t>AV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946080" indent="-282960">
              <a:lnSpc>
                <a:spcPct val="9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10 European projects accepted in Call 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946080" indent="-282960">
              <a:lnSpc>
                <a:spcPct val="9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+ Ongoing Projects on this topi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946080" indent="-282960">
              <a:lnSpc>
                <a:spcPct val="9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+ Quaero, Theseus, Infom@gic, iAd, MultimediaN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95000"/>
              </a:lnSpc>
              <a:spcBef>
                <a:spcPts val="17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pecific working groups in identified critical top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95000"/>
              </a:lnSpc>
              <a:spcBef>
                <a:spcPts val="17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ink-Tank (Industry oriented): Thomson, Philips, France Telecom, FAST, IRT, Exalead, CIRCO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>
              <a:lnSpc>
                <a:spcPct val="95000"/>
              </a:lnSpc>
              <a:spcBef>
                <a:spcPts val="17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ation, scientific meetings, panels to reach wide consensus of our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AAAB-4C1D-4977-A27A-45DC73557F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99"/>
                </a:solidFill>
                <a:latin typeface="Times New Roman"/>
              </a:rPr>
              <a:t>CHORUS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49440" y="1636560"/>
            <a:ext cx="797400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9520" indent="-479520">
              <a:lnSpc>
                <a:spcPct val="95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king Group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multidisciplinar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9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udio-visual content indexing and retrieval technolog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9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valuation, benchmarking and standar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9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Mobility, P2P, Heterogene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9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teroperability of DR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9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ocio-economic and legal aspe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285840">
              <a:lnSpc>
                <a:spcPct val="95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Use-Cases and New serv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5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partners: INRIA, UvA, Fraunhofer, CERTH-ITI, IRT, SICS, IP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5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Participation is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5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nat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icipation is also expected: USA, China, Japa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821B-26F0-44BA-B95C-74A94F3FF3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99"/>
                </a:solidFill>
                <a:latin typeface="Times New Roman"/>
              </a:rPr>
              <a:t>WGs list and focus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01720"/>
            <a:ext cx="7772400" cy="44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9520" indent="-47952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G1: Audio-visual content indexing and retrieval technolog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Technical issues related to content description, summarization and scalability, personaliz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G2: Evaluation, benchmarking and standards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a synthesis of the numerous initiatives and identify the “missing link”, Synthesise what would be the ideal benchmark context: data, metrics, tasks, success criter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G5: Mobility, P2P, Heterogeneity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issues related to media distribution (QoS, bandwidth, services, 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G6: Interoperability of DRM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on the bottleneck of heterogeneity of DRM and target to provide synthetic view with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BDD8-4DB4-4BF2-ADE7-20F9A9F623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6T11:05:40Z</dcterms:created>
  <dc:creator>Boujemaa</dc:creator>
  <dc:description/>
  <dc:language>en-US</dc:language>
  <cp:lastModifiedBy>JonMMx 2000</cp:lastModifiedBy>
  <cp:lastPrinted>2000-11-16T12:19:39Z</cp:lastPrinted>
  <dcterms:modified xsi:type="dcterms:W3CDTF">2007-10-23T09:26:04Z</dcterms:modified>
  <cp:revision>651</cp:revision>
  <dc:subject/>
  <dc:title>Classification compétitive non-exclusive, application à l'indexation d'images</dc:title>
</cp:coreProperties>
</file>