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10439400" cy="7199313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38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38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61560" y="68400"/>
            <a:ext cx="419040" cy="3096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9288360" y="87480"/>
            <a:ext cx="620640" cy="277560"/>
            <a:chOff x="9288360" y="87480"/>
            <a:chExt cx="620640" cy="27756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9306720" y="104040"/>
              <a:ext cx="585360" cy="2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9288360" y="87480"/>
              <a:ext cx="620640" cy="277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8400960" y="92160"/>
            <a:ext cx="843120" cy="268200"/>
            <a:chOff x="8400960" y="92160"/>
            <a:chExt cx="843120" cy="268200"/>
          </a:xfrm>
        </p:grpSpPr>
        <p:sp>
          <p:nvSpPr>
            <p:cNvPr id="5" name=""/>
            <p:cNvSpPr/>
            <p:nvPr/>
          </p:nvSpPr>
          <p:spPr>
            <a:xfrm>
              <a:off x="8400960" y="92160"/>
              <a:ext cx="8431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8462160" y="138240"/>
              <a:ext cx="716760" cy="19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42840" y="52560"/>
            <a:ext cx="763560" cy="215640"/>
            <a:chOff x="42840" y="52560"/>
            <a:chExt cx="763560" cy="215640"/>
          </a:xfrm>
        </p:grpSpPr>
        <p:sp>
          <p:nvSpPr>
            <p:cNvPr id="8" name=""/>
            <p:cNvSpPr/>
            <p:nvPr/>
          </p:nvSpPr>
          <p:spPr>
            <a:xfrm>
              <a:off x="42840" y="52560"/>
              <a:ext cx="763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68760" y="77040"/>
              <a:ext cx="710640" cy="1692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89000"/>
              </a:lnSpc>
              <a:spcBef>
                <a:spcPts val="938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41200">
              <a:lnSpc>
                <a:spcPct val="89000"/>
              </a:lnSpc>
              <a:spcBef>
                <a:spcPts val="711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203480" indent="-241560">
              <a:lnSpc>
                <a:spcPct val="89000"/>
              </a:lnSpc>
              <a:spcBef>
                <a:spcPts val="711"/>
              </a:spcBef>
              <a:buClr>
                <a:srgbClr val="ffffff"/>
              </a:buClr>
              <a:buFont typeface="Arial"/>
              <a:buChar char="–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23960" indent="-181080">
              <a:lnSpc>
                <a:spcPct val="89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4" marL="2104920" indent="-180720">
              <a:lnSpc>
                <a:spcPct val="89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5" marL="2104920" indent="-18072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6" marL="2104920" indent="-18072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60400" y="3240000"/>
            <a:ext cx="8717040" cy="2394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0" bIns="1260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60344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Goals and first results of the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ffff99"/>
                </a:solidFill>
                <a:latin typeface="Garamond"/>
              </a:rPr>
              <a:t>memories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project</a:t>
            </a:r>
            <a:br>
              <a:rPr sz="2400"/>
            </a:br>
            <a:br>
              <a:rPr sz="18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 open , tailorable and persistent system for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udio acquisition, exploitation and archiving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52800" y="6602400"/>
            <a:ext cx="4999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" rIns="2520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www.memories-project.eu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160" y="6424560"/>
            <a:ext cx="31543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71748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Garamond"/>
              </a:rPr>
              <a:t>By:</a:t>
            </a:r>
            <a:r>
              <a:rPr b="1" lang="en-GB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500" spc="-1" strike="noStrike">
                <a:solidFill>
                  <a:srgbClr val="ffffff"/>
                </a:solidFill>
                <a:latin typeface="Garamond"/>
              </a:rPr>
              <a:t>Guy Marécha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71480" y="6183360"/>
            <a:ext cx="3528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guy.marechal@memnon.b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960" y="1530360"/>
            <a:ext cx="90453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Garamond"/>
              </a:rPr>
              <a:t>European Media Wrapper Round Table II</a:t>
            </a:r>
            <a:br>
              <a:rPr sz="3700"/>
            </a:b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PARIS, October 25</a:t>
            </a:r>
            <a:r>
              <a:rPr b="1" lang="en-GB" sz="29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  2007 (at TV5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89000" y="1835280"/>
            <a:ext cx="2679480" cy="1306440"/>
            <a:chOff x="189000" y="1835280"/>
            <a:chExt cx="2679480" cy="1306440"/>
          </a:xfrm>
        </p:grpSpPr>
        <p:sp>
          <p:nvSpPr>
            <p:cNvPr id="225" name=""/>
            <p:cNvSpPr/>
            <p:nvPr/>
          </p:nvSpPr>
          <p:spPr>
            <a:xfrm>
              <a:off x="684360" y="2809800"/>
              <a:ext cx="585720" cy="174600"/>
            </a:xfrm>
            <a:prstGeom prst="leftRightArrow">
              <a:avLst>
                <a:gd name="adj1" fmla="val 50000"/>
                <a:gd name="adj2" fmla="val 6678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333360" y="2735280"/>
              <a:ext cx="2890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89000" y="18352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Analogue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Digital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05080" y="2063880"/>
              <a:ext cx="1463400" cy="10778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3280" y="2198520"/>
              <a:ext cx="1096920" cy="185760"/>
            </a:xfrm>
            <a:prstGeom prst="rightArrow">
              <a:avLst>
                <a:gd name="adj1" fmla="val 49593"/>
                <a:gd name="adj2" fmla="val 74141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7280" y="2144880"/>
              <a:ext cx="131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ed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cqui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709640" y="57600"/>
            <a:ext cx="5851800" cy="9198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e AXIS General Architectu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9000" y="3211560"/>
            <a:ext cx="2679480" cy="1860480"/>
            <a:chOff x="189000" y="3211560"/>
            <a:chExt cx="2679480" cy="1860480"/>
          </a:xfrm>
        </p:grpSpPr>
        <p:grpSp>
          <p:nvGrpSpPr>
            <p:cNvPr id="233" name=""/>
            <p:cNvGrpSpPr/>
            <p:nvPr/>
          </p:nvGrpSpPr>
          <p:grpSpPr>
            <a:xfrm>
              <a:off x="189000" y="3211560"/>
              <a:ext cx="2679480" cy="1860480"/>
              <a:chOff x="189000" y="3211560"/>
              <a:chExt cx="2679480" cy="1860480"/>
            </a:xfrm>
          </p:grpSpPr>
          <p:sp>
            <p:nvSpPr>
              <p:cNvPr id="234" name=""/>
              <p:cNvSpPr/>
              <p:nvPr/>
            </p:nvSpPr>
            <p:spPr>
              <a:xfrm>
                <a:off x="1754280" y="4375080"/>
                <a:ext cx="7401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89000" y="3211560"/>
                <a:ext cx="2679480" cy="1388880"/>
                <a:chOff x="189000" y="3211560"/>
                <a:chExt cx="2679480" cy="13888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84360" y="4186080"/>
                  <a:ext cx="585720" cy="174600"/>
                </a:xfrm>
                <a:prstGeom prst="leftRightArrow">
                  <a:avLst>
                    <a:gd name="adj1" fmla="val 50000"/>
                    <a:gd name="adj2" fmla="val 66782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3360" y="4111560"/>
                  <a:ext cx="28908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189000" y="3211560"/>
                  <a:ext cx="13604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Analogue sourc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Digital sourc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405080" y="3522600"/>
                  <a:ext cx="1463400" cy="107784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33280" y="3575160"/>
                  <a:ext cx="1096920" cy="185760"/>
                </a:xfrm>
                <a:prstGeom prst="rightArrow">
                  <a:avLst>
                    <a:gd name="adj1" fmla="val 49593"/>
                    <a:gd name="adj2" fmla="val 74141"/>
                  </a:avLst>
                </a:prstGeom>
                <a:solidFill>
                  <a:srgbClr val="3333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1467000" y="3603600"/>
              <a:ext cx="131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ed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cqui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98360" y="5192640"/>
            <a:ext cx="2670120" cy="1208160"/>
            <a:chOff x="198360" y="5192640"/>
            <a:chExt cx="2670120" cy="1208160"/>
          </a:xfrm>
        </p:grpSpPr>
        <p:sp>
          <p:nvSpPr>
            <p:cNvPr id="243" name=""/>
            <p:cNvSpPr/>
            <p:nvPr/>
          </p:nvSpPr>
          <p:spPr>
            <a:xfrm>
              <a:off x="684360" y="5986440"/>
              <a:ext cx="585720" cy="174600"/>
            </a:xfrm>
            <a:prstGeom prst="leftRightArrow">
              <a:avLst>
                <a:gd name="adj1" fmla="val 50000"/>
                <a:gd name="adj2" fmla="val 6678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333360" y="5911920"/>
              <a:ext cx="2890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98360" y="5192640"/>
              <a:ext cx="136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Reference Fi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05080" y="5322960"/>
              <a:ext cx="1463400" cy="10778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280" y="5375160"/>
              <a:ext cx="1096920" cy="185760"/>
            </a:xfrm>
            <a:prstGeom prst="rightArrow">
              <a:avLst>
                <a:gd name="adj1" fmla="val 49593"/>
                <a:gd name="adj2" fmla="val 74141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76360" y="5442120"/>
              <a:ext cx="131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rof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cqui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067440" y="1430280"/>
            <a:ext cx="4328640" cy="2440080"/>
            <a:chOff x="6067440" y="1430280"/>
            <a:chExt cx="4328640" cy="2440080"/>
          </a:xfrm>
        </p:grpSpPr>
        <p:sp>
          <p:nvSpPr>
            <p:cNvPr id="250" name=""/>
            <p:cNvSpPr/>
            <p:nvPr/>
          </p:nvSpPr>
          <p:spPr>
            <a:xfrm>
              <a:off x="6067440" y="2070000"/>
              <a:ext cx="1322280" cy="18003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02360" y="2119320"/>
              <a:ext cx="1440000" cy="7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ed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sse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anageme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8096400" y="2470320"/>
              <a:ext cx="1939320" cy="291960"/>
              <a:chOff x="8096400" y="2470320"/>
              <a:chExt cx="1939320" cy="291960"/>
            </a:xfrm>
          </p:grpSpPr>
          <p:sp>
            <p:nvSpPr>
              <p:cNvPr id="253" name=""/>
              <p:cNvSpPr/>
              <p:nvPr/>
            </p:nvSpPr>
            <p:spPr>
              <a:xfrm>
                <a:off x="8096400" y="2470320"/>
                <a:ext cx="520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514800" y="2470320"/>
                <a:ext cx="520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809920" y="2470320"/>
                <a:ext cx="520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128440" y="1430280"/>
              <a:ext cx="1765800" cy="322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Times New Roman"/>
                </a:rPr>
                <a:t>EXPLOITATION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435800" y="1847880"/>
              <a:ext cx="2960280" cy="674640"/>
              <a:chOff x="7435800" y="1847880"/>
              <a:chExt cx="2960280" cy="674640"/>
            </a:xfrm>
          </p:grpSpPr>
          <p:sp>
            <p:nvSpPr>
              <p:cNvPr id="258" name=""/>
              <p:cNvSpPr/>
              <p:nvPr/>
            </p:nvSpPr>
            <p:spPr>
              <a:xfrm>
                <a:off x="7435800" y="2066760"/>
                <a:ext cx="1217520" cy="45576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442440" y="2048040"/>
                <a:ext cx="585720" cy="455400"/>
              </a:xfrm>
              <a:prstGeom prst="rect">
                <a:avLst/>
              </a:prstGeom>
              <a:solidFill>
                <a:srgbClr val="00008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158120" y="2131920"/>
                <a:ext cx="23796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8750160" y="2187720"/>
                <a:ext cx="586080" cy="176040"/>
              </a:xfrm>
              <a:prstGeom prst="leftRightArrow">
                <a:avLst>
                  <a:gd name="adj1" fmla="val 50000"/>
                  <a:gd name="adj2" fmla="val 66277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82200" y="1847880"/>
                <a:ext cx="52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afd00"/>
                    </a:solidFill>
                    <a:latin typeface="Times New Roman"/>
                  </a:rPr>
                  <a:t>WE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DI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60720" y="2212920"/>
                <a:ext cx="90432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Exploitation # 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550440" y="2165400"/>
                <a:ext cx="52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U # 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435800" y="2521080"/>
              <a:ext cx="2960280" cy="674640"/>
              <a:chOff x="7435800" y="2521080"/>
              <a:chExt cx="2960280" cy="674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435800" y="2739960"/>
                <a:ext cx="1217520" cy="45576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442440" y="2721240"/>
                <a:ext cx="585720" cy="455400"/>
              </a:xfrm>
              <a:prstGeom prst="rect">
                <a:avLst/>
              </a:prstGeom>
              <a:solidFill>
                <a:srgbClr val="00008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10158120" y="2805120"/>
                <a:ext cx="23796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8750160" y="2860920"/>
                <a:ext cx="586080" cy="176040"/>
              </a:xfrm>
              <a:prstGeom prst="leftRightArrow">
                <a:avLst>
                  <a:gd name="adj1" fmla="val 50000"/>
                  <a:gd name="adj2" fmla="val 66277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782200" y="2521080"/>
                <a:ext cx="52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afd00"/>
                    </a:solidFill>
                    <a:latin typeface="Times New Roman"/>
                  </a:rPr>
                  <a:t>WE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DI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61080" y="2886120"/>
                <a:ext cx="91044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Exploitation # 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550440" y="2838600"/>
                <a:ext cx="52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U # 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6097320" y="3105000"/>
            <a:ext cx="2125800" cy="657000"/>
            <a:chOff x="6097320" y="3105000"/>
            <a:chExt cx="2125800" cy="657000"/>
          </a:xfrm>
        </p:grpSpPr>
        <p:sp>
          <p:nvSpPr>
            <p:cNvPr id="274" name=""/>
            <p:cNvSpPr/>
            <p:nvPr/>
          </p:nvSpPr>
          <p:spPr>
            <a:xfrm>
              <a:off x="6097320" y="3105000"/>
              <a:ext cx="1045080" cy="657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0800" bIns="10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GB" sz="1300" spc="-1" strike="noStrike">
                  <a:solidFill>
                    <a:srgbClr val="fafd00"/>
                  </a:solidFill>
                  <a:latin typeface="Times New Roman"/>
                </a:rPr>
                <a:t>nowledg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GB" sz="1300" spc="-1" strike="noStrike">
                  <a:solidFill>
                    <a:srgbClr val="fafd00"/>
                  </a:solidFill>
                  <a:latin typeface="Times New Roman"/>
                </a:rPr>
                <a:t>arves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300" spc="-1" strike="noStrike">
                  <a:solidFill>
                    <a:srgbClr val="fafd00"/>
                  </a:solidFill>
                  <a:latin typeface="Times New Roman"/>
                </a:rPr>
                <a:t>anagement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443720" y="3421080"/>
              <a:ext cx="779400" cy="322200"/>
              <a:chOff x="7443720" y="3421080"/>
              <a:chExt cx="779400" cy="3222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934400" y="3421080"/>
                <a:ext cx="28872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443720" y="3524400"/>
                <a:ext cx="425520" cy="126720"/>
              </a:xfrm>
              <a:prstGeom prst="leftRightArrow">
                <a:avLst>
                  <a:gd name="adj1" fmla="val 50000"/>
                  <a:gd name="adj2" fmla="val 66848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6039000" y="4146480"/>
            <a:ext cx="2214360" cy="2262240"/>
            <a:chOff x="6039000" y="4146480"/>
            <a:chExt cx="2214360" cy="2262240"/>
          </a:xfrm>
        </p:grpSpPr>
        <p:sp>
          <p:nvSpPr>
            <p:cNvPr id="279" name=""/>
            <p:cNvSpPr/>
            <p:nvPr/>
          </p:nvSpPr>
          <p:spPr>
            <a:xfrm>
              <a:off x="6064200" y="4146480"/>
              <a:ext cx="1330200" cy="1044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63920" y="4179960"/>
              <a:ext cx="12276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sse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anagement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	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of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utonomou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GB" sz="1500" spc="-1" strike="noStrike">
                  <a:solidFill>
                    <a:srgbClr val="fafd00"/>
                  </a:solidFill>
                  <a:latin typeface="Times New Roman"/>
                </a:rPr>
                <a:t>ackag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039000" y="5592600"/>
              <a:ext cx="1351800" cy="816120"/>
              <a:chOff x="6039000" y="5592600"/>
              <a:chExt cx="1351800" cy="816120"/>
            </a:xfrm>
          </p:grpSpPr>
          <p:sp>
            <p:nvSpPr>
              <p:cNvPr id="282" name=""/>
              <p:cNvSpPr/>
              <p:nvPr/>
            </p:nvSpPr>
            <p:spPr>
              <a:xfrm>
                <a:off x="6039000" y="5592600"/>
                <a:ext cx="1341360" cy="81612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1200" y="5670360"/>
                <a:ext cx="1299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reservation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307200" y="4879800"/>
              <a:ext cx="7401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473960" y="5803920"/>
              <a:ext cx="779400" cy="322200"/>
              <a:chOff x="7473960" y="5803920"/>
              <a:chExt cx="779400" cy="322200"/>
            </a:xfrm>
          </p:grpSpPr>
          <p:pic>
            <p:nvPicPr>
              <p:cNvPr id="2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964640" y="5803920"/>
                <a:ext cx="28872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7473960" y="5907240"/>
                <a:ext cx="425520" cy="126720"/>
              </a:xfrm>
              <a:prstGeom prst="leftRightArrow">
                <a:avLst>
                  <a:gd name="adj1" fmla="val 50000"/>
                  <a:gd name="adj2" fmla="val 66848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443720" y="4468680"/>
              <a:ext cx="779400" cy="322200"/>
              <a:chOff x="7443720" y="4468680"/>
              <a:chExt cx="779400" cy="322200"/>
            </a:xfrm>
          </p:grpSpPr>
          <p:pic>
            <p:nvPicPr>
              <p:cNvPr id="2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934400" y="4468680"/>
                <a:ext cx="28872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7443720" y="4572000"/>
                <a:ext cx="425520" cy="126720"/>
              </a:xfrm>
              <a:prstGeom prst="leftRightArrow">
                <a:avLst>
                  <a:gd name="adj1" fmla="val 50000"/>
                  <a:gd name="adj2" fmla="val 66848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2744280" y="1093680"/>
            <a:ext cx="6683760" cy="6070680"/>
            <a:chOff x="2744280" y="1093680"/>
            <a:chExt cx="6683760" cy="6070680"/>
          </a:xfrm>
        </p:grpSpPr>
        <p:sp>
          <p:nvSpPr>
            <p:cNvPr id="292" name=""/>
            <p:cNvSpPr/>
            <p:nvPr/>
          </p:nvSpPr>
          <p:spPr>
            <a:xfrm flipH="1">
              <a:off x="5743440" y="1360440"/>
              <a:ext cx="20880" cy="5762520"/>
            </a:xfrm>
            <a:prstGeom prst="line">
              <a:avLst/>
            </a:prstGeom>
            <a:ln w="255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1360440"/>
              <a:ext cx="17640" cy="5767560"/>
            </a:xfrm>
            <a:prstGeom prst="line">
              <a:avLst/>
            </a:prstGeom>
            <a:ln w="2556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149640" y="1830240"/>
              <a:ext cx="6278400" cy="5334120"/>
              <a:chOff x="3149640" y="1830240"/>
              <a:chExt cx="6278400" cy="53341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8992800" y="1830240"/>
                <a:ext cx="9720" cy="524988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200000">
                <a:off x="8006760" y="5086440"/>
                <a:ext cx="193896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0520" rIns="20520" tIns="13680" bIns="136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e575"/>
                    </a:solidFill>
                    <a:latin typeface="Times New Roman"/>
                  </a:rPr>
                  <a:t>ACE = 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e575"/>
                    </a:solidFill>
                    <a:latin typeface="Times New Roman"/>
                  </a:rPr>
                  <a:t>A</a:t>
                </a: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utonomous</a:t>
                </a:r>
                <a:r>
                  <a:rPr b="1" lang="en-GB" sz="15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GB" sz="1500" spc="-1" strike="noStrike">
                    <a:solidFill>
                      <a:srgbClr val="ffe575"/>
                    </a:solidFill>
                    <a:latin typeface="Times New Roman"/>
                  </a:rPr>
                  <a:t>C</a:t>
                </a: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ontent </a:t>
                </a:r>
                <a:r>
                  <a:rPr b="1" lang="en-GB" sz="1500" spc="-1" strike="noStrike">
                    <a:solidFill>
                      <a:srgbClr val="ffe575"/>
                    </a:solidFill>
                    <a:latin typeface="Times New Roman"/>
                  </a:rPr>
                  <a:t>E</a:t>
                </a: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ntitie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149640" y="6504120"/>
                <a:ext cx="6278400" cy="660240"/>
                <a:chOff x="3149640" y="6504120"/>
                <a:chExt cx="6278400" cy="6602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756480" y="6556320"/>
                  <a:ext cx="452520" cy="407880"/>
                </a:xfrm>
                <a:prstGeom prst="foldedCorner">
                  <a:avLst>
                    <a:gd name="adj" fmla="val 44333"/>
                  </a:avLst>
                </a:prstGeom>
                <a:solidFill>
                  <a:srgbClr val="333300"/>
                </a:soli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208640" y="6508800"/>
                  <a:ext cx="13100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Times New Roman"/>
                    </a:rPr>
                    <a:t>OAIS</a:t>
                  </a:r>
                  <a:endParaRPr b="0" lang="en-US" sz="17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reference model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(ISO 14 721)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703840" y="6535800"/>
                  <a:ext cx="892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AIP / S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537400" y="6504120"/>
                  <a:ext cx="890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P-D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5767200" y="6789600"/>
                  <a:ext cx="944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53280" y="6780240"/>
                  <a:ext cx="17096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49640" y="6535800"/>
                  <a:ext cx="892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AIP / S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2744280" y="1093680"/>
              <a:ext cx="3444480" cy="5695920"/>
              <a:chOff x="2744280" y="1093680"/>
              <a:chExt cx="3444480" cy="5695920"/>
            </a:xfrm>
          </p:grpSpPr>
          <p:sp>
            <p:nvSpPr>
              <p:cNvPr id="306" name=""/>
              <p:cNvSpPr/>
              <p:nvPr/>
            </p:nvSpPr>
            <p:spPr>
              <a:xfrm>
                <a:off x="5521320" y="2073240"/>
                <a:ext cx="482760" cy="4335480"/>
              </a:xfrm>
              <a:prstGeom prst="rect">
                <a:avLst/>
              </a:prstGeom>
              <a:solidFill>
                <a:srgbClr val="33996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51040" y="1095480"/>
                <a:ext cx="83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imes New Roman"/>
                  </a:rPr>
                  <a:t>X-AXI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53000" y="1495440"/>
                <a:ext cx="452520" cy="407880"/>
              </a:xfrm>
              <a:prstGeom prst="foldedCorner">
                <a:avLst>
                  <a:gd name="adj" fmla="val 44333"/>
                </a:avLst>
              </a:prstGeom>
              <a:solidFill>
                <a:srgbClr val="3333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10000" y="1241280"/>
                <a:ext cx="180036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3680" bIns="136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AXIS eXchang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Open Specifica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2062080"/>
                <a:ext cx="482760" cy="4343400"/>
              </a:xfrm>
              <a:prstGeom prst="rect">
                <a:avLst/>
              </a:prstGeom>
              <a:solidFill>
                <a:srgbClr val="33996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6200000">
                <a:off x="1251720" y="4116960"/>
                <a:ext cx="3814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</a:rPr>
                  <a:t>ARE’s /Opus/Media/Profile/Labels/ Id Fountain 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44280" y="1093680"/>
                <a:ext cx="83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imes New Roman"/>
                  </a:rPr>
                  <a:t>X-AXI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46240" y="1494000"/>
                <a:ext cx="452520" cy="407880"/>
              </a:xfrm>
              <a:prstGeom prst="foldedCorner">
                <a:avLst>
                  <a:gd name="adj" fmla="val 44333"/>
                </a:avLst>
              </a:prstGeom>
              <a:solidFill>
                <a:srgbClr val="333300"/>
              </a:solidFill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6760" y="3313080"/>
                <a:ext cx="1920960" cy="684360"/>
              </a:xfrm>
              <a:prstGeom prst="leftRightArrow">
                <a:avLst>
                  <a:gd name="adj1" fmla="val 56287"/>
                  <a:gd name="adj2" fmla="val 47913"/>
                </a:avLst>
              </a:prstGeom>
              <a:solidFill>
                <a:srgbClr val="fc012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fr-BE" sz="2400" spc="-1" strike="noStrike">
                    <a:solidFill>
                      <a:srgbClr val="1cfc1c"/>
                    </a:solidFill>
                    <a:latin typeface="Times New Roman"/>
                  </a:rPr>
                  <a:t>AXE’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4520" y="1893960"/>
                <a:ext cx="171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AIP / SI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expressed 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01520" y="2424240"/>
                <a:ext cx="1442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ff00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99"/>
                    </a:solidFill>
                    <a:latin typeface="Times New Roman"/>
                  </a:rPr>
                  <a:t>utonomou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99"/>
                    </a:solidFill>
                    <a:latin typeface="Times New Roman"/>
                  </a:rPr>
                  <a:t>e</a:t>
                </a:r>
                <a:r>
                  <a:rPr b="1" lang="en-GB" sz="2000" spc="-1" strike="noStrike">
                    <a:solidFill>
                      <a:srgbClr val="00ff00"/>
                    </a:solidFill>
                    <a:latin typeface="Times New Roman"/>
                  </a:rPr>
                  <a:t>X</a:t>
                </a:r>
                <a:r>
                  <a:rPr b="1" lang="en-GB" sz="1800" spc="-1" strike="noStrike">
                    <a:solidFill>
                      <a:srgbClr val="ffff99"/>
                    </a:solidFill>
                    <a:latin typeface="Times New Roman"/>
                  </a:rPr>
                  <a:t>chan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1" lang="en-GB" sz="1800" spc="-1" strike="noStrike">
                    <a:solidFill>
                      <a:srgbClr val="ffff99"/>
                    </a:solidFill>
                    <a:latin typeface="Times New Roman"/>
                  </a:rPr>
                  <a:t>ntiti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3853440" y="4129560"/>
                <a:ext cx="3814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</a:rPr>
                  <a:t>ARE’s /Opus/Media/Profile/Labels/ Id Fountain 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3195720" y="6789600"/>
                <a:ext cx="2519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049640" y="5149800"/>
                <a:ext cx="719280" cy="1472760"/>
                <a:chOff x="4049640" y="5149800"/>
                <a:chExt cx="719280" cy="1472760"/>
              </a:xfrm>
            </p:grpSpPr>
            <p:grpSp>
              <p:nvGrpSpPr>
                <p:cNvPr id="320" name=""/>
                <p:cNvGrpSpPr/>
                <p:nvPr/>
              </p:nvGrpSpPr>
              <p:grpSpPr>
                <a:xfrm>
                  <a:off x="4049640" y="5149800"/>
                  <a:ext cx="719280" cy="296280"/>
                  <a:chOff x="4049640" y="5149800"/>
                  <a:chExt cx="719280" cy="29628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49640" y="5149800"/>
                    <a:ext cx="719280" cy="296280"/>
                    <a:chOff x="4049640" y="5149800"/>
                    <a:chExt cx="719280" cy="29628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4049640" y="5149800"/>
                      <a:ext cx="719280" cy="296280"/>
                      <a:chOff x="4049640" y="5149800"/>
                      <a:chExt cx="719280" cy="296280"/>
                    </a:xfrm>
                  </p:grpSpPr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4049640" y="5211360"/>
                        <a:ext cx="717480" cy="234720"/>
                        <a:chOff x="4049640" y="5211360"/>
                        <a:chExt cx="717480" cy="234720"/>
                      </a:xfrm>
                    </p:grpSpPr>
                    <p:grpSp>
                      <p:nvGrpSpPr>
                        <p:cNvPr id="324" name=""/>
                        <p:cNvGrpSpPr/>
                        <p:nvPr/>
                      </p:nvGrpSpPr>
                      <p:grpSpPr>
                        <a:xfrm>
                          <a:off x="4090680" y="5214240"/>
                          <a:ext cx="324000" cy="231480"/>
                          <a:chOff x="4090680" y="5214240"/>
                          <a:chExt cx="324000" cy="231480"/>
                        </a:xfrm>
                      </p:grpSpPr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>
                            <a:off x="4139640" y="5214240"/>
                            <a:ext cx="211320" cy="2314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>
                            <a:off x="4090680" y="5238720"/>
                            <a:ext cx="324000" cy="198360"/>
                          </a:xfrm>
                          <a:prstGeom prst="ellipse">
                            <a:avLst/>
                          </a:prstGeom>
                          <a:solidFill>
                            <a:srgbClr val="ced0ba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4159080" y="5283000"/>
                            <a:ext cx="186840" cy="1108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1680" bIns="31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>
                            <a:off x="4221360" y="5318640"/>
                            <a:ext cx="60840" cy="38520"/>
                          </a:xfrm>
                          <a:prstGeom prst="ellipse">
                            <a:avLst/>
                          </a:prstGeom>
                          <a:solidFill>
                            <a:srgbClr val="ced0ba"/>
                          </a:solidFill>
                          <a:ln w="50760">
                            <a:solidFill>
                              <a:srgbClr val="00968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9080" bIns="-19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rot="3240000">
                            <a:off x="4152600" y="5288760"/>
                            <a:ext cx="122760" cy="37440"/>
                          </a:xfrm>
                          <a:prstGeom prst="roundRect">
                            <a:avLst>
                              <a:gd name="adj" fmla="val 41639"/>
                            </a:avLst>
                          </a:prstGeom>
                          <a:solidFill>
                            <a:srgbClr val="ced0ba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8000" bIns="-18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4300200" y="5211360"/>
                          <a:ext cx="466920" cy="234720"/>
                        </a:xfrm>
                        <a:prstGeom prst="rect">
                          <a:avLst/>
                        </a:prstGeom>
                        <a:solidFill>
                          <a:srgbClr val="777777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4049640" y="5211360"/>
                          <a:ext cx="147240" cy="234720"/>
                        </a:xfrm>
                        <a:prstGeom prst="rect">
                          <a:avLst/>
                        </a:prstGeom>
                        <a:solidFill>
                          <a:srgbClr val="777777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4049640" y="5149800"/>
                        <a:ext cx="719280" cy="698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040" bIns="23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4212000" y="5228280"/>
                      <a:ext cx="75240" cy="64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4" name=""/>
                  <p:cNvSpPr/>
                  <p:nvPr/>
                </p:nvSpPr>
                <p:spPr>
                  <a:xfrm>
                    <a:off x="4357800" y="5287680"/>
                    <a:ext cx="372240" cy="129960"/>
                  </a:xfrm>
                  <a:prstGeom prst="roundRect">
                    <a:avLst>
                      <a:gd name="adj" fmla="val 12486"/>
                    </a:avLst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383000" y="5296320"/>
                    <a:ext cx="329400" cy="11628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3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108320" y="6336720"/>
                  <a:ext cx="597600" cy="2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229280" y="5990040"/>
                  <a:ext cx="358560" cy="292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08320" y="5545440"/>
                  <a:ext cx="585360" cy="40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9" name=""/>
              <p:cNvSpPr/>
              <p:nvPr/>
            </p:nvSpPr>
            <p:spPr>
              <a:xfrm>
                <a:off x="3510000" y="1709640"/>
                <a:ext cx="1935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25120" y="4691160"/>
                <a:ext cx="196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FTP / TCP-IP / 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26920" y="4124160"/>
                <a:ext cx="193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METS / MXF / FF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39720" y="4410000"/>
                <a:ext cx="229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ffcc"/>
                    </a:solidFill>
                    <a:latin typeface="Times New Roman"/>
                  </a:rPr>
                  <a:t>MODS + ZIP / RAR / …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709640" y="57600"/>
            <a:ext cx="5851800" cy="9198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e AXIS General Architectu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89000" y="1093680"/>
            <a:ext cx="10207080" cy="6070680"/>
            <a:chOff x="189000" y="1093680"/>
            <a:chExt cx="10207080" cy="6070680"/>
          </a:xfrm>
        </p:grpSpPr>
        <p:grpSp>
          <p:nvGrpSpPr>
            <p:cNvPr id="345" name=""/>
            <p:cNvGrpSpPr/>
            <p:nvPr/>
          </p:nvGrpSpPr>
          <p:grpSpPr>
            <a:xfrm>
              <a:off x="189000" y="1835280"/>
              <a:ext cx="2679480" cy="1306440"/>
              <a:chOff x="189000" y="1835280"/>
              <a:chExt cx="2679480" cy="1306440"/>
            </a:xfrm>
          </p:grpSpPr>
          <p:sp>
            <p:nvSpPr>
              <p:cNvPr id="346" name=""/>
              <p:cNvSpPr/>
              <p:nvPr/>
            </p:nvSpPr>
            <p:spPr>
              <a:xfrm>
                <a:off x="684360" y="2809800"/>
                <a:ext cx="585720" cy="174600"/>
              </a:xfrm>
              <a:prstGeom prst="leftRightArrow">
                <a:avLst>
                  <a:gd name="adj1" fmla="val 50000"/>
                  <a:gd name="adj2" fmla="val 66782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360" y="2735280"/>
                <a:ext cx="2890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89000" y="1835280"/>
                <a:ext cx="1360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Analogue sourc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Digital sourc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05080" y="2063880"/>
                <a:ext cx="1463400" cy="107784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3280" y="2198520"/>
                <a:ext cx="1096920" cy="185760"/>
              </a:xfrm>
              <a:prstGeom prst="rightArrow">
                <a:avLst>
                  <a:gd name="adj1" fmla="val 49593"/>
                  <a:gd name="adj2" fmla="val 74141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57280" y="214488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edi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89000" y="3211560"/>
              <a:ext cx="2679480" cy="1860480"/>
              <a:chOff x="189000" y="3211560"/>
              <a:chExt cx="2679480" cy="186048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189000" y="3211560"/>
                <a:ext cx="2679480" cy="1860480"/>
                <a:chOff x="189000" y="3211560"/>
                <a:chExt cx="2679480" cy="18604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754280" y="4375080"/>
                  <a:ext cx="74016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4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189000" y="3211560"/>
                  <a:ext cx="2679480" cy="1388880"/>
                  <a:chOff x="189000" y="3211560"/>
                  <a:chExt cx="2679480" cy="13888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84360" y="4186080"/>
                    <a:ext cx="585720" cy="174600"/>
                  </a:xfrm>
                  <a:prstGeom prst="leftRightArrow">
                    <a:avLst>
                      <a:gd name="adj1" fmla="val 50000"/>
                      <a:gd name="adj2" fmla="val 66782"/>
                    </a:avLst>
                  </a:prstGeom>
                  <a:solidFill>
                    <a:srgbClr val="ff9900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111560"/>
                    <a:ext cx="2890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" name=""/>
                  <p:cNvSpPr/>
                  <p:nvPr/>
                </p:nvSpPr>
                <p:spPr>
                  <a:xfrm>
                    <a:off x="189000" y="3211560"/>
                    <a:ext cx="13604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nalogue sourc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gital sourc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405080" y="3522600"/>
                    <a:ext cx="1463400" cy="1077840"/>
                  </a:xfrm>
                  <a:prstGeom prst="rect">
                    <a:avLst/>
                  </a:prstGeom>
                  <a:solidFill>
                    <a:srgbClr val="800000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33280" y="3575160"/>
                    <a:ext cx="1096920" cy="185760"/>
                  </a:xfrm>
                  <a:prstGeom prst="rightArrow">
                    <a:avLst>
                      <a:gd name="adj1" fmla="val 49593"/>
                      <a:gd name="adj2" fmla="val 74141"/>
                    </a:avLst>
                  </a:prstGeom>
                  <a:solidFill>
                    <a:srgbClr val="3333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"/>
              <p:cNvSpPr/>
              <p:nvPr/>
            </p:nvSpPr>
            <p:spPr>
              <a:xfrm>
                <a:off x="1467000" y="360360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edi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98360" y="5192640"/>
              <a:ext cx="2670120" cy="1208160"/>
              <a:chOff x="198360" y="5192640"/>
              <a:chExt cx="2670120" cy="1208160"/>
            </a:xfrm>
          </p:grpSpPr>
          <p:sp>
            <p:nvSpPr>
              <p:cNvPr id="363" name=""/>
              <p:cNvSpPr/>
              <p:nvPr/>
            </p:nvSpPr>
            <p:spPr>
              <a:xfrm>
                <a:off x="684360" y="5986440"/>
                <a:ext cx="585720" cy="174600"/>
              </a:xfrm>
              <a:prstGeom prst="leftRightArrow">
                <a:avLst>
                  <a:gd name="adj1" fmla="val 50000"/>
                  <a:gd name="adj2" fmla="val 66782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360" y="5911920"/>
                <a:ext cx="2890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198360" y="5192640"/>
                <a:ext cx="13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Reference Fil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05080" y="5322960"/>
                <a:ext cx="1463400" cy="107784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3280" y="5375160"/>
                <a:ext cx="1096920" cy="185760"/>
              </a:xfrm>
              <a:prstGeom prst="rightArrow">
                <a:avLst>
                  <a:gd name="adj1" fmla="val 49593"/>
                  <a:gd name="adj2" fmla="val 74141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76360" y="544212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rofi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067440" y="1430280"/>
              <a:ext cx="4328640" cy="2440080"/>
              <a:chOff x="6067440" y="1430280"/>
              <a:chExt cx="4328640" cy="2440080"/>
            </a:xfrm>
          </p:grpSpPr>
          <p:sp>
            <p:nvSpPr>
              <p:cNvPr id="370" name=""/>
              <p:cNvSpPr/>
              <p:nvPr/>
            </p:nvSpPr>
            <p:spPr>
              <a:xfrm>
                <a:off x="6067440" y="2070000"/>
                <a:ext cx="1322280" cy="180036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02360" y="2119320"/>
                <a:ext cx="14400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edia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8096400" y="2470320"/>
                <a:ext cx="1939320" cy="291960"/>
                <a:chOff x="8096400" y="2470320"/>
                <a:chExt cx="1939320" cy="291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09640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51480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80992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8128440" y="1430280"/>
                <a:ext cx="1765800" cy="3222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imes New Roman"/>
                  </a:rPr>
                  <a:t>EXPLOITATION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435800" y="1847880"/>
                <a:ext cx="2960280" cy="674640"/>
                <a:chOff x="7435800" y="1847880"/>
                <a:chExt cx="2960280" cy="6746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435800" y="2066760"/>
                  <a:ext cx="1217520" cy="45576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9442440" y="2048040"/>
                  <a:ext cx="585720" cy="455400"/>
                </a:xfrm>
                <a:prstGeom prst="rect">
                  <a:avLst/>
                </a:prstGeom>
                <a:solidFill>
                  <a:srgbClr val="00008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80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10158120" y="2131920"/>
                  <a:ext cx="23796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1" name=""/>
                <p:cNvSpPr/>
                <p:nvPr/>
              </p:nvSpPr>
              <p:spPr>
                <a:xfrm>
                  <a:off x="8750160" y="2187720"/>
                  <a:ext cx="586080" cy="176040"/>
                </a:xfrm>
                <a:prstGeom prst="leftRightArrow">
                  <a:avLst>
                    <a:gd name="adj1" fmla="val 50000"/>
                    <a:gd name="adj2" fmla="val 66277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782200" y="1847880"/>
                  <a:ext cx="5205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afd00"/>
                      </a:solidFill>
                      <a:latin typeface="Times New Roman"/>
                    </a:rPr>
                    <a:t>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D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60720" y="2212920"/>
                  <a:ext cx="904320" cy="17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0800" bIns="10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Exploitation # 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550440" y="2165400"/>
                  <a:ext cx="520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U # 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435800" y="2521080"/>
                <a:ext cx="2960280" cy="674640"/>
                <a:chOff x="7435800" y="2521080"/>
                <a:chExt cx="2960280" cy="6746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435800" y="2739960"/>
                  <a:ext cx="1217520" cy="45576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9442440" y="2721240"/>
                  <a:ext cx="585720" cy="455400"/>
                </a:xfrm>
                <a:prstGeom prst="rect">
                  <a:avLst/>
                </a:prstGeom>
                <a:solidFill>
                  <a:srgbClr val="00008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0158120" y="2805120"/>
                  <a:ext cx="23796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9" name=""/>
                <p:cNvSpPr/>
                <p:nvPr/>
              </p:nvSpPr>
              <p:spPr>
                <a:xfrm>
                  <a:off x="8750160" y="2860920"/>
                  <a:ext cx="586080" cy="176040"/>
                </a:xfrm>
                <a:prstGeom prst="leftRightArrow">
                  <a:avLst>
                    <a:gd name="adj1" fmla="val 50000"/>
                    <a:gd name="adj2" fmla="val 66277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782200" y="2521080"/>
                  <a:ext cx="5205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afd00"/>
                      </a:solidFill>
                      <a:latin typeface="Times New Roman"/>
                    </a:rPr>
                    <a:t>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D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561080" y="2886120"/>
                  <a:ext cx="910440" cy="17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0800" bIns="10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Exploitation # 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550440" y="2838600"/>
                  <a:ext cx="520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U # 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3" name=""/>
            <p:cNvGrpSpPr/>
            <p:nvPr/>
          </p:nvGrpSpPr>
          <p:grpSpPr>
            <a:xfrm>
              <a:off x="6097320" y="3105000"/>
              <a:ext cx="2125800" cy="657000"/>
              <a:chOff x="6097320" y="3105000"/>
              <a:chExt cx="2125800" cy="657000"/>
            </a:xfrm>
          </p:grpSpPr>
          <p:sp>
            <p:nvSpPr>
              <p:cNvPr id="394" name=""/>
              <p:cNvSpPr/>
              <p:nvPr/>
            </p:nvSpPr>
            <p:spPr>
              <a:xfrm>
                <a:off x="6097320" y="3105000"/>
                <a:ext cx="1045080" cy="657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0800" bIns="10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nowledg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arvesting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443720" y="3421080"/>
                <a:ext cx="779400" cy="322200"/>
                <a:chOff x="7443720" y="3421080"/>
                <a:chExt cx="779400" cy="322200"/>
              </a:xfrm>
            </p:grpSpPr>
            <p:pic>
              <p:nvPicPr>
                <p:cNvPr id="39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4400" y="342108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"/>
                <p:cNvSpPr/>
                <p:nvPr/>
              </p:nvSpPr>
              <p:spPr>
                <a:xfrm>
                  <a:off x="7443720" y="352440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6039000" y="4146480"/>
              <a:ext cx="2214360" cy="2262240"/>
              <a:chOff x="6039000" y="4146480"/>
              <a:chExt cx="2214360" cy="2262240"/>
            </a:xfrm>
          </p:grpSpPr>
          <p:sp>
            <p:nvSpPr>
              <p:cNvPr id="399" name=""/>
              <p:cNvSpPr/>
              <p:nvPr/>
            </p:nvSpPr>
            <p:spPr>
              <a:xfrm>
                <a:off x="6064200" y="4146480"/>
                <a:ext cx="1330200" cy="104472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63920" y="4179960"/>
                <a:ext cx="1227600" cy="9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54000" tIns="46800" bIns="46800" anchor="t">
                <a:sp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	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of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utonomou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ckag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6039000" y="5592600"/>
                <a:ext cx="1351800" cy="816120"/>
                <a:chOff x="6039000" y="5592600"/>
                <a:chExt cx="1351800" cy="8161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039000" y="5592600"/>
                  <a:ext cx="1341360" cy="81612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091200" y="5670360"/>
                  <a:ext cx="1299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sset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reservation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anagement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6307200" y="4879800"/>
                <a:ext cx="7401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7473960" y="5803920"/>
                <a:ext cx="779400" cy="322200"/>
                <a:chOff x="7473960" y="5803920"/>
                <a:chExt cx="779400" cy="322200"/>
              </a:xfrm>
            </p:grpSpPr>
            <p:pic>
              <p:nvPicPr>
                <p:cNvPr id="4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64640" y="580392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>
                  <a:off x="7473960" y="590724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43720" y="4468680"/>
                <a:ext cx="779400" cy="322200"/>
                <a:chOff x="7443720" y="4468680"/>
                <a:chExt cx="779400" cy="322200"/>
              </a:xfrm>
            </p:grpSpPr>
            <p:pic>
              <p:nvPicPr>
                <p:cNvPr id="40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34400" y="446868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"/>
                <p:cNvSpPr/>
                <p:nvPr/>
              </p:nvSpPr>
              <p:spPr>
                <a:xfrm>
                  <a:off x="7443720" y="457200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1" name=""/>
            <p:cNvGrpSpPr/>
            <p:nvPr/>
          </p:nvGrpSpPr>
          <p:grpSpPr>
            <a:xfrm>
              <a:off x="2744280" y="1093680"/>
              <a:ext cx="6683760" cy="6070680"/>
              <a:chOff x="2744280" y="1093680"/>
              <a:chExt cx="6683760" cy="6070680"/>
            </a:xfrm>
          </p:grpSpPr>
          <p:sp>
            <p:nvSpPr>
              <p:cNvPr id="412" name=""/>
              <p:cNvSpPr/>
              <p:nvPr/>
            </p:nvSpPr>
            <p:spPr>
              <a:xfrm flipH="1">
                <a:off x="5743440" y="1360440"/>
                <a:ext cx="20880" cy="5762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3139560" y="1360440"/>
                <a:ext cx="17640" cy="5767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3149640" y="1830240"/>
                <a:ext cx="6278400" cy="5334120"/>
                <a:chOff x="3149640" y="1830240"/>
                <a:chExt cx="6278400" cy="53341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8992800" y="1830240"/>
                  <a:ext cx="9720" cy="52498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16200000">
                  <a:off x="8006760" y="5086440"/>
                  <a:ext cx="19389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3680" bIns="136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ACE =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A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utonomous</a:t>
                  </a: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C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ontent </a:t>
                  </a: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E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ntities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3149640" y="6504120"/>
                  <a:ext cx="6278400" cy="660240"/>
                  <a:chOff x="3149640" y="6504120"/>
                  <a:chExt cx="6278400" cy="6602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6756480" y="6556320"/>
                    <a:ext cx="452520" cy="407880"/>
                  </a:xfrm>
                  <a:prstGeom prst="foldedCorner">
                    <a:avLst>
                      <a:gd name="adj" fmla="val 44333"/>
                    </a:avLst>
                  </a:prstGeom>
                  <a:solidFill>
                    <a:srgbClr val="333300"/>
                  </a:solidFill>
                  <a:ln w="255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208640" y="6508800"/>
                    <a:ext cx="131004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7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OAIS</a:t>
                    </a:r>
                    <a:endParaRPr b="0" lang="en-US" sz="1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3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ference model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3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(ISO 14 721)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703840" y="6535800"/>
                    <a:ext cx="892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IP / S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537400" y="6504120"/>
                    <a:ext cx="8906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-D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5767200" y="6789600"/>
                    <a:ext cx="9442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253280" y="6780240"/>
                    <a:ext cx="170964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149640" y="6535800"/>
                    <a:ext cx="892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IP / S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2744280" y="1093680"/>
                <a:ext cx="3444480" cy="5695920"/>
                <a:chOff x="2744280" y="1093680"/>
                <a:chExt cx="3444480" cy="56959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521320" y="2073240"/>
                  <a:ext cx="482760" cy="4335480"/>
                </a:xfrm>
                <a:prstGeom prst="rect">
                  <a:avLst/>
                </a:prstGeom>
                <a:solidFill>
                  <a:srgbClr val="339966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351040" y="1095480"/>
                  <a:ext cx="8377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X-AXIS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553000" y="1495440"/>
                  <a:ext cx="452520" cy="407880"/>
                </a:xfrm>
                <a:prstGeom prst="foldedCorner">
                  <a:avLst>
                    <a:gd name="adj" fmla="val 44333"/>
                  </a:avLst>
                </a:prstGeom>
                <a:solidFill>
                  <a:srgbClr val="333300"/>
                </a:soli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510000" y="1241280"/>
                  <a:ext cx="180036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13680" bIns="136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AXIS eXchang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Open Specification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914560" y="2062080"/>
                  <a:ext cx="482760" cy="4343400"/>
                </a:xfrm>
                <a:prstGeom prst="rect">
                  <a:avLst/>
                </a:prstGeom>
                <a:solidFill>
                  <a:srgbClr val="339966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6200000">
                  <a:off x="1251720" y="4116960"/>
                  <a:ext cx="3814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Times New Roman"/>
                    </a:rPr>
                    <a:t>ARE’s /Opus/Media/Profile/Labels/ Id Fountain  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744280" y="1093680"/>
                  <a:ext cx="8377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X-AXIS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946240" y="1494000"/>
                  <a:ext cx="452520" cy="407880"/>
                </a:xfrm>
                <a:prstGeom prst="foldedCorner">
                  <a:avLst>
                    <a:gd name="adj" fmla="val 44333"/>
                  </a:avLst>
                </a:prstGeom>
                <a:solidFill>
                  <a:srgbClr val="333300"/>
                </a:soli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506760" y="3313080"/>
                  <a:ext cx="1920960" cy="684360"/>
                </a:xfrm>
                <a:prstGeom prst="leftRightArrow">
                  <a:avLst>
                    <a:gd name="adj1" fmla="val 56287"/>
                    <a:gd name="adj2" fmla="val 47913"/>
                  </a:avLst>
                </a:prstGeom>
                <a:solidFill>
                  <a:srgbClr val="fc0128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fr-BE" sz="2400" spc="-1" strike="noStrike">
                      <a:solidFill>
                        <a:srgbClr val="1cfc1c"/>
                      </a:solidFill>
                      <a:latin typeface="Times New Roman"/>
                    </a:rPr>
                    <a:t>AXE’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584520" y="1893960"/>
                  <a:ext cx="171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</a:rPr>
                    <a:t>AIP / SI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</a:rPr>
                    <a:t>expressed </a:t>
                  </a:r>
                  <a:r>
                    <a:rPr b="1" lang="en-GB" sz="1600" spc="-1" strike="noStrike">
                      <a:solidFill>
                        <a:srgbClr val="ffffff"/>
                      </a:solidFill>
                      <a:latin typeface="Times New Roman"/>
                    </a:rPr>
                    <a:t>a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701520" y="2424240"/>
                  <a:ext cx="14425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A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utonomou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99"/>
                      </a:solidFill>
                      <a:latin typeface="Times New Roman"/>
                    </a:rPr>
                    <a:t>e</a:t>
                  </a: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X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chang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E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ntiti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6200000">
                  <a:off x="3853440" y="4129560"/>
                  <a:ext cx="3814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Times New Roman"/>
                    </a:rPr>
                    <a:t>ARE’s /Opus/Media/Profile/Labels/ Id Fountain  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3195720" y="6789600"/>
                  <a:ext cx="2519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4049640" y="5149800"/>
                  <a:ext cx="719280" cy="1472760"/>
                  <a:chOff x="4049640" y="5149800"/>
                  <a:chExt cx="719280" cy="147276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4049640" y="5149800"/>
                    <a:ext cx="719280" cy="296280"/>
                    <a:chOff x="4049640" y="5149800"/>
                    <a:chExt cx="719280" cy="29628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4049640" y="5149800"/>
                      <a:ext cx="719280" cy="296280"/>
                      <a:chOff x="4049640" y="5149800"/>
                      <a:chExt cx="719280" cy="29628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4049640" y="5149800"/>
                        <a:ext cx="719280" cy="296280"/>
                        <a:chOff x="4049640" y="5149800"/>
                        <a:chExt cx="719280" cy="296280"/>
                      </a:xfrm>
                    </p:grpSpPr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4049640" y="5211360"/>
                          <a:ext cx="717480" cy="234720"/>
                          <a:chOff x="4049640" y="5211360"/>
                          <a:chExt cx="717480" cy="234720"/>
                        </a:xfrm>
                      </p:grpSpPr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4090680" y="5214240"/>
                            <a:ext cx="324000" cy="231480"/>
                            <a:chOff x="4090680" y="5214240"/>
                            <a:chExt cx="324000" cy="231480"/>
                          </a:xfrm>
                        </p:grpSpPr>
                        <p:sp>
                          <p:nvSpPr>
                            <p:cNvPr id="445" name=""/>
                            <p:cNvSpPr/>
                            <p:nvPr/>
                          </p:nvSpPr>
                          <p:spPr>
                            <a:xfrm>
                              <a:off x="4139640" y="5214240"/>
                              <a:ext cx="211320" cy="23148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6" name=""/>
                            <p:cNvSpPr/>
                            <p:nvPr/>
                          </p:nvSpPr>
                          <p:spPr>
                            <a:xfrm>
                              <a:off x="4090680" y="5238720"/>
                              <a:ext cx="324000" cy="198360"/>
                            </a:xfrm>
                            <a:prstGeom prst="ellipse">
                              <a:avLst/>
                            </a:prstGeom>
                            <a:solidFill>
                              <a:srgbClr val="ced0ba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7" name=""/>
                            <p:cNvSpPr/>
                            <p:nvPr/>
                          </p:nvSpPr>
                          <p:spPr>
                            <a:xfrm>
                              <a:off x="4159080" y="5283000"/>
                              <a:ext cx="186840" cy="1108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1680" bIns="31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8" name=""/>
                            <p:cNvSpPr/>
                            <p:nvPr/>
                          </p:nvSpPr>
                          <p:spPr>
                            <a:xfrm>
                              <a:off x="4221360" y="5318640"/>
                              <a:ext cx="60840" cy="38520"/>
                            </a:xfrm>
                            <a:prstGeom prst="ellipse">
                              <a:avLst/>
                            </a:prstGeom>
                            <a:solidFill>
                              <a:srgbClr val="ced0ba"/>
                            </a:solidFill>
                            <a:ln w="50760">
                              <a:solidFill>
                                <a:srgbClr val="009688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9080" bIns="-19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49" name=""/>
                            <p:cNvSpPr/>
                            <p:nvPr/>
                          </p:nvSpPr>
                          <p:spPr>
                            <a:xfrm rot="3240000">
                              <a:off x="4152600" y="5288760"/>
                              <a:ext cx="122760" cy="37440"/>
                            </a:xfrm>
                            <a:prstGeom prst="roundRect">
                              <a:avLst>
                                <a:gd name="adj" fmla="val 41639"/>
                              </a:avLst>
                            </a:prstGeom>
                            <a:solidFill>
                              <a:srgbClr val="ced0ba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0" bIns="-18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0" name=""/>
                          <p:cNvSpPr/>
                          <p:nvPr/>
                        </p:nvSpPr>
                        <p:spPr>
                          <a:xfrm>
                            <a:off x="4300200" y="5211360"/>
                            <a:ext cx="466920" cy="234720"/>
                          </a:xfrm>
                          <a:prstGeom prst="rect">
                            <a:avLst/>
                          </a:prstGeom>
                          <a:solidFill>
                            <a:srgbClr val="777777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4049640" y="5211360"/>
                            <a:ext cx="147240" cy="234720"/>
                          </a:xfrm>
                          <a:prstGeom prst="rect">
                            <a:avLst/>
                          </a:prstGeom>
                          <a:solidFill>
                            <a:srgbClr val="777777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4049640" y="5149800"/>
                          <a:ext cx="719280" cy="69840"/>
                        </a:xfrm>
                        <a:prstGeom prst="rect">
                          <a:avLst/>
                        </a:prstGeom>
                        <a:solidFill>
                          <a:srgbClr val="ffcc0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3040" bIns="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4212000" y="5228280"/>
                        <a:ext cx="75240" cy="64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640" bIns="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4357800" y="5287680"/>
                      <a:ext cx="372240" cy="129960"/>
                    </a:xfrm>
                    <a:prstGeom prst="roundRect">
                      <a:avLst>
                        <a:gd name="adj" fmla="val 12486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383000" y="5296320"/>
                      <a:ext cx="329400" cy="116280"/>
                    </a:xfrm>
                    <a:prstGeom prst="rect">
                      <a:avLst/>
                    </a:prstGeom>
                    <a:solidFill>
                      <a:srgbClr val="009688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4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08320" y="6336720"/>
                    <a:ext cx="5976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29280" y="5990040"/>
                    <a:ext cx="358560" cy="2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08320" y="5545440"/>
                    <a:ext cx="58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59" name=""/>
                <p:cNvSpPr/>
                <p:nvPr/>
              </p:nvSpPr>
              <p:spPr>
                <a:xfrm>
                  <a:off x="3510000" y="1709640"/>
                  <a:ext cx="1935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525120" y="4691160"/>
                  <a:ext cx="196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00"/>
                      </a:solidFill>
                      <a:latin typeface="Times New Roman"/>
                    </a:rPr>
                    <a:t>FTP / TCP-IP / 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526920" y="4124160"/>
                  <a:ext cx="193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Times New Roman"/>
                    </a:rPr>
                    <a:t>METS / MXF / FF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339720" y="4410000"/>
                  <a:ext cx="229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ccffcc"/>
                      </a:solidFill>
                      <a:latin typeface="Times New Roman"/>
                    </a:rPr>
                    <a:t>MODS + ZIP / RAR / …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3" name=""/>
          <p:cNvGrpSpPr/>
          <p:nvPr/>
        </p:nvGrpSpPr>
        <p:grpSpPr>
          <a:xfrm>
            <a:off x="3505320" y="2967120"/>
            <a:ext cx="3504960" cy="3619440"/>
            <a:chOff x="3505320" y="2967120"/>
            <a:chExt cx="3504960" cy="3619440"/>
          </a:xfrm>
        </p:grpSpPr>
        <p:sp>
          <p:nvSpPr>
            <p:cNvPr id="464" name=""/>
            <p:cNvSpPr/>
            <p:nvPr/>
          </p:nvSpPr>
          <p:spPr>
            <a:xfrm>
              <a:off x="3505320" y="4700520"/>
              <a:ext cx="1925640" cy="1886040"/>
            </a:xfrm>
            <a:prstGeom prst="rect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8800" y="2967120"/>
              <a:ext cx="1941480" cy="1447560"/>
            </a:xfrm>
            <a:prstGeom prst="wedgeRoundRectCallout">
              <a:avLst>
                <a:gd name="adj1" fmla="val -41662"/>
                <a:gd name="adj2" fmla="val 69958"/>
                <a:gd name="adj3" fmla="val 16667"/>
              </a:avLst>
            </a:prstGeom>
            <a:solidFill>
              <a:srgbClr val="ffff99"/>
            </a:solidFill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36180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3000" spc="-1" strike="noStrike">
                  <a:solidFill>
                    <a:srgbClr val="fc0128"/>
                  </a:solidFill>
                  <a:latin typeface="Arial"/>
                </a:rPr>
                <a:t>Carrier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61800" indent="-361800">
                <a:lnSpc>
                  <a:spcPct val="100000"/>
                </a:lnSpc>
                <a:buClr>
                  <a:srgbClr val="fc0128"/>
                </a:buClr>
                <a:buFont typeface="Arial"/>
                <a:buChar char="•"/>
                <a:tabLst>
                  <a:tab algn="l" pos="36180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Ti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61800" indent="-361800">
                <a:lnSpc>
                  <a:spcPct val="100000"/>
                </a:lnSpc>
                <a:buClr>
                  <a:srgbClr val="fc0128"/>
                </a:buClr>
                <a:buFont typeface="Arial"/>
                <a:buChar char="•"/>
                <a:tabLst>
                  <a:tab algn="l" pos="36180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Spa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09640" y="57600"/>
            <a:ext cx="5851800" cy="9198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e AXIS General Architectu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89000" y="1093680"/>
            <a:ext cx="10207080" cy="6070680"/>
            <a:chOff x="189000" y="1093680"/>
            <a:chExt cx="10207080" cy="6070680"/>
          </a:xfrm>
        </p:grpSpPr>
        <p:grpSp>
          <p:nvGrpSpPr>
            <p:cNvPr id="468" name=""/>
            <p:cNvGrpSpPr/>
            <p:nvPr/>
          </p:nvGrpSpPr>
          <p:grpSpPr>
            <a:xfrm>
              <a:off x="189000" y="1835280"/>
              <a:ext cx="2679480" cy="1306440"/>
              <a:chOff x="189000" y="1835280"/>
              <a:chExt cx="2679480" cy="1306440"/>
            </a:xfrm>
          </p:grpSpPr>
          <p:sp>
            <p:nvSpPr>
              <p:cNvPr id="469" name=""/>
              <p:cNvSpPr/>
              <p:nvPr/>
            </p:nvSpPr>
            <p:spPr>
              <a:xfrm>
                <a:off x="684360" y="2809800"/>
                <a:ext cx="585720" cy="174600"/>
              </a:xfrm>
              <a:prstGeom prst="leftRightArrow">
                <a:avLst>
                  <a:gd name="adj1" fmla="val 50000"/>
                  <a:gd name="adj2" fmla="val 66782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360" y="2735280"/>
                <a:ext cx="2890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"/>
              <p:cNvSpPr/>
              <p:nvPr/>
            </p:nvSpPr>
            <p:spPr>
              <a:xfrm>
                <a:off x="189000" y="1835280"/>
                <a:ext cx="1360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Analogue sourc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Digital sourc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05080" y="2063880"/>
                <a:ext cx="1463400" cy="107784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3280" y="2198520"/>
                <a:ext cx="1096920" cy="185760"/>
              </a:xfrm>
              <a:prstGeom prst="rightArrow">
                <a:avLst>
                  <a:gd name="adj1" fmla="val 49593"/>
                  <a:gd name="adj2" fmla="val 74141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57280" y="214488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edi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89000" y="3211560"/>
              <a:ext cx="2679480" cy="1860480"/>
              <a:chOff x="189000" y="3211560"/>
              <a:chExt cx="2679480" cy="18604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189000" y="3211560"/>
                <a:ext cx="2679480" cy="1860480"/>
                <a:chOff x="189000" y="3211560"/>
                <a:chExt cx="2679480" cy="1860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754280" y="4375080"/>
                  <a:ext cx="74016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4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9000" y="3211560"/>
                  <a:ext cx="2679480" cy="1388880"/>
                  <a:chOff x="189000" y="3211560"/>
                  <a:chExt cx="2679480" cy="1388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684360" y="4186080"/>
                    <a:ext cx="585720" cy="174600"/>
                  </a:xfrm>
                  <a:prstGeom prst="leftRightArrow">
                    <a:avLst>
                      <a:gd name="adj1" fmla="val 50000"/>
                      <a:gd name="adj2" fmla="val 66782"/>
                    </a:avLst>
                  </a:prstGeom>
                  <a:solidFill>
                    <a:srgbClr val="ff9900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111560"/>
                    <a:ext cx="2890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1" name=""/>
                  <p:cNvSpPr/>
                  <p:nvPr/>
                </p:nvSpPr>
                <p:spPr>
                  <a:xfrm>
                    <a:off x="189000" y="3211560"/>
                    <a:ext cx="13604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nalogue sourc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igital sourc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405080" y="3522600"/>
                    <a:ext cx="1463400" cy="1077840"/>
                  </a:xfrm>
                  <a:prstGeom prst="rect">
                    <a:avLst/>
                  </a:prstGeom>
                  <a:solidFill>
                    <a:srgbClr val="800000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33280" y="3575160"/>
                    <a:ext cx="1096920" cy="185760"/>
                  </a:xfrm>
                  <a:prstGeom prst="rightArrow">
                    <a:avLst>
                      <a:gd name="adj1" fmla="val 49593"/>
                      <a:gd name="adj2" fmla="val 74141"/>
                    </a:avLst>
                  </a:prstGeom>
                  <a:solidFill>
                    <a:srgbClr val="3333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4" name=""/>
              <p:cNvSpPr/>
              <p:nvPr/>
            </p:nvSpPr>
            <p:spPr>
              <a:xfrm>
                <a:off x="1467000" y="360360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edi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98360" y="5192640"/>
              <a:ext cx="2670120" cy="1208160"/>
              <a:chOff x="198360" y="5192640"/>
              <a:chExt cx="2670120" cy="1208160"/>
            </a:xfrm>
          </p:grpSpPr>
          <p:sp>
            <p:nvSpPr>
              <p:cNvPr id="486" name=""/>
              <p:cNvSpPr/>
              <p:nvPr/>
            </p:nvSpPr>
            <p:spPr>
              <a:xfrm>
                <a:off x="684360" y="5986440"/>
                <a:ext cx="585720" cy="174600"/>
              </a:xfrm>
              <a:prstGeom prst="leftRightArrow">
                <a:avLst>
                  <a:gd name="adj1" fmla="val 50000"/>
                  <a:gd name="adj2" fmla="val 66782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360" y="5911920"/>
                <a:ext cx="2890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198360" y="5192640"/>
                <a:ext cx="1360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Times New Roman"/>
                  </a:rPr>
                  <a:t>Reference Fil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05080" y="5322960"/>
                <a:ext cx="1463400" cy="107784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3280" y="5375160"/>
                <a:ext cx="1096920" cy="185760"/>
              </a:xfrm>
              <a:prstGeom prst="rightArrow">
                <a:avLst>
                  <a:gd name="adj1" fmla="val 49593"/>
                  <a:gd name="adj2" fmla="val 74141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76360" y="5442120"/>
                <a:ext cx="1317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rofi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cquisi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1" lang="en-GB" sz="1800" spc="-1" strike="noStrike">
                    <a:solidFill>
                      <a:srgbClr val="ffff00"/>
                    </a:solidFill>
                    <a:latin typeface="Times New Roman"/>
                  </a:rPr>
                  <a:t>yst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067440" y="1430280"/>
              <a:ext cx="4328640" cy="2440080"/>
              <a:chOff x="6067440" y="1430280"/>
              <a:chExt cx="4328640" cy="2440080"/>
            </a:xfrm>
          </p:grpSpPr>
          <p:sp>
            <p:nvSpPr>
              <p:cNvPr id="493" name=""/>
              <p:cNvSpPr/>
              <p:nvPr/>
            </p:nvSpPr>
            <p:spPr>
              <a:xfrm>
                <a:off x="6067440" y="2070000"/>
                <a:ext cx="1322280" cy="180036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02360" y="2119320"/>
                <a:ext cx="14400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edia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8096400" y="2470320"/>
                <a:ext cx="1939320" cy="291960"/>
                <a:chOff x="8096400" y="2470320"/>
                <a:chExt cx="1939320" cy="2919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809640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951480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09920" y="2470320"/>
                  <a:ext cx="520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ffffff"/>
                      </a:solidFill>
                      <a:latin typeface="Times New Roman"/>
                    </a:rPr>
                    <a:t>…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8128440" y="1430280"/>
                <a:ext cx="1765800" cy="3222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fffff"/>
                    </a:solidFill>
                    <a:latin typeface="Times New Roman"/>
                  </a:rPr>
                  <a:t>EXPLOITATION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435800" y="1847880"/>
                <a:ext cx="2960280" cy="674640"/>
                <a:chOff x="7435800" y="1847880"/>
                <a:chExt cx="2960280" cy="6746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435800" y="2066760"/>
                  <a:ext cx="1217520" cy="45576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442440" y="2048040"/>
                  <a:ext cx="585720" cy="455400"/>
                </a:xfrm>
                <a:prstGeom prst="rect">
                  <a:avLst/>
                </a:prstGeom>
                <a:solidFill>
                  <a:srgbClr val="00008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503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10158120" y="2131920"/>
                  <a:ext cx="23796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>
                  <a:off x="8750160" y="2187720"/>
                  <a:ext cx="586080" cy="176040"/>
                </a:xfrm>
                <a:prstGeom prst="leftRightArrow">
                  <a:avLst>
                    <a:gd name="adj1" fmla="val 50000"/>
                    <a:gd name="adj2" fmla="val 66277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82200" y="1847880"/>
                  <a:ext cx="5205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afd00"/>
                      </a:solidFill>
                      <a:latin typeface="Times New Roman"/>
                    </a:rPr>
                    <a:t>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D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560720" y="2212920"/>
                  <a:ext cx="904320" cy="17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0800" bIns="10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Exploitation # 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9550440" y="2165400"/>
                  <a:ext cx="520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U # 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435800" y="2521080"/>
                <a:ext cx="2960280" cy="674640"/>
                <a:chOff x="7435800" y="2521080"/>
                <a:chExt cx="2960280" cy="6746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435800" y="2739960"/>
                  <a:ext cx="1217520" cy="45576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9442440" y="2721240"/>
                  <a:ext cx="585720" cy="455400"/>
                </a:xfrm>
                <a:prstGeom prst="rect">
                  <a:avLst/>
                </a:prstGeom>
                <a:solidFill>
                  <a:srgbClr val="00008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511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10158120" y="2805120"/>
                  <a:ext cx="23796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2" name=""/>
                <p:cNvSpPr/>
                <p:nvPr/>
              </p:nvSpPr>
              <p:spPr>
                <a:xfrm>
                  <a:off x="8750160" y="2860920"/>
                  <a:ext cx="586080" cy="176040"/>
                </a:xfrm>
                <a:prstGeom prst="leftRightArrow">
                  <a:avLst>
                    <a:gd name="adj1" fmla="val 50000"/>
                    <a:gd name="adj2" fmla="val 66277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782200" y="2521080"/>
                  <a:ext cx="5205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afd00"/>
                      </a:solidFill>
                      <a:latin typeface="Times New Roman"/>
                    </a:rPr>
                    <a:t>WE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DIP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561080" y="2886120"/>
                  <a:ext cx="910440" cy="17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0800" bIns="10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Exploitation # 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9550440" y="2838600"/>
                  <a:ext cx="520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Times New Roman"/>
                    </a:rPr>
                    <a:t>U # 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6097320" y="3105000"/>
              <a:ext cx="2125800" cy="657000"/>
              <a:chOff x="6097320" y="3105000"/>
              <a:chExt cx="2125800" cy="657000"/>
            </a:xfrm>
          </p:grpSpPr>
          <p:sp>
            <p:nvSpPr>
              <p:cNvPr id="517" name=""/>
              <p:cNvSpPr/>
              <p:nvPr/>
            </p:nvSpPr>
            <p:spPr>
              <a:xfrm>
                <a:off x="6097320" y="3105000"/>
                <a:ext cx="1045080" cy="657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0800" bIns="10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nowledge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arvesting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171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7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3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443720" y="3421080"/>
                <a:ext cx="779400" cy="322200"/>
                <a:chOff x="7443720" y="3421080"/>
                <a:chExt cx="779400" cy="322200"/>
              </a:xfrm>
            </p:grpSpPr>
            <p:pic>
              <p:nvPicPr>
                <p:cNvPr id="5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4400" y="342108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0" name=""/>
                <p:cNvSpPr/>
                <p:nvPr/>
              </p:nvSpPr>
              <p:spPr>
                <a:xfrm>
                  <a:off x="7443720" y="352440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6039000" y="4146480"/>
              <a:ext cx="2214360" cy="2262240"/>
              <a:chOff x="6039000" y="4146480"/>
              <a:chExt cx="2214360" cy="2262240"/>
            </a:xfrm>
          </p:grpSpPr>
          <p:sp>
            <p:nvSpPr>
              <p:cNvPr id="522" name=""/>
              <p:cNvSpPr/>
              <p:nvPr/>
            </p:nvSpPr>
            <p:spPr>
              <a:xfrm>
                <a:off x="6064200" y="4146480"/>
                <a:ext cx="1330200" cy="104472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63920" y="4179960"/>
                <a:ext cx="1227600" cy="99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4000" rIns="54000" tIns="46800" bIns="46800" anchor="t">
                <a:spAutoFit/>
              </a:bodyPr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sse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M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nagement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	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of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utonomou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361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GB" sz="1500" spc="-1" strike="noStrike">
                    <a:solidFill>
                      <a:srgbClr val="fafd00"/>
                    </a:solidFill>
                    <a:latin typeface="Times New Roman"/>
                  </a:rPr>
                  <a:t>ackag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6039000" y="5592600"/>
                <a:ext cx="1351800" cy="816120"/>
                <a:chOff x="6039000" y="5592600"/>
                <a:chExt cx="1351800" cy="816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039000" y="5592600"/>
                  <a:ext cx="1341360" cy="816120"/>
                </a:xfrm>
                <a:prstGeom prst="rect">
                  <a:avLst/>
                </a:prstGeom>
                <a:solidFill>
                  <a:srgbClr val="8000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091200" y="5670360"/>
                  <a:ext cx="1299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sset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P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reservation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171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r>
                    <a:rPr b="1" lang="en-GB" sz="1500" spc="-1" strike="noStrike">
                      <a:solidFill>
                        <a:srgbClr val="fafd00"/>
                      </a:solidFill>
                      <a:latin typeface="Times New Roman"/>
                    </a:rPr>
                    <a:t>anagement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307200" y="4879800"/>
                <a:ext cx="740160" cy="69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7473960" y="5803920"/>
                <a:ext cx="779400" cy="322200"/>
                <a:chOff x="7473960" y="5803920"/>
                <a:chExt cx="779400" cy="32220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64640" y="580392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0" name=""/>
                <p:cNvSpPr/>
                <p:nvPr/>
              </p:nvSpPr>
              <p:spPr>
                <a:xfrm>
                  <a:off x="7473960" y="590724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7443720" y="4468680"/>
                <a:ext cx="779400" cy="322200"/>
                <a:chOff x="7443720" y="4468680"/>
                <a:chExt cx="779400" cy="322200"/>
              </a:xfrm>
            </p:grpSpPr>
            <p:pic>
              <p:nvPicPr>
                <p:cNvPr id="53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934400" y="4468680"/>
                  <a:ext cx="288720" cy="32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3" name=""/>
                <p:cNvSpPr/>
                <p:nvPr/>
              </p:nvSpPr>
              <p:spPr>
                <a:xfrm>
                  <a:off x="7443720" y="4572000"/>
                  <a:ext cx="425520" cy="126720"/>
                </a:xfrm>
                <a:prstGeom prst="leftRightArrow">
                  <a:avLst>
                    <a:gd name="adj1" fmla="val 50000"/>
                    <a:gd name="adj2" fmla="val 66848"/>
                  </a:avLst>
                </a:prstGeom>
                <a:solidFill>
                  <a:srgbClr val="ff9900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"/>
            <p:cNvGrpSpPr/>
            <p:nvPr/>
          </p:nvGrpSpPr>
          <p:grpSpPr>
            <a:xfrm>
              <a:off x="2744280" y="1093680"/>
              <a:ext cx="6683760" cy="6070680"/>
              <a:chOff x="2744280" y="1093680"/>
              <a:chExt cx="6683760" cy="607068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5743440" y="1360440"/>
                <a:ext cx="20880" cy="5762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139560" y="1360440"/>
                <a:ext cx="17640" cy="5767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149640" y="1830240"/>
                <a:ext cx="6278400" cy="5334120"/>
                <a:chOff x="3149640" y="1830240"/>
                <a:chExt cx="6278400" cy="53341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8992800" y="1830240"/>
                  <a:ext cx="9720" cy="52498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16200000">
                  <a:off x="8006760" y="5086440"/>
                  <a:ext cx="19389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0520" rIns="20520" tIns="13680" bIns="136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ACE =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A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utonomous</a:t>
                  </a: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C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ontent </a:t>
                  </a:r>
                  <a:r>
                    <a:rPr b="1" lang="en-GB" sz="1500" spc="-1" strike="noStrike">
                      <a:solidFill>
                        <a:srgbClr val="ffe575"/>
                      </a:solidFill>
                      <a:latin typeface="Times New Roman"/>
                    </a:rPr>
                    <a:t>E</a:t>
                  </a:r>
                  <a:r>
                    <a:rPr b="1" lang="en-GB" sz="1100" spc="-1" strike="noStrike">
                      <a:solidFill>
                        <a:srgbClr val="ffffff"/>
                      </a:solidFill>
                      <a:latin typeface="Times New Roman"/>
                    </a:rPr>
                    <a:t>ntities</a:t>
                  </a:r>
                  <a:endParaRPr b="0" lang="en-US" sz="11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3149640" y="6504120"/>
                  <a:ext cx="6278400" cy="660240"/>
                  <a:chOff x="3149640" y="6504120"/>
                  <a:chExt cx="6278400" cy="6602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756480" y="6556320"/>
                    <a:ext cx="452520" cy="407880"/>
                  </a:xfrm>
                  <a:prstGeom prst="foldedCorner">
                    <a:avLst>
                      <a:gd name="adj" fmla="val 44333"/>
                    </a:avLst>
                  </a:prstGeom>
                  <a:solidFill>
                    <a:srgbClr val="333300"/>
                  </a:solidFill>
                  <a:ln w="255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208640" y="6508800"/>
                    <a:ext cx="131004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7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OAIS</a:t>
                    </a:r>
                    <a:endParaRPr b="0" lang="en-US" sz="1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3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ference model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3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(ISO 14 721)</a:t>
                    </a:r>
                    <a:endParaRPr b="0" lang="en-US" sz="1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5703840" y="6535800"/>
                    <a:ext cx="892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IP / S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537400" y="6504120"/>
                    <a:ext cx="8906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-D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5767200" y="6789600"/>
                    <a:ext cx="9442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253280" y="6780240"/>
                    <a:ext cx="170964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149640" y="6535800"/>
                    <a:ext cx="892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IP / SIP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8" name=""/>
              <p:cNvGrpSpPr/>
              <p:nvPr/>
            </p:nvGrpSpPr>
            <p:grpSpPr>
              <a:xfrm>
                <a:off x="2744280" y="1093680"/>
                <a:ext cx="3444480" cy="5695920"/>
                <a:chOff x="2744280" y="1093680"/>
                <a:chExt cx="3444480" cy="56959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521320" y="2073240"/>
                  <a:ext cx="482760" cy="4335480"/>
                </a:xfrm>
                <a:prstGeom prst="rect">
                  <a:avLst/>
                </a:prstGeom>
                <a:solidFill>
                  <a:srgbClr val="339966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351040" y="1095480"/>
                  <a:ext cx="8377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X-AXIS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553000" y="1495440"/>
                  <a:ext cx="452520" cy="407880"/>
                </a:xfrm>
                <a:prstGeom prst="foldedCorner">
                  <a:avLst>
                    <a:gd name="adj" fmla="val 44333"/>
                  </a:avLst>
                </a:prstGeom>
                <a:solidFill>
                  <a:srgbClr val="333300"/>
                </a:soli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510000" y="1241280"/>
                  <a:ext cx="180036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13680" bIns="136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AXIS eXchang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Open Specification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914560" y="2062080"/>
                  <a:ext cx="482760" cy="4343400"/>
                </a:xfrm>
                <a:prstGeom prst="rect">
                  <a:avLst/>
                </a:prstGeom>
                <a:solidFill>
                  <a:srgbClr val="339966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6200000">
                  <a:off x="1251720" y="4116960"/>
                  <a:ext cx="3814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Times New Roman"/>
                    </a:rPr>
                    <a:t>ARE’s /Opus/Media/Profile/Labels/ Id Fountain  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44280" y="1093680"/>
                  <a:ext cx="83772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ffffff"/>
                      </a:solidFill>
                      <a:latin typeface="Times New Roman"/>
                    </a:rPr>
                    <a:t>X-AXIS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46240" y="1494000"/>
                  <a:ext cx="452520" cy="407880"/>
                </a:xfrm>
                <a:prstGeom prst="foldedCorner">
                  <a:avLst>
                    <a:gd name="adj" fmla="val 44333"/>
                  </a:avLst>
                </a:prstGeom>
                <a:solidFill>
                  <a:srgbClr val="333300"/>
                </a:solidFill>
                <a:ln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06760" y="3313080"/>
                  <a:ext cx="1920960" cy="684360"/>
                </a:xfrm>
                <a:prstGeom prst="leftRightArrow">
                  <a:avLst>
                    <a:gd name="adj1" fmla="val 56287"/>
                    <a:gd name="adj2" fmla="val 47913"/>
                  </a:avLst>
                </a:prstGeom>
                <a:solidFill>
                  <a:srgbClr val="fc0128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fr-BE" sz="2400" spc="-1" strike="noStrike">
                      <a:solidFill>
                        <a:srgbClr val="1cfc1c"/>
                      </a:solidFill>
                      <a:latin typeface="Times New Roman"/>
                    </a:rPr>
                    <a:t>AXE’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584520" y="1893960"/>
                  <a:ext cx="171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</a:rPr>
                    <a:t>AIP / SI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</a:rPr>
                    <a:t>expressed </a:t>
                  </a:r>
                  <a:r>
                    <a:rPr b="1" lang="en-GB" sz="1600" spc="-1" strike="noStrike">
                      <a:solidFill>
                        <a:srgbClr val="ffffff"/>
                      </a:solidFill>
                      <a:latin typeface="Times New Roman"/>
                    </a:rPr>
                    <a:t>a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701520" y="2424240"/>
                  <a:ext cx="14425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A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utonomou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ff99"/>
                      </a:solidFill>
                      <a:latin typeface="Times New Roman"/>
                    </a:rPr>
                    <a:t>e</a:t>
                  </a: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X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chang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ff00"/>
                      </a:solidFill>
                      <a:latin typeface="Times New Roman"/>
                    </a:rPr>
                    <a:t>E</a:t>
                  </a:r>
                  <a:r>
                    <a:rPr b="1" lang="en-GB" sz="1800" spc="-1" strike="noStrike">
                      <a:solidFill>
                        <a:srgbClr val="ffff99"/>
                      </a:solidFill>
                      <a:latin typeface="Times New Roman"/>
                    </a:rPr>
                    <a:t>ntiti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16200000">
                  <a:off x="3853440" y="4129560"/>
                  <a:ext cx="38149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ffff"/>
                      </a:solidFill>
                      <a:latin typeface="Times New Roman"/>
                    </a:rPr>
                    <a:t>ARE’s /Opus/Media/Profile/Labels/ Id Fountain  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3195720" y="6789600"/>
                  <a:ext cx="2519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2" name=""/>
                <p:cNvGrpSpPr/>
                <p:nvPr/>
              </p:nvGrpSpPr>
              <p:grpSpPr>
                <a:xfrm>
                  <a:off x="4049640" y="5149800"/>
                  <a:ext cx="719280" cy="1472760"/>
                  <a:chOff x="4049640" y="5149800"/>
                  <a:chExt cx="719280" cy="147276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049640" y="5149800"/>
                    <a:ext cx="719280" cy="296280"/>
                    <a:chOff x="4049640" y="5149800"/>
                    <a:chExt cx="719280" cy="296280"/>
                  </a:xfrm>
                </p:grpSpPr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4049640" y="5149800"/>
                      <a:ext cx="719280" cy="296280"/>
                      <a:chOff x="4049640" y="5149800"/>
                      <a:chExt cx="719280" cy="296280"/>
                    </a:xfrm>
                  </p:grpSpPr>
                  <p:grpSp>
                    <p:nvGrpSpPr>
                      <p:cNvPr id="565" name=""/>
                      <p:cNvGrpSpPr/>
                      <p:nvPr/>
                    </p:nvGrpSpPr>
                    <p:grpSpPr>
                      <a:xfrm>
                        <a:off x="4049640" y="5149800"/>
                        <a:ext cx="719280" cy="296280"/>
                        <a:chOff x="4049640" y="5149800"/>
                        <a:chExt cx="719280" cy="296280"/>
                      </a:xfrm>
                    </p:grpSpPr>
                    <p:grpSp>
                      <p:nvGrpSpPr>
                        <p:cNvPr id="566" name=""/>
                        <p:cNvGrpSpPr/>
                        <p:nvPr/>
                      </p:nvGrpSpPr>
                      <p:grpSpPr>
                        <a:xfrm>
                          <a:off x="4049640" y="5211360"/>
                          <a:ext cx="717480" cy="234720"/>
                          <a:chOff x="4049640" y="5211360"/>
                          <a:chExt cx="717480" cy="234720"/>
                        </a:xfrm>
                      </p:grpSpPr>
                      <p:grpSp>
                        <p:nvGrpSpPr>
                          <p:cNvPr id="567" name=""/>
                          <p:cNvGrpSpPr/>
                          <p:nvPr/>
                        </p:nvGrpSpPr>
                        <p:grpSpPr>
                          <a:xfrm>
                            <a:off x="4090680" y="5214240"/>
                            <a:ext cx="324000" cy="231480"/>
                            <a:chOff x="4090680" y="5214240"/>
                            <a:chExt cx="324000" cy="231480"/>
                          </a:xfrm>
                        </p:grpSpPr>
                        <p:sp>
                          <p:nvSpPr>
                            <p:cNvPr id="568" name=""/>
                            <p:cNvSpPr/>
                            <p:nvPr/>
                          </p:nvSpPr>
                          <p:spPr>
                            <a:xfrm>
                              <a:off x="4139640" y="5214240"/>
                              <a:ext cx="211320" cy="231480"/>
                            </a:xfrm>
                            <a:prstGeom prst="rect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" name=""/>
                            <p:cNvSpPr/>
                            <p:nvPr/>
                          </p:nvSpPr>
                          <p:spPr>
                            <a:xfrm>
                              <a:off x="4090680" y="5238720"/>
                              <a:ext cx="324000" cy="198360"/>
                            </a:xfrm>
                            <a:prstGeom prst="ellipse">
                              <a:avLst/>
                            </a:prstGeom>
                            <a:solidFill>
                              <a:srgbClr val="ced0ba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0" name=""/>
                            <p:cNvSpPr/>
                            <p:nvPr/>
                          </p:nvSpPr>
                          <p:spPr>
                            <a:xfrm>
                              <a:off x="4159080" y="5283000"/>
                              <a:ext cx="186840" cy="1108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1680" bIns="31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1" name=""/>
                            <p:cNvSpPr/>
                            <p:nvPr/>
                          </p:nvSpPr>
                          <p:spPr>
                            <a:xfrm>
                              <a:off x="4221360" y="5318640"/>
                              <a:ext cx="60840" cy="38520"/>
                            </a:xfrm>
                            <a:prstGeom prst="ellipse">
                              <a:avLst/>
                            </a:prstGeom>
                            <a:solidFill>
                              <a:srgbClr val="ced0ba"/>
                            </a:solidFill>
                            <a:ln w="50760">
                              <a:solidFill>
                                <a:srgbClr val="009688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9080" bIns="-19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2" name=""/>
                            <p:cNvSpPr/>
                            <p:nvPr/>
                          </p:nvSpPr>
                          <p:spPr>
                            <a:xfrm rot="3240000">
                              <a:off x="4152600" y="5288760"/>
                              <a:ext cx="122760" cy="37440"/>
                            </a:xfrm>
                            <a:prstGeom prst="roundRect">
                              <a:avLst>
                                <a:gd name="adj" fmla="val 41639"/>
                              </a:avLst>
                            </a:prstGeom>
                            <a:solidFill>
                              <a:srgbClr val="ced0ba"/>
                            </a:solidFill>
                            <a:ln w="1260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000" bIns="-18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>
                            <a:off x="4300200" y="5211360"/>
                            <a:ext cx="466920" cy="234720"/>
                          </a:xfrm>
                          <a:prstGeom prst="rect">
                            <a:avLst/>
                          </a:prstGeom>
                          <a:solidFill>
                            <a:srgbClr val="777777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>
                            <a:off x="4049640" y="5211360"/>
                            <a:ext cx="147240" cy="234720"/>
                          </a:xfrm>
                          <a:prstGeom prst="rect">
                            <a:avLst/>
                          </a:prstGeom>
                          <a:solidFill>
                            <a:srgbClr val="777777"/>
                          </a:solidFill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4049640" y="5149800"/>
                          <a:ext cx="719280" cy="69840"/>
                        </a:xfrm>
                        <a:prstGeom prst="rect">
                          <a:avLst/>
                        </a:prstGeom>
                        <a:solidFill>
                          <a:srgbClr val="ffcc0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3040" bIns="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4212000" y="5228280"/>
                        <a:ext cx="75240" cy="64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640" bIns="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4357800" y="5287680"/>
                      <a:ext cx="372240" cy="129960"/>
                    </a:xfrm>
                    <a:prstGeom prst="roundRect">
                      <a:avLst>
                        <a:gd name="adj" fmla="val 12486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4383000" y="5296320"/>
                      <a:ext cx="329400" cy="116280"/>
                    </a:xfrm>
                    <a:prstGeom prst="rect">
                      <a:avLst/>
                    </a:prstGeom>
                    <a:solidFill>
                      <a:srgbClr val="009688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5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08320" y="6336720"/>
                    <a:ext cx="5976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29280" y="5990040"/>
                    <a:ext cx="358560" cy="2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08320" y="5545440"/>
                    <a:ext cx="585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82" name=""/>
                <p:cNvSpPr/>
                <p:nvPr/>
              </p:nvSpPr>
              <p:spPr>
                <a:xfrm>
                  <a:off x="3510000" y="1709640"/>
                  <a:ext cx="1935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525120" y="4691160"/>
                  <a:ext cx="196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00"/>
                      </a:solidFill>
                      <a:latin typeface="Times New Roman"/>
                    </a:rPr>
                    <a:t>FTP / TCP-IP / 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526920" y="4124160"/>
                  <a:ext cx="193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ffff"/>
                      </a:solidFill>
                      <a:latin typeface="Times New Roman"/>
                    </a:rPr>
                    <a:t>METS / MXF / FF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39720" y="4410000"/>
                  <a:ext cx="229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ccffcc"/>
                      </a:solidFill>
                      <a:latin typeface="Times New Roman"/>
                    </a:rPr>
                    <a:t>MODS + ZIP / RAR / …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6" name=""/>
          <p:cNvGrpSpPr/>
          <p:nvPr/>
        </p:nvGrpSpPr>
        <p:grpSpPr>
          <a:xfrm>
            <a:off x="3281400" y="3036960"/>
            <a:ext cx="4005360" cy="1739880"/>
            <a:chOff x="3281400" y="3036960"/>
            <a:chExt cx="4005360" cy="1739880"/>
          </a:xfrm>
        </p:grpSpPr>
        <p:sp>
          <p:nvSpPr>
            <p:cNvPr id="587" name=""/>
            <p:cNvSpPr/>
            <p:nvPr/>
          </p:nvSpPr>
          <p:spPr>
            <a:xfrm>
              <a:off x="3281400" y="4097160"/>
              <a:ext cx="2305080" cy="67968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32520" y="3036960"/>
              <a:ext cx="2154240" cy="757080"/>
            </a:xfrm>
            <a:prstGeom prst="wedgeRoundRectCallout">
              <a:avLst>
                <a:gd name="adj1" fmla="val -42481"/>
                <a:gd name="adj2" fmla="val 88157"/>
                <a:gd name="adj3" fmla="val 16667"/>
              </a:avLst>
            </a:prstGeom>
            <a:solidFill>
              <a:srgbClr val="ff00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36180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Wrapper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031760" y="2925720"/>
            <a:ext cx="834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CONTEX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531720" y="485640"/>
            <a:ext cx="9549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9906120"/>
                <a:tab algn="l" pos="105822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ERSISTENC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the ability of a technology &amp; organizational system to ensure to the </a:t>
            </a:r>
            <a:r>
              <a:rPr b="1" i="1" lang="en-US" sz="2900" spc="-1" strike="noStrike">
                <a:solidFill>
                  <a:srgbClr val="ffff99"/>
                </a:solidFill>
                <a:latin typeface="Garamond"/>
              </a:rPr>
              <a:t>citizen of today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that the </a:t>
            </a:r>
            <a:r>
              <a:rPr b="1" i="1" lang="en-US" sz="2900" spc="-1" strike="noStrike">
                <a:solidFill>
                  <a:srgbClr val="ffff99"/>
                </a:solidFill>
                <a:latin typeface="Garamond"/>
              </a:rPr>
              <a:t>citizen of tomorrow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will be capable of </a:t>
            </a:r>
            <a:r>
              <a:rPr b="1" i="1" lang="en-US" sz="2900" spc="-1" strike="noStrike">
                <a:solidFill>
                  <a:srgbClr val="ffff99"/>
                </a:solidFill>
                <a:latin typeface="Garamond"/>
              </a:rPr>
              <a:t>enjoying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the current cultural, sociological, economic, … </a:t>
            </a: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assets.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990612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bdelazis Habid (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Memory of the World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) UNESCO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370720" y="4286160"/>
            <a:ext cx="1890720" cy="2395440"/>
            <a:chOff x="8370720" y="4286160"/>
            <a:chExt cx="1890720" cy="2395440"/>
          </a:xfrm>
        </p:grpSpPr>
        <p:sp>
          <p:nvSpPr>
            <p:cNvPr id="592" name=""/>
            <p:cNvSpPr/>
            <p:nvPr/>
          </p:nvSpPr>
          <p:spPr>
            <a:xfrm>
              <a:off x="8370720" y="4286160"/>
              <a:ext cx="1890720" cy="2395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3" name="" descr=""/>
            <p:cNvPicPr/>
            <p:nvPr/>
          </p:nvPicPr>
          <p:blipFill>
            <a:blip r:embed="rId1"/>
            <a:stretch/>
          </p:blipFill>
          <p:spPr>
            <a:xfrm flipH="1">
              <a:off x="8612280" y="5646600"/>
              <a:ext cx="128880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8774280" y="4289400"/>
              <a:ext cx="1036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37800" bIns="37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Garamond"/>
                </a:rPr>
                <a:t>User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2"/>
            <a:stretch/>
          </p:blipFill>
          <p:spPr>
            <a:xfrm>
              <a:off x="9104400" y="5321160"/>
              <a:ext cx="301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8488440" y="4779720"/>
              <a:ext cx="1638360" cy="335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ive in evid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070000" y="2813040"/>
            <a:ext cx="6224400" cy="3863520"/>
            <a:chOff x="2070000" y="2813040"/>
            <a:chExt cx="6224400" cy="3863520"/>
          </a:xfrm>
        </p:grpSpPr>
        <p:sp>
          <p:nvSpPr>
            <p:cNvPr id="598" name=""/>
            <p:cNvSpPr/>
            <p:nvPr/>
          </p:nvSpPr>
          <p:spPr>
            <a:xfrm>
              <a:off x="2386080" y="2813040"/>
              <a:ext cx="5040000" cy="3863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04640" y="4461120"/>
              <a:ext cx="1216440" cy="1994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2100" spc="-1" strike="noStrike">
                  <a:solidFill>
                    <a:srgbClr val="ffffff"/>
                  </a:solidFill>
                  <a:latin typeface="Garamond"/>
                </a:rPr>
                <a:t>IT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2100" spc="-1" strike="noStrike">
                  <a:solidFill>
                    <a:srgbClr val="ffffff"/>
                  </a:solidFill>
                  <a:latin typeface="Garamond"/>
                </a:rPr>
                <a:t>Syste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50680" y="3903120"/>
              <a:ext cx="19501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Garamond"/>
                </a:rPr>
                <a:t>Management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20360" y="2949480"/>
              <a:ext cx="2096640" cy="1415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5747760" y="3017880"/>
              <a:ext cx="1002240" cy="96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571840" y="2962800"/>
              <a:ext cx="2039400" cy="2718360"/>
            </a:xfrm>
            <a:prstGeom prst="rect">
              <a:avLst/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45720" y="4401360"/>
              <a:ext cx="1685160" cy="1145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4"/>
            <a:stretch/>
          </p:blipFill>
          <p:spPr>
            <a:xfrm>
              <a:off x="2876040" y="4478040"/>
              <a:ext cx="1419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2636640" y="5244840"/>
              <a:ext cx="19087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Garamond"/>
                </a:rPr>
                <a:t>Archives </a:t>
              </a:r>
              <a:r>
                <a:rPr b="1" lang="fr-FR" sz="1300" spc="-1" strike="noStrike">
                  <a:solidFill>
                    <a:srgbClr val="ffffff"/>
                  </a:solidFill>
                  <a:latin typeface="Garamond"/>
                </a:rPr>
                <a:t>(Digital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35640" y="3034440"/>
              <a:ext cx="1694880" cy="12067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0800" y="3900960"/>
              <a:ext cx="19332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Archives </a:t>
              </a:r>
              <a:r>
                <a:rPr b="1" lang="en-US" sz="1300" spc="-1" strike="noStrike">
                  <a:solidFill>
                    <a:srgbClr val="ffffff"/>
                  </a:solidFill>
                  <a:latin typeface="Garamond"/>
                </a:rPr>
                <a:t>(Analog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5"/>
            <a:stretch/>
          </p:blipFill>
          <p:spPr>
            <a:xfrm>
              <a:off x="3003480" y="3039480"/>
              <a:ext cx="90180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80000" y="4439880"/>
              <a:ext cx="990720" cy="621720"/>
            </a:xfrm>
            <a:prstGeom prst="leftRightArrow">
              <a:avLst>
                <a:gd name="adj1" fmla="val 49870"/>
                <a:gd name="adj2" fmla="val 31922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Logistic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6080" y="5711400"/>
              <a:ext cx="1228320" cy="581400"/>
            </a:xfrm>
            <a:prstGeom prst="leftRightArrow">
              <a:avLst>
                <a:gd name="adj1" fmla="val 50000"/>
                <a:gd name="adj2" fmla="val 42058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700" spc="-1" strike="noStrike">
                  <a:solidFill>
                    <a:srgbClr val="ffffff"/>
                  </a:solidFill>
                  <a:latin typeface="Garamond"/>
                </a:rPr>
                <a:t>Networks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70000" y="5711400"/>
              <a:ext cx="3601080" cy="581400"/>
            </a:xfrm>
            <a:prstGeom prst="leftRightArrow">
              <a:avLst>
                <a:gd name="adj1" fmla="val 46593"/>
                <a:gd name="adj2" fmla="val 35786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900" spc="-1" strike="noStrike">
                  <a:solidFill>
                    <a:srgbClr val="ffffff"/>
                  </a:solidFill>
                  <a:latin typeface="Garamond"/>
                </a:rPr>
                <a:t>Acquisitio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5000" y="4270320"/>
            <a:ext cx="1890720" cy="2395440"/>
            <a:chOff x="135000" y="4270320"/>
            <a:chExt cx="1890720" cy="2395440"/>
          </a:xfrm>
        </p:grpSpPr>
        <p:sp>
          <p:nvSpPr>
            <p:cNvPr id="614" name=""/>
            <p:cNvSpPr/>
            <p:nvPr/>
          </p:nvSpPr>
          <p:spPr>
            <a:xfrm>
              <a:off x="135000" y="4270320"/>
              <a:ext cx="1890720" cy="2395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6"/>
            <a:stretch/>
          </p:blipFill>
          <p:spPr>
            <a:xfrm>
              <a:off x="376200" y="5630760"/>
              <a:ext cx="12891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38200" y="4273560"/>
              <a:ext cx="10364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37800" bIns="37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Garamond"/>
                </a:rPr>
                <a:t>Author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7"/>
            <a:stretch/>
          </p:blipFill>
          <p:spPr>
            <a:xfrm flipH="1">
              <a:off x="868320" y="5305320"/>
              <a:ext cx="301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52360" y="4763880"/>
              <a:ext cx="1638360" cy="335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ive in evid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9280" y="1574640"/>
            <a:ext cx="1008216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SS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Declaration of the </a:t>
            </a:r>
            <a:r>
              <a:rPr b="1" lang="en-US" sz="2500" spc="-1" strike="noStrike">
                <a:solidFill>
                  <a:srgbClr val="ffff99"/>
                </a:solidFill>
                <a:latin typeface="Garamond"/>
              </a:rPr>
              <a:t>existence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of an “ASSET”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ONTOLOG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99"/>
                </a:solidFill>
                <a:latin typeface="Garamond"/>
              </a:rPr>
              <a:t>Modeling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of the “Assets” and of their </a:t>
            </a:r>
            <a:r>
              <a:rPr b="1" lang="en-US" sz="2500" spc="-1" strike="noStrike">
                <a:solidFill>
                  <a:srgbClr val="ffff99"/>
                </a:solidFill>
                <a:latin typeface="Garamond"/>
              </a:rPr>
              <a:t>presentation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uch as to obtai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powerful representation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SEMANTI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independence of the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moments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PERSISTEN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independence of the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places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NOMADI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independence of the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formats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EVOLU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ENRICHMEN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MIGRA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28584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31760" y="2925720"/>
            <a:ext cx="834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The DATA MODE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844640" y="3138480"/>
            <a:ext cx="2970360" cy="67464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14720" y="263520"/>
            <a:ext cx="5930640" cy="53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key constructs of 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23920" y="2462040"/>
            <a:ext cx="0" cy="6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69280" y="2611440"/>
            <a:ext cx="1511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s defined b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9280" y="1878120"/>
            <a:ext cx="1703520" cy="593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280" y="1968480"/>
            <a:ext cx="155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Y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35720" y="3308400"/>
            <a:ext cx="2079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OCUMENT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443480" y="3497400"/>
            <a:ext cx="3027240" cy="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sm" type="diamond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3363840"/>
            <a:ext cx="285840" cy="2700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11560" y="3127320"/>
            <a:ext cx="1918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RELATION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85200" y="3319200"/>
            <a:ext cx="25430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d link to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OCUME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hysical OBJ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800360" y="2874960"/>
            <a:ext cx="2970000" cy="67464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14720" y="263520"/>
            <a:ext cx="5930640" cy="98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key constructs of 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AXIS-Foot-Print documen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79640" y="2198520"/>
            <a:ext cx="0" cy="6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24640" y="2347920"/>
            <a:ext cx="1511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s defined b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4640" y="1614600"/>
            <a:ext cx="1703520" cy="593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4640" y="1704960"/>
            <a:ext cx="15512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Y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89640" y="3044880"/>
            <a:ext cx="2113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.afp. document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398840" y="3233880"/>
            <a:ext cx="3027600" cy="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sm" type="diamond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65720" y="3100320"/>
            <a:ext cx="285480" cy="2700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67280" y="2863800"/>
            <a:ext cx="1918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RELATION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58200" y="2998440"/>
            <a:ext cx="25430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d link to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OCUME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hysical OBJ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51760" y="3729960"/>
            <a:ext cx="58914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.afp. document is carrying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registration of the ENTIT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Unique Resource Identifiers of the ENTITY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list of documents ‘owned’ by the ENTITY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79280" y="3138480"/>
            <a:ext cx="2970360" cy="67464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09640" y="2462040"/>
            <a:ext cx="0" cy="6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3920" y="1878120"/>
            <a:ext cx="2971800" cy="593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44640" y="1968480"/>
            <a:ext cx="155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Y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19920" y="3286080"/>
            <a:ext cx="1931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OCUMENT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25360" y="5130720"/>
            <a:ext cx="3060720" cy="506520"/>
            <a:chOff x="225360" y="5130720"/>
            <a:chExt cx="3060720" cy="506520"/>
          </a:xfrm>
        </p:grpSpPr>
        <p:sp>
          <p:nvSpPr>
            <p:cNvPr id="650" name=""/>
            <p:cNvSpPr/>
            <p:nvPr/>
          </p:nvSpPr>
          <p:spPr>
            <a:xfrm flipV="1">
              <a:off x="258480" y="5500080"/>
              <a:ext cx="302760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sm" type="diamond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360" y="5367240"/>
              <a:ext cx="285840" cy="270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6920" y="5130720"/>
              <a:ext cx="17704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4400" bIns="14400" anchor="ctr">
              <a:sp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1" lang="en-US" sz="2100" spc="-1" strike="noStrike">
                  <a:solidFill>
                    <a:srgbClr val="ffff00"/>
                  </a:solidFill>
                  <a:latin typeface="Times New Roman"/>
                </a:rPr>
                <a:t>RELATION</a:t>
              </a: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&gt;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2214720" y="263520"/>
            <a:ext cx="5930640" cy="142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key constructs of 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ir representation in X-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81640" y="2025720"/>
            <a:ext cx="3395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s represented by a FOLDE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08200" y="3330720"/>
            <a:ext cx="2907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s represented by a FI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97400" y="5157000"/>
            <a:ext cx="2894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" rIns="21600" tIns="14400" bIns="14400" anchor="ctr">
            <a:spAutoFit/>
          </a:bodyPr>
          <a:p>
            <a:pPr>
              <a:tabLst>
                <a:tab algn="l" pos="0"/>
                <a:tab algn="r" pos="285444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s represented by a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285444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YPERLINK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12720" y="2577600"/>
            <a:ext cx="32626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tandardized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(Expressed by a local copy and / o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Reference to the standard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935760" y="3735360"/>
            <a:ext cx="273240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Locally defined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(Expressed in XML / XSD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24640" y="2565360"/>
            <a:ext cx="270000" cy="1844640"/>
          </a:xfrm>
          <a:custGeom>
            <a:avLst/>
            <a:gdLst>
              <a:gd name="textAreaLeft" fmla="*/ 172440 w 270000"/>
              <a:gd name="textAreaRight" fmla="*/ 270360 w 270000"/>
              <a:gd name="textAreaTop" fmla="*/ 47880 h 1844640"/>
              <a:gd name="textAreaBottom" fmla="*/ 1796760 h 18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25320" y="5918040"/>
            <a:ext cx="348660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Locally defined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(Expressed in XML / X-LINK / XSD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80000" y="4726080"/>
            <a:ext cx="270000" cy="1844640"/>
          </a:xfrm>
          <a:custGeom>
            <a:avLst/>
            <a:gdLst>
              <a:gd name="textAreaLeft" fmla="*/ 172440 w 270000"/>
              <a:gd name="textAreaRight" fmla="*/ 270360 w 270000"/>
              <a:gd name="textAreaTop" fmla="*/ 47880 h 1844640"/>
              <a:gd name="textAreaBottom" fmla="*/ 1796760 h 18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57360" y="4679640"/>
            <a:ext cx="326268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tandardized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(Expressed by a local copy and / o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Reference to the standard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06440" y="1717560"/>
            <a:ext cx="9629640" cy="3926520"/>
            <a:chOff x="406440" y="1717560"/>
            <a:chExt cx="9629640" cy="3926520"/>
          </a:xfrm>
        </p:grpSpPr>
        <p:sp>
          <p:nvSpPr>
            <p:cNvPr id="54" name=""/>
            <p:cNvSpPr/>
            <p:nvPr/>
          </p:nvSpPr>
          <p:spPr>
            <a:xfrm>
              <a:off x="406440" y="1717560"/>
              <a:ext cx="9629640" cy="39265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marL="576360" indent="-480960" algn="ctr">
                <a:lnSpc>
                  <a:spcPct val="100000"/>
                </a:lnSpc>
                <a:tabLst>
                  <a:tab algn="l" pos="0"/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 algn="ctr">
                <a:lnSpc>
                  <a:spcPct val="100000"/>
                </a:lnSpc>
                <a:tabLst>
                  <a:tab algn="l" pos="0"/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 algn="ctr">
                <a:lnSpc>
                  <a:spcPct val="100000"/>
                </a:lnSpc>
                <a:tabLst>
                  <a:tab algn="l" pos="0"/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>
                <a:lnSpc>
                  <a:spcPct val="110000"/>
                </a:lnSpc>
                <a:buClr>
                  <a:srgbClr val="ffffff"/>
                </a:buClr>
                <a:buFont typeface="Garamond"/>
                <a:buAutoNum type="arabicPeriod"/>
                <a:tabLst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3400" spc="-1" strike="noStrike">
                  <a:solidFill>
                    <a:srgbClr val="ffffff"/>
                  </a:solidFill>
                  <a:latin typeface="Garamond"/>
                </a:rPr>
                <a:t>The Objectives of the project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>
                <a:lnSpc>
                  <a:spcPct val="110000"/>
                </a:lnSpc>
                <a:buClr>
                  <a:srgbClr val="ffffff"/>
                </a:buClr>
                <a:buFont typeface="Garamond"/>
                <a:buAutoNum type="arabicPeriod"/>
                <a:tabLst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3400" spc="-1" strike="noStrike">
                  <a:solidFill>
                    <a:srgbClr val="ffffff"/>
                  </a:solidFill>
                  <a:latin typeface="Garamond"/>
                </a:rPr>
                <a:t>The Media Chai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>
                <a:lnSpc>
                  <a:spcPct val="110000"/>
                </a:lnSpc>
                <a:buClr>
                  <a:srgbClr val="ffffff"/>
                </a:buClr>
                <a:buFont typeface="Garamond"/>
                <a:buAutoNum type="arabicPeriod"/>
                <a:tabLst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3400" spc="-1" strike="noStrike">
                  <a:solidFill>
                    <a:srgbClr val="ffffff"/>
                  </a:solidFill>
                  <a:latin typeface="Garamond"/>
                </a:rPr>
                <a:t>The Consortium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76360" indent="-480960">
                <a:lnSpc>
                  <a:spcPct val="110000"/>
                </a:lnSpc>
                <a:buClr>
                  <a:srgbClr val="ffffff"/>
                </a:buClr>
                <a:buFont typeface="Garamond"/>
                <a:buAutoNum type="arabicPeriod"/>
                <a:tabLst>
                  <a:tab algn="l" pos="561960"/>
                  <a:tab algn="l" pos="60404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3400" spc="-1" strike="noStrike">
                  <a:solidFill>
                    <a:srgbClr val="ffffff"/>
                  </a:solidFill>
                  <a:latin typeface="Garamond"/>
                </a:rPr>
                <a:t>The intended Dissemination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1760" y="2143080"/>
              <a:ext cx="834876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124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5000" spc="-1" strike="noStrike">
                  <a:solidFill>
                    <a:srgbClr val="ffffff"/>
                  </a:solidFill>
                  <a:latin typeface="Garamond"/>
                </a:rPr>
                <a:t>Structure of the presentation</a:t>
              </a:r>
              <a:endParaRPr b="0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800360" y="2874960"/>
            <a:ext cx="2970000" cy="67464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14720" y="263520"/>
            <a:ext cx="5930640" cy="142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key constructs of 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ir representation in X-AXI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79640" y="2198520"/>
            <a:ext cx="0" cy="6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4640" y="2347920"/>
            <a:ext cx="1511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s defined b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4640" y="1614600"/>
            <a:ext cx="1703520" cy="593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4640" y="1704960"/>
            <a:ext cx="15512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Y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89640" y="3044880"/>
            <a:ext cx="2113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.afp. document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98840" y="3233880"/>
            <a:ext cx="3027600" cy="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sm" type="diamond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65720" y="3100320"/>
            <a:ext cx="285480" cy="2700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2863800"/>
            <a:ext cx="1918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RELATION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558200" y="2998440"/>
            <a:ext cx="25430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d link to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NT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OCUMEN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00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hysical OBJ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86440" y="3729960"/>
            <a:ext cx="6019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4400" bIns="14400" anchor="ctr">
            <a:spAutoFit/>
          </a:bodyPr>
          <a:p>
            <a:pPr marL="264960" indent="-264960">
              <a:tabLst>
                <a:tab algn="l" pos="0"/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.afp. document is represented according t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RDF standar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DCMI method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buClr>
                <a:srgbClr val="ffffff"/>
              </a:buClr>
              <a:buFont typeface="Times New Roman"/>
              <a:buChar char="•"/>
              <a:tabLst>
                <a:tab algn="l" pos="2649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he OWL standar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 flipV="1">
            <a:off x="9144000" y="4735440"/>
            <a:ext cx="0" cy="1843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3040" y="373320"/>
            <a:ext cx="1816560" cy="78372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600" rIns="57600" tIns="49320" bIns="4932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utonomou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esource (or eXchange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ntity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03520" y="1805040"/>
            <a:ext cx="1049400" cy="377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Opu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665360" y="1530360"/>
            <a:ext cx="0" cy="40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65360" y="1530360"/>
            <a:ext cx="724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5080" y="2309760"/>
            <a:ext cx="711360" cy="3459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700360" y="2205000"/>
            <a:ext cx="0" cy="157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360" y="2489040"/>
            <a:ext cx="49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01080" y="2071800"/>
            <a:ext cx="0" cy="2068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910720" y="1530360"/>
            <a:ext cx="3240" cy="192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98920" y="1757520"/>
            <a:ext cx="1049040" cy="3790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Opu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92520" y="1709640"/>
            <a:ext cx="1049400" cy="37800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OPU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00360" y="315108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24280" y="3014640"/>
            <a:ext cx="811080" cy="3110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30480" y="3000240"/>
            <a:ext cx="569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01080" y="1530360"/>
            <a:ext cx="0" cy="1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794720" y="2135160"/>
            <a:ext cx="711000" cy="2365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1080" y="2276640"/>
            <a:ext cx="583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2560" y="3770280"/>
            <a:ext cx="876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Media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84640" y="1530360"/>
            <a:ext cx="0" cy="1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2560" y="3976560"/>
            <a:ext cx="876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ackage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872560" y="2070000"/>
            <a:ext cx="38160" cy="3845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403200" y="2144880"/>
            <a:ext cx="576720" cy="221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2480" rIns="132480" tIns="11520" bIns="1152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920080" y="2276640"/>
            <a:ext cx="474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38760" y="1711440"/>
            <a:ext cx="1203120" cy="32832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LAB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348840" y="4121280"/>
            <a:ext cx="900000" cy="3045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XIS-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3894120" y="1772280"/>
            <a:ext cx="268200" cy="249120"/>
          </a:xfrm>
          <a:prstGeom prst="uturnArrow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2560" y="4154400"/>
            <a:ext cx="876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Object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896320" y="4264200"/>
            <a:ext cx="452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65440" y="3510000"/>
            <a:ext cx="709560" cy="3445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ci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2560" y="4381560"/>
            <a:ext cx="876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Label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073400" y="3989520"/>
            <a:ext cx="1233360" cy="629640"/>
            <a:chOff x="4073400" y="3989520"/>
            <a:chExt cx="1233360" cy="629640"/>
          </a:xfrm>
        </p:grpSpPr>
        <p:sp>
          <p:nvSpPr>
            <p:cNvPr id="707" name=""/>
            <p:cNvSpPr/>
            <p:nvPr/>
          </p:nvSpPr>
          <p:spPr>
            <a:xfrm>
              <a:off x="4073400" y="3989520"/>
              <a:ext cx="123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73400" y="4214160"/>
              <a:ext cx="123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73400" y="4394520"/>
              <a:ext cx="123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73400" y="4619160"/>
              <a:ext cx="123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79280" y="1755720"/>
            <a:ext cx="1203480" cy="3621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ID FOU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61080" y="1711440"/>
            <a:ext cx="1203480" cy="32832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370720" y="1711440"/>
            <a:ext cx="1203480" cy="32832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PROF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00720" y="2089080"/>
            <a:ext cx="0" cy="1420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04000" y="2122560"/>
            <a:ext cx="709560" cy="34452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08640" y="2309760"/>
            <a:ext cx="492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1520" y="2117880"/>
            <a:ext cx="0" cy="853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00720" y="1530360"/>
            <a:ext cx="0" cy="1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30720" y="333072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74800" y="2309760"/>
            <a:ext cx="711000" cy="3459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1520" y="2489040"/>
            <a:ext cx="49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66880" y="2790720"/>
            <a:ext cx="709560" cy="306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mp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36720" y="2859120"/>
            <a:ext cx="709560" cy="306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mp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11240" y="2916360"/>
            <a:ext cx="709560" cy="3078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mp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90440" y="2968560"/>
            <a:ext cx="709920" cy="306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lg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520" y="2971800"/>
            <a:ext cx="49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49640" y="3691080"/>
            <a:ext cx="406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73400" y="3862440"/>
            <a:ext cx="0" cy="9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95360" y="1933560"/>
            <a:ext cx="270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910720" y="2560680"/>
            <a:ext cx="49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56240" y="477720"/>
            <a:ext cx="0" cy="10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17960" y="551880"/>
            <a:ext cx="426960" cy="221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600" rIns="57600" tIns="11520" bIns="1152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02200" y="669960"/>
            <a:ext cx="81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713880" y="4608360"/>
            <a:ext cx="17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913680" y="4495680"/>
            <a:ext cx="3873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528120" y="4608360"/>
            <a:ext cx="1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523440" y="516096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9713880" y="4428720"/>
            <a:ext cx="0" cy="12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532800" y="4876920"/>
            <a:ext cx="181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004680" y="5075280"/>
            <a:ext cx="53532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d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014760" y="4791960"/>
            <a:ext cx="5169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e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024480" y="4512600"/>
            <a:ext cx="4989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t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8872560" y="6010200"/>
            <a:ext cx="3960" cy="988920"/>
            <a:chOff x="8872560" y="6010200"/>
            <a:chExt cx="3960" cy="988920"/>
          </a:xfrm>
        </p:grpSpPr>
        <p:grpSp>
          <p:nvGrpSpPr>
            <p:cNvPr id="744" name=""/>
            <p:cNvGrpSpPr/>
            <p:nvPr/>
          </p:nvGrpSpPr>
          <p:grpSpPr>
            <a:xfrm>
              <a:off x="8872560" y="6540480"/>
              <a:ext cx="3960" cy="458640"/>
              <a:chOff x="8872560" y="6540480"/>
              <a:chExt cx="3960" cy="458640"/>
            </a:xfrm>
          </p:grpSpPr>
          <p:sp>
            <p:nvSpPr>
              <p:cNvPr id="745" name=""/>
              <p:cNvSpPr/>
              <p:nvPr/>
            </p:nvSpPr>
            <p:spPr>
              <a:xfrm>
                <a:off x="8872560" y="654048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876520" y="670860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876520" y="687996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872560" y="6010200"/>
              <a:ext cx="3960" cy="458640"/>
              <a:chOff x="8872560" y="6010200"/>
              <a:chExt cx="3960" cy="458640"/>
            </a:xfrm>
          </p:grpSpPr>
          <p:sp>
            <p:nvSpPr>
              <p:cNvPr id="749" name=""/>
              <p:cNvSpPr/>
              <p:nvPr/>
            </p:nvSpPr>
            <p:spPr>
              <a:xfrm>
                <a:off x="8872560" y="601020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876520" y="617832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876520" y="6349680"/>
                <a:ext cx="0" cy="11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5400720" y="3600360"/>
            <a:ext cx="4320" cy="458640"/>
            <a:chOff x="5400720" y="3600360"/>
            <a:chExt cx="4320" cy="458640"/>
          </a:xfrm>
        </p:grpSpPr>
        <p:sp>
          <p:nvSpPr>
            <p:cNvPr id="753" name=""/>
            <p:cNvSpPr/>
            <p:nvPr/>
          </p:nvSpPr>
          <p:spPr>
            <a:xfrm>
              <a:off x="5400720" y="360036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05040" y="376848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5040" y="393984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 flipV="1">
            <a:off x="9618840" y="5869080"/>
            <a:ext cx="0" cy="14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9144000" y="6385320"/>
            <a:ext cx="1233360" cy="193320"/>
            <a:chOff x="9144000" y="6385320"/>
            <a:chExt cx="1233360" cy="193320"/>
          </a:xfrm>
        </p:grpSpPr>
        <p:sp>
          <p:nvSpPr>
            <p:cNvPr id="758" name=""/>
            <p:cNvSpPr/>
            <p:nvPr/>
          </p:nvSpPr>
          <p:spPr>
            <a:xfrm>
              <a:off x="9144000" y="6578640"/>
              <a:ext cx="123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76760" y="6385320"/>
              <a:ext cx="86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SMPOLR link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9403920" y="2470320"/>
            <a:ext cx="576720" cy="221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2480" rIns="132480" tIns="11520" bIns="1152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c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27120" y="153720"/>
            <a:ext cx="1350360" cy="2970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600" rIns="57600" tIns="49320" bIns="4932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wa. (for AXE’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7202520" y="2544840"/>
            <a:ext cx="1393920" cy="726840"/>
            <a:chOff x="7202520" y="2544840"/>
            <a:chExt cx="1393920" cy="726840"/>
          </a:xfrm>
        </p:grpSpPr>
        <p:sp>
          <p:nvSpPr>
            <p:cNvPr id="763" name=""/>
            <p:cNvSpPr/>
            <p:nvPr/>
          </p:nvSpPr>
          <p:spPr>
            <a:xfrm>
              <a:off x="7540560" y="2544840"/>
              <a:ext cx="692280" cy="2300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Times New Roman"/>
                </a:rPr>
                <a:t>W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54840" y="2884320"/>
              <a:ext cx="459000" cy="22392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wav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02520" y="2685960"/>
              <a:ext cx="315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36040" y="2784600"/>
              <a:ext cx="0" cy="245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8320" y="3024360"/>
              <a:ext cx="22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8640" y="2968560"/>
              <a:ext cx="442800" cy="22248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wav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56520" y="3046320"/>
              <a:ext cx="439920" cy="2253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wav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61640" y="2934000"/>
              <a:ext cx="266040" cy="1677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Times New Roman"/>
                </a:rPr>
                <a:t>.afp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9722160" y="5927400"/>
            <a:ext cx="567360" cy="2271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2480" rIns="132480" tIns="14400" bIns="1440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r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523440" y="6010200"/>
            <a:ext cx="190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076640" y="4858920"/>
            <a:ext cx="1233720" cy="1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92560" y="4619520"/>
            <a:ext cx="876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9320" bIns="49320" anchor="ctr">
            <a:no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Reference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787320" y="6009120"/>
            <a:ext cx="594720" cy="2271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2480" rIns="132480" tIns="14400" bIns="1440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r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455760" y="5645160"/>
            <a:ext cx="485640" cy="19800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245880" y="5926320"/>
            <a:ext cx="266040" cy="167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0105920" y="6246720"/>
            <a:ext cx="0" cy="331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9523440" y="5454720"/>
            <a:ext cx="328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007200" y="5360040"/>
            <a:ext cx="54000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2480" rIns="13248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ls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361440" y="2843280"/>
            <a:ext cx="900000" cy="3045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CM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10720" y="2987640"/>
            <a:ext cx="45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726480" y="3332160"/>
            <a:ext cx="17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926640" y="3218760"/>
            <a:ext cx="3873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540720" y="3332160"/>
            <a:ext cx="181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726480" y="315288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037440" y="3235320"/>
            <a:ext cx="4989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t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331560" y="3577680"/>
            <a:ext cx="64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Source lin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110520" y="3789360"/>
            <a:ext cx="1233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9110520" y="3458880"/>
            <a:ext cx="0" cy="330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863280" y="5072040"/>
            <a:ext cx="48960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i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873000" y="5357880"/>
            <a:ext cx="516960" cy="1983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300" spc="-1" strike="noStrike">
                <a:solidFill>
                  <a:srgbClr val="ffffff"/>
                </a:solidFill>
                <a:latin typeface="Times New Roman"/>
              </a:rPr>
              <a:t>.ar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2700360" y="3870360"/>
            <a:ext cx="4320" cy="458640"/>
            <a:chOff x="2700360" y="3870360"/>
            <a:chExt cx="4320" cy="458640"/>
          </a:xfrm>
        </p:grpSpPr>
        <p:sp>
          <p:nvSpPr>
            <p:cNvPr id="794" name=""/>
            <p:cNvSpPr/>
            <p:nvPr/>
          </p:nvSpPr>
          <p:spPr>
            <a:xfrm>
              <a:off x="2700360" y="387036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04680" y="403848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04680" y="420984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201080" y="4230720"/>
            <a:ext cx="4320" cy="458640"/>
            <a:chOff x="7201080" y="4230720"/>
            <a:chExt cx="4320" cy="458640"/>
          </a:xfrm>
        </p:grpSpPr>
        <p:sp>
          <p:nvSpPr>
            <p:cNvPr id="798" name=""/>
            <p:cNvSpPr/>
            <p:nvPr/>
          </p:nvSpPr>
          <p:spPr>
            <a:xfrm>
              <a:off x="7201080" y="423072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400" y="439884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5400" y="4570200"/>
              <a:ext cx="0" cy="11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7213680" y="3606840"/>
            <a:ext cx="1382760" cy="818640"/>
            <a:chOff x="7213680" y="3606840"/>
            <a:chExt cx="1382760" cy="818640"/>
          </a:xfrm>
        </p:grpSpPr>
        <p:sp>
          <p:nvSpPr>
            <p:cNvPr id="802" name=""/>
            <p:cNvSpPr/>
            <p:nvPr/>
          </p:nvSpPr>
          <p:spPr>
            <a:xfrm>
              <a:off x="7550280" y="3606840"/>
              <a:ext cx="691920" cy="2300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Times New Roman"/>
                </a:rPr>
                <a:t>MPEG-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64560" y="3974760"/>
              <a:ext cx="458640" cy="2253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mp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13680" y="3747960"/>
              <a:ext cx="314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6040" y="3843000"/>
              <a:ext cx="0" cy="26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28040" y="4106520"/>
              <a:ext cx="22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67760" y="4041360"/>
              <a:ext cx="266040" cy="1677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Times New Roman"/>
                </a:rPr>
                <a:t>.afp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02440" y="4109760"/>
              <a:ext cx="459000" cy="22500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mp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7440" y="4200480"/>
              <a:ext cx="459000" cy="22500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300" spc="-1" strike="noStrike">
                  <a:solidFill>
                    <a:srgbClr val="ffffff"/>
                  </a:solidFill>
                  <a:latin typeface="Times New Roman"/>
                </a:rPr>
                <a:t>.mp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530360" y="3014640"/>
            <a:ext cx="225360" cy="225360"/>
          </a:xfrm>
          <a:prstGeom prst="triangle">
            <a:avLst>
              <a:gd name="adj" fmla="val 50000"/>
            </a:avLst>
          </a:prstGeom>
          <a:solidFill>
            <a:srgbClr val="ffd9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-780480" y="5000760"/>
            <a:ext cx="5274000" cy="2114280"/>
            <a:chOff x="-780480" y="5000760"/>
            <a:chExt cx="5274000" cy="2114280"/>
          </a:xfrm>
        </p:grpSpPr>
        <p:sp>
          <p:nvSpPr>
            <p:cNvPr id="812" name=""/>
            <p:cNvSpPr/>
            <p:nvPr/>
          </p:nvSpPr>
          <p:spPr>
            <a:xfrm>
              <a:off x="68400" y="5000760"/>
              <a:ext cx="4005000" cy="2114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-780480" y="5045040"/>
              <a:ext cx="5274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marL="647640" indent="-457200" algn="ctr">
                <a:lnSpc>
                  <a:spcPct val="100000"/>
                </a:lnSpc>
                <a:tabLst>
                  <a:tab algn="l" pos="0"/>
                  <a:tab algn="l" pos="46656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Garamond"/>
                </a:rPr>
                <a:t>Illustration of the « AXIS Framework »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8440" y="5530680"/>
              <a:ext cx="398520" cy="2775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3760" y="5898960"/>
              <a:ext cx="411120" cy="25992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9320" bIns="4932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12680" y="5503680"/>
              <a:ext cx="876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9320" bIns="49320" anchor="ctr">
              <a:no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Entitie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12680" y="5884560"/>
              <a:ext cx="8766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9320" bIns="49320" anchor="ctr">
              <a:no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Document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3760" y="6484680"/>
              <a:ext cx="765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5600" y="62910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Xxxx link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12680" y="6335640"/>
              <a:ext cx="8766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9320" bIns="49320" anchor="ctr">
              <a:no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Relation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6960" y="6753240"/>
              <a:ext cx="225360" cy="271080"/>
            </a:xfrm>
            <a:prstGeom prst="triangle">
              <a:avLst>
                <a:gd name="adj" fmla="val 50000"/>
              </a:avLst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21680" y="6754680"/>
              <a:ext cx="3011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9320" bIns="49320" anchor="ctr">
              <a:sp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Register of the “Root of the Persistent Identifiers”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2891160" y="3599280"/>
            <a:ext cx="266040" cy="167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Times New Roman"/>
              </a:rPr>
              <a:t>.afp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78120" y="520560"/>
            <a:ext cx="4810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 marL="647640" indent="-457200" algn="ctr">
              <a:lnSpc>
                <a:spcPct val="100000"/>
              </a:lnSpc>
              <a:tabLst>
                <a:tab algn="l" pos="0"/>
                <a:tab algn="l" pos="4665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Main elements of t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7640" indent="-457200" algn="ctr">
              <a:lnSpc>
                <a:spcPct val="100000"/>
              </a:lnSpc>
              <a:tabLst>
                <a:tab algn="l" pos="0"/>
                <a:tab algn="l" pos="46656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« AXIS Framework 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031760" y="2925720"/>
            <a:ext cx="834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PROFILE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376280" y="42552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definition of the PROFIL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3800" y="1974960"/>
            <a:ext cx="931716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definition of PROFILES is made through the definition of constructs allowing to model, in a specific domain, “audio-visual contents and events” including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‘essences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(audio, video, images, texts, models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associated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‘metadata’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(administrative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‘structure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‘control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2324160" y="233280"/>
            <a:ext cx="57769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ypical PROFIL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36760" y="1316520"/>
            <a:ext cx="148752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05000" y="2397600"/>
            <a:ext cx="172404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ckb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4200" y="1758960"/>
            <a:ext cx="0" cy="84312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1835280" y="3278160"/>
            <a:ext cx="303120" cy="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315360" y="2610000"/>
            <a:ext cx="909720" cy="0"/>
          </a:xfrm>
          <a:prstGeom prst="line">
            <a:avLst/>
          </a:prstGeom>
          <a:ln w="316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136600" y="2833560"/>
            <a:ext cx="24120" cy="333216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0360" y="308196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C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0360" y="369504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4480" y="5805360"/>
            <a:ext cx="3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0360" y="430920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833480" y="389088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1835280" y="450540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1835280" y="508320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0360" y="488556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X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014280" y="2610000"/>
            <a:ext cx="6165720" cy="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630520" y="3058200"/>
            <a:ext cx="172548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92360" y="2603520"/>
            <a:ext cx="0" cy="38412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3490920" y="3484440"/>
            <a:ext cx="304920" cy="2303640"/>
            <a:chOff x="3490920" y="3484440"/>
            <a:chExt cx="304920" cy="2303640"/>
          </a:xfrm>
        </p:grpSpPr>
        <p:sp>
          <p:nvSpPr>
            <p:cNvPr id="847" name=""/>
            <p:cNvSpPr/>
            <p:nvPr/>
          </p:nvSpPr>
          <p:spPr>
            <a:xfrm>
              <a:off x="3492360" y="3930480"/>
              <a:ext cx="303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92360" y="3484440"/>
              <a:ext cx="0" cy="2303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90920" y="4543560"/>
              <a:ext cx="3031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92360" y="5157720"/>
              <a:ext cx="303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92360" y="5773680"/>
              <a:ext cx="303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824280" y="3718440"/>
            <a:ext cx="172548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n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95840" y="4332600"/>
            <a:ext cx="172404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4985280"/>
            <a:ext cx="172404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49480" y="5438880"/>
            <a:ext cx="3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1833480" y="563400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05360" y="2604960"/>
            <a:ext cx="0" cy="38592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50000" y="3062880"/>
            <a:ext cx="172368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10400" y="3932280"/>
            <a:ext cx="303120" cy="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805360" y="3487680"/>
            <a:ext cx="5040" cy="285768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808600" y="454644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810400" y="516096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10400" y="635328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43760" y="3721680"/>
            <a:ext cx="172404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ass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143760" y="4335840"/>
            <a:ext cx="1724040" cy="3988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43760" y="498060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no Mu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89480" y="6031080"/>
            <a:ext cx="3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36080" y="2610000"/>
            <a:ext cx="0" cy="38556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0360" y="545688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1844640" y="616572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165720" y="1079640"/>
            <a:ext cx="3917880" cy="630000"/>
            <a:chOff x="6165720" y="1079640"/>
            <a:chExt cx="3917880" cy="630000"/>
          </a:xfrm>
        </p:grpSpPr>
        <p:grpSp>
          <p:nvGrpSpPr>
            <p:cNvPr id="872" name=""/>
            <p:cNvGrpSpPr/>
            <p:nvPr/>
          </p:nvGrpSpPr>
          <p:grpSpPr>
            <a:xfrm>
              <a:off x="6254280" y="1079640"/>
              <a:ext cx="3829320" cy="580680"/>
              <a:chOff x="6254280" y="1079640"/>
              <a:chExt cx="3829320" cy="580680"/>
            </a:xfrm>
          </p:grpSpPr>
          <p:sp>
            <p:nvSpPr>
              <p:cNvPr id="873" name=""/>
              <p:cNvSpPr/>
              <p:nvPr/>
            </p:nvSpPr>
            <p:spPr>
              <a:xfrm>
                <a:off x="6254280" y="1181520"/>
                <a:ext cx="1487520" cy="398880"/>
              </a:xfrm>
              <a:prstGeom prst="rect">
                <a:avLst/>
              </a:prstGeom>
              <a:solidFill>
                <a:srgbClr val="800000"/>
              </a:soli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XX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30720" y="1079640"/>
                <a:ext cx="225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0" lang="en-US" sz="1600" spc="-1" strike="noStrike">
                    <a:solidFill>
                      <a:srgbClr val="ffcc00"/>
                    </a:solidFill>
                    <a:latin typeface="Arial"/>
                  </a:rPr>
                  <a:t>Profiles intended to be defined by MEMORI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6165720" y="1079640"/>
              <a:ext cx="3914640" cy="630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7380360" y="306288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PE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0760" y="3932280"/>
            <a:ext cx="303120" cy="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40760" y="3487680"/>
            <a:ext cx="0" cy="2301840"/>
          </a:xfrm>
          <a:prstGeom prst="line">
            <a:avLst/>
          </a:prstGeom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38960" y="4546440"/>
            <a:ext cx="3034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240760" y="577548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74120" y="373608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nscri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574120" y="435060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 Boo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619840" y="5438880"/>
            <a:ext cx="3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18320" y="5772240"/>
            <a:ext cx="303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151680" y="5591880"/>
            <a:ext cx="1724040" cy="36828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Mu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376280" y="42552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definition of the PROFIL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3600" y="1593720"/>
            <a:ext cx="10261800" cy="63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key principles applied in the definition of PROFILE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finition of the profiles are themselve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‘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eservation Object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’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(DIP, AIP, P-DIP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finition uses and refers to standards whenever they ex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finition implies, whenever required, a local copy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(made according to the local syntax)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the existing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finitions are multilingual (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Entries, Definitions, Occurrences &amp;I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low the incorporation of constructs (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T, I, D, H, E, C, R, 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 defined in other PROFILES of the current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 indent="-276120">
              <a:lnSpc>
                <a:spcPct val="110000"/>
              </a:lnSpc>
              <a:buClr>
                <a:srgbClr val="ffffff"/>
              </a:buClr>
              <a:buFont typeface="Garamond"/>
              <a:buChar char="•"/>
              <a:tabLst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finitions are expressed using standards using the XML/XSD language (RDF, OWL, DCMI, SMIL, …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366920" y="17784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definition of the PROFIL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2680" y="1170000"/>
            <a:ext cx="1026180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methodology applied in the definition of PROFILES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the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Terms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according to the RDF in DC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the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Persistent Identifier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system (or systems) using Terms occurring according to rules expressed in RDF / 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Relation types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using  Terms occurring according to rules expressed in RDF / 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locally defined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Documents types 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using  Terms occurring according to rules expressed in RDF / OW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externally defined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Documents types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by reference to their external definition using occurrences of Relation ty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Controlled lists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by reference to their external definition using occurrences of Relation types or by local definition using Te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References’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by inclusion of data sets 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(files, arrays, …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nd using Te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5428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80964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finition of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‘Entity types’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s abstract wrapper of coherent set of any of the constructs previously introduced (T, I, H, D, C,  R, E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366920" y="17784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definition of the PROFIL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2680" y="1041480"/>
            <a:ext cx="90313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ulti-lingual properties could be illustra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24720" y="5276880"/>
            <a:ext cx="2676600" cy="17143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856640" y="5881680"/>
            <a:ext cx="493560" cy="230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14280" y="5803920"/>
            <a:ext cx="951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ngli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856640" y="6283440"/>
            <a:ext cx="498240" cy="245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61000" y="6229440"/>
            <a:ext cx="1407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orwegi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54840" y="5521320"/>
            <a:ext cx="498600" cy="209520"/>
          </a:xfrm>
          <a:prstGeom prst="rect">
            <a:avLst/>
          </a:prstGeom>
          <a:solidFill>
            <a:srgbClr val="ffd9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4040" y="5442120"/>
            <a:ext cx="909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ren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502480" y="657216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64200" y="656280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542880"/>
                <a:tab algn="l" pos="1227240"/>
                <a:tab algn="l" pos="681192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959040" y="1812960"/>
            <a:ext cx="8738640" cy="3035160"/>
            <a:chOff x="959040" y="1812960"/>
            <a:chExt cx="8738640" cy="3035160"/>
          </a:xfrm>
        </p:grpSpPr>
        <p:sp>
          <p:nvSpPr>
            <p:cNvPr id="902" name=""/>
            <p:cNvSpPr/>
            <p:nvPr/>
          </p:nvSpPr>
          <p:spPr>
            <a:xfrm>
              <a:off x="966600" y="2498760"/>
              <a:ext cx="250776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Terms entr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24560" y="3346560"/>
              <a:ext cx="18158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Defini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59040" y="4260960"/>
              <a:ext cx="226548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Occurrenc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38400" y="1812960"/>
              <a:ext cx="3740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09800" y="1822680"/>
              <a:ext cx="328788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Natural languag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80200" y="2479680"/>
              <a:ext cx="143496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XML/XS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35200" y="3432240"/>
              <a:ext cx="148968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RDF/OW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46360" y="4346640"/>
              <a:ext cx="7124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Garamond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2040" y="2695680"/>
              <a:ext cx="695520" cy="399960"/>
            </a:xfrm>
            <a:prstGeom prst="rect">
              <a:avLst/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91760" y="3591000"/>
              <a:ext cx="695160" cy="399960"/>
            </a:xfrm>
            <a:prstGeom prst="rect">
              <a:avLst/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82040" y="4448160"/>
              <a:ext cx="695520" cy="399960"/>
            </a:xfrm>
            <a:prstGeom prst="rect">
              <a:avLst/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15400" y="2571840"/>
              <a:ext cx="695520" cy="399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77240" y="3448080"/>
              <a:ext cx="695520" cy="399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96320" y="4334040"/>
              <a:ext cx="695520" cy="399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48760" y="2414520"/>
              <a:ext cx="695520" cy="400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29680" y="3252960"/>
              <a:ext cx="695520" cy="399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29680" y="4167360"/>
              <a:ext cx="695520" cy="399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7280" y="2276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07280" y="31244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217000" y="40100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542880"/>
                  <a:tab algn="l" pos="1227240"/>
                  <a:tab algn="l" pos="681192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214720" y="119160"/>
            <a:ext cx="5930640" cy="53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380880"/>
                <a:tab algn="l" pos="75420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definition of « TERMS »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5000" y="676440"/>
            <a:ext cx="652608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ame of the TE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echnical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ML / X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ame Space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2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Property (name of term)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3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URI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http://purl.org/dc/elements/1.1/date T4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Defined by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http://www.w3.org/TR/NOTE-datetime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5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ype of term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6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Refines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7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Is refined by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Created, Valid, Available, Issued, Modified, 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2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Encoding type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xterna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3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Encoding scheme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purl.org/dc/terms/W3CDT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4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Example of contents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2006-08-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5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Obligation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O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6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Occurrence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N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7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Date of definition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1999-07-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T18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Status of the definition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R (V7.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1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Natural language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2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Label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3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Original language of defin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4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Definition in natural langu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5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Source comment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8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Profile definition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9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Profile com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10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Encoding sche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11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Contents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12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Occurrence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N13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Obligation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1440"/>
                <a:tab algn="l" pos="215100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57440" y="3930480"/>
            <a:ext cx="328464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glish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ate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ngl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A date associated with an event in the life cycle of the resource …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YYYY-MM-DD where YYYY represents the ISO Year; MM, the 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Not repeatable unless in refin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Op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91080" y="3933720"/>
            <a:ext cx="324972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Français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Date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4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Une date associée à un évènement du cycle de vie de la res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AAAA-MM-JJ où AAAA représente l’année ISO ; MM, le …</a:t>
            </a:r>
            <a:r>
              <a:rPr b="1" lang="fr-B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Non répétable si ce n’est en affin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fr-FR" sz="1200" spc="-1" strike="noStrike">
                <a:solidFill>
                  <a:srgbClr val="ffffff"/>
                </a:solidFill>
                <a:latin typeface="Garamond"/>
              </a:rPr>
              <a:t>Optio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7000"/>
              </a:lnSpc>
              <a:tabLst>
                <a:tab algn="l" pos="0"/>
                <a:tab algn="l" pos="541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19600" y="3902040"/>
            <a:ext cx="24030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" rIns="25200" tIns="10800" bIns="10800" anchor="t">
            <a:spAutoFit/>
          </a:bodyPr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B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B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ar-SA" sz="2100" spc="-1" strike="noStrike">
                <a:solidFill>
                  <a:srgbClr val="ffffff"/>
                </a:solidFill>
                <a:latin typeface="Arial"/>
                <a:cs typeface="Arial"/>
              </a:rPr>
              <a:t>ﺍ</a:t>
            </a:r>
            <a:r>
              <a:rPr b="1" lang="ar-SA" sz="2100" spc="-1" strike="noStrike">
                <a:solidFill>
                  <a:srgbClr val="ffffff"/>
                </a:solidFill>
                <a:latin typeface="Arial"/>
                <a:cs typeface="Times New Roman"/>
              </a:rPr>
              <a:t>ﻟ</a:t>
            </a:r>
            <a:r>
              <a:rPr b="1" lang="ar-SA" sz="2100" spc="-1" strike="noStrike">
                <a:solidFill>
                  <a:srgbClr val="ffffff"/>
                </a:solidFill>
                <a:latin typeface="Arial"/>
                <a:cs typeface="Arial"/>
              </a:rPr>
              <a:t>ﻌﺮﺒﯿﺔ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1900" spc="-1" strike="noStrike">
                <a:solidFill>
                  <a:srgbClr val="ffffff"/>
                </a:solidFill>
                <a:latin typeface="Arial"/>
                <a:cs typeface="Arial"/>
              </a:rPr>
              <a:t>ﺍ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ﻟﭡﺎﺮﯾ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AAAA </a:t>
            </a:r>
            <a:r>
              <a:rPr b="0" lang="fr-BE" sz="1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⇐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Arial"/>
              </a:rPr>
              <a:t>ﺍ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"/>
              </a:rPr>
              <a:t>ﻟ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Arial"/>
              </a:rPr>
              <a:t>ﺴﻧﯽ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&lt; Mapping 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BE" sz="1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r" pos="941400"/>
                <a:tab algn="r" pos="1603440"/>
                <a:tab algn="l" pos="2241720"/>
                <a:tab algn="l" pos="636912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07280" y="2166840"/>
            <a:ext cx="2325600" cy="1254600"/>
          </a:xfrm>
          <a:prstGeom prst="rect">
            <a:avLst/>
          </a:prstGeom>
          <a:noFill/>
          <a:ln w="15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or each entry in natural languages, the source original is also mentioned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440160" y="3468600"/>
            <a:ext cx="4919760" cy="1028880"/>
          </a:xfrm>
          <a:prstGeom prst="line">
            <a:avLst/>
          </a:prstGeom>
          <a:ln w="15840">
            <a:solidFill>
              <a:srgbClr val="ffcc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6005160" y="3492360"/>
            <a:ext cx="2373480" cy="1024200"/>
          </a:xfrm>
          <a:prstGeom prst="line">
            <a:avLst/>
          </a:prstGeom>
          <a:ln w="15840">
            <a:solidFill>
              <a:srgbClr val="ffcc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81880" y="3463920"/>
            <a:ext cx="1792440" cy="1096920"/>
          </a:xfrm>
          <a:prstGeom prst="line">
            <a:avLst/>
          </a:prstGeom>
          <a:ln w="15840">
            <a:solidFill>
              <a:srgbClr val="ffcc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031760" y="2925720"/>
            <a:ext cx="834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Open EXCHANGE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6440" y="1717560"/>
            <a:ext cx="9629640" cy="3926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Media Ch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intended Dissemin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31760" y="2143080"/>
            <a:ext cx="8348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9900"/>
                </a:solidFill>
                <a:latin typeface="Garamond"/>
              </a:rPr>
              <a:t>Structure of the presentat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0" y="3365640"/>
            <a:ext cx="7330680" cy="518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6360" indent="-480960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57360" y="42552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Open eXchange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84280" y="2309760"/>
            <a:ext cx="9226440" cy="3646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90000" bIns="9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opt  for the “Open Interface”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IP, AIP, P-DIP archite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 the OAIS model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ISO 147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01840" y="4125960"/>
            <a:ext cx="779472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82800"/>
                <a:tab algn="l" pos="1258920"/>
                <a:tab algn="r" pos="6697800"/>
                <a:tab algn="r" pos="991080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OAIS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pen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A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rchival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I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nformation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yste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82800"/>
                <a:tab algn="l" pos="1258920"/>
                <a:tab algn="r" pos="6697800"/>
                <a:tab algn="r" pos="991080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IP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ubmission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nformation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ackag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82800"/>
                <a:tab algn="l" pos="1258920"/>
                <a:tab algn="r" pos="6697800"/>
                <a:tab algn="r" pos="991080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AIP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rchival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nformation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ackag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82800"/>
                <a:tab algn="l" pos="1258920"/>
                <a:tab algn="r" pos="6697800"/>
                <a:tab algn="r" pos="991080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-DIP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ersistent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issemination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I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nformation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ackag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"/>
          <p:cNvGrpSpPr/>
          <p:nvPr/>
        </p:nvGrpSpPr>
        <p:grpSpPr>
          <a:xfrm>
            <a:off x="190440" y="993600"/>
            <a:ext cx="10078200" cy="5008320"/>
            <a:chOff x="190440" y="993600"/>
            <a:chExt cx="10078200" cy="5008320"/>
          </a:xfrm>
        </p:grpSpPr>
        <p:sp>
          <p:nvSpPr>
            <p:cNvPr id="936" name=""/>
            <p:cNvSpPr/>
            <p:nvPr/>
          </p:nvSpPr>
          <p:spPr>
            <a:xfrm>
              <a:off x="3752640" y="2320560"/>
              <a:ext cx="2960280" cy="889200"/>
            </a:xfrm>
            <a:prstGeom prst="rect">
              <a:avLst/>
            </a:prstGeom>
            <a:solidFill>
              <a:srgbClr val="fc012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0440" y="4794120"/>
              <a:ext cx="9901080" cy="12078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marL="714240" indent="-714240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71424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Domain of the industrial </a:t>
              </a:r>
              <a:r>
                <a:rPr b="1" lang="en-US" sz="2500" spc="-1" strike="noStrike">
                  <a:solidFill>
                    <a:srgbClr val="ffff99"/>
                  </a:solidFill>
                  <a:latin typeface="Garamond"/>
                </a:rPr>
                <a:t>proprietary technologie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14240" indent="-714240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71424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Interchange formats defined on the basis of </a:t>
              </a:r>
              <a:r>
                <a:rPr b="1" lang="en-US" sz="2500" spc="-1" strike="noStrike">
                  <a:solidFill>
                    <a:srgbClr val="ffff99"/>
                  </a:solidFill>
                  <a:latin typeface="Garamond"/>
                </a:rPr>
                <a:t>standards 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and under local </a:t>
              </a:r>
              <a:r>
                <a:rPr b="1" lang="en-US" sz="2500" spc="-1" strike="noStrike">
                  <a:solidFill>
                    <a:srgbClr val="ffff99"/>
                  </a:solidFill>
                  <a:latin typeface="Garamond"/>
                </a:rPr>
                <a:t>control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54040" y="2309400"/>
              <a:ext cx="20746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Garamond"/>
                </a:rPr>
                <a:t>Functional module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2120" y="2520720"/>
              <a:ext cx="2757240" cy="461880"/>
            </a:xfrm>
            <a:prstGeom prst="leftRightArrow">
              <a:avLst>
                <a:gd name="adj1" fmla="val 54352"/>
                <a:gd name="adj2" fmla="val 70917"/>
              </a:avLst>
            </a:prstGeom>
            <a:solidFill>
              <a:srgbClr val="114ffb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76720" y="2519280"/>
              <a:ext cx="2763360" cy="460080"/>
            </a:xfrm>
            <a:prstGeom prst="leftRightArrow">
              <a:avLst>
                <a:gd name="adj1" fmla="val 54352"/>
                <a:gd name="adj2" fmla="val 71352"/>
              </a:avLst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00440" y="1861920"/>
              <a:ext cx="1887120" cy="965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Data according to standard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04640" y="1844280"/>
              <a:ext cx="1887120" cy="9651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Data according to standard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1600" y="5452920"/>
              <a:ext cx="636480" cy="46044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298080" y="4881240"/>
              <a:ext cx="618480" cy="471240"/>
              <a:chOff x="298080" y="4881240"/>
              <a:chExt cx="618480" cy="471240"/>
            </a:xfrm>
          </p:grpSpPr>
          <p:sp>
            <p:nvSpPr>
              <p:cNvPr id="945" name=""/>
              <p:cNvSpPr/>
              <p:nvPr/>
            </p:nvSpPr>
            <p:spPr>
              <a:xfrm>
                <a:off x="348120" y="4944240"/>
                <a:ext cx="516600" cy="344880"/>
              </a:xfrm>
              <a:prstGeom prst="rect">
                <a:avLst/>
              </a:prstGeom>
              <a:solidFill>
                <a:srgbClr val="fc012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98080" y="4881240"/>
                <a:ext cx="618480" cy="4712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69640" y="1465200"/>
              <a:ext cx="538920" cy="2559600"/>
              <a:chOff x="269640" y="1465200"/>
              <a:chExt cx="538920" cy="2559600"/>
            </a:xfrm>
          </p:grpSpPr>
          <p:sp>
            <p:nvSpPr>
              <p:cNvPr id="948" name=""/>
              <p:cNvSpPr/>
              <p:nvPr/>
            </p:nvSpPr>
            <p:spPr>
              <a:xfrm rot="16200000">
                <a:off x="-760320" y="2551680"/>
                <a:ext cx="2559600" cy="38628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Garamond"/>
                  </a:rPr>
                  <a:t>Functional module 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69640" y="1531800"/>
                <a:ext cx="538920" cy="243000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4082760" y="993600"/>
              <a:ext cx="2202840" cy="588600"/>
              <a:chOff x="4082760" y="993600"/>
              <a:chExt cx="2202840" cy="588600"/>
            </a:xfrm>
          </p:grpSpPr>
          <p:sp>
            <p:nvSpPr>
              <p:cNvPr id="951" name=""/>
              <p:cNvSpPr/>
              <p:nvPr/>
            </p:nvSpPr>
            <p:spPr>
              <a:xfrm>
                <a:off x="4159440" y="1068840"/>
                <a:ext cx="2073960" cy="41688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240" bIns="482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2100" spc="-1" strike="noStrike">
                    <a:solidFill>
                      <a:srgbClr val="ffffff"/>
                    </a:solidFill>
                    <a:latin typeface="Garamond"/>
                  </a:rPr>
                  <a:t>Control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82760" y="993600"/>
                <a:ext cx="2202840" cy="58860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3669840" y="2249280"/>
              <a:ext cx="3097080" cy="10382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738240" y="3933720"/>
              <a:ext cx="3126600" cy="580680"/>
              <a:chOff x="3738240" y="3933720"/>
              <a:chExt cx="3126600" cy="580680"/>
            </a:xfrm>
          </p:grpSpPr>
          <p:sp>
            <p:nvSpPr>
              <p:cNvPr id="955" name=""/>
              <p:cNvSpPr/>
              <p:nvPr/>
            </p:nvSpPr>
            <p:spPr>
              <a:xfrm>
                <a:off x="3804840" y="4006800"/>
                <a:ext cx="2999520" cy="41688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240" bIns="482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2100" spc="-1" strike="noStrike">
                    <a:solidFill>
                      <a:srgbClr val="ffffff"/>
                    </a:solidFill>
                    <a:latin typeface="Garamond"/>
                  </a:rPr>
                  <a:t>Environment</a:t>
                </a:r>
                <a:endParaRPr b="0" lang="en-US" sz="2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738240" y="3933720"/>
                <a:ext cx="3126600" cy="58068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9688320" y="1468440"/>
              <a:ext cx="580320" cy="2559600"/>
              <a:chOff x="9688320" y="1468440"/>
              <a:chExt cx="580320" cy="2559600"/>
            </a:xfrm>
          </p:grpSpPr>
          <p:sp>
            <p:nvSpPr>
              <p:cNvPr id="958" name=""/>
              <p:cNvSpPr/>
              <p:nvPr/>
            </p:nvSpPr>
            <p:spPr>
              <a:xfrm rot="16200000">
                <a:off x="8690040" y="2554920"/>
                <a:ext cx="2559600" cy="386280"/>
              </a:xfrm>
              <a:prstGeom prst="rect">
                <a:avLst/>
              </a:prstGeom>
              <a:solidFill>
                <a:srgbClr val="fc012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900" spc="-1" strike="noStrike">
                    <a:solidFill>
                      <a:srgbClr val="ffffff"/>
                    </a:solidFill>
                    <a:latin typeface="Garamond"/>
                  </a:rPr>
                  <a:t>Functional module 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688320" y="1541160"/>
                <a:ext cx="580320" cy="2403000"/>
              </a:xfrm>
              <a:prstGeom prst="rect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4960440" y="1674720"/>
              <a:ext cx="442440" cy="489960"/>
              <a:chOff x="4960440" y="1674720"/>
              <a:chExt cx="442440" cy="489960"/>
            </a:xfrm>
          </p:grpSpPr>
          <p:sp>
            <p:nvSpPr>
              <p:cNvPr id="961" name=""/>
              <p:cNvSpPr/>
              <p:nvPr/>
            </p:nvSpPr>
            <p:spPr>
              <a:xfrm>
                <a:off x="5032440" y="1707840"/>
                <a:ext cx="294840" cy="414720"/>
              </a:xfrm>
              <a:prstGeom prst="downArrow">
                <a:avLst>
                  <a:gd name="adj1" fmla="val 55685"/>
                  <a:gd name="adj2" fmla="val 34461"/>
                </a:avLst>
              </a:prstGeom>
              <a:solidFill>
                <a:srgbClr val="fc012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60440" y="1674720"/>
                <a:ext cx="442440" cy="489960"/>
              </a:xfrm>
              <a:prstGeom prst="downArrow">
                <a:avLst>
                  <a:gd name="adj1" fmla="val 58333"/>
                  <a:gd name="adj2" fmla="val 37288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63680" y="3357360"/>
              <a:ext cx="442440" cy="490320"/>
              <a:chOff x="4963680" y="3357360"/>
              <a:chExt cx="442440" cy="49032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035680" y="3399120"/>
                <a:ext cx="294840" cy="415080"/>
              </a:xfrm>
              <a:prstGeom prst="downArrow">
                <a:avLst>
                  <a:gd name="adj1" fmla="val 55685"/>
                  <a:gd name="adj2" fmla="val 34491"/>
                </a:avLst>
              </a:prstGeom>
              <a:solidFill>
                <a:srgbClr val="fc012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4963680" y="3357360"/>
                <a:ext cx="442440" cy="490320"/>
              </a:xfrm>
              <a:prstGeom prst="downArrow">
                <a:avLst>
                  <a:gd name="adj1" fmla="val 58333"/>
                  <a:gd name="adj2" fmla="val 37315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74640" y="1844640"/>
            <a:ext cx="5432400" cy="3036960"/>
          </a:xfrm>
          <a:prstGeom prst="rect">
            <a:avLst/>
          </a:prstGeom>
          <a:solidFill>
            <a:srgbClr val="2a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257960" y="2089080"/>
            <a:ext cx="2117880" cy="187812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Descriptive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Inform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Package #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435480" y="2581200"/>
            <a:ext cx="1755720" cy="107640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Preserv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Inform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38280" y="2568600"/>
            <a:ext cx="1722600" cy="108756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Content Inform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10800000">
            <a:off x="6291360" y="2903400"/>
            <a:ext cx="828720" cy="279360"/>
          </a:xfrm>
          <a:prstGeom prst="leftRightArrow">
            <a:avLst>
              <a:gd name="adj1" fmla="val 55157"/>
              <a:gd name="adj2" fmla="val 6325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17160" y="4405680"/>
            <a:ext cx="2283120" cy="47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600" rIns="57600" tIns="48240" bIns="4824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FR" sz="2900" spc="-1" strike="noStrike">
                <a:solidFill>
                  <a:srgbClr val="ffffff"/>
                </a:solidFill>
                <a:latin typeface="Garamond"/>
              </a:rPr>
              <a:t>Package # 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042920" y="3807000"/>
            <a:ext cx="4776840" cy="44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Garamond"/>
              </a:rPr>
              <a:t>Packaging Inform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62000" y="1968480"/>
            <a:ext cx="4776840" cy="449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372280" y="1968480"/>
            <a:ext cx="482400" cy="228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95320" y="1968480"/>
            <a:ext cx="482760" cy="228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76240" y="1981080"/>
            <a:ext cx="4981680" cy="2266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371600" y="2408400"/>
            <a:ext cx="3981600" cy="1390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4480" y="4984920"/>
            <a:ext cx="102088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roject does not intend to develop an Open Archival Information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System but to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Define how to construct SIP’s which have the properties of AIP’s and being “Autonomous eXchange Entities” (OAIS – X-AXI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57360" y="42552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Open eXchange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1920" y="1414440"/>
            <a:ext cx="1031868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By standards it is meant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Garamond"/>
              <a:buAutoNum type="arabicPeriod"/>
              <a:tabLst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International standards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 (ISO, ETSI, …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Garamond"/>
              <a:buAutoNum type="arabicPeriod"/>
              <a:tabLst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National standards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 (DIN, AFNOR, ANSI, …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Garamond"/>
              <a:buAutoNum type="arabicPeriod"/>
              <a:tabLst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Industrial &amp; Community standards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	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(DVD-R, CD-R, RDF, Dublin Core, OAIS, METS, MXF, AAF, …)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tabLst>
                <a:tab algn="l" pos="0"/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700" spc="-1" strike="noStrike">
                <a:solidFill>
                  <a:srgbClr val="fafd00"/>
                </a:solidFill>
                <a:latin typeface="Garamond"/>
              </a:rPr>
              <a:t>They are standards backed by a large number of major actors of the domai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Garamond"/>
              <a:buAutoNum type="arabicPeriod" startAt="4"/>
              <a:tabLst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Industrial standards backed by International or National Standards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 (DVB →  ETSI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982800" indent="-35424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Garamond"/>
              <a:buAutoNum type="arabicPeriod" startAt="4"/>
              <a:tabLst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Local standards</a:t>
            </a:r>
            <a:r>
              <a:rPr b="1" lang="en-US" sz="1700" spc="-1" strike="noStrike">
                <a:solidFill>
                  <a:srgbClr val="fafd00"/>
                </a:solidFill>
                <a:latin typeface="Garamond"/>
              </a:rPr>
              <a:t>: </a:t>
            </a:r>
            <a:r>
              <a:rPr b="1" i="1" lang="en-US" sz="1700" spc="-1" strike="noStrike">
                <a:solidFill>
                  <a:srgbClr val="fafd00"/>
                </a:solidFill>
                <a:latin typeface="Garamond"/>
              </a:rPr>
              <a:t>They are standards valid in a specific environment </a:t>
            </a:r>
            <a:r>
              <a:rPr b="1" lang="en-US" sz="1900" spc="-1" strike="noStrike">
                <a:solidFill>
                  <a:srgbClr val="fafd00"/>
                </a:solidFill>
                <a:latin typeface="Garamond"/>
              </a:rPr>
              <a:t>(BLAP-S is a local standard of the British Library for the creation of metadata in the Audio sector; it is the definition of a Dublin Core Profile with possible MARC relator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568440"/>
                <a:tab algn="l" pos="982800"/>
                <a:tab algn="r" pos="6697800"/>
                <a:tab algn="r" pos="9909000"/>
                <a:tab algn="l" pos="105822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Remark: </a:t>
            </a:r>
            <a:r>
              <a:rPr b="1" i="1" lang="en-US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If ‘proprietary formats’ have to be included in the exchanges between modules, 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they will 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encapsulated </a:t>
            </a:r>
            <a:r>
              <a:rPr b="1" i="1" lang="en-US" sz="1900" spc="-1" strike="noStrike">
                <a:solidFill>
                  <a:srgbClr val="ffffff"/>
                </a:solidFill>
                <a:latin typeface="Garamond"/>
              </a:rPr>
              <a:t>and cloned by a 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proxy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5676840" y="2293920"/>
            <a:ext cx="1817640" cy="14763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089760" y="2324160"/>
            <a:ext cx="944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imes New Roman"/>
              </a:rPr>
              <a:t>M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5346720" y="1589040"/>
            <a:ext cx="17280" cy="5216400"/>
          </a:xfrm>
          <a:prstGeom prst="line">
            <a:avLst/>
          </a:prstGeom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21360" y="2292480"/>
            <a:ext cx="482400" cy="3794040"/>
          </a:xfrm>
          <a:prstGeom prst="rect">
            <a:avLst/>
          </a:prstGeom>
          <a:solidFill>
            <a:srgbClr val="3399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50720" y="1324080"/>
            <a:ext cx="83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X-AX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53040" y="1724040"/>
            <a:ext cx="452520" cy="407880"/>
          </a:xfrm>
          <a:prstGeom prst="foldedCorner">
            <a:avLst>
              <a:gd name="adj" fmla="val 44333"/>
            </a:avLst>
          </a:prstGeom>
          <a:solidFill>
            <a:srgbClr val="3333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553160" y="3263760"/>
            <a:ext cx="2408400" cy="493560"/>
            <a:chOff x="7553160" y="3263760"/>
            <a:chExt cx="2408400" cy="493560"/>
          </a:xfrm>
        </p:grpSpPr>
        <p:sp>
          <p:nvSpPr>
            <p:cNvPr id="988" name=""/>
            <p:cNvSpPr/>
            <p:nvPr/>
          </p:nvSpPr>
          <p:spPr>
            <a:xfrm>
              <a:off x="7553160" y="3300120"/>
              <a:ext cx="674640" cy="4572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007200" y="3300120"/>
              <a:ext cx="585720" cy="45720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0" name="" descr=""/>
            <p:cNvPicPr/>
            <p:nvPr/>
          </p:nvPicPr>
          <p:blipFill>
            <a:blip r:embed="rId1"/>
            <a:stretch/>
          </p:blipFill>
          <p:spPr>
            <a:xfrm flipH="1">
              <a:off x="9723240" y="3384360"/>
              <a:ext cx="2383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8315280" y="3441600"/>
              <a:ext cx="585720" cy="174600"/>
            </a:xfrm>
            <a:prstGeom prst="leftRightArrow">
              <a:avLst>
                <a:gd name="adj1" fmla="val 50000"/>
                <a:gd name="adj2" fmla="val 6678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10320" y="3263760"/>
              <a:ext cx="52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D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9360" y="33908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Expl # 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115200" y="3400200"/>
              <a:ext cx="52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U # 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7696080" y="2698920"/>
            <a:ext cx="1939680" cy="291960"/>
            <a:chOff x="7696080" y="2698920"/>
            <a:chExt cx="1939680" cy="291960"/>
          </a:xfrm>
        </p:grpSpPr>
        <p:sp>
          <p:nvSpPr>
            <p:cNvPr id="996" name=""/>
            <p:cNvSpPr/>
            <p:nvPr/>
          </p:nvSpPr>
          <p:spPr>
            <a:xfrm>
              <a:off x="7696080" y="269892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14840" y="269892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09600" y="269892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7728480" y="1658880"/>
            <a:ext cx="1765800" cy="322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EXPLOITATION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25840" y="1658880"/>
            <a:ext cx="1800360" cy="4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13680" bIns="13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XIS eX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Open Specif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356520" y="6340320"/>
            <a:ext cx="452160" cy="408240"/>
          </a:xfrm>
          <a:prstGeom prst="foldedCorner">
            <a:avLst>
              <a:gd name="adj" fmla="val 44333"/>
            </a:avLst>
          </a:prstGeom>
          <a:solidFill>
            <a:srgbClr val="3333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08680" y="6237360"/>
            <a:ext cx="13100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imes New Roman"/>
              </a:rPr>
              <a:t>OAI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reference mod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(ISO 14 721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8593200" y="2058840"/>
            <a:ext cx="9360" cy="4818240"/>
          </a:xfrm>
          <a:prstGeom prst="line">
            <a:avLst/>
          </a:prstGeom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03880" y="631980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AIP / S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137440" y="628812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P-D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5367240" y="6564240"/>
            <a:ext cx="944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53320" y="6564240"/>
            <a:ext cx="1709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3416400" y="1589040"/>
            <a:ext cx="17280" cy="5214960"/>
          </a:xfrm>
          <a:prstGeom prst="line">
            <a:avLst/>
          </a:prstGeom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191040" y="2290680"/>
            <a:ext cx="482400" cy="3794040"/>
          </a:xfrm>
          <a:prstGeom prst="rect">
            <a:avLst/>
          </a:prstGeom>
          <a:solidFill>
            <a:srgbClr val="3399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16200000">
            <a:off x="1499400" y="4069440"/>
            <a:ext cx="3814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ARE’s /Opus/Media/Profile/Labels/ Id Fountain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20400" y="1322280"/>
            <a:ext cx="83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X-AX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22720" y="1722600"/>
            <a:ext cx="452520" cy="407880"/>
          </a:xfrm>
          <a:prstGeom prst="foldedCorner">
            <a:avLst>
              <a:gd name="adj" fmla="val 44333"/>
            </a:avLst>
          </a:prstGeom>
          <a:solidFill>
            <a:srgbClr val="3333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735360" y="3859200"/>
            <a:ext cx="1320840" cy="290520"/>
          </a:xfrm>
          <a:prstGeom prst="leftRightArrow">
            <a:avLst>
              <a:gd name="adj1" fmla="val 56287"/>
              <a:gd name="adj2" fmla="val 77606"/>
            </a:avLst>
          </a:prstGeom>
          <a:solidFill>
            <a:srgbClr val="3399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30480" y="2874960"/>
            <a:ext cx="982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IP / S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xpressed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ff00"/>
                </a:solidFill>
                <a:latin typeface="Times New Roman"/>
              </a:rPr>
              <a:t>AXE’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96640" y="226800"/>
            <a:ext cx="6249240" cy="94608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54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Architecture </a:t>
            </a:r>
            <a:br>
              <a:rPr sz="2900"/>
            </a:br>
            <a:r>
              <a:rPr b="1" i="1" lang="en-GB" sz="2600" spc="-1" strike="noStrike">
                <a:solidFill>
                  <a:srgbClr val="ffffff"/>
                </a:solidFill>
                <a:latin typeface="Garamond"/>
              </a:rPr>
              <a:t>The two General Software Libra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rot="16200000">
            <a:off x="7606800" y="4781520"/>
            <a:ext cx="1938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3680" bIns="13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e575"/>
                </a:solidFill>
                <a:latin typeface="Times New Roman"/>
              </a:rPr>
              <a:t>ACE =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e575"/>
                </a:solidFill>
                <a:latin typeface="Times New Roman"/>
              </a:rPr>
              <a:t>A</a:t>
            </a: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utonomous</a:t>
            </a: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500" spc="-1" strike="noStrike">
                <a:solidFill>
                  <a:srgbClr val="ffe575"/>
                </a:solidFill>
                <a:latin typeface="Times New Roman"/>
              </a:rPr>
              <a:t>C</a:t>
            </a: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ontent </a:t>
            </a:r>
            <a:r>
              <a:rPr b="1" lang="en-GB" sz="1500" spc="-1" strike="noStrike">
                <a:solidFill>
                  <a:srgbClr val="ffe575"/>
                </a:solidFill>
                <a:latin typeface="Times New Roman"/>
              </a:rPr>
              <a:t>E</a:t>
            </a: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ntiti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7553160" y="2076480"/>
            <a:ext cx="2408400" cy="655560"/>
            <a:chOff x="7553160" y="2076480"/>
            <a:chExt cx="2408400" cy="655560"/>
          </a:xfrm>
        </p:grpSpPr>
        <p:sp>
          <p:nvSpPr>
            <p:cNvPr id="1018" name=""/>
            <p:cNvSpPr/>
            <p:nvPr/>
          </p:nvSpPr>
          <p:spPr>
            <a:xfrm>
              <a:off x="7553160" y="2276640"/>
              <a:ext cx="674640" cy="45540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007200" y="2276640"/>
              <a:ext cx="585720" cy="45540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0" name="" descr=""/>
            <p:cNvPicPr/>
            <p:nvPr/>
          </p:nvPicPr>
          <p:blipFill>
            <a:blip r:embed="rId2"/>
            <a:stretch/>
          </p:blipFill>
          <p:spPr>
            <a:xfrm flipH="1">
              <a:off x="9723240" y="2360520"/>
              <a:ext cx="2383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8315280" y="2416320"/>
              <a:ext cx="585720" cy="176040"/>
            </a:xfrm>
            <a:prstGeom prst="leftRightArrow">
              <a:avLst>
                <a:gd name="adj1" fmla="val 50000"/>
                <a:gd name="adj2" fmla="val 66236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346960" y="2076480"/>
              <a:ext cx="52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afd00"/>
                  </a:solidFill>
                  <a:latin typeface="Times New Roman"/>
                </a:rPr>
                <a:t>WE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D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42080" y="2403720"/>
              <a:ext cx="52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Expl #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115200" y="2394000"/>
              <a:ext cx="52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U #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661920" y="4224240"/>
            <a:ext cx="14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tonom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6200000">
            <a:off x="3453480" y="4015440"/>
            <a:ext cx="3814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ARE’s /Opus/Media/Profile/Labels/ Id Fountain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21040" y="3594240"/>
            <a:ext cx="740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481560" y="6564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435480" y="631980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AIP / S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465120" y="2063880"/>
            <a:ext cx="2679840" cy="1542960"/>
            <a:chOff x="465120" y="2063880"/>
            <a:chExt cx="2679840" cy="1542960"/>
          </a:xfrm>
        </p:grpSpPr>
        <p:sp>
          <p:nvSpPr>
            <p:cNvPr id="1031" name=""/>
            <p:cNvSpPr/>
            <p:nvPr/>
          </p:nvSpPr>
          <p:spPr>
            <a:xfrm>
              <a:off x="960480" y="3038400"/>
              <a:ext cx="585720" cy="174600"/>
            </a:xfrm>
            <a:prstGeom prst="leftRightArrow">
              <a:avLst>
                <a:gd name="adj1" fmla="val 50000"/>
                <a:gd name="adj2" fmla="val 66782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2" name="" descr=""/>
            <p:cNvPicPr/>
            <p:nvPr/>
          </p:nvPicPr>
          <p:blipFill>
            <a:blip r:embed="rId3"/>
            <a:stretch/>
          </p:blipFill>
          <p:spPr>
            <a:xfrm>
              <a:off x="609480" y="2963880"/>
              <a:ext cx="2890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465120" y="206388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Analogue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Digital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81200" y="2292480"/>
              <a:ext cx="1463760" cy="13143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9760" y="2427120"/>
              <a:ext cx="1096920" cy="185760"/>
            </a:xfrm>
            <a:prstGeom prst="rightArrow">
              <a:avLst>
                <a:gd name="adj1" fmla="val 49593"/>
                <a:gd name="adj2" fmla="val 74141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61280" y="2289240"/>
              <a:ext cx="857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M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73720" y="2825640"/>
              <a:ext cx="1266840" cy="66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3680" bIns="13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GSL f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ingle</a:t>
              </a: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 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ens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ource </a:t>
              </a: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epa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463680" y="4552920"/>
            <a:ext cx="2679480" cy="1542960"/>
            <a:chOff x="463680" y="4552920"/>
            <a:chExt cx="2679480" cy="1542960"/>
          </a:xfrm>
        </p:grpSpPr>
        <p:sp>
          <p:nvSpPr>
            <p:cNvPr id="1039" name=""/>
            <p:cNvSpPr/>
            <p:nvPr/>
          </p:nvSpPr>
          <p:spPr>
            <a:xfrm>
              <a:off x="958680" y="5527800"/>
              <a:ext cx="586080" cy="174600"/>
            </a:xfrm>
            <a:prstGeom prst="leftRightArrow">
              <a:avLst>
                <a:gd name="adj1" fmla="val 50000"/>
                <a:gd name="adj2" fmla="val 66823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0" name="" descr=""/>
            <p:cNvPicPr/>
            <p:nvPr/>
          </p:nvPicPr>
          <p:blipFill>
            <a:blip r:embed="rId4"/>
            <a:stretch/>
          </p:blipFill>
          <p:spPr>
            <a:xfrm>
              <a:off x="608040" y="5452920"/>
              <a:ext cx="2887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463680" y="4552920"/>
              <a:ext cx="1360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Analogue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Digital sour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9400" y="4781520"/>
              <a:ext cx="1463760" cy="13143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7960" y="4916520"/>
              <a:ext cx="1096920" cy="185760"/>
            </a:xfrm>
            <a:prstGeom prst="rightArrow">
              <a:avLst>
                <a:gd name="adj1" fmla="val 49593"/>
                <a:gd name="adj2" fmla="val 74141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959480" y="4778280"/>
              <a:ext cx="857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M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72280" y="5315040"/>
              <a:ext cx="1266840" cy="66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3680" bIns="13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GSL f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ingle</a:t>
              </a: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 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ens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ource </a:t>
              </a: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epa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5825160" y="2968560"/>
            <a:ext cx="1503720" cy="66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3680" bIns="136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GSL f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nhan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nformation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etriev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492120" y="2610000"/>
            <a:ext cx="9408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Single Sensor Source Separat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SSSS”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73080" y="1254240"/>
            <a:ext cx="1017756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457200" indent="-45720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improvement of the acquisition process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namely by using a “Single Sensor Source Separation” approa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84040"/>
                <a:tab algn="l" pos="569880"/>
                <a:tab algn="l" pos="10717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81040" y="378000"/>
            <a:ext cx="678492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Single Sensor Source Separ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9350280" cy="3722760"/>
          </a:xfrm>
          <a:prstGeom prst="rect">
            <a:avLst/>
          </a:prstGeom>
          <a:ln w="720">
            <a:solidFill>
              <a:srgbClr val="000000"/>
            </a:solidFill>
            <a:miter/>
          </a:ln>
        </p:spPr>
      </p:pic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492120" y="2610000"/>
            <a:ext cx="9408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Advanced Information Retrieva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AIR”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35040" y="1290600"/>
            <a:ext cx="91422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84040"/>
                <a:tab algn="l" pos="569880"/>
                <a:tab algn="l" pos="125568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mprovement of the retrieval processes namely by using a “Advance search base on semantic annotations” developed for the b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47960" y="244440"/>
            <a:ext cx="5689440" cy="757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Advanced Retrieva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1662120" y="3541680"/>
            <a:ext cx="20797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055" name=""/>
          <p:cNvGrpSpPr/>
          <p:nvPr/>
        </p:nvGrpSpPr>
        <p:grpSpPr>
          <a:xfrm>
            <a:off x="5221440" y="3160800"/>
            <a:ext cx="3565440" cy="2871720"/>
            <a:chOff x="5221440" y="3160800"/>
            <a:chExt cx="3565440" cy="2871720"/>
          </a:xfrm>
        </p:grpSpPr>
        <p:pic>
          <p:nvPicPr>
            <p:cNvPr id="1056" name="" descr=""/>
            <p:cNvPicPr/>
            <p:nvPr/>
          </p:nvPicPr>
          <p:blipFill>
            <a:blip r:embed="rId2"/>
            <a:stretch/>
          </p:blipFill>
          <p:spPr>
            <a:xfrm>
              <a:off x="5221440" y="3160800"/>
              <a:ext cx="218880" cy="28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"/>
            <a:stretch/>
          </p:blipFill>
          <p:spPr>
            <a:xfrm>
              <a:off x="8548560" y="3374640"/>
              <a:ext cx="238320" cy="23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5478480" y="3661200"/>
              <a:ext cx="2994120" cy="19123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25960" y="4446000"/>
              <a:ext cx="2030760" cy="3373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600" spc="-1" strike="noStrike">
                  <a:solidFill>
                    <a:srgbClr val="fc0128"/>
                  </a:solidFill>
                  <a:latin typeface="Times New Roman"/>
                </a:rPr>
                <a:t>Semantic associatio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2187360" y="35751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D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06440" y="1717560"/>
            <a:ext cx="9629640" cy="3926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Media Ch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intended Dissemin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31760" y="2143080"/>
            <a:ext cx="8348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9900"/>
                </a:solidFill>
                <a:latin typeface="Garamond"/>
              </a:rPr>
              <a:t>Structure of the presentat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5840" y="3889440"/>
            <a:ext cx="4724640" cy="569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6360" indent="-480960">
              <a:lnSpc>
                <a:spcPct val="11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Media Ch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920" y="1792440"/>
            <a:ext cx="1033128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5414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900" spc="-1" strike="noStrike">
                <a:solidFill>
                  <a:srgbClr val="ffff00"/>
                </a:solidFill>
                <a:latin typeface="Garamond"/>
              </a:rPr>
              <a:t>MEMORIES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roject focuses on the </a:t>
            </a:r>
            <a:r>
              <a:rPr b="1" lang="en-US" sz="2900" spc="-1" strike="noStrike">
                <a:solidFill>
                  <a:srgbClr val="ffff00"/>
                </a:solidFill>
                <a:latin typeface="Garamond"/>
              </a:rPr>
              <a:t>SOUND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 media chain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with as main goals the evaluation &amp; validation, through a demonstrator, of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362160">
              <a:lnSpc>
                <a:spcPct val="120000"/>
              </a:lnSpc>
              <a:spcBef>
                <a:spcPts val="1089"/>
              </a:spcBef>
              <a:buClr>
                <a:srgbClr val="ffffff"/>
              </a:buClr>
              <a:buFont typeface="Garamond"/>
              <a:buAutoNum type="arabicPeriod"/>
              <a:tabLst>
                <a:tab algn="l" pos="5414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PROFILE 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acquisition system defining the tailorization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362160">
              <a:lnSpc>
                <a:spcPct val="120000"/>
              </a:lnSpc>
              <a:spcBef>
                <a:spcPts val="1089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5414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A “</a:t>
            </a:r>
            <a:r>
              <a:rPr b="1" lang="en-US" sz="2300" spc="-1" strike="noStrike">
                <a:solidFill>
                  <a:srgbClr val="ffff00"/>
                </a:solidFill>
                <a:latin typeface="Garamond"/>
              </a:rPr>
              <a:t>Content Acquisition System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” generating </a:t>
            </a:r>
            <a:r>
              <a:rPr b="1" i="1" lang="en-US" sz="25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utonomous </a:t>
            </a:r>
            <a:r>
              <a:rPr b="1" i="1" lang="en-US" sz="25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ssets </a:t>
            </a:r>
            <a:r>
              <a:rPr b="1" i="1" lang="en-US" sz="25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ntiti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362160">
              <a:lnSpc>
                <a:spcPct val="120000"/>
              </a:lnSpc>
              <a:spcBef>
                <a:spcPts val="1089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5414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The definition of an “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Open eXchange Format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” based on standard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362160">
              <a:lnSpc>
                <a:spcPct val="120000"/>
              </a:lnSpc>
              <a:spcBef>
                <a:spcPts val="1089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5414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The improvement of the 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retrieval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, exploiting the tailorizations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3400" y="511200"/>
            <a:ext cx="678528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409680" y="1790640"/>
            <a:ext cx="2576520" cy="382284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2"/>
          <a:stretch/>
        </p:blipFill>
        <p:spPr>
          <a:xfrm>
            <a:off x="4316400" y="4979880"/>
            <a:ext cx="1808280" cy="2008440"/>
          </a:xfrm>
          <a:prstGeom prst="rect">
            <a:avLst/>
          </a:prstGeom>
          <a:ln w="0">
            <a:noFill/>
          </a:ln>
        </p:spPr>
      </p:pic>
      <p:grpSp>
        <p:nvGrpSpPr>
          <p:cNvPr id="1066" name=""/>
          <p:cNvGrpSpPr/>
          <p:nvPr/>
        </p:nvGrpSpPr>
        <p:grpSpPr>
          <a:xfrm>
            <a:off x="8805960" y="3262320"/>
            <a:ext cx="1362240" cy="938160"/>
            <a:chOff x="8805960" y="3262320"/>
            <a:chExt cx="1362240" cy="938160"/>
          </a:xfrm>
        </p:grpSpPr>
        <p:grpSp>
          <p:nvGrpSpPr>
            <p:cNvPr id="1067" name=""/>
            <p:cNvGrpSpPr/>
            <p:nvPr/>
          </p:nvGrpSpPr>
          <p:grpSpPr>
            <a:xfrm>
              <a:off x="9580680" y="3262320"/>
              <a:ext cx="587520" cy="938160"/>
              <a:chOff x="9580680" y="3262320"/>
              <a:chExt cx="587520" cy="938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9821160" y="3413880"/>
                <a:ext cx="93600" cy="547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7637600">
                <a:off x="9686880" y="3430080"/>
                <a:ext cx="93240" cy="293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4965200">
                <a:off x="9968040" y="3441600"/>
                <a:ext cx="93240" cy="293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9481400">
                <a:off x="9913320" y="3908520"/>
                <a:ext cx="93600" cy="291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9725760" y="3262320"/>
                <a:ext cx="294840" cy="1814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2163000">
                <a:off x="9720360" y="3908160"/>
                <a:ext cx="93600" cy="291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8805960" y="3527280"/>
              <a:ext cx="689040" cy="401760"/>
            </a:xfrm>
            <a:prstGeom prst="rightArrow">
              <a:avLst>
                <a:gd name="adj1" fmla="val 50000"/>
                <a:gd name="adj2" fmla="val 42876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160800" y="2473200"/>
            <a:ext cx="5964480" cy="2409480"/>
            <a:chOff x="3160800" y="2473200"/>
            <a:chExt cx="5964480" cy="2409480"/>
          </a:xfrm>
        </p:grpSpPr>
        <p:sp>
          <p:nvSpPr>
            <p:cNvPr id="1076" name=""/>
            <p:cNvSpPr/>
            <p:nvPr/>
          </p:nvSpPr>
          <p:spPr>
            <a:xfrm>
              <a:off x="4154400" y="3333600"/>
              <a:ext cx="2078280" cy="784440"/>
            </a:xfrm>
            <a:prstGeom prst="bevel">
              <a:avLst>
                <a:gd name="adj" fmla="val 7523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2900" spc="-1" strike="noStrike">
                  <a:solidFill>
                    <a:srgbClr val="ffffff"/>
                  </a:solidFill>
                  <a:latin typeface="Arial"/>
                </a:rPr>
                <a:t>Rendering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60800" y="3497400"/>
              <a:ext cx="803160" cy="40140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59560" y="3527280"/>
              <a:ext cx="689040" cy="401760"/>
            </a:xfrm>
            <a:prstGeom prst="rightArrow">
              <a:avLst>
                <a:gd name="adj1" fmla="val 50000"/>
                <a:gd name="adj2" fmla="val 42876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5400000">
              <a:off x="4875840" y="2615400"/>
              <a:ext cx="687600" cy="403200"/>
            </a:xfrm>
            <a:prstGeom prst="rightArrow">
              <a:avLst>
                <a:gd name="adj1" fmla="val 50000"/>
                <a:gd name="adj2" fmla="val 42634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 rot="16200000">
              <a:off x="4876560" y="4337640"/>
              <a:ext cx="685800" cy="403200"/>
            </a:xfrm>
            <a:prstGeom prst="rightArrow">
              <a:avLst>
                <a:gd name="adj1" fmla="val 50000"/>
                <a:gd name="adj2" fmla="val 42522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7596360" y="3260520"/>
              <a:ext cx="1074240" cy="1046520"/>
              <a:chOff x="7596360" y="3260520"/>
              <a:chExt cx="1074240" cy="1046520"/>
            </a:xfrm>
          </p:grpSpPr>
          <p:sp>
            <p:nvSpPr>
              <p:cNvPr id="1082" name=""/>
              <p:cNvSpPr/>
              <p:nvPr/>
            </p:nvSpPr>
            <p:spPr>
              <a:xfrm>
                <a:off x="8026560" y="3665520"/>
                <a:ext cx="230040" cy="227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53480" y="3600360"/>
                <a:ext cx="374760" cy="358920"/>
              </a:xfrm>
              <a:prstGeom prst="ellipse">
                <a:avLst/>
              </a:prstGeom>
              <a:solidFill>
                <a:srgbClr val="ffff00"/>
              </a:solidFill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00000">
                <a:off x="7788240" y="3449520"/>
                <a:ext cx="666720" cy="657000"/>
              </a:xfrm>
              <a:prstGeom prst="blockArc">
                <a:avLst>
                  <a:gd name="adj1" fmla="val 11632441"/>
                  <a:gd name="adj2" fmla="val 20767559"/>
                  <a:gd name="adj3" fmla="val 1272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5400000">
                <a:off x="7817040" y="3449520"/>
                <a:ext cx="666720" cy="657360"/>
              </a:xfrm>
              <a:prstGeom prst="blockArc">
                <a:avLst>
                  <a:gd name="adj1" fmla="val 11632441"/>
                  <a:gd name="adj2" fmla="val 20767559"/>
                  <a:gd name="adj3" fmla="val 1272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6200000">
                <a:off x="7448760" y="3408120"/>
                <a:ext cx="1042920" cy="747720"/>
              </a:xfrm>
              <a:prstGeom prst="blockArc">
                <a:avLst>
                  <a:gd name="adj1" fmla="val 10733490"/>
                  <a:gd name="adj2" fmla="val 66510"/>
                  <a:gd name="adj3" fmla="val 11713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rot="5400000">
                <a:off x="7774560" y="3411360"/>
                <a:ext cx="1043280" cy="747720"/>
              </a:xfrm>
              <a:prstGeom prst="blockArc">
                <a:avLst>
                  <a:gd name="adj1" fmla="val 10733490"/>
                  <a:gd name="adj2" fmla="val 66510"/>
                  <a:gd name="adj3" fmla="val 11713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7648200" y="2797200"/>
              <a:ext cx="947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S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95760" y="4438800"/>
              <a:ext cx="182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Evidence” 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5450400" y="4438800"/>
            <a:ext cx="94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148200" y="3137040"/>
            <a:ext cx="74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392880" y="316548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79480" y="253836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524480" y="254160"/>
            <a:ext cx="3801960" cy="2004840"/>
            <a:chOff x="4524480" y="254160"/>
            <a:chExt cx="3801960" cy="2004840"/>
          </a:xfrm>
        </p:grpSpPr>
        <p:pic>
          <p:nvPicPr>
            <p:cNvPr id="1095" name="" descr=""/>
            <p:cNvPicPr/>
            <p:nvPr/>
          </p:nvPicPr>
          <p:blipFill>
            <a:blip r:embed="rId3"/>
            <a:stretch/>
          </p:blipFill>
          <p:spPr>
            <a:xfrm>
              <a:off x="4524480" y="254160"/>
              <a:ext cx="139212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6086880" y="600120"/>
              <a:ext cx="22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aurizio Pollin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211560" y="3333600"/>
            <a:ext cx="2222280" cy="784440"/>
          </a:xfrm>
          <a:prstGeom prst="bevel">
            <a:avLst>
              <a:gd name="adj" fmla="val 75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51160" y="3517920"/>
            <a:ext cx="689040" cy="4017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05560" y="3527280"/>
            <a:ext cx="689040" cy="4017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5400000">
            <a:off x="3933000" y="2615400"/>
            <a:ext cx="687600" cy="403200"/>
          </a:xfrm>
          <a:prstGeom prst="rightArrow">
            <a:avLst>
              <a:gd name="adj1" fmla="val 50000"/>
              <a:gd name="adj2" fmla="val 4263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 rot="16200000">
            <a:off x="3933720" y="4394880"/>
            <a:ext cx="685800" cy="403200"/>
          </a:xfrm>
          <a:prstGeom prst="rightArrow">
            <a:avLst>
              <a:gd name="adj1" fmla="val 50000"/>
              <a:gd name="adj2" fmla="val 4252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63400" y="3033720"/>
            <a:ext cx="1600200" cy="507960"/>
          </a:xfrm>
          <a:prstGeom prst="foldedCorner">
            <a:avLst>
              <a:gd name="adj" fmla="val 264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27720" y="5154480"/>
            <a:ext cx="1790640" cy="7272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4000680" y="1371600"/>
            <a:ext cx="585720" cy="937800"/>
            <a:chOff x="4000680" y="1371600"/>
            <a:chExt cx="585720" cy="937800"/>
          </a:xfrm>
        </p:grpSpPr>
        <p:sp>
          <p:nvSpPr>
            <p:cNvPr id="1105" name=""/>
            <p:cNvSpPr/>
            <p:nvPr/>
          </p:nvSpPr>
          <p:spPr>
            <a:xfrm>
              <a:off x="4240440" y="1523160"/>
              <a:ext cx="93240" cy="547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7637600">
              <a:off x="4106520" y="1539720"/>
              <a:ext cx="93240" cy="292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4965200">
              <a:off x="4386600" y="1551240"/>
              <a:ext cx="93240" cy="292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9481400">
              <a:off x="4332240" y="2017440"/>
              <a:ext cx="93240" cy="29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145400" y="1371600"/>
              <a:ext cx="293760" cy="181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2163000">
              <a:off x="4140000" y="2017800"/>
              <a:ext cx="93240" cy="29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9037800" y="3233880"/>
            <a:ext cx="585720" cy="937800"/>
            <a:chOff x="9037800" y="3233880"/>
            <a:chExt cx="585720" cy="937800"/>
          </a:xfrm>
        </p:grpSpPr>
        <p:sp>
          <p:nvSpPr>
            <p:cNvPr id="1112" name=""/>
            <p:cNvSpPr/>
            <p:nvPr/>
          </p:nvSpPr>
          <p:spPr>
            <a:xfrm>
              <a:off x="9277560" y="3385440"/>
              <a:ext cx="93240" cy="547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17637600">
              <a:off x="9143640" y="3402000"/>
              <a:ext cx="93240" cy="292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4965200">
              <a:off x="9423720" y="3413520"/>
              <a:ext cx="93240" cy="292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9481400">
              <a:off x="9369360" y="3879720"/>
              <a:ext cx="93240" cy="29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82520" y="3233880"/>
              <a:ext cx="293760" cy="181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2163000">
              <a:off x="9177120" y="3880080"/>
              <a:ext cx="93240" cy="29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8310600" y="3517920"/>
            <a:ext cx="689040" cy="4017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372360" y="2940120"/>
            <a:ext cx="1793880" cy="649080"/>
          </a:xfrm>
          <a:prstGeom prst="foldedCorner">
            <a:avLst>
              <a:gd name="adj" fmla="val 264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92360" y="1467000"/>
            <a:ext cx="2198520" cy="726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0680" y="3851280"/>
            <a:ext cx="1722240" cy="72720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81640" y="3903840"/>
            <a:ext cx="1955880" cy="7268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625840" y="5186520"/>
            <a:ext cx="1600200" cy="660240"/>
          </a:xfrm>
          <a:prstGeom prst="foldedCorner">
            <a:avLst>
              <a:gd name="adj" fmla="val 264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46600" y="1490760"/>
            <a:ext cx="1946160" cy="790560"/>
          </a:xfrm>
          <a:prstGeom prst="foldedCorner">
            <a:avLst>
              <a:gd name="adj" fmla="val 2648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588960" y="4199040"/>
            <a:ext cx="4363560" cy="1812600"/>
            <a:chOff x="588960" y="4199040"/>
            <a:chExt cx="4363560" cy="1812600"/>
          </a:xfrm>
        </p:grpSpPr>
        <p:sp>
          <p:nvSpPr>
            <p:cNvPr id="1126" name=""/>
            <p:cNvSpPr/>
            <p:nvPr/>
          </p:nvSpPr>
          <p:spPr>
            <a:xfrm>
              <a:off x="588960" y="4695480"/>
              <a:ext cx="1239840" cy="361800"/>
            </a:xfrm>
            <a:prstGeom prst="bevel">
              <a:avLst>
                <a:gd name="adj" fmla="val 777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Composi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58560" y="4692240"/>
              <a:ext cx="717480" cy="373320"/>
            </a:xfrm>
            <a:prstGeom prst="foldedCorner">
              <a:avLst>
                <a:gd name="adj" fmla="val 3216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fr-BE" sz="1500" spc="-1" strike="noStrike">
                  <a:solidFill>
                    <a:srgbClr val="fc0128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29200" y="4687200"/>
              <a:ext cx="113076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nder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52200" y="4782240"/>
              <a:ext cx="277560" cy="194760"/>
            </a:xfrm>
            <a:prstGeom prst="rightArrow">
              <a:avLst>
                <a:gd name="adj1" fmla="val 43593"/>
                <a:gd name="adj2" fmla="val 4378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5400000">
              <a:off x="4362120" y="5235480"/>
              <a:ext cx="978480" cy="202320"/>
            </a:xfrm>
            <a:prstGeom prst="rightArrow">
              <a:avLst>
                <a:gd name="adj1" fmla="val 45463"/>
                <a:gd name="adj2" fmla="val 77448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09880" y="4785480"/>
              <a:ext cx="277560" cy="194760"/>
            </a:xfrm>
            <a:prstGeom prst="rightArrow">
              <a:avLst>
                <a:gd name="adj1" fmla="val 43593"/>
                <a:gd name="adj2" fmla="val 4378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88760" y="4847400"/>
              <a:ext cx="458280" cy="79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2910200">
              <a:off x="2624760" y="5433480"/>
              <a:ext cx="1371960" cy="201240"/>
            </a:xfrm>
            <a:prstGeom prst="rightArrow">
              <a:avLst>
                <a:gd name="adj1" fmla="val 45463"/>
                <a:gd name="adj2" fmla="val 109175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16200000">
              <a:off x="3684240" y="5140080"/>
              <a:ext cx="246240" cy="200520"/>
            </a:xfrm>
            <a:prstGeom prst="rightArrow">
              <a:avLst>
                <a:gd name="adj1" fmla="val 50000"/>
                <a:gd name="adj2" fmla="val 307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38800" y="5410800"/>
              <a:ext cx="541800" cy="15624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3656160" y="4199040"/>
              <a:ext cx="295200" cy="457200"/>
              <a:chOff x="3656160" y="4199040"/>
              <a:chExt cx="295200" cy="457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3777120" y="4272840"/>
                <a:ext cx="47160" cy="266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7637600">
                <a:off x="3709800" y="4277880"/>
                <a:ext cx="45360" cy="147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4965200">
                <a:off x="3851280" y="4283640"/>
                <a:ext cx="45360" cy="147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9481400">
                <a:off x="3823200" y="4513320"/>
                <a:ext cx="47160" cy="141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28880" y="4199040"/>
                <a:ext cx="148320" cy="882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2163000">
                <a:off x="3726000" y="4513320"/>
                <a:ext cx="47160" cy="141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1119600" y="4200840"/>
              <a:ext cx="295200" cy="457200"/>
              <a:chOff x="1119600" y="4200840"/>
              <a:chExt cx="295200" cy="457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1240560" y="4274640"/>
                <a:ext cx="47160" cy="266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7637600">
                <a:off x="1173240" y="4279680"/>
                <a:ext cx="45360" cy="147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4965200">
                <a:off x="1314720" y="4285440"/>
                <a:ext cx="45360" cy="147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9481400">
                <a:off x="1286640" y="4515120"/>
                <a:ext cx="47160" cy="141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192320" y="4200840"/>
                <a:ext cx="148320" cy="882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63000">
                <a:off x="1189440" y="4515120"/>
                <a:ext cx="47160" cy="141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693720" y="573120"/>
            <a:ext cx="8340480" cy="4106160"/>
            <a:chOff x="693720" y="573120"/>
            <a:chExt cx="8340480" cy="4106160"/>
          </a:xfrm>
        </p:grpSpPr>
        <p:sp>
          <p:nvSpPr>
            <p:cNvPr id="1151" name=""/>
            <p:cNvSpPr/>
            <p:nvPr/>
          </p:nvSpPr>
          <p:spPr>
            <a:xfrm>
              <a:off x="693720" y="573120"/>
              <a:ext cx="8340480" cy="3555000"/>
            </a:xfrm>
            <a:prstGeom prst="rect">
              <a:avLst/>
            </a:prstGeom>
            <a:solidFill>
              <a:srgbClr val="2e001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2474280" y="676080"/>
              <a:ext cx="4948200" cy="4003200"/>
              <a:chOff x="2474280" y="676080"/>
              <a:chExt cx="4948200" cy="4003200"/>
            </a:xfrm>
          </p:grpSpPr>
          <p:sp>
            <p:nvSpPr>
              <p:cNvPr id="1153" name=""/>
              <p:cNvSpPr/>
              <p:nvPr/>
            </p:nvSpPr>
            <p:spPr>
              <a:xfrm>
                <a:off x="2474280" y="686160"/>
                <a:ext cx="128880" cy="3974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293600" y="676080"/>
                <a:ext cx="128880" cy="4003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5" name=""/>
          <p:cNvGrpSpPr/>
          <p:nvPr/>
        </p:nvGrpSpPr>
        <p:grpSpPr>
          <a:xfrm>
            <a:off x="5057640" y="4705200"/>
            <a:ext cx="4869720" cy="1373400"/>
            <a:chOff x="5057640" y="4705200"/>
            <a:chExt cx="4869720" cy="1373400"/>
          </a:xfrm>
        </p:grpSpPr>
        <p:sp>
          <p:nvSpPr>
            <p:cNvPr id="1156" name=""/>
            <p:cNvSpPr/>
            <p:nvPr/>
          </p:nvSpPr>
          <p:spPr>
            <a:xfrm>
              <a:off x="5532480" y="4713480"/>
              <a:ext cx="1090800" cy="361440"/>
            </a:xfrm>
            <a:prstGeom prst="bevel">
              <a:avLst>
                <a:gd name="adj" fmla="val 777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cord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991560" y="4709880"/>
              <a:ext cx="717840" cy="373320"/>
            </a:xfrm>
            <a:prstGeom prst="foldedCorner">
              <a:avLst>
                <a:gd name="adj" fmla="val 3216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fr-BE" sz="1500" spc="-1" strike="noStrike">
                  <a:solidFill>
                    <a:srgbClr val="fc0128"/>
                  </a:solidFill>
                  <a:latin typeface="Arial"/>
                </a:rPr>
                <a:t>Memory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085600" y="4705200"/>
              <a:ext cx="125820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65040" y="4799880"/>
              <a:ext cx="277560" cy="194760"/>
            </a:xfrm>
            <a:prstGeom prst="rightArrow">
              <a:avLst>
                <a:gd name="adj1" fmla="val 43593"/>
                <a:gd name="adj2" fmla="val 4378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92920" y="4803480"/>
              <a:ext cx="277920" cy="194760"/>
            </a:xfrm>
            <a:prstGeom prst="rightArrow">
              <a:avLst>
                <a:gd name="adj1" fmla="val 43593"/>
                <a:gd name="adj2" fmla="val 4384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412560" y="4865040"/>
              <a:ext cx="458280" cy="79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5400000">
              <a:off x="9323640" y="5269680"/>
              <a:ext cx="1005120" cy="201960"/>
            </a:xfrm>
            <a:prstGeom prst="rightArrow">
              <a:avLst>
                <a:gd name="adj1" fmla="val 43806"/>
                <a:gd name="adj2" fmla="val 72648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4620600" y="5284440"/>
              <a:ext cx="956880" cy="80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57640" y="4796640"/>
              <a:ext cx="411120" cy="196920"/>
            </a:xfrm>
            <a:prstGeom prst="rightArrow">
              <a:avLst>
                <a:gd name="adj1" fmla="val 50000"/>
                <a:gd name="adj2" fmla="val 5219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 rot="16200000">
              <a:off x="8962560" y="5168880"/>
              <a:ext cx="246600" cy="200520"/>
            </a:xfrm>
            <a:prstGeom prst="rightArrow">
              <a:avLst>
                <a:gd name="adj1" fmla="val 50000"/>
                <a:gd name="adj2" fmla="val 30745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827200" y="5430240"/>
              <a:ext cx="541800" cy="15624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 rot="16200000">
              <a:off x="8298360" y="5159520"/>
              <a:ext cx="246240" cy="200520"/>
            </a:xfrm>
            <a:prstGeom prst="rightArrow">
              <a:avLst>
                <a:gd name="adj1" fmla="val 50000"/>
                <a:gd name="adj2" fmla="val 307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142480" y="5430240"/>
              <a:ext cx="542160" cy="15624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 rot="16200000">
              <a:off x="5924160" y="5127480"/>
              <a:ext cx="246600" cy="200520"/>
            </a:xfrm>
            <a:prstGeom prst="rightArrow">
              <a:avLst>
                <a:gd name="adj1" fmla="val 50000"/>
                <a:gd name="adj2" fmla="val 30745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78360" y="5398200"/>
              <a:ext cx="542160" cy="15660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2968400">
              <a:off x="7208280" y="5491800"/>
              <a:ext cx="1371960" cy="201600"/>
            </a:xfrm>
            <a:prstGeom prst="rightArrow">
              <a:avLst>
                <a:gd name="adj1" fmla="val 45463"/>
                <a:gd name="adj2" fmla="val 10898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2663640" y="2905200"/>
            <a:ext cx="4593960" cy="274320"/>
            <a:chOff x="2663640" y="2905200"/>
            <a:chExt cx="4593960" cy="274320"/>
          </a:xfrm>
        </p:grpSpPr>
        <p:sp>
          <p:nvSpPr>
            <p:cNvPr id="1173" name=""/>
            <p:cNvSpPr/>
            <p:nvPr/>
          </p:nvSpPr>
          <p:spPr>
            <a:xfrm>
              <a:off x="6980040" y="2970000"/>
              <a:ext cx="277560" cy="194400"/>
            </a:xfrm>
            <a:prstGeom prst="rightArrow">
              <a:avLst>
                <a:gd name="adj1" fmla="val 43593"/>
                <a:gd name="adj2" fmla="val 4386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663280" y="2938320"/>
              <a:ext cx="277560" cy="194400"/>
            </a:xfrm>
            <a:prstGeom prst="rightArrow">
              <a:avLst>
                <a:gd name="adj1" fmla="val 43593"/>
                <a:gd name="adj2" fmla="val 4386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12120" y="2905200"/>
              <a:ext cx="3914280" cy="274320"/>
            </a:xfrm>
            <a:prstGeom prst="bevel">
              <a:avLst>
                <a:gd name="adj" fmla="val 752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Annotation / Comments / 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673000" y="2465280"/>
            <a:ext cx="4576320" cy="274320"/>
            <a:chOff x="2673000" y="2465280"/>
            <a:chExt cx="4576320" cy="274320"/>
          </a:xfrm>
        </p:grpSpPr>
        <p:sp>
          <p:nvSpPr>
            <p:cNvPr id="1177" name=""/>
            <p:cNvSpPr/>
            <p:nvPr/>
          </p:nvSpPr>
          <p:spPr>
            <a:xfrm>
              <a:off x="3021120" y="2465280"/>
              <a:ext cx="3915720" cy="274320"/>
            </a:xfrm>
            <a:prstGeom prst="bevel">
              <a:avLst>
                <a:gd name="adj" fmla="val 752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Transcrip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2672640" y="2486520"/>
              <a:ext cx="277560" cy="194400"/>
            </a:xfrm>
            <a:prstGeom prst="rightArrow">
              <a:avLst>
                <a:gd name="adj1" fmla="val 43593"/>
                <a:gd name="adj2" fmla="val 4386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971400" y="2496960"/>
              <a:ext cx="277560" cy="194400"/>
            </a:xfrm>
            <a:prstGeom prst="rightArrow">
              <a:avLst>
                <a:gd name="adj1" fmla="val 43593"/>
                <a:gd name="adj2" fmla="val 4386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445520" y="2209680"/>
            <a:ext cx="1463040" cy="402840"/>
            <a:chOff x="7445520" y="2209680"/>
            <a:chExt cx="1463040" cy="402840"/>
          </a:xfrm>
        </p:grpSpPr>
        <p:sp>
          <p:nvSpPr>
            <p:cNvPr id="1181" name=""/>
            <p:cNvSpPr/>
            <p:nvPr/>
          </p:nvSpPr>
          <p:spPr>
            <a:xfrm>
              <a:off x="7776720" y="2209680"/>
              <a:ext cx="113184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stor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45520" y="2311200"/>
              <a:ext cx="311040" cy="166320"/>
            </a:xfrm>
            <a:prstGeom prst="leftRightArrow">
              <a:avLst>
                <a:gd name="adj1" fmla="val 50000"/>
                <a:gd name="adj2" fmla="val 372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7435800" y="1671480"/>
            <a:ext cx="1461600" cy="403200"/>
            <a:chOff x="7435800" y="1671480"/>
            <a:chExt cx="1461600" cy="403200"/>
          </a:xfrm>
        </p:grpSpPr>
        <p:sp>
          <p:nvSpPr>
            <p:cNvPr id="1184" name=""/>
            <p:cNvSpPr/>
            <p:nvPr/>
          </p:nvSpPr>
          <p:spPr>
            <a:xfrm>
              <a:off x="7766640" y="1671480"/>
              <a:ext cx="113076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Digitis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35800" y="1802880"/>
              <a:ext cx="311040" cy="166680"/>
            </a:xfrm>
            <a:prstGeom prst="leftRightArrow">
              <a:avLst>
                <a:gd name="adj1" fmla="val 50000"/>
                <a:gd name="adj2" fmla="val 3714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445520" y="1152360"/>
            <a:ext cx="1451880" cy="403200"/>
            <a:chOff x="7445520" y="1152360"/>
            <a:chExt cx="1451880" cy="403200"/>
          </a:xfrm>
        </p:grpSpPr>
        <p:sp>
          <p:nvSpPr>
            <p:cNvPr id="1187" name=""/>
            <p:cNvSpPr/>
            <p:nvPr/>
          </p:nvSpPr>
          <p:spPr>
            <a:xfrm>
              <a:off x="7766640" y="1152360"/>
              <a:ext cx="113076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gistr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45520" y="1292400"/>
              <a:ext cx="311040" cy="166680"/>
            </a:xfrm>
            <a:prstGeom prst="leftRightArrow">
              <a:avLst>
                <a:gd name="adj1" fmla="val 50000"/>
                <a:gd name="adj2" fmla="val 3714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7435800" y="673200"/>
            <a:ext cx="1461600" cy="402840"/>
            <a:chOff x="7435800" y="673200"/>
            <a:chExt cx="1461600" cy="402840"/>
          </a:xfrm>
        </p:grpSpPr>
        <p:sp>
          <p:nvSpPr>
            <p:cNvPr id="1190" name=""/>
            <p:cNvSpPr/>
            <p:nvPr/>
          </p:nvSpPr>
          <p:spPr>
            <a:xfrm>
              <a:off x="7766640" y="673200"/>
              <a:ext cx="113076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Preserv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35800" y="783000"/>
              <a:ext cx="311040" cy="166320"/>
            </a:xfrm>
            <a:prstGeom prst="leftRightArrow">
              <a:avLst>
                <a:gd name="adj1" fmla="val 50000"/>
                <a:gd name="adj2" fmla="val 372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437600" y="3178080"/>
            <a:ext cx="1470960" cy="402840"/>
            <a:chOff x="7437600" y="3178080"/>
            <a:chExt cx="1470960" cy="402840"/>
          </a:xfrm>
        </p:grpSpPr>
        <p:sp>
          <p:nvSpPr>
            <p:cNvPr id="1193" name=""/>
            <p:cNvSpPr/>
            <p:nvPr/>
          </p:nvSpPr>
          <p:spPr>
            <a:xfrm>
              <a:off x="7777080" y="3178080"/>
              <a:ext cx="113148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Contro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7600" y="3287880"/>
              <a:ext cx="311040" cy="166320"/>
            </a:xfrm>
            <a:prstGeom prst="leftRightArrow">
              <a:avLst>
                <a:gd name="adj1" fmla="val 50000"/>
                <a:gd name="adj2" fmla="val 372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7426440" y="2689200"/>
            <a:ext cx="1481760" cy="402840"/>
            <a:chOff x="7426440" y="2689200"/>
            <a:chExt cx="1481760" cy="402840"/>
          </a:xfrm>
        </p:grpSpPr>
        <p:sp>
          <p:nvSpPr>
            <p:cNvPr id="1196" name=""/>
            <p:cNvSpPr/>
            <p:nvPr/>
          </p:nvSpPr>
          <p:spPr>
            <a:xfrm>
              <a:off x="7777440" y="2689200"/>
              <a:ext cx="113076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Structur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26440" y="2800440"/>
              <a:ext cx="311400" cy="166320"/>
            </a:xfrm>
            <a:prstGeom prst="leftRightArrow">
              <a:avLst>
                <a:gd name="adj1" fmla="val 50000"/>
                <a:gd name="adj2" fmla="val 3727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7437600" y="3668760"/>
            <a:ext cx="1459800" cy="402840"/>
            <a:chOff x="7437600" y="3668760"/>
            <a:chExt cx="1459800" cy="402840"/>
          </a:xfrm>
        </p:grpSpPr>
        <p:sp>
          <p:nvSpPr>
            <p:cNvPr id="1199" name=""/>
            <p:cNvSpPr/>
            <p:nvPr/>
          </p:nvSpPr>
          <p:spPr>
            <a:xfrm>
              <a:off x="7767000" y="3668760"/>
              <a:ext cx="113040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…</a:t>
              </a: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37600" y="3768480"/>
              <a:ext cx="310680" cy="166320"/>
            </a:xfrm>
            <a:prstGeom prst="leftRightArrow">
              <a:avLst>
                <a:gd name="adj1" fmla="val 50000"/>
                <a:gd name="adj2" fmla="val 3718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998640" y="2341440"/>
            <a:ext cx="1466280" cy="402840"/>
            <a:chOff x="998640" y="2341440"/>
            <a:chExt cx="1466280" cy="402840"/>
          </a:xfrm>
        </p:grpSpPr>
        <p:sp>
          <p:nvSpPr>
            <p:cNvPr id="1202" name=""/>
            <p:cNvSpPr/>
            <p:nvPr/>
          </p:nvSpPr>
          <p:spPr>
            <a:xfrm>
              <a:off x="998640" y="2341440"/>
              <a:ext cx="113148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Trans-cod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53520" y="2446200"/>
              <a:ext cx="311400" cy="166320"/>
            </a:xfrm>
            <a:prstGeom prst="leftRightArrow">
              <a:avLst>
                <a:gd name="adj1" fmla="val 50000"/>
                <a:gd name="adj2" fmla="val 3727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988920" y="1803240"/>
            <a:ext cx="1464840" cy="403200"/>
            <a:chOff x="988920" y="1803240"/>
            <a:chExt cx="1464840" cy="403200"/>
          </a:xfrm>
        </p:grpSpPr>
        <p:sp>
          <p:nvSpPr>
            <p:cNvPr id="1205" name=""/>
            <p:cNvSpPr/>
            <p:nvPr/>
          </p:nvSpPr>
          <p:spPr>
            <a:xfrm>
              <a:off x="988920" y="1803240"/>
              <a:ext cx="113040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Synthesi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43080" y="1938240"/>
              <a:ext cx="310680" cy="166680"/>
            </a:xfrm>
            <a:prstGeom prst="leftRightArrow">
              <a:avLst>
                <a:gd name="adj1" fmla="val 50000"/>
                <a:gd name="adj2" fmla="val 3710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988920" y="1282680"/>
            <a:ext cx="1476000" cy="402840"/>
            <a:chOff x="988920" y="1282680"/>
            <a:chExt cx="1476000" cy="402840"/>
          </a:xfrm>
        </p:grpSpPr>
        <p:sp>
          <p:nvSpPr>
            <p:cNvPr id="1208" name=""/>
            <p:cNvSpPr/>
            <p:nvPr/>
          </p:nvSpPr>
          <p:spPr>
            <a:xfrm>
              <a:off x="988920" y="1282680"/>
              <a:ext cx="113112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Parti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53520" y="1425600"/>
              <a:ext cx="311400" cy="166320"/>
            </a:xfrm>
            <a:prstGeom prst="leftRightArrow">
              <a:avLst>
                <a:gd name="adj1" fmla="val 50000"/>
                <a:gd name="adj2" fmla="val 3727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88920" y="804960"/>
            <a:ext cx="1464840" cy="402840"/>
            <a:chOff x="988920" y="804960"/>
            <a:chExt cx="1464840" cy="402840"/>
          </a:xfrm>
        </p:grpSpPr>
        <p:sp>
          <p:nvSpPr>
            <p:cNvPr id="1211" name=""/>
            <p:cNvSpPr/>
            <p:nvPr/>
          </p:nvSpPr>
          <p:spPr>
            <a:xfrm>
              <a:off x="988920" y="804960"/>
              <a:ext cx="113040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Preserv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43080" y="918000"/>
              <a:ext cx="310680" cy="166320"/>
            </a:xfrm>
            <a:prstGeom prst="leftRightArrow">
              <a:avLst>
                <a:gd name="adj1" fmla="val 50000"/>
                <a:gd name="adj2" fmla="val 37186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998640" y="3340080"/>
            <a:ext cx="1456920" cy="402840"/>
            <a:chOff x="998640" y="3340080"/>
            <a:chExt cx="1456920" cy="402840"/>
          </a:xfrm>
        </p:grpSpPr>
        <p:sp>
          <p:nvSpPr>
            <p:cNvPr id="1214" name=""/>
            <p:cNvSpPr/>
            <p:nvPr/>
          </p:nvSpPr>
          <p:spPr>
            <a:xfrm>
              <a:off x="998640" y="3340080"/>
              <a:ext cx="113112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…</a:t>
              </a: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44520" y="3422880"/>
              <a:ext cx="311040" cy="166320"/>
            </a:xfrm>
            <a:prstGeom prst="leftRightArrow">
              <a:avLst>
                <a:gd name="adj1" fmla="val 50000"/>
                <a:gd name="adj2" fmla="val 372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998640" y="2819520"/>
            <a:ext cx="1445760" cy="402840"/>
            <a:chOff x="998640" y="2819520"/>
            <a:chExt cx="1445760" cy="402840"/>
          </a:xfrm>
        </p:grpSpPr>
        <p:sp>
          <p:nvSpPr>
            <p:cNvPr id="1217" name=""/>
            <p:cNvSpPr/>
            <p:nvPr/>
          </p:nvSpPr>
          <p:spPr>
            <a:xfrm>
              <a:off x="998640" y="2819520"/>
              <a:ext cx="1131120" cy="40284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…</a:t>
              </a: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33000" y="2934360"/>
              <a:ext cx="311400" cy="166320"/>
            </a:xfrm>
            <a:prstGeom prst="leftRightArrow">
              <a:avLst>
                <a:gd name="adj1" fmla="val 50000"/>
                <a:gd name="adj2" fmla="val 3727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2635200" y="700200"/>
            <a:ext cx="4608000" cy="442080"/>
            <a:chOff x="2635200" y="700200"/>
            <a:chExt cx="4608000" cy="442080"/>
          </a:xfrm>
        </p:grpSpPr>
        <p:grpSp>
          <p:nvGrpSpPr>
            <p:cNvPr id="1220" name=""/>
            <p:cNvGrpSpPr/>
            <p:nvPr/>
          </p:nvGrpSpPr>
          <p:grpSpPr>
            <a:xfrm>
              <a:off x="2635200" y="740160"/>
              <a:ext cx="1490400" cy="402120"/>
              <a:chOff x="2635200" y="740160"/>
              <a:chExt cx="1490400" cy="402120"/>
            </a:xfrm>
          </p:grpSpPr>
          <p:sp>
            <p:nvSpPr>
              <p:cNvPr id="1221" name=""/>
              <p:cNvSpPr/>
              <p:nvPr/>
            </p:nvSpPr>
            <p:spPr>
              <a:xfrm>
                <a:off x="2994840" y="740160"/>
                <a:ext cx="1130760" cy="40212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Exploit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35200" y="85320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5757840" y="700200"/>
              <a:ext cx="1485360" cy="402120"/>
              <a:chOff x="5757840" y="700200"/>
              <a:chExt cx="1485360" cy="402120"/>
            </a:xfrm>
          </p:grpSpPr>
          <p:sp>
            <p:nvSpPr>
              <p:cNvPr id="1224" name=""/>
              <p:cNvSpPr/>
              <p:nvPr/>
            </p:nvSpPr>
            <p:spPr>
              <a:xfrm>
                <a:off x="5757840" y="700200"/>
                <a:ext cx="1130760" cy="40212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Exploit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31800" y="78480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"/>
          <p:cNvGrpSpPr/>
          <p:nvPr/>
        </p:nvGrpSpPr>
        <p:grpSpPr>
          <a:xfrm>
            <a:off x="2633760" y="3325680"/>
            <a:ext cx="4641480" cy="274320"/>
            <a:chOff x="2633760" y="3325680"/>
            <a:chExt cx="4641480" cy="274320"/>
          </a:xfrm>
        </p:grpSpPr>
        <p:sp>
          <p:nvSpPr>
            <p:cNvPr id="1227" name=""/>
            <p:cNvSpPr/>
            <p:nvPr/>
          </p:nvSpPr>
          <p:spPr>
            <a:xfrm>
              <a:off x="2633760" y="3390480"/>
              <a:ext cx="344520" cy="166320"/>
            </a:xfrm>
            <a:prstGeom prst="leftRightArrow">
              <a:avLst>
                <a:gd name="adj1" fmla="val 50000"/>
                <a:gd name="adj2" fmla="val 4123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964200" y="3380760"/>
              <a:ext cx="311040" cy="166320"/>
            </a:xfrm>
            <a:prstGeom prst="leftRightArrow">
              <a:avLst>
                <a:gd name="adj1" fmla="val 50000"/>
                <a:gd name="adj2" fmla="val 3722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03120" y="3325680"/>
              <a:ext cx="3915720" cy="274320"/>
            </a:xfrm>
            <a:prstGeom prst="bevel">
              <a:avLst>
                <a:gd name="adj" fmla="val 752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Synchronis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851720" y="708120"/>
            <a:ext cx="294840" cy="457560"/>
            <a:chOff x="4851720" y="708120"/>
            <a:chExt cx="294840" cy="457560"/>
          </a:xfrm>
        </p:grpSpPr>
        <p:sp>
          <p:nvSpPr>
            <p:cNvPr id="1231" name=""/>
            <p:cNvSpPr/>
            <p:nvPr/>
          </p:nvSpPr>
          <p:spPr>
            <a:xfrm>
              <a:off x="4972320" y="781920"/>
              <a:ext cx="47160" cy="266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7637600">
              <a:off x="4905360" y="787680"/>
              <a:ext cx="45360" cy="147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4965200">
              <a:off x="5046840" y="793440"/>
              <a:ext cx="45360" cy="147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9481400">
              <a:off x="5018760" y="1022760"/>
              <a:ext cx="47160" cy="142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24440" y="708120"/>
              <a:ext cx="1483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2163000">
              <a:off x="4921560" y="1022760"/>
              <a:ext cx="47160" cy="142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692440" y="2065320"/>
            <a:ext cx="4585680" cy="356760"/>
            <a:chOff x="2692440" y="2065320"/>
            <a:chExt cx="4585680" cy="356760"/>
          </a:xfrm>
        </p:grpSpPr>
        <p:sp>
          <p:nvSpPr>
            <p:cNvPr id="1238" name=""/>
            <p:cNvSpPr/>
            <p:nvPr/>
          </p:nvSpPr>
          <p:spPr>
            <a:xfrm>
              <a:off x="6783480" y="2248920"/>
              <a:ext cx="17712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2692440" y="2065320"/>
              <a:ext cx="4585680" cy="274680"/>
              <a:chOff x="2692440" y="2065320"/>
              <a:chExt cx="4585680" cy="274680"/>
            </a:xfrm>
          </p:grpSpPr>
          <p:sp>
            <p:nvSpPr>
              <p:cNvPr id="1240" name=""/>
              <p:cNvSpPr/>
              <p:nvPr/>
            </p:nvSpPr>
            <p:spPr>
              <a:xfrm>
                <a:off x="3012120" y="2065320"/>
                <a:ext cx="3914640" cy="274680"/>
              </a:xfrm>
              <a:prstGeom prst="bevel">
                <a:avLst>
                  <a:gd name="adj" fmla="val 7523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Emul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692440" y="2090160"/>
                <a:ext cx="277560" cy="195120"/>
              </a:xfrm>
              <a:prstGeom prst="rightArrow">
                <a:avLst>
                  <a:gd name="adj1" fmla="val 43593"/>
                  <a:gd name="adj2" fmla="val 4370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00560" y="2120040"/>
                <a:ext cx="277560" cy="195120"/>
              </a:xfrm>
              <a:prstGeom prst="rightArrow">
                <a:avLst>
                  <a:gd name="adj1" fmla="val 43593"/>
                  <a:gd name="adj2" fmla="val 4370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5335560" y="5965920"/>
            <a:ext cx="4722840" cy="1017720"/>
            <a:chOff x="5335560" y="5965920"/>
            <a:chExt cx="4722840" cy="1017720"/>
          </a:xfrm>
        </p:grpSpPr>
        <p:sp>
          <p:nvSpPr>
            <p:cNvPr id="1244" name=""/>
            <p:cNvSpPr/>
            <p:nvPr/>
          </p:nvSpPr>
          <p:spPr>
            <a:xfrm>
              <a:off x="5826240" y="6073920"/>
              <a:ext cx="3295440" cy="276120"/>
            </a:xfrm>
            <a:prstGeom prst="bevel">
              <a:avLst>
                <a:gd name="adj" fmla="val 752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Broadcas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35560" y="6091200"/>
              <a:ext cx="344520" cy="216000"/>
            </a:xfrm>
            <a:prstGeom prst="rightArrow">
              <a:avLst>
                <a:gd name="adj1" fmla="val 50000"/>
                <a:gd name="adj2" fmla="val 39875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190080" y="6111720"/>
              <a:ext cx="344520" cy="206640"/>
            </a:xfrm>
            <a:prstGeom prst="rightArrow">
              <a:avLst>
                <a:gd name="adj1" fmla="val 50000"/>
                <a:gd name="adj2" fmla="val 41681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 rot="16200000">
              <a:off x="5985360" y="6402600"/>
              <a:ext cx="245880" cy="199800"/>
            </a:xfrm>
            <a:prstGeom prst="rightArrow">
              <a:avLst>
                <a:gd name="adj1" fmla="val 50000"/>
                <a:gd name="adj2" fmla="val 30766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38840" y="6672240"/>
              <a:ext cx="542880" cy="15732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 rot="16200000">
              <a:off x="8709840" y="6402240"/>
              <a:ext cx="245880" cy="200160"/>
            </a:xfrm>
            <a:prstGeom prst="rightArrow">
              <a:avLst>
                <a:gd name="adj1" fmla="val 50000"/>
                <a:gd name="adj2" fmla="val 3071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562960" y="6672240"/>
              <a:ext cx="542880" cy="15732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9672840" y="6526080"/>
              <a:ext cx="294840" cy="457560"/>
              <a:chOff x="9672840" y="6526080"/>
              <a:chExt cx="294840" cy="457560"/>
            </a:xfrm>
          </p:grpSpPr>
          <p:sp>
            <p:nvSpPr>
              <p:cNvPr id="1252" name=""/>
              <p:cNvSpPr/>
              <p:nvPr/>
            </p:nvSpPr>
            <p:spPr>
              <a:xfrm>
                <a:off x="9793440" y="6599880"/>
                <a:ext cx="47160" cy="266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17637600">
                <a:off x="9726480" y="660564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14965200">
                <a:off x="9867960" y="661140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19481400">
                <a:off x="9839880" y="684072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9745560" y="6526080"/>
                <a:ext cx="148320" cy="885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163000">
                <a:off x="9742680" y="684072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9570960" y="5965920"/>
              <a:ext cx="487440" cy="487440"/>
              <a:chOff x="9570960" y="5965920"/>
              <a:chExt cx="487440" cy="48744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9612360" y="6041520"/>
                <a:ext cx="414000" cy="349560"/>
                <a:chOff x="9612360" y="6041520"/>
                <a:chExt cx="414000" cy="3495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9777960" y="6177240"/>
                  <a:ext cx="88560" cy="75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9749880" y="6155280"/>
                  <a:ext cx="144360" cy="119880"/>
                </a:xfrm>
                <a:prstGeom prst="ellipse">
                  <a:avLst/>
                </a:prstGeom>
                <a:solidFill>
                  <a:srgbClr val="ffff00"/>
                </a:solidFill>
                <a:ln w="316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rot="16200000">
                  <a:off x="9703080" y="6087960"/>
                  <a:ext cx="222840" cy="253080"/>
                </a:xfrm>
                <a:prstGeom prst="blockArc">
                  <a:avLst>
                    <a:gd name="adj1" fmla="val 11632441"/>
                    <a:gd name="adj2" fmla="val 20767559"/>
                    <a:gd name="adj3" fmla="val 12722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rot="5400000">
                  <a:off x="9713520" y="6087960"/>
                  <a:ext cx="222840" cy="253080"/>
                </a:xfrm>
                <a:prstGeom prst="blockArc">
                  <a:avLst>
                    <a:gd name="adj1" fmla="val 11632441"/>
                    <a:gd name="adj2" fmla="val 20767559"/>
                    <a:gd name="adj3" fmla="val 12722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rot="16200000">
                  <a:off x="9581760" y="6071760"/>
                  <a:ext cx="348840" cy="288000"/>
                </a:xfrm>
                <a:prstGeom prst="blockArc">
                  <a:avLst>
                    <a:gd name="adj1" fmla="val 10733490"/>
                    <a:gd name="adj2" fmla="val 66510"/>
                    <a:gd name="adj3" fmla="val 11713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 rot="5400000">
                  <a:off x="9707760" y="6072480"/>
                  <a:ext cx="348840" cy="288000"/>
                </a:xfrm>
                <a:prstGeom prst="blockArc">
                  <a:avLst>
                    <a:gd name="adj1" fmla="val 10733490"/>
                    <a:gd name="adj2" fmla="val 66510"/>
                    <a:gd name="adj3" fmla="val 11713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6" name=""/>
              <p:cNvSpPr/>
              <p:nvPr/>
            </p:nvSpPr>
            <p:spPr>
              <a:xfrm>
                <a:off x="9570960" y="5965920"/>
                <a:ext cx="487440" cy="487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7" name=""/>
          <p:cNvGrpSpPr/>
          <p:nvPr/>
        </p:nvGrpSpPr>
        <p:grpSpPr>
          <a:xfrm>
            <a:off x="582480" y="5522760"/>
            <a:ext cx="4667400" cy="1479960"/>
            <a:chOff x="582480" y="5522760"/>
            <a:chExt cx="4667400" cy="1479960"/>
          </a:xfrm>
        </p:grpSpPr>
        <p:grpSp>
          <p:nvGrpSpPr>
            <p:cNvPr id="1268" name=""/>
            <p:cNvGrpSpPr/>
            <p:nvPr/>
          </p:nvGrpSpPr>
          <p:grpSpPr>
            <a:xfrm>
              <a:off x="582480" y="5522760"/>
              <a:ext cx="4667400" cy="1366920"/>
              <a:chOff x="582480" y="5522760"/>
              <a:chExt cx="4667400" cy="1366920"/>
            </a:xfrm>
          </p:grpSpPr>
          <p:grpSp>
            <p:nvGrpSpPr>
              <p:cNvPr id="1269" name=""/>
              <p:cNvGrpSpPr/>
              <p:nvPr/>
            </p:nvGrpSpPr>
            <p:grpSpPr>
              <a:xfrm>
                <a:off x="582480" y="5522760"/>
                <a:ext cx="4154760" cy="1366920"/>
                <a:chOff x="582480" y="5522760"/>
                <a:chExt cx="4154760" cy="136692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392720" y="6103800"/>
                  <a:ext cx="344520" cy="195480"/>
                </a:xfrm>
                <a:prstGeom prst="rightArrow">
                  <a:avLst>
                    <a:gd name="adj1" fmla="val 50000"/>
                    <a:gd name="adj2" fmla="val 44061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 rot="16200000">
                  <a:off x="2295720" y="6463440"/>
                  <a:ext cx="246240" cy="199800"/>
                </a:xfrm>
                <a:prstGeom prst="rightArrow">
                  <a:avLst>
                    <a:gd name="adj1" fmla="val 50000"/>
                    <a:gd name="adj2" fmla="val 30811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151000" y="6732720"/>
                  <a:ext cx="541440" cy="156960"/>
                </a:xfrm>
                <a:prstGeom prst="cube">
                  <a:avLst>
                    <a:gd name="adj" fmla="val 31916"/>
                  </a:avLst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82480" y="6035760"/>
                  <a:ext cx="3703680" cy="342720"/>
                </a:xfrm>
                <a:prstGeom prst="bevel">
                  <a:avLst>
                    <a:gd name="adj" fmla="val 10227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120" rIns="96120" tIns="48240" bIns="48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en-GB" sz="1300" spc="-1" strike="noStrike">
                      <a:solidFill>
                        <a:srgbClr val="fc0128"/>
                      </a:solidFill>
                      <a:latin typeface="Arial"/>
                    </a:rPr>
                    <a:t>Extemporization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4" name=""/>
                <p:cNvGrpSpPr/>
                <p:nvPr/>
              </p:nvGrpSpPr>
              <p:grpSpPr>
                <a:xfrm>
                  <a:off x="2298960" y="5522760"/>
                  <a:ext cx="296640" cy="457560"/>
                  <a:chOff x="2298960" y="5522760"/>
                  <a:chExt cx="296640" cy="457560"/>
                </a:xfrm>
              </p:grpSpPr>
              <p:sp>
                <p:nvSpPr>
                  <p:cNvPr id="1275" name=""/>
                  <p:cNvSpPr/>
                  <p:nvPr/>
                </p:nvSpPr>
                <p:spPr>
                  <a:xfrm>
                    <a:off x="2420280" y="5596560"/>
                    <a:ext cx="47160" cy="26676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rot="17637600">
                    <a:off x="2352960" y="5601960"/>
                    <a:ext cx="45360" cy="14832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rot="14965200">
                    <a:off x="2495160" y="5607360"/>
                    <a:ext cx="45360" cy="14832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rot="19481400">
                    <a:off x="2466720" y="5837400"/>
                    <a:ext cx="47160" cy="14220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2372040" y="5522760"/>
                    <a:ext cx="14904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rot="2163000">
                    <a:off x="2369160" y="5837400"/>
                    <a:ext cx="47160" cy="14220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4762440" y="5956200"/>
                <a:ext cx="487440" cy="487440"/>
                <a:chOff x="4762440" y="5956200"/>
                <a:chExt cx="487440" cy="48744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4803840" y="6031800"/>
                  <a:ext cx="414000" cy="349560"/>
                  <a:chOff x="4803840" y="6031800"/>
                  <a:chExt cx="414000" cy="3495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4969440" y="6167520"/>
                    <a:ext cx="88560" cy="759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941360" y="6145560"/>
                    <a:ext cx="144360" cy="11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31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rot="16200000">
                    <a:off x="4894560" y="6078240"/>
                    <a:ext cx="222840" cy="253080"/>
                  </a:xfrm>
                  <a:prstGeom prst="blockArc">
                    <a:avLst>
                      <a:gd name="adj1" fmla="val 11632441"/>
                      <a:gd name="adj2" fmla="val 20767559"/>
                      <a:gd name="adj3" fmla="val 12722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H="1" rot="5400000">
                    <a:off x="4905000" y="6078240"/>
                    <a:ext cx="222840" cy="253080"/>
                  </a:xfrm>
                  <a:prstGeom prst="blockArc">
                    <a:avLst>
                      <a:gd name="adj1" fmla="val 11632441"/>
                      <a:gd name="adj2" fmla="val 20767559"/>
                      <a:gd name="adj3" fmla="val 12722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rot="16200000">
                    <a:off x="4773240" y="6062040"/>
                    <a:ext cx="348840" cy="288000"/>
                  </a:xfrm>
                  <a:prstGeom prst="blockArc">
                    <a:avLst>
                      <a:gd name="adj1" fmla="val 10733490"/>
                      <a:gd name="adj2" fmla="val 66510"/>
                      <a:gd name="adj3" fmla="val 11713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H="1" rot="5400000">
                    <a:off x="4899240" y="6062760"/>
                    <a:ext cx="348840" cy="288000"/>
                  </a:xfrm>
                  <a:prstGeom prst="blockArc">
                    <a:avLst>
                      <a:gd name="adj1" fmla="val 10733490"/>
                      <a:gd name="adj2" fmla="val 66510"/>
                      <a:gd name="adj3" fmla="val 11713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9" name=""/>
                <p:cNvSpPr/>
                <p:nvPr/>
              </p:nvSpPr>
              <p:spPr>
                <a:xfrm>
                  <a:off x="4762440" y="5956200"/>
                  <a:ext cx="487440" cy="487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0" name=""/>
            <p:cNvGrpSpPr/>
            <p:nvPr/>
          </p:nvGrpSpPr>
          <p:grpSpPr>
            <a:xfrm>
              <a:off x="4858200" y="6545160"/>
              <a:ext cx="294840" cy="457560"/>
              <a:chOff x="4858200" y="6545160"/>
              <a:chExt cx="294840" cy="457560"/>
            </a:xfrm>
          </p:grpSpPr>
          <p:sp>
            <p:nvSpPr>
              <p:cNvPr id="1291" name=""/>
              <p:cNvSpPr/>
              <p:nvPr/>
            </p:nvSpPr>
            <p:spPr>
              <a:xfrm>
                <a:off x="4978800" y="6618960"/>
                <a:ext cx="47160" cy="266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7637600">
                <a:off x="4911840" y="662472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4965200">
                <a:off x="5053320" y="663048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481400">
                <a:off x="5025240" y="685980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930920" y="6545160"/>
                <a:ext cx="147960" cy="885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163000">
                <a:off x="4928040" y="685980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3430440" y="6748560"/>
            <a:ext cx="1020600" cy="325080"/>
            <a:chOff x="3430440" y="6748560"/>
            <a:chExt cx="1020600" cy="325080"/>
          </a:xfrm>
        </p:grpSpPr>
        <p:sp>
          <p:nvSpPr>
            <p:cNvPr id="1298" name=""/>
            <p:cNvSpPr/>
            <p:nvPr/>
          </p:nvSpPr>
          <p:spPr>
            <a:xfrm>
              <a:off x="3430440" y="6815160"/>
              <a:ext cx="236520" cy="22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09000" y="6748560"/>
              <a:ext cx="8420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fr-BE" sz="1500" spc="-1" strike="noStrike">
                  <a:solidFill>
                    <a:srgbClr val="ffffff"/>
                  </a:solidFill>
                  <a:latin typeface="Arial"/>
                </a:rPr>
                <a:t>Avatar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0" name=""/>
          <p:cNvGrpSpPr/>
          <p:nvPr/>
        </p:nvGrpSpPr>
        <p:grpSpPr>
          <a:xfrm>
            <a:off x="5335560" y="5981760"/>
            <a:ext cx="4722840" cy="1017720"/>
            <a:chOff x="5335560" y="5981760"/>
            <a:chExt cx="4722840" cy="1017720"/>
          </a:xfrm>
        </p:grpSpPr>
        <p:sp>
          <p:nvSpPr>
            <p:cNvPr id="1301" name=""/>
            <p:cNvSpPr/>
            <p:nvPr/>
          </p:nvSpPr>
          <p:spPr>
            <a:xfrm>
              <a:off x="5826240" y="6089760"/>
              <a:ext cx="3295440" cy="276120"/>
            </a:xfrm>
            <a:prstGeom prst="bevel">
              <a:avLst>
                <a:gd name="adj" fmla="val 752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Broadcas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35560" y="6107040"/>
              <a:ext cx="344520" cy="216000"/>
            </a:xfrm>
            <a:prstGeom prst="rightArrow">
              <a:avLst>
                <a:gd name="adj1" fmla="val 50000"/>
                <a:gd name="adj2" fmla="val 39875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9190080" y="6127560"/>
              <a:ext cx="344520" cy="206640"/>
            </a:xfrm>
            <a:prstGeom prst="rightArrow">
              <a:avLst>
                <a:gd name="adj1" fmla="val 50000"/>
                <a:gd name="adj2" fmla="val 41681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 rot="16200000">
              <a:off x="5985360" y="6418440"/>
              <a:ext cx="245880" cy="199800"/>
            </a:xfrm>
            <a:prstGeom prst="rightArrow">
              <a:avLst>
                <a:gd name="adj1" fmla="val 50000"/>
                <a:gd name="adj2" fmla="val 30766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38840" y="6688080"/>
              <a:ext cx="542880" cy="15732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 rot="16200000">
              <a:off x="8709840" y="6418080"/>
              <a:ext cx="245880" cy="200160"/>
            </a:xfrm>
            <a:prstGeom prst="rightArrow">
              <a:avLst>
                <a:gd name="adj1" fmla="val 50000"/>
                <a:gd name="adj2" fmla="val 3071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562960" y="6688080"/>
              <a:ext cx="542880" cy="15732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8" name=""/>
            <p:cNvGrpSpPr/>
            <p:nvPr/>
          </p:nvGrpSpPr>
          <p:grpSpPr>
            <a:xfrm>
              <a:off x="9672840" y="6541920"/>
              <a:ext cx="294840" cy="457560"/>
              <a:chOff x="9672840" y="6541920"/>
              <a:chExt cx="294840" cy="457560"/>
            </a:xfrm>
          </p:grpSpPr>
          <p:sp>
            <p:nvSpPr>
              <p:cNvPr id="1309" name=""/>
              <p:cNvSpPr/>
              <p:nvPr/>
            </p:nvSpPr>
            <p:spPr>
              <a:xfrm>
                <a:off x="9793440" y="6615720"/>
                <a:ext cx="47160" cy="266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7637600">
                <a:off x="9726480" y="662148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4965200">
                <a:off x="9867960" y="662724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9481400">
                <a:off x="9839880" y="685656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9745560" y="6541920"/>
                <a:ext cx="148320" cy="885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163000">
                <a:off x="9742680" y="685656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9570960" y="5981760"/>
              <a:ext cx="487440" cy="487440"/>
              <a:chOff x="9570960" y="5981760"/>
              <a:chExt cx="487440" cy="48744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9612360" y="6057360"/>
                <a:ext cx="414000" cy="349560"/>
                <a:chOff x="9612360" y="6057360"/>
                <a:chExt cx="414000" cy="3495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9777960" y="6193080"/>
                  <a:ext cx="88560" cy="75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9749880" y="6171120"/>
                  <a:ext cx="144360" cy="119880"/>
                </a:xfrm>
                <a:prstGeom prst="ellipse">
                  <a:avLst/>
                </a:prstGeom>
                <a:solidFill>
                  <a:srgbClr val="ffff00"/>
                </a:solidFill>
                <a:ln w="316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16200000">
                  <a:off x="9703080" y="6103800"/>
                  <a:ext cx="222840" cy="253080"/>
                </a:xfrm>
                <a:prstGeom prst="blockArc">
                  <a:avLst>
                    <a:gd name="adj1" fmla="val 11632441"/>
                    <a:gd name="adj2" fmla="val 20767559"/>
                    <a:gd name="adj3" fmla="val 12722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 rot="5400000">
                  <a:off x="9713520" y="6103800"/>
                  <a:ext cx="222840" cy="253080"/>
                </a:xfrm>
                <a:prstGeom prst="blockArc">
                  <a:avLst>
                    <a:gd name="adj1" fmla="val 11632441"/>
                    <a:gd name="adj2" fmla="val 20767559"/>
                    <a:gd name="adj3" fmla="val 12722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rot="16200000">
                  <a:off x="9581760" y="6087600"/>
                  <a:ext cx="348840" cy="288000"/>
                </a:xfrm>
                <a:prstGeom prst="blockArc">
                  <a:avLst>
                    <a:gd name="adj1" fmla="val 10733490"/>
                    <a:gd name="adj2" fmla="val 66510"/>
                    <a:gd name="adj3" fmla="val 11713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rot="5400000">
                  <a:off x="9707760" y="6088320"/>
                  <a:ext cx="348840" cy="288000"/>
                </a:xfrm>
                <a:prstGeom prst="blockArc">
                  <a:avLst>
                    <a:gd name="adj1" fmla="val 10733490"/>
                    <a:gd name="adj2" fmla="val 66510"/>
                    <a:gd name="adj3" fmla="val 11713"/>
                  </a:avLst>
                </a:prstGeom>
                <a:solidFill>
                  <a:srgbClr val="ff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" name=""/>
              <p:cNvSpPr/>
              <p:nvPr/>
            </p:nvSpPr>
            <p:spPr>
              <a:xfrm>
                <a:off x="9570960" y="5981760"/>
                <a:ext cx="487440" cy="487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4" name=""/>
          <p:cNvGrpSpPr/>
          <p:nvPr/>
        </p:nvGrpSpPr>
        <p:grpSpPr>
          <a:xfrm>
            <a:off x="5057640" y="4707000"/>
            <a:ext cx="4870440" cy="1388880"/>
            <a:chOff x="5057640" y="4707000"/>
            <a:chExt cx="4870440" cy="1388880"/>
          </a:xfrm>
        </p:grpSpPr>
        <p:grpSp>
          <p:nvGrpSpPr>
            <p:cNvPr id="1325" name=""/>
            <p:cNvGrpSpPr/>
            <p:nvPr/>
          </p:nvGrpSpPr>
          <p:grpSpPr>
            <a:xfrm>
              <a:off x="5057640" y="4707000"/>
              <a:ext cx="4870440" cy="1388880"/>
              <a:chOff x="5057640" y="4707000"/>
              <a:chExt cx="4870440" cy="1388880"/>
            </a:xfrm>
          </p:grpSpPr>
          <p:sp>
            <p:nvSpPr>
              <p:cNvPr id="1326" name=""/>
              <p:cNvSpPr/>
              <p:nvPr/>
            </p:nvSpPr>
            <p:spPr>
              <a:xfrm>
                <a:off x="5532480" y="4729320"/>
                <a:ext cx="1090440" cy="361800"/>
              </a:xfrm>
              <a:prstGeom prst="bevel">
                <a:avLst>
                  <a:gd name="adj" fmla="val 7773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Recording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72480" y="4707000"/>
                <a:ext cx="826920" cy="425520"/>
              </a:xfrm>
              <a:prstGeom prst="foldedCorner">
                <a:avLst>
                  <a:gd name="adj" fmla="val 30518"/>
                </a:avLst>
              </a:prstGeom>
              <a:solidFill>
                <a:srgbClr val="3399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1080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0" lang="fr-BE" sz="1700" spc="-1" strike="noStrike">
                    <a:solidFill>
                      <a:srgbClr val="ffffff"/>
                    </a:solidFill>
                    <a:latin typeface="Arial"/>
                  </a:rPr>
                  <a:t>Storag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139240" y="4721400"/>
                <a:ext cx="1257120" cy="40320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Reproduc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665760" y="4816440"/>
                <a:ext cx="277920" cy="195480"/>
              </a:xfrm>
              <a:prstGeom prst="rightArrow">
                <a:avLst>
                  <a:gd name="adj1" fmla="val 43593"/>
                  <a:gd name="adj2" fmla="val 4367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831080" y="4819680"/>
                <a:ext cx="277920" cy="195480"/>
              </a:xfrm>
              <a:prstGeom prst="rightArrow">
                <a:avLst>
                  <a:gd name="adj1" fmla="val 43593"/>
                  <a:gd name="adj2" fmla="val 4367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412200" y="4881600"/>
                <a:ext cx="459000" cy="7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5400000">
                <a:off x="9324000" y="5285520"/>
                <a:ext cx="1004760" cy="203040"/>
              </a:xfrm>
              <a:prstGeom prst="rightArrow">
                <a:avLst>
                  <a:gd name="adj1" fmla="val 43806"/>
                  <a:gd name="adj2" fmla="val 72236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6200000">
                <a:off x="4621320" y="5300280"/>
                <a:ext cx="957240" cy="81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057640" y="4813560"/>
                <a:ext cx="411120" cy="196560"/>
              </a:xfrm>
              <a:prstGeom prst="rightArrow">
                <a:avLst>
                  <a:gd name="adj1" fmla="val 50000"/>
                  <a:gd name="adj2" fmla="val 5228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 rot="16200000">
                <a:off x="9001080" y="5186520"/>
                <a:ext cx="247680" cy="200160"/>
              </a:xfrm>
              <a:prstGeom prst="rightArrow">
                <a:avLst>
                  <a:gd name="adj1" fmla="val 50000"/>
                  <a:gd name="adj2" fmla="val 30935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866080" y="5446800"/>
                <a:ext cx="541440" cy="155520"/>
              </a:xfrm>
              <a:prstGeom prst="cube">
                <a:avLst>
                  <a:gd name="adj" fmla="val 31916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 rot="16200000">
                <a:off x="8337600" y="5175360"/>
                <a:ext cx="246240" cy="201600"/>
              </a:xfrm>
              <a:prstGeom prst="rightArrow">
                <a:avLst>
                  <a:gd name="adj1" fmla="val 50000"/>
                  <a:gd name="adj2" fmla="val 30536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180280" y="5446800"/>
                <a:ext cx="542880" cy="155520"/>
              </a:xfrm>
              <a:prstGeom prst="cube">
                <a:avLst>
                  <a:gd name="adj" fmla="val 31916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 rot="16200000">
                <a:off x="5925240" y="5144400"/>
                <a:ext cx="246240" cy="200160"/>
              </a:xfrm>
              <a:prstGeom prst="rightArrow">
                <a:avLst>
                  <a:gd name="adj1" fmla="val 50000"/>
                  <a:gd name="adj2" fmla="val 30755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778360" y="5415120"/>
                <a:ext cx="543240" cy="155520"/>
              </a:xfrm>
              <a:prstGeom prst="cube">
                <a:avLst>
                  <a:gd name="adj" fmla="val 31916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2968400">
                <a:off x="7209000" y="5508720"/>
                <a:ext cx="1373040" cy="201600"/>
              </a:xfrm>
              <a:prstGeom prst="rightArrow">
                <a:avLst>
                  <a:gd name="adj1" fmla="val 45463"/>
                  <a:gd name="adj2" fmla="val 109066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9151920" y="5562720"/>
              <a:ext cx="20628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693720" y="588960"/>
            <a:ext cx="8340480" cy="4106160"/>
            <a:chOff x="693720" y="588960"/>
            <a:chExt cx="8340480" cy="4106160"/>
          </a:xfrm>
        </p:grpSpPr>
        <p:grpSp>
          <p:nvGrpSpPr>
            <p:cNvPr id="1344" name=""/>
            <p:cNvGrpSpPr/>
            <p:nvPr/>
          </p:nvGrpSpPr>
          <p:grpSpPr>
            <a:xfrm>
              <a:off x="693720" y="588960"/>
              <a:ext cx="8340480" cy="4106160"/>
              <a:chOff x="693720" y="588960"/>
              <a:chExt cx="8340480" cy="4106160"/>
            </a:xfrm>
          </p:grpSpPr>
          <p:sp>
            <p:nvSpPr>
              <p:cNvPr id="1345" name=""/>
              <p:cNvSpPr/>
              <p:nvPr/>
            </p:nvSpPr>
            <p:spPr>
              <a:xfrm>
                <a:off x="693720" y="588960"/>
                <a:ext cx="8340480" cy="3555000"/>
              </a:xfrm>
              <a:prstGeom prst="rect">
                <a:avLst/>
              </a:prstGeom>
              <a:solidFill>
                <a:srgbClr val="2e0017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2474280" y="691920"/>
                <a:ext cx="4948200" cy="4003200"/>
                <a:chOff x="2474280" y="691920"/>
                <a:chExt cx="4948200" cy="40032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2474280" y="702000"/>
                  <a:ext cx="128880" cy="39747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293600" y="691920"/>
                  <a:ext cx="128880" cy="40032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9" name=""/>
            <p:cNvGrpSpPr/>
            <p:nvPr/>
          </p:nvGrpSpPr>
          <p:grpSpPr>
            <a:xfrm>
              <a:off x="2663640" y="2921040"/>
              <a:ext cx="4593960" cy="274320"/>
              <a:chOff x="2663640" y="2921040"/>
              <a:chExt cx="4593960" cy="27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6980040" y="2985840"/>
                <a:ext cx="277560" cy="194400"/>
              </a:xfrm>
              <a:prstGeom prst="rightArrow">
                <a:avLst>
                  <a:gd name="adj1" fmla="val 43593"/>
                  <a:gd name="adj2" fmla="val 43864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663280" y="2954160"/>
                <a:ext cx="277560" cy="194400"/>
              </a:xfrm>
              <a:prstGeom prst="rightArrow">
                <a:avLst>
                  <a:gd name="adj1" fmla="val 43593"/>
                  <a:gd name="adj2" fmla="val 43864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12120" y="2921040"/>
                <a:ext cx="3914280" cy="274320"/>
              </a:xfrm>
              <a:prstGeom prst="bevel">
                <a:avLst>
                  <a:gd name="adj" fmla="val 7523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Annotation / Comments / …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2673000" y="2481120"/>
              <a:ext cx="4576320" cy="274320"/>
              <a:chOff x="2673000" y="2481120"/>
              <a:chExt cx="4576320" cy="274320"/>
            </a:xfrm>
          </p:grpSpPr>
          <p:sp>
            <p:nvSpPr>
              <p:cNvPr id="1354" name=""/>
              <p:cNvSpPr/>
              <p:nvPr/>
            </p:nvSpPr>
            <p:spPr>
              <a:xfrm>
                <a:off x="3021120" y="2481120"/>
                <a:ext cx="3915720" cy="274320"/>
              </a:xfrm>
              <a:prstGeom prst="bevel">
                <a:avLst>
                  <a:gd name="adj" fmla="val 7523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Transcrip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672640" y="2502360"/>
                <a:ext cx="277560" cy="194400"/>
              </a:xfrm>
              <a:prstGeom prst="rightArrow">
                <a:avLst>
                  <a:gd name="adj1" fmla="val 43593"/>
                  <a:gd name="adj2" fmla="val 43864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6971400" y="2512800"/>
                <a:ext cx="277560" cy="194400"/>
              </a:xfrm>
              <a:prstGeom prst="rightArrow">
                <a:avLst>
                  <a:gd name="adj1" fmla="val 43593"/>
                  <a:gd name="adj2" fmla="val 43864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7445520" y="2225520"/>
              <a:ext cx="1463040" cy="402840"/>
              <a:chOff x="7445520" y="2225520"/>
              <a:chExt cx="1463040" cy="402840"/>
            </a:xfrm>
          </p:grpSpPr>
          <p:sp>
            <p:nvSpPr>
              <p:cNvPr id="1358" name=""/>
              <p:cNvSpPr/>
              <p:nvPr/>
            </p:nvSpPr>
            <p:spPr>
              <a:xfrm>
                <a:off x="7776720" y="2225520"/>
                <a:ext cx="113184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Restor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445520" y="2327040"/>
                <a:ext cx="311040" cy="166320"/>
              </a:xfrm>
              <a:prstGeom prst="leftRightArrow">
                <a:avLst>
                  <a:gd name="adj1" fmla="val 50000"/>
                  <a:gd name="adj2" fmla="val 3722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7435800" y="1687320"/>
              <a:ext cx="1461600" cy="403200"/>
              <a:chOff x="7435800" y="1687320"/>
              <a:chExt cx="1461600" cy="403200"/>
            </a:xfrm>
          </p:grpSpPr>
          <p:sp>
            <p:nvSpPr>
              <p:cNvPr id="1361" name=""/>
              <p:cNvSpPr/>
              <p:nvPr/>
            </p:nvSpPr>
            <p:spPr>
              <a:xfrm>
                <a:off x="7766640" y="1687320"/>
                <a:ext cx="1130760" cy="40320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Digitis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35800" y="1818720"/>
                <a:ext cx="311040" cy="166680"/>
              </a:xfrm>
              <a:prstGeom prst="leftRightArrow">
                <a:avLst>
                  <a:gd name="adj1" fmla="val 50000"/>
                  <a:gd name="adj2" fmla="val 3714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7445520" y="1168200"/>
              <a:ext cx="1451880" cy="403200"/>
              <a:chOff x="7445520" y="1168200"/>
              <a:chExt cx="1451880" cy="403200"/>
            </a:xfrm>
          </p:grpSpPr>
          <p:sp>
            <p:nvSpPr>
              <p:cNvPr id="1364" name=""/>
              <p:cNvSpPr/>
              <p:nvPr/>
            </p:nvSpPr>
            <p:spPr>
              <a:xfrm>
                <a:off x="7766640" y="1168200"/>
                <a:ext cx="1130760" cy="40320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Registr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45520" y="1308240"/>
                <a:ext cx="311040" cy="166680"/>
              </a:xfrm>
              <a:prstGeom prst="leftRightArrow">
                <a:avLst>
                  <a:gd name="adj1" fmla="val 50000"/>
                  <a:gd name="adj2" fmla="val 3714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435800" y="689040"/>
              <a:ext cx="1461600" cy="402840"/>
              <a:chOff x="7435800" y="689040"/>
              <a:chExt cx="1461600" cy="402840"/>
            </a:xfrm>
          </p:grpSpPr>
          <p:sp>
            <p:nvSpPr>
              <p:cNvPr id="1367" name=""/>
              <p:cNvSpPr/>
              <p:nvPr/>
            </p:nvSpPr>
            <p:spPr>
              <a:xfrm>
                <a:off x="7766640" y="689040"/>
                <a:ext cx="113076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Preserv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35800" y="798840"/>
                <a:ext cx="311040" cy="166320"/>
              </a:xfrm>
              <a:prstGeom prst="leftRightArrow">
                <a:avLst>
                  <a:gd name="adj1" fmla="val 50000"/>
                  <a:gd name="adj2" fmla="val 3722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7437600" y="3193920"/>
              <a:ext cx="1470960" cy="402840"/>
              <a:chOff x="7437600" y="3193920"/>
              <a:chExt cx="1470960" cy="402840"/>
            </a:xfrm>
          </p:grpSpPr>
          <p:sp>
            <p:nvSpPr>
              <p:cNvPr id="1370" name=""/>
              <p:cNvSpPr/>
              <p:nvPr/>
            </p:nvSpPr>
            <p:spPr>
              <a:xfrm>
                <a:off x="7777080" y="3193920"/>
                <a:ext cx="113148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Control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37600" y="3303720"/>
                <a:ext cx="311040" cy="166320"/>
              </a:xfrm>
              <a:prstGeom prst="leftRightArrow">
                <a:avLst>
                  <a:gd name="adj1" fmla="val 50000"/>
                  <a:gd name="adj2" fmla="val 3722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7426440" y="2705040"/>
              <a:ext cx="1481760" cy="402840"/>
              <a:chOff x="7426440" y="2705040"/>
              <a:chExt cx="1481760" cy="402840"/>
            </a:xfrm>
          </p:grpSpPr>
          <p:sp>
            <p:nvSpPr>
              <p:cNvPr id="1373" name=""/>
              <p:cNvSpPr/>
              <p:nvPr/>
            </p:nvSpPr>
            <p:spPr>
              <a:xfrm>
                <a:off x="7777440" y="2705040"/>
                <a:ext cx="113076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Structur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26440" y="281628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7437600" y="3684600"/>
              <a:ext cx="1459800" cy="402840"/>
              <a:chOff x="7437600" y="3684600"/>
              <a:chExt cx="1459800" cy="402840"/>
            </a:xfrm>
          </p:grpSpPr>
          <p:sp>
            <p:nvSpPr>
              <p:cNvPr id="1376" name=""/>
              <p:cNvSpPr/>
              <p:nvPr/>
            </p:nvSpPr>
            <p:spPr>
              <a:xfrm>
                <a:off x="7767000" y="3684600"/>
                <a:ext cx="113040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…</a:t>
                </a: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.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37600" y="3784320"/>
                <a:ext cx="310680" cy="166320"/>
              </a:xfrm>
              <a:prstGeom prst="leftRightArrow">
                <a:avLst>
                  <a:gd name="adj1" fmla="val 50000"/>
                  <a:gd name="adj2" fmla="val 37186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998640" y="2357280"/>
              <a:ext cx="1466280" cy="402840"/>
              <a:chOff x="998640" y="2357280"/>
              <a:chExt cx="1466280" cy="402840"/>
            </a:xfrm>
          </p:grpSpPr>
          <p:sp>
            <p:nvSpPr>
              <p:cNvPr id="1379" name=""/>
              <p:cNvSpPr/>
              <p:nvPr/>
            </p:nvSpPr>
            <p:spPr>
              <a:xfrm>
                <a:off x="998640" y="2357280"/>
                <a:ext cx="113148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Trans-coding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153520" y="246204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988920" y="1819080"/>
              <a:ext cx="1464840" cy="403200"/>
              <a:chOff x="988920" y="1819080"/>
              <a:chExt cx="1464840" cy="403200"/>
            </a:xfrm>
          </p:grpSpPr>
          <p:sp>
            <p:nvSpPr>
              <p:cNvPr id="1382" name=""/>
              <p:cNvSpPr/>
              <p:nvPr/>
            </p:nvSpPr>
            <p:spPr>
              <a:xfrm>
                <a:off x="988920" y="1819080"/>
                <a:ext cx="1130400" cy="40320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Synthesi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43080" y="1954080"/>
                <a:ext cx="310680" cy="166680"/>
              </a:xfrm>
              <a:prstGeom prst="leftRightArrow">
                <a:avLst>
                  <a:gd name="adj1" fmla="val 50000"/>
                  <a:gd name="adj2" fmla="val 37106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988920" y="1298520"/>
              <a:ext cx="1476000" cy="402840"/>
              <a:chOff x="988920" y="1298520"/>
              <a:chExt cx="1476000" cy="402840"/>
            </a:xfrm>
          </p:grpSpPr>
          <p:sp>
            <p:nvSpPr>
              <p:cNvPr id="1385" name=""/>
              <p:cNvSpPr/>
              <p:nvPr/>
            </p:nvSpPr>
            <p:spPr>
              <a:xfrm>
                <a:off x="988920" y="1298520"/>
                <a:ext cx="113112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Parti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153520" y="144144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976320" y="797040"/>
              <a:ext cx="1464840" cy="402840"/>
              <a:chOff x="976320" y="797040"/>
              <a:chExt cx="1464840" cy="402840"/>
            </a:xfrm>
          </p:grpSpPr>
          <p:sp>
            <p:nvSpPr>
              <p:cNvPr id="1388" name=""/>
              <p:cNvSpPr/>
              <p:nvPr/>
            </p:nvSpPr>
            <p:spPr>
              <a:xfrm>
                <a:off x="976320" y="797040"/>
                <a:ext cx="113040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Preserv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30480" y="910080"/>
                <a:ext cx="310680" cy="166320"/>
              </a:xfrm>
              <a:prstGeom prst="leftRightArrow">
                <a:avLst>
                  <a:gd name="adj1" fmla="val 50000"/>
                  <a:gd name="adj2" fmla="val 37186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998640" y="3355920"/>
              <a:ext cx="1456920" cy="402840"/>
              <a:chOff x="998640" y="3355920"/>
              <a:chExt cx="1456920" cy="402840"/>
            </a:xfrm>
          </p:grpSpPr>
          <p:sp>
            <p:nvSpPr>
              <p:cNvPr id="1391" name=""/>
              <p:cNvSpPr/>
              <p:nvPr/>
            </p:nvSpPr>
            <p:spPr>
              <a:xfrm>
                <a:off x="998640" y="3355920"/>
                <a:ext cx="113112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…</a:t>
                </a: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.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44520" y="3438720"/>
                <a:ext cx="311040" cy="166320"/>
              </a:xfrm>
              <a:prstGeom prst="leftRightArrow">
                <a:avLst>
                  <a:gd name="adj1" fmla="val 50000"/>
                  <a:gd name="adj2" fmla="val 3722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998640" y="2835360"/>
              <a:ext cx="1445760" cy="402840"/>
              <a:chOff x="998640" y="2835360"/>
              <a:chExt cx="1445760" cy="402840"/>
            </a:xfrm>
          </p:grpSpPr>
          <p:sp>
            <p:nvSpPr>
              <p:cNvPr id="1394" name=""/>
              <p:cNvSpPr/>
              <p:nvPr/>
            </p:nvSpPr>
            <p:spPr>
              <a:xfrm>
                <a:off x="998640" y="2835360"/>
                <a:ext cx="1131120" cy="402840"/>
              </a:xfrm>
              <a:prstGeom prst="bevel">
                <a:avLst>
                  <a:gd name="adj" fmla="val 991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…</a:t>
                </a: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.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33000" y="2950200"/>
                <a:ext cx="311400" cy="166320"/>
              </a:xfrm>
              <a:prstGeom prst="leftRightArrow">
                <a:avLst>
                  <a:gd name="adj1" fmla="val 50000"/>
                  <a:gd name="adj2" fmla="val 37272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2635200" y="716040"/>
              <a:ext cx="4608000" cy="442080"/>
              <a:chOff x="2635200" y="716040"/>
              <a:chExt cx="4608000" cy="442080"/>
            </a:xfrm>
          </p:grpSpPr>
          <p:grpSp>
            <p:nvGrpSpPr>
              <p:cNvPr id="1397" name=""/>
              <p:cNvGrpSpPr/>
              <p:nvPr/>
            </p:nvGrpSpPr>
            <p:grpSpPr>
              <a:xfrm>
                <a:off x="2635200" y="756000"/>
                <a:ext cx="1490400" cy="402120"/>
                <a:chOff x="2635200" y="756000"/>
                <a:chExt cx="1490400" cy="40212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2994840" y="756000"/>
                  <a:ext cx="1130760" cy="402120"/>
                </a:xfrm>
                <a:prstGeom prst="bevel">
                  <a:avLst>
                    <a:gd name="adj" fmla="val 9917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120" rIns="96120" tIns="48240" bIns="48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en-GB" sz="1300" spc="-1" strike="noStrike">
                      <a:solidFill>
                        <a:srgbClr val="fc0128"/>
                      </a:solidFill>
                      <a:latin typeface="Arial"/>
                    </a:rPr>
                    <a:t>Exploitation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635200" y="869040"/>
                  <a:ext cx="311400" cy="166320"/>
                </a:xfrm>
                <a:prstGeom prst="leftRightArrow">
                  <a:avLst>
                    <a:gd name="adj1" fmla="val 50000"/>
                    <a:gd name="adj2" fmla="val 37272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5757840" y="716040"/>
                <a:ext cx="1485360" cy="402120"/>
                <a:chOff x="5757840" y="716040"/>
                <a:chExt cx="1485360" cy="4021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5757840" y="716040"/>
                  <a:ext cx="1130760" cy="402120"/>
                </a:xfrm>
                <a:prstGeom prst="bevel">
                  <a:avLst>
                    <a:gd name="adj" fmla="val 9917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120" rIns="96120" tIns="48240" bIns="48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en-GB" sz="1300" spc="-1" strike="noStrike">
                      <a:solidFill>
                        <a:srgbClr val="fc0128"/>
                      </a:solidFill>
                      <a:latin typeface="Arial"/>
                    </a:rPr>
                    <a:t>Exploitation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931800" y="800640"/>
                  <a:ext cx="311400" cy="166320"/>
                </a:xfrm>
                <a:prstGeom prst="leftRightArrow">
                  <a:avLst>
                    <a:gd name="adj1" fmla="val 50000"/>
                    <a:gd name="adj2" fmla="val 37272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3" name=""/>
            <p:cNvGrpSpPr/>
            <p:nvPr/>
          </p:nvGrpSpPr>
          <p:grpSpPr>
            <a:xfrm>
              <a:off x="2633760" y="3341520"/>
              <a:ext cx="4641480" cy="274320"/>
              <a:chOff x="2633760" y="3341520"/>
              <a:chExt cx="4641480" cy="274320"/>
            </a:xfrm>
          </p:grpSpPr>
          <p:sp>
            <p:nvSpPr>
              <p:cNvPr id="1404" name=""/>
              <p:cNvSpPr/>
              <p:nvPr/>
            </p:nvSpPr>
            <p:spPr>
              <a:xfrm>
                <a:off x="2633760" y="3406320"/>
                <a:ext cx="344520" cy="166320"/>
              </a:xfrm>
              <a:prstGeom prst="leftRightArrow">
                <a:avLst>
                  <a:gd name="adj1" fmla="val 50000"/>
                  <a:gd name="adj2" fmla="val 4123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64200" y="3396600"/>
                <a:ext cx="311040" cy="166320"/>
              </a:xfrm>
              <a:prstGeom prst="leftRightArrow">
                <a:avLst>
                  <a:gd name="adj1" fmla="val 50000"/>
                  <a:gd name="adj2" fmla="val 37229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003120" y="3341520"/>
                <a:ext cx="3915720" cy="274320"/>
              </a:xfrm>
              <a:prstGeom prst="bevel">
                <a:avLst>
                  <a:gd name="adj" fmla="val 7523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300" spc="-1" strike="noStrike">
                    <a:solidFill>
                      <a:srgbClr val="fc0128"/>
                    </a:solidFill>
                    <a:latin typeface="Arial"/>
                  </a:rPr>
                  <a:t>Synchronisation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851720" y="723960"/>
              <a:ext cx="294840" cy="457560"/>
              <a:chOff x="4851720" y="723960"/>
              <a:chExt cx="294840" cy="457560"/>
            </a:xfrm>
          </p:grpSpPr>
          <p:sp>
            <p:nvSpPr>
              <p:cNvPr id="1408" name=""/>
              <p:cNvSpPr/>
              <p:nvPr/>
            </p:nvSpPr>
            <p:spPr>
              <a:xfrm>
                <a:off x="4972320" y="797760"/>
                <a:ext cx="47160" cy="266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7637600">
                <a:off x="4905360" y="80352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4965200">
                <a:off x="5046840" y="809280"/>
                <a:ext cx="45360" cy="147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9481400">
                <a:off x="5018760" y="103860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924440" y="723960"/>
                <a:ext cx="148320" cy="885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2163000">
                <a:off x="4921560" y="1038600"/>
                <a:ext cx="47160" cy="142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2692440" y="2081160"/>
              <a:ext cx="4585680" cy="356760"/>
              <a:chOff x="2692440" y="2081160"/>
              <a:chExt cx="4585680" cy="356760"/>
            </a:xfrm>
          </p:grpSpPr>
          <p:sp>
            <p:nvSpPr>
              <p:cNvPr id="1415" name=""/>
              <p:cNvSpPr/>
              <p:nvPr/>
            </p:nvSpPr>
            <p:spPr>
              <a:xfrm>
                <a:off x="6783480" y="2264760"/>
                <a:ext cx="177120" cy="17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2692440" y="2081160"/>
                <a:ext cx="4585680" cy="274680"/>
                <a:chOff x="2692440" y="2081160"/>
                <a:chExt cx="4585680" cy="27468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3012120" y="2081160"/>
                  <a:ext cx="3914640" cy="274680"/>
                </a:xfrm>
                <a:prstGeom prst="bevel">
                  <a:avLst>
                    <a:gd name="adj" fmla="val 7523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120" rIns="96120" tIns="48240" bIns="48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1920"/>
                      <a:tab algn="l" pos="1924200"/>
                      <a:tab algn="l" pos="2886120"/>
                      <a:tab algn="l" pos="3848040"/>
                      <a:tab algn="l" pos="4809960"/>
                      <a:tab algn="l" pos="5772240"/>
                      <a:tab algn="l" pos="6734160"/>
                      <a:tab algn="l" pos="7696080"/>
                      <a:tab algn="l" pos="8658360"/>
                      <a:tab algn="l" pos="9620280"/>
                      <a:tab algn="l" pos="10582200"/>
                    </a:tabLst>
                  </a:pPr>
                  <a:r>
                    <a:rPr b="1" lang="en-GB" sz="1300" spc="-1" strike="noStrike">
                      <a:solidFill>
                        <a:srgbClr val="fc0128"/>
                      </a:solidFill>
                      <a:latin typeface="Arial"/>
                    </a:rPr>
                    <a:t>Emulation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2692440" y="2106000"/>
                  <a:ext cx="277560" cy="195120"/>
                </a:xfrm>
                <a:prstGeom prst="rightArrow">
                  <a:avLst>
                    <a:gd name="adj1" fmla="val 43593"/>
                    <a:gd name="adj2" fmla="val 43702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000560" y="2135880"/>
                  <a:ext cx="277560" cy="195120"/>
                </a:xfrm>
                <a:prstGeom prst="rightArrow">
                  <a:avLst>
                    <a:gd name="adj1" fmla="val 43593"/>
                    <a:gd name="adj2" fmla="val 43702"/>
                  </a:avLst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0" name=""/>
          <p:cNvSpPr/>
          <p:nvPr/>
        </p:nvSpPr>
        <p:spPr>
          <a:xfrm>
            <a:off x="3732120" y="74520"/>
            <a:ext cx="2565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Generalisat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588960" y="4251240"/>
            <a:ext cx="4363920" cy="1776600"/>
            <a:chOff x="588960" y="4251240"/>
            <a:chExt cx="4363920" cy="1776600"/>
          </a:xfrm>
        </p:grpSpPr>
        <p:sp>
          <p:nvSpPr>
            <p:cNvPr id="1422" name=""/>
            <p:cNvSpPr/>
            <p:nvPr/>
          </p:nvSpPr>
          <p:spPr>
            <a:xfrm>
              <a:off x="588960" y="4711680"/>
              <a:ext cx="1239840" cy="361800"/>
            </a:xfrm>
            <a:prstGeom prst="bevel">
              <a:avLst>
                <a:gd name="adj" fmla="val 777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Composi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58920" y="4708440"/>
              <a:ext cx="717480" cy="372960"/>
            </a:xfrm>
            <a:prstGeom prst="foldedCorner">
              <a:avLst>
                <a:gd name="adj" fmla="val 32166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0" lang="fr-BE" sz="17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228840" y="4703760"/>
              <a:ext cx="1132200" cy="403200"/>
            </a:xfrm>
            <a:prstGeom prst="bevel">
              <a:avLst>
                <a:gd name="adj" fmla="val 991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GB" sz="1300" spc="-1" strike="noStrike">
                  <a:solidFill>
                    <a:srgbClr val="fc0128"/>
                  </a:solidFill>
                  <a:latin typeface="Arial"/>
                </a:rPr>
                <a:t>Render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52560" y="4798800"/>
              <a:ext cx="277920" cy="193680"/>
            </a:xfrm>
            <a:prstGeom prst="rightArrow">
              <a:avLst>
                <a:gd name="adj1" fmla="val 43593"/>
                <a:gd name="adj2" fmla="val 44085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5400000">
              <a:off x="4362120" y="5251320"/>
              <a:ext cx="978120" cy="203040"/>
            </a:xfrm>
            <a:prstGeom prst="rightArrow">
              <a:avLst>
                <a:gd name="adj1" fmla="val 45463"/>
                <a:gd name="adj2" fmla="val 77145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909880" y="4802040"/>
              <a:ext cx="277920" cy="195480"/>
            </a:xfrm>
            <a:prstGeom prst="rightArrow">
              <a:avLst>
                <a:gd name="adj1" fmla="val 43593"/>
                <a:gd name="adj2" fmla="val 4367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863960"/>
              <a:ext cx="458640" cy="795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2910200">
              <a:off x="2625840" y="5448960"/>
              <a:ext cx="1371600" cy="201960"/>
            </a:xfrm>
            <a:prstGeom prst="rightArrow">
              <a:avLst>
                <a:gd name="adj1" fmla="val 45463"/>
                <a:gd name="adj2" fmla="val 10875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 rot="16200000">
              <a:off x="3685320" y="5155920"/>
              <a:ext cx="245880" cy="200160"/>
            </a:xfrm>
            <a:prstGeom prst="rightArrow">
              <a:avLst>
                <a:gd name="adj1" fmla="val 50000"/>
                <a:gd name="adj2" fmla="val 3071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538440" y="5425920"/>
              <a:ext cx="542880" cy="157320"/>
            </a:xfrm>
            <a:prstGeom prst="cube">
              <a:avLst>
                <a:gd name="adj" fmla="val 31916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3960" y="5329080"/>
              <a:ext cx="20628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49280" y="5310000"/>
              <a:ext cx="204840" cy="19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923760" y="5113080"/>
              <a:ext cx="541440" cy="449640"/>
              <a:chOff x="923760" y="5113080"/>
              <a:chExt cx="541440" cy="449640"/>
            </a:xfrm>
          </p:grpSpPr>
          <p:sp>
            <p:nvSpPr>
              <p:cNvPr id="1435" name=""/>
              <p:cNvSpPr/>
              <p:nvPr/>
            </p:nvSpPr>
            <p:spPr>
              <a:xfrm flipV="1" rot="16200000">
                <a:off x="1069920" y="5134680"/>
                <a:ext cx="245880" cy="201600"/>
              </a:xfrm>
              <a:prstGeom prst="rightArrow">
                <a:avLst>
                  <a:gd name="adj1" fmla="val 50000"/>
                  <a:gd name="adj2" fmla="val 30491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23760" y="5406840"/>
                <a:ext cx="541440" cy="155880"/>
              </a:xfrm>
              <a:prstGeom prst="cube">
                <a:avLst>
                  <a:gd name="adj" fmla="val 31916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3490920" y="4298760"/>
              <a:ext cx="231840" cy="326880"/>
              <a:chOff x="3490920" y="4298760"/>
              <a:chExt cx="231840" cy="326880"/>
            </a:xfrm>
          </p:grpSpPr>
          <p:sp>
            <p:nvSpPr>
              <p:cNvPr id="1438" name=""/>
              <p:cNvSpPr/>
              <p:nvPr/>
            </p:nvSpPr>
            <p:spPr>
              <a:xfrm>
                <a:off x="3585600" y="4351320"/>
                <a:ext cx="37080" cy="19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7637600">
                <a:off x="3534480" y="4348800"/>
                <a:ext cx="32040" cy="116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965200">
                <a:off x="3646440" y="4352760"/>
                <a:ext cx="32040" cy="116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9481400">
                <a:off x="3621960" y="4522680"/>
                <a:ext cx="37080" cy="101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547440" y="4298760"/>
                <a:ext cx="117000" cy="630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2163000">
                <a:off x="3545280" y="4523040"/>
                <a:ext cx="37080" cy="101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000800" y="4260960"/>
              <a:ext cx="214920" cy="354960"/>
              <a:chOff x="1000800" y="4260960"/>
              <a:chExt cx="214920" cy="354960"/>
            </a:xfrm>
          </p:grpSpPr>
          <p:sp>
            <p:nvSpPr>
              <p:cNvPr id="1445" name=""/>
              <p:cNvSpPr/>
              <p:nvPr/>
            </p:nvSpPr>
            <p:spPr>
              <a:xfrm>
                <a:off x="1088640" y="4318200"/>
                <a:ext cx="34200" cy="207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7637600">
                <a:off x="1038960" y="4326840"/>
                <a:ext cx="35280" cy="106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965200">
                <a:off x="1141560" y="4330800"/>
                <a:ext cx="35280" cy="106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9481400">
                <a:off x="1122120" y="4505400"/>
                <a:ext cx="34200" cy="1105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053720" y="4260960"/>
                <a:ext cx="107280" cy="687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2163000">
                <a:off x="1051560" y="4505760"/>
                <a:ext cx="34200" cy="1105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1326600" y="4259160"/>
              <a:ext cx="292320" cy="383760"/>
              <a:chOff x="1326600" y="4259160"/>
              <a:chExt cx="292320" cy="383760"/>
            </a:xfrm>
          </p:grpSpPr>
          <p:sp>
            <p:nvSpPr>
              <p:cNvPr id="1452" name=""/>
              <p:cNvSpPr/>
              <p:nvPr/>
            </p:nvSpPr>
            <p:spPr>
              <a:xfrm>
                <a:off x="1442160" y="4259160"/>
                <a:ext cx="176760" cy="17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1326600" y="4290840"/>
                <a:ext cx="221400" cy="352080"/>
                <a:chOff x="1326600" y="4290840"/>
                <a:chExt cx="221400" cy="3520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1416960" y="4347720"/>
                  <a:ext cx="35280" cy="205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rot="17637600">
                  <a:off x="1366560" y="4353120"/>
                  <a:ext cx="34920" cy="1105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rot="14965200">
                  <a:off x="1472760" y="4357800"/>
                  <a:ext cx="34920" cy="1105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rot="19481400">
                  <a:off x="1451520" y="4533120"/>
                  <a:ext cx="3528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380960" y="4290840"/>
                  <a:ext cx="111240" cy="68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rot="2163000">
                  <a:off x="1379160" y="4533120"/>
                  <a:ext cx="3528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0" name=""/>
            <p:cNvGrpSpPr/>
            <p:nvPr/>
          </p:nvGrpSpPr>
          <p:grpSpPr>
            <a:xfrm>
              <a:off x="3901680" y="4251240"/>
              <a:ext cx="291960" cy="383760"/>
              <a:chOff x="3901680" y="4251240"/>
              <a:chExt cx="291960" cy="383760"/>
            </a:xfrm>
          </p:grpSpPr>
          <p:sp>
            <p:nvSpPr>
              <p:cNvPr id="1461" name=""/>
              <p:cNvSpPr/>
              <p:nvPr/>
            </p:nvSpPr>
            <p:spPr>
              <a:xfrm>
                <a:off x="4017240" y="4251240"/>
                <a:ext cx="176400" cy="17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3901680" y="4282920"/>
                <a:ext cx="221400" cy="352080"/>
                <a:chOff x="3901680" y="4282920"/>
                <a:chExt cx="221400" cy="35208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3992040" y="4339800"/>
                  <a:ext cx="35280" cy="205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rot="17637600">
                  <a:off x="3941640" y="4345200"/>
                  <a:ext cx="34920" cy="1105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rot="14965200">
                  <a:off x="4047840" y="4349880"/>
                  <a:ext cx="34920" cy="1105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rot="19481400">
                  <a:off x="4026600" y="4525200"/>
                  <a:ext cx="3528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3956040" y="4282920"/>
                  <a:ext cx="111240" cy="68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rot="2163000">
                  <a:off x="3954240" y="4525200"/>
                  <a:ext cx="3528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9" name=""/>
          <p:cNvGrpSpPr/>
          <p:nvPr/>
        </p:nvGrpSpPr>
        <p:grpSpPr>
          <a:xfrm>
            <a:off x="582480" y="5575320"/>
            <a:ext cx="4667400" cy="1498320"/>
            <a:chOff x="582480" y="5575320"/>
            <a:chExt cx="4667400" cy="1498320"/>
          </a:xfrm>
        </p:grpSpPr>
        <p:grpSp>
          <p:nvGrpSpPr>
            <p:cNvPr id="1470" name=""/>
            <p:cNvGrpSpPr/>
            <p:nvPr/>
          </p:nvGrpSpPr>
          <p:grpSpPr>
            <a:xfrm>
              <a:off x="582480" y="5575320"/>
              <a:ext cx="4667400" cy="1443240"/>
              <a:chOff x="582480" y="5575320"/>
              <a:chExt cx="4667400" cy="1443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4392720" y="6119640"/>
                <a:ext cx="344520" cy="195480"/>
              </a:xfrm>
              <a:prstGeom prst="rightArrow">
                <a:avLst>
                  <a:gd name="adj1" fmla="val 50000"/>
                  <a:gd name="adj2" fmla="val 44061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 rot="16200000">
                <a:off x="2295720" y="6479280"/>
                <a:ext cx="246240" cy="199800"/>
              </a:xfrm>
              <a:prstGeom prst="rightArrow">
                <a:avLst>
                  <a:gd name="adj1" fmla="val 50000"/>
                  <a:gd name="adj2" fmla="val 30811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151000" y="6748560"/>
                <a:ext cx="541440" cy="156960"/>
              </a:xfrm>
              <a:prstGeom prst="cube">
                <a:avLst>
                  <a:gd name="adj" fmla="val 31916"/>
                </a:avLst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2480" y="6051600"/>
                <a:ext cx="3703680" cy="342720"/>
              </a:xfrm>
              <a:prstGeom prst="bevel">
                <a:avLst>
                  <a:gd name="adj" fmla="val 10227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1" lang="en-GB" sz="1700" spc="-1" strike="noStrike">
                    <a:solidFill>
                      <a:srgbClr val="fc0128"/>
                    </a:solidFill>
                    <a:latin typeface="Arial"/>
                  </a:rPr>
                  <a:t>Innovation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75" name=""/>
              <p:cNvGrpSpPr/>
              <p:nvPr/>
            </p:nvGrpSpPr>
            <p:grpSpPr>
              <a:xfrm>
                <a:off x="2230560" y="5614920"/>
                <a:ext cx="194760" cy="351000"/>
                <a:chOff x="2230560" y="5614920"/>
                <a:chExt cx="194760" cy="3510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2310480" y="5671800"/>
                  <a:ext cx="30600" cy="205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17637600">
                  <a:off x="2264040" y="5684400"/>
                  <a:ext cx="34920" cy="96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rot="14965200">
                  <a:off x="2356200" y="5688720"/>
                  <a:ext cx="34920" cy="96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19481400">
                  <a:off x="2340720" y="5857560"/>
                  <a:ext cx="3060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2279160" y="5614920"/>
                  <a:ext cx="96840" cy="680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2163000">
                  <a:off x="2277000" y="5857560"/>
                  <a:ext cx="30600" cy="1094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4762440" y="5972040"/>
                <a:ext cx="487440" cy="487440"/>
                <a:chOff x="4762440" y="5972040"/>
                <a:chExt cx="487440" cy="487440"/>
              </a:xfrm>
            </p:grpSpPr>
            <p:grpSp>
              <p:nvGrpSpPr>
                <p:cNvPr id="1483" name=""/>
                <p:cNvGrpSpPr/>
                <p:nvPr/>
              </p:nvGrpSpPr>
              <p:grpSpPr>
                <a:xfrm>
                  <a:off x="4803840" y="6047640"/>
                  <a:ext cx="414000" cy="349560"/>
                  <a:chOff x="4803840" y="6047640"/>
                  <a:chExt cx="414000" cy="34956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>
                    <a:off x="4969440" y="6183360"/>
                    <a:ext cx="88560" cy="759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4941360" y="6161400"/>
                    <a:ext cx="144360" cy="1198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31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6200000">
                    <a:off x="4894560" y="6094080"/>
                    <a:ext cx="222840" cy="253080"/>
                  </a:xfrm>
                  <a:prstGeom prst="blockArc">
                    <a:avLst>
                      <a:gd name="adj1" fmla="val 11632441"/>
                      <a:gd name="adj2" fmla="val 20767559"/>
                      <a:gd name="adj3" fmla="val 12722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H="1" rot="5400000">
                    <a:off x="4905000" y="6094080"/>
                    <a:ext cx="222840" cy="253080"/>
                  </a:xfrm>
                  <a:prstGeom prst="blockArc">
                    <a:avLst>
                      <a:gd name="adj1" fmla="val 11632441"/>
                      <a:gd name="adj2" fmla="val 20767559"/>
                      <a:gd name="adj3" fmla="val 12722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rot="16200000">
                    <a:off x="4773240" y="6077880"/>
                    <a:ext cx="348840" cy="288000"/>
                  </a:xfrm>
                  <a:prstGeom prst="blockArc">
                    <a:avLst>
                      <a:gd name="adj1" fmla="val 10733490"/>
                      <a:gd name="adj2" fmla="val 66510"/>
                      <a:gd name="adj3" fmla="val 11713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H="1" rot="5400000">
                    <a:off x="4899240" y="6078600"/>
                    <a:ext cx="348840" cy="288000"/>
                  </a:xfrm>
                  <a:prstGeom prst="blockArc">
                    <a:avLst>
                      <a:gd name="adj1" fmla="val 10733490"/>
                      <a:gd name="adj2" fmla="val 66510"/>
                      <a:gd name="adj3" fmla="val 11713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"/>
                <p:cNvSpPr/>
                <p:nvPr/>
              </p:nvSpPr>
              <p:spPr>
                <a:xfrm>
                  <a:off x="4762440" y="5972040"/>
                  <a:ext cx="487440" cy="4874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4858200" y="6561000"/>
                <a:ext cx="294840" cy="457560"/>
                <a:chOff x="4858200" y="6561000"/>
                <a:chExt cx="294840" cy="4575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4978800" y="6634800"/>
                  <a:ext cx="47160" cy="266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7637600">
                  <a:off x="4911840" y="6640560"/>
                  <a:ext cx="45360" cy="1472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4965200">
                  <a:off x="5053320" y="6646320"/>
                  <a:ext cx="45360" cy="1472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9481400">
                  <a:off x="5025240" y="6875640"/>
                  <a:ext cx="47160" cy="142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4930920" y="6561000"/>
                  <a:ext cx="147960" cy="88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2163000">
                  <a:off x="4928040" y="6875640"/>
                  <a:ext cx="47160" cy="142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8" name=""/>
              <p:cNvSpPr/>
              <p:nvPr/>
            </p:nvSpPr>
            <p:spPr>
              <a:xfrm>
                <a:off x="2536920" y="6659640"/>
                <a:ext cx="234720" cy="225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2534760" y="5575320"/>
                <a:ext cx="292320" cy="382320"/>
                <a:chOff x="2534760" y="5575320"/>
                <a:chExt cx="292320" cy="3823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2650320" y="5575320"/>
                  <a:ext cx="176760" cy="17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1" name=""/>
                <p:cNvGrpSpPr/>
                <p:nvPr/>
              </p:nvGrpSpPr>
              <p:grpSpPr>
                <a:xfrm>
                  <a:off x="2534760" y="5607000"/>
                  <a:ext cx="221400" cy="350640"/>
                  <a:chOff x="2534760" y="5607000"/>
                  <a:chExt cx="221400" cy="350640"/>
                </a:xfrm>
              </p:grpSpPr>
              <p:sp>
                <p:nvSpPr>
                  <p:cNvPr id="1502" name=""/>
                  <p:cNvSpPr/>
                  <p:nvPr/>
                </p:nvSpPr>
                <p:spPr>
                  <a:xfrm>
                    <a:off x="2625120" y="5663520"/>
                    <a:ext cx="35280" cy="20484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rot="17637600">
                    <a:off x="2574720" y="5668920"/>
                    <a:ext cx="34560" cy="11052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rot="14965200">
                    <a:off x="2680920" y="5673240"/>
                    <a:ext cx="34560" cy="11052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rot="19481400">
                    <a:off x="2660040" y="5848200"/>
                    <a:ext cx="35280" cy="10908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2589120" y="5607000"/>
                    <a:ext cx="111240" cy="676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rot="2163000">
                    <a:off x="2586960" y="5848200"/>
                    <a:ext cx="35280" cy="10908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08" name=""/>
            <p:cNvGrpSpPr/>
            <p:nvPr/>
          </p:nvGrpSpPr>
          <p:grpSpPr>
            <a:xfrm>
              <a:off x="3430440" y="6748560"/>
              <a:ext cx="1020600" cy="325080"/>
              <a:chOff x="3430440" y="6748560"/>
              <a:chExt cx="1020600" cy="325080"/>
            </a:xfrm>
          </p:grpSpPr>
          <p:sp>
            <p:nvSpPr>
              <p:cNvPr id="1509" name=""/>
              <p:cNvSpPr/>
              <p:nvPr/>
            </p:nvSpPr>
            <p:spPr>
              <a:xfrm>
                <a:off x="3430440" y="6815160"/>
                <a:ext cx="236520" cy="225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09000" y="6748560"/>
                <a:ext cx="84204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1920"/>
                    <a:tab algn="l" pos="1924200"/>
                    <a:tab algn="l" pos="2886120"/>
                    <a:tab algn="l" pos="3848040"/>
                    <a:tab algn="l" pos="4809960"/>
                    <a:tab algn="l" pos="5772240"/>
                    <a:tab algn="l" pos="6734160"/>
                    <a:tab algn="l" pos="7696080"/>
                    <a:tab algn="l" pos="8658360"/>
                    <a:tab algn="l" pos="9620280"/>
                    <a:tab algn="l" pos="10582200"/>
                  </a:tabLst>
                </a:pPr>
                <a:r>
                  <a:rPr b="0" lang="fr-BE" sz="1500" spc="-1" strike="noStrike">
                    <a:solidFill>
                      <a:srgbClr val="ffffff"/>
                    </a:solidFill>
                    <a:latin typeface="Arial"/>
                  </a:rPr>
                  <a:t>Avatar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334800" y="2021040"/>
            <a:ext cx="849168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4040" indent="-2840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700" spc="-1" strike="noStrike">
                <a:solidFill>
                  <a:srgbClr val="ffffff"/>
                </a:solidFill>
                <a:latin typeface="Garamond"/>
              </a:rPr>
              <a:t>users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want to find interesting media materi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can see, listen, understand 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With good quality of audio, video, image, text, …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Easy &amp; cheap to acces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ey can acquire rights to exploit, to enrich, to improve, 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rough  a large variety of network channel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With large semantic annot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With association and synchronization of other cont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7966080" y="3476520"/>
            <a:ext cx="2282760" cy="3298680"/>
            <a:chOff x="7966080" y="3476520"/>
            <a:chExt cx="2282760" cy="3298680"/>
          </a:xfrm>
        </p:grpSpPr>
        <p:sp>
          <p:nvSpPr>
            <p:cNvPr id="1513" name=""/>
            <p:cNvSpPr/>
            <p:nvPr/>
          </p:nvSpPr>
          <p:spPr>
            <a:xfrm>
              <a:off x="7966080" y="3476520"/>
              <a:ext cx="2282760" cy="3298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 flipH="1">
              <a:off x="8161200" y="5033880"/>
              <a:ext cx="175608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8099280" y="3481200"/>
              <a:ext cx="204480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37800" bIns="37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aramond"/>
                </a:rPr>
                <a:t>Users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6" name="" descr=""/>
            <p:cNvPicPr/>
            <p:nvPr/>
          </p:nvPicPr>
          <p:blipFill>
            <a:blip r:embed="rId2"/>
            <a:stretch/>
          </p:blipFill>
          <p:spPr>
            <a:xfrm>
              <a:off x="8920080" y="4943520"/>
              <a:ext cx="301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7" name=""/>
            <p:cNvSpPr/>
            <p:nvPr/>
          </p:nvSpPr>
          <p:spPr>
            <a:xfrm>
              <a:off x="8105760" y="4429080"/>
              <a:ext cx="2019240" cy="396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ive in evid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96840" y="1568520"/>
            <a:ext cx="1026144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700" spc="-1" strike="noStrike">
                <a:solidFill>
                  <a:srgbClr val="ffffff"/>
                </a:solidFill>
                <a:latin typeface="Garamond"/>
              </a:rPr>
              <a:t>Authors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want to dispose of powerful authoring system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Easy to operate 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 modeling should be staunch …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Cheap to acqui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Ensuring their intellectual rights 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Accessible through a large variety of network channel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With large semantic annotations facil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With association and synchronization of other cont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82800" indent="-27756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78280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  <a:tab algn="l" pos="6667560"/>
                <a:tab algn="l" pos="6985080"/>
                <a:tab algn="l" pos="7302600"/>
                <a:tab algn="l" pos="7620120"/>
                <a:tab algn="l" pos="7937640"/>
                <a:tab algn="l" pos="8255160"/>
                <a:tab algn="l" pos="8572680"/>
                <a:tab algn="l" pos="88898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25360" y="2822400"/>
            <a:ext cx="2282760" cy="3299040"/>
            <a:chOff x="225360" y="2822400"/>
            <a:chExt cx="2282760" cy="3299040"/>
          </a:xfrm>
        </p:grpSpPr>
        <p:sp>
          <p:nvSpPr>
            <p:cNvPr id="1520" name=""/>
            <p:cNvSpPr/>
            <p:nvPr/>
          </p:nvSpPr>
          <p:spPr>
            <a:xfrm>
              <a:off x="225360" y="2822400"/>
              <a:ext cx="2282760" cy="329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1"/>
            <a:stretch/>
          </p:blipFill>
          <p:spPr>
            <a:xfrm>
              <a:off x="420480" y="4379760"/>
              <a:ext cx="175608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2" name=""/>
            <p:cNvSpPr/>
            <p:nvPr/>
          </p:nvSpPr>
          <p:spPr>
            <a:xfrm>
              <a:off x="358560" y="2827440"/>
              <a:ext cx="20448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37800" bIns="37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aramond"/>
                </a:rPr>
                <a:t>Authors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3" name="" descr=""/>
            <p:cNvPicPr/>
            <p:nvPr/>
          </p:nvPicPr>
          <p:blipFill>
            <a:blip r:embed="rId2"/>
            <a:stretch/>
          </p:blipFill>
          <p:spPr>
            <a:xfrm flipH="1">
              <a:off x="1179360" y="4289400"/>
              <a:ext cx="301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4" name=""/>
            <p:cNvSpPr/>
            <p:nvPr/>
          </p:nvSpPr>
          <p:spPr>
            <a:xfrm>
              <a:off x="365040" y="3774960"/>
              <a:ext cx="2019240" cy="396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ive in evid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163440" y="1574640"/>
            <a:ext cx="98964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5840" indent="-2858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‘Contents’ are those excerpts of the “social life” which have been selected for acquisition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y are the ‘Original Information Packages’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y requi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at they should be captured with the expected qualit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at they should be recorded with preservation of their existence, of their identity, of their authenticity, of their integrity, of their accessibility, of their availability…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239760">
              <a:lnSpc>
                <a:spcPct val="100000"/>
              </a:lnSpc>
              <a:spcBef>
                <a:spcPts val="46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80964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at they should be documented, indexed, ... in a fair, competent and ethic wa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314280" y="1144440"/>
            <a:ext cx="991404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5840" indent="-2858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700" spc="-1" strike="noStrike">
                <a:solidFill>
                  <a:srgbClr val="ffffff"/>
                </a:solidFill>
                <a:latin typeface="Garamond"/>
              </a:rPr>
              <a:t>Archives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, as custodians of the social memory, requi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could easily be accessed and exploit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will survive to the progressive physical degradation of their suppo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will survive to the progressive evolution of the formats of represen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will survive to the changes of the industrial polici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y will be semantically understoo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at the enrichments will be kept for further exploit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5840"/>
                <a:tab algn="l" pos="754200"/>
                <a:tab algn="l" pos="122724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8211240" y="3933720"/>
            <a:ext cx="2163600" cy="2784240"/>
            <a:chOff x="8211240" y="3933720"/>
            <a:chExt cx="2163600" cy="2784240"/>
          </a:xfrm>
        </p:grpSpPr>
        <p:sp>
          <p:nvSpPr>
            <p:cNvPr id="1528" name=""/>
            <p:cNvSpPr/>
            <p:nvPr/>
          </p:nvSpPr>
          <p:spPr>
            <a:xfrm>
              <a:off x="8304120" y="3933720"/>
              <a:ext cx="1944360" cy="2784240"/>
            </a:xfrm>
            <a:prstGeom prst="rect">
              <a:avLst/>
            </a:prstGeom>
            <a:solidFill>
              <a:srgbClr val="ffd9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374680" y="5476320"/>
              <a:ext cx="1805400" cy="11732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0" name="" descr=""/>
            <p:cNvPicPr/>
            <p:nvPr/>
          </p:nvPicPr>
          <p:blipFill>
            <a:blip r:embed="rId1"/>
            <a:stretch/>
          </p:blipFill>
          <p:spPr>
            <a:xfrm>
              <a:off x="8616960" y="5546880"/>
              <a:ext cx="12999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>
              <a:off x="8221680" y="6273000"/>
              <a:ext cx="213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fr-FR" sz="1900" spc="-1" strike="noStrike">
                  <a:solidFill>
                    <a:srgbClr val="ffffff"/>
                  </a:solidFill>
                  <a:latin typeface="Garamond"/>
                </a:rPr>
                <a:t>Archives </a:t>
              </a:r>
              <a:r>
                <a:rPr b="1" lang="fr-FR" sz="1500" spc="-1" strike="noStrike">
                  <a:solidFill>
                    <a:srgbClr val="ffffff"/>
                  </a:solidFill>
                  <a:latin typeface="Garamond"/>
                </a:rPr>
                <a:t>(Digital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374680" y="4001760"/>
              <a:ext cx="1805400" cy="1382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11240" y="4989960"/>
              <a:ext cx="2163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Archives </a:t>
              </a:r>
              <a:r>
                <a:rPr b="1" lang="en-US" sz="1500" spc="-1" strike="noStrike">
                  <a:solidFill>
                    <a:srgbClr val="ffffff"/>
                  </a:solidFill>
                  <a:latin typeface="Garamond"/>
                </a:rPr>
                <a:t>(Analog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4" name="" descr=""/>
            <p:cNvPicPr/>
            <p:nvPr/>
          </p:nvPicPr>
          <p:blipFill>
            <a:blip r:embed="rId2"/>
            <a:stretch/>
          </p:blipFill>
          <p:spPr>
            <a:xfrm>
              <a:off x="8824680" y="4038480"/>
              <a:ext cx="791280" cy="90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135000" y="1901880"/>
            <a:ext cx="1010592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4040" indent="-2840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management team shoul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Meet the expectations of the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User’s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 and the various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User’s commun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Meet the expectations of the Social communities as custodians of the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rchiv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y ensuring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e IT system for managing and exploiting the archiv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The persistence of the archives at a reasonable cos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A technology watch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240" indent="-23328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7142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5934240" y="5254560"/>
            <a:ext cx="4030200" cy="1576080"/>
            <a:chOff x="5934240" y="5254560"/>
            <a:chExt cx="4030200" cy="1576080"/>
          </a:xfrm>
        </p:grpSpPr>
        <p:sp>
          <p:nvSpPr>
            <p:cNvPr id="1537" name=""/>
            <p:cNvSpPr/>
            <p:nvPr/>
          </p:nvSpPr>
          <p:spPr>
            <a:xfrm>
              <a:off x="7362000" y="5555880"/>
              <a:ext cx="2579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Management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of the archive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934240" y="5254560"/>
              <a:ext cx="4030200" cy="1576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9" name="" descr=""/>
            <p:cNvPicPr/>
            <p:nvPr/>
          </p:nvPicPr>
          <p:blipFill>
            <a:blip r:embed="rId1"/>
            <a:stretch/>
          </p:blipFill>
          <p:spPr>
            <a:xfrm>
              <a:off x="6101280" y="5365800"/>
              <a:ext cx="1374840" cy="132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334800" y="2021040"/>
            <a:ext cx="997128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4040" indent="-2840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The management of the persistence cannot: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Be captive of “Proprietary Systems”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Pay the price of “Exclusive” suppli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Suffer the “barriers” and “obstacles” in the flows of their process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…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5934240" y="5254560"/>
            <a:ext cx="4030200" cy="1576080"/>
            <a:chOff x="5934240" y="5254560"/>
            <a:chExt cx="4030200" cy="1576080"/>
          </a:xfrm>
        </p:grpSpPr>
        <p:sp>
          <p:nvSpPr>
            <p:cNvPr id="1542" name=""/>
            <p:cNvSpPr/>
            <p:nvPr/>
          </p:nvSpPr>
          <p:spPr>
            <a:xfrm>
              <a:off x="7362000" y="5555880"/>
              <a:ext cx="2579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Management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Garamond"/>
                </a:rPr>
                <a:t>of the archive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34240" y="5254560"/>
              <a:ext cx="4030200" cy="1576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4" name="" descr=""/>
            <p:cNvPicPr/>
            <p:nvPr/>
          </p:nvPicPr>
          <p:blipFill>
            <a:blip r:embed="rId1"/>
            <a:stretch/>
          </p:blipFill>
          <p:spPr>
            <a:xfrm>
              <a:off x="6101280" y="5365800"/>
              <a:ext cx="1374840" cy="132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301760"/>
            <a:ext cx="10316880" cy="50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MEMORIES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project focuses on the </a:t>
            </a:r>
            <a:r>
              <a:rPr b="1" lang="en-US" sz="2500" spc="-1" strike="noStrike">
                <a:solidFill>
                  <a:srgbClr val="ffff00"/>
                </a:solidFill>
                <a:latin typeface="Garamond"/>
              </a:rPr>
              <a:t>SOUND</a:t>
            </a:r>
            <a:r>
              <a:rPr b="1" lang="en-US" sz="2100" spc="-1" strike="noStrike">
                <a:solidFill>
                  <a:srgbClr val="ffff00"/>
                </a:solidFill>
                <a:latin typeface="Garamond"/>
              </a:rPr>
              <a:t> media chain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 with as main goals the evaluation &amp;/or validation, through a demonstrator, of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Garamond"/>
              <a:buAutoNum type="arabicPeriod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i="1" lang="en-US" sz="2100" spc="-1" strike="noStrike">
                <a:solidFill>
                  <a:srgbClr val="ffff00"/>
                </a:solidFill>
                <a:latin typeface="Garamond"/>
              </a:rPr>
              <a:t>PROFILE</a:t>
            </a:r>
            <a:r>
              <a:rPr b="1" lang="en-US" sz="21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cquisition syste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 “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Content Acquisition System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” generating </a:t>
            </a:r>
            <a:r>
              <a:rPr b="1" i="1" lang="en-US" sz="21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utonomous </a:t>
            </a:r>
            <a:r>
              <a:rPr b="1" i="1" lang="en-US" sz="21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ssets </a:t>
            </a:r>
            <a:r>
              <a:rPr b="1" i="1" lang="en-US" sz="21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1" i="1" lang="en-US" sz="2100" spc="-1" strike="noStrike">
                <a:solidFill>
                  <a:srgbClr val="ffffff"/>
                </a:solidFill>
                <a:latin typeface="Garamond"/>
              </a:rPr>
              <a:t>ntit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spcBef>
                <a:spcPts val="737"/>
              </a:spcBef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Clip manager &amp; indexe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Single Sensor Source Separ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Speech to tex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Wave to Mid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The definition of an “</a:t>
            </a:r>
            <a:r>
              <a:rPr b="1" i="1" lang="en-US" sz="2100" spc="-1" strike="noStrike">
                <a:solidFill>
                  <a:srgbClr val="ffff00"/>
                </a:solidFill>
                <a:latin typeface="Garamond"/>
              </a:rPr>
              <a:t>Open eXchange Format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” based on standards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ainly XML/XSD, RDF, OWL, DCMI, SMIL, X-LINK, for the definition of the “</a:t>
            </a: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PROFILE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” and of their “</a:t>
            </a: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OCCURENCE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”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ainly the OAIS reference model (ISO 14 721) for the “</a:t>
            </a: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INTERCHANGES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” and the “</a:t>
            </a: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PERSISTENCE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”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447840"/>
                <a:tab algn="l" pos="89532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The improvement of the </a:t>
            </a:r>
            <a:r>
              <a:rPr b="1" lang="en-US" sz="2100" spc="-1" strike="noStrike">
                <a:solidFill>
                  <a:srgbClr val="ffff00"/>
                </a:solidFill>
                <a:latin typeface="Garamond"/>
              </a:rPr>
              <a:t>retrieval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processes, accepting the tailorization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4800" y="158760"/>
            <a:ext cx="678528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 algn="ctr">
              <a:lnSpc>
                <a:spcPct val="100000"/>
              </a:lnSpc>
              <a:tabLst>
                <a:tab algn="l" pos="0"/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90360" y="2021040"/>
            <a:ext cx="1030608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4040" indent="-2840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In that context, the IT supplier’s policy would be that 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investments should be firmly protected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(patents, copyrights, …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31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client would be satisfied by the quality of their products, information and services </a:t>
            </a:r>
            <a:r>
              <a:rPr b="1" lang="en-US" sz="2100" spc="-1" strike="noStrike">
                <a:solidFill>
                  <a:srgbClr val="fafd00"/>
                </a:solidFill>
                <a:latin typeface="Garamond"/>
              </a:rPr>
              <a:t>(functionalities, human interfaces, training, warranties, …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Their product and services should be interoperable in space and tim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62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56988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Garamond"/>
              </a:rPr>
              <a:t>…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406440" y="1717560"/>
            <a:ext cx="9629640" cy="3926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Media Ch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intended Dissemin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31760" y="2143080"/>
            <a:ext cx="8348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9900"/>
                </a:solidFill>
                <a:latin typeface="Garamond"/>
              </a:rPr>
              <a:t>Structure of the presentat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59560" y="4479840"/>
            <a:ext cx="4567680" cy="569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6360" indent="-480960">
              <a:lnSpc>
                <a:spcPct val="11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147600" y="2021040"/>
            <a:ext cx="101012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Garamond"/>
              <a:buAutoNum type="arabicPeriod"/>
              <a:tabLst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ound Services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MEMNON (</a:t>
            </a:r>
            <a:r>
              <a:rPr b="1" i="1" lang="en-US" sz="2500" spc="-1" strike="noStrike">
                <a:solidFill>
                  <a:srgbClr val="ffffff"/>
                </a:solidFill>
                <a:latin typeface="Garamond"/>
              </a:rPr>
              <a:t>Project coordinator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Garamond"/>
              <a:buAutoNum type="arabicPeriod"/>
              <a:tabLst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Users: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Radio Suisse Romande (RSR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Norwegian Institute of Recorded Sound (NI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UNESC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Garamond"/>
              <a:buAutoNum type="arabicPeriod" startAt="3"/>
              <a:tabLst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IT suppliers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MIS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Israel Institute of Technology (Technion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452520"/>
                <a:tab algn="l" pos="569880"/>
                <a:tab algn="l" pos="313704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PubGene</a:t>
            </a: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30360" y="412920"/>
            <a:ext cx="463068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>
              <a:lnSpc>
                <a:spcPct val="100000"/>
              </a:lnSpc>
              <a:buClr>
                <a:srgbClr val="ffffff"/>
              </a:buClr>
              <a:buFont typeface="Garamond"/>
              <a:buAutoNum type="arabicPeriod" startAt="3"/>
              <a:tabLst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176040" y="1544760"/>
            <a:ext cx="10101600" cy="54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Single Sensor Source Separation” </a:t>
            </a: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General Software Library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MIS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Techn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dvanced Information Searches” </a:t>
            </a: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General Software Library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PubGen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Open licensing of the exchange format “AXIS”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MEMN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UNES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 startAt="4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Ontological and Semantic Profiles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RS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NIR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UNES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MEMN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Services for Sound acquisition, valorization and exploitation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MEMN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Garamond"/>
              <a:buAutoNum type="arabicPeriod" startAt="6"/>
              <a:tabLst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utonomous Asset Entities (~ 3 000 hours of sound archives)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RS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NIR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2520"/>
                <a:tab algn="l" pos="7983360"/>
                <a:tab algn="l" pos="8658360"/>
                <a:tab algn="l" pos="9620280"/>
                <a:tab algn="l" pos="10582200"/>
              </a:tabLst>
            </a:pP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100" spc="-1" strike="noStrike">
                <a:solidFill>
                  <a:srgbClr val="ffe575"/>
                </a:solidFill>
                <a:latin typeface="Garamond"/>
              </a:rPr>
              <a:t>UNES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471680" y="368280"/>
            <a:ext cx="680868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>
              <a:lnSpc>
                <a:spcPct val="100000"/>
              </a:lnSpc>
              <a:buClr>
                <a:srgbClr val="ffffff"/>
              </a:buClr>
              <a:buFont typeface="Garamond"/>
              <a:buAutoNum type="arabicPeriod" startAt="3"/>
              <a:tabLst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Garamond"/>
              </a:rPr>
              <a:t>Consortium </a:t>
            </a:r>
            <a:r>
              <a:rPr b="1" i="1" lang="en-GB" sz="3000" spc="-1" strike="noStrike">
                <a:solidFill>
                  <a:srgbClr val="ffffff"/>
                </a:solidFill>
                <a:latin typeface="Garamond"/>
              </a:rPr>
              <a:t>(Main target result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147600" y="1574640"/>
            <a:ext cx="1010124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ories</a:t>
            </a:r>
            <a:r>
              <a:rPr b="1" lang="en-US" sz="3200" spc="-1" strike="noStrike">
                <a:solidFill>
                  <a:srgbClr val="ffe575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e575"/>
                </a:solidFill>
                <a:latin typeface="Garamond"/>
              </a:rPr>
              <a:t>intends to initiate contacts with the EU projects having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AIS reference model</a:t>
            </a:r>
            <a:r>
              <a:rPr b="1" lang="en-US" sz="2400" spc="-1" strike="noStrike">
                <a:solidFill>
                  <a:srgbClr val="ffe575"/>
                </a:solidFill>
                <a:latin typeface="Garamond"/>
              </a:rPr>
              <a:t> in sight, in particu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igital Preservation Europe (DP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LAN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ASP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ultiMa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e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9000" indent="-457200">
              <a:lnSpc>
                <a:spcPct val="95000"/>
              </a:lnSpc>
              <a:buClr>
                <a:srgbClr val="ffffff"/>
              </a:buClr>
              <a:buFont typeface="Garamond"/>
              <a:buChar char="•"/>
              <a:tabLst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est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In the domain of sound, contacts will be made with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ASAIER</a:t>
            </a: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 project for investigating the possibilities of precompetive collabo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The possibility of collaboration with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ICKS</a:t>
            </a: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 will be analyz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ories</a:t>
            </a:r>
            <a:r>
              <a:rPr b="1" lang="en-US" sz="3200" spc="-1" strike="noStrike">
                <a:solidFill>
                  <a:srgbClr val="ffe575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e575"/>
                </a:solidFill>
                <a:latin typeface="Garamond"/>
              </a:rPr>
              <a:t>has strong contacts with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33760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fe575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(</a:t>
            </a:r>
            <a:r>
              <a:rPr b="1" i="1" lang="en-US" sz="2000" spc="-1" strike="noStrike">
                <a:solidFill>
                  <a:srgbClr val="ffe575"/>
                </a:solidFill>
                <a:latin typeface="Garamond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i="1" lang="en-US" sz="2000" spc="-1" strike="noStrike">
                <a:solidFill>
                  <a:srgbClr val="ffe575"/>
                </a:solidFill>
                <a:latin typeface="Garamond"/>
              </a:rPr>
              <a:t>nternational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en-US" sz="2000" spc="-1" strike="noStrike">
                <a:solidFill>
                  <a:srgbClr val="ffe575"/>
                </a:solidFill>
                <a:latin typeface="Garamond"/>
              </a:rPr>
              <a:t>ssociation of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i="1" lang="en-US" sz="2000" spc="-1" strike="noStrike">
                <a:solidFill>
                  <a:srgbClr val="ffe575"/>
                </a:solidFill>
                <a:latin typeface="Garamond"/>
              </a:rPr>
              <a:t>ound &amp; Audio-Visual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i="1" lang="en-US" sz="2000" spc="-1" strike="noStrike">
                <a:solidFill>
                  <a:srgbClr val="ffe575"/>
                </a:solidFill>
                <a:latin typeface="Garamond"/>
              </a:rPr>
              <a:t>rchives</a:t>
            </a:r>
            <a:r>
              <a:rPr b="1" lang="en-US" sz="2000" spc="-1" strike="noStrike">
                <a:solidFill>
                  <a:srgbClr val="ffe575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320840" y="568440"/>
            <a:ext cx="6554880" cy="757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9080" bIns="19080" anchor="ctr">
            <a:noAutofit/>
          </a:bodyPr>
          <a:p>
            <a:pPr marL="882720" indent="-882720">
              <a:lnSpc>
                <a:spcPct val="100000"/>
              </a:lnSpc>
              <a:buClr>
                <a:srgbClr val="ffffff"/>
              </a:buClr>
              <a:buFont typeface="Garamond"/>
              <a:buAutoNum type="arabicPeriod" startAt="3"/>
              <a:tabLst>
                <a:tab algn="l" pos="380880"/>
                <a:tab algn="l" pos="122868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Consortium </a:t>
            </a:r>
            <a:r>
              <a:rPr b="1" i="1" lang="en-GB" sz="3400" spc="-1" strike="noStrike">
                <a:solidFill>
                  <a:srgbClr val="ffffff"/>
                </a:solidFill>
                <a:latin typeface="Garamond"/>
              </a:rPr>
              <a:t>(Collaborations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406440" y="1717560"/>
            <a:ext cx="9629640" cy="3926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 algn="ctr">
              <a:lnSpc>
                <a:spcPct val="10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Objectives of the projec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Media Ch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Consortium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-480960">
              <a:lnSpc>
                <a:spcPct val="110000"/>
              </a:lnSpc>
              <a:buClr>
                <a:srgbClr val="ff9900"/>
              </a:buClr>
              <a:buFont typeface="Garamond"/>
              <a:buAutoNum type="arabicPeriod"/>
              <a:tabLst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9900"/>
                </a:solidFill>
                <a:latin typeface="Garamond"/>
              </a:rPr>
              <a:t>The intended Dissemin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031760" y="2143080"/>
            <a:ext cx="8348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9900"/>
                </a:solidFill>
                <a:latin typeface="Garamond"/>
              </a:rPr>
              <a:t>Structure of the presentat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120" y="5022720"/>
            <a:ext cx="7213320" cy="569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76360" indent="-480960">
              <a:lnSpc>
                <a:spcPct val="110000"/>
              </a:lnSpc>
              <a:tabLst>
                <a:tab algn="l" pos="0"/>
                <a:tab algn="l" pos="561960"/>
                <a:tab algn="l" pos="60404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Garamond"/>
              </a:rPr>
              <a:t>The intended Disseminatio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0" y="1087560"/>
            <a:ext cx="103060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marL="284040" indent="-28404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intended dissemination policy is based on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Garamond"/>
              </a:rPr>
              <a:t>Open licensing, via the UNESCO, of the defini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The PRO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A Tool k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Garamond"/>
              <a:buChar char="•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Garamond"/>
              </a:rPr>
              <a:t>The commercial exploitation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The GSL for SS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The GSL for AIR and associated “</a:t>
            </a:r>
            <a:r>
              <a:rPr b="1" i="1" lang="en-US" sz="2400" spc="-1" strike="noStrike">
                <a:solidFill>
                  <a:srgbClr val="fafd00"/>
                </a:solidFill>
                <a:latin typeface="Garamond"/>
              </a:rPr>
              <a:t>Knowledge harvesting System</a:t>
            </a: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The Media acquisition system (</a:t>
            </a:r>
            <a:r>
              <a:rPr b="1" i="1" lang="en-US" sz="2400" spc="-1" strike="noStrike">
                <a:solidFill>
                  <a:srgbClr val="fafd00"/>
                </a:solidFill>
                <a:latin typeface="Garamond"/>
              </a:rPr>
              <a:t>generator of AAE</a:t>
            </a: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The Profile Ed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3286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Garamond"/>
              <a:buChar char="o"/>
              <a:tabLst>
                <a:tab algn="l" pos="284040"/>
                <a:tab algn="l" pos="80964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Garamond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1819440" y="2925720"/>
            <a:ext cx="6800760" cy="19018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0" bIns="1260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60344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Goals and first results of the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memories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 project</a:t>
            </a:r>
            <a:br>
              <a:rPr sz="1800"/>
            </a:br>
            <a:br>
              <a:rPr sz="1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 open , tailorable and persistent system for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udio acquisition, exploitation and archiving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752800" y="6602400"/>
            <a:ext cx="4999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" rIns="25200" tIns="0" bIns="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www.memories-project.eu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649920" y="5694480"/>
            <a:ext cx="3700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90000" bIns="90000" anchor="t">
            <a:spAutoFit/>
          </a:bodyPr>
          <a:p>
            <a:pPr algn="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Garamond"/>
              </a:rPr>
              <a:t>By :</a:t>
            </a:r>
            <a:r>
              <a:rPr b="1" lang="en-GB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500" spc="-1" strike="noStrike">
                <a:solidFill>
                  <a:srgbClr val="ffffff"/>
                </a:solidFill>
                <a:latin typeface="Garamond"/>
              </a:rPr>
              <a:t>Guy Marécha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71480" y="6183360"/>
            <a:ext cx="35280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guy.marechal@memnon.be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223280" y="1125360"/>
            <a:ext cx="800424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Garamond"/>
              </a:rPr>
              <a:t>Thank you!         Questions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31760" y="2925720"/>
            <a:ext cx="834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GB" sz="5000" spc="-1" strike="noStrike">
                <a:solidFill>
                  <a:srgbClr val="ffffff"/>
                </a:solidFill>
                <a:latin typeface="Garamond"/>
              </a:rPr>
              <a:t>ARCHITECTURE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30640" y="2158920"/>
            <a:ext cx="3698640" cy="11588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65640" y="2347920"/>
            <a:ext cx="34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edia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sset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anage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35960" y="2558880"/>
            <a:ext cx="1939320" cy="291960"/>
            <a:chOff x="7635960" y="2558880"/>
            <a:chExt cx="1939320" cy="291960"/>
          </a:xfrm>
        </p:grpSpPr>
        <p:sp>
          <p:nvSpPr>
            <p:cNvPr id="67" name=""/>
            <p:cNvSpPr/>
            <p:nvPr/>
          </p:nvSpPr>
          <p:spPr>
            <a:xfrm>
              <a:off x="7635960" y="255888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4360" y="255888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49480" y="255888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668000" y="1519200"/>
            <a:ext cx="1765800" cy="322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EXPLOITATION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54120" y="2998800"/>
            <a:ext cx="586080" cy="174600"/>
          </a:xfrm>
          <a:prstGeom prst="leftRightArrow">
            <a:avLst>
              <a:gd name="adj1" fmla="val 50000"/>
              <a:gd name="adj2" fmla="val 66823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03480" y="2924280"/>
            <a:ext cx="288720" cy="32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9120" y="2023920"/>
            <a:ext cx="136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Analogue 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Digital 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3400" y="2387520"/>
            <a:ext cx="1096920" cy="185760"/>
          </a:xfrm>
          <a:prstGeom prst="rightArrow">
            <a:avLst>
              <a:gd name="adj1" fmla="val 49593"/>
              <a:gd name="adj2" fmla="val 74141"/>
            </a:avLst>
          </a:prstGeom>
          <a:solidFill>
            <a:srgbClr val="3333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50400" y="305280"/>
            <a:ext cx="6107040" cy="47808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e usual architectu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0440" y="2155680"/>
            <a:ext cx="1217880" cy="4557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47080" y="2136600"/>
            <a:ext cx="585720" cy="455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663120" y="2220840"/>
            <a:ext cx="237960" cy="322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55160" y="2276640"/>
            <a:ext cx="585720" cy="176040"/>
          </a:xfrm>
          <a:prstGeom prst="leftRightArrow">
            <a:avLst>
              <a:gd name="adj1" fmla="val 50000"/>
              <a:gd name="adj2" fmla="val 66236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48520" y="202392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afd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5360" y="2301840"/>
            <a:ext cx="9043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Exploitation #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55080" y="2254320"/>
            <a:ext cx="5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U #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16240" y="4032360"/>
            <a:ext cx="3781440" cy="647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99800" y="4122720"/>
            <a:ext cx="2906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iles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 &amp;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trea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erve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2860560"/>
            <a:ext cx="1217520" cy="4557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40960" y="2841480"/>
            <a:ext cx="585720" cy="455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656640" y="2925720"/>
            <a:ext cx="238320" cy="322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48680" y="2981160"/>
            <a:ext cx="585720" cy="176400"/>
          </a:xfrm>
          <a:prstGeom prst="leftRightArrow">
            <a:avLst>
              <a:gd name="adj1" fmla="val 50000"/>
              <a:gd name="adj2" fmla="val 66101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90000" y="2698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afd00"/>
                </a:solidFill>
                <a:latin typeface="Times New Roman"/>
              </a:rPr>
              <a:t>DV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59240" y="3006720"/>
            <a:ext cx="910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Exploitation # 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48600" y="29592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U # 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86600" y="4167360"/>
            <a:ext cx="779400" cy="322200"/>
            <a:chOff x="7086600" y="4167360"/>
            <a:chExt cx="779400" cy="322200"/>
          </a:xfrm>
        </p:grpSpPr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576920" y="4167360"/>
              <a:ext cx="2890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086600" y="4270320"/>
              <a:ext cx="425160" cy="126720"/>
            </a:xfrm>
            <a:prstGeom prst="leftRightArrow">
              <a:avLst>
                <a:gd name="adj1" fmla="val 50000"/>
                <a:gd name="adj2" fmla="val 66791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6200000">
            <a:off x="4873320" y="3531600"/>
            <a:ext cx="584280" cy="270000"/>
          </a:xfrm>
          <a:prstGeom prst="leftRightArrow">
            <a:avLst>
              <a:gd name="adj1" fmla="val 50000"/>
              <a:gd name="adj2" fmla="val 43080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8080" y="2979720"/>
            <a:ext cx="26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LOCAL DATA MODEL “X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72480" y="145440"/>
            <a:ext cx="6754680" cy="41724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Garamond"/>
              </a:rPr>
              <a:t>The interoperability challeng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57280" y="876240"/>
            <a:ext cx="7467480" cy="2667240"/>
            <a:chOff x="1457280" y="876240"/>
            <a:chExt cx="7467480" cy="2667240"/>
          </a:xfrm>
        </p:grpSpPr>
        <p:sp>
          <p:nvSpPr>
            <p:cNvPr id="99" name=""/>
            <p:cNvSpPr/>
            <p:nvPr/>
          </p:nvSpPr>
          <p:spPr>
            <a:xfrm>
              <a:off x="1457280" y="876240"/>
              <a:ext cx="7467480" cy="2667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0760" y="1441440"/>
              <a:ext cx="3290760" cy="909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69920" y="1589040"/>
              <a:ext cx="3066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edia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sset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anagemen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668640" y="1755720"/>
              <a:ext cx="1726560" cy="261360"/>
              <a:chOff x="6668640" y="1755720"/>
              <a:chExt cx="1726560" cy="261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668640" y="175572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31520" y="175572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04040" y="175572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707520" y="959040"/>
              <a:ext cx="1552320" cy="2919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EXPLOITATION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0280" y="2100240"/>
              <a:ext cx="520200" cy="136800"/>
            </a:xfrm>
            <a:prstGeom prst="leftRightArrow">
              <a:avLst>
                <a:gd name="adj1" fmla="val 50000"/>
                <a:gd name="adj2" fmla="val 75700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747440" y="2041560"/>
              <a:ext cx="25704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618920" y="1335240"/>
              <a:ext cx="12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Analogue sour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Digital sour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58520" y="1621080"/>
              <a:ext cx="975960" cy="145800"/>
            </a:xfrm>
            <a:prstGeom prst="rightArrow">
              <a:avLst>
                <a:gd name="adj1" fmla="val 49593"/>
                <a:gd name="adj2" fmla="val 84045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51240" y="1438200"/>
              <a:ext cx="1082520" cy="3574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35760" y="1424160"/>
              <a:ext cx="521640" cy="358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473680" y="1490760"/>
              <a:ext cx="210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219800" y="1533600"/>
              <a:ext cx="521640" cy="139680"/>
            </a:xfrm>
            <a:prstGeom prst="leftRightArrow">
              <a:avLst>
                <a:gd name="adj1" fmla="val 50000"/>
                <a:gd name="adj2" fmla="val 74345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37280" y="1335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afd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9960" y="1554120"/>
              <a:ext cx="82368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Exploitation # 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2600" y="1515960"/>
              <a:ext cx="46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U # 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38160" y="2911680"/>
              <a:ext cx="3363480" cy="5079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57280" y="2981520"/>
              <a:ext cx="26082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iles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 &amp;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trea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erv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44760" y="1992240"/>
              <a:ext cx="1083960" cy="3574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30720" y="1976400"/>
              <a:ext cx="520560" cy="35748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67560" y="2043360"/>
              <a:ext cx="21060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214760" y="2086200"/>
              <a:ext cx="520560" cy="137880"/>
            </a:xfrm>
            <a:prstGeom prst="leftRightArrow">
              <a:avLst>
                <a:gd name="adj1" fmla="val 50000"/>
                <a:gd name="adj2" fmla="val 75159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2560" y="1865520"/>
              <a:ext cx="63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afd00"/>
                  </a:solidFill>
                  <a:latin typeface="Times New Roman"/>
                </a:rPr>
                <a:t>DV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53840" y="2106720"/>
              <a:ext cx="8298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Exploitation # 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26120" y="2070000"/>
              <a:ext cx="463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U # 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181560" y="3017880"/>
              <a:ext cx="691200" cy="250920"/>
              <a:chOff x="6181560" y="3017880"/>
              <a:chExt cx="691200" cy="250920"/>
            </a:xfrm>
          </p:grpSpPr>
          <p:pic>
            <p:nvPicPr>
              <p:cNvPr id="1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3017880"/>
                <a:ext cx="25632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181560" y="3098160"/>
                <a:ext cx="376920" cy="98640"/>
              </a:xfrm>
              <a:prstGeom prst="leftRightArrow">
                <a:avLst>
                  <a:gd name="adj1" fmla="val 50000"/>
                  <a:gd name="adj2" fmla="val 76069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16200000">
              <a:off x="4243680" y="2504160"/>
              <a:ext cx="457200" cy="239400"/>
            </a:xfrm>
            <a:prstGeom prst="leftRightArrow">
              <a:avLst>
                <a:gd name="adj1" fmla="val 50000"/>
                <a:gd name="adj2" fmla="val 38018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44720" y="1909800"/>
              <a:ext cx="2368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LOCAL DATA MODEL 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X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86080" y="4410000"/>
            <a:ext cx="7467480" cy="2667240"/>
            <a:chOff x="1486080" y="4410000"/>
            <a:chExt cx="7467480" cy="2667240"/>
          </a:xfrm>
        </p:grpSpPr>
        <p:sp>
          <p:nvSpPr>
            <p:cNvPr id="133" name=""/>
            <p:cNvSpPr/>
            <p:nvPr/>
          </p:nvSpPr>
          <p:spPr>
            <a:xfrm>
              <a:off x="1486080" y="4410000"/>
              <a:ext cx="7467480" cy="2667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79560" y="4975200"/>
              <a:ext cx="3290760" cy="90972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8720" y="5122800"/>
              <a:ext cx="3066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edia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sset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anagemen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697440" y="5289480"/>
              <a:ext cx="1726560" cy="261360"/>
              <a:chOff x="6697440" y="5289480"/>
              <a:chExt cx="1726560" cy="261360"/>
            </a:xfrm>
          </p:grpSpPr>
          <p:sp>
            <p:nvSpPr>
              <p:cNvPr id="137" name=""/>
              <p:cNvSpPr/>
              <p:nvPr/>
            </p:nvSpPr>
            <p:spPr>
              <a:xfrm>
                <a:off x="6697440" y="528948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60320" y="528948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32840" y="5289480"/>
                <a:ext cx="463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100" spc="-1" strike="noStrike">
                    <a:solidFill>
                      <a:srgbClr val="ffffff"/>
                    </a:solidFill>
                    <a:latin typeface="Times New Roman"/>
                  </a:rPr>
                  <a:t>…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736320" y="4492800"/>
              <a:ext cx="1552320" cy="2919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EXPLOITATION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89080" y="5634000"/>
              <a:ext cx="520200" cy="136800"/>
            </a:xfrm>
            <a:prstGeom prst="leftRightArrow">
              <a:avLst>
                <a:gd name="adj1" fmla="val 50000"/>
                <a:gd name="adj2" fmla="val 75700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1776240" y="5575320"/>
              <a:ext cx="25704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647720" y="4869000"/>
              <a:ext cx="12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Analogue sour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Digital sour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7320" y="5154840"/>
              <a:ext cx="975960" cy="145800"/>
            </a:xfrm>
            <a:prstGeom prst="rightArrow">
              <a:avLst>
                <a:gd name="adj1" fmla="val 49593"/>
                <a:gd name="adj2" fmla="val 84045"/>
              </a:avLst>
            </a:prstGeom>
            <a:solidFill>
              <a:srgbClr val="33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0040" y="4971960"/>
              <a:ext cx="1082520" cy="3574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64560" y="4957920"/>
              <a:ext cx="521640" cy="358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8502480" y="5024520"/>
              <a:ext cx="210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248600" y="5067360"/>
              <a:ext cx="521640" cy="139680"/>
            </a:xfrm>
            <a:prstGeom prst="leftRightArrow">
              <a:avLst>
                <a:gd name="adj1" fmla="val 50000"/>
                <a:gd name="adj2" fmla="val 74345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66080" y="486900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afd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88760" y="5087880"/>
              <a:ext cx="82368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Exploitation # 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61400" y="5049720"/>
              <a:ext cx="46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U # 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66960" y="6445440"/>
              <a:ext cx="3363480" cy="50796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86080" y="6515280"/>
              <a:ext cx="26082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iles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 &amp;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tream</a:t>
              </a:r>
              <a:r>
                <a:rPr b="1" lang="en-GB" sz="19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900" spc="-1" strike="noStrike">
                  <a:solidFill>
                    <a:srgbClr val="ffff00"/>
                  </a:solidFill>
                  <a:latin typeface="Times New Roman"/>
                </a:rPr>
                <a:t>erver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73560" y="5526000"/>
              <a:ext cx="1083960" cy="35748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59520" y="5510160"/>
              <a:ext cx="520560" cy="35748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8496360" y="5577120"/>
              <a:ext cx="21060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243560" y="5619960"/>
              <a:ext cx="520560" cy="137880"/>
            </a:xfrm>
            <a:prstGeom prst="leftRightArrow">
              <a:avLst>
                <a:gd name="adj1" fmla="val 50000"/>
                <a:gd name="adj2" fmla="val 75159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91360" y="5399280"/>
              <a:ext cx="63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afd00"/>
                  </a:solidFill>
                  <a:latin typeface="Times New Roman"/>
                </a:rPr>
                <a:t>DV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82640" y="5640480"/>
              <a:ext cx="8298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520" rIns="2052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Exploitation # 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54920" y="5603760"/>
              <a:ext cx="463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20" rIns="205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Times New Roman"/>
                </a:rPr>
                <a:t>U # 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210360" y="6551640"/>
              <a:ext cx="691200" cy="250920"/>
              <a:chOff x="6210360" y="6551640"/>
              <a:chExt cx="691200" cy="250920"/>
            </a:xfrm>
          </p:grpSpPr>
          <p:pic>
            <p:nvPicPr>
              <p:cNvPr id="1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5240" y="6551640"/>
                <a:ext cx="25632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6210360" y="6631920"/>
                <a:ext cx="376920" cy="98640"/>
              </a:xfrm>
              <a:prstGeom prst="leftRightArrow">
                <a:avLst>
                  <a:gd name="adj1" fmla="val 50000"/>
                  <a:gd name="adj2" fmla="val 76069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rot="16200000">
              <a:off x="4272480" y="6037920"/>
              <a:ext cx="457200" cy="239400"/>
            </a:xfrm>
            <a:prstGeom prst="leftRightArrow">
              <a:avLst>
                <a:gd name="adj1" fmla="val 50000"/>
                <a:gd name="adj2" fmla="val 38018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73520" y="5443560"/>
              <a:ext cx="2368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LOCAL DATA MODEL 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“Y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57640" y="3648240"/>
            <a:ext cx="5150520" cy="657000"/>
            <a:chOff x="5057640" y="3648240"/>
            <a:chExt cx="5150520" cy="657000"/>
          </a:xfrm>
        </p:grpSpPr>
        <p:sp>
          <p:nvSpPr>
            <p:cNvPr id="167" name=""/>
            <p:cNvSpPr/>
            <p:nvPr/>
          </p:nvSpPr>
          <p:spPr>
            <a:xfrm>
              <a:off x="5057640" y="3648240"/>
              <a:ext cx="324000" cy="657000"/>
            </a:xfrm>
            <a:prstGeom prst="upDownArrow">
              <a:avLst>
                <a:gd name="adj1" fmla="val 50000"/>
                <a:gd name="adj2" fmla="val 403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21160" y="3732120"/>
              <a:ext cx="48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Time &amp; Space InterOper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70360" y="3406680"/>
            <a:ext cx="3519360" cy="11588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60640" y="3595680"/>
            <a:ext cx="3446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edia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sset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anage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131320" y="3807000"/>
            <a:ext cx="1939320" cy="291960"/>
            <a:chOff x="8131320" y="3807000"/>
            <a:chExt cx="1939320" cy="291960"/>
          </a:xfrm>
        </p:grpSpPr>
        <p:sp>
          <p:nvSpPr>
            <p:cNvPr id="172" name=""/>
            <p:cNvSpPr/>
            <p:nvPr/>
          </p:nvSpPr>
          <p:spPr>
            <a:xfrm>
              <a:off x="8131320" y="380700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49720" y="380700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44840" y="3807000"/>
              <a:ext cx="520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7799760" y="2881440"/>
            <a:ext cx="1765800" cy="322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EXPLOITATION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1120" y="305280"/>
            <a:ext cx="7730280" cy="478080"/>
          </a:xfrm>
          <a:prstGeom prst="rect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8000" bIns="18000" anchor="ctr">
            <a:sp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361800"/>
                <a:tab algn="l" pos="1166760"/>
                <a:tab algn="r" pos="4032360"/>
                <a:tab algn="r" pos="744048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e target general architectur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35800" y="3403440"/>
            <a:ext cx="1217520" cy="4557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442440" y="3384720"/>
            <a:ext cx="585720" cy="455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158480" y="3468600"/>
            <a:ext cx="237960" cy="322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750160" y="3524400"/>
            <a:ext cx="586080" cy="176040"/>
          </a:xfrm>
          <a:prstGeom prst="leftRightArrow">
            <a:avLst>
              <a:gd name="adj1" fmla="val 50000"/>
              <a:gd name="adj2" fmla="val 66277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43880" y="327168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afd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60720" y="3549600"/>
            <a:ext cx="9043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Exploitation #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50440" y="3502080"/>
            <a:ext cx="5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U # 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0360" y="5280120"/>
            <a:ext cx="3532320" cy="64764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2480" y="5370480"/>
            <a:ext cx="2906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iles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 &amp;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tream</a:t>
            </a:r>
            <a:r>
              <a:rPr b="1" lang="en-GB" sz="21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GB" sz="2100" spc="-1" strike="noStrike">
                <a:solidFill>
                  <a:srgbClr val="ffff00"/>
                </a:solidFill>
                <a:latin typeface="Times New Roman"/>
              </a:rPr>
              <a:t>erve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4108320"/>
            <a:ext cx="1217520" cy="455760"/>
          </a:xfrm>
          <a:prstGeom prst="rect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435960" y="4089240"/>
            <a:ext cx="586080" cy="45576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0152000" y="4173480"/>
            <a:ext cx="238320" cy="32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744040" y="4229280"/>
            <a:ext cx="585720" cy="176040"/>
          </a:xfrm>
          <a:prstGeom prst="leftRightArrow">
            <a:avLst>
              <a:gd name="adj1" fmla="val 50000"/>
              <a:gd name="adj2" fmla="val 66236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85360" y="39466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afd00"/>
                </a:solidFill>
                <a:latin typeface="Times New Roman"/>
              </a:rPr>
              <a:t>DV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4600" y="4254480"/>
            <a:ext cx="91044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Exploitation # 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43960" y="420696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</a:rPr>
              <a:t>U # 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81960" y="5415120"/>
            <a:ext cx="779400" cy="322200"/>
            <a:chOff x="7581960" y="5415120"/>
            <a:chExt cx="779400" cy="32220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8072280" y="5415120"/>
              <a:ext cx="2890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81960" y="5518080"/>
              <a:ext cx="425160" cy="126720"/>
            </a:xfrm>
            <a:prstGeom prst="leftRightArrow">
              <a:avLst>
                <a:gd name="adj1" fmla="val 50000"/>
                <a:gd name="adj2" fmla="val 66791"/>
              </a:avLst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rot="16200000">
            <a:off x="5287680" y="4779360"/>
            <a:ext cx="584280" cy="270000"/>
          </a:xfrm>
          <a:prstGeom prst="leftRightArrow">
            <a:avLst>
              <a:gd name="adj1" fmla="val 50000"/>
              <a:gd name="adj2" fmla="val 43080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8920" y="4218120"/>
            <a:ext cx="257652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LOCAL DATA MODEL “X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080" y="1741320"/>
            <a:ext cx="3193920" cy="2114640"/>
            <a:chOff x="46080" y="1741320"/>
            <a:chExt cx="3193920" cy="2114640"/>
          </a:xfrm>
        </p:grpSpPr>
        <p:sp>
          <p:nvSpPr>
            <p:cNvPr id="199" name=""/>
            <p:cNvSpPr/>
            <p:nvPr/>
          </p:nvSpPr>
          <p:spPr>
            <a:xfrm>
              <a:off x="1215720" y="1741320"/>
              <a:ext cx="1969920" cy="2114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2960" y="2149560"/>
              <a:ext cx="1463040" cy="10778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6080" y="1920960"/>
              <a:ext cx="1422000" cy="1222200"/>
              <a:chOff x="46080" y="1920960"/>
              <a:chExt cx="1422000" cy="1222200"/>
            </a:xfrm>
          </p:grpSpPr>
          <p:sp>
            <p:nvSpPr>
              <p:cNvPr id="202" name=""/>
              <p:cNvSpPr/>
              <p:nvPr/>
            </p:nvSpPr>
            <p:spPr>
              <a:xfrm>
                <a:off x="822240" y="2895480"/>
                <a:ext cx="585360" cy="174600"/>
              </a:xfrm>
              <a:prstGeom prst="leftRightArrow">
                <a:avLst>
                  <a:gd name="adj1" fmla="val 50000"/>
                  <a:gd name="adj2" fmla="val 66741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1240" y="2820960"/>
                <a:ext cx="28872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46080" y="1920960"/>
                <a:ext cx="10796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nalogue sourc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Digital sourc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080" y="2284560"/>
                <a:ext cx="1422000" cy="185760"/>
              </a:xfrm>
              <a:prstGeom prst="rightArrow">
                <a:avLst>
                  <a:gd name="adj1" fmla="val 49593"/>
                  <a:gd name="adj2" fmla="val 96113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595160" y="2230560"/>
              <a:ext cx="131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ed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cqui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67880" y="3274920"/>
              <a:ext cx="157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Personalized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ATA 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600360" y="1785960"/>
            <a:ext cx="1755720" cy="1035000"/>
          </a:xfrm>
          <a:prstGeom prst="wedgeEllipseCallout">
            <a:avLst>
              <a:gd name="adj1" fmla="val -55245"/>
              <a:gd name="adj2" fmla="val 71777"/>
            </a:avLst>
          </a:prstGeom>
          <a:solidFill>
            <a:srgbClr val="ffd9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Arial"/>
              </a:rPr>
              <a:t>issue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11440" y="2280960"/>
            <a:ext cx="0" cy="4546440"/>
          </a:xfrm>
          <a:prstGeom prst="line">
            <a:avLst/>
          </a:prstGeom>
          <a:ln w="381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50360" y="1515960"/>
            <a:ext cx="1755720" cy="1035000"/>
          </a:xfrm>
          <a:prstGeom prst="wedgeEllipseCallout">
            <a:avLst>
              <a:gd name="adj1" fmla="val 43217"/>
              <a:gd name="adj2" fmla="val 144629"/>
            </a:avLst>
          </a:prstGeom>
          <a:solidFill>
            <a:srgbClr val="ffd9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Queries issue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0" y="3592440"/>
            <a:ext cx="585720" cy="174600"/>
          </a:xfrm>
          <a:prstGeom prst="leftRightArrow">
            <a:avLst>
              <a:gd name="adj1" fmla="val 50000"/>
              <a:gd name="adj2" fmla="val 66782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080" y="4172040"/>
            <a:ext cx="3193920" cy="2114640"/>
            <a:chOff x="46080" y="4172040"/>
            <a:chExt cx="3193920" cy="2114640"/>
          </a:xfrm>
        </p:grpSpPr>
        <p:sp>
          <p:nvSpPr>
            <p:cNvPr id="213" name=""/>
            <p:cNvSpPr/>
            <p:nvPr/>
          </p:nvSpPr>
          <p:spPr>
            <a:xfrm>
              <a:off x="1215720" y="4172040"/>
              <a:ext cx="1969920" cy="2114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1920"/>
                  <a:tab algn="l" pos="1924200"/>
                  <a:tab algn="l" pos="2886120"/>
                  <a:tab algn="l" pos="3848040"/>
                  <a:tab algn="l" pos="4809960"/>
                  <a:tab algn="l" pos="5772240"/>
                  <a:tab algn="l" pos="6734160"/>
                  <a:tab algn="l" pos="7696080"/>
                  <a:tab algn="l" pos="8658360"/>
                  <a:tab algn="l" pos="9620280"/>
                  <a:tab algn="l" pos="105822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2960" y="4580280"/>
              <a:ext cx="1463040" cy="10778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6080" y="4351680"/>
              <a:ext cx="1422000" cy="1222200"/>
              <a:chOff x="46080" y="4351680"/>
              <a:chExt cx="1422000" cy="1222200"/>
            </a:xfrm>
          </p:grpSpPr>
          <p:sp>
            <p:nvSpPr>
              <p:cNvPr id="216" name=""/>
              <p:cNvSpPr/>
              <p:nvPr/>
            </p:nvSpPr>
            <p:spPr>
              <a:xfrm>
                <a:off x="822240" y="5326200"/>
                <a:ext cx="585360" cy="174600"/>
              </a:xfrm>
              <a:prstGeom prst="leftRightArrow">
                <a:avLst>
                  <a:gd name="adj1" fmla="val 50000"/>
                  <a:gd name="adj2" fmla="val 66741"/>
                </a:avLst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1240" y="5251680"/>
                <a:ext cx="28872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46080" y="4351680"/>
                <a:ext cx="10796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nalogue sourc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Digital sourc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080" y="4715280"/>
                <a:ext cx="1422000" cy="185760"/>
              </a:xfrm>
              <a:prstGeom prst="rightArrow">
                <a:avLst>
                  <a:gd name="adj1" fmla="val 49593"/>
                  <a:gd name="adj2" fmla="val 96113"/>
                </a:avLst>
              </a:prstGeom>
              <a:solidFill>
                <a:srgbClr val="33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595160" y="4661280"/>
              <a:ext cx="131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ed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cqui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1800" spc="-1" strike="noStrike">
                  <a:solidFill>
                    <a:srgbClr val="ffff00"/>
                  </a:solidFill>
                  <a:latin typeface="Times New Roman"/>
                </a:rPr>
                <a:t>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67880" y="5705640"/>
              <a:ext cx="157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Personalized 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</a:rPr>
                <a:t>DATA MO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0" y="4222800"/>
            <a:ext cx="585720" cy="174600"/>
          </a:xfrm>
          <a:prstGeom prst="leftRightArrow">
            <a:avLst>
              <a:gd name="adj1" fmla="val 50000"/>
              <a:gd name="adj2" fmla="val 66782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5560" y="3541680"/>
            <a:ext cx="740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5:08:10Z</dcterms:created>
  <dc:creator>Guy Maréchal</dc:creator>
  <dc:description/>
  <cp:keywords/>
  <dc:language>en-US</dc:language>
  <cp:lastModifiedBy>Frédéric Mignon</cp:lastModifiedBy>
  <cp:lastPrinted>2002-04-15T14:57:13Z</cp:lastPrinted>
  <dcterms:modified xsi:type="dcterms:W3CDTF">2008-06-04T19:43:39Z</dcterms:modified>
  <cp:revision>756</cp:revision>
  <dc:subject/>
  <dc:title>Présentation AXIS</dc:title>
</cp:coreProperties>
</file>