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9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0.png" ContentType="image/png"/>
  <Override PartName="/ppt/media/image5.wmf" ContentType="image/x-wmf"/>
  <Override PartName="/ppt/media/image34.png" ContentType="image/png"/>
  <Override PartName="/ppt/media/image35.png" ContentType="image/png"/>
  <Override PartName="/ppt/media/image41.png" ContentType="image/png"/>
  <Override PartName="/ppt/media/image9.wmf" ContentType="image/x-wmf"/>
  <Override PartName="/ppt/media/image42.png" ContentType="image/png"/>
  <Override PartName="/ppt/media/image43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6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8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4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Steny SOLITUDE" initials="SS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<Relationship Id="rId5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7-10-24T20:08:01.968000000" idx="2">
    <p:pos x="10" y="10"/>
    <p:text>Mettre accent sur entité profile</p:text>
  </p:cm>
</p:cmLst>
</file>

<file path=ppt/comments/comment18.xml><?xml version="1.0" encoding="utf-8"?>
<p:cmLst xmlns:p="http://schemas.openxmlformats.org/presentationml/2006/main">
  <p:cm authorId="0" dt="2007-10-24T20:13:03.031000000" idx="3">
    <p:pos x="10" y="10"/>
    <p:text>D'autre backbone sont possible cf METS,MODS,FRBR,MXF
Ajouter slide indiquant backbone = structure d'accroche des métadonnées et de contenus</p:text>
  </p:cm>
</p:cmLst>
</file>

<file path=ppt/comments/comment37.xml><?xml version="1.0" encoding="utf-8"?>
<p:cmLst xmlns:p="http://schemas.openxmlformats.org/presentationml/2006/main">
  <p:cm authorId="0" dt="2007-10-24T20:18:27.984000000" idx="4">
    <p:pos x="10" y="10"/>
    <p:text>Relation inverse entre parenthèses</p:text>
  </p:cm>
</p:cmLst>
</file>

<file path=ppt/comments/comment46.xml><?xml version="1.0" encoding="utf-8"?>
<p:cmLst xmlns:p="http://schemas.openxmlformats.org/presentationml/2006/main">
  <p:cm authorId="0" dt="2007-10-24T20:25:55.859000000" idx="5">
    <p:pos x="10" y="10"/>
    <p:text>Expliquer la traduction de AXE vers d'autres backbone ex mets et MXF ou absorbtin tel que DIP= AXE</p:text>
  </p:cm>
</p:cmLst>
</file>

<file path=ppt/comments/comment6.xml><?xml version="1.0" encoding="utf-8"?>
<p:cmLst xmlns:p="http://schemas.openxmlformats.org/presentationml/2006/main">
  <p:cm authorId="0" dt="2007-10-25T09:34:15.125000000" idx="1">
    <p:pos x="10" y="10"/>
    <p:text>AXIS est un ramework qui peut être mis en oeuvre dans de nombreux systèmes, nous allons voir
CF MEMORIES CI-APRES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Click to move the slid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84C091-2636-46DE-9450-4BEE8F7EDF5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21200" y="9725040"/>
            <a:ext cx="3076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7D64453-A4BC-460A-8A74-6E2311116D7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21200" y="9725040"/>
            <a:ext cx="3076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21D2D13-2E76-413F-BD44-B4FA397E0CC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2319480" y="768240"/>
            <a:ext cx="24606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21200" y="9725040"/>
            <a:ext cx="3076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AB7FA5F-505A-468C-8D96-8E9B43E93BC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21200" y="9725040"/>
            <a:ext cx="3076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A2B7D67-67C5-482A-A329-FEF6127C143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4021200" y="9725040"/>
            <a:ext cx="3076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D6D2BCD-AEDA-4D83-91C8-8D8E5BA5C3C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2319480" y="768240"/>
            <a:ext cx="24606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021200" y="9725040"/>
            <a:ext cx="3076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6669906A-8D65-4924-8D9F-575438DACE8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2319480" y="768240"/>
            <a:ext cx="24606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21200" y="9725040"/>
            <a:ext cx="3076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829A733-AAB7-4F89-9E6E-AFD20932CC6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21200" y="9725040"/>
            <a:ext cx="3076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05F885C-FECE-4626-A101-693FBB1F550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2319480" y="768240"/>
            <a:ext cx="24606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4021200" y="9725040"/>
            <a:ext cx="3076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5F7C0FA-568F-464B-9596-39D54831DE5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"/>
          <p:cNvSpPr/>
          <p:nvPr/>
        </p:nvSpPr>
        <p:spPr>
          <a:xfrm>
            <a:off x="2319480" y="768240"/>
            <a:ext cx="24606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68480" y="43920"/>
            <a:ext cx="706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Click to edit the title text format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ff3399"/>
              </a:buClr>
              <a:buFont typeface="Courier New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44880"/>
            <a:ext cx="24591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7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808080"/>
                </a:solidFill>
                <a:latin typeface="Verdana"/>
              </a:rPr>
              <a:t>© 2007 | SkemA – All rights reserv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1117440" cy="68565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539640" cy="52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1.jpeg"/><Relationship Id="rId3" Type="http://schemas.openxmlformats.org/officeDocument/2006/relationships/image" Target="../media/image5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1.jpeg"/><Relationship Id="rId3" Type="http://schemas.openxmlformats.org/officeDocument/2006/relationships/image" Target="../media/image5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url.org/dc/elements/1.1/date" TargetMode="External"/><Relationship Id="rId2" Type="http://schemas.openxmlformats.org/officeDocument/2006/relationships/hyperlink" Target="http://www.w3.org/TR/NOTE-datetime" TargetMode="External"/><Relationship Id="rId3" Type="http://schemas.openxmlformats.org/officeDocument/2006/relationships/hyperlink" Target="http://purl.org/dc/terms/W3CDTF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1.jpeg"/><Relationship Id="rId3" Type="http://schemas.openxmlformats.org/officeDocument/2006/relationships/image" Target="../media/image5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1.jpeg"/><Relationship Id="rId3" Type="http://schemas.openxmlformats.org/officeDocument/2006/relationships/image" Target="../media/image5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<Relationship Id="rId3" Type="http://schemas.openxmlformats.org/officeDocument/2006/relationships/comments" Target="../comments/commen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image" Target="../media/image8.jpe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9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9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oleObject" Target="../embeddings/oleObject2.bin"/><Relationship Id="rId40" Type="http://schemas.openxmlformats.org/officeDocument/2006/relationships/image" Target="../media/image10.png"/><Relationship Id="rId41" Type="http://schemas.openxmlformats.org/officeDocument/2006/relationships/oleObject" Target="../embeddings/oleObject3.bin"/><Relationship Id="rId42" Type="http://schemas.openxmlformats.org/officeDocument/2006/relationships/image" Target="../media/image7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slideLayout" Target="../slideLayouts/slideLayout1.xml"/><Relationship Id="rId4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1.jpeg"/><Relationship Id="rId3" Type="http://schemas.openxmlformats.org/officeDocument/2006/relationships/image" Target="../media/image5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<Relationship Id="rId6" Type="http://schemas.openxmlformats.org/officeDocument/2006/relationships/comments" Target="../comments/comment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6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e la date 3"/>
          <p:cNvSpPr/>
          <p:nvPr/>
        </p:nvSpPr>
        <p:spPr>
          <a:xfrm>
            <a:off x="539640" y="6645240"/>
            <a:ext cx="24591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808080"/>
                </a:solidFill>
                <a:latin typeface="Verdana"/>
              </a:rPr>
              <a:t>© 2006 | SkemA – All rights reserv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9" descr="imagem_ppt1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0" y="2925720"/>
            <a:ext cx="5796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uropean Media Wrapper Round Tabl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X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cquisition, eXchang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xation and Structuration based on O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156360" y="6165720"/>
            <a:ext cx="287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6875640" y="6595920"/>
            <a:ext cx="259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www.skema.fr  |  contact@skema.f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42920" y="1989000"/>
            <a:ext cx="7777080" cy="3240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16000" y="2325600"/>
            <a:ext cx="7632720" cy="243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The key constructs of AXIS</a:t>
            </a:r>
            <a:br>
              <a:rPr sz="2600"/>
            </a:b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42920" y="1989000"/>
            <a:ext cx="7777080" cy="3240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The key constructs of AXIS</a:t>
            </a:r>
            <a:br>
              <a:rPr sz="2200"/>
            </a:b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The AXIS-Foot-Print document</a:t>
            </a:r>
            <a:br>
              <a:rPr sz="2200"/>
            </a:br>
            <a:endParaRPr b="1" lang="en-US" sz="2200" spc="-1" strike="noStrike">
              <a:solidFill>
                <a:srgbClr val="ff3399"/>
              </a:solidFill>
              <a:latin typeface="Courier New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16000" y="2201760"/>
            <a:ext cx="7848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42920" y="1916280"/>
            <a:ext cx="7777080" cy="3960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The key constructs of AXIS</a:t>
            </a:r>
            <a:br>
              <a:rPr sz="2200"/>
            </a:b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Their representation in X-AXIS</a:t>
            </a:r>
            <a:br>
              <a:rPr sz="2200"/>
            </a:br>
            <a:endParaRPr b="1" lang="en-US" sz="2200" spc="-1" strike="noStrike">
              <a:solidFill>
                <a:srgbClr val="ff3399"/>
              </a:solidFill>
              <a:latin typeface="Courier Ne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6000" y="2025720"/>
            <a:ext cx="75614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989000"/>
            <a:ext cx="7777080" cy="3240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The key constructs of AXIS</a:t>
            </a:r>
            <a:br>
              <a:rPr sz="2200"/>
            </a:b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Their representation in X-AXIS</a:t>
            </a:r>
            <a:br>
              <a:rPr sz="2200"/>
            </a:br>
            <a:endParaRPr b="1" lang="en-US" sz="2200" spc="-1" strike="noStrike">
              <a:solidFill>
                <a:srgbClr val="ff3399"/>
              </a:solidFill>
              <a:latin typeface="Courier New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44720" y="2151000"/>
            <a:ext cx="7704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71640" y="1197000"/>
            <a:ext cx="7993080" cy="5472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Framework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6327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68480" y="43920"/>
            <a:ext cx="7067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The Profil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03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urier New"/>
              </a:rPr>
              <a:t>Defining profiles: (using the DCMI terminology)  </a:t>
            </a:r>
            <a:endParaRPr b="0" lang="en-US" sz="1600" spc="-1" strike="noStrike">
              <a:solidFill>
                <a:srgbClr val="ff9900"/>
              </a:solidFill>
              <a:latin typeface="Courier New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 One specific to the profile or no profil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[only reference(s) to existing namespace(s)]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s of terms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{[Property] + [Value]} pair declares the existence of a [resource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cept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it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Set of term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 {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[Terms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+ list of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[Values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pair declares the existence of a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[Set]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rms in a Name-Space (Data / Control/ Naming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sic (class of a term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finement (sub-class of a term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“qualification” of classes defines a ‘refinement’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coding schem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e “qualification” of a scheme defines the ‘encoding’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sauru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ee tex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Entiti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 complex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[Resource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efined by a set of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[Documents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and one (or no)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[Namespace]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Documents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d by “Standards”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-2055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d locall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ually in a profile, by set terms and rules with its associated semanti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02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 implicitly by reference to a to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Data References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640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Handler principl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174" name=""/>
          <p:cNvSpPr/>
          <p:nvPr/>
        </p:nvSpPr>
        <p:spPr>
          <a:xfrm>
            <a:off x="3746520" y="3133800"/>
            <a:ext cx="825480" cy="58248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46520" y="3860640"/>
            <a:ext cx="825480" cy="58284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000" y="3205080"/>
            <a:ext cx="824040" cy="58284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C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8000" y="3925800"/>
            <a:ext cx="824040" cy="58284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37466" t="0" r="35286" b="50714"/>
          <a:stretch/>
        </p:blipFill>
        <p:spPr>
          <a:xfrm>
            <a:off x="2484360" y="1413000"/>
            <a:ext cx="576360" cy="720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03280" y="2781360"/>
            <a:ext cx="180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3141720"/>
            <a:ext cx="1800360" cy="12952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2421000"/>
            <a:ext cx="863640" cy="287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3640" y="2852640"/>
            <a:ext cx="180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3640" y="3789360"/>
            <a:ext cx="1800360" cy="719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i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2492280"/>
            <a:ext cx="863640" cy="287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3502080"/>
            <a:ext cx="1800360" cy="287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p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03640" y="3213000"/>
            <a:ext cx="1800360" cy="287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357336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519360"/>
            <a:ext cx="328320" cy="486000"/>
          </a:xfrm>
          <a:custGeom>
            <a:avLst/>
            <a:gdLst>
              <a:gd name="textAreaLeft" fmla="*/ 0 w 328320"/>
              <a:gd name="textAreaRight" fmla="*/ 328680 w 328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350028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77080" y="351936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rot="5400000">
            <a:off x="1767240" y="2363040"/>
            <a:ext cx="227160" cy="485640"/>
          </a:xfrm>
          <a:custGeom>
            <a:avLst/>
            <a:gdLst>
              <a:gd name="textAreaLeft" fmla="*/ 35280 w 227160"/>
              <a:gd name="textAreaRight" fmla="*/ 199080 w 227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613960" y="2004120"/>
            <a:ext cx="226800" cy="486000"/>
          </a:xfrm>
          <a:custGeom>
            <a:avLst/>
            <a:gdLst>
              <a:gd name="textAreaLeft" fmla="*/ 35280 w 226800"/>
              <a:gd name="textAreaRight" fmla="*/ 198720 w 2268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rcRect l="37466" t="0" r="35286" b="50714"/>
          <a:stretch/>
        </p:blipFill>
        <p:spPr>
          <a:xfrm>
            <a:off x="608472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219640" y="18446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rot="5400000">
            <a:off x="5367600" y="2434320"/>
            <a:ext cx="226800" cy="485640"/>
          </a:xfrm>
          <a:custGeom>
            <a:avLst/>
            <a:gdLst>
              <a:gd name="textAreaLeft" fmla="*/ 35280 w 226800"/>
              <a:gd name="textAreaRight" fmla="*/ 198720 w 226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6213960" y="2075400"/>
            <a:ext cx="227160" cy="486000"/>
          </a:xfrm>
          <a:custGeom>
            <a:avLst/>
            <a:gdLst>
              <a:gd name="textAreaLeft" fmla="*/ 35280 w 227160"/>
              <a:gd name="textAreaRight" fmla="*/ 199080 w 227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2995560"/>
            <a:ext cx="1295640" cy="936720"/>
          </a:xfrm>
          <a:prstGeom prst="can">
            <a:avLst>
              <a:gd name="adj" fmla="val 25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7688520" y="4979160"/>
            <a:ext cx="442800" cy="485640"/>
          </a:xfrm>
          <a:custGeom>
            <a:avLst/>
            <a:gdLst>
              <a:gd name="textAreaLeft" fmla="*/ 69120 w 442800"/>
              <a:gd name="textAreaRight" fmla="*/ 387720 w 442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95600" y="5378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or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06880" y="170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urier New"/>
              </a:rPr>
              <a:t>Arch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7688880" y="2397600"/>
            <a:ext cx="443160" cy="485640"/>
          </a:xfrm>
          <a:custGeom>
            <a:avLst/>
            <a:gdLst>
              <a:gd name="textAreaLeft" fmla="*/ 69120 w 443160"/>
              <a:gd name="textAreaRight" fmla="*/ 388080 w 44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3932280"/>
            <a:ext cx="1295640" cy="936720"/>
          </a:xfrm>
          <a:prstGeom prst="can">
            <a:avLst>
              <a:gd name="adj" fmla="val 25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06400" y="43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To new way of searching, rendering, and browsing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5180" t="22774" r="4952" b="10352"/>
          <a:stretch/>
        </p:blipFill>
        <p:spPr>
          <a:xfrm>
            <a:off x="2843280" y="3616200"/>
            <a:ext cx="6121440" cy="2765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rcRect l="7512" t="30857" r="8953" b="5224"/>
          <a:stretch/>
        </p:blipFill>
        <p:spPr>
          <a:xfrm>
            <a:off x="108000" y="1484280"/>
            <a:ext cx="5113440" cy="273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9960" y="125244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Studio Analyze Exam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4640" y="33400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fuse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Profile Editor objectiv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Create a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backbone</a:t>
            </a: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 for the Axis Manager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ine vocabular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ine metadat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ine entiti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ine relation between entiti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cify semantic refinements on the vocabular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Enable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open profile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ecialization of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ension of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Allow context to be associated to content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Manager objectiv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urier New"/>
              </a:rPr>
              <a:t>Axis Manager is the heart of a Audiovisual OAIS</a:t>
            </a: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AA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onomous as self describe content (profile, link , conten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ural, Semantic and administrative description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ine entiti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ine relation between entiti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pecify semantic refinements on the vocabular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AX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able exchang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ff3399"/>
              </a:buClr>
              <a:buFont typeface="Courier New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able traceabilit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e la date 2"/>
          <p:cNvSpPr/>
          <p:nvPr/>
        </p:nvSpPr>
        <p:spPr>
          <a:xfrm>
            <a:off x="539640" y="6645240"/>
            <a:ext cx="24591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808080"/>
                </a:solidFill>
                <a:latin typeface="Verdana"/>
              </a:rPr>
              <a:t>© 2006 | SkemA – All rights reserv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258920" y="15840"/>
            <a:ext cx="3181320" cy="6508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041840" y="6576840"/>
            <a:ext cx="14580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 Narrow"/>
                <a:ea typeface="MS Gothic"/>
              </a:rPr>
              <a:t>Séquenciers émis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39640" y="3141720"/>
            <a:ext cx="8604360" cy="374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071720" y="4005360"/>
            <a:ext cx="7748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MS Gothic"/>
              </a:rPr>
              <a:t>SkemA assists early indexing and industrial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0" r="0" b="39750"/>
          <a:stretch/>
        </p:blipFill>
        <p:spPr>
          <a:xfrm>
            <a:off x="1619280" y="358920"/>
            <a:ext cx="7345440" cy="6259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68480" y="115920"/>
            <a:ext cx="7067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3399"/>
                </a:solidFill>
                <a:latin typeface="Courier New"/>
              </a:rPr>
              <a:t>Profile Editor process flow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Handler principl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216" name=""/>
          <p:cNvSpPr/>
          <p:nvPr/>
        </p:nvSpPr>
        <p:spPr>
          <a:xfrm>
            <a:off x="3746520" y="3133800"/>
            <a:ext cx="825480" cy="58248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46520" y="3860640"/>
            <a:ext cx="825480" cy="58284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00" y="3205080"/>
            <a:ext cx="824040" cy="58284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C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8000" y="3925800"/>
            <a:ext cx="824040" cy="58284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7466" t="0" r="35286" b="50714"/>
          <a:stretch/>
        </p:blipFill>
        <p:spPr>
          <a:xfrm>
            <a:off x="2484360" y="1413000"/>
            <a:ext cx="576360" cy="720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403280" y="2781360"/>
            <a:ext cx="1800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03280" y="3141720"/>
            <a:ext cx="1800360" cy="129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2421000"/>
            <a:ext cx="86364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2852640"/>
            <a:ext cx="1800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3640" y="3789360"/>
            <a:ext cx="1800360" cy="719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i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2492280"/>
            <a:ext cx="86364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3502080"/>
            <a:ext cx="180036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p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3213000"/>
            <a:ext cx="180036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Other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357336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519360"/>
            <a:ext cx="328320" cy="486000"/>
          </a:xfrm>
          <a:custGeom>
            <a:avLst/>
            <a:gdLst>
              <a:gd name="textAreaLeft" fmla="*/ 0 w 328320"/>
              <a:gd name="textAreaRight" fmla="*/ 328680 w 328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3280" y="350028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7080" y="3448080"/>
            <a:ext cx="328680" cy="485640"/>
          </a:xfrm>
          <a:custGeom>
            <a:avLst/>
            <a:gdLst>
              <a:gd name="textAreaLeft" fmla="*/ 0 w 328680"/>
              <a:gd name="textAreaRight" fmla="*/ 328680 w 3286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5400000">
            <a:off x="1767240" y="2363040"/>
            <a:ext cx="227160" cy="485640"/>
          </a:xfrm>
          <a:custGeom>
            <a:avLst/>
            <a:gdLst>
              <a:gd name="textAreaLeft" fmla="*/ 35280 w 227160"/>
              <a:gd name="textAreaRight" fmla="*/ 199080 w 227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2613960" y="2004120"/>
            <a:ext cx="226800" cy="486000"/>
          </a:xfrm>
          <a:custGeom>
            <a:avLst/>
            <a:gdLst>
              <a:gd name="textAreaLeft" fmla="*/ 35280 w 226800"/>
              <a:gd name="textAreaRight" fmla="*/ 198720 w 2268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rcRect l="37466" t="0" r="35286" b="50714"/>
          <a:stretch/>
        </p:blipFill>
        <p:spPr>
          <a:xfrm>
            <a:off x="608472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219640" y="18446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rot="5400000">
            <a:off x="5367600" y="2434320"/>
            <a:ext cx="226800" cy="485640"/>
          </a:xfrm>
          <a:custGeom>
            <a:avLst/>
            <a:gdLst>
              <a:gd name="textAreaLeft" fmla="*/ 35280 w 226800"/>
              <a:gd name="textAreaRight" fmla="*/ 198720 w 226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6213960" y="2075400"/>
            <a:ext cx="227160" cy="486000"/>
          </a:xfrm>
          <a:custGeom>
            <a:avLst/>
            <a:gdLst>
              <a:gd name="textAreaLeft" fmla="*/ 35280 w 227160"/>
              <a:gd name="textAreaRight" fmla="*/ 199080 w 227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3068640"/>
            <a:ext cx="1295640" cy="12142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7688520" y="4415400"/>
            <a:ext cx="442800" cy="485640"/>
          </a:xfrm>
          <a:custGeom>
            <a:avLst/>
            <a:gdLst>
              <a:gd name="textAreaLeft" fmla="*/ 69120 w 442800"/>
              <a:gd name="textAreaRight" fmla="*/ 387720 w 442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95600" y="50198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or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06880" y="170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urier New"/>
              </a:rPr>
              <a:t>Arch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7688880" y="2397600"/>
            <a:ext cx="443160" cy="485640"/>
          </a:xfrm>
          <a:custGeom>
            <a:avLst/>
            <a:gdLst>
              <a:gd name="textAreaLeft" fmla="*/ 69120 w 443160"/>
              <a:gd name="textAreaRight" fmla="*/ 388080 w 44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Dublin Core Metadata Initiative: </a:t>
            </a:r>
            <a:br>
              <a:rPr sz="2200"/>
            </a:b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RDF encapsulate the Dublin Cores</a:t>
            </a:r>
            <a:endParaRPr b="1" lang="en-US" sz="22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urier New"/>
              </a:rPr>
              <a:t>The 15 ‘elements’ of the Dublin Core</a:t>
            </a:r>
            <a:endParaRPr b="0" lang="en-US" sz="2000" spc="-1" strike="noStrike">
              <a:solidFill>
                <a:srgbClr val="ff99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or (or Author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ject (and Keyword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cription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sher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ributors (other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(The category of the resourc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mat (The data representation of the resourc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atio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Terms extend the DC Core vocabulary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1280" y="1930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Courier New"/>
            </a:endParaRPr>
          </a:p>
        </p:txBody>
      </p:sp>
      <p:sp>
        <p:nvSpPr>
          <p:cNvPr id="249" name=""/>
          <p:cNvSpPr/>
          <p:nvPr/>
        </p:nvSpPr>
        <p:spPr>
          <a:xfrm>
            <a:off x="128520" y="1090440"/>
            <a:ext cx="619128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500" spc="-1" strike="noStrike">
                <a:solidFill>
                  <a:srgbClr val="333399"/>
                </a:solidFill>
                <a:latin typeface="Garamond"/>
              </a:rPr>
              <a:t>Technical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</a:rPr>
              <a:t>XML / XS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Term URI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ttp://purl.org/dc/elements/1.1/d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NameSpace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d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Label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Defined by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fr-FR" sz="11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w3.org/TR/NOTE-datetime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Type of term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El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Refines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Refined by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Created, Valid, Available, Issued, Modified, 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Encoding type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External Stand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Encoding scheme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purl.org/dc/terms/W3CDT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Example of contents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2006-08-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Obligation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O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Occurrence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N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Definition date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1999-07-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lang="en-US" sz="1300" spc="-1" strike="noStrike">
                <a:solidFill>
                  <a:srgbClr val="333399"/>
                </a:solidFill>
                <a:latin typeface="Garamond"/>
              </a:rPr>
              <a:t>Natural language</a:t>
            </a: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Label H</a:t>
            </a: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Source definition langu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Source defin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Source comment</a:t>
            </a: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Profile definition</a:t>
            </a: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Profile com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Encoding sche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Obligation 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Occurrence 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Garamond"/>
              <a:buAutoNum type="arabicPeriod" startAt="14"/>
              <a:tabLst>
                <a:tab algn="l" pos="84240"/>
                <a:tab algn="l" pos="514440"/>
                <a:tab algn="l" pos="204480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Garamond"/>
              </a:rPr>
              <a:t>Contents H</a:t>
            </a:r>
            <a:r>
              <a:rPr b="1" lang="en-US" sz="11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78000" y="3875040"/>
            <a:ext cx="31161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aramond"/>
              </a:rPr>
              <a:t>English</a:t>
            </a:r>
            <a:r>
              <a:rPr b="1" lang="en-US" sz="1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Date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Garamond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A date associated with an event in the life cycle of the resource …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YYYY-MM-DD where YYYY represents the ISO Year; MM, the 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Op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Not repeatable unless in refin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Garamond"/>
              </a:rPr>
              <a:t>&lt; Mapping 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32360" y="3875040"/>
            <a:ext cx="308304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Garamond"/>
              </a:rPr>
              <a:t>Français</a:t>
            </a:r>
            <a:r>
              <a:rPr b="1" lang="fr-FR" sz="1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Date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1300" spc="-1" strike="noStrike">
                <a:solidFill>
                  <a:srgbClr val="000000"/>
                </a:solidFill>
                <a:latin typeface="Garamond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Une date associée à un évènement du cycle de vie de la res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AAAA-MM-JJ où AAAA représente l’année ISO ; MM, le …</a:t>
            </a:r>
            <a:r>
              <a:rPr b="1" lang="fr-BE" sz="1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Optionn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1100" spc="-1" strike="noStrike">
                <a:solidFill>
                  <a:srgbClr val="000000"/>
                </a:solidFill>
                <a:latin typeface="Garamond"/>
              </a:rPr>
              <a:t>Non répétable si ce n’est en affin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tabLst>
                <a:tab algn="l" pos="0"/>
                <a:tab algn="l" pos="51444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BE" sz="1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100" spc="-1" strike="noStrike">
                <a:solidFill>
                  <a:srgbClr val="ffff00"/>
                </a:solidFill>
                <a:latin typeface="Garamond"/>
              </a:rPr>
              <a:t>&lt; Mapping 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5440" y="3879720"/>
            <a:ext cx="22903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10440" bIns="10440" anchor="t">
            <a:spAutoFit/>
          </a:bodyPr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BE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BE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ﺍ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ﻟ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ﻌﺮﺒﯿ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ﺍ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ﻟﭡﺎﺮﯾ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BE" sz="13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AAAA </a:t>
            </a:r>
            <a:r>
              <a:rPr b="0" lang="fr-BE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⇐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ﺍ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ﻟ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ﺴﻧ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11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tabLst>
                <a:tab algn="l" pos="0"/>
                <a:tab algn="r" pos="895320"/>
                <a:tab algn="r" pos="1523880"/>
                <a:tab algn="l" pos="2130480"/>
                <a:tab algn="l" pos="6053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Garamond"/>
              </a:rPr>
              <a:t>&lt; Mapping 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50920" y="32868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Profile Editor: Unique Resource Identifiers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5450" t="0" r="5450" b="0"/>
          <a:stretch/>
        </p:blipFill>
        <p:spPr>
          <a:xfrm>
            <a:off x="1042920" y="1197000"/>
            <a:ext cx="70581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Handler principl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256" name=""/>
          <p:cNvSpPr/>
          <p:nvPr/>
        </p:nvSpPr>
        <p:spPr>
          <a:xfrm>
            <a:off x="3746520" y="3133800"/>
            <a:ext cx="825480" cy="58248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46520" y="3860640"/>
            <a:ext cx="825480" cy="58284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8000" y="3205080"/>
            <a:ext cx="824040" cy="58284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C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000" y="3925800"/>
            <a:ext cx="824040" cy="58284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37466" t="0" r="35286" b="50714"/>
          <a:stretch/>
        </p:blipFill>
        <p:spPr>
          <a:xfrm>
            <a:off x="2484360" y="1413000"/>
            <a:ext cx="576360" cy="720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403280" y="2781360"/>
            <a:ext cx="180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3141720"/>
            <a:ext cx="1800360" cy="12952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2421000"/>
            <a:ext cx="863640" cy="287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3640" y="2852640"/>
            <a:ext cx="1800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3789360"/>
            <a:ext cx="1800360" cy="719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i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40360" y="2492280"/>
            <a:ext cx="86364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502080"/>
            <a:ext cx="180036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p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03640" y="3213000"/>
            <a:ext cx="180036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357336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3519360"/>
            <a:ext cx="328320" cy="486000"/>
          </a:xfrm>
          <a:custGeom>
            <a:avLst/>
            <a:gdLst>
              <a:gd name="textAreaLeft" fmla="*/ 0 w 328320"/>
              <a:gd name="textAreaRight" fmla="*/ 328680 w 328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350028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77080" y="351936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rot="5400000">
            <a:off x="1767240" y="2363040"/>
            <a:ext cx="227160" cy="485640"/>
          </a:xfrm>
          <a:custGeom>
            <a:avLst/>
            <a:gdLst>
              <a:gd name="textAreaLeft" fmla="*/ 35280 w 227160"/>
              <a:gd name="textAreaRight" fmla="*/ 199080 w 227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2613960" y="2004120"/>
            <a:ext cx="226800" cy="486000"/>
          </a:xfrm>
          <a:custGeom>
            <a:avLst/>
            <a:gdLst>
              <a:gd name="textAreaLeft" fmla="*/ 35280 w 226800"/>
              <a:gd name="textAreaRight" fmla="*/ 198720 w 2268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rcRect l="37466" t="0" r="35286" b="50714"/>
          <a:stretch/>
        </p:blipFill>
        <p:spPr>
          <a:xfrm>
            <a:off x="608472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5219640" y="18446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rot="5400000">
            <a:off x="5367600" y="2434320"/>
            <a:ext cx="226800" cy="485640"/>
          </a:xfrm>
          <a:custGeom>
            <a:avLst/>
            <a:gdLst>
              <a:gd name="textAreaLeft" fmla="*/ 35280 w 226800"/>
              <a:gd name="textAreaRight" fmla="*/ 198720 w 226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6213960" y="2075400"/>
            <a:ext cx="227160" cy="486000"/>
          </a:xfrm>
          <a:custGeom>
            <a:avLst/>
            <a:gdLst>
              <a:gd name="textAreaLeft" fmla="*/ 35280 w 227160"/>
              <a:gd name="textAreaRight" fmla="*/ 199080 w 227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08720" y="2995560"/>
            <a:ext cx="1295640" cy="9367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7688520" y="4979160"/>
            <a:ext cx="442800" cy="485640"/>
          </a:xfrm>
          <a:custGeom>
            <a:avLst/>
            <a:gdLst>
              <a:gd name="textAreaLeft" fmla="*/ 69120 w 442800"/>
              <a:gd name="textAreaRight" fmla="*/ 387720 w 442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95600" y="5378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or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06880" y="170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urier New"/>
              </a:rPr>
              <a:t>Arch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7688880" y="2397600"/>
            <a:ext cx="443160" cy="485640"/>
          </a:xfrm>
          <a:custGeom>
            <a:avLst/>
            <a:gdLst>
              <a:gd name="textAreaLeft" fmla="*/ 69120 w 443160"/>
              <a:gd name="textAreaRight" fmla="*/ 388080 w 44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08720" y="3932280"/>
            <a:ext cx="1295640" cy="9367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3399"/>
                </a:solidFill>
                <a:latin typeface="Courier New"/>
              </a:rPr>
              <a:t>Entities of AXIS Profil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urier New"/>
              </a:rPr>
              <a:t>The structure of the “Entities” of the AXIS profile is represented in the “AXIS Framework”.</a:t>
            </a:r>
            <a:endParaRPr b="0" lang="en-US" sz="1400" spc="-1" strike="noStrike">
              <a:solidFill>
                <a:srgbClr val="ff9900"/>
              </a:solidFill>
              <a:latin typeface="Courier New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urier New"/>
              </a:rPr>
              <a:t>The AXIS “Entities” are:</a:t>
            </a:r>
            <a:endParaRPr b="0" lang="en-US" sz="1400" spc="-1" strike="noStrike">
              <a:solidFill>
                <a:srgbClr val="ff99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utonomous Resource Entit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The dynamic resource)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utonomous eXchange Entit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The static resource issued from an EXPORT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 FOUNTA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source ensuring uniqueness of identifica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U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bundling ent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key entity for annotations and structuration of the MEDIA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managing resource for the OPU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UR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source required for the OPU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embodiment of the OPUS and AX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BEL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labels (like associated with clips, segments and points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DI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representations of the media conten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FILE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Profiles (in particular the AXIS profile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References required for a specific IT tool (such as ‘speech to text’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NSCRIPTION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labels, transcriptions synchronized with spoken sou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3-V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labels, expressed in the format ID3-V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PEG-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full-media represented in the .mp4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AV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audio-media represented in the .wav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PE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pictures represented in the .jpg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FF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pictures represented in the .tif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DF/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textual documents represented in the ISO 19 0005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XTU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repository of the textual documents expressed in the .xml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Framework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8408" t="0" r="8408" b="0"/>
          <a:stretch/>
        </p:blipFill>
        <p:spPr>
          <a:xfrm>
            <a:off x="900000" y="1155600"/>
            <a:ext cx="69120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Handler principl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291" name=""/>
          <p:cNvSpPr/>
          <p:nvPr/>
        </p:nvSpPr>
        <p:spPr>
          <a:xfrm>
            <a:off x="3746520" y="3133800"/>
            <a:ext cx="825480" cy="58248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46520" y="3860640"/>
            <a:ext cx="825480" cy="58284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8000" y="3205080"/>
            <a:ext cx="824040" cy="58284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C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8000" y="3925800"/>
            <a:ext cx="824040" cy="58284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37466" t="0" r="35286" b="50714"/>
          <a:stretch/>
        </p:blipFill>
        <p:spPr>
          <a:xfrm>
            <a:off x="2484360" y="1413000"/>
            <a:ext cx="576360" cy="72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403280" y="2781360"/>
            <a:ext cx="1800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3141720"/>
            <a:ext cx="1800360" cy="129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40000" y="2421000"/>
            <a:ext cx="86364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03640" y="2852640"/>
            <a:ext cx="1800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3789360"/>
            <a:ext cx="1800360" cy="719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i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0360" y="2492280"/>
            <a:ext cx="86364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3502080"/>
            <a:ext cx="180036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p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3213000"/>
            <a:ext cx="180036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357336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3519360"/>
            <a:ext cx="328320" cy="486000"/>
          </a:xfrm>
          <a:custGeom>
            <a:avLst/>
            <a:gdLst>
              <a:gd name="textAreaLeft" fmla="*/ 0 w 328320"/>
              <a:gd name="textAreaRight" fmla="*/ 328680 w 328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43280" y="350028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77080" y="351936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rot="5400000">
            <a:off x="1767240" y="2363040"/>
            <a:ext cx="227160" cy="485640"/>
          </a:xfrm>
          <a:custGeom>
            <a:avLst/>
            <a:gdLst>
              <a:gd name="textAreaLeft" fmla="*/ 35280 w 227160"/>
              <a:gd name="textAreaRight" fmla="*/ 199080 w 227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2613960" y="2004120"/>
            <a:ext cx="226800" cy="486000"/>
          </a:xfrm>
          <a:custGeom>
            <a:avLst/>
            <a:gdLst>
              <a:gd name="textAreaLeft" fmla="*/ 35280 w 226800"/>
              <a:gd name="textAreaRight" fmla="*/ 198720 w 2268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rcRect l="37466" t="0" r="35286" b="50714"/>
          <a:stretch/>
        </p:blipFill>
        <p:spPr>
          <a:xfrm>
            <a:off x="608472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5219640" y="18446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rot="5400000">
            <a:off x="5367600" y="2434320"/>
            <a:ext cx="226800" cy="485640"/>
          </a:xfrm>
          <a:custGeom>
            <a:avLst/>
            <a:gdLst>
              <a:gd name="textAreaLeft" fmla="*/ 35280 w 226800"/>
              <a:gd name="textAreaRight" fmla="*/ 198720 w 226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6213960" y="2075400"/>
            <a:ext cx="227160" cy="486000"/>
          </a:xfrm>
          <a:custGeom>
            <a:avLst/>
            <a:gdLst>
              <a:gd name="textAreaLeft" fmla="*/ 35280 w 227160"/>
              <a:gd name="textAreaRight" fmla="*/ 199080 w 227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08720" y="2995560"/>
            <a:ext cx="1295640" cy="9367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5400000">
            <a:off x="7688520" y="4979160"/>
            <a:ext cx="442800" cy="485640"/>
          </a:xfrm>
          <a:custGeom>
            <a:avLst/>
            <a:gdLst>
              <a:gd name="textAreaLeft" fmla="*/ 69120 w 442800"/>
              <a:gd name="textAreaRight" fmla="*/ 387720 w 442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95600" y="5378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or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6880" y="170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urier New"/>
              </a:rPr>
              <a:t>Arch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688880" y="2397600"/>
            <a:ext cx="443160" cy="485640"/>
          </a:xfrm>
          <a:custGeom>
            <a:avLst/>
            <a:gdLst>
              <a:gd name="textAreaLeft" fmla="*/ 69120 w 443160"/>
              <a:gd name="textAreaRight" fmla="*/ 388080 w 44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08720" y="3932280"/>
            <a:ext cx="1295640" cy="9367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Documents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856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urier New"/>
              </a:rPr>
              <a:t>The AXIS “Documents” are:</a:t>
            </a:r>
            <a:endParaRPr b="0" lang="en-US" sz="1600" spc="-1" strike="noStrike">
              <a:solidFill>
                <a:srgbClr val="ff99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fp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Foot Prin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ndatory use for each Ent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ct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Certificate of traceabilit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E (Export / Import) and acquisition of Media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lg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Lo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of the management of the ID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cc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Configuration Contro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rol of all the versions of the Entitie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cuments and Hyper links of the OPUS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f the  PROFI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ci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Configuration &amp; Indexin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key document for defining the clips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ir link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lb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Labe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document giving the annotations attache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 a point, a segment or an ent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vm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Volume Managem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rm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Resource Managem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pm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Project Managem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.atd.</a:t>
            </a: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AXIS Terms Definition</a:t>
            </a: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&lt;Definition&gt; / &lt;Link to a definition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dd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Document type Defini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finition&gt; / &lt;Link to a definition&gt;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.aed.</a:t>
            </a: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AXIS Entity Type Definition</a:t>
            </a: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&lt;Definition&gt; / &lt;Link to a definition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ls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List Se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List of Terms&gt; / &lt;Link to a list of Terms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saurus&gt;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rd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Reference Dat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finition&gt; / &lt;Link to a definition&gt;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w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Wrapped Assembl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 be used for the Export and Import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ped (f.i. ZIPed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Axis Manager Bootstrap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e la date 3"/>
          <p:cNvSpPr/>
          <p:nvPr/>
        </p:nvSpPr>
        <p:spPr>
          <a:xfrm>
            <a:off x="539640" y="6645240"/>
            <a:ext cx="24591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808080"/>
                </a:solidFill>
                <a:latin typeface="Verdana"/>
              </a:rPr>
              <a:t>© 2006 | SkemA – All rights reserv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77480" y="1174680"/>
            <a:ext cx="792324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Courier New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en-GB" sz="1600" spc="-1" strike="noStrike">
                <a:solidFill>
                  <a:srgbClr val="639bf7"/>
                </a:solidFill>
                <a:latin typeface="Calibri"/>
                <a:ea typeface="Courier New"/>
              </a:rPr>
              <a:t>Founded in 2003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after 3 years and </a:t>
            </a:r>
            <a:r>
              <a:rPr b="1" lang="en-GB" sz="1600" spc="-1" strike="noStrike">
                <a:solidFill>
                  <a:srgbClr val="639bf7"/>
                </a:solidFill>
                <a:latin typeface="Calibri"/>
                <a:ea typeface="Courier New"/>
              </a:rPr>
              <a:t>€2M of R&amp;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 with the UTC, France Telecom and the Institut National de l’Audiovisuel, present in France and Brazil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en-GB" sz="1600" spc="-1" strike="noStrike">
                <a:solidFill>
                  <a:srgbClr val="639bf7"/>
                </a:solidFill>
                <a:latin typeface="Calibri"/>
                <a:ea typeface="Courier New"/>
              </a:rPr>
              <a:t>3 patent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 many prizes and a continuous programme of  innovation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The only offer on the market that covers </a:t>
            </a:r>
            <a:r>
              <a:rPr b="1" lang="en-GB" sz="1600" spc="-1" strike="noStrike">
                <a:solidFill>
                  <a:srgbClr val="639bf7"/>
                </a:solidFill>
                <a:latin typeface="Calibri"/>
                <a:ea typeface="Courier New"/>
              </a:rPr>
              <a:t>the whole audiovisual production chai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, from </a:t>
            </a:r>
            <a:r>
              <a:rPr b="1" lang="en-GB" sz="1600" spc="-1" strike="noStrike">
                <a:solidFill>
                  <a:srgbClr val="639bf7"/>
                </a:solidFill>
                <a:latin typeface="Calibri"/>
                <a:ea typeface="Courier New"/>
              </a:rPr>
              <a:t>design to the broadcasting of cont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39bf7"/>
                </a:solidFill>
                <a:latin typeface="Calibri"/>
                <a:ea typeface="Courier New"/>
              </a:rPr>
              <a:t> </a:t>
            </a:r>
            <a:r>
              <a:rPr b="1" lang="en-GB" sz="1600" spc="-1" strike="noStrike">
                <a:solidFill>
                  <a:srgbClr val="639bf7"/>
                </a:solidFill>
                <a:latin typeface="Calibri"/>
                <a:ea typeface="Courier New"/>
              </a:rPr>
              <a:t>Leader in self-productio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ourier New"/>
              </a:rPr>
              <a:t>, Skema has been chosen by many media companies for their participative TV and UGC video system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47280" y="104760"/>
            <a:ext cx="8388360" cy="3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99"/>
                </a:solidFill>
                <a:latin typeface="Courier New"/>
              </a:rPr>
              <a:t>In brief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Profile Editor Output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23005" t="12308" r="28847" b="39803"/>
          <a:stretch/>
        </p:blipFill>
        <p:spPr>
          <a:xfrm>
            <a:off x="611280" y="1916280"/>
            <a:ext cx="5111640" cy="3639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06200" y="14335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xis Ter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35280" y="1987560"/>
            <a:ext cx="2920320" cy="361800"/>
            <a:chOff x="3635280" y="1987560"/>
            <a:chExt cx="2920320" cy="361800"/>
          </a:xfrm>
        </p:grpSpPr>
        <p:sp>
          <p:nvSpPr>
            <p:cNvPr id="327" name=""/>
            <p:cNvSpPr/>
            <p:nvPr/>
          </p:nvSpPr>
          <p:spPr>
            <a:xfrm>
              <a:off x="3635280" y="2205000"/>
              <a:ext cx="576360" cy="14436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08880" y="1987560"/>
              <a:ext cx="846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1"/>
              <a:endCxn id="327" idx="6"/>
            </p:cNvCxnSpPr>
            <p:nvPr/>
          </p:nvCxnSpPr>
          <p:spPr>
            <a:xfrm flipH="1">
              <a:off x="4223880" y="2144880"/>
              <a:ext cx="1480320" cy="13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30" name=""/>
          <p:cNvGrpSpPr/>
          <p:nvPr/>
        </p:nvGrpSpPr>
        <p:grpSpPr>
          <a:xfrm>
            <a:off x="111240" y="2421000"/>
            <a:ext cx="1815840" cy="506520"/>
            <a:chOff x="111240" y="2421000"/>
            <a:chExt cx="1815840" cy="506520"/>
          </a:xfrm>
        </p:grpSpPr>
        <p:sp>
          <p:nvSpPr>
            <p:cNvPr id="331" name=""/>
            <p:cNvSpPr/>
            <p:nvPr/>
          </p:nvSpPr>
          <p:spPr>
            <a:xfrm>
              <a:off x="1351080" y="2782800"/>
              <a:ext cx="576000" cy="1447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1240" y="2421000"/>
              <a:ext cx="79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Proper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3" name=""/>
            <p:cNvCxnSpPr>
              <a:stCxn id="332" idx="2"/>
              <a:endCxn id="331" idx="2"/>
            </p:cNvCxnSpPr>
            <p:nvPr/>
          </p:nvCxnSpPr>
          <p:spPr>
            <a:xfrm>
              <a:off x="510840" y="2734920"/>
              <a:ext cx="827640" cy="1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34" name=""/>
          <p:cNvGrpSpPr/>
          <p:nvPr/>
        </p:nvGrpSpPr>
        <p:grpSpPr>
          <a:xfrm>
            <a:off x="1908000" y="2562120"/>
            <a:ext cx="4005720" cy="362160"/>
            <a:chOff x="1908000" y="2562120"/>
            <a:chExt cx="4005720" cy="362160"/>
          </a:xfrm>
        </p:grpSpPr>
        <p:sp>
          <p:nvSpPr>
            <p:cNvPr id="335" name=""/>
            <p:cNvSpPr/>
            <p:nvPr/>
          </p:nvSpPr>
          <p:spPr>
            <a:xfrm>
              <a:off x="1908000" y="2781360"/>
              <a:ext cx="1900440" cy="1429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06400" y="256212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7" name=""/>
            <p:cNvCxnSpPr>
              <a:stCxn id="336" idx="1"/>
              <a:endCxn id="335" idx="6"/>
            </p:cNvCxnSpPr>
            <p:nvPr/>
          </p:nvCxnSpPr>
          <p:spPr>
            <a:xfrm flipH="1">
              <a:off x="3820680" y="2719440"/>
              <a:ext cx="1480320" cy="13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38" name=""/>
          <p:cNvSpPr/>
          <p:nvPr/>
        </p:nvSpPr>
        <p:spPr>
          <a:xfrm>
            <a:off x="6012000" y="3351240"/>
            <a:ext cx="823680" cy="58248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Profile Editor Output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340" name=""/>
          <p:cNvSpPr/>
          <p:nvPr/>
        </p:nvSpPr>
        <p:spPr>
          <a:xfrm>
            <a:off x="105120" y="143352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xis Entity Type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23005" t="12308" r="29569" b="36752"/>
          <a:stretch/>
        </p:blipFill>
        <p:spPr>
          <a:xfrm>
            <a:off x="900000" y="1916280"/>
            <a:ext cx="4680000" cy="3600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788000" y="3284640"/>
            <a:ext cx="823680" cy="58248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39840" y="335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95960" y="3284640"/>
            <a:ext cx="824040" cy="58248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Profile Editor Output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346" name=""/>
          <p:cNvSpPr/>
          <p:nvPr/>
        </p:nvSpPr>
        <p:spPr>
          <a:xfrm>
            <a:off x="970920" y="141300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xis Manager Bootst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14900" t="8495" r="54952" b="7762"/>
          <a:stretch/>
        </p:blipFill>
        <p:spPr>
          <a:xfrm>
            <a:off x="1544760" y="1916280"/>
            <a:ext cx="2604960" cy="4394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788000" y="3284640"/>
            <a:ext cx="823680" cy="58248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9840" y="335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95960" y="3284640"/>
            <a:ext cx="824040" cy="58248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108560" y="335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64320" y="3068640"/>
            <a:ext cx="1328760" cy="1008000"/>
          </a:xfrm>
          <a:prstGeom prst="foldedCorner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Profile layers cak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354" name=""/>
          <p:cNvSpPr/>
          <p:nvPr/>
        </p:nvSpPr>
        <p:spPr>
          <a:xfrm>
            <a:off x="2771640" y="3987720"/>
            <a:ext cx="3384720" cy="736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CMI/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71640" y="3249720"/>
            <a:ext cx="3384720" cy="738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IS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CMI/R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71640" y="2513160"/>
            <a:ext cx="3384720" cy="736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XIS Entities &amp; Hierarc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DF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71640" y="1828800"/>
            <a:ext cx="3384720" cy="7365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XIS SEMANTIC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Ontolog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082520" y="981000"/>
            <a:ext cx="7810560" cy="4761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041560" y="44280"/>
            <a:ext cx="7067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Profile Editor Main interface</a:t>
            </a:r>
            <a:br>
              <a:rPr sz="2200"/>
            </a:b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Creating classes</a:t>
            </a:r>
            <a:endParaRPr b="1" lang="en-US" sz="22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8101080" cy="49388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76480" y="-36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Profile Editor Main interface</a:t>
            </a:r>
            <a:br>
              <a:rPr sz="2600"/>
            </a:b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Creating Properties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83640" cy="4806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076480" y="0"/>
            <a:ext cx="706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Profile Editor Main interface</a:t>
            </a:r>
            <a:br>
              <a:rPr sz="2600"/>
            </a:b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Defining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042920" y="841320"/>
            <a:ext cx="8026560" cy="48927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468440" y="5878440"/>
            <a:ext cx="7184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 and its inverse property. Domain and range display are swit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076480" y="71280"/>
            <a:ext cx="7067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Profile Editor Main interface</a:t>
            </a:r>
            <a:br>
              <a:rPr sz="2200"/>
            </a:b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Defining relations</a:t>
            </a:r>
            <a:endParaRPr b="1" lang="en-US" sz="22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810560" cy="4762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971640" y="1197000"/>
            <a:ext cx="45370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 can add linguistic information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076480" y="-36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Profile Editor Main interface</a:t>
            </a:r>
            <a:r>
              <a:rPr b="1" lang="fr-FR" sz="2600" spc="-1" strike="noStrike">
                <a:solidFill>
                  <a:srgbClr val="ff3399"/>
                </a:solidFill>
                <a:latin typeface="Courier New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Linguistic</a:t>
            </a:r>
            <a:r>
              <a:rPr b="1" lang="fr-FR" sz="2600" spc="-1" strike="noStrike">
                <a:solidFill>
                  <a:srgbClr val="ff3399"/>
                </a:solidFill>
                <a:latin typeface="Courier New"/>
              </a:rPr>
              <a:t> labels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rcRect l="0" t="0" r="59440" b="0"/>
          <a:stretch/>
        </p:blipFill>
        <p:spPr>
          <a:xfrm>
            <a:off x="4211640" y="1125360"/>
            <a:ext cx="3708360" cy="55738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042920" y="692280"/>
            <a:ext cx="4465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WL file to wrapp th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076480" y="-360"/>
            <a:ext cx="7067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ourier New"/>
              </a:rPr>
              <a:t>Profile Editor Main interface</a:t>
            </a:r>
            <a:r>
              <a:rPr b="1" lang="fr-FR" sz="2200" spc="-1" strike="noStrike">
                <a:solidFill>
                  <a:srgbClr val="ff3399"/>
                </a:solidFill>
                <a:latin typeface="Courier New"/>
              </a:rPr>
              <a:t> </a:t>
            </a:r>
            <a:br>
              <a:rPr sz="2200"/>
            </a:br>
            <a:r>
              <a:rPr b="1" lang="fr-FR" sz="2200" spc="-1" strike="noStrike">
                <a:solidFill>
                  <a:srgbClr val="ff3399"/>
                </a:solidFill>
                <a:latin typeface="Courier New"/>
              </a:rPr>
              <a:t>Persistent document</a:t>
            </a:r>
            <a:endParaRPr b="1" lang="en-US" sz="22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e la date 3"/>
          <p:cNvSpPr/>
          <p:nvPr/>
        </p:nvSpPr>
        <p:spPr>
          <a:xfrm>
            <a:off x="539640" y="6645240"/>
            <a:ext cx="24591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808080"/>
                </a:solidFill>
                <a:latin typeface="Verdana"/>
              </a:rPr>
              <a:t>© 2007 | SkemA – All rights reserv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33120"/>
            <a:ext cx="850104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99"/>
                </a:solidFill>
                <a:latin typeface="Courier New"/>
              </a:rPr>
              <a:t>Automation &amp; industrialisation</a:t>
            </a:r>
            <a:br>
              <a:rPr sz="2600"/>
            </a:br>
            <a:r>
              <a:rPr b="1" lang="en-GB" sz="2600" spc="-1" strike="noStrike">
                <a:solidFill>
                  <a:srgbClr val="ff3399"/>
                </a:solidFill>
                <a:latin typeface="Courier New"/>
              </a:rPr>
              <a:t>of production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68360" y="4081320"/>
            <a:ext cx="8567640" cy="27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duction of </a:t>
            </a:r>
            <a:r>
              <a:rPr b="1" lang="en-GB" sz="2000" spc="-1" strike="noStrike">
                <a:solidFill>
                  <a:srgbClr val="639bf7"/>
                </a:solidFill>
                <a:latin typeface="Calibri"/>
              </a:rPr>
              <a:t>structured and qual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udiovisual contents at </a:t>
            </a:r>
            <a:r>
              <a:rPr b="1" lang="en-GB" sz="2000" spc="-1" strike="noStrike">
                <a:solidFill>
                  <a:srgbClr val="639bf7"/>
                </a:solidFill>
                <a:latin typeface="Calibri"/>
              </a:rPr>
              <a:t>less co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in </a:t>
            </a:r>
            <a:r>
              <a:rPr b="1" lang="en-GB" sz="2000" spc="-1" strike="noStrike">
                <a:solidFill>
                  <a:srgbClr val="639bf7"/>
                </a:solidFill>
                <a:latin typeface="Calibri"/>
              </a:rPr>
              <a:t>volum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nd by </a:t>
            </a:r>
            <a:r>
              <a:rPr b="1" lang="en-GB" sz="2000" spc="-1" strike="noStrike">
                <a:solidFill>
                  <a:srgbClr val="639bf7"/>
                </a:solidFill>
                <a:latin typeface="Calibri"/>
              </a:rPr>
              <a:t>just-in-time meth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639bf7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Modelling of production format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, help with script development and editorial writing (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formulaire audiovisuel®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639bf7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utomatio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f editing and post-production according to predefined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639bf7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ich indexing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f contents at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639bf7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Multi-platform broadcasting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distribution (TV, Web, IPTV, Mob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38240" y="907920"/>
            <a:ext cx="8064360" cy="1801800"/>
            <a:chOff x="1038240" y="907920"/>
            <a:chExt cx="8064360" cy="1801800"/>
          </a:xfrm>
        </p:grpSpPr>
        <p:sp>
          <p:nvSpPr>
            <p:cNvPr id="66" name=""/>
            <p:cNvSpPr/>
            <p:nvPr/>
          </p:nvSpPr>
          <p:spPr>
            <a:xfrm>
              <a:off x="1038240" y="907920"/>
              <a:ext cx="8064360" cy="1739880"/>
            </a:xfrm>
            <a:prstGeom prst="rect">
              <a:avLst/>
            </a:prstGeom>
            <a:solidFill>
              <a:srgbClr val="ff9966">
                <a:alpha val="4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rcRect l="37466" t="0" r="35286" b="50714"/>
            <a:stretch/>
          </p:blipFill>
          <p:spPr>
            <a:xfrm>
              <a:off x="1073160" y="1797120"/>
              <a:ext cx="35244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1504800" y="179712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9" name=""/>
            <p:cNvGraphicFramePr/>
            <p:nvPr/>
          </p:nvGraphicFramePr>
          <p:xfrm>
            <a:off x="5249880" y="1144440"/>
            <a:ext cx="468360" cy="43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49880" y="1144440"/>
                      <a:ext cx="468360" cy="43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1" name="" descr=""/>
            <p:cNvPicPr/>
            <p:nvPr/>
          </p:nvPicPr>
          <p:blipFill>
            <a:blip r:embed="rId5"/>
            <a:srcRect l="37466" t="0" r="35286" b="50714"/>
            <a:stretch/>
          </p:blipFill>
          <p:spPr>
            <a:xfrm>
              <a:off x="5934240" y="971280"/>
              <a:ext cx="35208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089160" y="1725480"/>
              <a:ext cx="1116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99"/>
                  </a:solidFill>
                  <a:latin typeface="Courier New"/>
                </a:rPr>
                <a:t>Ing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9880" y="1630440"/>
              <a:ext cx="1224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333399"/>
                  </a:solidFill>
                  <a:latin typeface="Courier New"/>
                </a:rPr>
                <a:t>Editing &amp; post-pro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30960" y="2043000"/>
              <a:ext cx="1368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Courier New"/>
                </a:rPr>
                <a:t>Post index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73160" y="1725480"/>
              <a:ext cx="863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99"/>
                  </a:solidFill>
                  <a:latin typeface="Courier New"/>
                </a:rPr>
                <a:t>Shoo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42240" y="2278080"/>
              <a:ext cx="111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Diffusion web 2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01880" y="1941480"/>
              <a:ext cx="3589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97160" y="1941480"/>
              <a:ext cx="3589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5537160" y="1654200"/>
              <a:ext cx="43200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321160" y="2157480"/>
              <a:ext cx="165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7"/>
            <a:srcRect l="37466" t="0" r="35286" b="50714"/>
            <a:stretch/>
          </p:blipFill>
          <p:spPr>
            <a:xfrm>
              <a:off x="6149880" y="1187280"/>
              <a:ext cx="3524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8"/>
            <a:srcRect l="37466" t="0" r="35286" b="50714"/>
            <a:stretch/>
          </p:blipFill>
          <p:spPr>
            <a:xfrm>
              <a:off x="5934240" y="1331640"/>
              <a:ext cx="3520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9"/>
            <a:stretch/>
          </p:blipFill>
          <p:spPr>
            <a:xfrm>
              <a:off x="7553160" y="1797120"/>
              <a:ext cx="61596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0"/>
            <a:srcRect l="37466" t="0" r="35286" b="50714"/>
            <a:stretch/>
          </p:blipFill>
          <p:spPr>
            <a:xfrm>
              <a:off x="8201160" y="1365120"/>
              <a:ext cx="3524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1"/>
            <a:srcRect l="37466" t="0" r="35286" b="50714"/>
            <a:stretch/>
          </p:blipFill>
          <p:spPr>
            <a:xfrm>
              <a:off x="8416800" y="1581120"/>
              <a:ext cx="3524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12"/>
            <a:srcRect l="37466" t="0" r="35286" b="50714"/>
            <a:stretch/>
          </p:blipFill>
          <p:spPr>
            <a:xfrm>
              <a:off x="8201160" y="1725480"/>
              <a:ext cx="3524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13"/>
            <a:srcRect l="37466" t="0" r="35286" b="50714"/>
            <a:stretch/>
          </p:blipFill>
          <p:spPr>
            <a:xfrm>
              <a:off x="8345520" y="1077840"/>
              <a:ext cx="3524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4"/>
            <a:srcRect l="37466" t="0" r="35286" b="50714"/>
            <a:stretch/>
          </p:blipFill>
          <p:spPr>
            <a:xfrm>
              <a:off x="8561520" y="1293840"/>
              <a:ext cx="3524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5"/>
            <a:srcRect l="37466" t="0" r="35286" b="50714"/>
            <a:stretch/>
          </p:blipFill>
          <p:spPr>
            <a:xfrm>
              <a:off x="8345520" y="1438200"/>
              <a:ext cx="3524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6"/>
            <a:srcRect l="37466" t="0" r="35286" b="50714"/>
            <a:stretch/>
          </p:blipFill>
          <p:spPr>
            <a:xfrm>
              <a:off x="8488440" y="1581120"/>
              <a:ext cx="3524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7"/>
            <a:srcRect l="37466" t="0" r="35286" b="50714"/>
            <a:stretch/>
          </p:blipFill>
          <p:spPr>
            <a:xfrm>
              <a:off x="8704080" y="1797120"/>
              <a:ext cx="35244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8"/>
            <a:srcRect l="37466" t="0" r="35286" b="50714"/>
            <a:stretch/>
          </p:blipFill>
          <p:spPr>
            <a:xfrm>
              <a:off x="8488440" y="1941480"/>
              <a:ext cx="3524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111320" y="954000"/>
              <a:ext cx="2009520" cy="246240"/>
            </a:xfrm>
            <a:prstGeom prst="rect">
              <a:avLst/>
            </a:prstGeom>
            <a:solidFill>
              <a:srgbClr val="0099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292929"/>
                  </a:solidFill>
                  <a:latin typeface="Courier New"/>
                  <a:ea typeface="Courier New"/>
                </a:rPr>
                <a:t>Classic production ch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ilm"/>
            <p:cNvSpPr/>
            <p:nvPr/>
          </p:nvSpPr>
          <p:spPr>
            <a:xfrm rot="3640200">
              <a:off x="7122600" y="1738080"/>
              <a:ext cx="347760" cy="563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39680" y="1587240"/>
              <a:ext cx="416160" cy="860760"/>
            </a:xfrm>
            <a:prstGeom prst="ellipse">
              <a:avLst/>
            </a:prstGeom>
            <a:solidFill>
              <a:srgbClr val="ff99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89920" y="1096920"/>
              <a:ext cx="958680" cy="1307880"/>
            </a:xfrm>
            <a:prstGeom prst="ellipse">
              <a:avLst/>
            </a:prstGeom>
            <a:solidFill>
              <a:srgbClr val="ff99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008000" y="2708280"/>
            <a:ext cx="8064720" cy="169056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9"/>
          <a:srcRect l="37466" t="0" r="35286" b="50714"/>
          <a:stretch/>
        </p:blipFill>
        <p:spPr>
          <a:xfrm>
            <a:off x="1042920" y="3379680"/>
            <a:ext cx="35244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286760" y="4005360"/>
            <a:ext cx="1114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Diffus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TV + web 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0"/>
          <a:stretch/>
        </p:blipFill>
        <p:spPr>
          <a:xfrm>
            <a:off x="7343640" y="3379680"/>
            <a:ext cx="615960" cy="611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1"/>
          <a:srcRect l="37466" t="0" r="35286" b="50714"/>
          <a:stretch/>
        </p:blipFill>
        <p:spPr>
          <a:xfrm>
            <a:off x="8288280" y="313056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2"/>
          <a:srcRect l="37466" t="0" r="35286" b="50714"/>
          <a:stretch/>
        </p:blipFill>
        <p:spPr>
          <a:xfrm>
            <a:off x="8504280" y="334656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3"/>
          <a:srcRect l="37466" t="0" r="35286" b="50714"/>
          <a:stretch/>
        </p:blipFill>
        <p:spPr>
          <a:xfrm>
            <a:off x="8288280" y="349092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4"/>
          <a:srcRect l="37466" t="0" r="35286" b="50714"/>
          <a:stretch/>
        </p:blipFill>
        <p:spPr>
          <a:xfrm>
            <a:off x="8315280" y="284328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5"/>
          <a:srcRect l="37466" t="0" r="35286" b="50714"/>
          <a:stretch/>
        </p:blipFill>
        <p:spPr>
          <a:xfrm>
            <a:off x="8648640" y="3059280"/>
            <a:ext cx="352440" cy="44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6"/>
          <a:srcRect l="37466" t="0" r="35286" b="50714"/>
          <a:stretch/>
        </p:blipFill>
        <p:spPr>
          <a:xfrm>
            <a:off x="8432640" y="320364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7"/>
          <a:srcRect l="37466" t="0" r="35286" b="50714"/>
          <a:stretch/>
        </p:blipFill>
        <p:spPr>
          <a:xfrm>
            <a:off x="8575560" y="334656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8"/>
          <a:srcRect l="37466" t="0" r="35286" b="50714"/>
          <a:stretch/>
        </p:blipFill>
        <p:spPr>
          <a:xfrm>
            <a:off x="8791560" y="356220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9"/>
          <a:srcRect l="37466" t="0" r="35286" b="50714"/>
          <a:stretch/>
        </p:blipFill>
        <p:spPr>
          <a:xfrm>
            <a:off x="8575560" y="3524400"/>
            <a:ext cx="352440" cy="441000"/>
          </a:xfrm>
          <a:prstGeom prst="rect">
            <a:avLst/>
          </a:prstGeom>
          <a:ln w="0">
            <a:noFill/>
          </a:ln>
        </p:spPr>
      </p:pic>
      <p:sp>
        <p:nvSpPr>
          <p:cNvPr id="110" name="Film"/>
          <p:cNvSpPr/>
          <p:nvPr/>
        </p:nvSpPr>
        <p:spPr>
          <a:xfrm rot="3640200">
            <a:off x="7005240" y="3371760"/>
            <a:ext cx="279360" cy="453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0"/>
          <a:srcRect l="37466" t="0" r="35286" b="50714"/>
          <a:stretch/>
        </p:blipFill>
        <p:spPr>
          <a:xfrm>
            <a:off x="1224000" y="335592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1"/>
          <a:srcRect l="37466" t="0" r="35286" b="50714"/>
          <a:stretch/>
        </p:blipFill>
        <p:spPr>
          <a:xfrm>
            <a:off x="1440000" y="357192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2"/>
          <a:srcRect l="37466" t="0" r="35286" b="50714"/>
          <a:stretch/>
        </p:blipFill>
        <p:spPr>
          <a:xfrm>
            <a:off x="1224000" y="371628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3"/>
          <a:srcRect l="37466" t="0" r="35286" b="50714"/>
          <a:stretch/>
        </p:blipFill>
        <p:spPr>
          <a:xfrm>
            <a:off x="1368360" y="306864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4"/>
          <a:srcRect l="37466" t="0" r="35286" b="50714"/>
          <a:stretch/>
        </p:blipFill>
        <p:spPr>
          <a:xfrm>
            <a:off x="1584360" y="328464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5"/>
          <a:srcRect l="37466" t="0" r="35286" b="50714"/>
          <a:stretch/>
        </p:blipFill>
        <p:spPr>
          <a:xfrm>
            <a:off x="1368360" y="342900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6"/>
          <a:srcRect l="37466" t="0" r="35286" b="50714"/>
          <a:stretch/>
        </p:blipFill>
        <p:spPr>
          <a:xfrm>
            <a:off x="1511280" y="357192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7"/>
          <a:srcRect l="37466" t="0" r="35286" b="50714"/>
          <a:stretch/>
        </p:blipFill>
        <p:spPr>
          <a:xfrm>
            <a:off x="1727280" y="3787920"/>
            <a:ext cx="35244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8"/>
          <a:srcRect l="37466" t="0" r="35286" b="50714"/>
          <a:stretch/>
        </p:blipFill>
        <p:spPr>
          <a:xfrm>
            <a:off x="1511280" y="3932280"/>
            <a:ext cx="352440" cy="441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16000" y="3429000"/>
            <a:ext cx="51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99"/>
                </a:solidFill>
                <a:latin typeface="Courier New"/>
              </a:rPr>
              <a:t>Formulaires AV</a:t>
            </a:r>
            <a:r>
              <a:rPr b="1" lang="fr-FR" sz="1000" spc="-1" strike="noStrike">
                <a:solidFill>
                  <a:srgbClr val="333399"/>
                </a:solidFill>
                <a:latin typeface="Courier New"/>
                <a:ea typeface="Courier New"/>
              </a:rPr>
              <a:t>®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99"/>
                </a:solidFill>
                <a:latin typeface="Courier New"/>
                <a:ea typeface="Courier New"/>
              </a:rPr>
              <a:t>+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99"/>
                </a:solidFill>
                <a:latin typeface="Courier New"/>
                <a:ea typeface="Courier New"/>
              </a:rPr>
              <a:t>Editorial guidance and shooting wiz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6000" y="3716280"/>
            <a:ext cx="489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942320" y="3379680"/>
          <a:ext cx="333360" cy="3589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942320" y="3379680"/>
                    <a:ext cx="3333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934400" y="3030480"/>
          <a:ext cx="288720" cy="2700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934400" y="3030480"/>
                    <a:ext cx="28872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54880" y="2755800"/>
            <a:ext cx="1887480" cy="337320"/>
          </a:xfrm>
          <a:prstGeom prst="rect">
            <a:avLst/>
          </a:prstGeom>
          <a:solidFill>
            <a:srgbClr val="ff00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kema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3"/>
          <a:srcRect l="8816" t="3684" r="23822" b="0"/>
          <a:stretch/>
        </p:blipFill>
        <p:spPr>
          <a:xfrm>
            <a:off x="2031840" y="3514680"/>
            <a:ext cx="206640" cy="371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95480" y="3110040"/>
            <a:ext cx="958680" cy="1233360"/>
          </a:xfrm>
          <a:prstGeom prst="ellipse">
            <a:avLst/>
          </a:prstGeom>
          <a:solidFill>
            <a:srgbClr val="0000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21760" y="2736720"/>
            <a:ext cx="745920" cy="1467000"/>
          </a:xfrm>
          <a:prstGeom prst="ellipse">
            <a:avLst/>
          </a:prstGeom>
          <a:solidFill>
            <a:srgbClr val="0000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4"/>
          <a:stretch/>
        </p:blipFill>
        <p:spPr>
          <a:xfrm>
            <a:off x="8126280" y="6221520"/>
            <a:ext cx="36036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rcRect l="0" t="0" r="62844" b="60156"/>
          <a:stretch/>
        </p:blipFill>
        <p:spPr>
          <a:xfrm>
            <a:off x="1042920" y="1754280"/>
            <a:ext cx="4105440" cy="2682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rcRect l="0" t="0" r="57143" b="49614"/>
          <a:stretch/>
        </p:blipFill>
        <p:spPr>
          <a:xfrm>
            <a:off x="4211640" y="3500280"/>
            <a:ext cx="4349880" cy="31179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042920" y="1341360"/>
            <a:ext cx="7183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each class and property created has its persistent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076480" y="-36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Profile Editor Main interface</a:t>
            </a:r>
            <a:r>
              <a:rPr b="1" lang="fr-FR" sz="2600" spc="-1" strike="noStrike">
                <a:solidFill>
                  <a:srgbClr val="ff3399"/>
                </a:solidFill>
                <a:latin typeface="Courier New"/>
              </a:rPr>
              <a:t> </a:t>
            </a:r>
            <a:br>
              <a:rPr sz="2600"/>
            </a:br>
            <a:r>
              <a:rPr b="1" lang="fr-FR" sz="2600" spc="-1" strike="noStrike">
                <a:solidFill>
                  <a:srgbClr val="ff3399"/>
                </a:solidFill>
                <a:latin typeface="Courier New"/>
              </a:rPr>
              <a:t>Persistent document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rcRect l="0" t="0" r="55514" b="49703"/>
          <a:stretch/>
        </p:blipFill>
        <p:spPr>
          <a:xfrm>
            <a:off x="1187280" y="1195560"/>
            <a:ext cx="6697800" cy="46162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633680" y="5878440"/>
            <a:ext cx="7183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verify it in the persistent doc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41560" y="43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Profile Editor Main interface</a:t>
            </a:r>
            <a:r>
              <a:rPr b="1" lang="fr-FR" sz="2600" spc="-1" strike="noStrike">
                <a:solidFill>
                  <a:srgbClr val="ff3399"/>
                </a:solidFill>
                <a:latin typeface="Courier New"/>
              </a:rPr>
              <a:t> </a:t>
            </a:r>
            <a:br>
              <a:rPr sz="2600"/>
            </a:br>
            <a:r>
              <a:rPr b="1" lang="fr-FR" sz="2600" spc="-1" strike="noStrike">
                <a:solidFill>
                  <a:srgbClr val="ff3399"/>
                </a:solidFill>
                <a:latin typeface="Courier New"/>
              </a:rPr>
              <a:t>Persistent document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Documents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620640"/>
            <a:ext cx="88567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urier New"/>
              </a:rPr>
              <a:t>The AXIS “Documents”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fp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Foot Prin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ndatory use for eac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ct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Certificate of traceabilit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E (Export / Import)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d acquisition of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lg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Lo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of the management of the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cc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Configuration Contro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rol of all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sions of the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ities, Documents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yper links of the OPU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d of the 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ci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Configuration &amp; Indexin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key document f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ing the clip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d their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lb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Labe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document giving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notations attached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point, a segment or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vm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Volu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rm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pm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Projec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td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Terms Defini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finition&gt; / &lt;Link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defini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dd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Document type Defini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finition&gt; / &lt;Link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defini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ed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Entity Type Defini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finition&gt; / &lt;Link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defini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ls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List Se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List of Terms&gt; / &lt;Link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 a list of Terms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sauru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rd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Reference Dat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finition&gt; / &lt;Link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defini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w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Wrapped Assembl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 be used for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port and Import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ped (f.i. ZI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Courier New"/>
              </a:rPr>
              <a:t>Axis Manager Bootstr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620640"/>
            <a:ext cx="88567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urier New"/>
              </a:rPr>
              <a:t>The AXIS “Documents”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.afp.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AXIS Foot Print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Mandatory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use for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ach 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ct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Certificate of traceabilit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E (Export / Import)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d acquisition of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lg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Lo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of the management of the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cc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Configuration Contro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rol of all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sions of the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ities, Documents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yper links of the OPU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d of the 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.aci.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AXIS Configuration &amp; Indexing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The key document for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defining the clips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and their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lb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Labe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document giving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notations attached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point, a segment or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vm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Volu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rm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pm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Projec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td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Terms Defini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finition&gt; / &lt;Link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defini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dd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Document type Defini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finition&gt; / &lt;Link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defini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ed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Entity Type Defini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finition&gt; / &lt;Link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defini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ls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List Se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List of Terms&gt; / &lt;Link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 a list of Terms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sauru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rd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Reference Dat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efinition&gt; / &lt;Link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defini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w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XIS Wrapped Assembl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 be used for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port and Import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ped (f.i. ZI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25560" y="18864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3399"/>
                </a:solidFill>
                <a:latin typeface="Courier New"/>
              </a:rPr>
              <a:t>Clip &amp; Axis Configuration and Indexing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17600" t="22637" r="17600" b="16002"/>
          <a:stretch/>
        </p:blipFill>
        <p:spPr>
          <a:xfrm>
            <a:off x="971640" y="1565280"/>
            <a:ext cx="81374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619280" y="1270080"/>
            <a:ext cx="7091280" cy="5321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076480" y="-36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3399"/>
                </a:solidFill>
                <a:latin typeface="Courier New"/>
              </a:rPr>
              <a:t>Clip &amp; Axis Configuration and Indexing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258920" y="15840"/>
            <a:ext cx="3181320" cy="65088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539640" y="3141720"/>
            <a:ext cx="8604360" cy="374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1071720" y="4005360"/>
            <a:ext cx="7748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MS Gothic"/>
              </a:rPr>
              <a:t>DEMON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Handler principl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391" name=""/>
          <p:cNvSpPr/>
          <p:nvPr/>
        </p:nvSpPr>
        <p:spPr>
          <a:xfrm>
            <a:off x="3746520" y="3133800"/>
            <a:ext cx="825480" cy="58248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46520" y="3860640"/>
            <a:ext cx="825480" cy="58284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8000" y="3205080"/>
            <a:ext cx="824040" cy="58284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C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8000" y="3925800"/>
            <a:ext cx="824040" cy="582840"/>
          </a:xfrm>
          <a:prstGeom prst="foldedCorner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rcRect l="37466" t="0" r="35286" b="50714"/>
          <a:stretch/>
        </p:blipFill>
        <p:spPr>
          <a:xfrm>
            <a:off x="2484360" y="1413000"/>
            <a:ext cx="576360" cy="720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403280" y="2781360"/>
            <a:ext cx="1800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03280" y="3141720"/>
            <a:ext cx="1800360" cy="129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340000" y="2421000"/>
            <a:ext cx="86364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03640" y="2852640"/>
            <a:ext cx="1800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03640" y="3789360"/>
            <a:ext cx="1800360" cy="719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i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0360" y="2492280"/>
            <a:ext cx="863640" cy="287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03640" y="3502080"/>
            <a:ext cx="1800360" cy="287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p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03640" y="3213000"/>
            <a:ext cx="1800360" cy="287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42920" y="357336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3519360"/>
            <a:ext cx="328320" cy="486000"/>
          </a:xfrm>
          <a:custGeom>
            <a:avLst/>
            <a:gdLst>
              <a:gd name="textAreaLeft" fmla="*/ 0 w 328320"/>
              <a:gd name="textAreaRight" fmla="*/ 328680 w 328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350028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77080" y="3519360"/>
            <a:ext cx="328680" cy="486000"/>
          </a:xfrm>
          <a:custGeom>
            <a:avLst/>
            <a:gdLst>
              <a:gd name="textAreaLeft" fmla="*/ 0 w 328680"/>
              <a:gd name="textAreaRight" fmla="*/ 328680 w 3286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 rot="5400000">
            <a:off x="1767240" y="2363040"/>
            <a:ext cx="227160" cy="485640"/>
          </a:xfrm>
          <a:custGeom>
            <a:avLst/>
            <a:gdLst>
              <a:gd name="textAreaLeft" fmla="*/ 35280 w 227160"/>
              <a:gd name="textAreaRight" fmla="*/ 199080 w 227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2613960" y="2004120"/>
            <a:ext cx="226800" cy="486000"/>
          </a:xfrm>
          <a:custGeom>
            <a:avLst/>
            <a:gdLst>
              <a:gd name="textAreaLeft" fmla="*/ 35280 w 226800"/>
              <a:gd name="textAreaRight" fmla="*/ 198720 w 2268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rcRect l="37466" t="0" r="35286" b="50714"/>
          <a:stretch/>
        </p:blipFill>
        <p:spPr>
          <a:xfrm>
            <a:off x="6084720" y="14842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5219640" y="18446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 rot="5400000">
            <a:off x="5367600" y="2434320"/>
            <a:ext cx="226800" cy="485640"/>
          </a:xfrm>
          <a:custGeom>
            <a:avLst/>
            <a:gdLst>
              <a:gd name="textAreaLeft" fmla="*/ 35280 w 226800"/>
              <a:gd name="textAreaRight" fmla="*/ 198720 w 226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6213960" y="2075400"/>
            <a:ext cx="227160" cy="486000"/>
          </a:xfrm>
          <a:custGeom>
            <a:avLst/>
            <a:gdLst>
              <a:gd name="textAreaLeft" fmla="*/ 35280 w 227160"/>
              <a:gd name="textAreaRight" fmla="*/ 199080 w 227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08720" y="2995560"/>
            <a:ext cx="1295640" cy="936720"/>
          </a:xfrm>
          <a:prstGeom prst="can">
            <a:avLst>
              <a:gd name="adj" fmla="val 25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7688520" y="4979160"/>
            <a:ext cx="442800" cy="485640"/>
          </a:xfrm>
          <a:custGeom>
            <a:avLst/>
            <a:gdLst>
              <a:gd name="textAreaLeft" fmla="*/ 69120 w 442800"/>
              <a:gd name="textAreaRight" fmla="*/ 387720 w 442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95600" y="5378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Por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06880" y="170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urier New"/>
              </a:rPr>
              <a:t>Arch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7688880" y="2397600"/>
            <a:ext cx="443160" cy="485640"/>
          </a:xfrm>
          <a:custGeom>
            <a:avLst/>
            <a:gdLst>
              <a:gd name="textAreaLeft" fmla="*/ 69120 w 443160"/>
              <a:gd name="textAreaRight" fmla="*/ 388080 w 44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08720" y="3932280"/>
            <a:ext cx="1295640" cy="936720"/>
          </a:xfrm>
          <a:prstGeom prst="can">
            <a:avLst>
              <a:gd name="adj" fmla="val 25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Manager principle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urier New"/>
              </a:rPr>
              <a:t>Associate profile to content</a:t>
            </a:r>
            <a:endParaRPr b="0" lang="en-US" sz="2000" spc="-1" strike="noStrike">
              <a:solidFill>
                <a:srgbClr val="ff99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IP, SIP, DIP wrap both content and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, save, handle content according to its profile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urier New"/>
              </a:rPr>
              <a:t>Enable Knowledge layer rendering</a:t>
            </a:r>
            <a:endParaRPr b="0" lang="en-US" sz="2000" spc="-1" strike="noStrike">
              <a:solidFill>
                <a:srgbClr val="ff99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mantic, logic and structural segmentation of conten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able semantics links between AA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258920" y="15840"/>
            <a:ext cx="3181320" cy="65088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4"/>
          <p:cNvSpPr/>
          <p:nvPr/>
        </p:nvSpPr>
        <p:spPr>
          <a:xfrm>
            <a:off x="539640" y="3141720"/>
            <a:ext cx="8604360" cy="374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1071720" y="4005360"/>
            <a:ext cx="7748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MS Gothic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e la date 3"/>
          <p:cNvSpPr/>
          <p:nvPr/>
        </p:nvSpPr>
        <p:spPr>
          <a:xfrm>
            <a:off x="539640" y="6645240"/>
            <a:ext cx="24591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808080"/>
                </a:solidFill>
                <a:latin typeface="Verdana"/>
              </a:rPr>
              <a:t>© 2007 | SkemA – All rights reserv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8096400" y="633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1257480" y="95400"/>
            <a:ext cx="7778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3399"/>
                </a:solidFill>
                <a:latin typeface="Courier New"/>
              </a:rPr>
              <a:t>The SkemA plat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5"/>
          <p:cNvSpPr/>
          <p:nvPr/>
        </p:nvSpPr>
        <p:spPr>
          <a:xfrm>
            <a:off x="8096400" y="633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6" descr="Dsk_20070917_GraficoPLF_MRR"/>
          <p:cNvPicPr/>
          <p:nvPr/>
        </p:nvPicPr>
        <p:blipFill>
          <a:blip r:embed="rId1"/>
          <a:stretch/>
        </p:blipFill>
        <p:spPr>
          <a:xfrm>
            <a:off x="1015920" y="1052640"/>
            <a:ext cx="8093160" cy="518004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72"/>
          <p:cNvSpPr/>
          <p:nvPr/>
        </p:nvSpPr>
        <p:spPr>
          <a:xfrm>
            <a:off x="1112760" y="2492280"/>
            <a:ext cx="14432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esign of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mulaire Audiovisuel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73"/>
          <p:cNvSpPr/>
          <p:nvPr/>
        </p:nvSpPr>
        <p:spPr>
          <a:xfrm>
            <a:off x="2771640" y="278136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ftware video shooting and production assist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27"/>
          <p:cNvSpPr/>
          <p:nvPr/>
        </p:nvSpPr>
        <p:spPr>
          <a:xfrm>
            <a:off x="3492360" y="4653000"/>
            <a:ext cx="78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ther means of prod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75"/>
          <p:cNvSpPr/>
          <p:nvPr/>
        </p:nvSpPr>
        <p:spPr>
          <a:xfrm>
            <a:off x="4427640" y="2492280"/>
            <a:ext cx="1296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iting, trans-coding and storage of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6"/>
          <p:cNvSpPr/>
          <p:nvPr/>
        </p:nvSpPr>
        <p:spPr>
          <a:xfrm>
            <a:off x="6012000" y="2492280"/>
            <a:ext cx="144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eration, search and reuse of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77"/>
          <p:cNvSpPr/>
          <p:nvPr/>
        </p:nvSpPr>
        <p:spPr>
          <a:xfrm>
            <a:off x="7666200" y="2492280"/>
            <a:ext cx="144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gregation and multi-channel pub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1114560" y="1689120"/>
            <a:ext cx="15127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delling of the format to be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690640" y="1557360"/>
            <a:ext cx="1594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  <a:ea typeface="Raavi"/>
              </a:rPr>
              <a:t>Help with script writing and creating the ima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2"/>
          <p:cNvSpPr/>
          <p:nvPr/>
        </p:nvSpPr>
        <p:spPr>
          <a:xfrm>
            <a:off x="4284720" y="1628640"/>
            <a:ext cx="1582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  <a:ea typeface="Raavi"/>
              </a:rPr>
              <a:t>Automation of the video process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5867280" y="1525680"/>
            <a:ext cx="1584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  <a:ea typeface="Raavi"/>
              </a:rPr>
              <a:t>Exploitation &amp; management of audiovisual cont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4"/>
          <p:cNvSpPr/>
          <p:nvPr/>
        </p:nvSpPr>
        <p:spPr>
          <a:xfrm>
            <a:off x="7451640" y="1571760"/>
            <a:ext cx="158436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  <a:ea typeface="Raavi"/>
              </a:rPr>
              <a:t>Multi-format broadcasting &amp; multiple distribution platfor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258920" y="15840"/>
            <a:ext cx="3181320" cy="6508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539640" y="3141720"/>
            <a:ext cx="8604360" cy="374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71720" y="4005360"/>
            <a:ext cx="7748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MS Gothic"/>
              </a:rPr>
              <a:t>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MS Gothic"/>
              </a:rPr>
              <a:t>(Acquisition, eXchange, Indexation and Structuration based on O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956720" cy="559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258920" y="15840"/>
            <a:ext cx="3181320" cy="65088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539640" y="3141720"/>
            <a:ext cx="8604360" cy="374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071720" y="4005360"/>
            <a:ext cx="7748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urier New"/>
                <a:ea typeface="MS Gothic"/>
              </a:rPr>
              <a:t>DATA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68480" y="115920"/>
            <a:ext cx="70675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urier New"/>
              </a:rPr>
              <a:t>Axis Framework</a:t>
            </a:r>
            <a:endParaRPr b="1" lang="en-US" sz="2600" spc="-1" strike="noStrike">
              <a:solidFill>
                <a:srgbClr val="ff3399"/>
              </a:solidFill>
              <a:latin typeface="Courier New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8408" t="0" r="8408" b="0"/>
          <a:stretch/>
        </p:blipFill>
        <p:spPr>
          <a:xfrm>
            <a:off x="900000" y="1155600"/>
            <a:ext cx="69120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4:17:34Z</dcterms:created>
  <dc:creator>Steny SOLITUDE</dc:creator>
  <dc:description/>
  <dc:language>en-US</dc:language>
  <cp:lastModifiedBy>Frédéric Mignon</cp:lastModifiedBy>
  <dcterms:modified xsi:type="dcterms:W3CDTF">2008-06-04T19:38:18Z</dcterms:modified>
  <cp:revision>24</cp:revision>
  <dc:subject/>
  <dc:title>Diapositive 1</dc:title>
</cp:coreProperties>
</file>