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9907588" cy="6858000"/>
  <p:notesSz cx="6670675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loop="1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51000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524640" y="160452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536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51000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524640" y="3682080"/>
            <a:ext cx="28706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95360" y="273600"/>
            <a:ext cx="891612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9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5064120" y="368208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9536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5064120" y="1604520"/>
            <a:ext cx="43509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95360" y="3682080"/>
            <a:ext cx="891612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97920" y="6615000"/>
            <a:ext cx="11008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SKEMA / TITAN </a:t>
            </a:r>
            <a:endParaRPr b="0" lang="en-US" sz="11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"/>
          <p:cNvSpPr/>
          <p:nvPr/>
        </p:nvSpPr>
        <p:spPr>
          <a:xfrm>
            <a:off x="8746200" y="6692760"/>
            <a:ext cx="730800" cy="137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Page </a:t>
            </a:r>
            <a:fld id="{14B9DEFB-CC98-4ED1-A2ED-67025756ADD1}" type="slidenum">
              <a:rPr b="0" lang="en-GB" sz="9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95360" y="273600"/>
            <a:ext cx="891612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ffffff"/>
                </a:solidFill>
                <a:latin typeface="Times New Roman"/>
              </a:rPr>
              <a:t>Click to edit the title text format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95360" y="1604520"/>
            <a:ext cx="891612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89000"/>
              </a:lnSpc>
              <a:spcBef>
                <a:spcPts val="675"/>
              </a:spcBef>
              <a:buClr>
                <a:srgbClr val="ffffff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lvl="3" marL="1542960" indent="-171360">
              <a:lnSpc>
                <a:spcPct val="89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4" marL="2000160" indent="-171360">
              <a:lnSpc>
                <a:spcPct val="89000"/>
              </a:lnSpc>
              <a:spcBef>
                <a:spcPts val="524"/>
              </a:spcBef>
              <a:buClr>
                <a:srgbClr val="ffffff"/>
              </a:buClr>
              <a:buFont typeface="Arial"/>
              <a:buChar char="–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5" marL="2000160" indent="-1713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  <a:p>
            <a:pPr lvl="6" marL="2000160" indent="-171360">
              <a:spcBef>
                <a:spcPts val="34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4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1" i="1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Introduction to th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tur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1" name=""/>
          <p:cNvSpPr/>
          <p:nvPr/>
        </p:nvSpPr>
        <p:spPr>
          <a:xfrm>
            <a:off x="3533760" y="3525840"/>
            <a:ext cx="128916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533760" y="4059360"/>
            <a:ext cx="2594160" cy="104904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43" name=""/>
          <p:cNvGrpSpPr/>
          <p:nvPr/>
        </p:nvGrpSpPr>
        <p:grpSpPr>
          <a:xfrm>
            <a:off x="3533760" y="5108400"/>
            <a:ext cx="2594160" cy="558720"/>
            <a:chOff x="3533760" y="5108400"/>
            <a:chExt cx="2594160" cy="558720"/>
          </a:xfrm>
        </p:grpSpPr>
        <p:sp>
          <p:nvSpPr>
            <p:cNvPr id="44" name=""/>
            <p:cNvSpPr/>
            <p:nvPr/>
          </p:nvSpPr>
          <p:spPr>
            <a:xfrm>
              <a:off x="3533760" y="5108400"/>
              <a:ext cx="2594160" cy="5587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3904560" y="518292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 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6" name=""/>
          <p:cNvSpPr/>
          <p:nvPr/>
        </p:nvSpPr>
        <p:spPr>
          <a:xfrm>
            <a:off x="4822920" y="3525840"/>
            <a:ext cx="130500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533760" y="2955960"/>
            <a:ext cx="2594160" cy="56988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ntology 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3533760" y="2011320"/>
            <a:ext cx="2594160" cy="48276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ebd113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533760" y="2511360"/>
            <a:ext cx="2594160" cy="44460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135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2000" fill="hold"/>
                                        <p:tgtEl>
                                          <p:spTgt spid="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" fill="hold">
                            <p:stCondLst>
                              <p:cond delay="2000"/>
                            </p:stCondLst>
                            <p:childTnLst>
                              <p:par>
                                <p:cTn id="1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2000" fill="hold"/>
                                        <p:tgtEl>
                                          <p:spTgt spid="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4000"/>
                            </p:stCondLst>
                            <p:childTnLst>
                              <p:par>
                                <p:cTn id="1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" fill="hold">
                            <p:stCondLst>
                              <p:cond delay="6000"/>
                            </p:stCondLst>
                            <p:childTnLst>
                              <p:par>
                                <p:cTn id="2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20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8000"/>
                            </p:stCondLst>
                            <p:childTnLst>
                              <p:par>
                                <p:cTn id="2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2000" fill="hold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2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" fill="hold">
                            <p:stCondLst>
                              <p:cond delay="12000"/>
                            </p:stCondLst>
                            <p:childTnLst>
                              <p:par>
                                <p:cTn id="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2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rdfs lay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57640" y="4133520"/>
            <a:ext cx="4152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RDFS enables us to explain relationships between statements.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Then the system knows some new assertions(i.e. Olivier is the parent of Athur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264960" y="4295880"/>
            <a:ext cx="2381400" cy="6397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270000" y="4829040"/>
            <a:ext cx="4613040" cy="41940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270000" y="5248440"/>
            <a:ext cx="2350800" cy="558720"/>
            <a:chOff x="270000" y="5248440"/>
            <a:chExt cx="2350800" cy="558720"/>
          </a:xfrm>
        </p:grpSpPr>
        <p:sp>
          <p:nvSpPr>
            <p:cNvPr id="111" name=""/>
            <p:cNvSpPr/>
            <p:nvPr/>
          </p:nvSpPr>
          <p:spPr>
            <a:xfrm>
              <a:off x="270000" y="5248440"/>
              <a:ext cx="2350800" cy="5587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801720" y="5322960"/>
              <a:ext cx="1259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13" name=""/>
          <p:cNvGrpSpPr/>
          <p:nvPr/>
        </p:nvGrpSpPr>
        <p:grpSpPr>
          <a:xfrm>
            <a:off x="2620800" y="5248440"/>
            <a:ext cx="2262240" cy="558720"/>
            <a:chOff x="2620800" y="5248440"/>
            <a:chExt cx="2262240" cy="558720"/>
          </a:xfrm>
        </p:grpSpPr>
        <p:sp>
          <p:nvSpPr>
            <p:cNvPr id="114" name=""/>
            <p:cNvSpPr/>
            <p:nvPr/>
          </p:nvSpPr>
          <p:spPr>
            <a:xfrm>
              <a:off x="2620800" y="5248440"/>
              <a:ext cx="2262240" cy="5587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4960" y="532296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287280" y="1620720"/>
            <a:ext cx="91029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RDFS allows us to organize our statements and a lot of others relationships, that are not shown he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2646360" y="4295880"/>
            <a:ext cx="2236680" cy="53316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46" dur="indefinite" restart="never" nodeType="tmRoot">
          <p:childTnLst>
            <p:seq>
              <p:cTn id="347" dur="indefinite" nodeType="mainSeq">
                <p:childTnLst>
                  <p:par>
                    <p:cTn id="348" fill="hold">
                      <p:stCondLst>
                        <p:cond delay="indefinite"/>
                      </p:stCondLst>
                      <p:childTnLst>
                        <p:par>
                          <p:cTn id="349" fill="hold">
                            <p:stCondLst>
                              <p:cond delay="0"/>
                            </p:stCondLst>
                            <p:childTnLst>
                              <p:par>
                                <p:cTn id="350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4" fill="hold">
                      <p:stCondLst>
                        <p:cond delay="indefinite"/>
                      </p:stCondLst>
                      <p:childTnLst>
                        <p:par>
                          <p:cTn id="355" fill="hold">
                            <p:stCondLst>
                              <p:cond delay="0"/>
                            </p:stCondLst>
                            <p:childTnLst>
                              <p:par>
                                <p:cTn id="35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8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3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4" dur="500" fill="hold"/>
                                        <p:tgtEl>
                                          <p:spTgt spid="10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5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0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ontology lay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2790360" y="1418760"/>
            <a:ext cx="6915240" cy="4821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It’s impossible to assert, in rdfs some kind of relationship between two Statements. To do this we have to use ontology langage: OW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owl:ObjectProperty rdf:ID=“Parent"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rdfs:range rdf:resource="#human"/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rdfs:domain rdf:resource= "#family"/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owl:inverseOf rdf:resource="#Child"/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/owl:ObjectProperty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With this new relationship between Statements, the system can deduce that, if Arthur Parent is Olivie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Then Olivier Child is Arthur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cc00"/>
                </a:solidFill>
                <a:latin typeface="Arial"/>
              </a:rPr>
              <a:t>« Well done !!! ;-) »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19240" y="1609560"/>
            <a:ext cx="2276280" cy="981360"/>
          </a:xfrm>
          <a:prstGeom prst="ellipse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Ressour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Parent(P,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89000" y="4132440"/>
            <a:ext cx="2276280" cy="981000"/>
          </a:xfrm>
          <a:prstGeom prst="ellipse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Proper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Stat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Child(P,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1343160" y="2600280"/>
            <a:ext cx="0" cy="1523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>
            <a:off x="300240" y="29210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InverseOf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5" dur="500"/>
                                        <p:tgtEl>
                                          <p:spTgt spid="1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6" fill="hold">
                      <p:stCondLst>
                        <p:cond delay="indefinite"/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0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83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4" fill="hold">
                            <p:stCondLst>
                              <p:cond delay="500"/>
                            </p:stCondLst>
                            <p:childTnLst>
                              <p:par>
                                <p:cTn id="38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8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5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3" fill="hold">
                      <p:stCondLst>
                        <p:cond delay="indefinite"/>
                      </p:stCondLst>
                      <p:childTnLst>
                        <p:par>
                          <p:cTn id="394" fill="hold">
                            <p:stCondLst>
                              <p:cond delay="0"/>
                            </p:stCondLst>
                            <p:childTnLst>
                              <p:par>
                                <p:cTn id="3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97" dur="500"/>
                                        <p:tgtEl>
                                          <p:spTgt spid="1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0" dur="500"/>
                                        <p:tgtEl>
                                          <p:spTgt spid="1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3" dur="500"/>
                                        <p:tgtEl>
                                          <p:spTgt spid="11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6" dur="500"/>
                                        <p:tgtEl>
                                          <p:spTgt spid="11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9" dur="500"/>
                                        <p:tgtEl>
                                          <p:spTgt spid="11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0" fill="hold">
                      <p:stCondLst>
                        <p:cond delay="indefinite"/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4" dur="500"/>
                                        <p:tgtEl>
                                          <p:spTgt spid="11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5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17" dur="500"/>
                                        <p:tgtEl>
                                          <p:spTgt spid="11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8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20" dur="500"/>
                                        <p:tgtEl>
                                          <p:spTgt spid="119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ontology layer (owl)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5219640" y="2705040"/>
            <a:ext cx="415296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OWL allow us to declare some refined relationship between statement and propertys, like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Invers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Equivalen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Restriction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…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182520" y="4278240"/>
            <a:ext cx="238140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>
            <a:off x="182520" y="4811760"/>
            <a:ext cx="4613400" cy="41904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28" name=""/>
          <p:cNvGrpSpPr/>
          <p:nvPr/>
        </p:nvGrpSpPr>
        <p:grpSpPr>
          <a:xfrm>
            <a:off x="182520" y="5230800"/>
            <a:ext cx="2351160" cy="546120"/>
            <a:chOff x="182520" y="5230800"/>
            <a:chExt cx="2351160" cy="546120"/>
          </a:xfrm>
        </p:grpSpPr>
        <p:sp>
          <p:nvSpPr>
            <p:cNvPr id="129" name=""/>
            <p:cNvSpPr/>
            <p:nvPr/>
          </p:nvSpPr>
          <p:spPr>
            <a:xfrm>
              <a:off x="182520" y="5230800"/>
              <a:ext cx="235116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14240" y="5303520"/>
              <a:ext cx="12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31" name=""/>
          <p:cNvGrpSpPr/>
          <p:nvPr/>
        </p:nvGrpSpPr>
        <p:grpSpPr>
          <a:xfrm>
            <a:off x="2533680" y="5230800"/>
            <a:ext cx="2262240" cy="546120"/>
            <a:chOff x="2533680" y="5230800"/>
            <a:chExt cx="2262240" cy="546120"/>
          </a:xfrm>
        </p:grpSpPr>
        <p:sp>
          <p:nvSpPr>
            <p:cNvPr id="132" name=""/>
            <p:cNvSpPr/>
            <p:nvPr/>
          </p:nvSpPr>
          <p:spPr>
            <a:xfrm>
              <a:off x="2533680" y="5230800"/>
              <a:ext cx="226224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3237840" y="53035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34" name=""/>
          <p:cNvSpPr/>
          <p:nvPr/>
        </p:nvSpPr>
        <p:spPr>
          <a:xfrm>
            <a:off x="287280" y="1620720"/>
            <a:ext cx="9102960" cy="744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00"/>
                </a:solidFill>
                <a:latin typeface="Arial"/>
              </a:rPr>
              <a:t>OWL allows us to assert some more complicated relationship than rdfs can do.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2563920" y="4278240"/>
            <a:ext cx="223200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182520" y="3809880"/>
            <a:ext cx="4613400" cy="45720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ntology 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21" dur="indefinite" restart="never" nodeType="tmRoot">
          <p:childTnLst>
            <p:seq>
              <p:cTn id="422" dur="indefinite" nodeType="mainSeq">
                <p:childTnLst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7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9" fill="hold">
                      <p:stCondLst>
                        <p:cond delay="indefinite"/>
                      </p:stCondLst>
                      <p:childTnLst>
                        <p:par>
                          <p:cTn id="430" fill="hold">
                            <p:stCondLst>
                              <p:cond delay="0"/>
                            </p:stCondLst>
                            <p:childTnLst>
                              <p:par>
                                <p:cTn id="4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3" dur="500"/>
                                        <p:tgtEl>
                                          <p:spTgt spid="12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6" dur="500"/>
                                        <p:tgtEl>
                                          <p:spTgt spid="1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39" dur="500"/>
                                        <p:tgtEl>
                                          <p:spTgt spid="1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2" dur="500"/>
                                        <p:tgtEl>
                                          <p:spTgt spid="1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45" dur="500"/>
                                        <p:tgtEl>
                                          <p:spTgt spid="12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95000" y="30276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logic and inference rules lay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28240" y="1457280"/>
            <a:ext cx="942012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00"/>
                </a:solidFill>
                <a:latin typeface="Arial"/>
              </a:rPr>
              <a:t>We dispose of those statement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S1: male(x) </a:t>
            </a:r>
            <a:r>
              <a:rPr b="1" i="1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x is a male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S2: father(P,x) </a:t>
            </a:r>
            <a:r>
              <a:rPr b="1" i="1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x is the father of P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S3: parent(P,x) </a:t>
            </a:r>
            <a:r>
              <a:rPr b="1" i="1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x is the parent of P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S4: notSame(X,Y) </a:t>
            </a:r>
            <a:r>
              <a:rPr b="1" i="1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x is not the same than 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S5: brotherOrSister(X,Y) </a:t>
            </a:r>
            <a:r>
              <a:rPr b="1" i="1" lang="fr-FR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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x is the brother or the sister of y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cc00"/>
                </a:solidFill>
                <a:latin typeface="Arial"/>
              </a:rPr>
              <a:t>We can now assert some rules to the system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2000" spc="-1" strike="noStrike">
                <a:solidFill>
                  <a:srgbClr val="ffffff"/>
                </a:solidFill>
                <a:latin typeface="Arial"/>
              </a:rPr>
              <a:t>R1: male(X), parent(P,X)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father(P,X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2: father(P,X),parent(P,Y),notSame(X,Y)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mother(P,Y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3: parent(P,X),brotherOrSister(P,Q)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parent(Q,X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R4: brotherOrSister(P,Q) </a:t>
            </a:r>
            <a:r>
              <a:rPr b="1" i="1" lang="en-US" sz="20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brotherOrSister(Q,P)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446" dur="indefinite" restart="never" nodeType="tmRoot">
          <p:childTnLst>
            <p:seq>
              <p:cTn id="447" dur="indefinite" nodeType="mainSeq">
                <p:childTnLst>
                  <p:par>
                    <p:cTn id="448" fill="hold">
                      <p:stCondLst>
                        <p:cond delay="indefinite"/>
                      </p:stCondLst>
                      <p:childTnLst>
                        <p:par>
                          <p:cTn id="449" fill="hold">
                            <p:stCondLst>
                              <p:cond delay="0"/>
                            </p:stCondLst>
                            <p:childTnLst>
                              <p:par>
                                <p:cTn id="4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2" dur="1000"/>
                                        <p:tgtEl>
                                          <p:spTgt spid="13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1000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13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1" dur="1000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6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4" dur="1000"/>
                                        <p:tgtEl>
                                          <p:spTgt spid="13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9" dur="500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4" dur="1000"/>
                                        <p:tgtEl>
                                          <p:spTgt spid="138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79" dur="1000"/>
                                        <p:tgtEl>
                                          <p:spTgt spid="138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4" dur="1000"/>
                                        <p:tgtEl>
                                          <p:spTgt spid="138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1000"/>
                                        <p:tgtEl>
                                          <p:spTgt spid="138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780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3200"/>
            </a:br>
            <a:r>
              <a:rPr b="1" i="1" lang="fr-FR" sz="3200" spc="-1" strike="noStrike">
                <a:solidFill>
                  <a:srgbClr val="ffffff"/>
                </a:solidFill>
                <a:latin typeface="Times New Roman"/>
              </a:rPr>
              <a:t>the logic and inference rules layer</a:t>
            </a:r>
            <a:endParaRPr b="1" i="1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28240" y="1314000"/>
            <a:ext cx="9420120" cy="300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-282960">
              <a:lnSpc>
                <a:spcPct val="69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cc00"/>
                </a:solidFill>
                <a:latin typeface="Arial"/>
              </a:rPr>
              <a:t>Rules reminder: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GB" sz="1800" spc="-1" strike="noStrike">
                <a:solidFill>
                  <a:srgbClr val="ffffff"/>
                </a:solidFill>
                <a:latin typeface="Arial"/>
              </a:rPr>
              <a:t>R1: male(X), parent(P,X)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father(P,X) 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2: father(P,X),parent(P,Y),notSame(X,Y)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mother(P,Y)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3: parent(P,X),brotherOrSister(P,Q)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parent(Q,X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R4: brotherOrSister(P,Q) </a:t>
            </a:r>
            <a:r>
              <a:rPr b="1" i="1" lang="en-US" sz="1800" spc="-1" strike="noStrike">
                <a:solidFill>
                  <a:srgbClr val="ffffff"/>
                </a:solidFill>
                <a:latin typeface="Symbol"/>
                <a:ea typeface="Symbol"/>
              </a:rPr>
              <a:t>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</a:rPr>
              <a:t> brotherOrSister(Q,P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-282960">
              <a:lnSpc>
                <a:spcPct val="69000"/>
              </a:lnSpc>
              <a:spcBef>
                <a:spcPts val="675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cc00"/>
                </a:solidFill>
                <a:latin typeface="Arial"/>
              </a:rPr>
              <a:t>If we assert to the system: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00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ent(Arthur,Olivier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Male(Olivier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BrotherOrSister(Arthur, Leonard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69000"/>
              </a:lnSpc>
              <a:spcBef>
                <a:spcPts val="6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Parent(Leonard,Celine)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282960"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800" spc="-1" strike="noStrike">
                <a:solidFill>
                  <a:srgbClr val="ffcc00"/>
                </a:solidFill>
                <a:latin typeface="Arial"/>
              </a:rPr>
              <a:t>Using rules, the system can deduce that</a:t>
            </a:r>
            <a:endParaRPr b="1" i="1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498600" y="4435560"/>
            <a:ext cx="404172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171360" y="4416480"/>
            <a:ext cx="54295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1: male(Olivier), parent(Arthur,Olivier)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4: brotherOrSister(Arthur,Leonard)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3:Parent(Leonard,Celine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brotherOrSister(Leonard, Arthu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2:father(Arthur,Olivier),parent(Arthur,Celine),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notSame(Celine,Olivi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683240" y="4440240"/>
            <a:ext cx="4508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f509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Father(Arthur,Olivie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4376520" y="4761000"/>
            <a:ext cx="41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f509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brotherOrSister(Leonard, Arthur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4901040" y="5332320"/>
            <a:ext cx="2864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f509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Parent(Arthur,Cel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3812760" y="5942160"/>
            <a:ext cx="2907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2bf509"/>
                </a:solidFill>
                <a:latin typeface="Symbol"/>
                <a:ea typeface="Symbol"/>
              </a:rPr>
              <a:t>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 </a:t>
            </a: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Mother(Arthur,Celine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6" dur="1000"/>
                                        <p:tgtEl>
                                          <p:spTgt spid="14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7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99" dur="500"/>
                                        <p:tgtEl>
                                          <p:spTgt spid="14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2" dur="500"/>
                                        <p:tgtEl>
                                          <p:spTgt spid="14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5" dur="500"/>
                                        <p:tgtEl>
                                          <p:spTgt spid="14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6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8" dur="500"/>
                                        <p:tgtEl>
                                          <p:spTgt spid="140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000"/>
                            </p:stCondLst>
                            <p:childTnLst>
                              <p:par>
                                <p:cTn id="5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2" dur="500"/>
                                        <p:tgtEl>
                                          <p:spTgt spid="140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7" dur="2000"/>
                                        <p:tgtEl>
                                          <p:spTgt spid="1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2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7" dur="2000"/>
                                        <p:tgtEl>
                                          <p:spTgt spid="1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7" dur="2000"/>
                                        <p:tgtEl>
                                          <p:spTgt spid="14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8" fill="hold">
                            <p:stCondLst>
                              <p:cond delay="2000"/>
                            </p:stCondLst>
                            <p:childTnLst>
                              <p:par>
                                <p:cTn id="5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1" dur="2000"/>
                                        <p:tgtEl>
                                          <p:spTgt spid="14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46" dur="500"/>
                                        <p:tgtEl>
                                          <p:spTgt spid="14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1" dur="2000"/>
                                        <p:tgtEl>
                                          <p:spTgt spid="14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2" fill="hold">
                            <p:stCondLst>
                              <p:cond delay="2000"/>
                            </p:stCondLst>
                            <p:childTnLst>
                              <p:par>
                                <p:cTn id="5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5" dur="2000"/>
                                        <p:tgtEl>
                                          <p:spTgt spid="14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6" fill="hold">
                      <p:stCondLst>
                        <p:cond delay="indefinite"/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0" dur="500"/>
                                        <p:tgtEl>
                                          <p:spTgt spid="1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Conclusion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3057120" y="2124000"/>
            <a:ext cx="6658200" cy="460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We’ve quickly seen the tools corresponding to the different nivels of the semantic web architecture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If we organize safetly our indexes, or any kind of meta data, we can afterwards engage a process of asserting statements and rules, then starting a step of inducing and deducing new assertions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In a context of web analysis, we prepare our data to future use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7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As you‘ve seen, AXIS is a way to do so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79000"/>
              </a:lnSpc>
              <a:spcBef>
                <a:spcPts val="11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3200" spc="-1" strike="noStrike">
                <a:solidFill>
                  <a:srgbClr val="ffff00"/>
                </a:solidFill>
                <a:latin typeface="Arial"/>
              </a:rPr>
              <a:t>Thank You for you attention</a:t>
            </a:r>
            <a:endParaRPr b="1" i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85760" y="3990960"/>
            <a:ext cx="128916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185760" y="4524480"/>
            <a:ext cx="2593800" cy="104940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51" name=""/>
          <p:cNvGrpSpPr/>
          <p:nvPr/>
        </p:nvGrpSpPr>
        <p:grpSpPr>
          <a:xfrm>
            <a:off x="185760" y="5573880"/>
            <a:ext cx="2593800" cy="558720"/>
            <a:chOff x="185760" y="5573880"/>
            <a:chExt cx="2593800" cy="558720"/>
          </a:xfrm>
        </p:grpSpPr>
        <p:sp>
          <p:nvSpPr>
            <p:cNvPr id="152" name=""/>
            <p:cNvSpPr/>
            <p:nvPr/>
          </p:nvSpPr>
          <p:spPr>
            <a:xfrm>
              <a:off x="185760" y="5573880"/>
              <a:ext cx="2593800" cy="5587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556560" y="5648400"/>
              <a:ext cx="183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 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54" name=""/>
          <p:cNvSpPr/>
          <p:nvPr/>
        </p:nvSpPr>
        <p:spPr>
          <a:xfrm>
            <a:off x="1474920" y="3990960"/>
            <a:ext cx="130464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5760" y="3421080"/>
            <a:ext cx="2593800" cy="56988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ntology 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185760" y="2476440"/>
            <a:ext cx="2593800" cy="48276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ebd113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85760" y="2976480"/>
            <a:ext cx="2593800" cy="44460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135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561" dur="indefinite" restart="never" nodeType="tmRoot">
          <p:childTnLst>
            <p:seq>
              <p:cTn id="562" dur="indefinite" nodeType="mainSeq">
                <p:childTnLst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7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8" dur="20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9" fill="hold">
                            <p:stCondLst>
                              <p:cond delay="2000"/>
                            </p:stCondLst>
                            <p:childTnLst>
                              <p:par>
                                <p:cTn id="5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2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3" dur="2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4" fill="hold">
                            <p:stCondLst>
                              <p:cond delay="4000"/>
                            </p:stCondLst>
                            <p:childTnLst>
                              <p:par>
                                <p:cTn id="57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7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8" dur="20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6000"/>
                            </p:stCondLst>
                            <p:childTnLst>
                              <p:par>
                                <p:cTn id="58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2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3" dur="2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8000"/>
                            </p:stCondLst>
                            <p:childTnLst>
                              <p:par>
                                <p:cTn id="58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87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8" dur="2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10000"/>
                            </p:stCondLst>
                            <p:childTnLst>
                              <p:par>
                                <p:cTn id="59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2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3" dur="2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4" fill="hold">
                            <p:stCondLst>
                              <p:cond delay="12000"/>
                            </p:stCondLst>
                            <p:childTnLst>
                              <p:par>
                                <p:cTn id="59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7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98" dur="20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9" fill="hold">
                      <p:stCondLst>
                        <p:cond delay="indefinite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3" dur="2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4" fill="hold">
                      <p:stCondLst>
                        <p:cond delay="indefinite"/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8" dur="2000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9" fill="hold">
                      <p:stCondLst>
                        <p:cond delay="indefinite"/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3" dur="2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4" fill="hold">
                      <p:stCondLst>
                        <p:cond delay="indefinite"/>
                      </p:stCondLst>
                      <p:childTnLst>
                        <p:par>
                          <p:cTn id="615" fill="hold">
                            <p:stCondLst>
                              <p:cond delay="0"/>
                            </p:stCondLst>
                            <p:childTnLst>
                              <p:par>
                                <p:cTn id="61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8" dur="2000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9" fill="hold">
                      <p:stCondLst>
                        <p:cond delay="indefinite"/>
                      </p:stCondLst>
                      <p:childTnLst>
                        <p:par>
                          <p:cTn id="620" fill="hold">
                            <p:stCondLst>
                              <p:cond delay="0"/>
                            </p:stCondLst>
                            <p:childTnLst>
                              <p:par>
                                <p:cTn id="62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3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5" fill="hold">
                            <p:stCondLst>
                              <p:cond delay="500"/>
                            </p:stCondLst>
                            <p:childTnLst>
                              <p:par>
                                <p:cTn id="626" nodeType="after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27" dur="2000" fill="hold"/>
                                        <p:tgtEl>
                                          <p:spTgt spid="148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  <p:to x="150000" y="1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logic and inference layer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219640" y="2705040"/>
            <a:ext cx="4152960" cy="299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Asserting some rules to the system, we can induce some informations afterward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35000" y="4014720"/>
            <a:ext cx="238104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135000" y="4556160"/>
            <a:ext cx="4657680" cy="41904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162" name=""/>
          <p:cNvGrpSpPr/>
          <p:nvPr/>
        </p:nvGrpSpPr>
        <p:grpSpPr>
          <a:xfrm>
            <a:off x="135000" y="4975200"/>
            <a:ext cx="2351160" cy="546120"/>
            <a:chOff x="135000" y="4975200"/>
            <a:chExt cx="2351160" cy="546120"/>
          </a:xfrm>
        </p:grpSpPr>
        <p:sp>
          <p:nvSpPr>
            <p:cNvPr id="163" name=""/>
            <p:cNvSpPr/>
            <p:nvPr/>
          </p:nvSpPr>
          <p:spPr>
            <a:xfrm>
              <a:off x="135000" y="4975200"/>
              <a:ext cx="235116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666720" y="5047920"/>
              <a:ext cx="12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165" name=""/>
          <p:cNvGrpSpPr/>
          <p:nvPr/>
        </p:nvGrpSpPr>
        <p:grpSpPr>
          <a:xfrm>
            <a:off x="2486160" y="4975200"/>
            <a:ext cx="2306520" cy="546120"/>
            <a:chOff x="2486160" y="4975200"/>
            <a:chExt cx="2306520" cy="546120"/>
          </a:xfrm>
        </p:grpSpPr>
        <p:sp>
          <p:nvSpPr>
            <p:cNvPr id="166" name=""/>
            <p:cNvSpPr/>
            <p:nvPr/>
          </p:nvSpPr>
          <p:spPr>
            <a:xfrm>
              <a:off x="2486160" y="4975200"/>
              <a:ext cx="230652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3211920" y="50479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168" name=""/>
          <p:cNvSpPr/>
          <p:nvPr/>
        </p:nvSpPr>
        <p:spPr>
          <a:xfrm>
            <a:off x="2530440" y="4014720"/>
            <a:ext cx="226224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38240" y="3384720"/>
            <a:ext cx="4654440" cy="63000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Ontology vocabular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38240" y="2222640"/>
            <a:ext cx="4654440" cy="590400"/>
          </a:xfrm>
          <a:prstGeom prst="rect">
            <a:avLst/>
          </a:prstGeom>
          <a:gradFill rotWithShape="0">
            <a:gsLst>
              <a:gs pos="0">
                <a:srgbClr val="fe9b03"/>
              </a:gs>
              <a:gs pos="100000">
                <a:srgbClr val="ebd113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1600" spc="-1" strike="noStrike">
                <a:solidFill>
                  <a:srgbClr val="ffffff"/>
                </a:solidFill>
                <a:latin typeface="Arial"/>
              </a:rPr>
              <a:t>Proof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38240" y="2813040"/>
            <a:ext cx="4654440" cy="571680"/>
          </a:xfrm>
          <a:prstGeom prst="rect">
            <a:avLst/>
          </a:prstGeom>
          <a:gradFill rotWithShape="0">
            <a:gsLst>
              <a:gs pos="0">
                <a:srgbClr val="740012"/>
              </a:gs>
              <a:gs pos="50000">
                <a:srgbClr val="fc0128"/>
              </a:gs>
              <a:gs pos="100000">
                <a:srgbClr val="740012"/>
              </a:gs>
            </a:gsLst>
            <a:lin ang="135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BE" sz="2000" spc="-1" strike="noStrike">
                <a:solidFill>
                  <a:srgbClr val="ffffff"/>
                </a:solidFill>
                <a:latin typeface="Arial"/>
              </a:rPr>
              <a:t>Log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450720" y="5854680"/>
            <a:ext cx="817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This is the upper nivel of our architectu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628" dur="indefinite" restart="never" nodeType="tmRoot">
          <p:childTnLst>
            <p:seq>
              <p:cTn id="629" dur="indefinite" nodeType="mainSeq">
                <p:childTnLst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4" dur="2000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5" fill="hold">
                      <p:stCondLst>
                        <p:cond delay="indefinite"/>
                      </p:stCondLst>
                      <p:childTnLst>
                        <p:par>
                          <p:cTn id="636" fill="hold">
                            <p:stCondLst>
                              <p:cond delay="0"/>
                            </p:stCondLst>
                            <p:childTnLst>
                              <p:par>
                                <p:cTn id="63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9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0" dur="20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1" nodeType="with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3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4" dur="2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5" fill="hold">
                            <p:stCondLst>
                              <p:cond delay="2000"/>
                            </p:stCondLst>
                            <p:childTnLst>
                              <p:par>
                                <p:cTn id="646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8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9" dur="10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Reference site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You see in English and in French a more detailed presentation of semantic web at: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15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Arial"/>
              </a:rPr>
              <a:t>http://</a:t>
            </a:r>
            <a:endParaRPr b="1" i="1" lang="en-US" sz="4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0">
              <a:lnSpc>
                <a:spcPct val="89000"/>
              </a:lnSpc>
              <a:spcBef>
                <a:spcPts val="10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ffff"/>
                </a:solidFill>
                <a:latin typeface="Arial"/>
              </a:rPr>
              <a:t>Please feel free to send us comments on this brand an new translation done by Titan</a:t>
            </a:r>
            <a:endParaRPr b="1" i="1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SGML Origins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95000" y="160020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GML: Standard Generalized Markup Language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It comes from GML, an IBM language 1960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GML is an ISO standard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SGML was originally designed to enable the sharing of machine-readable documents in large projects in government, legal and industry (EDI)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It has also been used in printing and publishing, but his complexity has prevented its widespread expansion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" dur="500"/>
                                        <p:tgtEl>
                                          <p:spTgt spid="5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0" dur="500"/>
                                        <p:tgtEl>
                                          <p:spTgt spid="5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" dur="500"/>
                                        <p:tgtEl>
                                          <p:spTgt spid="5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Several other MarkUp langages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derives from SGM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3562200" y="1838160"/>
            <a:ext cx="2638440" cy="1295640"/>
          </a:xfrm>
          <a:prstGeom prst="rect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SG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3360600" y="3560760"/>
            <a:ext cx="3029040" cy="1552680"/>
          </a:xfrm>
          <a:prstGeom prst="rect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DocBook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(multimedi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Publish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6561000" y="3541680"/>
            <a:ext cx="2876760" cy="1571760"/>
          </a:xfrm>
          <a:prstGeom prst="rect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X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(gener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Purpose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1831320" y="3152520"/>
            <a:ext cx="6167520" cy="398880"/>
            <a:chOff x="1831320" y="3152520"/>
            <a:chExt cx="6167520" cy="398880"/>
          </a:xfrm>
        </p:grpSpPr>
        <p:cxnSp>
          <p:nvCxnSpPr>
            <p:cNvPr id="57" name=""/>
            <p:cNvCxnSpPr>
              <a:stCxn id="53" idx="2"/>
              <a:endCxn id="55" idx="0"/>
            </p:cNvCxnSpPr>
            <p:nvPr/>
          </p:nvCxnSpPr>
          <p:spPr>
            <a:xfrm flipH="1" rot="16200000">
              <a:off x="6254640" y="1778400"/>
              <a:ext cx="370440" cy="3118680"/>
            </a:xfrm>
            <a:prstGeom prst="bentConnector3">
              <a:avLst>
                <a:gd name="adj1" fmla="val 49708"/>
              </a:avLst>
            </a:prstGeom>
            <a:ln w="38160">
              <a:solidFill>
                <a:srgbClr val="ff9900"/>
              </a:solidFill>
              <a:miter/>
              <a:tailEnd len="med" type="diamond" w="sm"/>
            </a:ln>
          </p:spPr>
        </p:cxnSp>
        <p:cxnSp>
          <p:nvCxnSpPr>
            <p:cNvPr id="58" name=""/>
            <p:cNvCxnSpPr>
              <a:stCxn id="53" idx="2"/>
              <a:endCxn id="54" idx="0"/>
            </p:cNvCxnSpPr>
            <p:nvPr/>
          </p:nvCxnSpPr>
          <p:spPr>
            <a:xfrm rot="5400000">
              <a:off x="4687920" y="3339360"/>
              <a:ext cx="380160" cy="7200"/>
            </a:xfrm>
            <a:prstGeom prst="bentConnector3">
              <a:avLst>
                <a:gd name="adj1" fmla="val 49763"/>
              </a:avLst>
            </a:prstGeom>
            <a:ln w="38160">
              <a:solidFill>
                <a:srgbClr val="ff9900"/>
              </a:solidFill>
              <a:miter/>
              <a:tailEnd len="med" type="diamond" w="sm"/>
            </a:ln>
          </p:spPr>
        </p:cxnSp>
        <p:cxnSp>
          <p:nvCxnSpPr>
            <p:cNvPr id="59" name=""/>
            <p:cNvCxnSpPr>
              <a:stCxn id="53" idx="2"/>
            </p:cNvCxnSpPr>
            <p:nvPr/>
          </p:nvCxnSpPr>
          <p:spPr>
            <a:xfrm rot="5400000">
              <a:off x="3156840" y="1827000"/>
              <a:ext cx="399240" cy="3050280"/>
            </a:xfrm>
            <a:prstGeom prst="bentConnector3">
              <a:avLst>
                <a:gd name="adj1" fmla="val 49729"/>
              </a:avLst>
            </a:prstGeom>
            <a:ln w="38160">
              <a:solidFill>
                <a:srgbClr val="ff9900"/>
              </a:solidFill>
              <a:miter/>
            </a:ln>
          </p:spPr>
        </p:cxnSp>
      </p:grpSp>
      <p:sp>
        <p:nvSpPr>
          <p:cNvPr id="60" name=""/>
          <p:cNvSpPr/>
          <p:nvPr/>
        </p:nvSpPr>
        <p:spPr>
          <a:xfrm>
            <a:off x="493560" y="3598920"/>
            <a:ext cx="2676600" cy="1542960"/>
          </a:xfrm>
          <a:prstGeom prst="rect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HTM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(Web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c0128"/>
                </a:solidFill>
                <a:latin typeface="Arial"/>
              </a:rPr>
              <a:t>Publishing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56480" y="5254560"/>
            <a:ext cx="2732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e use 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426480" y="5148360"/>
            <a:ext cx="26420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Professiona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Book editin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onl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541920" y="5148360"/>
            <a:ext cx="273060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Exten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u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fill="hold">
                      <p:stCondLst>
                        <p:cond delay="0"/>
                      </p:stCondLst>
                      <p:childTnLst>
                        <p:par>
                          <p:cTn id="69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2" dur="20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5" dur="10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6" dur="10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1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17" dur="10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Differences between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HTML, DocBook, XML 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95000" y="1847880"/>
            <a:ext cx="89154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HTML (Hyper Text Mark-up Language): a language only designed to publish on Web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DocBook : a language designed to describe a Book. It enables publication on Print, Web, PDF, etc…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XML (eXtensible Mark-up Language) : a </a:t>
            </a: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meta</a:t>
            </a: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 language designed to express any vocabularys needed in application. XML is easier to implement than SGML, so it has replaced SGML almost completely. XML is used for general-purpose applications, such as the Semantic Web, XHTML, SVG, RSS, Atom, XML-RPC and SOAP.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 spd="med"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"/>
          <p:cNvSpPr/>
          <p:nvPr/>
        </p:nvSpPr>
        <p:spPr>
          <a:xfrm>
            <a:off x="5000760" y="1371600"/>
            <a:ext cx="4733640" cy="4019400"/>
          </a:xfrm>
          <a:prstGeom prst="rect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171360" y="1390680"/>
            <a:ext cx="4695840" cy="3981600"/>
          </a:xfrm>
          <a:prstGeom prst="rect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400" spc="-1" strike="noStrike">
                <a:solidFill>
                  <a:srgbClr val="ffffff"/>
                </a:solidFill>
                <a:latin typeface="Times New Roman"/>
              </a:rPr>
              <a:t>XML definition and use</a:t>
            </a:r>
            <a:endParaRPr b="1" i="1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495360" y="1600200"/>
            <a:ext cx="4857840" cy="365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Definition Scheme of the XML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schema "http://.../XMLSchema"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version="1.0"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simpleType name="dayOfMonth"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restriction base="integer"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minInclusive value="1"/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maxInclusive value="31"/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/restriction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296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cc00"/>
                </a:solidFill>
                <a:latin typeface="Arial"/>
              </a:rPr>
              <a:t>&lt;/simpleType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429160" y="1599840"/>
            <a:ext cx="3981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Valid XML data according to the Schema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&lt;dayOfMonth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12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2bf509"/>
                </a:solidFill>
                <a:latin typeface="Arial"/>
              </a:rPr>
              <a:t>&lt;/dayOfMonth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Invalid XML data according to the Schema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&lt;dayOfMonth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33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c0128"/>
                </a:solidFill>
                <a:latin typeface="Arial"/>
              </a:rPr>
              <a:t>&lt;/dayOfMonth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068120" y="5445000"/>
            <a:ext cx="713484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We want to define a type of data for 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cc00"/>
                </a:solidFill>
                <a:latin typeface="Arial"/>
              </a:rPr>
              <a:t>the day of the mont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fill="hold">
                      <p:stCondLst>
                        <p:cond delay="indefinite"/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4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9" dur="1000"/>
                                        <p:tgtEl>
                                          <p:spTgt spid="6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6" dur="1000"/>
                                        <p:tgtEl>
                                          <p:spTgt spid="6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9" dur="1000"/>
                                        <p:tgtEl>
                                          <p:spTgt spid="6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2" dur="1000"/>
                                        <p:tgtEl>
                                          <p:spTgt spid="6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5" dur="1000"/>
                                        <p:tgtEl>
                                          <p:spTgt spid="6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8" dur="1000"/>
                                        <p:tgtEl>
                                          <p:spTgt spid="6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1" dur="1000"/>
                                        <p:tgtEl>
                                          <p:spTgt spid="6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4" dur="1000"/>
                                        <p:tgtEl>
                                          <p:spTgt spid="6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7" dur="1000"/>
                                        <p:tgtEl>
                                          <p:spTgt spid="6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2" dur="500"/>
                                        <p:tgtEl>
                                          <p:spTgt spid="7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5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6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9" dur="500"/>
                                        <p:tgtEl>
                                          <p:spTgt spid="7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2" dur="500"/>
                                        <p:tgtEl>
                                          <p:spTgt spid="7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5" dur="500"/>
                                        <p:tgtEl>
                                          <p:spTgt spid="7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0" dur="1000"/>
                                        <p:tgtEl>
                                          <p:spTgt spid="7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3" dur="1000"/>
                                        <p:tgtEl>
                                          <p:spTgt spid="7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6" dur="1000"/>
                                        <p:tgtEl>
                                          <p:spTgt spid="70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89" dur="1000"/>
                                        <p:tgtEl>
                                          <p:spTgt spid="70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basis Layer, XM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391000" y="1600200"/>
            <a:ext cx="401976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XML permits abstracts expressions, sharable between different computers in different locations. 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Technically, this features are permitted by three ways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NS : Name Space and schemas which permit to define a set of vocabulary</a:t>
            </a:r>
            <a:endParaRPr b="1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Unicode, which permit a comprehension of encoding on every computers. </a:t>
            </a:r>
            <a:endParaRPr b="1" i="1" lang="en-US" sz="1600" spc="-1" strike="noStrike">
              <a:solidFill>
                <a:srgbClr val="ffffff"/>
              </a:solidFill>
              <a:latin typeface="Arial"/>
            </a:endParaRPr>
          </a:p>
          <a:p>
            <a:pPr lvl="1" marL="685800" indent="-228600">
              <a:lnSpc>
                <a:spcPct val="89000"/>
              </a:lnSpc>
              <a:spcBef>
                <a:spcPts val="601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1600" spc="-1" strike="noStrike">
                <a:solidFill>
                  <a:srgbClr val="ffffff"/>
                </a:solidFill>
                <a:latin typeface="Arial"/>
              </a:rPr>
              <a:t>URI : Universal Resource Identifier, which permit to identify a resource on the Net</a:t>
            </a:r>
            <a:endParaRPr b="1" i="1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03360" y="5160960"/>
            <a:ext cx="4613040" cy="41904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75" name=""/>
          <p:cNvGrpSpPr/>
          <p:nvPr/>
        </p:nvGrpSpPr>
        <p:grpSpPr>
          <a:xfrm>
            <a:off x="603360" y="5580000"/>
            <a:ext cx="2350800" cy="546120"/>
            <a:chOff x="603360" y="5580000"/>
            <a:chExt cx="2350800" cy="546120"/>
          </a:xfrm>
        </p:grpSpPr>
        <p:sp>
          <p:nvSpPr>
            <p:cNvPr id="76" name=""/>
            <p:cNvSpPr/>
            <p:nvPr/>
          </p:nvSpPr>
          <p:spPr>
            <a:xfrm>
              <a:off x="603360" y="5580000"/>
              <a:ext cx="235080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1135080" y="5652720"/>
              <a:ext cx="1260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2954160" y="5580000"/>
            <a:ext cx="2262240" cy="546120"/>
            <a:chOff x="2954160" y="5580000"/>
            <a:chExt cx="2262240" cy="546120"/>
          </a:xfrm>
        </p:grpSpPr>
        <p:sp>
          <p:nvSpPr>
            <p:cNvPr id="79" name=""/>
            <p:cNvSpPr/>
            <p:nvPr/>
          </p:nvSpPr>
          <p:spPr>
            <a:xfrm>
              <a:off x="2954160" y="5580000"/>
              <a:ext cx="226224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658320" y="565272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</p:spTree>
  </p:cSld>
  <p:transition spd="med">
    <p:fade thruBlk="true"/>
  </p:transition>
  <p:timing>
    <p:tnLst>
      <p:par>
        <p:cTn id="190" dur="indefinite" restart="never" nodeType="tmRoot">
          <p:childTnLst>
            <p:seq>
              <p:cTn id="191" dur="indefinite" nodeType="mainSeq">
                <p:childTnLst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96" dur="500"/>
                                        <p:tgtEl>
                                          <p:spTgt spid="7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3" fill="hold">
                            <p:stCondLst>
                              <p:cond delay="500"/>
                            </p:stCondLst>
                            <p:childTnLst>
                              <p:par>
                                <p:cTn id="20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8" fill="hold">
                            <p:stCondLst>
                              <p:cond delay="1000"/>
                            </p:stCondLst>
                            <p:childTnLst>
                              <p:par>
                                <p:cTn id="209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1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fill="hold">
                      <p:stCondLst>
                        <p:cond delay="indefinite"/>
                      </p:stCondLst>
                      <p:childTnLst>
                        <p:par>
                          <p:cTn id="214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7" dur="500"/>
                                        <p:tgtEl>
                                          <p:spTgt spid="7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0" dur="500"/>
                                        <p:tgtEl>
                                          <p:spTgt spid="7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3" dur="500"/>
                                        <p:tgtEl>
                                          <p:spTgt spid="7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26" dur="500"/>
                                        <p:tgtEl>
                                          <p:spTgt spid="7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"/>
          <p:cNvSpPr/>
          <p:nvPr/>
        </p:nvSpPr>
        <p:spPr>
          <a:xfrm>
            <a:off x="1562040" y="3772080"/>
            <a:ext cx="0" cy="152388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/>
          </p:nvPr>
        </p:nvSpPr>
        <p:spPr>
          <a:xfrm>
            <a:off x="3647880" y="2448000"/>
            <a:ext cx="5981400" cy="415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75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RDF (Resource DescriptionFramework) is a way to express a </a:t>
            </a: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statement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between a </a:t>
            </a: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ressource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 and a </a:t>
            </a:r>
            <a:r>
              <a:rPr b="1" i="1" lang="fr-FR" sz="2000" spc="-1" strike="noStrike" u="sng">
                <a:solidFill>
                  <a:srgbClr val="ffffff"/>
                </a:solidFill>
                <a:uFillTx/>
                <a:latin typeface="Arial"/>
              </a:rPr>
              <a:t>property</a:t>
            </a:r>
            <a:r>
              <a:rPr b="1" i="1" lang="fr-FR" sz="2000" spc="-1" strike="noStrike">
                <a:solidFill>
                  <a:srgbClr val="ffffff"/>
                </a:solidFill>
                <a:latin typeface="Arial"/>
              </a:rPr>
              <a:t>: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rdf:RDF xmlns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rdf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=« … » 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xmlns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: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myfamily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« … »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&lt;rdf:Description 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rdf:about="http://www.family.picot/arthur"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fr-F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family:father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Olivier Picot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/family:father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l-GR" sz="2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/rdf:Description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ff"/>
                </a:solidFill>
                <a:latin typeface="Arial"/>
              </a:rPr>
              <a:t>&lt;/rdf:RDF&gt;</a:t>
            </a:r>
            <a:endParaRPr b="1" i="1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title"/>
          </p:nvPr>
        </p:nvSpPr>
        <p:spPr>
          <a:xfrm>
            <a:off x="485280" y="26460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rdf layer, XM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438120" y="2781360"/>
            <a:ext cx="2276640" cy="981000"/>
          </a:xfrm>
          <a:prstGeom prst="ellipse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Ressour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Arthu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407880" y="5303880"/>
            <a:ext cx="2276640" cy="981000"/>
          </a:xfrm>
          <a:prstGeom prst="ellipse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Proper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Olivier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838080" y="4124160"/>
            <a:ext cx="1781280" cy="579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842040" y="4092480"/>
            <a:ext cx="1422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Fath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1433520" y="1417680"/>
            <a:ext cx="713916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00"/>
                </a:solidFill>
                <a:latin typeface="Arial"/>
              </a:rPr>
              <a:t>We want to say to the system father(P,Y)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800" spc="-1" strike="noStrike">
                <a:solidFill>
                  <a:srgbClr val="ffcc00"/>
                </a:solidFill>
                <a:latin typeface="Arial"/>
              </a:rPr>
              <a:t>which means father of « P » is « Y »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27" dur="indefinite" restart="never" nodeType="tmRoot">
          <p:childTnLst>
            <p:seq>
              <p:cTn id="228" dur="indefinite" nodeType="mainSeq">
                <p:childTnLst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3" dur="50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fill="hold">
                      <p:stCondLst>
                        <p:cond delay="indefinite"/>
                      </p:stCondLst>
                      <p:childTnLst>
                        <p:par>
                          <p:cTn id="235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38" dur="500"/>
                                        <p:tgtEl>
                                          <p:spTgt spid="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1" dur="500"/>
                                        <p:tgtEl>
                                          <p:spTgt spid="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9" dur="5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4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5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4" dur="500"/>
                                        <p:tgtEl>
                                          <p:spTgt spid="8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67" dur="500"/>
                                        <p:tgtEl>
                                          <p:spTgt spid="8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0" dur="500"/>
                                        <p:tgtEl>
                                          <p:spTgt spid="8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3" dur="500"/>
                                        <p:tgtEl>
                                          <p:spTgt spid="8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6" dur="500"/>
                                        <p:tgtEl>
                                          <p:spTgt spid="8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9" dur="500"/>
                                        <p:tgtEl>
                                          <p:spTgt spid="82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2" dur="500"/>
                                        <p:tgtEl>
                                          <p:spTgt spid="82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rdf layer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57640" y="4133520"/>
            <a:ext cx="4152960" cy="2144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RDF enables us to explain statements to the system.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-285840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ffff"/>
                </a:solidFill>
                <a:latin typeface="Arial"/>
              </a:rPr>
              <a:t>This a new level of Web Semantic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282600" y="4232160"/>
            <a:ext cx="3238560" cy="53352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RDF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282600" y="4765680"/>
            <a:ext cx="4662360" cy="419040"/>
          </a:xfrm>
          <a:prstGeom prst="rect">
            <a:avLst/>
          </a:prstGeom>
          <a:gradFill rotWithShape="0">
            <a:gsLst>
              <a:gs pos="0">
                <a:srgbClr val="bccffe"/>
              </a:gs>
              <a:gs pos="100000">
                <a:srgbClr val="587bec"/>
              </a:gs>
            </a:gsLst>
            <a:lin ang="10800000"/>
          </a:gradFill>
          <a:ln w="3492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BE" sz="2000" spc="-1" strike="noStrike">
                <a:solidFill>
                  <a:srgbClr val="ffffff"/>
                </a:solidFill>
                <a:latin typeface="Arial"/>
              </a:rPr>
              <a:t>XML + Name Space + xmlschema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93" name=""/>
          <p:cNvGrpSpPr/>
          <p:nvPr/>
        </p:nvGrpSpPr>
        <p:grpSpPr>
          <a:xfrm>
            <a:off x="282600" y="5184720"/>
            <a:ext cx="2351160" cy="546120"/>
            <a:chOff x="282600" y="5184720"/>
            <a:chExt cx="2351160" cy="546120"/>
          </a:xfrm>
        </p:grpSpPr>
        <p:sp>
          <p:nvSpPr>
            <p:cNvPr id="94" name=""/>
            <p:cNvSpPr/>
            <p:nvPr/>
          </p:nvSpPr>
          <p:spPr>
            <a:xfrm>
              <a:off x="282600" y="5184720"/>
              <a:ext cx="235116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814320" y="5257440"/>
              <a:ext cx="12607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nicode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grpSp>
        <p:nvGrpSpPr>
          <p:cNvPr id="96" name=""/>
          <p:cNvGrpSpPr/>
          <p:nvPr/>
        </p:nvGrpSpPr>
        <p:grpSpPr>
          <a:xfrm>
            <a:off x="2633760" y="5184720"/>
            <a:ext cx="2311200" cy="546120"/>
            <a:chOff x="2633760" y="5184720"/>
            <a:chExt cx="2311200" cy="546120"/>
          </a:xfrm>
        </p:grpSpPr>
        <p:sp>
          <p:nvSpPr>
            <p:cNvPr id="97" name=""/>
            <p:cNvSpPr/>
            <p:nvPr/>
          </p:nvSpPr>
          <p:spPr>
            <a:xfrm>
              <a:off x="2633760" y="5184720"/>
              <a:ext cx="2311200" cy="546120"/>
            </a:xfrm>
            <a:prstGeom prst="rect">
              <a:avLst/>
            </a:prstGeom>
            <a:gradFill rotWithShape="0">
              <a:gsLst>
                <a:gs pos="0">
                  <a:srgbClr val="9fc6ed"/>
                </a:gs>
                <a:gs pos="100000">
                  <a:srgbClr val="587bec"/>
                </a:gs>
              </a:gsLst>
              <a:lin ang="10800000"/>
            </a:gradFill>
            <a:ln w="3492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360960" y="5257440"/>
              <a:ext cx="82980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fr-BE" sz="2000" spc="-1" strike="noStrike">
                  <a:solidFill>
                    <a:srgbClr val="ffffff"/>
                  </a:solidFill>
                  <a:latin typeface="Arial"/>
                </a:rPr>
                <a:t>U.R.I.</a:t>
              </a:r>
              <a:endParaRPr b="0" lang="en-US" sz="20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99" name=""/>
          <p:cNvSpPr/>
          <p:nvPr/>
        </p:nvSpPr>
        <p:spPr>
          <a:xfrm>
            <a:off x="287280" y="1620720"/>
            <a:ext cx="9102960" cy="107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9000"/>
              </a:lnSpc>
              <a:spcBef>
                <a:spcPts val="901"/>
              </a:spcBef>
              <a:buClr>
                <a:srgbClr val="fc0128"/>
              </a:buClr>
              <a:buSzPct val="75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2400" spc="-1" strike="noStrike">
                <a:solidFill>
                  <a:srgbClr val="ffcc00"/>
                </a:solidFill>
                <a:latin typeface="Arial"/>
              </a:rPr>
              <a:t>In the previous exemple, we explain that the father of  Arthur is Olivier. W’ve done this through an RDF syntax, so a computer can understand and treat this information.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283" dur="indefinite" restart="never" nodeType="tmRoot">
          <p:childTnLst>
            <p:seq>
              <p:cTn id="284" dur="indefinite" nodeType="mainSeq">
                <p:childTnLst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7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500" fill="hold"/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4a1217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95000" y="274320"/>
            <a:ext cx="8915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9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Web Semantic Architechure</a:t>
            </a:r>
            <a:br>
              <a:rPr sz="4000"/>
            </a:br>
            <a:r>
              <a:rPr b="1" i="1" lang="fr-FR" sz="4000" spc="-1" strike="noStrike">
                <a:solidFill>
                  <a:srgbClr val="ffffff"/>
                </a:solidFill>
                <a:latin typeface="Times New Roman"/>
              </a:rPr>
              <a:t>the rdf schema layer, XML</a:t>
            </a:r>
            <a:endParaRPr b="1" i="1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2657160" y="1657440"/>
            <a:ext cx="6915240" cy="482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With RDFS, we can assert relationships between statements like “is subclass of”. In our example, we assert that the Statement “Father “ is a subclass of statement “parent”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lt;rdfs:Class rdf:about="#father"&gt;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lt;rdfs:subClassOf rdf:resource="#parent"/&gt;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ff"/>
                </a:solidFill>
                <a:latin typeface="Arial"/>
              </a:rPr>
              <a:t>&lt;/rdfs:Class&gt;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Then the system knows that 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if “Olivier” is the father of “Arthur” then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  <a:p>
            <a:pPr marL="285840" indent="0">
              <a:lnSpc>
                <a:spcPct val="89000"/>
              </a:lnSpc>
              <a:spcBef>
                <a:spcPts val="901"/>
              </a:spcBef>
              <a:spcAft>
                <a:spcPts val="1500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	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“</a:t>
            </a:r>
            <a:r>
              <a:rPr b="0" i="1" lang="en-US" sz="2400" spc="-1" strike="noStrike">
                <a:solidFill>
                  <a:srgbClr val="ffcc00"/>
                </a:solidFill>
                <a:latin typeface="Arial"/>
              </a:rPr>
              <a:t>Olivier” is a parent of “Arthur”</a:t>
            </a:r>
            <a:endParaRPr b="1" i="1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223920" y="2276640"/>
            <a:ext cx="2276280" cy="981000"/>
          </a:xfrm>
          <a:prstGeom prst="ellipse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Ressource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Statement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Parent(P,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193680" y="4799160"/>
            <a:ext cx="2276640" cy="981000"/>
          </a:xfrm>
          <a:prstGeom prst="ellipse">
            <a:avLst/>
          </a:prstGeom>
          <a:solidFill>
            <a:srgbClr val="ffd9b3"/>
          </a:solidFill>
          <a:ln w="3816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Property: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Statement 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800" spc="-1" strike="noStrike">
                <a:solidFill>
                  <a:srgbClr val="fc0128"/>
                </a:solidFill>
                <a:latin typeface="Arial"/>
              </a:rPr>
              <a:t>Father(P,X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347840" y="3267000"/>
            <a:ext cx="0" cy="1524240"/>
          </a:xfrm>
          <a:prstGeom prst="line">
            <a:avLst/>
          </a:prstGeom>
          <a:ln w="38160">
            <a:solidFill>
              <a:srgbClr val="ff9900"/>
            </a:solidFill>
            <a:miter/>
            <a:tailEnd len="med" type="diamond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4640" y="3587760"/>
            <a:ext cx="2032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ffffff"/>
                </a:solidFill>
                <a:latin typeface="Arial"/>
              </a:rPr>
              <a:t>SubCla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ransition spd="med">
    <p:fade thruBlk="true"/>
  </p:transition>
  <p:timing>
    <p:tnLst>
      <p:par>
        <p:cTn id="301" dur="indefinite" restart="never" nodeType="tmRoot">
          <p:childTnLst>
            <p:seq>
              <p:cTn id="302" dur="indefinite" nodeType="mainSeq">
                <p:childTnLst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7" dur="2000"/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8" fill="hold">
                      <p:stCondLst>
                        <p:cond delay="indefinite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5" dur="1000"/>
                                        <p:tgtEl>
                                          <p:spTgt spid="1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9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4" fill="hold">
                      <p:stCondLst>
                        <p:cond delay="indefinite"/>
                      </p:stCondLst>
                      <p:childTnLst>
                        <p:par>
                          <p:cTn id="325" fill="hold">
                            <p:stCondLst>
                              <p:cond delay="0"/>
                            </p:stCondLst>
                            <p:childTnLst>
                              <p:par>
                                <p:cTn id="32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8" dur="2000"/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1" dur="2000"/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4" dur="2000"/>
                                        <p:tgtEl>
                                          <p:spTgt spid="10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2000"/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0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2000"/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5" dur="2000"/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43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7-02-21T15:08:10Z</dcterms:created>
  <dc:creator>Roger Roberts</dc:creator>
  <dc:description/>
  <cp:keywords/>
  <dc:language>en-US</dc:language>
  <cp:lastModifiedBy>Frédéric Mignon</cp:lastModifiedBy>
  <cp:lastPrinted>2002-04-15T14:57:13Z</cp:lastPrinted>
  <dcterms:modified xsi:type="dcterms:W3CDTF">2008-06-04T19:41:03Z</dcterms:modified>
  <cp:revision>1051</cp:revision>
  <dc:subject>indexation de programmes audiovisuels</dc:subject>
  <dc:title>Descriptive Metadatas</dc:title>
</cp:coreProperties>
</file>