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439400" cy="7199313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864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75280" y="168480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200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864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75280" y="3866040"/>
            <a:ext cx="3025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38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22000" y="287280"/>
            <a:ext cx="939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38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6640" y="386604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6640" y="1684800"/>
            <a:ext cx="458496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3866040"/>
            <a:ext cx="939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38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961560" y="68400"/>
            <a:ext cx="419040" cy="3096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9288360" y="87480"/>
            <a:ext cx="620640" cy="277560"/>
            <a:chOff x="9288360" y="87480"/>
            <a:chExt cx="620640" cy="27756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9306720" y="104040"/>
              <a:ext cx="585360" cy="2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9288360" y="87480"/>
              <a:ext cx="620640" cy="277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8400960" y="92160"/>
            <a:ext cx="843120" cy="268200"/>
            <a:chOff x="8400960" y="92160"/>
            <a:chExt cx="843120" cy="268200"/>
          </a:xfrm>
        </p:grpSpPr>
        <p:sp>
          <p:nvSpPr>
            <p:cNvPr id="5" name=""/>
            <p:cNvSpPr/>
            <p:nvPr/>
          </p:nvSpPr>
          <p:spPr>
            <a:xfrm>
              <a:off x="8400960" y="92160"/>
              <a:ext cx="8431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8462160" y="138240"/>
              <a:ext cx="716760" cy="19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42840" y="52560"/>
            <a:ext cx="763560" cy="215640"/>
            <a:chOff x="42840" y="52560"/>
            <a:chExt cx="763560" cy="215640"/>
          </a:xfrm>
        </p:grpSpPr>
        <p:sp>
          <p:nvSpPr>
            <p:cNvPr id="8" name=""/>
            <p:cNvSpPr/>
            <p:nvPr/>
          </p:nvSpPr>
          <p:spPr>
            <a:xfrm>
              <a:off x="42840" y="52560"/>
              <a:ext cx="763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68760" y="77040"/>
              <a:ext cx="710640" cy="1692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87280"/>
            <a:ext cx="939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522000" y="1684800"/>
            <a:ext cx="939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lnSpc>
                <a:spcPct val="89000"/>
              </a:lnSpc>
              <a:spcBef>
                <a:spcPts val="938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41200">
              <a:lnSpc>
                <a:spcPct val="89000"/>
              </a:lnSpc>
              <a:spcBef>
                <a:spcPts val="711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203480" indent="-241560">
              <a:lnSpc>
                <a:spcPct val="89000"/>
              </a:lnSpc>
              <a:spcBef>
                <a:spcPts val="711"/>
              </a:spcBef>
              <a:buClr>
                <a:srgbClr val="ffffff"/>
              </a:buClr>
              <a:buFont typeface="Arial"/>
              <a:buChar char="–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623960" indent="-181080">
              <a:lnSpc>
                <a:spcPct val="89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4" marL="2104920" indent="-180720">
              <a:lnSpc>
                <a:spcPct val="89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  <a:tabLst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5" marL="2104920" indent="-18072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6" marL="2104920" indent="-18072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3600" y="2668680"/>
            <a:ext cx="8431560" cy="2630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26000" bIns="126000"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160344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Comments on the report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 </a:t>
            </a:r>
            <a:br>
              <a:rPr sz="4200"/>
            </a:br>
            <a:r>
              <a:rPr b="1" i="1" lang="en-US" sz="4200" spc="-1" strike="noStrike">
                <a:solidFill>
                  <a:srgbClr val="ffffff"/>
                </a:solidFill>
                <a:latin typeface="Garamond"/>
              </a:rPr>
              <a:t>“Conclusions of the EMWRT – I”</a:t>
            </a:r>
            <a:br>
              <a:rPr sz="4600"/>
            </a:b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E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uropean</a:t>
            </a: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M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edia 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R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ound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 T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able</a:t>
            </a:r>
            <a:br>
              <a:rPr sz="4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russels’ 2006-10-1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7240" y="5902200"/>
            <a:ext cx="44697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71748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Garamond"/>
              </a:rPr>
              <a:t>By:</a:t>
            </a:r>
            <a:r>
              <a:rPr b="1" lang="en-GB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Roger Roberts</a:t>
            </a:r>
            <a:br>
              <a:rPr sz="2900"/>
            </a:b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President of TITA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1280" y="6087960"/>
            <a:ext cx="3528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Garamond"/>
              </a:rPr>
              <a:t>rro@rtbf.be</a:t>
            </a:r>
            <a:br>
              <a:rPr sz="1900"/>
            </a:br>
            <a:br>
              <a:rPr sz="1900"/>
            </a:br>
            <a:r>
              <a:rPr b="1" lang="en-GB" sz="1900" spc="-1" strike="noStrike" u="sng">
                <a:solidFill>
                  <a:srgbClr val="ffffff"/>
                </a:solidFill>
                <a:uFillTx/>
                <a:latin typeface="Garamond"/>
              </a:rPr>
              <a:t>guy.marechal@memnon.b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6960" y="1025640"/>
            <a:ext cx="90453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Garamond"/>
              </a:rPr>
              <a:t>European Media Wrapper Round Table II</a:t>
            </a:r>
            <a:br>
              <a:rPr sz="3700"/>
            </a:b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PARIS, October 25</a:t>
            </a:r>
            <a:r>
              <a:rPr b="1" lang="en-GB" sz="29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  2007 (at TV5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557440"/>
            <a:ext cx="9677520" cy="2085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0600" y="1219320"/>
            <a:ext cx="9658440" cy="569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1120" y="504720"/>
            <a:ext cx="732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hoices made by AXIS / MEMORI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(1 /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0600" y="1623960"/>
            <a:ext cx="9658440" cy="3952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1120" y="504720"/>
            <a:ext cx="732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hoices made by AXIS / MEMORI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(2 /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9040" y="1447920"/>
            <a:ext cx="9601200" cy="4305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1120" y="504720"/>
            <a:ext cx="732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hoices made by AXIS / MEMORI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(3 /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3600" y="2668680"/>
            <a:ext cx="8431560" cy="26305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120" rIns="96120" tIns="126000" bIns="126000"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1603440"/>
                <a:tab algn="r" pos="424332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Comments on the report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 </a:t>
            </a:r>
            <a:br>
              <a:rPr sz="4200"/>
            </a:br>
            <a:r>
              <a:rPr b="1" i="1" lang="en-US" sz="4200" spc="-1" strike="noStrike">
                <a:solidFill>
                  <a:srgbClr val="ffffff"/>
                </a:solidFill>
                <a:latin typeface="Garamond"/>
              </a:rPr>
              <a:t>“Conclusions of the EMWRT – I”</a:t>
            </a:r>
            <a:br>
              <a:rPr sz="4600"/>
            </a:b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E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uropean</a:t>
            </a:r>
            <a:r>
              <a:rPr b="1" lang="en-US" sz="3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M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edia 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R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ound</a:t>
            </a:r>
            <a:r>
              <a:rPr b="1" lang="en-US" sz="4200" spc="-1" strike="noStrike">
                <a:solidFill>
                  <a:srgbClr val="ffff99"/>
                </a:solidFill>
                <a:latin typeface="Garamond"/>
              </a:rPr>
              <a:t> T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able</a:t>
            </a:r>
            <a:br>
              <a:rPr sz="4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russels’ 2006-10-1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240" y="5902200"/>
            <a:ext cx="44697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71748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Garamond"/>
              </a:rPr>
              <a:t>By:</a:t>
            </a:r>
            <a:r>
              <a:rPr b="1" lang="en-GB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Roger Roberts</a:t>
            </a:r>
            <a:br>
              <a:rPr sz="2900"/>
            </a:b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President of TITA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1280" y="6087960"/>
            <a:ext cx="3528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90000" bIns="900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1900" spc="-1" strike="noStrike" u="sng">
                <a:solidFill>
                  <a:srgbClr val="ffffff"/>
                </a:solidFill>
                <a:uFillTx/>
                <a:latin typeface="Garamond"/>
              </a:rPr>
              <a:t>rro@rtbf.be</a:t>
            </a:r>
            <a:br>
              <a:rPr sz="1900"/>
            </a:br>
            <a:br>
              <a:rPr sz="1900"/>
            </a:br>
            <a:r>
              <a:rPr b="1" lang="en-GB" sz="1900" spc="-1" strike="noStrike" u="sng">
                <a:solidFill>
                  <a:srgbClr val="ffffff"/>
                </a:solidFill>
                <a:uFillTx/>
                <a:latin typeface="Garamond"/>
              </a:rPr>
              <a:t>guy.marechal@memnon.b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6960" y="1025640"/>
            <a:ext cx="9045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374760"/>
                <a:tab algn="l" pos="1434960"/>
                <a:tab algn="r" pos="5661000"/>
                <a:tab algn="r" pos="7831080"/>
                <a:tab algn="l" pos="8658360"/>
                <a:tab algn="l" pos="9620280"/>
                <a:tab algn="l" pos="105822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Garamond"/>
              </a:rPr>
              <a:t>Thank you !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61080" y="515880"/>
            <a:ext cx="4373280" cy="653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9440" y="628560"/>
            <a:ext cx="4044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fr-BE" sz="5600" spc="-1" strike="noStrike">
                <a:solidFill>
                  <a:srgbClr val="ffffff"/>
                </a:solidFill>
                <a:latin typeface="Garamond"/>
              </a:rPr>
              <a:t>The report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400" y="839880"/>
            <a:ext cx="9064800" cy="5865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6080" y="2444760"/>
            <a:ext cx="7986600" cy="1606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37040" y="6289560"/>
            <a:ext cx="7070760" cy="527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9600" y="700200"/>
            <a:ext cx="9839160" cy="22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2600" y="3475080"/>
            <a:ext cx="9887040" cy="2440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137040" y="6527880"/>
            <a:ext cx="7070760" cy="527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360" y="685800"/>
            <a:ext cx="10258560" cy="271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3200" y="3895560"/>
            <a:ext cx="10172880" cy="2867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440" y="652320"/>
            <a:ext cx="10058400" cy="2352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3462480"/>
            <a:ext cx="10105920" cy="3419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4840" y="928800"/>
            <a:ext cx="10029600" cy="211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5120" y="3753000"/>
            <a:ext cx="10049040" cy="269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9160" y="1662120"/>
            <a:ext cx="10201320" cy="3876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15:08:10Z</dcterms:created>
  <dc:creator>Guy Maréchal</dc:creator>
  <dc:description/>
  <cp:keywords/>
  <dc:language>en-US</dc:language>
  <cp:lastModifiedBy>Maréchal Guy</cp:lastModifiedBy>
  <cp:lastPrinted>2002-04-15T14:57:13Z</cp:lastPrinted>
  <dcterms:modified xsi:type="dcterms:W3CDTF">2007-10-24T13:32:04Z</dcterms:modified>
  <cp:revision>757</cp:revision>
  <dc:subject/>
  <dc:title>Présentation AXIS</dc:title>
</cp:coreProperties>
</file>