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CAMERA.WAV" ContentType="audio/x-wav"/>
  <Override PartName="/ppt/media/image16.jpeg" ContentType="image/jpeg"/>
  <Override PartName="/ppt/media/image14.png" ContentType="image/png"/>
  <Override PartName="/ppt/media/image13.png" ContentType="image/png"/>
  <Override PartName="/ppt/media/image39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jpeg" ContentType="image/jpeg"/>
  <Override PartName="/ppt/media/image29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40.jpeg" ContentType="image/jpeg"/>
  <Override PartName="/ppt/media/image1.wmf" ContentType="image/x-wmf"/>
  <Override PartName="/ppt/media/image38.jpeg" ContentType="image/jpeg"/>
  <Override PartName="/ppt/media/image6.png" ContentType="image/png"/>
  <Override PartName="/ppt/media/image36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EE3F-E8FE-4955-9C67-1275E1A9080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It is well known that all objects on the earth are consist of solid, liquid or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ever there is one more condition which is called 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sma is that Atom is ionized to Ion and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Arial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Arial"/>
                <a:ea typeface="MS PGothic"/>
              </a:rPr>
              <a:t>all most of things in the universe are Plasma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Gothic"/>
              </a:rPr>
              <a:t>When some energy pressure like high temperature or high voltage is applied to atom. The energy increased higher than certain leve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Arial"/>
                <a:ea typeface="MS 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Gothic"/>
              </a:rPr>
              <a:t>Electron leave from Ion.(This is called dischar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Gothic"/>
              </a:rPr>
              <a:t>Energy pressure is continuously applied ionization state is k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Gothic"/>
              </a:rPr>
              <a:t>This is called 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Gothic"/>
              </a:rPr>
              <a:t>Plasma generate Ultra Violet L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Arial"/>
                <a:ea typeface="MS Gothic"/>
              </a:rPr>
              <a:t>Plasma also generate some other radiation such as Infrared Ray, different frequencies Electro-magne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Arial"/>
                <a:ea typeface="MS 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sma is used for our house or office light as Fluorescence l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Fluorescence lamp is the glass tube which low pressure gas is sealed with two electr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Arial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Some voltage is supplied between two electrodes  discharge start. Gas is ionized and Ultra violet lay (UV) is genera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UV hits the fluorescence substance and visible light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ever to start  discharge higher voltage is required( start voltage </a:t>
            </a:r>
            <a:r>
              <a:rPr b="0" lang="ja-JP" sz="1200" spc="-1" strike="noStrike">
                <a:solidFill>
                  <a:srgbClr val="ffff00"/>
                </a:solidFill>
                <a:latin typeface="Arial"/>
                <a:ea typeface="MS PGothic"/>
              </a:rPr>
              <a:t>or Pilot voltag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).  After discharge start supply voltage can decline to keep discharg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Arial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Move to Basic plasma display pixe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Arial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ve to AC drive type PD panel structure section.</a:t>
            </a: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 first Data electrodes are mounted on the Rear glass.</a:t>
            </a: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electrics is coated on the Rear glass.</a:t>
            </a: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ibs are formed as colour area divider.</a:t>
            </a: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lour phosphors are formed .</a:t>
            </a: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can and Sustain transparent electrodes are mounted on the front glass.</a:t>
            </a: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electrics is coated on the front glass.</a:t>
            </a: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gO overcoat is applied on the front glass.</a:t>
            </a: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om this basic structure  Re, Green and Blue colour are reproduced.</a:t>
            </a: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pproximately  1.2 millions pixels </a:t>
            </a:r>
            <a:r>
              <a:rPr b="0" lang="ja-JP" sz="1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852 x 3{3 colours} x  480)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are formed between rear and front glasses pl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 glass plate have  3mm dep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 electrodes is located on glass plates, Data electrode is on rear glass and scan and sustain electrodes are on front gla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can and Sustain electrodes are made by transparent materia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ach colour`s area are divided by the Ri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electrics are painted on rear and front glasses.(Overcoat (MgO) is also applied  on the front glas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lour phosphor is applie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w pressure(Approx.. 0.6 Torr) of Xenon and Neon gas is applied into the pixels and sea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R(Infrared Lay) / EMI(Electro-Magnetic interference) filter glass is applied in front of front g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ease see interlace and progressive scanning difference</a:t>
            </a: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lace scanning is used for conventional CRT TV`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display one picture scanning is carried out twice because picture(Frame) is divided to 2 section(Fiel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gressive scanning is used for PDP,  Flicker free TV, LCD and High-definition T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display one picture scanning is carried out 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3851-4AC3-410C-8BD8-0B8843D272A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6E4-9DB2-4728-8797-62332F43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740-94DF-4593-BEA4-74D4A323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275-BB2A-40A4-9A67-E6655A46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6E1-4C5B-472F-A112-5E39F168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EEFC-D7A6-4D37-92B0-5C852700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83A6-1B67-4DBF-B4BA-4F341E9B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1E23-EEB9-45BA-90F9-41830321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B36E-DB34-4025-B7A1-2B754085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A07F-5376-4B30-9815-24D499EB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77560" y="-179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41EC-01E5-46F6-A0C9-93934D8E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A811-4AC2-4005-91A8-B3EC9648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35F-A03D-426D-8568-4937EB82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BC38-636F-44C6-A298-C1EA129F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D915-6AD5-4E2C-BF4E-C36A4CCF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BA07-8899-4F8B-810D-7CD342FA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33E3-8D57-4CEC-975C-1425EBEB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8EA6-71DA-471B-BBD8-3371730C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018-80B1-46B3-A165-FE7FF4EF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AF0-9CE7-4D9B-BD55-CBEDB968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FB8-37A0-47C3-B998-3D124628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7560" y="-179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9EC-1174-4106-BE45-B4688BCB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DAF-8BFD-4A8E-BB3B-BA3B3A5B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E17-492A-4F2F-A8E9-DB1E3E72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F3B-8AD4-40A2-9AB9-1CFDD17C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4880" y="24624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17560" y="24624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58720" y="6681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28800" y="668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360" y="59544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9400" y="13824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0440" y="928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F9B2-70EC-4B62-8296-34BCDEB3582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2F81-A1D1-42E6-B1AA-879B062A7412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pn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540480" y="2259000"/>
          <a:ext cx="2049480" cy="40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0480" y="2259000"/>
                    <a:ext cx="2049480" cy="40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58840" y="693720"/>
            <a:ext cx="6546600" cy="3143160"/>
          </a:xfrm>
          <a:custGeom>
            <a:avLst/>
            <a:gdLst>
              <a:gd name="textAreaLeft" fmla="*/ 1146240 w 6546600"/>
              <a:gd name="textAreaRight" fmla="*/ 5400360 w 6546600"/>
              <a:gd name="textAreaTop" fmla="*/ 426240 h 3143160"/>
              <a:gd name="textAreaBottom" fmla="*/ 3143520 h 31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07" y="0"/>
                </a:lnTo>
                <a:arcTo wR="675" hR="733" stAng="16200000" swAng="5400000"/>
                <a:lnTo>
                  <a:pt x="6482" y="2930"/>
                </a:lnTo>
                <a:lnTo>
                  <a:pt x="15118" y="2930"/>
                </a:lnTo>
                <a:lnTo>
                  <a:pt x="15118" y="733"/>
                </a:lnTo>
                <a:arcTo wR="675" hR="733" stAng="10800000" swAng="5400000"/>
                <a:lnTo>
                  <a:pt x="21600" y="0"/>
                </a:lnTo>
                <a:lnTo>
                  <a:pt x="18900" y="9335"/>
                </a:lnTo>
                <a:lnTo>
                  <a:pt x="21600" y="18670"/>
                </a:lnTo>
                <a:lnTo>
                  <a:pt x="17818" y="18670"/>
                </a:lnTo>
                <a:lnTo>
                  <a:pt x="17818" y="20868"/>
                </a:lnTo>
                <a:arcTo wR="675" hR="733" stAng="0" swAng="5400000"/>
                <a:lnTo>
                  <a:pt x="4457" y="21600"/>
                </a:lnTo>
                <a:arcTo wR="675" hR="733" stAng="5400000" swAng="5400000"/>
                <a:lnTo>
                  <a:pt x="3782" y="18670"/>
                </a:lnTo>
                <a:lnTo>
                  <a:pt x="0" y="18670"/>
                </a:lnTo>
                <a:lnTo>
                  <a:pt x="2700" y="9335"/>
                </a:lnTo>
                <a:close/>
              </a:path>
              <a:path fill="none" w="21600" h="21600">
                <a:moveTo>
                  <a:pt x="6482" y="733"/>
                </a:moveTo>
                <a:arcTo wR="675" hR="733" stAng="0" swAng="5400000"/>
                <a:lnTo>
                  <a:pt x="4457" y="1465"/>
                </a:lnTo>
                <a:arcTo wR="675" hR="733" stAng="16200000" swAng="-5400000"/>
                <a:arcTo wR="675" hR="733" stAng="10800000" swAng="-5400000"/>
                <a:lnTo>
                  <a:pt x="6482" y="2930"/>
                </a:lnTo>
              </a:path>
              <a:path fill="none" w="21600" h="21600">
                <a:moveTo>
                  <a:pt x="15118" y="733"/>
                </a:moveTo>
                <a:arcTo wR="675" hR="733" stAng="10800000" swAng="-5400000"/>
                <a:lnTo>
                  <a:pt x="17143" y="1465"/>
                </a:lnTo>
                <a:arcTo wR="675" hR="733" stAng="16200000" swAng="5400000"/>
                <a:arcTo wR="675" hR="733" stAng="0" swAng="5400000"/>
                <a:lnTo>
                  <a:pt x="15118" y="2930"/>
                </a:lnTo>
              </a:path>
              <a:path fill="none" w="21600" h="21600">
                <a:moveTo>
                  <a:pt x="3782" y="2198"/>
                </a:moveTo>
                <a:lnTo>
                  <a:pt x="3782" y="18670"/>
                </a:lnTo>
              </a:path>
              <a:path fill="none" w="21600" h="21600">
                <a:moveTo>
                  <a:pt x="17818" y="2198"/>
                </a:moveTo>
                <a:lnTo>
                  <a:pt x="17818" y="18670"/>
                </a:lnTo>
              </a:path>
            </a:pathLst>
          </a:cu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21560" y="5164200"/>
            <a:ext cx="3629160" cy="100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00"/>
                </a:solidFill>
                <a:latin typeface="Technical"/>
              </a:rPr>
              <a:t>Christian DUM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00"/>
                </a:solidFill>
                <a:latin typeface="Technical"/>
              </a:rPr>
              <a:t>Zim Technology Consu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00"/>
                </a:solidFill>
                <a:latin typeface="Technical"/>
              </a:rPr>
              <a:t> </a:t>
            </a:r>
            <a:r>
              <a:rPr b="1" lang="fr-BE" sz="2000" spc="-1" strike="noStrike">
                <a:solidFill>
                  <a:srgbClr val="ffff00"/>
                </a:solidFill>
                <a:latin typeface="Symbol"/>
                <a:ea typeface="Symbol"/>
              </a:rPr>
              <a:t></a:t>
            </a:r>
            <a:r>
              <a:rPr b="1" lang="fr-BE" sz="2000" spc="-1" strike="noStrike">
                <a:solidFill>
                  <a:srgbClr val="ffff00"/>
                </a:solidFill>
                <a:latin typeface="Technical"/>
              </a:rPr>
              <a:t> </a:t>
            </a:r>
            <a:r>
              <a:rPr b="1" lang="fr-BE" sz="2000" spc="-1" strike="noStrike">
                <a:solidFill>
                  <a:srgbClr val="ffff00"/>
                </a:solidFill>
                <a:latin typeface="Technical"/>
              </a:rPr>
              <a:t>May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19120" y="1141560"/>
            <a:ext cx="4226040" cy="2654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34960" y="3108240"/>
            <a:ext cx="423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SABlack"/>
              </a:rPr>
              <a:t>Haute Défi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1125360"/>
            <a:ext cx="423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SABlack"/>
              </a:rPr>
              <a:t>Écr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2E6-27C4-40C6-A278-1F433DB851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36240" y="307800"/>
            <a:ext cx="74725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HDTV 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2425680"/>
            <a:ext cx="8064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tests en laboratoire ont permis de montrer 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formats progressifs HD donnent une meilleures qualité d’image que les formats entrelac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Même avec moins de lignes actives : 720 vs 10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51560" y="247680"/>
            <a:ext cx="1271880" cy="10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009-7360-47DD-A8B9-B632391184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36240" y="307800"/>
            <a:ext cx="74725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HDTV 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3840" y="1600200"/>
            <a:ext cx="81788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Rais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 désentrelacement dans les plasmas et LCD (progressif) est diffic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 codage en progressif est 30% plus effic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mouvements sont mieux représentés en progressif.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(Meilleurs pour le s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artefacts de l’entrelacé ne disparaissent ja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351560" y="247680"/>
            <a:ext cx="1271880" cy="10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0BC-C1AA-4734-B6FC-99DA7BDD57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20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Et les affichages HD 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905200" y="4005360"/>
            <a:ext cx="3333600" cy="1724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462040" y="206280"/>
            <a:ext cx="42181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22440" y="1600200"/>
            <a:ext cx="789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L’arrivée de la HDTV va nous obliger à remplacer notre ancien télévise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Il sera du type HD Ready ou Full HD.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32666" t="0" r="44675" b="-1643"/>
          <a:stretch/>
        </p:blipFill>
        <p:spPr>
          <a:xfrm>
            <a:off x="1816200" y="3665520"/>
            <a:ext cx="1282680" cy="23162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77640" y="382680"/>
            <a:ext cx="58863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99"/>
                </a:solidFill>
                <a:latin typeface="Arial"/>
              </a:rPr>
              <a:t>Les téléviseurs HD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18098" t="14921" r="12976" b="30027"/>
          <a:stretch/>
        </p:blipFill>
        <p:spPr>
          <a:xfrm>
            <a:off x="6586560" y="0"/>
            <a:ext cx="2158920" cy="1606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705640" y="4014720"/>
            <a:ext cx="12380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727-D2F2-4BC6-90B7-1A751158B9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77640" y="382680"/>
            <a:ext cx="58863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99"/>
                </a:solidFill>
                <a:latin typeface="Arial"/>
              </a:rPr>
              <a:t>Les téléviseurs HD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3400" y="1654200"/>
            <a:ext cx="76788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l est évident que le tube cathodique classique est en voie de dispar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us les nouveaux moniteurs, TV… sont  basés sur les technologies LCD ou Plas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remarque que beaucoup d’unités d’affichage possèdent des résolutions basées sur les normes ordinateurs (VGA, SVGA, XGA, UXGA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n nouvel interface fait son apparition le HDMI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High Definition Multimedia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18098" t="14921" r="12976" b="30027"/>
          <a:stretch/>
        </p:blipFill>
        <p:spPr>
          <a:xfrm>
            <a:off x="6586560" y="0"/>
            <a:ext cx="2158920" cy="160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174-5EF5-42AC-A84F-8DD2597A31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56610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Nouveaux téléviseurs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2600" y="1442880"/>
            <a:ext cx="67770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400" spc="-1" strike="noStrike">
                <a:solidFill>
                  <a:srgbClr val="ffff99"/>
                </a:solidFill>
                <a:latin typeface="Arial Black"/>
              </a:rPr>
              <a:t>HD READY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05000" y="2793960"/>
            <a:ext cx="6532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Nombre de pixels moyen : 1366 x 7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Accepte les composantes HD en ent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Possède une entrée HD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Nbre de pixels min = 10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Nbre de lignes min = 7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Protection HDCP (D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48240" y="4559400"/>
            <a:ext cx="152640" cy="774720"/>
          </a:xfrm>
          <a:custGeom>
            <a:avLst/>
            <a:gdLst>
              <a:gd name="textAreaLeft" fmla="*/ 0 w 152640"/>
              <a:gd name="textAreaRight" fmla="*/ 55080 w 152640"/>
              <a:gd name="textAreaTop" fmla="*/ 20160 h 774720"/>
              <a:gd name="textAreaBottom" fmla="*/ 754560 h 7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 rot="223800">
            <a:off x="7090200" y="2780280"/>
            <a:ext cx="1714680" cy="2359080"/>
          </a:xfrm>
          <a:custGeom>
            <a:avLst/>
            <a:gdLst>
              <a:gd name="textAreaLeft" fmla="*/ 229680 w 1714680"/>
              <a:gd name="textAreaRight" fmla="*/ 1485000 w 1714680"/>
              <a:gd name="textAreaTop" fmla="*/ 443520 h 2359080"/>
              <a:gd name="textAreaBottom" fmla="*/ 1554120 h 235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24" stAng="-5400000" swAng="-5400000"/>
                <a:lnTo>
                  <a:pt x="0" y="10168"/>
                </a:lnTo>
                <a:arcTo wR="21600" hR="8124" stAng="10800000" swAng="-3258155"/>
                <a:lnTo>
                  <a:pt x="15965" y="21319"/>
                </a:lnTo>
                <a:lnTo>
                  <a:pt x="21600" y="17270"/>
                </a:lnTo>
                <a:lnTo>
                  <a:pt x="15965" y="12659"/>
                </a:lnTo>
                <a:lnTo>
                  <a:pt x="15965" y="15967"/>
                </a:lnTo>
                <a:arcTo wR="21600" hR="8124" stAng="7541845" swAng="3094320"/>
                <a:lnTo>
                  <a:pt x="172" y="9146"/>
                </a:lnTo>
                <a:arcTo wR="21600" hR="8124" stAng="-10636165" swAng="5236165"/>
                <a:close/>
              </a:path>
              <a:path fill="darkenLess" w="21600" h="21600">
                <a:moveTo>
                  <a:pt x="21600" y="0"/>
                </a:moveTo>
                <a:arcTo wR="21600" hR="8124" stAng="-5400000" swAng="-5400000"/>
                <a:lnTo>
                  <a:pt x="0" y="8124"/>
                </a:lnTo>
                <a:arcTo wR="21600" hR="8124" stAng="10800000" swAng="-163835"/>
                <a:lnTo>
                  <a:pt x="172" y="9146"/>
                </a:lnTo>
                <a:arcTo wR="21600" hR="8124" stAng="-10636165" swAng="52361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42080" y="473724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16: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32666" t="0" r="44675" b="-1643"/>
          <a:stretch/>
        </p:blipFill>
        <p:spPr>
          <a:xfrm>
            <a:off x="7454880" y="198360"/>
            <a:ext cx="1282680" cy="231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05F-82CC-40C0-8A15-865FDBDDCF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56610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Nouveaux téléviseurs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2600" y="1442880"/>
            <a:ext cx="67770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400" spc="-1" strike="noStrike">
                <a:solidFill>
                  <a:srgbClr val="ffff99"/>
                </a:solidFill>
                <a:latin typeface="Arial Black"/>
              </a:rPr>
              <a:t>HD READ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32666" t="0" r="44675" b="-1643"/>
          <a:stretch/>
        </p:blipFill>
        <p:spPr>
          <a:xfrm>
            <a:off x="7454880" y="198360"/>
            <a:ext cx="1282680" cy="2316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2600" y="2527200"/>
            <a:ext cx="803880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On estime qu’en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115 millions de téléviseurs HD Re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seront en service e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Aujourd’hui mondialement = 50 millions</a:t>
            </a:r>
            <a:br>
              <a:rPr sz="3200"/>
            </a:b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(58 % USA, 20 % Japon, 22 % reste du mon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CD6-AE55-4D59-BE66-F689A52F09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20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Péritel du 21° sièc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38400" y="297000"/>
            <a:ext cx="3333600" cy="17240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31800" y="3718080"/>
            <a:ext cx="814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 HDMI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Definition Media Interfac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ou interface média haute définition) a été mis au point par le HDMI Working Group (Sony, Hitachi, Silicon Image, Philips, Toshiba) et a fait son apparition à la fin de 2003.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 n'est pas un standard, mais plutôt l'agrégation et la standardisation de plusieurs technologies existantes.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1944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056200" y="357120"/>
            <a:ext cx="3792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20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Interface Numér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38400" y="297000"/>
            <a:ext cx="3333600" cy="1724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98600" y="3429000"/>
            <a:ext cx="8146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nde passante de 5Gb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eur 19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e :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déo HD non compressée et audio multi-canaux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mat de données intelligentes de commandes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stion des droits (HDCP)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talement compatible D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1944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hdmi_dvi" descr=""/>
          <p:cNvPicPr/>
          <p:nvPr/>
        </p:nvPicPr>
        <p:blipFill>
          <a:blip r:embed="rId2"/>
          <a:stretch/>
        </p:blipFill>
        <p:spPr>
          <a:xfrm>
            <a:off x="5560920" y="297000"/>
            <a:ext cx="26290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56610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HDCP 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32666" t="0" r="44675" b="54648"/>
          <a:stretch/>
        </p:blipFill>
        <p:spPr>
          <a:xfrm>
            <a:off x="7454880" y="198360"/>
            <a:ext cx="1282680" cy="1033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082520" y="1255680"/>
            <a:ext cx="6978960" cy="49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46F-4168-4ED4-8189-DE82E812424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676520"/>
            <a:ext cx="75438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Le problème majeur rencontré par la TV STANDARD est la </a:t>
            </a: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résolution</a:t>
            </a: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En effet, celle-ci est déterminée par le nombre de </a:t>
            </a:r>
            <a:r>
              <a:rPr b="1" lang="fr-BE" sz="2000" spc="-1" strike="noStrike">
                <a:solidFill>
                  <a:srgbClr val="ff3300"/>
                </a:solidFill>
                <a:latin typeface="Times New Roman"/>
              </a:rPr>
              <a:t>pixels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sur l’écr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Nos téléviseurs affichent 625 (576 actives) lignes verticalement et ont une bande passante théorique de 5.5 Mhz ( en pratique 3.5 à 4 Mhz) et tout cela en balayage </a:t>
            </a:r>
            <a:r>
              <a:rPr b="1" lang="fr-BE" sz="2000" spc="-1" strike="noStrike" u="sng">
                <a:solidFill>
                  <a:srgbClr val="ffffff"/>
                </a:solidFill>
                <a:uFillTx/>
                <a:latin typeface="Times New Roman"/>
              </a:rPr>
              <a:t>entrelacé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Le monde des ordinateurs nous a habitué à une image de meilleure résolution car si au point de départ (VGA) la résolution était de 640x480 (= NTSC 525 lignes), on est très vite passé au SVGA et XGA avec des résolutions courantes de 800x600, </a:t>
            </a:r>
            <a:r>
              <a:rPr b="0" lang="fr-BE" sz="2000" spc="-1" strike="noStrike">
                <a:solidFill>
                  <a:srgbClr val="333399"/>
                </a:solidFill>
                <a:latin typeface="Times New Roman"/>
              </a:rPr>
              <a:t>1024x768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, 1280x960, 1280x1024, </a:t>
            </a:r>
            <a:r>
              <a:rPr b="0" lang="fr-BE" sz="2000" spc="-1" strike="noStrike">
                <a:solidFill>
                  <a:srgbClr val="333399"/>
                </a:solidFill>
                <a:latin typeface="Times New Roman"/>
              </a:rPr>
              <a:t>1400x1050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….et en </a:t>
            </a:r>
            <a:r>
              <a:rPr b="1" lang="fr-BE" sz="2000" spc="-1" strike="noStrike" u="sng">
                <a:solidFill>
                  <a:srgbClr val="000000"/>
                </a:solidFill>
                <a:uFillTx/>
                <a:latin typeface="Times New Roman"/>
              </a:rPr>
              <a:t>balayage progress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7560" y="-179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SDTV.      Problème 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539-5911-4032-9652-A165538682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56610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HDCP 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32666" t="0" r="44675" b="54648"/>
          <a:stretch/>
        </p:blipFill>
        <p:spPr>
          <a:xfrm>
            <a:off x="7454880" y="198360"/>
            <a:ext cx="1282680" cy="1033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4360" y="1455840"/>
            <a:ext cx="8315280" cy="450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AF1-6E4D-4FF2-AD72-1D55194461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208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99"/>
                </a:solidFill>
                <a:latin typeface="Arial Black"/>
              </a:rPr>
              <a:t>Plasma ou LCD ou ??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rcRect l="0" t="15499" r="0" b="3730"/>
          <a:stretch/>
        </p:blipFill>
        <p:spPr>
          <a:xfrm>
            <a:off x="1433520" y="485640"/>
            <a:ext cx="7351560" cy="55342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54120" y="417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99"/>
                </a:solidFill>
                <a:latin typeface="Arial Black"/>
              </a:rPr>
              <a:t>Technologie Plasm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473120"/>
            <a:ext cx="8305920" cy="228600"/>
          </a:xfrm>
          <a:prstGeom prst="leftRightArrow">
            <a:avLst>
              <a:gd name="adj1" fmla="val 50000"/>
              <a:gd name="adj2" fmla="val 723313"/>
            </a:avLst>
          </a:prstGeom>
          <a:solidFill>
            <a:srgbClr val="99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1080" y="2019960"/>
            <a:ext cx="1443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ol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86240" y="2019960"/>
            <a:ext cx="1442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6666ff"/>
                </a:solidFill>
                <a:latin typeface="Arial"/>
              </a:rPr>
              <a:t>Liq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15720" y="2019960"/>
            <a:ext cx="12488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26840" y="2019960"/>
            <a:ext cx="1425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3225960"/>
            <a:ext cx="304920" cy="30456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3530520"/>
            <a:ext cx="30492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3530520"/>
            <a:ext cx="30492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225960"/>
            <a:ext cx="304920" cy="30456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3225960"/>
            <a:ext cx="304560" cy="30456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3530520"/>
            <a:ext cx="30456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835440"/>
            <a:ext cx="30492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4140360"/>
            <a:ext cx="304920" cy="30456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4140360"/>
            <a:ext cx="304920" cy="30456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3835440"/>
            <a:ext cx="30492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3835440"/>
            <a:ext cx="30456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4140360"/>
            <a:ext cx="304560" cy="30456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4444920"/>
            <a:ext cx="30492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4749840"/>
            <a:ext cx="30492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4749840"/>
            <a:ext cx="30492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4444920"/>
            <a:ext cx="30492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4444920"/>
            <a:ext cx="30456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4749840"/>
            <a:ext cx="30456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3225960"/>
            <a:ext cx="304920" cy="30456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3530520"/>
            <a:ext cx="30492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835440"/>
            <a:ext cx="30492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140360"/>
            <a:ext cx="304920" cy="30456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4444920"/>
            <a:ext cx="30492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749840"/>
            <a:ext cx="304920" cy="30492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3225960"/>
            <a:ext cx="304560" cy="3045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3683160"/>
            <a:ext cx="304920" cy="3045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3606840"/>
            <a:ext cx="304560" cy="3049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3301920"/>
            <a:ext cx="304920" cy="3049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3225960"/>
            <a:ext cx="304920" cy="3045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3987720"/>
            <a:ext cx="304560" cy="3049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4444920"/>
            <a:ext cx="304920" cy="3049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4368960"/>
            <a:ext cx="304560" cy="3045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4064040"/>
            <a:ext cx="304920" cy="3049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3606840"/>
            <a:ext cx="304920" cy="3049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3987720"/>
            <a:ext cx="304920" cy="3049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4749840"/>
            <a:ext cx="304560" cy="3049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4826160"/>
            <a:ext cx="304920" cy="3045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4368960"/>
            <a:ext cx="304920" cy="3045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4749840"/>
            <a:ext cx="304920" cy="3049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809880" y="4673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895480" y="50547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666520" y="3378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352320" y="314928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38280" y="4521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5000" y="345384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3378240"/>
            <a:ext cx="457200" cy="457200"/>
          </a:xfrm>
          <a:prstGeom prst="donut">
            <a:avLst>
              <a:gd name="adj" fmla="val 25000"/>
            </a:avLst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375840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23000" y="3676680"/>
            <a:ext cx="496800" cy="474480"/>
          </a:xfrm>
          <a:prstGeom prst="donut">
            <a:avLst>
              <a:gd name="adj" fmla="val 25000"/>
            </a:avLst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880" y="4063320"/>
            <a:ext cx="5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987720"/>
            <a:ext cx="457200" cy="457200"/>
          </a:xfrm>
          <a:prstGeom prst="donut">
            <a:avLst>
              <a:gd name="adj" fmla="val 25000"/>
            </a:avLst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0800" y="3301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4120" y="3225960"/>
            <a:ext cx="457200" cy="457200"/>
          </a:xfrm>
          <a:prstGeom prst="donut">
            <a:avLst>
              <a:gd name="adj" fmla="val 25000"/>
            </a:avLst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760" y="4825440"/>
            <a:ext cx="5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4749840"/>
            <a:ext cx="457200" cy="457200"/>
          </a:xfrm>
          <a:prstGeom prst="donut">
            <a:avLst>
              <a:gd name="adj" fmla="val 25000"/>
            </a:avLst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01320" y="47491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80000" y="4673520"/>
            <a:ext cx="457200" cy="457200"/>
          </a:xfrm>
          <a:prstGeom prst="donut">
            <a:avLst>
              <a:gd name="adj" fmla="val 25000"/>
            </a:avLst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30733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2996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67480" y="383544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37584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924680" y="46735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8720" y="45968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9600" y="35305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53280" y="34538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314840" y="3987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67480" y="32259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368316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7924680" y="429264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01000" y="40640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315200" y="4520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077320" y="314928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229600" y="46731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21600" y="56631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t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5740560"/>
            <a:ext cx="304920" cy="30456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5740560"/>
            <a:ext cx="304560" cy="3045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54960" y="56631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t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7280" y="5144760"/>
            <a:ext cx="1447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Ion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Elec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13120" y="11682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47840" y="116748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3120" y="120528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B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9720" y="381600"/>
            <a:ext cx="30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sm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4B9-A262-4479-B50B-494A5762D10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9720" y="381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2946240"/>
            <a:ext cx="1828800" cy="1756080"/>
          </a:xfrm>
          <a:prstGeom prst="donut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62480" y="363132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06800" y="828720"/>
            <a:ext cx="652680" cy="674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30480" y="959400"/>
            <a:ext cx="78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53200" y="2719440"/>
            <a:ext cx="652320" cy="674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95960" y="285012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300560" y="1863360"/>
            <a:ext cx="735120" cy="46044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3499920" y="1864800"/>
            <a:ext cx="746280" cy="47484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341960" y="2320560"/>
            <a:ext cx="601560" cy="2556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59080" y="2871720"/>
            <a:ext cx="652680" cy="636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62320" y="297864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489040"/>
            <a:ext cx="3240" cy="2702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2584440"/>
            <a:ext cx="3240" cy="2567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2946240"/>
            <a:ext cx="914400" cy="14860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71520 h 1486080"/>
              <a:gd name="textAreaBottom" fmla="*/ 1114560 h 1486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162920" y="3003480"/>
            <a:ext cx="914400" cy="14860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71520 h 1486080"/>
              <a:gd name="textAreaBottom" fmla="*/ 1114560 h 1486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11720" y="4742280"/>
            <a:ext cx="2727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fférence de potent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13000" y="2813040"/>
            <a:ext cx="762120" cy="7430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2413080"/>
            <a:ext cx="2743200" cy="2819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101600">
            <a:off x="3860280" y="1258560"/>
            <a:ext cx="565200" cy="1523880"/>
          </a:xfrm>
          <a:prstGeom prst="uturnArrow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71800" y="172944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57A-5638-4981-AE1E-2FFA77028546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195720" y="1295280"/>
            <a:ext cx="3886200" cy="1143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425400" y="1600200"/>
            <a:ext cx="324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433600" y="190512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3320" y="190512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400800" y="9144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495320" y="1981080"/>
            <a:ext cx="452520" cy="304920"/>
          </a:xfrm>
          <a:prstGeom prst="line">
            <a:avLst/>
          </a:prstGeom>
          <a:ln w="9360">
            <a:solidFill>
              <a:srgbClr val="cc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33600" y="1905120"/>
            <a:ext cx="180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5000" y="31240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1320" y="320040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3600" y="3276720"/>
            <a:ext cx="1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57280" y="3276720"/>
            <a:ext cx="152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153280" y="190512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53280" y="2590920"/>
            <a:ext cx="18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24680" y="31240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01000" y="32004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27672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4495680" y="1447920"/>
            <a:ext cx="457200" cy="380880"/>
          </a:xfrm>
          <a:prstGeom prst="line">
            <a:avLst/>
          </a:prstGeom>
          <a:ln w="9360">
            <a:solidFill>
              <a:srgbClr val="cc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85840" y="68544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Gaz basse 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26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57913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352680" y="4800600"/>
            <a:ext cx="304920" cy="99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657600" y="4647960"/>
            <a:ext cx="7632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733920" y="4572000"/>
            <a:ext cx="152280" cy="76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4572000"/>
            <a:ext cx="76320" cy="76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4648320"/>
            <a:ext cx="75960" cy="304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4952880"/>
            <a:ext cx="76320" cy="152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14800" y="5105520"/>
            <a:ext cx="152280" cy="75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5181480"/>
            <a:ext cx="1905120" cy="0"/>
          </a:xfrm>
          <a:prstGeom prst="line">
            <a:avLst/>
          </a:prstGeom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172200" y="5028840"/>
            <a:ext cx="228600" cy="15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048120" y="4876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92720" y="4722480"/>
            <a:ext cx="4852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96252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4110480"/>
            <a:ext cx="3021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Décharge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Tension de d’amorç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37280" y="579024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62720" y="6019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963600" y="5486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08840" y="54957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16320" y="53334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ube s’illu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0280" y="2362320"/>
            <a:ext cx="3200400" cy="75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0280" y="1295280"/>
            <a:ext cx="3200400" cy="76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924680" y="21337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36200" y="20566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3680" y="14468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105520" y="1447920"/>
            <a:ext cx="533160" cy="380880"/>
          </a:xfrm>
          <a:prstGeom prst="line">
            <a:avLst/>
          </a:prstGeom>
          <a:ln w="12600">
            <a:solidFill>
              <a:srgbClr val="cc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1569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U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05520" y="1981080"/>
            <a:ext cx="533160" cy="304920"/>
          </a:xfrm>
          <a:prstGeom prst="line">
            <a:avLst/>
          </a:prstGeom>
          <a:ln w="9360">
            <a:solidFill>
              <a:srgbClr val="cc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419720" y="647640"/>
            <a:ext cx="1440" cy="53352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695920" y="666360"/>
            <a:ext cx="1440" cy="51444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2514600"/>
            <a:ext cx="1440" cy="66672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10320" y="2514600"/>
            <a:ext cx="1440" cy="64764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16240" y="31233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Lumière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85920" y="280440"/>
            <a:ext cx="43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mpe Fluoresc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73284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émarrer la dé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857640" y="1600200"/>
            <a:ext cx="324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92432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67480" y="17524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15200" y="175248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0120" y="1752480"/>
            <a:ext cx="30456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5680" y="1261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é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39200" y="1628640"/>
            <a:ext cx="1133280" cy="1209960"/>
          </a:xfrm>
          <a:custGeom>
            <a:avLst/>
            <a:gdLst/>
            <a:ahLst/>
            <a:rect l="l" t="t" r="r" b="b"/>
            <a:pathLst>
              <a:path w="714" h="762">
                <a:moveTo>
                  <a:pt x="684" y="762"/>
                </a:moveTo>
                <a:cubicBezTo>
                  <a:pt x="699" y="507"/>
                  <a:pt x="714" y="252"/>
                  <a:pt x="600" y="126"/>
                </a:cubicBezTo>
                <a:cubicBezTo>
                  <a:pt x="486" y="0"/>
                  <a:pt x="100" y="26"/>
                  <a:pt x="0" y="6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F7C-C4E6-4D13-9797-B573848A0947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85800" y="25138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es Pixels du Pl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35440" y="23400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tructure du Pan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777960" y="1488960"/>
            <a:ext cx="7586640" cy="461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4C4-6043-47D2-A5C2-2515A1FFF1A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7F2C-335E-4F17-A620-B0D678A19679}" type="slidenum">
              <a:rPr b="0" lang="fr-FR" sz="1400" spc="-1" strike="noStrike">
                <a:solidFill>
                  <a:srgbClr val="0033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2133720"/>
            <a:ext cx="1676160" cy="3124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3049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Pix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61480" y="13111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404200" y="14256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1143000"/>
            <a:ext cx="175248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19920" y="1143000"/>
            <a:ext cx="1752480" cy="54100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1981080"/>
            <a:ext cx="304920" cy="35053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29000" y="3124080"/>
            <a:ext cx="152280" cy="1143000"/>
          </a:xfrm>
          <a:prstGeom prst="rect">
            <a:avLst/>
          </a:prstGeom>
          <a:solidFill>
            <a:srgbClr val="0066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1143000"/>
            <a:ext cx="304920" cy="5410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2666880"/>
            <a:ext cx="152640" cy="685800"/>
          </a:xfrm>
          <a:prstGeom prst="rect">
            <a:avLst/>
          </a:prstGeom>
          <a:solidFill>
            <a:srgbClr val="0066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4267080"/>
            <a:ext cx="152640" cy="6098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5200" y="1143000"/>
            <a:ext cx="1370160" cy="53341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1455120"/>
            <a:ext cx="2263680" cy="5205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é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5500080"/>
            <a:ext cx="2286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é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38680" y="1143000"/>
            <a:ext cx="76320" cy="5410080"/>
          </a:xfrm>
          <a:prstGeom prst="rect">
            <a:avLst/>
          </a:prstGeom>
          <a:solidFill>
            <a:srgbClr val="f8f8f8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1981080"/>
            <a:ext cx="1904760" cy="3505320"/>
          </a:xfrm>
          <a:custGeom>
            <a:avLst/>
            <a:gdLst/>
            <a:ahLst/>
            <a:rect l="l" t="t" r="r" b="b"/>
            <a:pathLst>
              <a:path w="1200" h="2208">
                <a:moveTo>
                  <a:pt x="1200" y="0"/>
                </a:moveTo>
                <a:lnTo>
                  <a:pt x="0" y="0"/>
                </a:lnTo>
                <a:lnTo>
                  <a:pt x="0" y="2208"/>
                </a:lnTo>
                <a:lnTo>
                  <a:pt x="1200" y="2208"/>
                </a:lnTo>
                <a:lnTo>
                  <a:pt x="1200" y="2064"/>
                </a:lnTo>
                <a:lnTo>
                  <a:pt x="144" y="2064"/>
                </a:lnTo>
                <a:lnTo>
                  <a:pt x="144" y="96"/>
                </a:lnTo>
                <a:lnTo>
                  <a:pt x="1200" y="96"/>
                </a:lnTo>
                <a:lnTo>
                  <a:pt x="1200" y="0"/>
                </a:lnTo>
                <a:close/>
              </a:path>
            </a:pathLst>
          </a:custGeom>
          <a:solidFill>
            <a:srgbClr val="00ff00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102440" y="194976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Electrode</a:t>
            </a:r>
            <a:br>
              <a:rPr sz="2400"/>
            </a:b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balay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7640" y="370224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Electrode</a:t>
            </a:r>
            <a:br>
              <a:rPr sz="2400"/>
            </a:b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maint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6019920"/>
            <a:ext cx="3049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1143000"/>
            <a:ext cx="30492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733920" y="6019920"/>
            <a:ext cx="190476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288"/>
                </a:moveTo>
                <a:lnTo>
                  <a:pt x="0" y="0"/>
                </a:lnTo>
                <a:lnTo>
                  <a:pt x="1200" y="0"/>
                </a:lnTo>
                <a:lnTo>
                  <a:pt x="1200" y="192"/>
                </a:lnTo>
                <a:lnTo>
                  <a:pt x="144" y="192"/>
                </a:lnTo>
                <a:lnTo>
                  <a:pt x="144" y="288"/>
                </a:lnTo>
                <a:lnTo>
                  <a:pt x="0" y="288"/>
                </a:lnTo>
                <a:close/>
              </a:path>
            </a:pathLst>
          </a:custGeom>
          <a:solidFill>
            <a:srgbClr val="0066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733920" y="1141920"/>
            <a:ext cx="1904760" cy="30492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288"/>
                </a:moveTo>
                <a:lnTo>
                  <a:pt x="0" y="0"/>
                </a:lnTo>
                <a:lnTo>
                  <a:pt x="1200" y="0"/>
                </a:lnTo>
                <a:lnTo>
                  <a:pt x="1200" y="192"/>
                </a:lnTo>
                <a:lnTo>
                  <a:pt x="144" y="192"/>
                </a:lnTo>
                <a:lnTo>
                  <a:pt x="144" y="288"/>
                </a:lnTo>
                <a:lnTo>
                  <a:pt x="0" y="288"/>
                </a:lnTo>
                <a:close/>
              </a:path>
            </a:pathLst>
          </a:custGeom>
          <a:solidFill>
            <a:srgbClr val="ff0066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46640" y="2873160"/>
            <a:ext cx="1060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9760" y="2540880"/>
            <a:ext cx="1467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4160" y="156852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Phosphore de</a:t>
            </a:r>
            <a:br>
              <a:rPr sz="2400"/>
            </a:b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cou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90920" y="2133720"/>
            <a:ext cx="1371600" cy="457200"/>
          </a:xfrm>
          <a:prstGeom prst="line">
            <a:avLst/>
          </a:prstGeom>
          <a:ln w="126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62320" y="3124080"/>
            <a:ext cx="1143000" cy="457200"/>
          </a:xfrm>
          <a:prstGeom prst="line">
            <a:avLst/>
          </a:prstGeom>
          <a:ln w="126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4876920"/>
            <a:ext cx="1600200" cy="380880"/>
          </a:xfrm>
          <a:prstGeom prst="line">
            <a:avLst/>
          </a:prstGeom>
          <a:ln w="126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7120" y="45709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ielec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79000" y="5683320"/>
            <a:ext cx="10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Vitre</a:t>
            </a:r>
            <a:br>
              <a:rPr sz="2400"/>
            </a:b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arr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019920" y="2438280"/>
            <a:ext cx="761760" cy="457200"/>
          </a:xfrm>
          <a:prstGeom prst="line">
            <a:avLst/>
          </a:prstGeom>
          <a:ln w="126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6019560" y="4191120"/>
            <a:ext cx="609480" cy="304560"/>
          </a:xfrm>
          <a:prstGeom prst="line">
            <a:avLst/>
          </a:prstGeom>
          <a:ln w="126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557040" y="568332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Vitre</a:t>
            </a:r>
            <a:br>
              <a:rPr sz="2400"/>
            </a:b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a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2320" y="5254200"/>
            <a:ext cx="1311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as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lumi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665320" y="684360"/>
            <a:ext cx="762120" cy="457200"/>
          </a:xfrm>
          <a:prstGeom prst="line">
            <a:avLst/>
          </a:prstGeom>
          <a:ln w="126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41560" y="4053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cc"/>
                </a:solidFill>
                <a:latin typeface="Arial"/>
              </a:rPr>
              <a:t>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371600" y="339840"/>
            <a:ext cx="70866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Reproduction naturelle des coul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rcRect l="0" t="7614" r="0" b="0"/>
          <a:stretch/>
        </p:blipFill>
        <p:spPr>
          <a:xfrm>
            <a:off x="0" y="1305000"/>
            <a:ext cx="9144000" cy="4736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882720" y="4235400"/>
            <a:ext cx="1289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E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48280" y="4746600"/>
            <a:ext cx="1646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Plasma clas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36040" y="4181400"/>
            <a:ext cx="147276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Plasma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61960" y="1905120"/>
            <a:ext cx="2268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Expan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Natural Col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7000920" y="5519880"/>
            <a:ext cx="1798560" cy="45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318-3FB6-4126-8797-B9AAC59CC18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6765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1752480"/>
            <a:ext cx="3771720" cy="3610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495680" y="1752480"/>
            <a:ext cx="3714840" cy="360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35240" y="5443560"/>
            <a:ext cx="25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Image ord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64200" y="5427720"/>
            <a:ext cx="25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Image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0720" y="206280"/>
            <a:ext cx="5870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SDTV.      Problème 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14440" y="5905440"/>
            <a:ext cx="42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 Black"/>
              </a:rPr>
              <a:t>RÉSOLUTION DE L’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473-9E4F-4127-A041-27C2681A03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77560" y="277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MS PGothic"/>
              </a:rPr>
              <a:t>Structure cellule assymétriqu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36600" y="1636560"/>
            <a:ext cx="762120" cy="1792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98720" y="1636560"/>
            <a:ext cx="762120" cy="179244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60840" y="1636560"/>
            <a:ext cx="761760" cy="17924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50200" y="114300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ventione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04040" y="1636560"/>
            <a:ext cx="685800" cy="1792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89840" y="1636560"/>
            <a:ext cx="685800" cy="179244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75640" y="1636560"/>
            <a:ext cx="914400" cy="17924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80320" y="111600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llule assymétr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5422800">
            <a:off x="2263680" y="240012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94880" y="36972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08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5422800">
            <a:off x="6546600" y="24364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25520" y="3720960"/>
            <a:ext cx="16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08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nas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9880" y="4253040"/>
            <a:ext cx="893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oduction plus pure du blanc evec une températur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de couleur de 11.0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uminosité maximum accrue (~ 30%) par l‘utilisation de nouveaux phospores et nouvelle structure des cloisons (rib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pport de contraste de 550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49400" y="1635120"/>
            <a:ext cx="122400" cy="1781280"/>
          </a:xfrm>
          <a:prstGeom prst="rect">
            <a:avLst/>
          </a:prstGeom>
          <a:solidFill>
            <a:srgbClr val="4d4d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67520" y="1644480"/>
            <a:ext cx="77760" cy="1781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24120" y="1636560"/>
            <a:ext cx="122400" cy="1781280"/>
          </a:xfrm>
          <a:prstGeom prst="rect">
            <a:avLst/>
          </a:prstGeom>
          <a:solidFill>
            <a:srgbClr val="4d4d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0360" y="1638360"/>
            <a:ext cx="78120" cy="1781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81160" y="1635120"/>
            <a:ext cx="122040" cy="1781280"/>
          </a:xfrm>
          <a:prstGeom prst="rect">
            <a:avLst/>
          </a:prstGeom>
          <a:solidFill>
            <a:srgbClr val="4d4d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60680" y="1635120"/>
            <a:ext cx="122400" cy="1781280"/>
          </a:xfrm>
          <a:prstGeom prst="rect">
            <a:avLst/>
          </a:prstGeom>
          <a:solidFill>
            <a:srgbClr val="4d4d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456160" y="1638360"/>
            <a:ext cx="77760" cy="1781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754760" y="1644480"/>
            <a:ext cx="78120" cy="1781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6ED-FEC3-47F4-9B53-3A7CC4DED43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Technologie Pione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84120" y="1590840"/>
            <a:ext cx="8537760" cy="395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D9C-7281-4E4C-8A19-6C7E6BE157A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Fabricants de panneaux Plasma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963960" y="2054160"/>
            <a:ext cx="4962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 nombre de fabricants de panneaux Plasma est très lim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jit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nas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ioneer (N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m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546120" y="1413000"/>
            <a:ext cx="3233880" cy="49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CD3-2523-4843-BE47-9727C23DAB4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Améliorations des Panneaux Plasma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51360" y="1600200"/>
            <a:ext cx="4962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Des filtres noirs sont ajoutés pour diminuer les effets de la lumière extérieure ainsi que les refl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Adressage plus fin des pixels et meilleurs contrôles des couleurs surtout dans les dalles Full-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1985760" cy="13287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rcRect l="0" t="1631" r="0" b="0"/>
          <a:stretch/>
        </p:blipFill>
        <p:spPr>
          <a:xfrm>
            <a:off x="673200" y="2921040"/>
            <a:ext cx="2603520" cy="1541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68280" y="4432320"/>
            <a:ext cx="3206880" cy="19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EA7-390E-471B-95DE-660143E3DDE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56610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Resolution des Plasmas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029120" y="1006560"/>
            <a:ext cx="4363920" cy="54212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670800" y="376200"/>
            <a:ext cx="1798560" cy="4572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rcRect l="0" t="0" r="59474" b="0"/>
          <a:stretch/>
        </p:blipFill>
        <p:spPr>
          <a:xfrm>
            <a:off x="1090440" y="1362240"/>
            <a:ext cx="2025720" cy="206532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rcRect l="59726" t="0" r="1080" b="0"/>
          <a:stretch/>
        </p:blipFill>
        <p:spPr>
          <a:xfrm>
            <a:off x="1149480" y="3894120"/>
            <a:ext cx="1958760" cy="206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BF6-8AEE-4626-8DF3-531B6AAB41B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7920" y="196920"/>
            <a:ext cx="75405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Résolution des Ecrans Ordinateu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58680" y="1254240"/>
            <a:ext cx="722664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MD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Monochrome Display Adap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C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Color Display Adapter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4 couleurs 320x2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E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Enhanced Graphic Adapter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640x350, 16 cou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V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Video Graphics Array </a:t>
            </a:r>
            <a:br>
              <a:rPr sz="1800"/>
            </a:b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640x480 = NTSC , 16 couleurs ou 320x200 en 25 cou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X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Extended Graphics Array </a:t>
            </a:r>
            <a:br>
              <a:rPr sz="1800"/>
            </a:b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800x600 16 m couleurs ou 1024x768 en 65.536 cou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SV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Super Video Graphics Array </a:t>
            </a:r>
            <a:br>
              <a:rPr sz="1800"/>
            </a:b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640x200, 640x350, 940x480 en 256 couleurs </a:t>
            </a:r>
            <a:br>
              <a:rPr sz="1600"/>
            </a:b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   ou 800x600 et 1024x768 avec moins de cou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VES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Video Electronic Standrad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SX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Super Extended Graphics Array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1280x1024 16 m cou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UX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Ultra Extended Graphics Array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1600x1200 16 m  cou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B70-7B1F-4A13-A3B4-572C178E7E0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77920" y="196920"/>
            <a:ext cx="75405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Résolution des Ecrans Ordinateu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2280" y="1270080"/>
            <a:ext cx="77594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WX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Wide Extended Graphics Array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1280x800 16 m cou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WSX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Wide Super Extended Graphics Array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1600x1024 16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WSXGA+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Wide Super Extended Graphics Array +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1680x1050 16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WUX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Wide Super Extended Graphics Array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(1920x1200 16 m cou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QX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Quad Extended Graphics Array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2048x1536  16 m cou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QSX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Quad Super Extended Graphics Array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2560x2048 16 m cou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QUXG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: Quad Ultra Extended Graphics Array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3200x2400 16 m cou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670040" y="4273560"/>
            <a:ext cx="5803920" cy="21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683-7CE7-4734-87DE-C086C85A0A4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600" y="24062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99"/>
                </a:solidFill>
                <a:latin typeface="Arial Black"/>
              </a:rPr>
              <a:t>Et les formats téléviseu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935000" y="3724200"/>
            <a:ext cx="527400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1" name=""/>
          <p:cNvSpPr/>
          <p:nvPr/>
        </p:nvSpPr>
        <p:spPr>
          <a:xfrm>
            <a:off x="773280" y="806400"/>
            <a:ext cx="75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athode </a:t>
            </a:r>
            <a:r>
              <a:rPr b="0" lang="fr-BE" sz="28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ay </a:t>
            </a:r>
            <a:r>
              <a:rPr b="0" lang="fr-BE" sz="28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ube      </a:t>
            </a:r>
            <a:r>
              <a:rPr b="0" lang="fr-BE" sz="28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iquid </a:t>
            </a:r>
            <a:r>
              <a:rPr b="0" lang="fr-BE" sz="28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rystal </a:t>
            </a:r>
            <a:r>
              <a:rPr b="0" lang="fr-BE" sz="2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48200" y="930240"/>
            <a:ext cx="361800" cy="281160"/>
          </a:xfrm>
          <a:prstGeom prst="rightArrow">
            <a:avLst>
              <a:gd name="adj1" fmla="val 50000"/>
              <a:gd name="adj2" fmla="val 3217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Panneau LCD (Liquid Crystal Display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42840" y="1224000"/>
            <a:ext cx="72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a majorité des téléviseurs petites et moyennes dimensions utilisent des écrans plats type LCD-TFT comme les écrans d’ordinate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3976560" y="2532240"/>
            <a:ext cx="4308480" cy="385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1022400" y="3038400"/>
            <a:ext cx="2154240" cy="25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04C-9BC2-4B7F-AB26-4295D0FD5F8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ellule du Panneau LC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2087640" y="1392120"/>
            <a:ext cx="4968720" cy="479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F65-779E-4C66-B07A-E43F1116C6F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2438280"/>
            <a:ext cx="2438280" cy="1524240"/>
          </a:xfrm>
          <a:prstGeom prst="rect">
            <a:avLst/>
          </a:prstGeom>
          <a:solidFill>
            <a:srgbClr val="1c1c1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83680" y="4796280"/>
            <a:ext cx="16880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Progress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(PDP/L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75880" y="4719960"/>
            <a:ext cx="15523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Entrelac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(C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371600" y="243828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2590920"/>
            <a:ext cx="243828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274320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89548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048120"/>
            <a:ext cx="243828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20040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71600" y="335268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371600" y="3504600"/>
            <a:ext cx="243828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371600" y="365760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80988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51460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371600" y="266688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2819520"/>
            <a:ext cx="243828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297180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312408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3276720"/>
            <a:ext cx="243828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42900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58128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3733920"/>
            <a:ext cx="243828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886200"/>
            <a:ext cx="2438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2438280"/>
            <a:ext cx="2514600" cy="1600200"/>
          </a:xfrm>
          <a:prstGeom prst="rect">
            <a:avLst/>
          </a:prstGeom>
          <a:solidFill>
            <a:srgbClr val="1c1c1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438280"/>
            <a:ext cx="251460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59092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27432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2895480"/>
            <a:ext cx="2514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304812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32004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3352680"/>
            <a:ext cx="2514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50532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36576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3809880"/>
            <a:ext cx="2514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25146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2666880"/>
            <a:ext cx="2514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281952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29718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124080"/>
            <a:ext cx="2514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327672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34290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3581280"/>
            <a:ext cx="2514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73392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38862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460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460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51080" y="206280"/>
            <a:ext cx="5870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SDTV.      Problèm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19D-C393-4776-AD9F-15BE7631E4F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Panneau TFT (Thin Film transistor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646280" y="1370160"/>
            <a:ext cx="5851440" cy="44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250-6E5A-4388-A734-75A6AA01627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aractéristiques Panneau LC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60600" y="5808600"/>
            <a:ext cx="613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33400" y="1573200"/>
            <a:ext cx="74628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panneaux LCD standard aujourd’hui ont un rapport de contraste de plus de 5.000:1 et une luminosité pouvant dépasser 250 cd/m².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(Mais attention aux méthodes de mesu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CRT ne dépassent pas 120 cd/m² en géné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Pour pouvoir rivaliser avec les CRT, les panneaux LCD/TFT supportent plus de 8 niveaux de modulation de la tension soit 2</a:t>
            </a:r>
            <a:r>
              <a:rPr b="0" lang="fr-BE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=256 niveaux de gris et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3 x 2</a:t>
            </a:r>
            <a:r>
              <a:rPr b="0" lang="fr-BE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= 16,7 millions de coule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DB9-03A6-4B80-A0B9-3DB9959CBAE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PLASMA vs TF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560600" y="5808600"/>
            <a:ext cx="613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501480" y="1247760"/>
          <a:ext cx="8340840" cy="4915080"/>
        </p:xfrm>
        <a:graphic>
          <a:graphicData uri="http://schemas.openxmlformats.org/drawingml/2006/table">
            <a:tbl>
              <a:tblPr/>
              <a:tblGrid>
                <a:gridCol w="2779920"/>
                <a:gridCol w="2781360"/>
                <a:gridCol w="27795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ff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ffe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osi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100 cd/m² (43 pouc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500 cd/m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ée de v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00 h/semi-v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tubes à phosphore ou 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m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 W 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W con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e de v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70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70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x moy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00 € 42 pou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 € 32 pou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= 103 pou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&gt; 50 pou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0: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.500: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lumine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lle plas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bes à phosph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s de réponse vidé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ès rap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 dû aux filtres R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ation des g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3.000 gradation de g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6 gradations de gris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 milliards de coul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6 millions de coul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eurs et angle de v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ent ident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avec angle de vue (pe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e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ès robu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ile (surtout filte ava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verti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s problè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vais pour chaleur de l’éc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istance de l’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n-in possible du phospsph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quage possible de l’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ondeur de l’éc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 cm pour 50 pou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 cm (NEC 40 pouc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9da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 Ready ou Full-H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fère résoHD Reday ou Full-H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01C-473D-4386-8D0A-A947B454A9E4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56610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RT de demain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82600" y="3763800"/>
            <a:ext cx="6777000" cy="1739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400" spc="-1" strike="noStrike">
                <a:solidFill>
                  <a:srgbClr val="ffff99"/>
                </a:solidFill>
                <a:latin typeface="Arial Black"/>
              </a:rPr>
              <a:t>NANO TECHN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477800" y="1622520"/>
            <a:ext cx="6188400" cy="180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69F-5FC6-4958-A0BB-9170E6ECD4E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7560" y="196920"/>
            <a:ext cx="56610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RT de demain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82600" y="1295280"/>
            <a:ext cx="67770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BE" sz="5400" spc="-1" strike="noStrike">
                <a:solidFill>
                  <a:srgbClr val="000000"/>
                </a:solidFill>
                <a:latin typeface="Arial Black"/>
              </a:rPr>
              <a:t>Rétroproje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BE" sz="5400" spc="-1" strike="noStrike">
                <a:solidFill>
                  <a:srgbClr val="000000"/>
                </a:solidFill>
                <a:latin typeface="Arial Black"/>
              </a:rPr>
              <a:t>TDEL</a:t>
            </a:r>
            <a:br>
              <a:rPr sz="5400"/>
            </a:b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(Thick-film Dielectric</a:t>
            </a:r>
            <a:br>
              <a:rPr sz="3600"/>
            </a:b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Electro-Luminesc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BE" sz="5400" spc="-1" strike="noStrike">
                <a:solidFill>
                  <a:srgbClr val="000000"/>
                </a:solidFill>
                <a:latin typeface="Arial Black"/>
              </a:rPr>
              <a:t>CRT Super-Sli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7AB-3E79-4A9E-972B-6C1F5CA454C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371600" y="20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Problème du téléviseur HD 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527200" y="447840"/>
            <a:ext cx="4089600" cy="13539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74560" y="3705120"/>
            <a:ext cx="3700440" cy="23130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5468760" y="4299120"/>
            <a:ext cx="20908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77640" y="382680"/>
            <a:ext cx="58863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99"/>
                </a:solidFill>
                <a:latin typeface="Arial"/>
              </a:rPr>
              <a:t>Problème du téléviseur HD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1880" y="114300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200" spc="-1" strike="noStrike">
                <a:solidFill>
                  <a:srgbClr val="000000"/>
                </a:solidFill>
                <a:latin typeface="Arial Black"/>
              </a:rPr>
              <a:t>Synchronisme</a:t>
            </a:r>
            <a:br>
              <a:rPr sz="7200"/>
            </a:br>
            <a:r>
              <a:rPr b="0" lang="fr-BE" sz="7200" spc="-1" strike="noStrike">
                <a:solidFill>
                  <a:srgbClr val="000000"/>
                </a:solidFill>
                <a:latin typeface="Arial Black"/>
              </a:rPr>
              <a:t>Son/Im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887560" y="3417840"/>
            <a:ext cx="3367080" cy="29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F9A-5C20-40B4-BF69-4C5DEDD5DDE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77640" y="382680"/>
            <a:ext cx="58863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99"/>
                </a:solidFill>
                <a:latin typeface="Arial"/>
              </a:rPr>
              <a:t>Problème du téléviseur HD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31880" y="1346040"/>
            <a:ext cx="76788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Synchronisme</a:t>
            </a:r>
            <a:br>
              <a:rPr sz="3600"/>
            </a:b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Son/Im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Décodage imparfait de la transmission en Long-Go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Problème inhérent au traitement de l’affichage </a:t>
            </a:r>
            <a:br>
              <a:rPr sz="3600"/>
            </a:b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en progressif dans les plasmas et LC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799-712E-4D47-96A6-9F41F21177C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77640" y="382680"/>
            <a:ext cx="58863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99"/>
                </a:solidFill>
                <a:latin typeface="Arial"/>
              </a:rPr>
              <a:t>Problème du téléviseur HD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880" y="1346040"/>
            <a:ext cx="7678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Synchronisme</a:t>
            </a:r>
            <a:br>
              <a:rPr sz="3600"/>
            </a:b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Son/Im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Le CRT est un affichage temps ré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 Black"/>
              </a:rPr>
              <a:t>2. Le Plasma et la LCD, jamais, dû au traitement des pixels pour l’affich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2C6-CB32-4DA8-97C7-0CD70DCA0EC2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065240" y="312840"/>
            <a:ext cx="704844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9600" spc="-1" strike="noStrike">
                <a:solidFill>
                  <a:srgbClr val="ffff99"/>
                </a:solidFill>
                <a:latin typeface="Bravo"/>
              </a:rPr>
              <a:t>Mais</a:t>
            </a:r>
            <a:br>
              <a:rPr sz="9600"/>
            </a:br>
            <a:r>
              <a:rPr b="1" lang="fr-BE" sz="9600" spc="-1" strike="noStrike">
                <a:solidFill>
                  <a:srgbClr val="ffff99"/>
                </a:solidFill>
                <a:latin typeface="Bravo"/>
              </a:rPr>
              <a:t>place à</a:t>
            </a:r>
            <a:br>
              <a:rPr sz="9600"/>
            </a:br>
            <a:r>
              <a:rPr b="1" lang="fr-BE" sz="9600" spc="-1" strike="noStrike">
                <a:solidFill>
                  <a:srgbClr val="ffff99"/>
                </a:solidFill>
                <a:latin typeface="Bravo"/>
              </a:rPr>
              <a:t>la dem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17760" y="5762520"/>
            <a:ext cx="635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99"/>
                </a:solidFill>
                <a:latin typeface="Paragon"/>
              </a:rPr>
              <a:t> </a:t>
            </a:r>
            <a:r>
              <a:rPr b="1" lang="fr-BE" sz="2000" spc="-1" strike="noStrike">
                <a:solidFill>
                  <a:srgbClr val="ffff00"/>
                </a:solidFill>
                <a:latin typeface="Symbol"/>
                <a:ea typeface="Symbol"/>
              </a:rPr>
              <a:t></a:t>
            </a:r>
            <a:r>
              <a:rPr b="1" lang="fr-BE" sz="2400" spc="-1" strike="noStrike">
                <a:solidFill>
                  <a:srgbClr val="ffff99"/>
                </a:solidFill>
                <a:latin typeface="Paragon"/>
              </a:rPr>
              <a:t> </a:t>
            </a:r>
            <a:r>
              <a:rPr b="1" lang="fr-BE" sz="2400" spc="-1" strike="noStrike">
                <a:solidFill>
                  <a:srgbClr val="ffff99"/>
                </a:solidFill>
                <a:latin typeface="Paragon"/>
              </a:rPr>
              <a:t>Christian</a:t>
            </a:r>
            <a:r>
              <a:rPr b="1" lang="fr-BE" sz="2400" spc="-1" strike="noStrike">
                <a:solidFill>
                  <a:srgbClr val="ffff99"/>
                </a:solidFill>
                <a:latin typeface="HG丸ｺﾞｼｯｸM-PRO"/>
              </a:rPr>
              <a:t> DUMONT – Mai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033-7BAF-493A-9F56-ED5D8A4169B2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36240" y="307800"/>
            <a:ext cx="74725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Pourquoi ce besoin de HDTV 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5600" y="1233360"/>
            <a:ext cx="7543800" cy="56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Il ya un intérêt certain pour une meilleure qualité audiovisuelle dans les foy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e DVD a généré une demande de qualité numérique plus élevée (arrivée également du Blu-Ray et HD-DV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es enregistreurs DVD habituent les utilisateurs à la facilité et la qualité du numé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es téléviseurs 16:9 deviennent très popula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es téléviseurs plasma et LCD chutent de pr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a différence de qualité d’image est nettement </a:t>
            </a:r>
            <a:br>
              <a:rPr sz="2200"/>
            </a:b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plus visible sur les plasmas ou les L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a demande du son “surround” augmente </a:t>
            </a:r>
            <a:br>
              <a:rPr sz="2200"/>
            </a:b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à cause du “Home Cinema” (5.1, 7.1, 13.1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462-3385-47C4-8DD5-84FE9DD070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6240" y="307800"/>
            <a:ext cx="74725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HDTV 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2440" y="1374840"/>
            <a:ext cx="789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Un des principaux avantages de la HDTV est de donner la possibilité de regarder des images plus grandes à une distance plus courte par rapport à la S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 but poursuivi est de permettre la vision de l’image HD à une distance équivalente à 3 x la hauteur de l’écran par opposition à la télévision standard qui a prévu une distance de 5 à 7 x cette hau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Ceci est basé sur la relation entre la résolution de l’oeil, la résolution de l’écran et la distance à l’écr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96160" y="163440"/>
            <a:ext cx="1676520" cy="112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13D-C6F2-483A-A150-34F706AE2D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36240" y="307800"/>
            <a:ext cx="74725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HDTV 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96160" y="163440"/>
            <a:ext cx="1676520" cy="1122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42880" y="1854360"/>
            <a:ext cx="8056440" cy="37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233-BC49-448A-A718-F3DA6EBFDF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36240" y="307800"/>
            <a:ext cx="74725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HDTV 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6880" y="1600200"/>
            <a:ext cx="79502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membres de l’UER ont constaté que les nouveaux écrans plats mettaient en évidence les artefacts de codage du MPEG-2 en définition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a télévision standard que l’on distribue aujourd’hui est affichée avec beaucoup trop d’arte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Broadcasters doivent migrer vers une production et une distribution d’images de meilleures qual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351560" y="247680"/>
            <a:ext cx="1271880" cy="10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AD7-23A3-4668-A519-B0B35CD77C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36240" y="307800"/>
            <a:ext cx="74725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HDTV 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8840" y="16002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a plus grande différence entre les standards utilisés est l’entrelacé et le progressi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351560" y="247680"/>
            <a:ext cx="1271880" cy="1052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384200" y="2724120"/>
            <a:ext cx="6373800" cy="30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 DUMO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BDB-9ACE-4515-8F13-BDE98FB022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D Display - Mai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2T03:54:00Z</dcterms:created>
  <dc:creator>Christian DUMONT</dc:creator>
  <dc:description/>
  <dc:language>en-US</dc:language>
  <cp:lastModifiedBy>Christian DUMONT</cp:lastModifiedBy>
  <dcterms:modified xsi:type="dcterms:W3CDTF">2007-05-20T19:20:55Z</dcterms:modified>
  <cp:revision>256</cp:revision>
  <dc:subject>RTBF TRAINING</dc:subject>
  <dc:title>HDTV</dc:title>
</cp:coreProperties>
</file>