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92868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92868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760" y="392868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92868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1680" y="392868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3360" y="3928680"/>
            <a:ext cx="29440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92868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760" y="392868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28680"/>
            <a:ext cx="9144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9360" y="6556320"/>
            <a:ext cx="195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resTVHD 2007 v1.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48320" y="6586560"/>
            <a:ext cx="441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DA7B-8B50-4965-A336-C0D7F364D193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86600" y="6553080"/>
            <a:ext cx="740520" cy="307080"/>
            <a:chOff x="7086600" y="6553080"/>
            <a:chExt cx="740520" cy="307080"/>
          </a:xfrm>
        </p:grpSpPr>
        <p:sp>
          <p:nvSpPr>
            <p:cNvPr id="6" name=""/>
            <p:cNvSpPr/>
            <p:nvPr/>
          </p:nvSpPr>
          <p:spPr>
            <a:xfrm>
              <a:off x="7225920" y="655308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7086600" y="6634080"/>
            <a:ext cx="152640" cy="152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600" y="6634080"/>
                      <a:ext cx="152640" cy="1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848720" y="6576840"/>
            <a:ext cx="533160" cy="2048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e5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2840" y="1523520"/>
            <a:ext cx="3886200" cy="2133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Etat d’avancement </a:t>
            </a:r>
            <a:br>
              <a:rPr sz="2000"/>
            </a:b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de la télévision haute définition dans le monde 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in 2007</a:t>
            </a:r>
            <a:br>
              <a:rPr sz="3200"/>
            </a:br>
            <a:endParaRPr b="0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77240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Sommaire :</a:t>
            </a:r>
            <a:br>
              <a:rPr sz="1800"/>
            </a:br>
            <a:br>
              <a:rPr sz="1800"/>
            </a:b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1. Bilan de la HD 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2</a:t>
            </a:r>
            <a:br>
              <a:rPr sz="1400"/>
            </a:b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2. Le démarrage de la TVHD en Europe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4</a:t>
            </a:r>
            <a:br>
              <a:rPr sz="1400"/>
            </a:b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3. Les programmes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8</a:t>
            </a:r>
            <a:br>
              <a:rPr sz="1400"/>
            </a:b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4. L’équipement du consommateur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5. La production de programmes HD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13</a:t>
            </a:r>
            <a:br>
              <a:rPr sz="1400"/>
            </a:b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6. L’offre des principaux fournisseurs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7. Le process de production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8. Les moyens techniques 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16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1600200" cy="615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91840" y="62056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Juin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4. Une analyse de l’équipement grand public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a victoire du LCD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a généralisation progressive des écrans 1920x1080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993600" y="61182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634680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0" y="5889600"/>
            <a:ext cx="30492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46680" y="584820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HD Receiver (with BS Digital HD Tu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4960" y="608004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BS Digital HD Tu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31200" y="6308640"/>
            <a:ext cx="26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lasma Display (with BS Digital HD Tu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2438280"/>
          <a:ext cx="635940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63594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1299960" y="1858680"/>
            <a:ext cx="6231960" cy="2334960"/>
            <a:chOff x="1299960" y="1858680"/>
            <a:chExt cx="6231960" cy="2334960"/>
          </a:xfrm>
        </p:grpSpPr>
        <p:sp>
          <p:nvSpPr>
            <p:cNvPr id="85" name=""/>
            <p:cNvSpPr/>
            <p:nvPr/>
          </p:nvSpPr>
          <p:spPr>
            <a:xfrm>
              <a:off x="1905840" y="2878920"/>
              <a:ext cx="184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99960" y="21337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Unit x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509200">
              <a:off x="1336680" y="2816280"/>
              <a:ext cx="6184800" cy="283680"/>
            </a:xfrm>
            <a:prstGeom prst="rightArrow">
              <a:avLst>
                <a:gd name="adj1" fmla="val 50000"/>
                <a:gd name="adj2" fmla="val 545051"/>
              </a:avLst>
            </a:prstGeom>
            <a:solidFill>
              <a:srgbClr val="00ae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71600" y="37947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ahoma"/>
                  <a:ea typeface="HG丸ｺﾞｼｯｸM-PRO"/>
                </a:rPr>
                <a:t>6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6040" y="36147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ahoma"/>
                  <a:ea typeface="HG丸ｺﾞｼｯｸM-PRO"/>
                </a:rPr>
                <a:t>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76160" y="31942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ahoma"/>
                  <a:ea typeface="HG丸ｺﾞｼｯｸM-PRO"/>
                </a:rPr>
                <a:t>13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65840" y="23562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ahoma"/>
                  <a:ea typeface="HG丸ｺﾞｼｯｸM-PRO"/>
                </a:rPr>
                <a:t>20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41200" y="2775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ahoma"/>
                  <a:ea typeface="HG丸ｺﾞｼｯｸM-PRO"/>
                </a:rPr>
                <a:t>18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4. Une analyse de l’équipement grand public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évision équipement HD ready en 2010 (source GFK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Japon : 67%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USA : 59%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Europe 33%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4. Une analyse de l’équipement grand public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es résolutions des écrans sont différentes des résolutions de diffusion (1080i, 720p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2286000"/>
          <a:ext cx="89265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265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5. La production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:programmes TV de stocks en HD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  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Le passage en production HD dépend du genre: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musique, TV films, documentaires nature passent davantage en HD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Que TV réalité, animation et soap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e cinéma est potentiellement en HD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Observé depuis le MIPTV, grande inégalité des producteurs vis à vis de la HD, au niveau % de production H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lus de 50% de HD pour certains genres :Producteurs des télévisions HD (Discovery, NHK) et certains productions haut de gamme type BBC (80% des « dramas », de la musique).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Sky annonce 90% commandé en HD et 2/3 du primetime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a BBC annonce 100% HD en 2010.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Des indépendants impliqués dans les co-productions avec chaîne HD ou co-producteurs USA/Japon (Euroarts, Gédéon)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Retard des TV Européennes et des indépendant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6. 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’offre des principaux constructeurs 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   </a:t>
            </a:r>
            <a:br>
              <a:rPr sz="2000"/>
            </a:b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Environ 30% de tous les constructeurs présents sur les marchés Américains, Européens, Anglais vendent des produits HD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es constructeurs les plus importants sont impliqués massivement dans la HD, dont Sony, Panasonic, Thomson (qui est aussi presseur de DVD avec Technicolor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100% des 10 premiers constructeurs broadcast ont un intérêt majeur dans la HD et 58% du top 100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a HD est une inversion de tendance salutaire pour toute une industrie et ses prestataires menacés par la spirale descendante des prix, la banalisation des matériels et des services «commodity products»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705200"/>
          <a:ext cx="5486400" cy="12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705200"/>
                    <a:ext cx="54864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7.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rocessus de production : tournage stock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Un nouvel apprentissage pour ceux qui viennent du film Super16 (TVfilm, séries) comme pour ceux qui viennent de la vidéo SD (flux, autres stock )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lorimétrie cinéma possible en vidéo grâce à la HD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On voit les détails en HD et pas en SD: impact sur les accessoires, costumes, décors, maquillage, inscription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a HD nécessite davantage de préparation de ce fait que la HD. On retrouve un processus de production plus proche du cinéma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7.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rocessus de production : le sport en direct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lusieurs méthodes de réalisation avec production SD et HD simultané, ou séparé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our cause de compatibilité 16:9 et 4:3: on a tendance à centrer le cadrag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6. Les moyens technique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rocessus de production et de diffusion de TVHD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2 masters : HD 16:9 et SD 4:3 en transmission simultanée (simulcast) mais certains déjà en 16:9 convertissent comme Canal +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ocessus de production séparés sauf automation, grille, et archiv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7. Les moyens technique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ûts d’investissement/vidéo SD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  <a:ea typeface="Arial"/>
              </a:rPr>
              <a:t>20 à 70 % de surcoût par rapport à la SD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  <a:ea typeface="Arial"/>
              </a:rPr>
              <a:t>Investissements massifs des chaînes pour créer des chaînes HD et des centres de production/diffusion HD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  <a:ea typeface="Arial"/>
              </a:rPr>
              <a:t>au Japon (NTV: nouveau centre 350 m$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  <a:ea typeface="Arial"/>
              </a:rPr>
              <a:t>et dans une moindre mesure aux USA (StarzEncore , nouveau centre HD: 5 m$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  <a:ea typeface="Arial"/>
              </a:rPr>
              <a:t>NTV: 3,5 M$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  <a:ea typeface="Arial"/>
              </a:rPr>
              <a:t>Ces investissements apparaissent comme des coûts supplémentaires pour rester compétitifs, et ne sont pour l’instant pas « rentables »: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  <a:ea typeface="Arial"/>
              </a:rPr>
              <a:t>Peu ou pas de possibilités d’augmentation des revenus en délivrant de la HD, surtout pour les chaînes Hertziennes.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7. Les moyens techniques: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ûts de production/vidéo SD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Verdana"/>
                <a:ea typeface="Arial"/>
              </a:rPr>
              <a:t>flux de 20 à 50 %, selon les types de projets et les projets par rapport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Verdana"/>
                <a:ea typeface="Arial"/>
              </a:rPr>
              <a:t>stock de 5 à 15% des coûts totaux d’émission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Verdana"/>
                <a:ea typeface="Arial"/>
              </a:rPr>
              <a:t>BBC Resources Essais série Holby /épisode 60 minutes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480" y="2438280"/>
          <a:ext cx="902952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38280"/>
                    <a:ext cx="90295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  <a:ea typeface="Times New Roman"/>
              </a:rPr>
              <a:t>1. Bilan de la HD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un  bilan factuel d’avancement de la TV haute définition dans le monde au début 2004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1640"/>
          <a:ext cx="85201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85201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  <a:ea typeface="Times New Roman"/>
              </a:rPr>
              <a:t>1. Bilan de la HD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un  bilan factuel d’avancement de la TV haute définition dans le monde mai 2007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828800"/>
          <a:ext cx="7925040" cy="44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792504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  <a:ea typeface="Times New Roman"/>
              </a:rPr>
              <a:t>2. Le démarrage de la TV haute définition en Europ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12 pays et 20 opérateurs fournissent un service HD en Europ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Allemagne, France, Royaume Uni, Irlande, Suède,  Italie, Pologne, Pays Bas, Belgique, Suisse, Russie, Republique Tchèque</a:t>
            </a: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39 chaînes dont Sky, BBC, SVT, TV4, TF1, M6, Canal+, Sat1, Pro7, Premiere, France 2/3/4 sont apparus depuis 2005 et produite en Europe. Il y a 4 chaines Américaines localisées en Europe (Discovery, National Geographics, Voom, History Channel, …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  <a:ea typeface="Times New Roman"/>
              </a:rPr>
              <a:t>2. Le démarrage de la TV haute définition dans le mond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 démarrage de la HD s’est effectué à travers la TNT dans 4 cas sur 6, une fois via le câble, une fois via le satellite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a HD concerne tous les moyens de diffusion selon une logique de concurrence: terrestre numérique, satellite, câble.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a TV HD est disponible via « tous les canaux de diffusion du pays » dans 5 pays pionnier sur 6.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1080" y="2971800"/>
          <a:ext cx="525780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1800"/>
                    <a:ext cx="525780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  <a:ea typeface="Times New Roman"/>
              </a:rPr>
              <a:t>2. Le démarrage de la TV haute définition en Europ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e démarrage tardif en Europe s’est effectué sans incitation/obligation étatique ou régulatrice contrairement au reste du mond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a diffusion terrestre qui a initialisé la HD aux USA reste handicapée par le manque de fréquences disponibles en Europe avant fin de l’analogique, et le choix ancien MPEG2 et SD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Cependant diffusion terrestre HD au Royaume Uni, en Suède, en France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e satellite et la pay-TV sont pionniers en Europe : Canal +, Sky, Premiere/ Pro7Sat1, Canal Digital rejoint par quelques chaines premium TF1, BBC, SVT, TV4, TV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Emergence des cablôpérateurs aux Pays Bas, en Belgique, en Suède, en Franc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Emergence de la DSL  en France, Pologn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ogique de concurrence entre les medias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  <a:ea typeface="Times New Roman"/>
              </a:rPr>
              <a:t>2. Le démarrage de la TV haute définition en Europ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a TVHD en Europe s’est effectuée en MPEG4 AVC/H264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ix de résolutions utilisées 720 p/1081i, mais 1080i majoritaire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3. Chaînes de TVHD disponibles en Europ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réation par les bouquets satellite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d’une chaines généralistes spécifiques HD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de chaînes thématiques HD: cinéma, sports, documentaires.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reprise en complément de 2 à 5 chaînes US importée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Les premium généralistes commence de diffuser certains contenus évènementiels en HD (TF1, SVT, BBC) et en simulcast: Coupe du Monde, Roland Garros, concerts, …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Au niveau contenus: les films, séries, documentaires, les soap, les shows, la musique mais pas les actualités et la tv-réalité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3. Chaînes de TVHD disponibles en Europ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6858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9:21:48Z</dcterms:created>
  <dc:creator>Kane</dc:creator>
  <dc:description/>
  <dc:language>en-US</dc:language>
  <cp:lastModifiedBy>Guy Maréchal</cp:lastModifiedBy>
  <dcterms:modified xsi:type="dcterms:W3CDTF">2007-05-25T09:05:23Z</dcterms:modified>
  <cp:revision>118</cp:revision>
  <dc:subject/>
  <dc:title>Présentation PowerPoint</dc:title>
</cp:coreProperties>
</file>