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666413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3080" y="4041360"/>
            <a:ext cx="933444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45550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116400" y="1294920"/>
            <a:ext cx="45550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3080" y="4041360"/>
            <a:ext cx="45550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16400" y="4041360"/>
            <a:ext cx="45550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30052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88840" y="1294920"/>
            <a:ext cx="30052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44960" y="1294920"/>
            <a:ext cx="30052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3080" y="4041360"/>
            <a:ext cx="30052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88840" y="4041360"/>
            <a:ext cx="30052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644960" y="4041360"/>
            <a:ext cx="30052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455508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116400" y="1294920"/>
            <a:ext cx="455508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0667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45550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116400" y="1294920"/>
            <a:ext cx="455508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3080" y="4041360"/>
            <a:ext cx="45550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455508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16400" y="1294920"/>
            <a:ext cx="45550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6400" y="4041360"/>
            <a:ext cx="45550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45550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6400" y="1294920"/>
            <a:ext cx="455508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3080" y="4041360"/>
            <a:ext cx="9334440" cy="250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53080"/>
            <a:ext cx="10667520" cy="304920"/>
            <a:chOff x="0" y="6553080"/>
            <a:chExt cx="10667520" cy="304920"/>
          </a:xfrm>
        </p:grpSpPr>
        <p:sp>
          <p:nvSpPr>
            <p:cNvPr id="1" name=""/>
            <p:cNvSpPr/>
            <p:nvPr/>
          </p:nvSpPr>
          <p:spPr>
            <a:xfrm>
              <a:off x="0" y="6553080"/>
              <a:ext cx="9423360" cy="304920"/>
            </a:xfrm>
            <a:prstGeom prst="rect">
              <a:avLst/>
            </a:prstGeom>
            <a:solidFill>
              <a:srgbClr val="c8fef6">
                <a:alpha val="50000"/>
              </a:srgbClr>
            </a:solidFill>
            <a:ln w="12600">
              <a:solidFill>
                <a:srgbClr val="c8fe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423360" y="6553080"/>
              <a:ext cx="1244160" cy="304920"/>
            </a:xfrm>
            <a:prstGeom prst="rect">
              <a:avLst/>
            </a:prstGeom>
            <a:solidFill>
              <a:srgbClr val="c8fef6"/>
            </a:solidFill>
            <a:ln w="12600">
              <a:solidFill>
                <a:srgbClr val="ccec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3800" spc="-1" strike="noStrike">
                <a:solidFill>
                  <a:srgbClr val="063de8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-368280">
              <a:spcBef>
                <a:spcPts val="726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2" marL="1225440" indent="-244440">
              <a:spcBef>
                <a:spcPts val="726"/>
              </a:spcBef>
              <a:buClr>
                <a:srgbClr val="063de8"/>
              </a:buClr>
              <a:buFont typeface="Wingdings 2" charset="2"/>
              <a:buChar char="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3" marL="1716120" indent="-244440">
              <a:spcBef>
                <a:spcPts val="726"/>
              </a:spcBef>
              <a:buClr>
                <a:srgbClr val="063de8"/>
              </a:buClr>
              <a:buFont typeface="Wingdings 2" charset="2"/>
              <a:buChar char="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4" marL="2206800" indent="-244800">
              <a:spcBef>
                <a:spcPts val="726"/>
              </a:spcBef>
              <a:buClr>
                <a:srgbClr val="063de8"/>
              </a:buClr>
              <a:buFont typeface="Wingdings 2" charset="2"/>
              <a:buChar char="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5" marL="2206800" indent="-244800">
              <a:spcBef>
                <a:spcPts val="726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6" marL="2206800" indent="-244800">
              <a:spcBef>
                <a:spcPts val="726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86040" y="6556320"/>
            <a:ext cx="25635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Benchmark &amp; Consul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23040" y="6586560"/>
            <a:ext cx="5140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A310F074-568F-455C-BB51-BB8C58494ADC}" type="slidenum">
              <a:rPr b="1" lang="fr-F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9659880" y="6548400"/>
            <a:ext cx="856080" cy="326520"/>
            <a:chOff x="9659880" y="6548400"/>
            <a:chExt cx="856080" cy="326520"/>
          </a:xfrm>
        </p:grpSpPr>
        <p:sp>
          <p:nvSpPr>
            <p:cNvPr id="8" name=""/>
            <p:cNvSpPr/>
            <p:nvPr/>
          </p:nvSpPr>
          <p:spPr>
            <a:xfrm>
              <a:off x="9838440" y="6548400"/>
              <a:ext cx="6775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8960" bIns="48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Kan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" name=""/>
            <p:cNvGraphicFramePr/>
            <p:nvPr/>
          </p:nvGraphicFramePr>
          <p:xfrm>
            <a:off x="9659880" y="6629400"/>
            <a:ext cx="178200" cy="152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659880" y="6629400"/>
                      <a:ext cx="178200" cy="15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" name="NABDSC00641rogner" descr=""/>
          <p:cNvPicPr/>
          <p:nvPr/>
        </p:nvPicPr>
        <p:blipFill>
          <a:blip r:embed="rId4"/>
          <a:stretch/>
        </p:blipFill>
        <p:spPr>
          <a:xfrm>
            <a:off x="0" y="1295280"/>
            <a:ext cx="1333440" cy="525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SC00824MBC" descr=""/>
          <p:cNvPicPr/>
          <p:nvPr/>
        </p:nvPicPr>
        <p:blipFill>
          <a:blip r:embed="rId1"/>
          <a:stretch/>
        </p:blipFill>
        <p:spPr>
          <a:xfrm>
            <a:off x="0" y="0"/>
            <a:ext cx="10667880" cy="655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3440" cy="50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27840" y="2014560"/>
            <a:ext cx="183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56080" y="1828800"/>
            <a:ext cx="26676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1142640"/>
            <a:ext cx="6934320" cy="28954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fr-FR" sz="3600" spc="-1" strike="noStrike">
                <a:solidFill>
                  <a:srgbClr val="003399"/>
                </a:solidFill>
                <a:latin typeface="Verdana"/>
              </a:rPr>
              <a:t>Reference Architectures and Media Management for the Converged Industry</a:t>
            </a:r>
            <a:endParaRPr b="0" lang="en-US" sz="36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133720" y="5943600"/>
            <a:ext cx="7696080" cy="5335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7200" rIns="97200" tIns="47520" bIns="47520" anchor="t">
            <a:noAutofit/>
          </a:bodyPr>
          <a:p>
            <a:pPr marL="326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Verdana"/>
                <a:ea typeface="Arial"/>
              </a:rPr>
              <a:t>Digital Media Symposium 11/09/2006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326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26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2. MAM for broadcast and distribution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marL="360720" indent="-360720">
              <a:lnSpc>
                <a:spcPct val="90000"/>
              </a:lnSpc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Example RTL BCE Luxemburg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lvl="1" marL="780840" indent="-299880">
              <a:lnSpc>
                <a:spcPct val="90000"/>
              </a:lnSpc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Pinnacle + Front Porch Digital + Storagetek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80840" indent="-299880">
              <a:lnSpc>
                <a:spcPct val="90000"/>
              </a:lnSpc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14 channels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marL="360720" indent="-360720">
              <a:lnSpc>
                <a:spcPct val="90000"/>
              </a:lnSpc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Advantages: 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lvl="1" marL="780840" indent="-299880">
              <a:lnSpc>
                <a:spcPct val="90000"/>
              </a:lnSpc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Archive :before 2000 m2, now 40 m2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80840" indent="-299880">
              <a:lnSpc>
                <a:spcPct val="90000"/>
              </a:lnSpc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Cheaper additional TV channel (-400k€/ channel)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80840" indent="-299880">
              <a:lnSpc>
                <a:spcPct val="90000"/>
              </a:lnSpc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Quicker launch (- 6weeks)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80840" indent="-299880">
              <a:lnSpc>
                <a:spcPct val="90000"/>
              </a:lnSpc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Incredible reliability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80840" indent="-299880">
              <a:lnSpc>
                <a:spcPct val="90000"/>
              </a:lnSpc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Deep archive solution (1,6m hours capacity)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80840" indent="-299880">
              <a:lnSpc>
                <a:spcPct val="90000"/>
              </a:lnSpc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Easy multi media transcoding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2. MAM for broadcast and distribution 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Where?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638520" y="1295280"/>
          <a:ext cx="7029360" cy="5276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8520" y="1295280"/>
                    <a:ext cx="702936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3. MAM for DTT and new media distribution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Example: La 7 (telecom Italia)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DTT service and entertainment platform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Web &amp; TV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VOD matches with smart cards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Return path by telephone plug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MHP set-top boxes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Strong integration between  broadcasting  and telecom networks, 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3. MAM for DTT and new media distribution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353520" indent="-35352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Advantages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lvl="1" marL="765000" indent="-2937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Direct access to final consumer for terrestrial broadcasters &gt; 500000 viewers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65000" indent="-2937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New business generation (prepaid card) : &gt;10 m€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65000" indent="-2937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New mix of services + VOD entertainment appropriate to local TV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65000" indent="-2937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VOD long term solution to fragmentation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65000" indent="-2937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Prepare new VOD advertising models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65000" indent="-2937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Emergence of Thumper to reduce POPs and solve VOD business model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3. MAM for DTT and new media distribution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Where? : La 7 (Telecom Italia), RAI, RTV 38 (Italy)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Conclusion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9000"/>
          </a:bodyPr>
          <a:p>
            <a:pPr marL="364320" indent="-36432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Why open systems ?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lvl="1" marL="788760" indent="-30312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Moore law for commodity products and affordable high end-performance devices to create new businesses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88760" indent="-30312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Interoperability for converged (but wider and more complex) systems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88760" indent="-30312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Best of the breed is inevitable 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marL="364320" indent="-36432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Emergence of technology innovators (larger than broadcast) and value added integrators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lvl="1" marL="788760" indent="-30312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Reference architectures (in between)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Thank you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0">
              <a:spcBef>
                <a:spcPts val="825"/>
              </a:spcBef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 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marL="368280" indent="0">
              <a:spcBef>
                <a:spcPts val="825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marL="368280" indent="0">
              <a:spcBef>
                <a:spcPts val="825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marL="368280" indent="0">
              <a:spcBef>
                <a:spcPts val="825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marL="368280" indent="0">
              <a:spcBef>
                <a:spcPts val="825"/>
              </a:spcBef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marL="368280" indent="0">
              <a:spcBef>
                <a:spcPts val="825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marL="368280" indent="0">
              <a:spcBef>
                <a:spcPts val="825"/>
              </a:spcBef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     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charles.bebert@kane-consulting.com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Trends  for a converged industry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In 2004: 353 MAM existing applications and none were cross-functional : production, broadcast, new distribution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In 2006 almost all new projects are: production </a:t>
            </a:r>
            <a:r>
              <a:rPr b="0" lang="en-GB" sz="2500" spc="-1" strike="noStrike">
                <a:solidFill>
                  <a:srgbClr val="003399"/>
                </a:solidFill>
                <a:latin typeface="Tahoma"/>
              </a:rPr>
              <a:t>and/or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broadcast </a:t>
            </a:r>
            <a:r>
              <a:rPr b="0" lang="en-GB" sz="2500" spc="-1" strike="noStrike">
                <a:solidFill>
                  <a:srgbClr val="003399"/>
                </a:solidFill>
                <a:latin typeface="Tahoma"/>
              </a:rPr>
              <a:t>and/or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distribution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In 2002:  73 % of “proprietary” server-based existing newsrooms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In 2006: only 7 %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marL="368280" indent="0">
              <a:spcBef>
                <a:spcPts val="825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marL="368280" indent="0">
              <a:spcBef>
                <a:spcPts val="825"/>
              </a:spcBef>
              <a:buNone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Trends  for a converged industry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Integration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Proof of concept, co-responsibility agreement, open standards, support for API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Reengineering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Workflow analysis, benchmark, performance measurement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Architecture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26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naming convention, ingest integration, metadata transmission, video format standards, SOA, ESB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Trends  for a converged industry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Outsourcing vs. </a:t>
            </a:r>
            <a:r>
              <a:rPr b="0" lang="en-GB" sz="3300" spc="-1" strike="noStrike">
                <a:solidFill>
                  <a:srgbClr val="0066cc"/>
                </a:solidFill>
                <a:latin typeface="Tahoma"/>
              </a:rPr>
              <a:t>internal technical department  </a:t>
            </a:r>
            <a:r>
              <a:rPr b="0" lang="en-GB" sz="3300" spc="-1" strike="noStrike" u="sng">
                <a:solidFill>
                  <a:srgbClr val="0066cc"/>
                </a:solidFill>
                <a:uFillTx/>
                <a:latin typeface="Tahoma"/>
              </a:rPr>
              <a:t>&amp;</a:t>
            </a:r>
            <a:r>
              <a:rPr b="0" lang="en-GB" sz="3300" spc="-1" strike="noStrike">
                <a:solidFill>
                  <a:srgbClr val="0066cc"/>
                </a:solidFill>
                <a:latin typeface="Tahoma"/>
              </a:rPr>
              <a:t> operations becoming service provider 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Trends  for a converged industry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New architectures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1676520"/>
          <a:ext cx="6711840" cy="47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671184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Sun reference architectures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3 MAM architectures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00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1. </a:t>
            </a:r>
            <a:r>
              <a:rPr b="0" lang="en-GB" sz="2800" spc="-1" strike="noStrike">
                <a:solidFill>
                  <a:srgbClr val="003399"/>
                </a:solidFill>
                <a:latin typeface="Tahoma"/>
                <a:ea typeface="Arial"/>
              </a:rPr>
              <a:t>MAM for Production, Broadcast &amp; Distributio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00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ahoma"/>
                <a:ea typeface="Arial"/>
              </a:rPr>
              <a:t>2. MAM for Broadcast &amp; Distributio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797040" indent="-306360">
              <a:spcBef>
                <a:spcPts val="700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ahoma"/>
                <a:ea typeface="Arial"/>
              </a:rPr>
              <a:t>3. MAM for DTT and New Media Distributio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1. MAM for Production, Broadcast, &amp; Distribution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-368280">
              <a:spcBef>
                <a:spcPts val="601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ahoma"/>
              </a:rPr>
              <a:t>An End To End File-based Workflow for the Media Enterprise with several brand options for ingest, editing &amp; playout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2082960"/>
            <a:ext cx="678168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1. MAM for Production, Broadcast, Distribution, 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353520" indent="-353520">
              <a:spcBef>
                <a:spcPts val="726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  <a:ea typeface="Arial"/>
              </a:rPr>
              <a:t>Example MLB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65000" indent="-293760">
              <a:spcBef>
                <a:spcPts val="624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5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500" spc="-1" strike="noStrike">
                <a:solidFill>
                  <a:srgbClr val="003399"/>
                </a:solidFill>
                <a:latin typeface="Tahoma"/>
              </a:rPr>
              <a:t>150 pieces of media a day for 3 channels of distribution (IPTV, web, mobile) in 4 formats</a:t>
            </a: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  <a:p>
            <a:pPr marL="353520" indent="-353520">
              <a:spcBef>
                <a:spcPts val="726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Advantages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lvl="1" marL="765000" indent="-293760">
              <a:spcBef>
                <a:spcPts val="624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5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500" spc="-1" strike="noStrike">
                <a:solidFill>
                  <a:srgbClr val="003399"/>
                </a:solidFill>
                <a:latin typeface="Tahoma"/>
              </a:rPr>
              <a:t>Sport league becoming a broadcaster</a:t>
            </a: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  <a:p>
            <a:pPr lvl="1" marL="765000" indent="-293760">
              <a:spcBef>
                <a:spcPts val="624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5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500" spc="-1" strike="noStrike">
                <a:solidFill>
                  <a:srgbClr val="003399"/>
                </a:solidFill>
                <a:latin typeface="Tahoma"/>
              </a:rPr>
              <a:t>Repurposing factory: multimedia packages</a:t>
            </a: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  <a:p>
            <a:pPr lvl="1" marL="765000" indent="-293760">
              <a:spcBef>
                <a:spcPts val="624"/>
              </a:spcBef>
              <a:buClr>
                <a:srgbClr val="00ccff"/>
              </a:buClr>
              <a:buFont typeface="Wingdings 2" charset="2"/>
              <a:buChar char="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5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500" spc="-1" strike="noStrike">
                <a:solidFill>
                  <a:srgbClr val="003399"/>
                </a:solidFill>
                <a:latin typeface="Tahoma"/>
              </a:rPr>
              <a:t>Automation from single production “master”</a:t>
            </a: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  <a:p>
            <a:pPr marL="353520" indent="-353520">
              <a:spcBef>
                <a:spcPts val="726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Emergence of new content addressable storage “Honeycomb” to solve metadata transmission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  <a:p>
            <a:pPr marL="353520" indent="-353520">
              <a:spcBef>
                <a:spcPts val="726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2900" spc="-1" strike="noStrike">
                <a:solidFill>
                  <a:srgbClr val="003399"/>
                </a:solidFill>
                <a:latin typeface="Tahoma"/>
              </a:rPr>
              <a:t>Emergence of new massive parallel server “Thumper” to reduce number of POPs (130 currently)</a:t>
            </a:r>
            <a:endParaRPr b="0" lang="en-US" sz="29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667880" cy="1295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7200" rIns="97200" tIns="47520" bIns="47520" anchor="ctr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800" spc="-1" strike="noStrike">
                <a:solidFill>
                  <a:srgbClr val="003399"/>
                </a:solidFill>
                <a:latin typeface="Verdana"/>
                <a:ea typeface="Arial"/>
              </a:rPr>
              <a:t>1. MAM for Production, Broadcast, Distribution, </a:t>
            </a:r>
            <a:endParaRPr b="0" lang="en-US" sz="3800" spc="-1" strike="noStrike">
              <a:solidFill>
                <a:srgbClr val="063de8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933444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368280" indent="-368280">
              <a:spcBef>
                <a:spcPts val="825"/>
              </a:spcBef>
              <a:buClr>
                <a:srgbClr val="003399"/>
              </a:buClr>
              <a:buFont typeface="Wingdings 2" charset="2"/>
              <a:buChar char="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  <a:ea typeface="Arial"/>
              </a:rPr>
              <a:t>Where ?</a:t>
            </a:r>
            <a:r>
              <a:rPr b="0" lang="en-GB" sz="3300" spc="-1" strike="noStrike">
                <a:solidFill>
                  <a:srgbClr val="003399"/>
                </a:solidFill>
                <a:latin typeface="Tahoma"/>
              </a:rPr>
              <a:t> WGBH (PBS, Boston), MLB, TV4 Sweden (managed service)</a:t>
            </a:r>
            <a:endParaRPr b="0" lang="en-US" sz="33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7:05:50Z</dcterms:created>
  <dc:creator>Bebert</dc:creator>
  <dc:description/>
  <dc:language>en-US</dc:language>
  <cp:lastModifiedBy>Roger ROBERTS</cp:lastModifiedBy>
  <cp:lastPrinted>2001-10-11T17:07:58Z</cp:lastPrinted>
  <dcterms:modified xsi:type="dcterms:W3CDTF">2007-07-05T15:52:29Z</dcterms:modified>
  <cp:revision>414</cp:revision>
  <dc:subject/>
  <dc:title>Présentation succinte de Kane</dc:title>
</cp:coreProperties>
</file>