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5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6.wmf" ContentType="image/x-wmf"/>
  <Override PartName="/ppt/media/image39.png" ContentType="image/png"/>
  <Override PartName="/ppt/media/image41.png" ContentType="image/png"/>
  <Override PartName="/ppt/media/image9.jpeg" ContentType="image/jpeg"/>
  <Override PartName="/ppt/media/image43.png" ContentType="image/png"/>
  <Override PartName="/ppt/media/image44.png" ContentType="image/png"/>
  <Override PartName="/ppt/media/image13.jpeg" ContentType="image/jpeg"/>
  <Override PartName="/ppt/media/image33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30.jpeg" ContentType="image/jpeg"/>
  <Override PartName="/ppt/media/image7.wmf" ContentType="image/x-wmf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2.wmf" ContentType="image/x-wmf"/>
  <Override PartName="/ppt/media/image29.png" ContentType="image/png"/>
  <Override PartName="/ppt/media/image40.png" ContentType="image/png"/>
  <Override PartName="/ppt/media/image3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4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40056"/>
                </a:solidFill>
                <a:latin typeface="RotisSansSerif ExtraBold"/>
              </a:rPr>
              <a:t>Click to move the slide</a:t>
            </a: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EC12-3635-42F3-8A53-CB128EBCB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7CB5-9502-41B6-A326-A7444D685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6942-C85D-44A8-BE85-AA09D0D4D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013B-22DD-4F03-990C-B6E5A70C2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395B-F623-4286-B8D7-5F1545EF9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77FF-71F9-44E4-A663-1445882D3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366C-7058-4E49-8541-472C89045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473B-D582-4C64-ACD2-7F1F654F5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91B1-E400-41ED-B812-6917A6D1B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8A41-E843-4F53-AE6A-DC33F69EF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62D6-6294-40D0-AC3D-5DE06A2E1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9C6D-41A3-4F9B-A65E-000B6D08E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2DA8-8402-4F6B-8DC6-F9263F56B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AC21-52C4-498F-8E48-28B418D41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633D-BE3C-4924-A331-3623013E8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8927-D378-41BF-8916-382C57067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E471-E9C4-4ADE-AB0D-FF5758CA9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tel verhaal over stijgende performantie code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wel deze grafiek richt zich op lage bit-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9FDC-10B2-450E-AB0A-A3FB3BE14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ED95-E8C3-4DA9-9574-5A38C32AC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FD68-1351-4136-AEF9-A15B49FEC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01D5-A2C4-45A8-99E6-68AA3E060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E6B5-2A11-431E-AFF4-7804DD75A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CB7D-9F8A-4E11-BB77-73488A14D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FCCB-5D31-4709-AD86-54A0C3BBE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840C-33D7-48B1-B60A-E0389DD10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5BEC-7632-4AD2-97FF-048EB1640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959F-50F6-45C1-8E11-D2A54FEEC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C628-7864-4599-A3A8-F78E37EA5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0C48-714A-46A8-9324-E05E311BD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6838-F8C9-4351-8B67-D6950C132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5BE0-6DD8-4430-B19A-F54955232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FBF-6107-4815-8564-D3420B96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62320" y="2493720"/>
            <a:ext cx="54100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62320" y="3488760"/>
            <a:ext cx="54100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257-45F8-4C4C-B0AE-EF1BF526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62320" y="2493720"/>
            <a:ext cx="26398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4680" y="2493720"/>
            <a:ext cx="26398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62320" y="3488760"/>
            <a:ext cx="26398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4680" y="3488760"/>
            <a:ext cx="26398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D42-EDC7-4CB0-9BCC-979BBC20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62320" y="2493720"/>
            <a:ext cx="17416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91480" y="2493720"/>
            <a:ext cx="17416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2493720"/>
            <a:ext cx="17416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62320" y="3488760"/>
            <a:ext cx="17416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91480" y="3488760"/>
            <a:ext cx="17416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488760"/>
            <a:ext cx="17416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3FF-A6D5-4094-831F-6B7F6B2B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7A9E-05A1-4C63-9352-FB518B01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362320" y="2493720"/>
            <a:ext cx="5410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3DD2-F258-4276-B31B-EE4220BE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62320" y="2493720"/>
            <a:ext cx="5410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8988-9608-4F36-A772-DDE63224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62320" y="2493720"/>
            <a:ext cx="26398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34680" y="2493720"/>
            <a:ext cx="26398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41D3-269B-4330-8F43-B628B87B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A7FD-41DE-48FA-8124-0021F803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39640" y="1296720"/>
            <a:ext cx="6095880" cy="48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0FA1-CE6D-4AB6-B993-5FB33423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62320" y="2493720"/>
            <a:ext cx="26398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34680" y="2493720"/>
            <a:ext cx="26398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362320" y="3488760"/>
            <a:ext cx="26398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4F64-3C8A-4F56-835C-49DF5F17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62320" y="2493720"/>
            <a:ext cx="5410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6B84-EF1A-4817-B5E0-75B27423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362320" y="2493720"/>
            <a:ext cx="26398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34680" y="2493720"/>
            <a:ext cx="26398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34680" y="3488760"/>
            <a:ext cx="26398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BC05-B593-46CF-BBBC-D87E86BC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62320" y="2493720"/>
            <a:ext cx="26398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34680" y="2493720"/>
            <a:ext cx="26398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362320" y="3488760"/>
            <a:ext cx="54100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1807-1533-422B-A2BD-4D66296A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62320" y="2493720"/>
            <a:ext cx="54100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362320" y="3488760"/>
            <a:ext cx="54100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5CA1-1A20-4162-A0AD-E110E118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2320" y="2493720"/>
            <a:ext cx="26398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34680" y="2493720"/>
            <a:ext cx="26398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362320" y="3488760"/>
            <a:ext cx="26398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34680" y="3488760"/>
            <a:ext cx="26398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8C70-D4CC-46FE-A00D-B7B50DC7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62320" y="2493720"/>
            <a:ext cx="17416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91480" y="2493720"/>
            <a:ext cx="17416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0640" y="2493720"/>
            <a:ext cx="17416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362320" y="3488760"/>
            <a:ext cx="17416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191480" y="3488760"/>
            <a:ext cx="17416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0640" y="3488760"/>
            <a:ext cx="17416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F437-AB1D-4119-BE9C-DF3FB40A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62320" y="2493720"/>
            <a:ext cx="5410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DCB-F119-404A-BF76-07F36014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62320" y="2493720"/>
            <a:ext cx="26398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4680" y="2493720"/>
            <a:ext cx="26398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9550-50A7-458D-9B2C-97D9E36E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07A-566E-44B0-B11E-C0D628F9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39640" y="1296720"/>
            <a:ext cx="6095880" cy="48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9D4-6A67-4DFB-8F8D-5FE74C3E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62320" y="2493720"/>
            <a:ext cx="26398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4680" y="2493720"/>
            <a:ext cx="26398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62320" y="3488760"/>
            <a:ext cx="26398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028-DA55-496E-888A-C73E9CEE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62320" y="2493720"/>
            <a:ext cx="26398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4680" y="2493720"/>
            <a:ext cx="26398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4680" y="3488760"/>
            <a:ext cx="26398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4C4-DDDB-42A2-8E33-96CBE45A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62320" y="2493720"/>
            <a:ext cx="26398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4680" y="2493720"/>
            <a:ext cx="26398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62320" y="3488760"/>
            <a:ext cx="54100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C9F2-0DD6-449D-A96A-B27B1913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90512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tisSansSerif Extra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70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tisSansSerif Extra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-228600">
              <a:spcBef>
                <a:spcPts val="70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tisSansSerif Extra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RotisSansSerif ExtraBold"/>
            </a:endParaRPr>
          </a:p>
          <a:p>
            <a:pPr lvl="3" marL="1600200" indent="-228600">
              <a:spcBef>
                <a:spcPts val="70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tisSansSerif Extra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RotisSansSerif ExtraBold"/>
            </a:endParaRPr>
          </a:p>
          <a:p>
            <a:pPr lvl="4" marL="2057400" indent="-228600">
              <a:spcBef>
                <a:spcPts val="70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tisSansSerif Extra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RotisSansSerif Extra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tisSansSerif Extra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RotisSansSerif Extra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tisSansSerif Extra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8072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RotisSansSerif Extra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ansSerif ExtraBol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57280" y="6404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RotisSansSerif Extra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ansSerif ExtraBol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tisSansSerif Extra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1170-82CD-4C5E-A979-067CE13DF371}" type="slidenum">
              <a:rPr b="0" lang="en-US" sz="1400" spc="-1" strike="noStrike">
                <a:solidFill>
                  <a:srgbClr val="ffffff"/>
                </a:solidFill>
                <a:latin typeface="RotisSansSerif Extra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84360" y="1162080"/>
            <a:ext cx="635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RotisSansSerif ExtraBold"/>
              </a:rPr>
              <a:t>IBBT – ACF Presentation on I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39640" y="1296720"/>
            <a:ext cx="6095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40056"/>
                </a:solidFill>
                <a:latin typeface="RotisSansSerif ExtraBold"/>
              </a:rPr>
              <a:t>Click to edit the title text format</a:t>
            </a: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37124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RotisSansSerif Extra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ansSerif ExtraBol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962160" y="63914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RotisSansSerif Extra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ansSerif ExtraBol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46712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RotisSansSerif Extra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D3D1-9189-41E2-A55C-A7080C94F5A0}" type="slidenum">
              <a:rPr b="0" lang="en-US" sz="1400" spc="-1" strike="noStrike">
                <a:solidFill>
                  <a:srgbClr val="000000"/>
                </a:solidFill>
                <a:latin typeface="RotisSansSerif Extra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tisSansSerif ExtraBold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914400" algn="ctr">
              <a:spcBef>
                <a:spcPts val="55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3" marL="1371600" algn="ctr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4" marL="1828800" algn="ctr">
              <a:spcBef>
                <a:spcPts val="45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RotisSansSerif ExtraBold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RotisSansSerif ExtraBold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RotisSansSerif Extra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8.xml"/><Relationship Id="rId1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3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slideLayout" Target="../slideLayouts/slideLayout8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11.jpeg"/><Relationship Id="rId6" Type="http://schemas.openxmlformats.org/officeDocument/2006/relationships/image" Target="../media/image14.pn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wmf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35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3.png"/><Relationship Id="rId12" Type="http://schemas.openxmlformats.org/officeDocument/2006/relationships/image" Target="../media/image43.png"/><Relationship Id="rId13" Type="http://schemas.openxmlformats.org/officeDocument/2006/relationships/image" Target="../media/image43.png"/><Relationship Id="rId14" Type="http://schemas.openxmlformats.org/officeDocument/2006/relationships/image" Target="../media/image43.png"/><Relationship Id="rId15" Type="http://schemas.openxmlformats.org/officeDocument/2006/relationships/image" Target="../media/image43.png"/><Relationship Id="rId16" Type="http://schemas.openxmlformats.org/officeDocument/2006/relationships/image" Target="../media/image43.png"/><Relationship Id="rId17" Type="http://schemas.openxmlformats.org/officeDocument/2006/relationships/image" Target="../media/image43.png"/><Relationship Id="rId18" Type="http://schemas.openxmlformats.org/officeDocument/2006/relationships/image" Target="../media/image43.png"/><Relationship Id="rId19" Type="http://schemas.openxmlformats.org/officeDocument/2006/relationships/image" Target="../media/image43.png"/><Relationship Id="rId20" Type="http://schemas.openxmlformats.org/officeDocument/2006/relationships/image" Target="../media/image43.png"/><Relationship Id="rId21" Type="http://schemas.openxmlformats.org/officeDocument/2006/relationships/image" Target="../media/image43.png"/><Relationship Id="rId22" Type="http://schemas.openxmlformats.org/officeDocument/2006/relationships/image" Target="../media/image43.png"/><Relationship Id="rId23" Type="http://schemas.openxmlformats.org/officeDocument/2006/relationships/image" Target="../media/image45.png"/><Relationship Id="rId24" Type="http://schemas.openxmlformats.org/officeDocument/2006/relationships/image" Target="../media/image43.png"/><Relationship Id="rId25" Type="http://schemas.openxmlformats.org/officeDocument/2006/relationships/image" Target="../media/image46.png"/><Relationship Id="rId26" Type="http://schemas.openxmlformats.org/officeDocument/2006/relationships/slideLayout" Target="../slideLayouts/slideLayout5.xml"/><Relationship Id="rId2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nico.verplancke@ibbt.be" TargetMode="External"/><Relationship Id="rId3" Type="http://schemas.openxmlformats.org/officeDocument/2006/relationships/hyperlink" Target="http://www.ibbt.be/" TargetMode="External"/><Relationship Id="rId4" Type="http://schemas.openxmlformats.org/officeDocument/2006/relationships/hyperlink" Target="mailto:rik.vandewalle@ugent.be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9640" y="1916280"/>
            <a:ext cx="59770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d40056"/>
                </a:solidFill>
                <a:latin typeface="RotisSansSerif ExtraBold"/>
              </a:rPr>
              <a:t>IPEA</a:t>
            </a:r>
            <a:endParaRPr b="1" lang="en-US" sz="31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7560" y="2842920"/>
            <a:ext cx="59929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RotisSansSerif ExtraBold"/>
              </a:rPr>
              <a:t>Innovative Platform</a:t>
            </a:r>
            <a:endParaRPr b="0" lang="en-US" sz="3400" spc="-1" strike="noStrike">
              <a:solidFill>
                <a:srgbClr val="000000"/>
              </a:solidFill>
              <a:latin typeface="RotisSansSerif ExtraBold"/>
            </a:endParaRPr>
          </a:p>
          <a:p>
            <a:pPr marL="380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RotisSansSerif ExtraBold"/>
              </a:rPr>
              <a:t>on Electronic Archiving</a:t>
            </a:r>
            <a:endParaRPr b="0" lang="en-US" sz="3400" spc="-1" strike="noStrike">
              <a:solidFill>
                <a:srgbClr val="000000"/>
              </a:solidFill>
              <a:latin typeface="RotisSansSerif ExtraBold"/>
            </a:endParaRPr>
          </a:p>
          <a:p>
            <a:pPr marL="380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  <a:p>
            <a:pPr marL="380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RotisSansSerif ExtraBold"/>
              </a:rPr>
              <a:t>ACF Fair – Brussels, November 2005</a:t>
            </a: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WP3: user research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35280" y="1699920"/>
            <a:ext cx="692784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analyze user requirement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31480" indent="-22608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professional users (e.g., broadcasters, production houses)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31480" indent="-22608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semi-professional users (e.g., education, cultural facilities, government, …)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31480" indent="-22608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domestic user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analyze social and cultural implication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report on types of user requirements / expectance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report on usability research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(answers to) question of policymaker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Lead: Els De Bens (Ghent University-MICT)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891-5466-4DAA-99FF-7583923C6F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State-of-the-Art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34920" y="1699920"/>
            <a:ext cx="65595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Description use case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35480" indent="-282960">
              <a:spcBef>
                <a:spcPts val="45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goal: inventory of existing archiving technologies at Flemish and important European broadcasters – media production houses</a:t>
            </a:r>
            <a:endParaRPr b="0" lang="en-US" sz="18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35480" indent="-282960">
              <a:spcBef>
                <a:spcPts val="45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which cases? </a:t>
            </a:r>
            <a:endParaRPr b="0" lang="en-US" sz="18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68360" y="5805360"/>
            <a:ext cx="1524240" cy="495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92360" y="3860640"/>
            <a:ext cx="1285920" cy="676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203640" y="3716280"/>
            <a:ext cx="952560" cy="1038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284720" y="4149720"/>
            <a:ext cx="1301760" cy="976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1547640" y="4653000"/>
            <a:ext cx="943200" cy="828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2700360" y="4869000"/>
            <a:ext cx="1181160" cy="761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5724360" y="3822840"/>
            <a:ext cx="1001880" cy="877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7072200" y="4022640"/>
            <a:ext cx="1712880" cy="416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940360" y="4797360"/>
            <a:ext cx="1808280" cy="542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4067280" y="5300640"/>
            <a:ext cx="1436760" cy="812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4716360" y="6308640"/>
            <a:ext cx="957240" cy="406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5724360" y="5445000"/>
            <a:ext cx="3218040" cy="820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812000" y="4797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33cc"/>
                </a:solidFill>
                <a:latin typeface="Century Gothic"/>
              </a:rPr>
              <a:t>D&amp;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C964-1676-4879-B00D-CD62BCCFA7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834920" y="1699920"/>
            <a:ext cx="715644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General description 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history 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infrastructure of the archive (personnel, means, localization, …)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public? users? 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current activity of the archive: what is it used for? What kind of material is being archived? How do they archive (which metadata, which search tools, …?)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-34308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Architecture </a:t>
            </a: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metadata model, technical system and video format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-34308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Legal questions, data rights management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28680"/>
            <a:ext cx="6782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State-of-the-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719-36F4-40CC-93E8-A22E928833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834920" y="1699920"/>
            <a:ext cx="715644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Main conclusions Flemish cases 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different ways of archiving: ≠ databases, full-text search ↔ specific search, ≠ metadata, ≠ classifications, …</a:t>
            </a: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from ‘structure’ to ‘no structure at all’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complaints about ‘loss of tapes’, ‘deterioration of material’ and ‘lack of space’ 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small broadcasters (less financial means) wish to co-operate: one centralized archive with easy, fast and cheaper exchange 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digital archiving: some initiatives (big organizations), but between broadcasters no consistency of procedure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State-of-the-Art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0D0-3B87-435D-B609-1B6893F0D8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State-of-the-Art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-458640">
              <a:lnSpc>
                <a:spcPct val="70000"/>
              </a:lnSpc>
              <a:spcBef>
                <a:spcPts val="70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tisSansSerif ExtraBold"/>
              </a:rPr>
              <a:t>Overview of existing metadata models , audiovisual formats and security specifications</a:t>
            </a:r>
            <a:endParaRPr b="0" lang="en-US" sz="28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86240" indent="-39312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theoretical description of their advantages and disadvantage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86240" indent="-39312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metadata models studied: 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6600" indent="-360360">
              <a:lnSpc>
                <a:spcPct val="70000"/>
              </a:lnSpc>
              <a:spcBef>
                <a:spcPts val="55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Dublin Core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6600" indent="-360360">
              <a:lnSpc>
                <a:spcPct val="70000"/>
              </a:lnSpc>
              <a:spcBef>
                <a:spcPts val="55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IFLA model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6600" indent="-360360">
              <a:lnSpc>
                <a:spcPct val="70000"/>
              </a:lnSpc>
              <a:spcBef>
                <a:spcPts val="55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MPEG-7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6600" indent="-360360">
              <a:lnSpc>
                <a:spcPct val="70000"/>
              </a:lnSpc>
              <a:spcBef>
                <a:spcPts val="55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SMPTE Metadata Dictionary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6600" indent="-360360">
              <a:lnSpc>
                <a:spcPct val="70000"/>
              </a:lnSpc>
              <a:spcBef>
                <a:spcPts val="55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FIAT-IFTA model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6600" indent="-360360">
              <a:lnSpc>
                <a:spcPct val="70000"/>
              </a:lnSpc>
              <a:spcBef>
                <a:spcPts val="55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P/Meta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6600" indent="-360360">
              <a:lnSpc>
                <a:spcPct val="70000"/>
              </a:lnSpc>
              <a:spcBef>
                <a:spcPts val="55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SMEF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6600" indent="-360360">
              <a:lnSpc>
                <a:spcPct val="70000"/>
              </a:lnSpc>
              <a:spcBef>
                <a:spcPts val="55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TV-Anytime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6600" indent="-360360">
              <a:lnSpc>
                <a:spcPct val="70000"/>
              </a:lnSpc>
              <a:spcBef>
                <a:spcPts val="55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Blue Order GVDM 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B8E-6EFB-4959-923A-6D4BD0492E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State-of-the-Art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18920" y="1557000"/>
            <a:ext cx="6808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-5472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3. Overview of national and international studies and projects concerning electronic archiving, with a focus on moving picture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118800" indent="-45720">
              <a:spcBef>
                <a:spcPts val="45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national level</a:t>
            </a:r>
            <a:endParaRPr b="0" lang="en-US" sz="1800" spc="-1" strike="noStrike">
              <a:solidFill>
                <a:srgbClr val="000000"/>
              </a:solidFill>
              <a:latin typeface="RotisSansSerif ExtraBold"/>
            </a:endParaRPr>
          </a:p>
          <a:p>
            <a:pPr marL="5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5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5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5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118800" indent="-45720">
              <a:spcBef>
                <a:spcPts val="45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international level</a:t>
            </a:r>
            <a:endParaRPr b="0" lang="en-US" sz="18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708360" y="3376440"/>
            <a:ext cx="3324240" cy="412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979640" y="3352680"/>
            <a:ext cx="1415880" cy="507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620720" y="5770440"/>
            <a:ext cx="1656000" cy="722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4168800" y="5037120"/>
            <a:ext cx="1123920" cy="552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4694400" y="6021360"/>
            <a:ext cx="1000080" cy="39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3560760" y="5864400"/>
            <a:ext cx="723960" cy="733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5537160" y="4599000"/>
            <a:ext cx="1843200" cy="127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1952640" y="4941720"/>
            <a:ext cx="1682640" cy="409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7380360" y="3406680"/>
            <a:ext cx="863640" cy="45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7524720" y="4653000"/>
          <a:ext cx="1428840" cy="91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24720" y="4653000"/>
                    <a:ext cx="14288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8164440" y="5664240"/>
          <a:ext cx="871560" cy="1004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64440" y="5664240"/>
                    <a:ext cx="87156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15"/>
          <a:srcRect l="10142" t="497" r="26781" b="4475"/>
          <a:stretch/>
        </p:blipFill>
        <p:spPr>
          <a:xfrm>
            <a:off x="6327720" y="6043680"/>
            <a:ext cx="159876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626-B86E-4C43-B314-B394134C5D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6781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Research into the needs and expectations with regard to the archiving of digital media and access to digital media by means of face-to-face-interview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267480" indent="-26748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professional users: 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267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267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267480" indent="-26748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users from different sectors: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267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579240" indent="-222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cultural: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579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579240" indent="-222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educational: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579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579240" indent="-222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government: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579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579240" indent="-222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advertising: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579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579240" indent="-222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Flemish residential user: 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54560" y="2982960"/>
            <a:ext cx="1122480" cy="590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811600" y="3233880"/>
            <a:ext cx="1652400" cy="303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8121600" y="2911320"/>
            <a:ext cx="625680" cy="682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7380360" y="3009960"/>
            <a:ext cx="646200" cy="568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4641840" y="3243240"/>
            <a:ext cx="1368360" cy="331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3994200" y="4221000"/>
            <a:ext cx="422280" cy="43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4425840" y="4784760"/>
            <a:ext cx="647640" cy="444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 flipH="1">
            <a:off x="5746320" y="5991120"/>
            <a:ext cx="768600" cy="784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tretch/>
        </p:blipFill>
        <p:spPr>
          <a:xfrm>
            <a:off x="4556160" y="4224240"/>
            <a:ext cx="615960" cy="439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"/>
          <a:stretch/>
        </p:blipFill>
        <p:spPr>
          <a:xfrm>
            <a:off x="4408560" y="5313240"/>
            <a:ext cx="1457280" cy="41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354560" y="5877000"/>
          <a:ext cx="647640" cy="393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54560" y="5877000"/>
                    <a:ext cx="6476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0A3-AFAE-48C7-8247-BA1559875B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79640" y="1628640"/>
            <a:ext cx="67816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Developing a clear set of questions:   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335880" indent="-33588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from general to specific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27920" indent="-28008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why/how do you want to use the archive? 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27920" indent="-28008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how do you wish to pay for these services (and how much)?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27920" indent="-28008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what are the most important search criteria in order to consult the archive?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27920" indent="-28008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what are the technical requirements concerning searching, uploading, viewing (low-res/ high-res), editing, … ?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27920" indent="-28008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what kind of support is needed when using the archive?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27920" indent="-28008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what kind of information do you need about the rights management? 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27920" indent="-28008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0DC-993F-4374-84F0-2AA5BD3835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-27360" y="647064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www.ibbt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39640" y="1398600"/>
            <a:ext cx="6095880" cy="84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d40056"/>
                </a:solidFill>
                <a:latin typeface="RotisSansSerif ExtraBold"/>
              </a:rPr>
              <a:t>Innovative Platform</a:t>
            </a:r>
            <a:br>
              <a:rPr sz="3100"/>
            </a:br>
            <a:r>
              <a:rPr b="1" lang="en-US" sz="3100" spc="-1" strike="noStrike">
                <a:solidFill>
                  <a:srgbClr val="d40056"/>
                </a:solidFill>
                <a:latin typeface="RotisSansSerif ExtraBold"/>
              </a:rPr>
              <a:t>for Electronic Archiving</a:t>
            </a:r>
            <a:endParaRPr b="1" lang="en-US" sz="31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3384720"/>
            <a:ext cx="670572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RotisSansSerif ExtraBold"/>
              </a:rPr>
              <a:t>work package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tisSansSerif ExtraBold"/>
              </a:rPr>
              <a:t>definition of a standardized metadata mod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79640" y="333000"/>
            <a:ext cx="67816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WP4: definition of a standard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metadata model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0720" y="1699920"/>
            <a:ext cx="6782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create overview of the actual used technology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31480" indent="-22608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VMMa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31480" indent="-22608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VRT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define &amp; identify common metadata element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research to acquire metadata in a (semi-) automatically way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special attention for juridical metadata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semantic and syntax standardized metadata element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develop and implement metadata acquisition technique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Lead: Rik Van de Walle (Ghent University-MMLab)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BA71-D6CC-4C52-8AA3-50F6B7A21D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Scope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Digital archiving of multimedia data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initially: TV broadcaster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later: AV data of other sectors (e.g., arts)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Different player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public / commercial sector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university / research facilitie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Question asked to IBBT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co-ordinate existing project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initially: focus TV broadcaster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28E1-C9B9-4A11-B7BA-88F37FECDE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Overview existing metadata standards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619280" y="1628640"/>
          <a:ext cx="7365960" cy="4819680"/>
        </p:xfrm>
        <a:graphic>
          <a:graphicData uri="http://schemas.openxmlformats.org/drawingml/2006/table">
            <a:tbl>
              <a:tblPr/>
              <a:tblGrid>
                <a:gridCol w="1152360"/>
                <a:gridCol w="1400400"/>
                <a:gridCol w="987480"/>
                <a:gridCol w="3825720"/>
              </a:tblGrid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velop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en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ublin C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orld Wide Web consort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notation of web pag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structured list of el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mplified Dublin Core: 15 elements, commonly 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ualified Dublin Core: 18 elements + refin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ed by Blue Or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FLA mod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ernational Federation of Library Associations and Institu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hive for boo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 layers hierarchy: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ork–Expression–Manifestation–I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nk with a person or an organiz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oup according to concept, object or pl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PEG-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ving Picture Experts Gro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2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2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chemas for the description of AV content: content description, content management, content organization, navigation &amp; access, user inter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adata Diction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ciety of Motion Picture and Television Engine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hive for tele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2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adata elements are assigned to metadata classes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) identification, 2) administration, 3) interpretative, 4) parametric, 5) process, 6) relational and 7) spatial-tempo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828-8AAE-4CB1-A828-812FD0421B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Overview existing metadata standards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47640" y="1557360"/>
          <a:ext cx="7428240" cy="4970520"/>
        </p:xfrm>
        <a:graphic>
          <a:graphicData uri="http://schemas.openxmlformats.org/drawingml/2006/table">
            <a:tbl>
              <a:tblPr/>
              <a:tblGrid>
                <a:gridCol w="1154160"/>
                <a:gridCol w="1419480"/>
                <a:gridCol w="996840"/>
                <a:gridCol w="38577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IAT/IF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ernational Federation of Television Archiv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hive for television and mov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imum Data List (MDL): 22 el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structured list of elements collected in 3 groups : identification, technical information and rights inform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/Me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uropean Broadcasting Un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2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/Meta Attributes: semantic of el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/Meta Sets: functional grouping of el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/Meta Values: definition of groups of val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ndard Media Exchange Frame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ritish Broadcasting Corpo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d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tribu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Archivin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 of concepts about production and distribution of  radio and television programs with much attention for rights manag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V-Any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uropean Telecommunications Standards Institu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2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V-anytime = MPEG-7 prof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is standard consists of 4 parts: descriptive metadata, technical metadata, user metadata and spatial temporal meta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neralized Video Data Mod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lue Or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hive for AV cont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re Model: 3 layers hierarchy (Program, Item, and Sequenc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ventory Model: all possible metadata about a Program, an Item or a Sequ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48D-2F7F-422F-B527-19D7ADD382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Realizations: Internal Digital Archive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65280" y="1757520"/>
          <a:ext cx="7399440" cy="46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5280" y="1757520"/>
                    <a:ext cx="739944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7EA-5BB1-463B-834E-E61B4D27D1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Realizations: Exchange Model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92000" y="1650960"/>
            <a:ext cx="7272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Exchange model: P/Meta IPEA profile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-34308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Subset of P/Meta Version 1.1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-34308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P/Meta = semantic framework for the exchange of metadata of audio visual content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-34308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Exchange concepts: brand – program group – program – program item – media object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-34308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Three cornerstone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Attributes Definition List: elementary element which holds information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Sets Definition List: grouping of attributes and set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Value Definition List: lists of possible value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DF3-484F-49E8-B006-2D635E841C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27360" y="647064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www.ibbt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39640" y="1398600"/>
            <a:ext cx="6095880" cy="84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d40056"/>
                </a:solidFill>
                <a:latin typeface="RotisSansSerif ExtraBold"/>
              </a:rPr>
              <a:t>Innovative Platform</a:t>
            </a:r>
            <a:br>
              <a:rPr sz="3100"/>
            </a:br>
            <a:r>
              <a:rPr b="1" lang="en-US" sz="3100" spc="-1" strike="noStrike">
                <a:solidFill>
                  <a:srgbClr val="d40056"/>
                </a:solidFill>
                <a:latin typeface="RotisSansSerif ExtraBold"/>
              </a:rPr>
              <a:t>for Electronic Archiving</a:t>
            </a:r>
            <a:endParaRPr b="1" lang="en-US" sz="31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3384720"/>
            <a:ext cx="670572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RotisSansSerif ExtraBold"/>
              </a:rPr>
              <a:t>work package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tisSansSerif ExtraBold"/>
              </a:rPr>
              <a:t>selection of the AV forma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WP5: selection of the AV formats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79280" y="1773000"/>
            <a:ext cx="68403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60000"/>
              </a:lnSpc>
              <a:spcBef>
                <a:spcPts val="45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create overview of the actual technology</a:t>
            </a:r>
            <a:endParaRPr b="0" lang="en-US" sz="18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-228600">
              <a:lnSpc>
                <a:spcPct val="60000"/>
              </a:lnSpc>
              <a:spcBef>
                <a:spcPts val="45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VMMa</a:t>
            </a:r>
            <a:endParaRPr b="0" lang="en-US" sz="18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-228600">
              <a:lnSpc>
                <a:spcPct val="60000"/>
              </a:lnSpc>
              <a:spcBef>
                <a:spcPts val="45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VRT</a:t>
            </a:r>
            <a:endParaRPr b="0" lang="en-US" sz="18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60000"/>
              </a:lnSpc>
              <a:spcBef>
                <a:spcPts val="45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comparison study and selection of AV formats</a:t>
            </a:r>
            <a:endParaRPr b="0" lang="en-US" sz="18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-228600">
              <a:lnSpc>
                <a:spcPct val="60000"/>
              </a:lnSpc>
              <a:spcBef>
                <a:spcPts val="45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Subjective tests</a:t>
            </a:r>
            <a:endParaRPr b="0" lang="en-US" sz="18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-228600">
              <a:lnSpc>
                <a:spcPct val="60000"/>
              </a:lnSpc>
              <a:spcBef>
                <a:spcPts val="45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Functional comparison</a:t>
            </a:r>
            <a:endParaRPr b="0" lang="en-US" sz="18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-228600">
              <a:lnSpc>
                <a:spcPct val="60000"/>
              </a:lnSpc>
              <a:spcBef>
                <a:spcPts val="45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high resolution</a:t>
            </a:r>
            <a:endParaRPr b="0" lang="en-US" sz="18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-228600">
              <a:lnSpc>
                <a:spcPct val="60000"/>
              </a:lnSpc>
              <a:spcBef>
                <a:spcPts val="45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low resolution (‘browse’ formats)</a:t>
            </a:r>
            <a:endParaRPr b="0" lang="en-US" sz="18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60000"/>
              </a:lnSpc>
              <a:spcBef>
                <a:spcPts val="45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decide 1 AV format or multiple AV formats</a:t>
            </a:r>
            <a:endParaRPr b="0" lang="en-US" sz="18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60000"/>
              </a:lnSpc>
              <a:spcBef>
                <a:spcPts val="45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decide on AV wrapper format</a:t>
            </a:r>
            <a:endParaRPr b="0" lang="en-US" sz="18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60000"/>
              </a:lnSpc>
              <a:spcBef>
                <a:spcPts val="45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overview existing AV formats</a:t>
            </a:r>
            <a:endParaRPr b="0" lang="en-US" sz="18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60000"/>
              </a:lnSpc>
              <a:spcBef>
                <a:spcPts val="45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report comparison study</a:t>
            </a:r>
            <a:endParaRPr b="0" lang="en-US" sz="18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Lead: Peter Schelkens (VUB-ETRO)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B47-811B-4C4E-B26B-C95E746302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Available Technologies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908000" y="1741320"/>
            <a:ext cx="6039000" cy="50356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488760" y="2224080"/>
            <a:ext cx="954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VC/H.2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87880" y="6303960"/>
            <a:ext cx="1828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[Richardson 200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72880" y="148428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entury Gothic"/>
              </a:rPr>
              <a:t>[Richardson 200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60FC-4831-4FEB-864A-CCF20F0EDB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SansSerif ExtraBold"/>
              </a:rPr>
              <a:t>Gap – HDTV </a:t>
            </a:r>
            <a:endParaRPr b="1" lang="en-US" sz="20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RotisSansSerif ExtraBold"/>
              </a:rPr>
              <a:t>HDTV support</a:t>
            </a:r>
            <a:endParaRPr b="0" lang="en-US" sz="28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otisSansSerif ExtraBold"/>
              </a:rPr>
              <a:t>Determination of suitable HDTV resolution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638360" y="1685880"/>
            <a:ext cx="7326360" cy="4695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547640" y="6524640"/>
            <a:ext cx="759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[EBU – tech 3298, “An EBU ‘route map’ to high definition (HD)”, Geneve, October, 2004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C6B2-B428-4665-9F5E-5A0343B154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-27360" y="647064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www.ibbt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39640" y="1398600"/>
            <a:ext cx="6095880" cy="84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d40056"/>
                </a:solidFill>
                <a:latin typeface="RotisSansSerif ExtraBold"/>
              </a:rPr>
              <a:t>Innovative Platform</a:t>
            </a:r>
            <a:br>
              <a:rPr sz="3100"/>
            </a:br>
            <a:r>
              <a:rPr b="1" lang="en-US" sz="3100" spc="-1" strike="noStrike">
                <a:solidFill>
                  <a:srgbClr val="d40056"/>
                </a:solidFill>
                <a:latin typeface="RotisSansSerif ExtraBold"/>
              </a:rPr>
              <a:t>for Electronic Archiving</a:t>
            </a:r>
            <a:endParaRPr b="1" lang="en-US" sz="31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201" name=""/>
          <p:cNvSpPr/>
          <p:nvPr/>
        </p:nvSpPr>
        <p:spPr>
          <a:xfrm>
            <a:off x="2340000" y="3384720"/>
            <a:ext cx="670572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RotisSansSerif ExtraBold"/>
              </a:rPr>
              <a:t>work package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tisSansSerif ExtraBold"/>
              </a:rPr>
              <a:t>security aspec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WP6: security aspects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6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Tasks – study: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2948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639000" indent="-245520">
              <a:lnSpc>
                <a:spcPct val="6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integrate accessibility, distribution and use of digital objects to those object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639000" indent="-245520">
              <a:lnSpc>
                <a:spcPct val="6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access control + privacy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639000" indent="-245520">
              <a:lnSpc>
                <a:spcPct val="6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security on content level (e.g., watermarking)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639000" indent="-245520">
              <a:lnSpc>
                <a:spcPct val="6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accountability of archiving service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639000" indent="-245520">
              <a:lnSpc>
                <a:spcPct val="6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e-payments and e-billing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639000" indent="-245520">
              <a:lnSpc>
                <a:spcPct val="6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cryptography + key management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2948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294840" indent="-294840">
              <a:lnSpc>
                <a:spcPct val="6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Deliverables: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2948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639000" indent="-245520">
              <a:lnSpc>
                <a:spcPct val="6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integrated security model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639000" indent="-245520">
              <a:lnSpc>
                <a:spcPct val="6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legal evaluation of this security model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639000" indent="-245520">
              <a:lnSpc>
                <a:spcPct val="6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report on new or upcoming security technique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639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294840" indent="-294840">
              <a:lnSpc>
                <a:spcPct val="6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Lead: Bart Preneel (K.U.Leuven-COSIC)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EE8F-B53C-47EA-AAC1-51DDC12D5A0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RotisSansSerif ExtraBold"/>
              </a:rPr>
              <a:t>The IBBT?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RotisSansSerif ExtraBold"/>
              </a:rPr>
              <a:t>Flemish research center for interdisciplinary ICT research, founded 2004: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RotisSansSerif ExtraBold"/>
              </a:rPr>
              <a:t>Network, content, legal, social, user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RotisSansSerif ExtraBold"/>
              </a:rPr>
              <a:t>Demand-driven projects, co-funded by the IBBT (contributing knowledge and manpower, not cash)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RotisSansSerif ExtraBold"/>
              </a:rPr>
              <a:t>Projects in cooperation with consortium of companies, aimed at developing one or more demonstrators…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RotisSansSerif ExtraBold"/>
              </a:rPr>
              <a:t>Total Funding: 18 mio €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RotisSansSerif ExtraBold"/>
              </a:rPr>
              <a:t>Domains: media, e-health, mobility, e-gov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RotisSansSerif ExtraBold"/>
              </a:rPr>
              <a:t>www.ibbt.be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F8B-EB6C-455B-BC2A-1050B30B2F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619280" y="1650960"/>
            <a:ext cx="7345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tisSansSerif ExtraBold"/>
              </a:rPr>
              <a:t>Primary security issues: Professional users</a:t>
            </a:r>
            <a:endParaRPr b="0" lang="en-US" sz="28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access control to the digital archive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who has read access to the (hi-res) content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who can change (corrupt) metadata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problem: dynamic group, without pre-defined set of authentication mechanism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integrity of the archive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how do we measure it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who is accountable for the integrity of the archive and the metadata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securing hi-res data in transit between professional users 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RotisSansSerif ExtraBold"/>
              </a:rPr>
              <a:t>Context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DB6-4726-499A-9861-3384B98FAA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-27360" y="647064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www.ibbt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339640" y="1398600"/>
            <a:ext cx="6095880" cy="84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d40056"/>
                </a:solidFill>
                <a:latin typeface="RotisSansSerif ExtraBold"/>
              </a:rPr>
              <a:t>Innovative Platform</a:t>
            </a:r>
            <a:br>
              <a:rPr sz="3100"/>
            </a:br>
            <a:r>
              <a:rPr b="1" lang="en-US" sz="3100" spc="-1" strike="noStrike">
                <a:solidFill>
                  <a:srgbClr val="d40056"/>
                </a:solidFill>
                <a:latin typeface="RotisSansSerif ExtraBold"/>
              </a:rPr>
              <a:t>for Electronic Archiving</a:t>
            </a:r>
            <a:endParaRPr b="1" lang="en-US" sz="31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208" name=""/>
          <p:cNvSpPr/>
          <p:nvPr/>
        </p:nvSpPr>
        <p:spPr>
          <a:xfrm>
            <a:off x="2340000" y="3384720"/>
            <a:ext cx="670572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RotisSansSerif ExtraBold"/>
              </a:rPr>
              <a:t>work package 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tisSansSerif ExtraBold"/>
              </a:rPr>
              <a:t>archite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WP7: architecture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49600" y="1706400"/>
            <a:ext cx="70704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select central vs. distributed data storage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select use of 1 vs. more portal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study security aspect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research and guidelines ‘disaster recovery’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research search engine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implement prototype at the IBBT test facility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architectural description 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implement a prototype at the IBBT Centre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report on the architecture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Lead: André Saegerman (VRT)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B8C-AD7F-4E1C-BDDA-1B075D0955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WP7 - Basic Architecture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212" name=""/>
          <p:cNvSpPr/>
          <p:nvPr/>
        </p:nvSpPr>
        <p:spPr>
          <a:xfrm>
            <a:off x="3835440" y="3384720"/>
            <a:ext cx="1523880" cy="838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78640" y="4603680"/>
            <a:ext cx="2286000" cy="2133720"/>
          </a:xfrm>
          <a:prstGeom prst="rect">
            <a:avLst/>
          </a:prstGeom>
          <a:solidFill>
            <a:srgbClr val="f3d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82840" y="1778040"/>
            <a:ext cx="2971800" cy="122544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569360" y="4680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rcRect l="0" t="14528" r="0" b="22676"/>
          <a:stretch/>
        </p:blipFill>
        <p:spPr>
          <a:xfrm>
            <a:off x="2921040" y="2589120"/>
            <a:ext cx="538200" cy="3384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54160" y="15559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I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rcRect l="16836" t="29539" r="19191" b="38814"/>
          <a:stretch/>
        </p:blipFill>
        <p:spPr>
          <a:xfrm>
            <a:off x="4054320" y="3460680"/>
            <a:ext cx="990720" cy="390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rcRect l="3764" t="22222" r="5814" b="20011"/>
          <a:stretch/>
        </p:blipFill>
        <p:spPr>
          <a:xfrm>
            <a:off x="6578640" y="3689280"/>
            <a:ext cx="990720" cy="536760"/>
          </a:xfrm>
          <a:prstGeom prst="rect">
            <a:avLst/>
          </a:prstGeom>
          <a:ln w="0">
            <a:noFill/>
          </a:ln>
        </p:spPr>
      </p:pic>
      <p:cxnSp>
        <p:nvCxnSpPr>
          <p:cNvPr id="220" name=""/>
          <p:cNvCxnSpPr>
            <a:stCxn id="221" idx="0"/>
            <a:endCxn id="219" idx="0"/>
          </p:cNvCxnSpPr>
          <p:nvPr/>
        </p:nvCxnSpPr>
        <p:spPr>
          <a:xfrm rot="5400000">
            <a:off x="7148520" y="3078720"/>
            <a:ext cx="535680" cy="686520"/>
          </a:xfrm>
          <a:prstGeom prst="bentConnector3">
            <a:avLst>
              <a:gd name="adj1" fmla="val 501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2" name=""/>
          <p:cNvSpPr/>
          <p:nvPr/>
        </p:nvSpPr>
        <p:spPr>
          <a:xfrm>
            <a:off x="4054320" y="384192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FlipFactory (multi forma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654960" y="5060880"/>
            <a:ext cx="685800" cy="581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578640" y="55656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FRONT PO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64440" y="5213520"/>
            <a:ext cx="533520" cy="0"/>
          </a:xfrm>
          <a:prstGeom prst="line">
            <a:avLst/>
          </a:prstGeom>
          <a:ln w="9360">
            <a:solidFill>
              <a:srgbClr val="d6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64440" y="5442120"/>
            <a:ext cx="533520" cy="0"/>
          </a:xfrm>
          <a:prstGeom prst="line">
            <a:avLst/>
          </a:prstGeom>
          <a:ln w="9360">
            <a:solidFill>
              <a:srgbClr val="d6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40760" y="56707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Library  or  Disk Sto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02320" y="41464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Browse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59520" y="2394000"/>
            <a:ext cx="1600200" cy="762120"/>
          </a:xfrm>
          <a:prstGeom prst="cloudCallout">
            <a:avLst>
              <a:gd name="adj1" fmla="val -21129"/>
              <a:gd name="adj2" fmla="val 197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LAN/W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endCxn id="221" idx="1"/>
          </p:cNvCxnSpPr>
          <p:nvPr/>
        </p:nvCxnSpPr>
        <p:spPr>
          <a:xfrm flipV="1">
            <a:off x="5359320" y="2925360"/>
            <a:ext cx="2062440" cy="612000"/>
          </a:xfrm>
          <a:prstGeom prst="bentConnector3">
            <a:avLst>
              <a:gd name="adj1" fmla="val 650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13" idx="0"/>
            <a:endCxn id="221" idx="2"/>
          </p:cNvCxnSpPr>
          <p:nvPr/>
        </p:nvCxnSpPr>
        <p:spPr>
          <a:xfrm flipH="1" flipV="1" rot="5400000">
            <a:off x="7225200" y="3270600"/>
            <a:ext cx="1829520" cy="837360"/>
          </a:xfrm>
          <a:prstGeom prst="bentConnector4">
            <a:avLst>
              <a:gd name="adj1" fmla="val 39578"/>
              <a:gd name="adj2" fmla="val 1274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14" idx="3"/>
            <a:endCxn id="221" idx="3"/>
          </p:cNvCxnSpPr>
          <p:nvPr/>
        </p:nvCxnSpPr>
        <p:spPr>
          <a:xfrm>
            <a:off x="5354280" y="2390400"/>
            <a:ext cx="1610280" cy="384840"/>
          </a:xfrm>
          <a:prstGeom prst="bentConnector3">
            <a:avLst>
              <a:gd name="adj1" fmla="val 497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2308320" y="155088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Re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7721640" y="1690560"/>
            <a:ext cx="380880" cy="322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7577280" y="1827360"/>
            <a:ext cx="380880" cy="322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7493040" y="1967040"/>
            <a:ext cx="380880" cy="322200"/>
          </a:xfrm>
          <a:prstGeom prst="rect">
            <a:avLst/>
          </a:prstGeom>
          <a:ln w="0">
            <a:noFill/>
          </a:ln>
        </p:spPr>
      </p:pic>
      <p:cxnSp>
        <p:nvCxnSpPr>
          <p:cNvPr id="236" name=""/>
          <p:cNvCxnSpPr>
            <a:stCxn id="235" idx="2"/>
            <a:endCxn id="221" idx="4"/>
          </p:cNvCxnSpPr>
          <p:nvPr/>
        </p:nvCxnSpPr>
        <p:spPr>
          <a:xfrm flipH="1" rot="16200000">
            <a:off x="7647840" y="2324880"/>
            <a:ext cx="148320" cy="76680"/>
          </a:xfrm>
          <a:prstGeom prst="bentConnector3">
            <a:avLst>
              <a:gd name="adj1" fmla="val 35279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237" name="" descr=""/>
          <p:cNvPicPr/>
          <p:nvPr/>
        </p:nvPicPr>
        <p:blipFill>
          <a:blip r:embed="rId10"/>
          <a:srcRect l="0" t="14528" r="0" b="22676"/>
          <a:stretch/>
        </p:blipFill>
        <p:spPr>
          <a:xfrm>
            <a:off x="330120" y="2546280"/>
            <a:ext cx="530280" cy="333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87320" y="2927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40160" y="4889520"/>
            <a:ext cx="2514600" cy="1924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43280" y="4984920"/>
            <a:ext cx="1944720" cy="1013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MAM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530160" y="27417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1360" y="22417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Live 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8598800">
            <a:off x="1807200" y="4040640"/>
            <a:ext cx="614160" cy="977760"/>
          </a:xfrm>
          <a:prstGeom prst="downArrow">
            <a:avLst>
              <a:gd name="adj1" fmla="val 54120"/>
              <a:gd name="adj2" fmla="val 391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87520" y="266544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V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9737600">
            <a:off x="4998600" y="4465440"/>
            <a:ext cx="1639800" cy="380880"/>
          </a:xfrm>
          <a:prstGeom prst="leftRightArrow">
            <a:avLst>
              <a:gd name="adj1" fmla="val 47056"/>
              <a:gd name="adj2" fmla="val 712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"/>
          <p:cNvCxnSpPr/>
          <p:nvPr/>
        </p:nvCxnSpPr>
        <p:spPr>
          <a:xfrm flipV="1">
            <a:off x="1115640" y="3079440"/>
            <a:ext cx="6306120" cy="349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7650000" y="145584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B2C – WE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4101840" y="4368600"/>
            <a:ext cx="609480" cy="381240"/>
          </a:xfrm>
          <a:prstGeom prst="leftRightArrow">
            <a:avLst>
              <a:gd name="adj1" fmla="val 50000"/>
              <a:gd name="adj2" fmla="val 318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619000" y="3763800"/>
            <a:ext cx="1752840" cy="380880"/>
          </a:xfrm>
          <a:prstGeom prst="leftRightArrow">
            <a:avLst>
              <a:gd name="adj1" fmla="val 53370"/>
              <a:gd name="adj2" fmla="val 513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30720" y="5589720"/>
            <a:ext cx="1411200" cy="380880"/>
          </a:xfrm>
          <a:prstGeom prst="leftRightArrow">
            <a:avLst>
              <a:gd name="adj1" fmla="val 41676"/>
              <a:gd name="adj2" fmla="val 708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12160" y="437508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Arch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40760" y="605160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( 2 LTO2 additional Drive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40360" y="19368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Restore - Serv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546000" y="2286360"/>
            <a:ext cx="730440" cy="2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71680" y="177156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 Production/Facilit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ipFactory (transcoding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b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Mail (transpo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74960" y="2193840"/>
            <a:ext cx="47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83160" y="26989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1"/>
          <a:stretch/>
        </p:blipFill>
        <p:spPr>
          <a:xfrm>
            <a:off x="7950240" y="1719360"/>
            <a:ext cx="380880" cy="322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2"/>
          <a:stretch/>
        </p:blipFill>
        <p:spPr>
          <a:xfrm>
            <a:off x="7805880" y="1855800"/>
            <a:ext cx="380880" cy="322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3"/>
          <a:stretch/>
        </p:blipFill>
        <p:spPr>
          <a:xfrm>
            <a:off x="7721640" y="1995480"/>
            <a:ext cx="380880" cy="322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4"/>
          <a:stretch/>
        </p:blipFill>
        <p:spPr>
          <a:xfrm>
            <a:off x="8178840" y="1708200"/>
            <a:ext cx="380880" cy="322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5"/>
          <a:stretch/>
        </p:blipFill>
        <p:spPr>
          <a:xfrm>
            <a:off x="8034480" y="1844640"/>
            <a:ext cx="380880" cy="3222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6"/>
          <a:stretch/>
        </p:blipFill>
        <p:spPr>
          <a:xfrm>
            <a:off x="7950240" y="1984320"/>
            <a:ext cx="380880" cy="322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7"/>
          <a:stretch/>
        </p:blipFill>
        <p:spPr>
          <a:xfrm>
            <a:off x="8407440" y="1708200"/>
            <a:ext cx="380880" cy="322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8"/>
          <a:stretch/>
        </p:blipFill>
        <p:spPr>
          <a:xfrm>
            <a:off x="8263080" y="1844640"/>
            <a:ext cx="380880" cy="32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9"/>
          <a:stretch/>
        </p:blipFill>
        <p:spPr>
          <a:xfrm>
            <a:off x="8178840" y="1984320"/>
            <a:ext cx="380880" cy="3222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0"/>
          <a:stretch/>
        </p:blipFill>
        <p:spPr>
          <a:xfrm>
            <a:off x="6807240" y="1631880"/>
            <a:ext cx="380880" cy="3222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1"/>
          <a:stretch/>
        </p:blipFill>
        <p:spPr>
          <a:xfrm>
            <a:off x="6670800" y="1760400"/>
            <a:ext cx="380880" cy="3225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2"/>
          <a:stretch/>
        </p:blipFill>
        <p:spPr>
          <a:xfrm>
            <a:off x="6578640" y="1908000"/>
            <a:ext cx="380880" cy="322560"/>
          </a:xfrm>
          <a:prstGeom prst="rect">
            <a:avLst/>
          </a:prstGeom>
          <a:ln w="0">
            <a:noFill/>
          </a:ln>
        </p:spPr>
      </p:pic>
      <p:cxnSp>
        <p:nvCxnSpPr>
          <p:cNvPr id="270" name=""/>
          <p:cNvCxnSpPr/>
          <p:nvPr/>
        </p:nvCxnSpPr>
        <p:spPr>
          <a:xfrm flipH="1" rot="16200000">
            <a:off x="7122960" y="1848960"/>
            <a:ext cx="207000" cy="991440"/>
          </a:xfrm>
          <a:prstGeom prst="bentConnector3">
            <a:avLst>
              <a:gd name="adj1" fmla="val 6376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6426360" y="145584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B2B / B2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47960" y="315612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Transc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78720" y="2754360"/>
            <a:ext cx="990720" cy="685800"/>
          </a:xfrm>
          <a:prstGeom prst="ellipse">
            <a:avLst/>
          </a:prstGeom>
          <a:solidFill>
            <a:srgbClr val="d40056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BB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43280" y="6051600"/>
            <a:ext cx="1944720" cy="709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D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IP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4160" y="475632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Mediasream - Omneon – T3K - Ingest Restore st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4160" y="22417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E V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6692760" y="4489560"/>
            <a:ext cx="609840" cy="380880"/>
          </a:xfrm>
          <a:prstGeom prst="leftRightArrow">
            <a:avLst>
              <a:gd name="adj1" fmla="val 50000"/>
              <a:gd name="adj2" fmla="val 318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3"/>
          <a:stretch/>
        </p:blipFill>
        <p:spPr>
          <a:xfrm flipH="1">
            <a:off x="1168200" y="2470320"/>
            <a:ext cx="569880" cy="5680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397160" y="2927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4"/>
          <a:stretch/>
        </p:blipFill>
        <p:spPr>
          <a:xfrm>
            <a:off x="4216320" y="2241720"/>
            <a:ext cx="914400" cy="772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5"/>
          <a:srcRect l="10211" t="23928" r="15796" b="16814"/>
          <a:stretch/>
        </p:blipFill>
        <p:spPr>
          <a:xfrm>
            <a:off x="635040" y="3994200"/>
            <a:ext cx="1295280" cy="6112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835440" y="5442120"/>
            <a:ext cx="1828800" cy="990360"/>
          </a:xfrm>
          <a:prstGeom prst="ellipse">
            <a:avLst/>
          </a:prstGeom>
          <a:solidFill>
            <a:srgbClr val="d40056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BB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sear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&amp;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26160" y="2217600"/>
            <a:ext cx="990720" cy="685800"/>
          </a:xfrm>
          <a:prstGeom prst="ellipse">
            <a:avLst/>
          </a:prstGeom>
          <a:solidFill>
            <a:srgbClr val="d40056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BB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44560" y="3057480"/>
            <a:ext cx="990720" cy="685800"/>
          </a:xfrm>
          <a:prstGeom prst="ellipse">
            <a:avLst/>
          </a:prstGeom>
          <a:solidFill>
            <a:srgbClr val="d40056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BB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A7F-E242-4B09-8444-655767A980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-27360" y="647064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www.ibbt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39640" y="1398600"/>
            <a:ext cx="6095880" cy="84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d40056"/>
                </a:solidFill>
                <a:latin typeface="RotisSansSerif ExtraBold"/>
              </a:rPr>
              <a:t>Innovative Platform</a:t>
            </a:r>
            <a:br>
              <a:rPr sz="3100"/>
            </a:br>
            <a:r>
              <a:rPr b="1" lang="en-US" sz="3100" spc="-1" strike="noStrike">
                <a:solidFill>
                  <a:srgbClr val="d40056"/>
                </a:solidFill>
                <a:latin typeface="RotisSansSerif ExtraBold"/>
              </a:rPr>
              <a:t>for Electronic Archiving</a:t>
            </a:r>
            <a:endParaRPr b="1" lang="en-US" sz="31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287" name=""/>
          <p:cNvSpPr/>
          <p:nvPr/>
        </p:nvSpPr>
        <p:spPr>
          <a:xfrm>
            <a:off x="2340000" y="3384720"/>
            <a:ext cx="670572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RotisSansSerif ExtraBold"/>
              </a:rPr>
              <a:t>work package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tisSansSerif ExtraBold"/>
              </a:rPr>
              <a:t>business model develop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WP8: business cases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research possibilities economical valorization 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develop concrete business case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-34308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analysis of the business case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-34308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Lead: Romain Landrie (Videohouse)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2E4-E8F2-45A9-A5B9-9183DD5AF61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Existing business models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640" y="1557000"/>
            <a:ext cx="7129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tisSansSerif ExtraBold"/>
              </a:rPr>
              <a:t>Beeld en Geluid in the Netherlands:</a:t>
            </a:r>
            <a:endParaRPr b="0" lang="en-US" sz="28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13160" indent="-27432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central archiving system for the public broadcaster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329040" indent="-329040">
              <a:spcBef>
                <a:spcPts val="70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tisSansSerif ExtraBold"/>
              </a:rPr>
              <a:t>Incubateur Wallon: </a:t>
            </a:r>
            <a:endParaRPr b="0" lang="en-US" sz="28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13160" indent="-27432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common initiative from the Walloon government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13160" indent="-27432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the public broadcaster and the commercial 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13160" indent="-27432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broadcasters in de Walloon region of Belgium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329040" indent="-329040">
              <a:spcBef>
                <a:spcPts val="70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tisSansSerif ExtraBold"/>
              </a:rPr>
              <a:t>BBC Motion Gallery:</a:t>
            </a:r>
            <a:endParaRPr b="0" lang="en-US" sz="28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13160" indent="-27432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portal with numerous shots from BBC and BBC new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39BC-A8C9-4436-9106-1F2C4C7E88C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Gaps &amp; Goals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tisSansSerif ExtraBold"/>
              </a:rPr>
              <a:t>Gaps</a:t>
            </a:r>
            <a:endParaRPr b="0" lang="en-US" sz="28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no central data-base of AV-content and no AV-exchange and archiving standards in the Flanders Region of Belgium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-343080">
              <a:spcBef>
                <a:spcPts val="70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tisSansSerif ExtraBold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common business model for AV-content archiving and AV-exchange in Flander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160-7A35-4D2F-BF7B-7DC2BE051CE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Final conclusions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63280" y="1700280"/>
            <a:ext cx="7056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Large interest in Flanders region of Belgium for a common archiving system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The IPEA research project will deliver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a standardized metadata set to exchange AV content between broadcasters and AV archives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in a secure way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with technologically sound recommendation for usable AV formats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and enables optimized archive consumption for professional and semi-professional users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with economically sound concept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and demonstrated with a live test architecture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063-EFBA-4493-8AF5-E053E49C0DF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Contact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63280" y="1700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tisSansSerif ExtraBold"/>
              </a:rPr>
              <a:t>Nico Verplancke</a:t>
            </a:r>
            <a:endParaRPr b="0" lang="en-US" sz="25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IBBT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Gaston Crommenlaan 8, B-9050 Ledeberg-Gent, Belgium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e-mail: </a:t>
            </a:r>
            <a:r>
              <a:rPr b="0" lang="en-US" sz="2200" spc="-1" strike="noStrike" u="sng">
                <a:solidFill>
                  <a:srgbClr val="99cc00"/>
                </a:solidFill>
                <a:uFillTx/>
                <a:latin typeface="RotisSansSerif ExtraBold"/>
                <a:hlinkClick r:id="rId2"/>
              </a:rPr>
              <a:t>nico.verplancke@ibbt.be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 u="sng">
                <a:solidFill>
                  <a:srgbClr val="99cc00"/>
                </a:solidFill>
                <a:uFillTx/>
                <a:latin typeface="RotisSansSerif ExtraBold"/>
                <a:hlinkClick r:id="rId3"/>
              </a:rPr>
              <a:t>www.ibbt.be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Rik Van de Walle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Ghent University – IBBT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dept. of Electronics and Information Systems - MMLab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Gaston Crommenlaan 8, B-9050 Ledeberg-Gent, Belgium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tisSansSerif ExtraBold"/>
              </a:rPr>
              <a:t>e-mail: </a:t>
            </a:r>
            <a:r>
              <a:rPr b="0" lang="en-US" sz="2200" spc="-1" strike="noStrike" u="sng">
                <a:solidFill>
                  <a:srgbClr val="99cc00"/>
                </a:solidFill>
                <a:uFillTx/>
                <a:latin typeface="RotisSansSerif ExtraBold"/>
                <a:hlinkClick r:id="rId4"/>
              </a:rPr>
              <a:t>rik.vandewalle@ugent.be</a:t>
            </a: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3E7-3C13-4053-A8B7-D47B05A6188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IPEA in 1 Slide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Co-ordinating an interdisciplinary research program about electronic archiving in the Flander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what is the state-of-the-art?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analyze user requirements and social en cultural implication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define a standardized exchange metadata model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select AV format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security aspect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architectural study &amp; prototype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possible business case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RotisSansSerif ExtraBold"/>
              </a:rPr>
              <a:t>interdisciplinary</a:t>
            </a: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 research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C8B-5AD4-43D3-9CD1-69263CB40C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11280" y="2342880"/>
            <a:ext cx="609624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d40056"/>
                </a:solidFill>
                <a:latin typeface="RotisSansSerif ExtraBold"/>
              </a:rPr>
              <a:t>The end…</a:t>
            </a:r>
            <a:endParaRPr b="1" lang="en-US" sz="40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2433600" y="3539880"/>
            <a:ext cx="5410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RotisSansSerif ExtraBold"/>
              </a:rPr>
              <a:t>THANK YOU!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Partners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Videohouse (SME, Romain Landrie)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VMMa (commercial broadcaster, Jozef Mertens)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VRT (public broadcaster, André Saegerman)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IBBT-research group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Ghent University-Multimedia Lab (Rik Van de Walle)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Ghent University-MICT (Els De Bens)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K.U.Leuven-COSIC (Bart Preneel)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K.U.Leuven-CUO (Dirk De Grooff)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K.U.Leuven-ICRI (Jos Dumortier)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VUB-ETRO (Peter Schelkens)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VUB-SMIT (Caroline Pauwels)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11040" y="3305160"/>
            <a:ext cx="795600" cy="419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4920" y="2454120"/>
            <a:ext cx="1238400" cy="227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73040" y="2743200"/>
            <a:ext cx="471600" cy="514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06360" y="5153040"/>
            <a:ext cx="806400" cy="806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264960" y="3868560"/>
            <a:ext cx="889200" cy="722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81080" y="4741920"/>
            <a:ext cx="1057320" cy="27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13F-99CA-44A8-9E46-FD4A653DB9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Scale &amp; Duration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36.5 man year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-22860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6.9 industry, with 3.0 SME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-22860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8.3 public sector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-22860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21.3 IBBT-research group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50%-50% financing IBBT vs. other partner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-343080"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2 year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43040" indent="-285840"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01/01/2005 – 31/12/2006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2717-8412-48A3-80CB-9542298580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339640" y="3384360"/>
            <a:ext cx="670572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RotisSansSerif ExtraBold"/>
              </a:rPr>
              <a:t>work package 1</a:t>
            </a:r>
            <a:endParaRPr b="0" lang="en-US" sz="3000" spc="-1" strike="noStrike">
              <a:solidFill>
                <a:srgbClr val="000000"/>
              </a:solidFill>
              <a:latin typeface="RotisSansSerif ExtraBold"/>
            </a:endParaRPr>
          </a:p>
          <a:p>
            <a:pPr marL="380880" indent="-3808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RotisSansSerif ExtraBold"/>
              </a:rPr>
              <a:t>project management</a:t>
            </a:r>
            <a:endParaRPr b="0" lang="en-US" sz="19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109" name=""/>
          <p:cNvSpPr/>
          <p:nvPr/>
        </p:nvSpPr>
        <p:spPr>
          <a:xfrm>
            <a:off x="-27360" y="647064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www.ibbt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339640" y="1398600"/>
            <a:ext cx="6095880" cy="84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d40056"/>
                </a:solidFill>
                <a:latin typeface="RotisSansSerif ExtraBold"/>
              </a:rPr>
              <a:t>Innovative Platform</a:t>
            </a:r>
            <a:br>
              <a:rPr sz="3100"/>
            </a:br>
            <a:r>
              <a:rPr b="1" lang="en-US" sz="3100" spc="-1" strike="noStrike">
                <a:solidFill>
                  <a:srgbClr val="d40056"/>
                </a:solidFill>
                <a:latin typeface="RotisSansSerif ExtraBold"/>
              </a:rPr>
              <a:t>for Electronic Archiving</a:t>
            </a:r>
            <a:endParaRPr b="1" lang="en-US" sz="3100" spc="-1" strike="noStrike">
              <a:solidFill>
                <a:srgbClr val="d40056"/>
              </a:solidFill>
              <a:latin typeface="RotisSansSerif Extra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27360" y="647064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www.ibbt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39640" y="1398600"/>
            <a:ext cx="6095880" cy="84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d40056"/>
                </a:solidFill>
                <a:latin typeface="RotisSansSerif ExtraBold"/>
              </a:rPr>
              <a:t>Innovative Platform</a:t>
            </a:r>
            <a:br>
              <a:rPr sz="3100"/>
            </a:br>
            <a:r>
              <a:rPr b="1" lang="en-US" sz="3100" spc="-1" strike="noStrike">
                <a:solidFill>
                  <a:srgbClr val="d40056"/>
                </a:solidFill>
                <a:latin typeface="RotisSansSerif ExtraBold"/>
              </a:rPr>
              <a:t>for Electronic Archiving</a:t>
            </a:r>
            <a:endParaRPr b="1" lang="en-US" sz="3100" spc="-1" strike="noStrike">
              <a:solidFill>
                <a:srgbClr val="d40056"/>
              </a:solidFill>
              <a:latin typeface="RotisSansSerif ExtraBold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3384720"/>
            <a:ext cx="670572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RotisSansSerif ExtraBold"/>
              </a:rPr>
              <a:t>work package 2 +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RotisSansSerif ExtraBold"/>
              </a:rPr>
              <a:t>state-of-the-art &amp; user resear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0720" y="328320"/>
            <a:ext cx="67820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WP2: state-of-the-a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RotisSansSerif ExtraBold"/>
              </a:rPr>
              <a:t>electronic archiving</a:t>
            </a:r>
            <a:endParaRPr b="1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13160" indent="-27432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create overview of current actions / initiative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097280" indent="-2192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study acceptance of digital archive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097280" indent="-2192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study existing use cases (e.g., “Beeld &amp; Geluid”)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097280" indent="-2192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initiatives public and commercial broadcaster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097280" indent="-2192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metadata technologies / standard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097280" indent="-2192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097280" indent="-2192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government policies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2" marL="1097280" indent="-21924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legislation (e.g., privacy, security, DRM, …)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329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13160" indent="-274320">
              <a:lnSpc>
                <a:spcPct val="70000"/>
              </a:lnSpc>
              <a:spcBef>
                <a:spcPts val="499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ansSerif ExtraBold"/>
              </a:rPr>
              <a:t>state-of-the-art report</a:t>
            </a: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lvl="1" marL="713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ansSerif ExtraBold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buClr>
                <a:srgbClr val="d400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SansSerif ExtraBold"/>
              </a:rPr>
              <a:t>Lead: Frank Mathys (VMMa)</a:t>
            </a:r>
            <a:endParaRPr b="0" lang="en-US" sz="2400" spc="-1" strike="noStrike">
              <a:solidFill>
                <a:srgbClr val="000000"/>
              </a:solidFill>
              <a:latin typeface="RotisSansSerif Extra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1160-1BA9-4BF6-B48D-948116993C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3:32:50Z</dcterms:created>
  <dc:creator>Nico Verplancke</dc:creator>
  <dc:description/>
  <dc:language>en-US</dc:language>
  <cp:lastModifiedBy>Nico Verplancke</cp:lastModifiedBy>
  <dcterms:modified xsi:type="dcterms:W3CDTF">2005-11-10T14:34:43Z</dcterms:modified>
  <cp:revision>5</cp:revision>
  <dc:subject/>
  <dc:title>IPE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