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0F1B1-D610-456D-A3C7-1202FBEE9B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1051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0769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3915360"/>
            <a:ext cx="80769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D8D99-C651-41A7-8053-74413F23B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1051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080" y="144756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91536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080" y="391536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47AA7-B982-45DA-AA6A-D49F51A5F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1051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4480" y="144756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5800" y="144756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391536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4480" y="391536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5800" y="391536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B2CBA-2BED-4040-9B83-3544F4ACEB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C4ED-B662-4125-99B4-A59D7E7DC4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1051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520" y="144756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F756-AF84-4ADA-8A1E-53770514A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1051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4817-0A80-4D3A-80DB-76D95E47C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1051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3941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080" y="1447560"/>
            <a:ext cx="3941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EE11-3D20-4C05-A232-BDEBE9D24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1051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DC05-2232-452E-BE1C-24B7B7D26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160" y="380520"/>
            <a:ext cx="510516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0A77-1543-4F2E-A094-6BE0F8E57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1051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080" y="1447560"/>
            <a:ext cx="3941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520" y="391536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96A1-3D75-4BD8-9E2B-366F74A0F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1051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44756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37ECD-D270-4B1F-B94E-0D224C44C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1051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3941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080" y="144756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080" y="391536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FDEB-0BEF-4DF2-9A5C-FE072FC71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1051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080" y="144756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15360"/>
            <a:ext cx="80769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18C3-017E-4095-9BFA-8DAD9681E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1051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0769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520" y="3915360"/>
            <a:ext cx="80769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FAED-8319-4F4F-AE2E-7BDE004B6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1051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080" y="144756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391536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080" y="391536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2348-3162-4924-B926-C5F4D3E24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1051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64480" y="144756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5800" y="144756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520" y="391536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64480" y="391536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5800" y="391536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597E-1C2A-4329-9DEB-14760CC2EB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1051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F802D-300A-4160-ACE9-05E1EE339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1051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3941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080" y="1447560"/>
            <a:ext cx="3941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0E6C3-5ADF-415E-B18D-CA6454C94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1051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E6A04-87C4-4551-AA2B-1BB0C49A5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160" y="380520"/>
            <a:ext cx="510516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3D94C-6D43-4661-9350-2D947E0C9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1051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080" y="1447560"/>
            <a:ext cx="3941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391536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15A0C-D25D-4EE3-B912-FABC2EEAE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1051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3941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080" y="144756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080" y="391536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93EA2-90CC-4BF6-BF73-507A6EEE1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1051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080" y="144756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3915360"/>
            <a:ext cx="80769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A801D-B999-46B3-99E0-0D2A988B6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520" y="144756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5120" indent="-195120">
              <a:spcBef>
                <a:spcPts val="499"/>
              </a:spcBef>
              <a:buClr>
                <a:srgbClr val="0042a3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a3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  <a:p>
            <a:pPr lvl="1" marL="574560" indent="-188640">
              <a:spcBef>
                <a:spcPts val="499"/>
              </a:spcBef>
              <a:buClr>
                <a:srgbClr val="0042a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a3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  <a:p>
            <a:pPr lvl="2" marL="955800" indent="-190800">
              <a:spcBef>
                <a:spcPts val="499"/>
              </a:spcBef>
              <a:buClr>
                <a:srgbClr val="0042a3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a3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  <a:p>
            <a:pPr lvl="3" marL="1335240" indent="-189000">
              <a:spcBef>
                <a:spcPts val="499"/>
              </a:spcBef>
              <a:buClr>
                <a:srgbClr val="0042a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a3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  <a:p>
            <a:pPr lvl="4" marL="1714680" indent="-189000">
              <a:spcBef>
                <a:spcPts val="499"/>
              </a:spcBef>
              <a:buClr>
                <a:srgbClr val="0042a3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a3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  <a:p>
            <a:pPr lvl="5" marL="1714680" indent="-189000">
              <a:spcBef>
                <a:spcPts val="499"/>
              </a:spcBef>
              <a:buClr>
                <a:srgbClr val="0042a3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a3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  <a:p>
            <a:pPr lvl="6" marL="1714680" indent="-189000">
              <a:spcBef>
                <a:spcPts val="499"/>
              </a:spcBef>
              <a:buClr>
                <a:srgbClr val="0042a3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a3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9436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a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89278-9F48-4795-A281-AA4CCABB5C78}" type="datetime">
              <a:rPr b="0" lang="en-US" sz="900" spc="-1" strike="noStrike">
                <a:solidFill>
                  <a:srgbClr val="0042a3"/>
                </a:solidFill>
                <a:latin typeface="Verdana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8483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a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95CFF-2C7C-462E-B707-9C0695466B76}" type="slidenum">
              <a:rPr b="0" lang="en-US" sz="900" spc="-1" strike="noStrike">
                <a:solidFill>
                  <a:srgbClr val="0042a3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rcRect l="0" t="0" r="0" b="24865"/>
          <a:stretch/>
        </p:blipFill>
        <p:spPr>
          <a:xfrm>
            <a:off x="0" y="0"/>
            <a:ext cx="9145440" cy="130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533160" y="380520"/>
            <a:ext cx="51051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89512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2a3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42a3"/>
              </a:solidFill>
              <a:latin typeface="Verdana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rcRect l="0" t="0" r="0" b="24865"/>
          <a:stretch/>
        </p:blipFill>
        <p:spPr>
          <a:xfrm>
            <a:off x="0" y="0"/>
            <a:ext cx="9145440" cy="1305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sldNum" idx="3"/>
          </p:nvPr>
        </p:nvSpPr>
        <p:spPr>
          <a:xfrm>
            <a:off x="78483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a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1C65D-1A96-4474-9AE0-D0FFD7F0C9F1}" type="slidenum">
              <a:rPr b="0" lang="en-US" sz="900" spc="-1" strike="noStrike">
                <a:solidFill>
                  <a:srgbClr val="0042a3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9436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a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6771C-C33F-4972-BC37-97828059F4D5}" type="datetime">
              <a:rPr b="0" lang="en-US" sz="900" spc="-1" strike="noStrike">
                <a:solidFill>
                  <a:srgbClr val="0042a3"/>
                </a:solidFill>
                <a:latin typeface="Verdana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a3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  <a:p>
            <a:pPr lvl="1" marL="38592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a3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  <a:p>
            <a:pPr lvl="2" marL="765000" algn="ctr">
              <a:spcBef>
                <a:spcPts val="499"/>
              </a:spcBef>
              <a:buClr>
                <a:srgbClr val="0042a3"/>
              </a:buClr>
              <a:buSzPct val="85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a3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  <a:p>
            <a:pPr lvl="3" marL="1146240" algn="ctr">
              <a:spcBef>
                <a:spcPts val="499"/>
              </a:spcBef>
              <a:buClr>
                <a:srgbClr val="0042a3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a3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  <a:p>
            <a:pPr lvl="4" marL="1525680" algn="ctr">
              <a:spcBef>
                <a:spcPts val="499"/>
              </a:spcBef>
              <a:buClr>
                <a:srgbClr val="0042a3"/>
              </a:buClr>
              <a:buSzPct val="85000"/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a3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  <a:p>
            <a:pPr lvl="5" marL="1525680">
              <a:spcBef>
                <a:spcPts val="499"/>
              </a:spcBef>
              <a:buClr>
                <a:srgbClr val="0042a3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a3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  <a:p>
            <a:pPr lvl="6" marL="1525680">
              <a:spcBef>
                <a:spcPts val="499"/>
              </a:spcBef>
              <a:buClr>
                <a:srgbClr val="0042a3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a3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2895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2a3"/>
                </a:solidFill>
                <a:latin typeface="Verdana"/>
              </a:rPr>
              <a:t>TITAN Conference</a:t>
            </a:r>
            <a:br>
              <a:rPr sz="3200"/>
            </a:br>
            <a:r>
              <a:rPr b="0" lang="en-GB" sz="3200" spc="-1" strike="noStrike">
                <a:solidFill>
                  <a:srgbClr val="0042a3"/>
                </a:solidFill>
                <a:latin typeface="Verdana"/>
              </a:rPr>
              <a:t>Broadband Access to the PAB</a:t>
            </a:r>
            <a:endParaRPr b="0" lang="en-US" sz="3200" spc="-1" strike="noStrike">
              <a:solidFill>
                <a:srgbClr val="0042a3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3352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2a3"/>
                </a:solidFill>
                <a:latin typeface="Verdana"/>
              </a:rPr>
              <a:t>November 18, 2005</a:t>
            </a: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2a3"/>
                </a:solidFill>
                <a:latin typeface="Verdana"/>
              </a:rPr>
              <a:t>Patrice d’Oultremont</a:t>
            </a: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E2DF-9342-40D2-8D5E-A95ACB8176B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1051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Verdana"/>
              </a:rPr>
              <a:t>Agend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8286480" cy="46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66800" indent="-380880">
              <a:spcBef>
                <a:spcPts val="499"/>
              </a:spcBef>
              <a:buClr>
                <a:srgbClr val="0042a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a3"/>
                </a:solidFill>
                <a:latin typeface="Verdana"/>
              </a:rPr>
              <a:t>Available Technologies</a:t>
            </a: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  <a:p>
            <a:pPr lvl="1" marL="766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  <a:p>
            <a:pPr lvl="1" marL="766800" indent="-380880">
              <a:spcBef>
                <a:spcPts val="499"/>
              </a:spcBef>
              <a:buClr>
                <a:srgbClr val="0042a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a3"/>
                </a:solidFill>
                <a:latin typeface="Verdana"/>
              </a:rPr>
              <a:t>Scope for « convergence » in infrastructure and services</a:t>
            </a: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  <a:p>
            <a:pPr lvl="1" marL="766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  <a:p>
            <a:pPr lvl="1" marL="766800" indent="-380880">
              <a:spcBef>
                <a:spcPts val="499"/>
              </a:spcBef>
              <a:buClr>
                <a:srgbClr val="0042a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a3"/>
                </a:solidFill>
                <a:latin typeface="Verdana"/>
              </a:rPr>
              <a:t>Competitive landscape :</a:t>
            </a: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  <a:p>
            <a:pPr lvl="2" marL="1146240" indent="-381240">
              <a:spcBef>
                <a:spcPts val="499"/>
              </a:spcBef>
              <a:buClr>
                <a:srgbClr val="0042a3"/>
              </a:buClr>
              <a:buSzPct val="8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a3"/>
                </a:solidFill>
                <a:latin typeface="Verdana"/>
              </a:rPr>
              <a:t>Access to contents</a:t>
            </a: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  <a:p>
            <a:pPr lvl="2" marL="1146240" indent="-381240">
              <a:spcBef>
                <a:spcPts val="499"/>
              </a:spcBef>
              <a:buClr>
                <a:srgbClr val="0042a3"/>
              </a:buClr>
              <a:buSzPct val="8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a3"/>
                </a:solidFill>
                <a:latin typeface="Verdana"/>
              </a:rPr>
              <a:t>Delivery of contents</a:t>
            </a: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  <a:p>
            <a:pPr lvl="2" marL="11462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  <a:p>
            <a:pPr lvl="1" marL="766800" indent="-380880">
              <a:spcBef>
                <a:spcPts val="499"/>
              </a:spcBef>
              <a:buClr>
                <a:srgbClr val="0042a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a3"/>
                </a:solidFill>
                <a:latin typeface="Verdana"/>
              </a:rPr>
              <a:t>The regulatory « hot potato »</a:t>
            </a: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  <a:p>
            <a:pPr lvl="1" marL="766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  <a:p>
            <a:pPr lvl="1" marL="766800" indent="-380880">
              <a:spcBef>
                <a:spcPts val="499"/>
              </a:spcBef>
              <a:buClr>
                <a:srgbClr val="0042a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a3"/>
                </a:solidFill>
                <a:latin typeface="Verdana"/>
              </a:rPr>
              <a:t>Conclusions</a:t>
            </a: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8359B-7964-4650-A632-65F467E41DC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1051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Verdana"/>
              </a:rPr>
              <a:t>1. Available technologi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286480" cy="470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66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42a3"/>
              </a:buClr>
              <a:buSzPct val="8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a3"/>
                </a:solidFill>
                <a:latin typeface="Verdana"/>
              </a:rPr>
              <a:t>Fixed networks</a:t>
            </a: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  <a:p>
            <a:pPr lvl="2" marL="1146240" indent="-381240">
              <a:lnSpc>
                <a:spcPct val="80000"/>
              </a:lnSpc>
              <a:spcBef>
                <a:spcPts val="499"/>
              </a:spcBef>
              <a:buClr>
                <a:srgbClr val="0042a3"/>
              </a:buClr>
              <a:buSzPct val="8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a3"/>
                </a:solidFill>
                <a:latin typeface="Verdana"/>
              </a:rPr>
              <a:t>Coaxial Cable (EURO DOC.SYS)</a:t>
            </a: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  <a:p>
            <a:pPr lvl="2" marL="1146240" indent="-381240">
              <a:lnSpc>
                <a:spcPct val="80000"/>
              </a:lnSpc>
              <a:spcBef>
                <a:spcPts val="499"/>
              </a:spcBef>
              <a:buClr>
                <a:srgbClr val="0042a3"/>
              </a:buClr>
              <a:buSzPct val="8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a3"/>
                </a:solidFill>
                <a:latin typeface="Verdana"/>
              </a:rPr>
              <a:t>Over the air TV (analog and digital)</a:t>
            </a: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  <a:p>
            <a:pPr lvl="2" marL="1146240" indent="-381240">
              <a:lnSpc>
                <a:spcPct val="80000"/>
              </a:lnSpc>
              <a:spcBef>
                <a:spcPts val="499"/>
              </a:spcBef>
              <a:buClr>
                <a:srgbClr val="0042a3"/>
              </a:buClr>
              <a:buSzPct val="8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a3"/>
                </a:solidFill>
                <a:latin typeface="Verdana"/>
              </a:rPr>
              <a:t>Over the air TNT (DVB-T)</a:t>
            </a: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  <a:p>
            <a:pPr lvl="2" marL="1146240" indent="-381240">
              <a:lnSpc>
                <a:spcPct val="80000"/>
              </a:lnSpc>
              <a:spcBef>
                <a:spcPts val="499"/>
              </a:spcBef>
              <a:buClr>
                <a:srgbClr val="0042a3"/>
              </a:buClr>
              <a:buSzPct val="8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a3"/>
                </a:solidFill>
                <a:latin typeface="Verdana"/>
              </a:rPr>
              <a:t>« Copper » pair (DSL)</a:t>
            </a: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  <a:p>
            <a:pPr lvl="1" marL="766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a3"/>
                </a:solidFill>
                <a:latin typeface="Verdana"/>
              </a:rPr>
              <a:t>b) Mobile networks</a:t>
            </a: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  <a:p>
            <a:pPr lvl="2" marL="1146240" indent="-381240">
              <a:lnSpc>
                <a:spcPct val="80000"/>
              </a:lnSpc>
              <a:spcBef>
                <a:spcPts val="499"/>
              </a:spcBef>
              <a:buClr>
                <a:srgbClr val="0042a3"/>
              </a:buClr>
              <a:buSzPct val="8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a3"/>
                </a:solidFill>
                <a:latin typeface="Verdana"/>
              </a:rPr>
              <a:t>2G/3G networks media capabilities including DVB-H</a:t>
            </a: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  <a:p>
            <a:pPr lvl="2" marL="1146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3339D-4229-4E8E-88F5-D991ACC007A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61261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Verdana"/>
              </a:rPr>
              <a:t>2. Scope for convergence in </a:t>
            </a:r>
            <a:br>
              <a:rPr sz="2400"/>
            </a:br>
            <a:r>
              <a:rPr b="0" lang="fr-BE" sz="2400" spc="-1" strike="noStrike">
                <a:solidFill>
                  <a:srgbClr val="ffffff"/>
                </a:solidFill>
                <a:latin typeface="Verdana"/>
              </a:rPr>
              <a:t>    infrastructures and servic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286480" cy="470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66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42a3"/>
              </a:buClr>
              <a:buSzPct val="8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42a3"/>
                </a:solidFill>
                <a:latin typeface="Verdana"/>
              </a:rPr>
              <a:t>Short term perspective. Infrastructure competition is raging.</a:t>
            </a: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  <a:p>
            <a:pPr lvl="2" marL="1146240" indent="-381240">
              <a:lnSpc>
                <a:spcPct val="80000"/>
              </a:lnSpc>
              <a:spcBef>
                <a:spcPts val="499"/>
              </a:spcBef>
              <a:buClr>
                <a:srgbClr val="0042a3"/>
              </a:buClr>
              <a:buSzPct val="8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 u="sng">
                <a:solidFill>
                  <a:srgbClr val="0042a3"/>
                </a:solidFill>
                <a:uFillTx/>
                <a:latin typeface="Verdana"/>
              </a:rPr>
              <a:t>Infrastructures</a:t>
            </a:r>
            <a:r>
              <a:rPr b="0" lang="fr-BE" sz="2000" spc="-1" strike="noStrike">
                <a:solidFill>
                  <a:srgbClr val="0042a3"/>
                </a:solidFill>
                <a:latin typeface="Verdana"/>
              </a:rPr>
              <a:t> : too soon …. or too late</a:t>
            </a: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  <a:p>
            <a:pPr lvl="2" marL="1146240" indent="-381240">
              <a:lnSpc>
                <a:spcPct val="80000"/>
              </a:lnSpc>
              <a:spcBef>
                <a:spcPts val="499"/>
              </a:spcBef>
              <a:buClr>
                <a:srgbClr val="0042a3"/>
              </a:buClr>
              <a:buSzPct val="8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 u="sng">
                <a:solidFill>
                  <a:srgbClr val="0042a3"/>
                </a:solidFill>
                <a:uFillTx/>
                <a:latin typeface="Verdana"/>
              </a:rPr>
              <a:t>Services</a:t>
            </a:r>
            <a:r>
              <a:rPr b="0" lang="fr-BE" sz="2000" spc="-1" strike="noStrike">
                <a:solidFill>
                  <a:srgbClr val="0042a3"/>
                </a:solidFill>
                <a:latin typeface="Verdana"/>
              </a:rPr>
              <a:t> :</a:t>
            </a: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  <a:p>
            <a:pPr lvl="4" marL="1906560" indent="-380880">
              <a:lnSpc>
                <a:spcPct val="80000"/>
              </a:lnSpc>
              <a:spcBef>
                <a:spcPts val="499"/>
              </a:spcBef>
              <a:buClr>
                <a:srgbClr val="0042a3"/>
              </a:buClr>
              <a:buSzPct val="85000"/>
              <a:buFont typeface="Verdan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42a3"/>
                </a:solidFill>
                <a:latin typeface="Verdana"/>
              </a:rPr>
              <a:t>Both cable and « copper » pair fight for survival</a:t>
            </a: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  <a:p>
            <a:pPr lvl="4" marL="1906560" indent="-380880">
              <a:lnSpc>
                <a:spcPct val="80000"/>
              </a:lnSpc>
              <a:spcBef>
                <a:spcPts val="499"/>
              </a:spcBef>
              <a:buClr>
                <a:srgbClr val="0042a3"/>
              </a:buClr>
              <a:buSzPct val="85000"/>
              <a:buFont typeface="Verdan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42a3"/>
                </a:solidFill>
                <a:latin typeface="Verdana"/>
              </a:rPr>
              <a:t>TV over 2G/3G, an « add up » to voice/data services</a:t>
            </a: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  <a:p>
            <a:pPr lvl="3" marL="1527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  <a:p>
            <a:pPr lvl="3" marL="1527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42a3"/>
                </a:solidFill>
                <a:latin typeface="Verdana"/>
              </a:rPr>
              <a:t>b) Longer term perspective. Which infrastructure competition ?</a:t>
            </a: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  <a:p>
            <a:pPr lvl="2" marL="1146240" indent="-381240">
              <a:lnSpc>
                <a:spcPct val="80000"/>
              </a:lnSpc>
              <a:spcBef>
                <a:spcPts val="499"/>
              </a:spcBef>
              <a:buClr>
                <a:srgbClr val="0042a3"/>
              </a:buClr>
              <a:buSzPct val="8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42a3"/>
                </a:solidFill>
                <a:latin typeface="Verdana"/>
              </a:rPr>
              <a:t>The netco/servco model ?</a:t>
            </a: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  <a:p>
            <a:pPr lvl="2" marL="1146240" indent="-381240">
              <a:lnSpc>
                <a:spcPct val="80000"/>
              </a:lnSpc>
              <a:spcBef>
                <a:spcPts val="499"/>
              </a:spcBef>
              <a:buClr>
                <a:srgbClr val="0042a3"/>
              </a:buClr>
              <a:buSzPct val="8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a3"/>
                </a:solidFill>
                <a:latin typeface="Verdana"/>
              </a:rPr>
              <a:t>Will content providers be the arbitrators ?</a:t>
            </a: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4F9CD-772B-41D4-A44A-EF242A29953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61261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Verdana"/>
              </a:rPr>
              <a:t>3. Competitive landscap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286480" cy="470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66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42a3"/>
              </a:buClr>
              <a:buSzPct val="8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42a3"/>
                </a:solidFill>
                <a:latin typeface="Verdana"/>
              </a:rPr>
              <a:t>Access to contents</a:t>
            </a: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  <a:p>
            <a:pPr lvl="2" marL="1146240" indent="-381240">
              <a:lnSpc>
                <a:spcPct val="80000"/>
              </a:lnSpc>
              <a:spcBef>
                <a:spcPts val="499"/>
              </a:spcBef>
              <a:buClr>
                <a:srgbClr val="0042a3"/>
              </a:buClr>
              <a:buSzPct val="8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42a3"/>
                </a:solidFill>
                <a:latin typeface="Verdana"/>
              </a:rPr>
              <a:t>The current « business case » of the network operators</a:t>
            </a: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  <a:p>
            <a:pPr lvl="2" marL="1146240" indent="-381240">
              <a:lnSpc>
                <a:spcPct val="80000"/>
              </a:lnSpc>
              <a:spcBef>
                <a:spcPts val="499"/>
              </a:spcBef>
              <a:buClr>
                <a:srgbClr val="0042a3"/>
              </a:buClr>
              <a:buSzPct val="8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42a3"/>
                </a:solidFill>
                <a:latin typeface="Verdana"/>
              </a:rPr>
              <a:t>Will contents (media) prices go up ?</a:t>
            </a: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  <a:p>
            <a:pPr lvl="2" marL="1146240" indent="-381240">
              <a:lnSpc>
                <a:spcPct val="80000"/>
              </a:lnSpc>
              <a:spcBef>
                <a:spcPts val="499"/>
              </a:spcBef>
              <a:buClr>
                <a:srgbClr val="0042a3"/>
              </a:buClr>
              <a:buSzPct val="8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42a3"/>
                </a:solidFill>
                <a:latin typeface="Verdana"/>
              </a:rPr>
              <a:t>« Direct » access to content via Internet</a:t>
            </a: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  <a:p>
            <a:pPr lvl="1" marL="766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  <a:p>
            <a:pPr lvl="1" marL="766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42a3"/>
              </a:buClr>
              <a:buSzPct val="8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42a3"/>
                </a:solidFill>
                <a:latin typeface="Verdana"/>
              </a:rPr>
              <a:t>Delivery of contents through xDSL</a:t>
            </a: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  <a:p>
            <a:pPr lvl="2" marL="1146240" indent="-381240">
              <a:lnSpc>
                <a:spcPct val="80000"/>
              </a:lnSpc>
              <a:spcBef>
                <a:spcPts val="499"/>
              </a:spcBef>
              <a:buClr>
                <a:srgbClr val="0042a3"/>
              </a:buClr>
              <a:buSzPct val="8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42a3"/>
                </a:solidFill>
                <a:latin typeface="Verdana"/>
              </a:rPr>
              <a:t>Technical constraints</a:t>
            </a: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  <a:p>
            <a:pPr lvl="2" marL="1146240" indent="-381240">
              <a:lnSpc>
                <a:spcPct val="80000"/>
              </a:lnSpc>
              <a:spcBef>
                <a:spcPts val="499"/>
              </a:spcBef>
              <a:buClr>
                <a:srgbClr val="0042a3"/>
              </a:buClr>
              <a:buSzPct val="8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42a3"/>
                </a:solidFill>
                <a:latin typeface="Verdana"/>
              </a:rPr>
              <a:t>Return on investments</a:t>
            </a: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64AB9-BC17-4A91-A99C-8C92C5101B3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61261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Verdana"/>
              </a:rPr>
              <a:t>4. The regulatory « hot potato 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48800" y="1773000"/>
            <a:ext cx="8286840" cy="38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66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42a3"/>
              </a:buClr>
              <a:buSzPct val="8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42a3"/>
                </a:solidFill>
                <a:latin typeface="Verdana"/>
              </a:rPr>
              <a:t>The three-layer regulatory model in Belgium</a:t>
            </a: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42a3"/>
              </a:buClr>
              <a:buSzPct val="8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42a3"/>
                </a:solidFill>
                <a:latin typeface="Verdana"/>
              </a:rPr>
              <a:t>The Belgian conundrum </a:t>
            </a: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  <a:p>
            <a:pPr lvl="2" marL="1146240" indent="-381240">
              <a:lnSpc>
                <a:spcPct val="80000"/>
              </a:lnSpc>
              <a:spcBef>
                <a:spcPts val="499"/>
              </a:spcBef>
              <a:buClr>
                <a:srgbClr val="0042a3"/>
              </a:buClr>
              <a:buSzPct val="8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42a3"/>
                </a:solidFill>
                <a:latin typeface="Verdana"/>
              </a:rPr>
              <a:t>Constitutional issues</a:t>
            </a: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  <a:p>
            <a:pPr lvl="2" marL="1146240" indent="-381240">
              <a:lnSpc>
                <a:spcPct val="80000"/>
              </a:lnSpc>
              <a:spcBef>
                <a:spcPts val="499"/>
              </a:spcBef>
              <a:buClr>
                <a:srgbClr val="0042a3"/>
              </a:buClr>
              <a:buSzPct val="8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42a3"/>
                </a:solidFill>
                <a:latin typeface="Verdana"/>
              </a:rPr>
              <a:t>Industry structure</a:t>
            </a: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  <a:p>
            <a:pPr lvl="1" marL="766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42a3"/>
              </a:buClr>
              <a:buSzPct val="8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42a3"/>
                </a:solidFill>
                <a:latin typeface="Verdana"/>
              </a:rPr>
              <a:t>Re-unite or divide further ?</a:t>
            </a: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E90AE-853C-42D8-AE2D-4718B9191BD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61261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Verdana"/>
              </a:rPr>
              <a:t>5. Conclusio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8440" y="1412640"/>
            <a:ext cx="8286840" cy="470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66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42a3"/>
              </a:buClr>
              <a:buSzPct val="8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42a3"/>
                </a:solidFill>
                <a:latin typeface="Verdana"/>
              </a:rPr>
              <a:t>« Convergence » is ultimately a consumer issue/choice</a:t>
            </a: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42a3"/>
              </a:buClr>
              <a:buSzPct val="8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42a3"/>
                </a:solidFill>
                <a:latin typeface="Verdana"/>
              </a:rPr>
              <a:t>« Converged » service offering is a complex issue</a:t>
            </a: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  <a:p>
            <a:pPr lvl="2" marL="1146240" indent="-381240">
              <a:lnSpc>
                <a:spcPct val="80000"/>
              </a:lnSpc>
              <a:spcBef>
                <a:spcPts val="499"/>
              </a:spcBef>
              <a:buClr>
                <a:srgbClr val="0042a3"/>
              </a:buClr>
              <a:buSzPct val="8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42a3"/>
                </a:solidFill>
                <a:latin typeface="Verdana"/>
              </a:rPr>
              <a:t>Technologies (hard, soft)</a:t>
            </a: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  <a:p>
            <a:pPr lvl="2" marL="1146240" indent="-381240">
              <a:lnSpc>
                <a:spcPct val="80000"/>
              </a:lnSpc>
              <a:spcBef>
                <a:spcPts val="499"/>
              </a:spcBef>
              <a:buClr>
                <a:srgbClr val="0042a3"/>
              </a:buClr>
              <a:buSzPct val="8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42a3"/>
                </a:solidFill>
                <a:latin typeface="Verdana"/>
              </a:rPr>
              <a:t>Regulation</a:t>
            </a: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  <a:p>
            <a:pPr lvl="1" marL="766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42a3"/>
              </a:buClr>
              <a:buSzPct val="8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42a3"/>
                </a:solidFill>
                <a:latin typeface="Verdana"/>
              </a:rPr>
              <a:t>DSL and DOC.SYS networks are neck to neck in convergence</a:t>
            </a: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42a3"/>
              </a:buClr>
              <a:buSzPct val="8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a3"/>
                </a:solidFill>
                <a:latin typeface="Verdana"/>
              </a:rPr>
              <a:t>Price wars and unsecured ROIs are real threats</a:t>
            </a: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42a3"/>
              </a:buClr>
              <a:buSzPct val="8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a3"/>
                </a:solidFill>
                <a:latin typeface="Verdana"/>
              </a:rPr>
              <a:t>Belgium is a « unique » laboratory</a:t>
            </a:r>
            <a:endParaRPr b="0" lang="en-US" sz="2000" spc="-1" strike="noStrike">
              <a:solidFill>
                <a:srgbClr val="0042a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CB32E-4610-4E3A-844B-9AEDBB9EC50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1T15:29:42Z</dcterms:created>
  <dc:creator>id032154</dc:creator>
  <dc:description/>
  <dc:language>en-US</dc:language>
  <cp:lastModifiedBy>Maréchal Guy</cp:lastModifiedBy>
  <cp:lastPrinted>2003-02-19T13:00:02Z</cp:lastPrinted>
  <dcterms:modified xsi:type="dcterms:W3CDTF">2005-11-18T15:32:54Z</dcterms:modified>
  <cp:revision>18</cp:revision>
  <dc:subject/>
  <dc:title>REGULATORY UPDATE</dc:title>
</cp:coreProperties>
</file>