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A3A-6209-468F-8777-72F0A750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9E8-669F-40DD-9554-CAF5D54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7F3-C59F-40FE-A585-D947154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1D5-4EC3-46D8-8903-C263CB23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5BF-B38B-46D6-B75D-C9C0CA58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1C9-7CD6-473A-8B77-AA6B82F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CE3-6BAD-416F-83BF-06963E0F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4C7-06AE-4C6D-A548-9B10B4C8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08D-452C-4E62-B353-6ED8B4D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420-6C50-44C2-9583-B078645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FB6-EE8A-49DC-ADBD-3A8F338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89F-4223-4090-B464-E945042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D90-3792-49FE-95B1-6B2432D85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Déploiement de la </a:t>
            </a:r>
            <a:r>
              <a:rPr b="0" lang="fr-BE" sz="4400" spc="-1" strike="noStrike">
                <a:solidFill>
                  <a:srgbClr val="3333cc"/>
                </a:solidFill>
                <a:latin typeface="Times New Roman"/>
              </a:rPr>
              <a:t>Télévision numérique terrestre à la RT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Les choix de ré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2480" y="1752480"/>
          <a:ext cx="5791320" cy="407376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ype de réce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. franç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rtable (in / o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. flama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rtable (in / o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rtable </a:t>
                      </a: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mo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yaume-U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ys-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rtable (in / o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Situation chez nos voisins</a:t>
            </a: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5760" indent="-185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En Fland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360" indent="-153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diffusion d’un bouquet communau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360" indent="-153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TV1, Ketnet / Canvas + Sporza (été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185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En Fran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360" indent="-153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lancement officiel le 31 mars 2005 (35% de couverture pour les chaînes publi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360" indent="-153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lancement commercial des chaînes payantes entre septembre 2005 et ma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360" indent="-153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objectif de c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ouverture de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% de la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opulation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fin 2005, 65% fin du 1</a:t>
            </a:r>
            <a:r>
              <a:rPr b="0" lang="fr-BE" sz="2400" spc="-1" strike="noStrike" baseline="30000">
                <a:solidFill>
                  <a:srgbClr val="3333cc"/>
                </a:solidFill>
                <a:latin typeface="Times New Roman"/>
              </a:rPr>
              <a:t>er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semestre 2006 , 85% e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360" indent="-153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pas de date précise de l’arrêt de la diffusion ana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Situation chez nos voisins</a:t>
            </a: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4840" indent="-193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En Allemag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opérationnel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à Berli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Cologne, Br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développement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ur tout le pays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en 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&gt; ½ million de décodeurs vendus (24 program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switch-off prévu en 2010 (réalisé dans certaines vil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193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En Ital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Mediaset diffuse 2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multiplexes depuis le 1/12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la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AI a lancé également deux multiplexes le 3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mars 20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04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50% de la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opulation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76% fin 2004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un million de décodeurs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déjà été ve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Situation chez nos voisins</a:t>
            </a: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4840" indent="-193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Au Royaume-Un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en 1998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échec de la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VB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actuellement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éel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éveloppement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vec le bouquet</a:t>
            </a:r>
            <a:br>
              <a:rPr sz="2400"/>
            </a:b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"Freeview" (chaînes gratuites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payantes) : 2,5 millions d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décodeur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vendu partout au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ix de 60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couverture supérieure à 75% du terri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193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Aux Pays-B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lancement effectué en mai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16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déploiement du sud vers le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3333cc"/>
                </a:solidFill>
                <a:uFillTx/>
                <a:latin typeface="Times New Roman"/>
              </a:rPr>
              <a:t>Scénario de déploiement à la RTB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4320" indent="-53316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11-2005 : passage au système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4320" indent="-53316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11-2005 : test SFN - ajout d’un émetteur de faible puissance à Wa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4320" indent="-53316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01-2006 : extension au Hainaut occid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4320" indent="-53316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04-2006 : augmentation de la puissance de Wa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4320" indent="-53316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09-2006 : couverture quasi complète de la Comm. franç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% de population attei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En région Bruxelles-Capita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portable outdoor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Dans le Brabant wall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portable outdoor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Réception fixe </a:t>
            </a:r>
            <a:r>
              <a:rPr b="0" lang="fr-BE" sz="24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Dans la Communauté français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portable outdoor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Réception fixe </a:t>
            </a:r>
            <a:r>
              <a:rPr b="0" lang="fr-BE" sz="24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 98 % (cf. analog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Quel conten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Hypothèse du multiplexage statis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Plusieurs options possibl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4 programmes TV-SD (MPEG2) + programmes radio + télétexte + E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2 programmes TV-SD  (MPEG4) + 1 programme pseudo TV-HD (MPEG4) + programmes radio + télétexte + E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Les récepteurs grand public</a:t>
            </a: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Ces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récepteurs 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proposent en général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installation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automatique des chaînes (&gt;1000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menu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OSD (On Screen Disp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modulateur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RF : RF Loop-Throug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sorties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TV/AUX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(ou VCR) (péritel ou SC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parfois un port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RS232 pour l'interfac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sous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-titrage (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élétexte ou DVB-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02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format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16:9 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Les récepteurs grand public</a:t>
            </a: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289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Prix faibles à élevés (50 € </a:t>
            </a:r>
            <a:r>
              <a:rPr b="0" lang="fr-BE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 450 €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289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Multitude de mar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7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sto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VerMedia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CGV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Continental Ediso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Echostar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Fracarro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Global Sphere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Générique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H&amp;B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Hama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Hauppauge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Iisonic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orenze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Metronic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Neotio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Nokia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ace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eekto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hilips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agem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iemens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ystec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Techwood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Thomso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Triax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Visiosat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, Y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Aspects abor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Types de ré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Système préconi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Situation chez nos vois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Scénario de déploiement à la RT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Les récepteurs grand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Les perspectives au niveau can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Les perspectives du point de vue des can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Importance de la conférence de planification RRC04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Obtention maximale de 9 multiplexes (8 en UHF et 1 en VH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Times New Roman"/>
              </a:rPr>
              <a:t>1 seul constitué de fréquences analogiques « libres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Times New Roman"/>
              </a:rPr>
              <a:t>6 (UHF+VHF) constitués de fréquences analogiques utilisées actuellement par RTBF, BeTV, AB4 et Télé Brux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Times New Roman"/>
              </a:rPr>
              <a:t>2 constitués d’une mosaïque de nouvelles fréquences </a:t>
            </a:r>
            <a:r>
              <a:rPr b="0" lang="fr-BE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fr-BE" sz="2000" spc="-1" strike="noStrike">
                <a:solidFill>
                  <a:srgbClr val="3333cc"/>
                </a:solidFill>
                <a:latin typeface="Times New Roman"/>
              </a:rPr>
              <a:t> difficulté de mise en œuvre mais adaptées aux Télés communau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La réutilisation des antennes d’émission actuelles n’est pas possible pour tous les canaux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Types de ré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Réception fi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Réception portable out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Réception portable in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Réception 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Système préconisé à la RT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Multitude de systèmes proposés par la norme DVB-T (A1 … C7) selon le type de modulation et la protection des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La quantité de données diffusée dépend du système adop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Tous compatibles avec le « récepteur »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Système préconisé à la RT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C1 : plus robuste, 4 programmes TV SD par bouquet, possibilité de réception mobile dans la zone d’é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C3 : couverture moins performante, 6 programmes TV par bouqu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puis juin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2 unités d’émission situées à Brux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Un bouquet (multiplex) RTB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Times New Roman"/>
              </a:rPr>
              <a:t>La1, La2, RTBF-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Times New Roman"/>
              </a:rPr>
              <a:t>LP, Vivabxl, M3, C21, Pure + BR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Un bouquet BeTV (jamais implément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Statut expéri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Système 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Couverture imparfaite de la Région bruxell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764240"/>
            <a:ext cx="9145440" cy="2093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33cc"/>
                </a:solidFill>
                <a:uFillTx/>
                <a:latin typeface="Times New Roman"/>
              </a:rPr>
              <a:t>% de population atteinte</a:t>
            </a:r>
            <a:br>
              <a:rPr sz="3200"/>
            </a:br>
            <a:r>
              <a:rPr b="0" lang="fr-BE" sz="3200" spc="-1" strike="noStrike">
                <a:solidFill>
                  <a:srgbClr val="3333cc"/>
                </a:solidFill>
                <a:latin typeface="Times New Roman"/>
              </a:rPr>
              <a:t>systèmes C1 </a:t>
            </a:r>
            <a:r>
              <a:rPr b="0" lang="fr-BE" sz="3200" spc="-1" strike="noStrike">
                <a:solidFill>
                  <a:srgbClr val="00cc99"/>
                </a:solidFill>
                <a:latin typeface="Times New Roman"/>
              </a:rPr>
              <a:t>(et C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En région Bruxelles-Capita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fixe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100 % 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(10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portable outdoor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97% 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(9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imes New Roman"/>
              </a:rPr>
              <a:t>Dans le Brabant wall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fixe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82 % 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(6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Réception portable outdoor </a:t>
            </a:r>
            <a:r>
              <a:rPr b="0" lang="fr-BE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 44% 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(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51:07Z</dcterms:created>
  <dc:creator>Franco FANTUZZI</dc:creator>
  <dc:description/>
  <dc:language>en-US</dc:language>
  <cp:lastModifiedBy>Liliane MOTTOULLE</cp:lastModifiedBy>
  <dcterms:modified xsi:type="dcterms:W3CDTF">2005-11-09T10:05:06Z</dcterms:modified>
  <cp:revision>50</cp:revision>
  <dc:subject/>
  <dc:title>Présentation PowerPoint</dc:title>
</cp:coreProperties>
</file>