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67A-7918-49C1-81FA-0B2D8489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133-289B-4DDB-B58D-0E93BDFA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283-018E-4377-A0F7-E1456DA3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E67-D583-4779-B4DD-BB722AAF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C7D4-DD1E-4943-B11E-345DA95C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8519-1414-428D-BDAF-67743273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B2C8-0886-4EA6-8F37-950D9B33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CDD2-903A-43FB-82A8-38FAFFB0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E0C6-F28D-42C8-89D8-F61F1EC4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3504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5AFB-3160-42C7-BC09-FD2ADCB0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9358-2BEE-498C-804F-985F169C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6AA-C337-4A4A-8FC8-80EFCA75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4AE0-3DD7-4AD8-A314-9C5C5CDC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AE4C-8959-457C-985C-373C6F31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C100-5487-4ABE-A47F-0701222B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F8A9-CFE6-40B4-80FB-46A93913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3188-7093-4735-835D-0F72569F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BC5-0224-4151-8445-59D0F53E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919-4723-41D9-94FE-76C2CB8A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2A7-B863-4225-80DA-C5151C05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3504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F7B-6AD6-4B47-951D-A04DACBC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456C-5CE8-4056-8533-9D3B033D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EBC-EAC6-4A68-8296-76BCF6FA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3F24-8B39-4B90-B397-367F912B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723960" y="1447920"/>
            <a:ext cx="76320" cy="5950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520" y="312480"/>
            <a:ext cx="7419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2043000"/>
            <a:ext cx="780876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27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6027c"/>
              </a:solidFill>
              <a:latin typeface="Tahoma"/>
            </a:endParaRPr>
          </a:p>
          <a:p>
            <a:pPr lvl="1" marL="690840" indent="-2656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27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16027c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27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16027c"/>
              </a:solidFill>
              <a:latin typeface="Tahoma"/>
            </a:endParaRPr>
          </a:p>
          <a:p>
            <a:pPr lvl="3" marL="1487880" indent="-212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27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16027c"/>
              </a:solidFill>
              <a:latin typeface="Tahoma"/>
            </a:endParaRPr>
          </a:p>
          <a:p>
            <a:pPr lvl="4" marL="1913040" indent="-212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27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16027c"/>
              </a:solidFill>
              <a:latin typeface="Tahoma"/>
            </a:endParaRPr>
          </a:p>
          <a:p>
            <a:pPr lvl="5" marL="1913040" indent="-212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27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16027c"/>
              </a:solidFill>
              <a:latin typeface="Tahoma"/>
            </a:endParaRPr>
          </a:p>
          <a:p>
            <a:pPr lvl="6" marL="1913040" indent="-212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27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16027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2682-7850-4791-854E-88B6A91F0194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324480"/>
            <a:ext cx="1523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16027c"/>
                </a:solidFill>
                <a:latin typeface="Tahoma"/>
              </a:rPr>
              <a:t>J.M. Ad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16027c"/>
                </a:solidFill>
                <a:latin typeface="Tahoma"/>
              </a:rPr>
              <a:t>www.brutele.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9"/>
          <a:stretch/>
        </p:blipFill>
        <p:spPr>
          <a:xfrm>
            <a:off x="0" y="-3240"/>
            <a:ext cx="1258920" cy="3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gradFill rotWithShape="0">
                <a:gsLst>
                  <a:gs pos="0">
                    <a:srgbClr val="16027c"/>
                  </a:gs>
                  <a:gs pos="100000">
                    <a:srgbClr val="d5d2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16027c"/>
                  </a:gs>
                  <a:gs pos="100000">
                    <a:srgbClr val="d5d2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eec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58C6-4C99-4ABE-97E4-1E214AC49F93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27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6027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27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27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27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27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27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5040" y="723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Le numérique sur le câble en Région Wallon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503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cc3300"/>
                </a:solidFill>
                <a:latin typeface="Tahoma"/>
              </a:rPr>
              <a:t>ACF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cc3300"/>
                </a:solidFill>
                <a:latin typeface="Tahoma"/>
              </a:rPr>
              <a:t>18 Novembre 2004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35280" y="2457360"/>
            <a:ext cx="3744720" cy="116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312480"/>
            <a:ext cx="7419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3300"/>
                </a:solidFill>
                <a:latin typeface="Tahoma"/>
              </a:rPr>
              <a:t>Conclusions (2)</a:t>
            </a:r>
            <a:endParaRPr b="0" lang="en-US" sz="4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042640"/>
            <a:ext cx="78087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16027c"/>
                </a:solidFill>
                <a:latin typeface="Tahoma"/>
              </a:rPr>
              <a:t>Les modèles économiques liés à l’interactivité posent encore de nombreuses questions et risques technologiques</a:t>
            </a:r>
            <a:endParaRPr b="0" lang="en-US" sz="28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Choix des set-top boxes évoluées (SD/HD, MPEG2/MPEG4, capacité mémoire, disque dur, moteur d’interactivité, plug ins, interfaces, etc.)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Voie de retour (Ethernet vs SMS)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Droits d’auteur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ROI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16027c"/>
                </a:solidFill>
                <a:latin typeface="Tahoma"/>
              </a:rPr>
              <a:t>Time to market ?</a:t>
            </a:r>
            <a:endParaRPr b="0" lang="en-US" sz="2800" spc="-1" strike="noStrike">
              <a:solidFill>
                <a:srgbClr val="16027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027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027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08000" y="1697040"/>
            <a:ext cx="7020000" cy="217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124000" y="4329000"/>
            <a:ext cx="5184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99"/>
                </a:solidFill>
                <a:latin typeface="Tahoma"/>
              </a:rPr>
              <a:t>Le monde au bout du câble</a:t>
            </a: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5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advTm="3000"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312480"/>
            <a:ext cx="7419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3300"/>
                </a:solidFill>
                <a:latin typeface="Tahoma"/>
              </a:rPr>
              <a:t>Structures de collaboration</a:t>
            </a:r>
            <a:endParaRPr b="0" lang="en-US" sz="4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043000"/>
            <a:ext cx="780876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027c"/>
                </a:solidFill>
                <a:latin typeface="Tahoma"/>
              </a:rPr>
              <a:t>Le Câble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027c"/>
                </a:solidFill>
                <a:latin typeface="Tahoma"/>
              </a:rPr>
              <a:t>Association professionnelle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027c"/>
                </a:solidFill>
                <a:latin typeface="Tahoma"/>
              </a:rPr>
              <a:t>Groupe de concertation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027c"/>
                </a:solidFill>
                <a:latin typeface="Tahoma"/>
              </a:rPr>
              <a:t>Relations avec les éditeurs</a:t>
            </a:r>
            <a:endParaRPr b="0" lang="en-US" sz="1800" spc="-1" strike="noStrike">
              <a:solidFill>
                <a:srgbClr val="16027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027c"/>
                </a:solidFill>
                <a:latin typeface="Tahoma"/>
              </a:rPr>
              <a:t>Problèmes des droits d’auteurs</a:t>
            </a:r>
            <a:endParaRPr b="0" lang="en-US" sz="1800" spc="-1" strike="noStrike">
              <a:solidFill>
                <a:srgbClr val="16027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027c"/>
                </a:solidFill>
                <a:latin typeface="Tahoma"/>
              </a:rPr>
              <a:t>Aspects réglementaires : CSA, IBPT, etc.</a:t>
            </a:r>
            <a:endParaRPr b="0" lang="en-US" sz="1800" spc="-1" strike="noStrike">
              <a:solidFill>
                <a:srgbClr val="16027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027c"/>
                </a:solidFill>
                <a:latin typeface="Tahoma"/>
              </a:rPr>
              <a:t>ACM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027c"/>
                </a:solidFill>
                <a:latin typeface="Tahoma"/>
              </a:rPr>
              <a:t>S.A. : société commerciale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027c"/>
                </a:solidFill>
                <a:latin typeface="Tahoma"/>
              </a:rPr>
              <a:t>Actionnaires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027c"/>
                </a:solidFill>
                <a:latin typeface="Tahoma"/>
              </a:rPr>
              <a:t>ALE, Brutélé, IDEA</a:t>
            </a:r>
            <a:endParaRPr b="0" lang="en-US" sz="1800" spc="-1" strike="noStrike">
              <a:solidFill>
                <a:srgbClr val="16027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027c"/>
                </a:solidFill>
                <a:latin typeface="Tahoma"/>
              </a:rPr>
              <a:t>Seditel, Inatel, Igeho, Simogel, Télélux, Intermosane, Interest</a:t>
            </a:r>
            <a:endParaRPr b="0" lang="en-US" sz="1800" spc="-1" strike="noStrike">
              <a:solidFill>
                <a:srgbClr val="16027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027c"/>
                </a:solidFill>
                <a:latin typeface="Tahoma"/>
              </a:rPr>
              <a:t>DEXIA, ETHIAS, SOCOFE et S.R.I.W. </a:t>
            </a:r>
            <a:endParaRPr b="0" lang="en-US" sz="1800" spc="-1" strike="noStrike">
              <a:solidFill>
                <a:srgbClr val="16027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027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312480"/>
            <a:ext cx="7419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3300"/>
                </a:solidFill>
                <a:latin typeface="Tahoma"/>
              </a:rPr>
              <a:t>ACM</a:t>
            </a:r>
            <a:br>
              <a:rPr sz="4000"/>
            </a:br>
            <a:r>
              <a:rPr b="0" lang="fr-BE" sz="4000" spc="-1" strike="noStrike">
                <a:solidFill>
                  <a:srgbClr val="cc3300"/>
                </a:solidFill>
                <a:latin typeface="Tahoma"/>
              </a:rPr>
              <a:t>Objet social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043000"/>
            <a:ext cx="780876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6027c"/>
                </a:solidFill>
                <a:latin typeface="Tahoma"/>
              </a:rPr>
              <a:t>Gestion des infrastructures et des équipements relatifs à l’interconnexion et à l’interopérabilité des réseaux de télédistribution</a:t>
            </a:r>
            <a:endParaRPr b="0" lang="en-US" sz="3200" spc="-1" strike="noStrike">
              <a:solidFill>
                <a:srgbClr val="16027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6027c"/>
                </a:solidFill>
                <a:latin typeface="Tahoma"/>
              </a:rPr>
              <a:t>Etude, commercialisation et gestion d’applications basées sur le transport de signaux analogiques ou digitaux au travers de réseaux à haut débit</a:t>
            </a:r>
            <a:endParaRPr b="0" lang="en-US" sz="3200" spc="-1" strike="noStrike">
              <a:solidFill>
                <a:srgbClr val="16027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27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312480"/>
            <a:ext cx="7419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3300"/>
                </a:solidFill>
                <a:latin typeface="Tahoma"/>
              </a:rPr>
              <a:t>ACM Activités</a:t>
            </a:r>
            <a:br>
              <a:rPr sz="4000"/>
            </a:br>
            <a:r>
              <a:rPr b="0" lang="fr-BE" sz="4000" spc="-1" strike="noStrike">
                <a:solidFill>
                  <a:srgbClr val="cc3300"/>
                </a:solidFill>
                <a:latin typeface="Tahoma"/>
              </a:rPr>
              <a:t>1. Backbone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043000"/>
            <a:ext cx="780876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Transport de tous les signaux non disponibles en réception directe : RTL, AB, BeTV, Canal Z, etc. 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Alimentation de toutes les têtes de réseaux des câblos wallons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Interconnexions avec les backbones bruxellois et flamand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Deux infrastructures sur anneau redondant (WDM) :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6027c"/>
                </a:solidFill>
                <a:latin typeface="Tahoma"/>
              </a:rPr>
              <a:t>Première génération : transmission digitale « propriétaire » au départ de signaux IF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6027c"/>
                </a:solidFill>
                <a:latin typeface="Tahoma"/>
              </a:rPr>
              <a:t>Seconde génération : I-Lynx (16*STM-1)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312480"/>
            <a:ext cx="7419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3300"/>
                </a:solidFill>
                <a:latin typeface="Tahoma"/>
              </a:rPr>
              <a:t>ACM Activités</a:t>
            </a:r>
            <a:br>
              <a:rPr sz="4000"/>
            </a:br>
            <a:r>
              <a:rPr b="0" lang="fr-BE" sz="4000" spc="-1" strike="noStrike">
                <a:solidFill>
                  <a:srgbClr val="cc3300"/>
                </a:solidFill>
                <a:latin typeface="Tahoma"/>
              </a:rPr>
              <a:t>2. Participation dans BeTV 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043000"/>
            <a:ext cx="780876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Actionnaires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6027c"/>
                </a:solidFill>
                <a:latin typeface="Tahoma"/>
              </a:rPr>
              <a:t>ACM : 68%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6027c"/>
                </a:solidFill>
                <a:latin typeface="Tahoma"/>
              </a:rPr>
              <a:t>Deficom : 15%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6027c"/>
                </a:solidFill>
                <a:latin typeface="Tahoma"/>
              </a:rPr>
              <a:t>Socofe : 17%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Activités de BeTV : Télévision à péage ayant fait la révolution numérique sur le câble, il y a 7 ans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6027c"/>
                </a:solidFill>
                <a:latin typeface="Tahoma"/>
              </a:rPr>
              <a:t>Editeur de plusieurs chaînes « premium »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6027c"/>
                </a:solidFill>
                <a:latin typeface="Tahoma"/>
              </a:rPr>
              <a:t>Distributeur de services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6027c"/>
                </a:solidFill>
                <a:latin typeface="Tahoma"/>
              </a:rPr>
              <a:t>Contenu premium (6-7 chaînes)</a:t>
            </a:r>
            <a:endParaRPr b="0" lang="en-US" sz="1800" spc="-1" strike="noStrike">
              <a:solidFill>
                <a:srgbClr val="16027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6027c"/>
                </a:solidFill>
                <a:latin typeface="Tahoma"/>
              </a:rPr>
              <a:t>Bouquets thématiques (57 chaînes)</a:t>
            </a:r>
            <a:endParaRPr b="0" lang="en-US" sz="1800" spc="-1" strike="noStrike">
              <a:solidFill>
                <a:srgbClr val="16027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6027c"/>
                </a:solidFill>
                <a:latin typeface="Tahoma"/>
              </a:rPr>
              <a:t>Paiement à la séance</a:t>
            </a:r>
            <a:endParaRPr b="0" lang="en-US" sz="1800" spc="-1" strike="noStrike">
              <a:solidFill>
                <a:srgbClr val="16027c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027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312480"/>
            <a:ext cx="7419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3300"/>
                </a:solidFill>
                <a:latin typeface="Tahoma"/>
              </a:rPr>
              <a:t>ACM Activités</a:t>
            </a:r>
            <a:br>
              <a:rPr sz="4000"/>
            </a:br>
            <a:r>
              <a:rPr b="0" lang="fr-BE" sz="4000" spc="-1" strike="noStrike">
                <a:solidFill>
                  <a:srgbClr val="cc3300"/>
                </a:solidFill>
                <a:latin typeface="Tahoma"/>
              </a:rPr>
              <a:t>3. Mise en œuvre de synergies 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043000"/>
            <a:ext cx="780876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6027c"/>
                </a:solidFill>
                <a:latin typeface="Tahoma"/>
              </a:rPr>
              <a:t>Location de fibres</a:t>
            </a:r>
            <a:endParaRPr b="0" lang="en-US" sz="3200" spc="-1" strike="noStrike">
              <a:solidFill>
                <a:srgbClr val="16027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6027c"/>
                </a:solidFill>
                <a:latin typeface="Tahoma"/>
              </a:rPr>
              <a:t>Etudes stratégiques</a:t>
            </a:r>
            <a:endParaRPr b="0" lang="en-US" sz="32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16027c"/>
                </a:solidFill>
                <a:latin typeface="Tahoma"/>
              </a:rPr>
              <a:t>Phase 1 : Analyse des menaces et des opportunités de croissance</a:t>
            </a:r>
            <a:endParaRPr b="0" lang="en-US" sz="28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16027c"/>
                </a:solidFill>
                <a:latin typeface="Tahoma"/>
              </a:rPr>
              <a:t>Phase 2 : Choix stratégiques de développement</a:t>
            </a:r>
            <a:endParaRPr b="0" lang="en-US" sz="28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16027c"/>
                </a:solidFill>
                <a:latin typeface="Tahoma"/>
              </a:rPr>
              <a:t>Phase 3 : Structuration des activités et mise en oeuvre</a:t>
            </a:r>
            <a:endParaRPr b="0" lang="en-US" sz="2800" spc="-1" strike="noStrike">
              <a:solidFill>
                <a:srgbClr val="16027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312480"/>
            <a:ext cx="7419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3300"/>
                </a:solidFill>
                <a:latin typeface="Tahoma"/>
              </a:rPr>
              <a:t>Evolutions 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042640"/>
            <a:ext cx="78087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Déclinaison des offres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6027c"/>
                </a:solidFill>
                <a:latin typeface="Tahoma"/>
              </a:rPr>
              <a:t>Câblos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6027c"/>
                </a:solidFill>
                <a:latin typeface="Tahoma"/>
              </a:rPr>
              <a:t>Offre de base</a:t>
            </a:r>
            <a:endParaRPr b="0" lang="en-US" sz="1800" spc="-1" strike="noStrike">
              <a:solidFill>
                <a:srgbClr val="16027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16027c"/>
                </a:solidFill>
                <a:latin typeface="Tahoma"/>
              </a:rPr>
              <a:t>Simulcast analogique numérique</a:t>
            </a:r>
            <a:endParaRPr b="0" lang="en-US" sz="1600" spc="-1" strike="noStrike">
              <a:solidFill>
                <a:srgbClr val="16027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16027c"/>
                </a:solidFill>
                <a:latin typeface="Tahoma"/>
              </a:rPr>
              <a:t>Composante full numérique</a:t>
            </a:r>
            <a:endParaRPr b="0" lang="en-US" sz="1600" spc="-1" strike="noStrike">
              <a:solidFill>
                <a:srgbClr val="16027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6027c"/>
                </a:solidFill>
                <a:latin typeface="Tahoma"/>
              </a:rPr>
              <a:t>Bouquet ethniques</a:t>
            </a:r>
            <a:endParaRPr b="0" lang="en-US" sz="18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6027c"/>
                </a:solidFill>
                <a:latin typeface="Tahoma"/>
              </a:rPr>
              <a:t>BeTV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6027c"/>
                </a:solidFill>
                <a:latin typeface="Tahoma"/>
              </a:rPr>
              <a:t>Télévision à péage : canaux premium &amp; bouquets thématiques</a:t>
            </a:r>
            <a:endParaRPr b="0" lang="en-US" sz="1800" spc="-1" strike="noStrike">
              <a:solidFill>
                <a:srgbClr val="16027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6027c"/>
                </a:solidFill>
                <a:latin typeface="Tahoma"/>
              </a:rPr>
              <a:t>Nouveaux services : VOD, NVOD</a:t>
            </a:r>
            <a:endParaRPr b="0" lang="en-US" sz="1800" spc="-1" strike="noStrike">
              <a:solidFill>
                <a:srgbClr val="16027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Création d’une plate-forme numérique commune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6027c"/>
                </a:solidFill>
                <a:latin typeface="Tahoma"/>
              </a:rPr>
              <a:t>Concertation sur les choix technologiques : décodeurs et accès conditionnel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6027c"/>
                </a:solidFill>
                <a:latin typeface="Tahoma"/>
              </a:rPr>
              <a:t>Définition d’un portail et d’un EPG commun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6027c"/>
                </a:solidFill>
                <a:latin typeface="Tahoma"/>
              </a:rPr>
              <a:t>Gestion technique de l’accès conditionnel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6027c"/>
                </a:solidFill>
                <a:latin typeface="Tahoma"/>
              </a:rPr>
              <a:t>Mise en œuvre d’applications interactives</a:t>
            </a:r>
            <a:endParaRPr b="0" lang="en-US" sz="2000" spc="-1" strike="noStrike">
              <a:solidFill>
                <a:srgbClr val="16027c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6027c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6027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312480"/>
            <a:ext cx="7419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3300"/>
                </a:solidFill>
                <a:latin typeface="Tahoma"/>
              </a:rPr>
              <a:t>Applications </a:t>
            </a:r>
            <a:br>
              <a:rPr sz="4000"/>
            </a:br>
            <a:r>
              <a:rPr b="0" lang="fr-BE" sz="4000" spc="-1" strike="noStrike">
                <a:solidFill>
                  <a:srgbClr val="cc3300"/>
                </a:solidFill>
                <a:latin typeface="Tahoma"/>
              </a:rPr>
              <a:t> interactives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043000"/>
            <a:ext cx="780876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16027c"/>
                </a:solidFill>
                <a:latin typeface="Tahoma"/>
              </a:rPr>
              <a:t>Quelle interactivité ?</a:t>
            </a:r>
            <a:endParaRPr b="0" lang="en-US" sz="28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Faible (ex : météo, paiement à la séance, VOD avec disque dur, etc.)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Totale (paiement en ligne, emails, web, full VOD, etc.)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16027c"/>
                </a:solidFill>
                <a:latin typeface="Tahoma"/>
              </a:rPr>
              <a:t>Quel modèle économique ?</a:t>
            </a:r>
            <a:endParaRPr b="0" lang="en-US" sz="28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Droits d’auteur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Partage des revenus entre radiodiffuseurs et distributeurs de services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6027c"/>
                </a:solidFill>
                <a:latin typeface="Tahoma"/>
              </a:rPr>
              <a:t>Paiements pour le contenu</a:t>
            </a:r>
            <a:endParaRPr b="0" lang="en-US" sz="2400" spc="-1" strike="noStrike">
              <a:solidFill>
                <a:srgbClr val="16027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312480"/>
            <a:ext cx="7419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3300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042640"/>
            <a:ext cx="78087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16027c"/>
                </a:solidFill>
                <a:latin typeface="Tahoma"/>
              </a:rPr>
              <a:t>La capacité des réseaux câblés est énorme, aussi bien en mode broadcast (DVB-C) qu’en mode interactif (plate-forme IP).</a:t>
            </a:r>
            <a:endParaRPr b="0" lang="en-US" sz="2800" spc="-1" strike="noStrike">
              <a:solidFill>
                <a:srgbClr val="16027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16027c"/>
                </a:solidFill>
                <a:latin typeface="Tahoma"/>
              </a:rPr>
              <a:t>Les investissements pour le passage au numérique sont faibles, hors équipements des foyers (set-top boxes).</a:t>
            </a:r>
            <a:endParaRPr b="0" lang="en-US" sz="2800" spc="-1" strike="noStrike">
              <a:solidFill>
                <a:srgbClr val="16027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16027c"/>
                </a:solidFill>
                <a:latin typeface="Tahoma"/>
              </a:rPr>
              <a:t>Le maintien, en parallèle au numérique, d’une diffusion analogique des programmes les plus populaires est un avantage important pour le consommateur, en raison de la compatibilité avec les appareils récepteurs (TV et VCR).</a:t>
            </a:r>
            <a:endParaRPr b="0" lang="en-US" sz="2800" spc="-1" strike="noStrike">
              <a:solidFill>
                <a:srgbClr val="16027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027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027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5:52:40Z</dcterms:created>
  <dc:creator>Jean-Michel Adant</dc:creator>
  <dc:description/>
  <dc:language>en-US</dc:language>
  <cp:lastModifiedBy> Frédéric Mignon</cp:lastModifiedBy>
  <dcterms:modified xsi:type="dcterms:W3CDTF">2006-03-02T10:26:00Z</dcterms:modified>
  <cp:revision>56</cp:revision>
  <dc:subject/>
  <dc:title>Situation et perspectives</dc:title>
</cp:coreProperties>
</file>