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b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b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3873600" y="1663560"/>
            <a:ext cx="2711520" cy="1513080"/>
            <a:chOff x="3873600" y="1663560"/>
            <a:chExt cx="2711520" cy="1513080"/>
          </a:xfrm>
        </p:grpSpPr>
        <p:sp>
          <p:nvSpPr>
            <p:cNvPr id="39" name=""/>
            <p:cNvSpPr/>
            <p:nvPr/>
          </p:nvSpPr>
          <p:spPr>
            <a:xfrm>
              <a:off x="3873600" y="1663560"/>
              <a:ext cx="2711520" cy="1513080"/>
            </a:xfrm>
            <a:prstGeom prst="ellipse">
              <a:avLst/>
            </a:prstGeom>
            <a:gradFill rotWithShape="0">
              <a:gsLst>
                <a:gs pos="0">
                  <a:srgbClr val="d22c7f"/>
                </a:gs>
                <a:gs pos="50000">
                  <a:srgbClr val="60143a"/>
                </a:gs>
                <a:gs pos="100000">
                  <a:srgbClr val="d22c7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624920" y="2127240"/>
              <a:ext cx="1284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800" spc="-1" strike="noStrike">
                  <a:solidFill>
                    <a:srgbClr val="ffffff"/>
                  </a:solidFill>
                  <a:latin typeface="Arial"/>
                </a:rPr>
                <a:t>VIDE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1019160" y="4970520"/>
            <a:ext cx="2604960" cy="1655640"/>
            <a:chOff x="1019160" y="4970520"/>
            <a:chExt cx="2604960" cy="1655640"/>
          </a:xfrm>
        </p:grpSpPr>
        <p:sp>
          <p:nvSpPr>
            <p:cNvPr id="42" name=""/>
            <p:cNvSpPr/>
            <p:nvPr/>
          </p:nvSpPr>
          <p:spPr>
            <a:xfrm>
              <a:off x="1019160" y="4970520"/>
              <a:ext cx="2604960" cy="1655640"/>
            </a:xfrm>
            <a:prstGeom prst="ellipse">
              <a:avLst/>
            </a:prstGeom>
            <a:gradFill rotWithShape="0">
              <a:gsLst>
                <a:gs pos="0">
                  <a:srgbClr val="531f5c"/>
                </a:gs>
                <a:gs pos="50000">
                  <a:srgbClr val="b544c8"/>
                </a:gs>
                <a:gs pos="100000">
                  <a:srgbClr val="531f5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03440" y="5541840"/>
              <a:ext cx="13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800" spc="-1" strike="noStrike">
                  <a:solidFill>
                    <a:srgbClr val="ffffff"/>
                  </a:solidFill>
                  <a:latin typeface="Arial"/>
                </a:rPr>
                <a:t>AUDI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834240" y="4971960"/>
            <a:ext cx="2604960" cy="1654200"/>
          </a:xfrm>
          <a:prstGeom prst="ellipse">
            <a:avLst/>
          </a:prstGeom>
          <a:gradFill rotWithShape="0">
            <a:gsLst>
              <a:gs pos="0">
                <a:srgbClr val="116361"/>
              </a:gs>
              <a:gs pos="50000">
                <a:srgbClr val="27d7d3"/>
              </a:gs>
              <a:gs pos="100000">
                <a:srgbClr val="11636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A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WORD –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Maker P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95760" y="3257640"/>
            <a:ext cx="3024000" cy="1850760"/>
          </a:xfrm>
          <a:custGeom>
            <a:avLst/>
            <a:gdLst/>
            <a:ahLst/>
            <a:rect l="l" t="t" r="r" b="b"/>
            <a:pathLst>
              <a:path w="1382" h="741">
                <a:moveTo>
                  <a:pt x="700" y="0"/>
                </a:moveTo>
                <a:lnTo>
                  <a:pt x="663" y="16"/>
                </a:lnTo>
                <a:lnTo>
                  <a:pt x="619" y="36"/>
                </a:lnTo>
                <a:lnTo>
                  <a:pt x="570" y="59"/>
                </a:lnTo>
                <a:lnTo>
                  <a:pt x="528" y="79"/>
                </a:lnTo>
                <a:lnTo>
                  <a:pt x="486" y="103"/>
                </a:lnTo>
                <a:lnTo>
                  <a:pt x="453" y="123"/>
                </a:lnTo>
                <a:lnTo>
                  <a:pt x="411" y="149"/>
                </a:lnTo>
                <a:lnTo>
                  <a:pt x="373" y="172"/>
                </a:lnTo>
                <a:lnTo>
                  <a:pt x="329" y="205"/>
                </a:lnTo>
                <a:lnTo>
                  <a:pt x="289" y="237"/>
                </a:lnTo>
                <a:lnTo>
                  <a:pt x="254" y="264"/>
                </a:lnTo>
                <a:lnTo>
                  <a:pt x="212" y="301"/>
                </a:lnTo>
                <a:lnTo>
                  <a:pt x="179" y="331"/>
                </a:lnTo>
                <a:lnTo>
                  <a:pt x="150" y="364"/>
                </a:lnTo>
                <a:lnTo>
                  <a:pt x="119" y="400"/>
                </a:lnTo>
                <a:lnTo>
                  <a:pt x="93" y="435"/>
                </a:lnTo>
                <a:lnTo>
                  <a:pt x="64" y="479"/>
                </a:lnTo>
                <a:lnTo>
                  <a:pt x="42" y="522"/>
                </a:lnTo>
                <a:lnTo>
                  <a:pt x="22" y="564"/>
                </a:lnTo>
                <a:lnTo>
                  <a:pt x="11" y="597"/>
                </a:lnTo>
                <a:lnTo>
                  <a:pt x="0" y="625"/>
                </a:lnTo>
                <a:lnTo>
                  <a:pt x="49" y="645"/>
                </a:lnTo>
                <a:lnTo>
                  <a:pt x="108" y="661"/>
                </a:lnTo>
                <a:lnTo>
                  <a:pt x="177" y="678"/>
                </a:lnTo>
                <a:lnTo>
                  <a:pt x="252" y="694"/>
                </a:lnTo>
                <a:lnTo>
                  <a:pt x="338" y="711"/>
                </a:lnTo>
                <a:lnTo>
                  <a:pt x="422" y="723"/>
                </a:lnTo>
                <a:lnTo>
                  <a:pt x="488" y="730"/>
                </a:lnTo>
                <a:lnTo>
                  <a:pt x="559" y="736"/>
                </a:lnTo>
                <a:lnTo>
                  <a:pt x="630" y="739"/>
                </a:lnTo>
                <a:lnTo>
                  <a:pt x="692" y="740"/>
                </a:lnTo>
                <a:lnTo>
                  <a:pt x="769" y="739"/>
                </a:lnTo>
                <a:lnTo>
                  <a:pt x="851" y="731"/>
                </a:lnTo>
                <a:lnTo>
                  <a:pt x="941" y="724"/>
                </a:lnTo>
                <a:lnTo>
                  <a:pt x="1019" y="714"/>
                </a:lnTo>
                <a:lnTo>
                  <a:pt x="1083" y="704"/>
                </a:lnTo>
                <a:lnTo>
                  <a:pt x="1151" y="690"/>
                </a:lnTo>
                <a:lnTo>
                  <a:pt x="1200" y="677"/>
                </a:lnTo>
                <a:lnTo>
                  <a:pt x="1253" y="664"/>
                </a:lnTo>
                <a:lnTo>
                  <a:pt x="1301" y="651"/>
                </a:lnTo>
                <a:lnTo>
                  <a:pt x="1354" y="634"/>
                </a:lnTo>
                <a:lnTo>
                  <a:pt x="1381" y="624"/>
                </a:lnTo>
                <a:lnTo>
                  <a:pt x="1372" y="588"/>
                </a:lnTo>
                <a:lnTo>
                  <a:pt x="1357" y="552"/>
                </a:lnTo>
                <a:lnTo>
                  <a:pt x="1339" y="515"/>
                </a:lnTo>
                <a:lnTo>
                  <a:pt x="1310" y="466"/>
                </a:lnTo>
                <a:lnTo>
                  <a:pt x="1273" y="416"/>
                </a:lnTo>
                <a:lnTo>
                  <a:pt x="1229" y="361"/>
                </a:lnTo>
                <a:lnTo>
                  <a:pt x="1191" y="323"/>
                </a:lnTo>
                <a:lnTo>
                  <a:pt x="1151" y="283"/>
                </a:lnTo>
                <a:lnTo>
                  <a:pt x="1118" y="251"/>
                </a:lnTo>
                <a:lnTo>
                  <a:pt x="1067" y="209"/>
                </a:lnTo>
                <a:lnTo>
                  <a:pt x="1027" y="178"/>
                </a:lnTo>
                <a:lnTo>
                  <a:pt x="983" y="149"/>
                </a:lnTo>
                <a:lnTo>
                  <a:pt x="924" y="112"/>
                </a:lnTo>
                <a:lnTo>
                  <a:pt x="882" y="87"/>
                </a:lnTo>
                <a:lnTo>
                  <a:pt x="831" y="60"/>
                </a:lnTo>
                <a:lnTo>
                  <a:pt x="767" y="29"/>
                </a:lnTo>
                <a:lnTo>
                  <a:pt x="700" y="0"/>
                </a:lnTo>
              </a:path>
            </a:pathLst>
          </a:custGeom>
          <a:gradFill rotWithShape="0">
            <a:gsLst>
              <a:gs pos="0">
                <a:srgbClr val="ea4214"/>
              </a:gs>
              <a:gs pos="50000">
                <a:srgbClr val="6b1e09"/>
              </a:gs>
              <a:gs pos="100000">
                <a:srgbClr val="ea4214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8080" y="3759120"/>
            <a:ext cx="172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ETA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-D</a:t>
            </a: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A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XML - R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935360" y="2469960"/>
            <a:ext cx="6456240" cy="4038480"/>
            <a:chOff x="1935360" y="2469960"/>
            <a:chExt cx="6456240" cy="4038480"/>
          </a:xfrm>
        </p:grpSpPr>
        <p:grpSp>
          <p:nvGrpSpPr>
            <p:cNvPr id="48" name=""/>
            <p:cNvGrpSpPr/>
            <p:nvPr/>
          </p:nvGrpSpPr>
          <p:grpSpPr>
            <a:xfrm>
              <a:off x="1935360" y="2469960"/>
              <a:ext cx="6456240" cy="2947680"/>
              <a:chOff x="1935360" y="2469960"/>
              <a:chExt cx="6456240" cy="2947680"/>
            </a:xfrm>
          </p:grpSpPr>
          <p:sp>
            <p:nvSpPr>
              <p:cNvPr id="49" name=""/>
              <p:cNvSpPr/>
              <p:nvPr/>
            </p:nvSpPr>
            <p:spPr>
              <a:xfrm rot="7361400">
                <a:off x="1926000" y="3240360"/>
                <a:ext cx="2593800" cy="1395720"/>
              </a:xfrm>
              <a:custGeom>
                <a:avLst/>
                <a:gdLst>
                  <a:gd name="textAreaLeft" fmla="*/ 0 w 2593800"/>
                  <a:gd name="textAreaRight" fmla="*/ 2594160 w 2593800"/>
                  <a:gd name="textAreaTop" fmla="*/ 0 h 1395720"/>
                  <a:gd name="textAreaBottom" fmla="*/ 1396080 h 1395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694" y="5934"/>
                    </a:lnTo>
                    <a:lnTo>
                      <a:pt x="12447" y="5934"/>
                    </a:lnTo>
                    <a:lnTo>
                      <a:pt x="12447" y="9153"/>
                    </a:lnTo>
                    <a:lnTo>
                      <a:pt x="15666" y="9153"/>
                    </a:lnTo>
                    <a:lnTo>
                      <a:pt x="15666" y="7906"/>
                    </a:lnTo>
                    <a:lnTo>
                      <a:pt x="21600" y="10800"/>
                    </a:lnTo>
                    <a:lnTo>
                      <a:pt x="15666" y="13694"/>
                    </a:lnTo>
                    <a:lnTo>
                      <a:pt x="15666" y="12447"/>
                    </a:lnTo>
                    <a:lnTo>
                      <a:pt x="5934" y="12447"/>
                    </a:lnTo>
                    <a:lnTo>
                      <a:pt x="5934" y="13694"/>
                    </a:lnTo>
                    <a:lnTo>
                      <a:pt x="0" y="10800"/>
                    </a:lnTo>
                    <a:lnTo>
                      <a:pt x="5934" y="7906"/>
                    </a:lnTo>
                    <a:lnTo>
                      <a:pt x="5934" y="9153"/>
                    </a:lnTo>
                    <a:lnTo>
                      <a:pt x="9153" y="9153"/>
                    </a:lnTo>
                    <a:lnTo>
                      <a:pt x="9153" y="5934"/>
                    </a:lnTo>
                    <a:lnTo>
                      <a:pt x="7906" y="593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4524800">
                <a:off x="5870520" y="3246840"/>
                <a:ext cx="2594160" cy="1395360"/>
              </a:xfrm>
              <a:custGeom>
                <a:avLst/>
                <a:gdLst>
                  <a:gd name="textAreaLeft" fmla="*/ 0 w 2594160"/>
                  <a:gd name="textAreaRight" fmla="*/ 2594520 w 2594160"/>
                  <a:gd name="textAreaTop" fmla="*/ 0 h 1395360"/>
                  <a:gd name="textAreaBottom" fmla="*/ 1395360 h 139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694" y="5934"/>
                    </a:lnTo>
                    <a:lnTo>
                      <a:pt x="12447" y="5934"/>
                    </a:lnTo>
                    <a:lnTo>
                      <a:pt x="12447" y="9153"/>
                    </a:lnTo>
                    <a:lnTo>
                      <a:pt x="15666" y="9153"/>
                    </a:lnTo>
                    <a:lnTo>
                      <a:pt x="15666" y="7906"/>
                    </a:lnTo>
                    <a:lnTo>
                      <a:pt x="21600" y="10800"/>
                    </a:lnTo>
                    <a:lnTo>
                      <a:pt x="15666" y="13694"/>
                    </a:lnTo>
                    <a:lnTo>
                      <a:pt x="15666" y="12447"/>
                    </a:lnTo>
                    <a:lnTo>
                      <a:pt x="5934" y="12447"/>
                    </a:lnTo>
                    <a:lnTo>
                      <a:pt x="5934" y="13694"/>
                    </a:lnTo>
                    <a:lnTo>
                      <a:pt x="0" y="10800"/>
                    </a:lnTo>
                    <a:lnTo>
                      <a:pt x="5934" y="7906"/>
                    </a:lnTo>
                    <a:lnTo>
                      <a:pt x="5934" y="9153"/>
                    </a:lnTo>
                    <a:lnTo>
                      <a:pt x="9153" y="9153"/>
                    </a:lnTo>
                    <a:lnTo>
                      <a:pt x="9153" y="5934"/>
                    </a:lnTo>
                    <a:lnTo>
                      <a:pt x="7906" y="593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 rot="3600">
              <a:off x="3886560" y="5111280"/>
              <a:ext cx="2592720" cy="1395360"/>
            </a:xfrm>
            <a:custGeom>
              <a:avLst/>
              <a:gdLst>
                <a:gd name="textAreaLeft" fmla="*/ 0 w 2592720"/>
                <a:gd name="textAreaRight" fmla="*/ 2593080 w 2592720"/>
                <a:gd name="textAreaTop" fmla="*/ 0 h 1395360"/>
                <a:gd name="textAreaBottom" fmla="*/ 1395360 h 13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3694" y="5934"/>
                  </a:lnTo>
                  <a:lnTo>
                    <a:pt x="12447" y="5934"/>
                  </a:lnTo>
                  <a:lnTo>
                    <a:pt x="12447" y="9153"/>
                  </a:lnTo>
                  <a:lnTo>
                    <a:pt x="15666" y="9153"/>
                  </a:lnTo>
                  <a:lnTo>
                    <a:pt x="15666" y="7906"/>
                  </a:lnTo>
                  <a:lnTo>
                    <a:pt x="21600" y="10800"/>
                  </a:lnTo>
                  <a:lnTo>
                    <a:pt x="15666" y="13694"/>
                  </a:lnTo>
                  <a:lnTo>
                    <a:pt x="15666" y="12447"/>
                  </a:lnTo>
                  <a:lnTo>
                    <a:pt x="5934" y="12447"/>
                  </a:lnTo>
                  <a:lnTo>
                    <a:pt x="5934" y="13694"/>
                  </a:lnTo>
                  <a:lnTo>
                    <a:pt x="0" y="10800"/>
                  </a:lnTo>
                  <a:lnTo>
                    <a:pt x="5934" y="7906"/>
                  </a:lnTo>
                  <a:lnTo>
                    <a:pt x="5934" y="9153"/>
                  </a:lnTo>
                  <a:lnTo>
                    <a:pt x="9153" y="9153"/>
                  </a:lnTo>
                  <a:lnTo>
                    <a:pt x="9153" y="5934"/>
                  </a:lnTo>
                  <a:lnTo>
                    <a:pt x="7906" y="5934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7800" y="185760"/>
            <a:ext cx="6788160" cy="1039680"/>
          </a:xfrm>
          <a:prstGeom prst="rect">
            <a:avLst/>
          </a:prstGeom>
          <a:noFill/>
          <a:ln w="9360">
            <a:solidFill>
              <a:srgbClr val="fc0128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 global</a:t>
            </a:r>
            <a:r>
              <a:rPr b="1" i="1" lang="fr-BE" sz="3600" spc="-1" strike="noStrike">
                <a:solidFill>
                  <a:srgbClr val="ffffff"/>
                </a:solidFill>
                <a:latin typeface="Times New Roman"/>
              </a:rPr>
              <a:t> management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 : </a:t>
            </a:r>
            <a:br>
              <a:rPr sz="3600"/>
            </a:b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Essences + D</a:t>
            </a:r>
            <a:r>
              <a:rPr b="1" i="1" lang="fr-BE" sz="3600" spc="-1" strike="noStrike">
                <a:solidFill>
                  <a:srgbClr val="ffffff"/>
                </a:solidFill>
                <a:latin typeface="Times New Roman"/>
              </a:rPr>
              <a:t>ata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 + Meta</a:t>
            </a:r>
            <a:r>
              <a:rPr b="1" i="1" lang="fr-BE" sz="3600" spc="-1" strike="noStrike">
                <a:solidFill>
                  <a:srgbClr val="ffffff"/>
                </a:solidFill>
                <a:latin typeface="Times New Roman"/>
              </a:rPr>
              <a:t>data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titan" descr=""/>
          <p:cNvPicPr/>
          <p:nvPr/>
        </p:nvPicPr>
        <p:blipFill>
          <a:blip r:embed="rId4"/>
          <a:stretch/>
        </p:blipFill>
        <p:spPr>
          <a:xfrm>
            <a:off x="112680" y="133200"/>
            <a:ext cx="1057320" cy="285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b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17440" y="153720"/>
            <a:ext cx="7026120" cy="982440"/>
          </a:xfrm>
          <a:prstGeom prst="rect">
            <a:avLst/>
          </a:prstGeom>
          <a:noFill/>
          <a:ln w="9360">
            <a:solidFill>
              <a:srgbClr val="fc0128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ffffff"/>
                </a:solidFill>
                <a:latin typeface="Times New Roman"/>
              </a:rPr>
              <a:t>CIMWOS II : a combination o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e existing modules</a:t>
            </a:r>
            <a:r>
              <a:rPr b="1" i="1" lang="fr-BE" sz="32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Metadata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57120" y="1444680"/>
            <a:ext cx="3390480" cy="614160"/>
            <a:chOff x="357120" y="1444680"/>
            <a:chExt cx="3390480" cy="614160"/>
          </a:xfrm>
        </p:grpSpPr>
        <p:sp>
          <p:nvSpPr>
            <p:cNvPr id="56" name=""/>
            <p:cNvSpPr/>
            <p:nvPr/>
          </p:nvSpPr>
          <p:spPr>
            <a:xfrm>
              <a:off x="357120" y="1444680"/>
              <a:ext cx="3390480" cy="614160"/>
            </a:xfrm>
            <a:prstGeom prst="flowChartMagneticDisk">
              <a:avLst/>
            </a:prstGeom>
            <a:gradFill rotWithShape="0">
              <a:gsLst>
                <a:gs pos="0">
                  <a:srgbClr val="341944"/>
                </a:gs>
                <a:gs pos="50000">
                  <a:srgbClr val="a752dc"/>
                </a:gs>
                <a:gs pos="100000">
                  <a:srgbClr val="341944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6320" y="1702080"/>
              <a:ext cx="2832120" cy="271440"/>
            </a:xfrm>
            <a:prstGeom prst="rect">
              <a:avLst/>
            </a:prstGeom>
            <a:gradFill rotWithShape="0">
              <a:gsLst>
                <a:gs pos="0">
                  <a:srgbClr val="341944"/>
                </a:gs>
                <a:gs pos="50000">
                  <a:srgbClr val="a752dc"/>
                </a:gs>
                <a:gs pos="100000">
                  <a:srgbClr val="341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EECH RECOGNIT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44520" y="3086280"/>
            <a:ext cx="3475080" cy="614160"/>
            <a:chOff x="344520" y="3086280"/>
            <a:chExt cx="3475080" cy="614160"/>
          </a:xfrm>
        </p:grpSpPr>
        <p:sp>
          <p:nvSpPr>
            <p:cNvPr id="59" name=""/>
            <p:cNvSpPr/>
            <p:nvPr/>
          </p:nvSpPr>
          <p:spPr>
            <a:xfrm>
              <a:off x="344520" y="3086280"/>
              <a:ext cx="3475080" cy="614160"/>
            </a:xfrm>
            <a:prstGeom prst="flowChartMagneticDisk">
              <a:avLst/>
            </a:prstGeom>
            <a:gradFill rotWithShape="0">
              <a:gsLst>
                <a:gs pos="0">
                  <a:srgbClr val="40706b"/>
                </a:gs>
                <a:gs pos="50000">
                  <a:srgbClr val="8cf4ea"/>
                </a:gs>
                <a:gs pos="100000">
                  <a:srgbClr val="40706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5560" y="3373920"/>
              <a:ext cx="2879640" cy="271440"/>
            </a:xfrm>
            <a:prstGeom prst="rect">
              <a:avLst/>
            </a:prstGeom>
            <a:gradFill rotWithShape="0">
              <a:gsLst>
                <a:gs pos="0">
                  <a:srgbClr val="40706b"/>
                </a:gs>
                <a:gs pos="50000">
                  <a:srgbClr val="8cf4ea"/>
                </a:gs>
                <a:gs pos="100000">
                  <a:srgbClr val="407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 SCREEN TEXT RECOGNIT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850000" y="2532240"/>
            <a:ext cx="1525680" cy="2356560"/>
            <a:chOff x="5850000" y="2532240"/>
            <a:chExt cx="1525680" cy="2356560"/>
          </a:xfrm>
        </p:grpSpPr>
        <p:sp>
          <p:nvSpPr>
            <p:cNvPr id="62" name=""/>
            <p:cNvSpPr/>
            <p:nvPr/>
          </p:nvSpPr>
          <p:spPr>
            <a:xfrm>
              <a:off x="5850000" y="2532240"/>
              <a:ext cx="1525680" cy="2356560"/>
            </a:xfrm>
            <a:prstGeom prst="flowChartMagneticDisk">
              <a:avLst/>
            </a:prstGeom>
            <a:gradFill rotWithShape="0">
              <a:gsLst>
                <a:gs pos="0">
                  <a:srgbClr val="7c1661"/>
                </a:gs>
                <a:gs pos="50000">
                  <a:srgbClr val="de28ae"/>
                </a:gs>
                <a:gs pos="100000">
                  <a:srgbClr val="7c1661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66640" y="3515400"/>
              <a:ext cx="12744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ffff"/>
                  </a:solidFill>
                  <a:latin typeface="Arial"/>
                </a:rPr>
                <a:t>DATA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ffff"/>
                  </a:solidFill>
                  <a:latin typeface="Arial"/>
                </a:rPr>
                <a:t>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63600" y="4911840"/>
            <a:ext cx="3354480" cy="1662120"/>
          </a:xfrm>
          <a:prstGeom prst="flowChartMagneticDisk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2560" y="5618160"/>
            <a:ext cx="2801880" cy="57564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DATAS AND METADA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OM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69720" y="2181240"/>
            <a:ext cx="3425760" cy="625320"/>
            <a:chOff x="369720" y="2181240"/>
            <a:chExt cx="3425760" cy="625320"/>
          </a:xfrm>
        </p:grpSpPr>
        <p:sp>
          <p:nvSpPr>
            <p:cNvPr id="67" name=""/>
            <p:cNvSpPr/>
            <p:nvPr/>
          </p:nvSpPr>
          <p:spPr>
            <a:xfrm>
              <a:off x="369720" y="2181240"/>
              <a:ext cx="3425760" cy="625320"/>
            </a:xfrm>
            <a:prstGeom prst="flowChartMagneticDisk">
              <a:avLst/>
            </a:prstGeom>
            <a:gradFill rotWithShape="0">
              <a:gsLst>
                <a:gs pos="0">
                  <a:srgbClr val="2c4174"/>
                </a:gs>
                <a:gs pos="50000">
                  <a:srgbClr val="618ffd"/>
                </a:gs>
                <a:gs pos="100000">
                  <a:srgbClr val="2c4174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1800" y="2443320"/>
              <a:ext cx="2861640" cy="271440"/>
            </a:xfrm>
            <a:prstGeom prst="rect">
              <a:avLst/>
            </a:prstGeom>
            <a:gradFill rotWithShape="0">
              <a:gsLst>
                <a:gs pos="0">
                  <a:srgbClr val="2c4174"/>
                </a:gs>
                <a:gs pos="50000">
                  <a:srgbClr val="618ffd"/>
                </a:gs>
                <a:gs pos="100000">
                  <a:srgbClr val="2c41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CE RECOGNIT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31920" y="3873600"/>
            <a:ext cx="3425400" cy="619200"/>
            <a:chOff x="331920" y="3873600"/>
            <a:chExt cx="3425400" cy="619200"/>
          </a:xfrm>
        </p:grpSpPr>
        <p:sp>
          <p:nvSpPr>
            <p:cNvPr id="70" name=""/>
            <p:cNvSpPr/>
            <p:nvPr/>
          </p:nvSpPr>
          <p:spPr>
            <a:xfrm>
              <a:off x="331920" y="3873600"/>
              <a:ext cx="3425400" cy="619200"/>
            </a:xfrm>
            <a:prstGeom prst="flowChartMagneticDisk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000" y="4134240"/>
              <a:ext cx="2861280" cy="332280"/>
            </a:xfrm>
            <a:prstGeom prst="rect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ffff"/>
                  </a:solidFill>
                  <a:latin typeface="Arial"/>
                </a:rPr>
                <a:t>…………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108320" y="1378080"/>
            <a:ext cx="1092240" cy="4989240"/>
          </a:xfrm>
          <a:custGeom>
            <a:avLst/>
            <a:gdLst>
              <a:gd name="textAreaLeft" fmla="*/ 272880 w 1092240"/>
              <a:gd name="textAreaRight" fmla="*/ 819360 w 1092240"/>
              <a:gd name="textAreaTop" fmla="*/ 0 h 4989240"/>
              <a:gd name="textAreaBottom" fmla="*/ 4989600 h 49892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ffd9b3"/>
              </a:gs>
              <a:gs pos="50000">
                <a:srgbClr val="756452"/>
              </a:gs>
              <a:gs pos="100000">
                <a:srgbClr val="ffd9b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58280" y="2633760"/>
            <a:ext cx="1485720" cy="1962000"/>
          </a:xfrm>
          <a:prstGeom prst="leftArrowCallout">
            <a:avLst>
              <a:gd name="adj1" fmla="val 33017"/>
              <a:gd name="adj2" fmla="val 33014"/>
              <a:gd name="adj3" fmla="val 16667"/>
              <a:gd name="adj4" fmla="val 66673"/>
            </a:avLst>
          </a:prstGeom>
          <a:gradFill rotWithShape="0">
            <a:gsLst>
              <a:gs pos="0">
                <a:srgbClr val="ffd9b3"/>
              </a:gs>
              <a:gs pos="50000">
                <a:srgbClr val="756452"/>
              </a:gs>
              <a:gs pos="100000">
                <a:srgbClr val="ffd9b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35000" y="3354480"/>
            <a:ext cx="77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76880" y="1946160"/>
            <a:ext cx="564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M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W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3200"/>
            </a:b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" y="438480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</a:rPr>
              <a:t>+ + + + + + + 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titan" descr=""/>
          <p:cNvPicPr/>
          <p:nvPr/>
        </p:nvPicPr>
        <p:blipFill>
          <a:blip r:embed="rId1"/>
          <a:stretch/>
        </p:blipFill>
        <p:spPr>
          <a:xfrm>
            <a:off x="120600" y="125280"/>
            <a:ext cx="1057320" cy="28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1T15:08:10Z</dcterms:created>
  <dc:creator>Guy Maréchal &amp; autres</dc:creator>
  <dc:description/>
  <dc:language>en-US</dc:language>
  <cp:lastModifiedBy>Maréchal Guy</cp:lastModifiedBy>
  <cp:lastPrinted>2003-02-28T11:01:38Z</cp:lastPrinted>
  <dcterms:modified xsi:type="dcterms:W3CDTF">2003-12-09T09:30:35Z</dcterms:modified>
  <cp:revision>755</cp:revision>
  <dc:subject/>
  <dc:title>Présentation AIME</dc:title>
</cp:coreProperties>
</file>