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774238" cy="6710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7037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73200" y="3978360"/>
            <a:ext cx="7037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7932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73200" y="397836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79320" y="397836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2800" y="182880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2400" y="182880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73200" y="397836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2800" y="397836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2400" y="3978360"/>
            <a:ext cx="226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73200" y="1828800"/>
            <a:ext cx="703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703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343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9320" y="1828800"/>
            <a:ext cx="343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36400" y="247320"/>
            <a:ext cx="756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9320" y="1828800"/>
            <a:ext cx="343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73200" y="397836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343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7932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79320" y="397836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7320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79320" y="1828800"/>
            <a:ext cx="343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73200" y="3978360"/>
            <a:ext cx="7037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73200" y="1828800"/>
            <a:ext cx="703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6240" y="1409760"/>
            <a:ext cx="88801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36400" y="247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6520" y="0"/>
            <a:ext cx="238320" cy="6845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9560" y="0"/>
            <a:ext cx="373320" cy="4667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2200" y="0"/>
            <a:ext cx="1085760" cy="3352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0"/>
            <a:ext cx="304920" cy="3886200"/>
          </a:xfrm>
          <a:prstGeom prst="rect">
            <a:avLst/>
          </a:prstGeom>
          <a:gradFill rotWithShape="0">
            <a:gsLst>
              <a:gs pos="0">
                <a:srgbClr val="05174a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1467000"/>
            <a:ext cx="527040" cy="1218960"/>
          </a:xfrm>
          <a:prstGeom prst="rect">
            <a:avLst/>
          </a:prstGeom>
          <a:gradFill rotWithShape="0">
            <a:gsLst>
              <a:gs pos="0">
                <a:srgbClr val="4a000b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960" y="1409760"/>
            <a:ext cx="8624880" cy="1332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453880" y="6602400"/>
            <a:ext cx="675360" cy="226080"/>
            <a:chOff x="8453880" y="6602400"/>
            <a:chExt cx="675360" cy="226080"/>
          </a:xfrm>
        </p:grpSpPr>
        <p:sp>
          <p:nvSpPr>
            <p:cNvPr id="10" name=""/>
            <p:cNvSpPr/>
            <p:nvPr/>
          </p:nvSpPr>
          <p:spPr>
            <a:xfrm>
              <a:off x="8453880" y="6613560"/>
              <a:ext cx="675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9EF1B8F-F953-44FC-8069-0B4010C5A7E2}" type="slidenum">
                <a:rPr b="1" lang="fr-FR" sz="8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43520" y="6602400"/>
              <a:ext cx="2516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353880" y="193680"/>
            <a:ext cx="927360" cy="674640"/>
            <a:chOff x="353880" y="193680"/>
            <a:chExt cx="927360" cy="674640"/>
          </a:xfrm>
        </p:grpSpPr>
        <p:sp>
          <p:nvSpPr>
            <p:cNvPr id="13" name=""/>
            <p:cNvSpPr/>
            <p:nvPr/>
          </p:nvSpPr>
          <p:spPr>
            <a:xfrm>
              <a:off x="353880" y="249120"/>
              <a:ext cx="927360" cy="619200"/>
            </a:xfrm>
            <a:prstGeom prst="roundRect">
              <a:avLst>
                <a:gd name="adj" fmla="val 12477"/>
              </a:avLst>
            </a:prstGeom>
            <a:noFill/>
            <a:ln w="25560">
              <a:solidFill>
                <a:srgbClr val="009688"/>
              </a:solidFill>
              <a:miter/>
            </a:ln>
            <a:effectLst>
              <a:outerShdw dist="17819" dir="2700000" blurRad="0" rotWithShape="0">
                <a:srgbClr val="0059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2560" y="465120"/>
              <a:ext cx="523080" cy="344520"/>
            </a:xfrm>
            <a:prstGeom prst="ellipse">
              <a:avLst/>
            </a:prstGeom>
            <a:noFill/>
            <a:ln w="25560">
              <a:solidFill>
                <a:srgbClr val="009688"/>
              </a:solidFill>
              <a:miter/>
            </a:ln>
            <a:effectLst>
              <a:outerShdw dist="17819" dir="2700000" blurRad="0" rotWithShape="0">
                <a:srgbClr val="0059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58080" y="466560"/>
              <a:ext cx="523080" cy="344520"/>
            </a:xfrm>
            <a:prstGeom prst="ellipse">
              <a:avLst/>
            </a:prstGeom>
            <a:noFill/>
            <a:ln w="25560">
              <a:solidFill>
                <a:srgbClr val="009688"/>
              </a:solidFill>
              <a:miter/>
            </a:ln>
            <a:effectLst>
              <a:outerShdw dist="17819" dir="2700000" blurRad="0" rotWithShape="0">
                <a:srgbClr val="0059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83040" y="193680"/>
              <a:ext cx="78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TIT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>
            <a:off x="5368320" y="6630840"/>
            <a:ext cx="3163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Arial"/>
              </a:rPr>
              <a:t>TITAN : Gestion documentaire et archivage ACF / AWEX 28 décembre 2003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tan.be/" TargetMode="External"/><Relationship Id="rId3" Type="http://schemas.openxmlformats.org/officeDocument/2006/relationships/hyperlink" Target="mailto:roger.roberts@chello.be" TargetMode="External"/><Relationship Id="rId4" Type="http://schemas.openxmlformats.org/officeDocument/2006/relationships/hyperlink" Target="mailto:roger.roberts@chello.be" TargetMode="External"/><Relationship Id="rId5" Type="http://schemas.openxmlformats.org/officeDocument/2006/relationships/hyperlink" Target="mailto:roger.roberts@chello.be" TargetMode="External"/><Relationship Id="rId6" Type="http://schemas.openxmlformats.org/officeDocument/2006/relationships/hyperlink" Target="mailto:gmarechal@brutele.be" TargetMode="External"/><Relationship Id="rId7" Type="http://schemas.openxmlformats.org/officeDocument/2006/relationships/hyperlink" Target="mailto:gmarechal@brutele.be" TargetMode="External"/><Relationship Id="rId8" Type="http://schemas.openxmlformats.org/officeDocument/2006/relationships/hyperlink" Target="mailto:gmarechal@brutele.be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roger.roberts@chello.b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titan.be/fr/titan.htm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www.titan.be/fr/atelier.htm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www.titan.be/fr/photos.htm" TargetMode="External"/><Relationship Id="rId10" Type="http://schemas.openxmlformats.org/officeDocument/2006/relationships/image" Target="../media/image17.png"/><Relationship Id="rId11" Type="http://schemas.openxmlformats.org/officeDocument/2006/relationships/hyperlink" Target="http://www.titan.be/fr/contact.htm" TargetMode="External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81920" y="52560"/>
            <a:ext cx="7070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The FUTURE of ARCHIV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u flux binaire à la sémantique num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837560" y="5837400"/>
            <a:ext cx="1165320" cy="55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32880" y="3486240"/>
            <a:ext cx="68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Conclusions apéri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5600" y="600228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r Guy Maréch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e 28 novembre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47120" y="1844640"/>
            <a:ext cx="31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 organized by                      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042400" y="1836720"/>
            <a:ext cx="981000" cy="290520"/>
            <a:chOff x="8042400" y="1836720"/>
            <a:chExt cx="981000" cy="290520"/>
          </a:xfrm>
        </p:grpSpPr>
        <p:sp>
          <p:nvSpPr>
            <p:cNvPr id="60" name=""/>
            <p:cNvSpPr/>
            <p:nvPr/>
          </p:nvSpPr>
          <p:spPr>
            <a:xfrm>
              <a:off x="8042400" y="1836720"/>
              <a:ext cx="981000" cy="2905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" name="titan" descr=""/>
            <p:cNvPicPr/>
            <p:nvPr/>
          </p:nvPicPr>
          <p:blipFill>
            <a:blip r:embed="rId2"/>
            <a:stretch/>
          </p:blipFill>
          <p:spPr>
            <a:xfrm>
              <a:off x="8078760" y="1859760"/>
              <a:ext cx="931680" cy="23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988320" y="1682640"/>
            <a:ext cx="723600" cy="59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concret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3680" y="1922400"/>
            <a:ext cx="7716960" cy="420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Les systèmes doivent être capables de résister aux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volutions et faiblesses des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techniqu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1900" spc="-1" strike="noStrike">
                <a:solidFill>
                  <a:srgbClr val="ffffff"/>
                </a:solidFill>
                <a:latin typeface="Times New Roman"/>
              </a:rPr>
              <a:t>(Formats de représentation, supports, plateformes, réseaux, …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Modifications de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structures et d’organis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volutions des besoins spécifiques de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personnalis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volutions des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loi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Contraintes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 issues de la recherche de convivialité, de simplicité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de modularité, de diversité des rôles, …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concret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3680" y="1922400"/>
            <a:ext cx="7716960" cy="40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Les utilisateurs ne veulent plu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Payer le prix des systèmes propriétaires malgré les facilités offert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d'homogénéité des formats - sources / formats de travail /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formats de diffusion / formats d'archivag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Payer le prix des fournisseurs "exclusifs"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Payer le prix des pertes de charges dues aux structures d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production linéair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Se retrouver « clients captifs » lors de leurs modernis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5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concret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7680" y="1565280"/>
            <a:ext cx="7716960" cy="43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Les utilisateurs souhaiten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Des supports phys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Léger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Robustes &amp; fiab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Nom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conom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« Souples" d'exploitation avec 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Grande rapidité d'accès et de transf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Des formats ouverts et interopérables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y compris pour des utilisateurs « extra-structurels »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Des architectures de production intégrées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 (réseau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6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s piliers des solution correc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98600" y="1920960"/>
            <a:ext cx="755316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61800" indent="-361800">
              <a:lnSpc>
                <a:spcPct val="130000"/>
              </a:lnSpc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 technologies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fiables et perform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normalisation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des interfaces techniques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96760" indent="-35532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Les pouvoirs publics (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normes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6760" indent="-35532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Les fédération d’industriels (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standards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La valorisation de l’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innovation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porteus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des contenus, fonctions, procédures, organisations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Les capacités de 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personn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361800"/>
                <a:tab algn="l" pos="533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L’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ouverture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sous contrôle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codes des fonctions lib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631520" y="162000"/>
            <a:ext cx="7332840" cy="11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s solutions correctes sont devenues possibl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0160" y="1568520"/>
            <a:ext cx="7716600" cy="50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61800" indent="-361800">
              <a:lnSpc>
                <a:spcPct val="130000"/>
              </a:lnSpc>
              <a:tabLst>
                <a:tab algn="l" pos="0"/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Toutes les </a:t>
            </a:r>
            <a:r>
              <a:rPr b="1" i="1" lang="fr-FR" sz="2200" spc="-1" strike="noStrike">
                <a:solidFill>
                  <a:srgbClr val="ffff00"/>
                </a:solidFill>
                <a:latin typeface="Times New Roman"/>
              </a:rPr>
              <a:t>technologies </a:t>
            </a: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nécessaires et correctes sont disponib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tabLst>
                <a:tab algn="l" pos="0"/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 Les présentations et exposants le démontrent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Supports polyvalents (Blu-ray, SD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Serveurs de fl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Cameras avec liens métadonnées et ‘prox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Bases de données XML natives avec liens relation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tabLst>
                <a:tab algn="l" pos="0"/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1" i="1" lang="fr-FR" sz="2200" spc="-1" strike="noStrike">
                <a:solidFill>
                  <a:srgbClr val="ffff00"/>
                </a:solidFill>
                <a:latin typeface="Times New Roman"/>
              </a:rPr>
              <a:t>normalisation / standardisations </a:t>
            </a: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 correctes sont l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XML, RDF, SMIL, HTML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MPEG- 1, 2, 4, 7 et bientôt 21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MXF, AAF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TCP/IP, CWDM, QAM, QPSK, ATM 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DVB, DVD, ZIP, PDF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30000"/>
              </a:lnSpc>
              <a:tabLst>
                <a:tab algn="l" pos="0"/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L’</a:t>
            </a:r>
            <a:r>
              <a:rPr b="1" i="1" lang="fr-FR" sz="2200" spc="-1" strike="noStrike">
                <a:solidFill>
                  <a:srgbClr val="ffff00"/>
                </a:solidFill>
                <a:latin typeface="Times New Roman"/>
              </a:rPr>
              <a:t>ouverture</a:t>
            </a: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 sous contrôle, dans les traces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Linu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, APACHE, X-indices, Cocoo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Opera, Go!Zilla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Star Office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Acrobat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Open players (Flash, Real, QuickTime, Windows media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9520" indent="-3045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361800"/>
                <a:tab algn="l" pos="80640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10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72880" y="3438360"/>
            <a:ext cx="7459560" cy="91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DF</a:t>
            </a: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68840" y="68400"/>
            <a:ext cx="655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D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ource Description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96760" y="1838160"/>
            <a:ext cx="6851880" cy="4542120"/>
            <a:chOff x="1796760" y="1838160"/>
            <a:chExt cx="6851880" cy="4542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852560" y="2452680"/>
              <a:ext cx="6796080" cy="39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796760" y="183816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http://www.w3c.or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414080" y="132840"/>
            <a:ext cx="7729560" cy="6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s diverses ressource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 RDF”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417680" y="2087640"/>
            <a:ext cx="7342200" cy="3988440"/>
            <a:chOff x="1417680" y="2087640"/>
            <a:chExt cx="7342200" cy="3988440"/>
          </a:xfrm>
        </p:grpSpPr>
        <p:sp>
          <p:nvSpPr>
            <p:cNvPr id="209" name=""/>
            <p:cNvSpPr/>
            <p:nvPr/>
          </p:nvSpPr>
          <p:spPr>
            <a:xfrm>
              <a:off x="1417680" y="2087640"/>
              <a:ext cx="3178080" cy="3988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Contenu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Documen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Obj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Sites WE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Thésauru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Program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Ordinateu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Réseau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1840" y="2090880"/>
              <a:ext cx="3848040" cy="3501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Personn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Bases de donné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Organisa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Nor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Standar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Outil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53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25520" y="782640"/>
            <a:ext cx="772956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Tout ce qui peut être identifié (URI, URL)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328400" y="306360"/>
            <a:ext cx="7729560" cy="1022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 modèle cartésien de référence”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Norme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5440" y="4102920"/>
            <a:ext cx="231300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ré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02200" y="4130640"/>
            <a:ext cx="876240" cy="308160"/>
          </a:xfrm>
          <a:prstGeom prst="rightArrow">
            <a:avLst>
              <a:gd name="adj1" fmla="val 50000"/>
              <a:gd name="adj2" fmla="val 71086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44560" y="2602440"/>
            <a:ext cx="232740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péc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2649600"/>
            <a:ext cx="863640" cy="307800"/>
          </a:xfrm>
          <a:prstGeom prst="rightArrow">
            <a:avLst>
              <a:gd name="adj1" fmla="val 50000"/>
              <a:gd name="adj2" fmla="val 70146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520" y="3884760"/>
            <a:ext cx="1411200" cy="83340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43520" y="2475000"/>
            <a:ext cx="1449360" cy="69696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éfi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19880" y="2552760"/>
            <a:ext cx="3014280" cy="1832040"/>
            <a:chOff x="5519880" y="2552760"/>
            <a:chExt cx="3014280" cy="1832040"/>
          </a:xfrm>
        </p:grpSpPr>
        <p:sp>
          <p:nvSpPr>
            <p:cNvPr id="220" name=""/>
            <p:cNvSpPr/>
            <p:nvPr/>
          </p:nvSpPr>
          <p:spPr>
            <a:xfrm>
              <a:off x="7385760" y="40165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Donné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95960" y="255276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Métadonné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Times New Roman"/>
                </a:rPr>
                <a:t>normativ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19880" y="3262320"/>
              <a:ext cx="263520" cy="569880"/>
            </a:xfrm>
            <a:prstGeom prst="downArrow">
              <a:avLst>
                <a:gd name="adj1" fmla="val 50000"/>
                <a:gd name="adj2" fmla="val 54064"/>
              </a:avLst>
            </a:prstGeom>
            <a:solidFill>
              <a:srgbClr val="ff99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4480" y="336060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ffff"/>
                  </a:solidFill>
                  <a:latin typeface="Arial"/>
                </a:rPr>
                <a:t>Relation d’occurr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28400" y="306360"/>
            <a:ext cx="7729560" cy="1022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 modèle cartésien de référence”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Représentation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55840" y="3195720"/>
            <a:ext cx="1490400" cy="752400"/>
            <a:chOff x="1455840" y="3195720"/>
            <a:chExt cx="1490400" cy="752400"/>
          </a:xfrm>
        </p:grpSpPr>
        <p:sp>
          <p:nvSpPr>
            <p:cNvPr id="226" name=""/>
            <p:cNvSpPr/>
            <p:nvPr/>
          </p:nvSpPr>
          <p:spPr>
            <a:xfrm>
              <a:off x="1455840" y="3195720"/>
              <a:ext cx="1041120" cy="75240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35120" y="3425760"/>
              <a:ext cx="411120" cy="273240"/>
            </a:xfrm>
            <a:prstGeom prst="rightArrow">
              <a:avLst>
                <a:gd name="adj1" fmla="val 50000"/>
                <a:gd name="adj2" fmla="val 44066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800" y="1884240"/>
            <a:ext cx="6096600" cy="1874520"/>
            <a:chOff x="2971800" y="1884240"/>
            <a:chExt cx="6096600" cy="1874520"/>
          </a:xfrm>
        </p:grpSpPr>
        <p:sp>
          <p:nvSpPr>
            <p:cNvPr id="229" name=""/>
            <p:cNvSpPr/>
            <p:nvPr/>
          </p:nvSpPr>
          <p:spPr>
            <a:xfrm>
              <a:off x="2971800" y="3359880"/>
              <a:ext cx="2313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Représ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9720" y="2031120"/>
              <a:ext cx="227664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Spécif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2720" y="2077920"/>
              <a:ext cx="790560" cy="308160"/>
            </a:xfrm>
            <a:prstGeom prst="rightArrow">
              <a:avLst>
                <a:gd name="adj1" fmla="val 50000"/>
                <a:gd name="adj2" fmla="val 64136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2320" y="336852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03640" y="2003400"/>
              <a:ext cx="129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00"/>
                  </a:solidFill>
                  <a:latin typeface="Times New Roman"/>
                </a:rPr>
                <a:t>Métadonné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00"/>
                  </a:solidFill>
                  <a:latin typeface="Times New Roman"/>
                </a:rPr>
                <a:t>normativ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8680" y="3332160"/>
              <a:ext cx="1411200" cy="4176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3000" y="1884240"/>
              <a:ext cx="1449360" cy="69696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Défi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de form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8800" y="3390840"/>
              <a:ext cx="790560" cy="308160"/>
            </a:xfrm>
            <a:prstGeom prst="rightArrow">
              <a:avLst>
                <a:gd name="adj1" fmla="val 50000"/>
                <a:gd name="adj2" fmla="val 64136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9000" y="2671920"/>
              <a:ext cx="263520" cy="569880"/>
            </a:xfrm>
            <a:prstGeom prst="downArrow">
              <a:avLst>
                <a:gd name="adj1" fmla="val 50000"/>
                <a:gd name="adj2" fmla="val 54064"/>
              </a:avLst>
            </a:prstGeom>
            <a:solidFill>
              <a:srgbClr val="ff99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0720" y="2744640"/>
              <a:ext cx="20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00"/>
                  </a:solidFill>
                  <a:latin typeface="Times New Roman"/>
                </a:rPr>
                <a:t>Relation d’occurr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3120" y="468360"/>
            <a:ext cx="7461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ever les écrans …  pour aller à l’essentiel  !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92280" y="2475000"/>
            <a:ext cx="5130720" cy="3473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730760" y="4159080"/>
            <a:ext cx="1422360" cy="524880"/>
            <a:chOff x="4730760" y="4159080"/>
            <a:chExt cx="1422360" cy="524880"/>
          </a:xfrm>
        </p:grpSpPr>
        <p:sp>
          <p:nvSpPr>
            <p:cNvPr id="66" name=""/>
            <p:cNvSpPr/>
            <p:nvPr/>
          </p:nvSpPr>
          <p:spPr>
            <a:xfrm>
              <a:off x="4730760" y="4159080"/>
              <a:ext cx="1422360" cy="514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3680" y="4163760"/>
              <a:ext cx="110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Windows Med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94120" y="3840120"/>
            <a:ext cx="1266840" cy="409680"/>
            <a:chOff x="4794120" y="3840120"/>
            <a:chExt cx="1266840" cy="409680"/>
          </a:xfrm>
        </p:grpSpPr>
        <p:sp>
          <p:nvSpPr>
            <p:cNvPr id="69" name=""/>
            <p:cNvSpPr/>
            <p:nvPr/>
          </p:nvSpPr>
          <p:spPr>
            <a:xfrm>
              <a:off x="4794120" y="3840120"/>
              <a:ext cx="1266840" cy="409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81960" y="388440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Quick Ti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95680" y="2781360"/>
            <a:ext cx="1530360" cy="3322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G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3520" y="4691160"/>
            <a:ext cx="1527120" cy="3322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PEG 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45080" y="5303880"/>
            <a:ext cx="1527120" cy="3322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PEG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46440" y="5013360"/>
            <a:ext cx="1527120" cy="337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PEG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51000" y="2992320"/>
            <a:ext cx="1133280" cy="342720"/>
            <a:chOff x="3051000" y="2992320"/>
            <a:chExt cx="1133280" cy="342720"/>
          </a:xfrm>
        </p:grpSpPr>
        <p:sp>
          <p:nvSpPr>
            <p:cNvPr id="76" name=""/>
            <p:cNvSpPr/>
            <p:nvPr/>
          </p:nvSpPr>
          <p:spPr>
            <a:xfrm>
              <a:off x="3051000" y="2992320"/>
              <a:ext cx="1133280" cy="342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91400" y="30193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IP/TCP 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297400" y="5672160"/>
            <a:ext cx="1447560" cy="571320"/>
            <a:chOff x="5297400" y="5672160"/>
            <a:chExt cx="1447560" cy="571320"/>
          </a:xfrm>
        </p:grpSpPr>
        <p:sp>
          <p:nvSpPr>
            <p:cNvPr id="79" name=""/>
            <p:cNvSpPr/>
            <p:nvPr/>
          </p:nvSpPr>
          <p:spPr>
            <a:xfrm>
              <a:off x="5297400" y="5672160"/>
              <a:ext cx="1447560" cy="571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08640" y="583704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DV / DVc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971800" y="2614680"/>
            <a:ext cx="1306440" cy="468360"/>
            <a:chOff x="2971800" y="2614680"/>
            <a:chExt cx="1306440" cy="468360"/>
          </a:xfrm>
        </p:grpSpPr>
        <p:sp>
          <p:nvSpPr>
            <p:cNvPr id="82" name=""/>
            <p:cNvSpPr/>
            <p:nvPr/>
          </p:nvSpPr>
          <p:spPr>
            <a:xfrm>
              <a:off x="2971800" y="2614680"/>
              <a:ext cx="1306440" cy="4683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22640" y="268272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mil 2.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94120" y="3475080"/>
            <a:ext cx="1219320" cy="466560"/>
            <a:chOff x="4794120" y="3475080"/>
            <a:chExt cx="1219320" cy="466560"/>
          </a:xfrm>
        </p:grpSpPr>
        <p:sp>
          <p:nvSpPr>
            <p:cNvPr id="85" name=""/>
            <p:cNvSpPr/>
            <p:nvPr/>
          </p:nvSpPr>
          <p:spPr>
            <a:xfrm>
              <a:off x="4794120" y="3475080"/>
              <a:ext cx="1219320" cy="466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4400" y="355752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Real Vide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26120" y="3846600"/>
            <a:ext cx="1447920" cy="571320"/>
            <a:chOff x="6126120" y="3846600"/>
            <a:chExt cx="1447920" cy="571320"/>
          </a:xfrm>
        </p:grpSpPr>
        <p:sp>
          <p:nvSpPr>
            <p:cNvPr id="88" name=""/>
            <p:cNvSpPr/>
            <p:nvPr/>
          </p:nvSpPr>
          <p:spPr>
            <a:xfrm>
              <a:off x="6126120" y="3846600"/>
              <a:ext cx="1447920" cy="5713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6680" y="39607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Explor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884760" y="2327400"/>
            <a:ext cx="1449360" cy="572760"/>
            <a:chOff x="3884760" y="2327400"/>
            <a:chExt cx="1449360" cy="572760"/>
          </a:xfrm>
        </p:grpSpPr>
        <p:sp>
          <p:nvSpPr>
            <p:cNvPr id="91" name=""/>
            <p:cNvSpPr/>
            <p:nvPr/>
          </p:nvSpPr>
          <p:spPr>
            <a:xfrm>
              <a:off x="3884760" y="2327400"/>
              <a:ext cx="1449360" cy="5727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3600" y="2440080"/>
              <a:ext cx="1228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TML/X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135840" y="4284720"/>
            <a:ext cx="1447560" cy="571320"/>
            <a:chOff x="6135840" y="4284720"/>
            <a:chExt cx="1447560" cy="571320"/>
          </a:xfrm>
        </p:grpSpPr>
        <p:sp>
          <p:nvSpPr>
            <p:cNvPr id="94" name=""/>
            <p:cNvSpPr/>
            <p:nvPr/>
          </p:nvSpPr>
          <p:spPr>
            <a:xfrm>
              <a:off x="6135840" y="4284720"/>
              <a:ext cx="1447560" cy="5713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29240" y="439884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Oper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74800" y="2287440"/>
            <a:ext cx="1382760" cy="423720"/>
            <a:chOff x="2674800" y="2287440"/>
            <a:chExt cx="1382760" cy="423720"/>
          </a:xfrm>
        </p:grpSpPr>
        <p:sp>
          <p:nvSpPr>
            <p:cNvPr id="97" name=""/>
            <p:cNvSpPr/>
            <p:nvPr/>
          </p:nvSpPr>
          <p:spPr>
            <a:xfrm>
              <a:off x="2674800" y="2287440"/>
              <a:ext cx="1382760" cy="4237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81880" y="230940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W3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40120" y="5570640"/>
            <a:ext cx="1527120" cy="3322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PEG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4600" y="5856120"/>
            <a:ext cx="1527120" cy="3322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PEG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6760" y="4751280"/>
            <a:ext cx="1447560" cy="5716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9360" y="4865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11440" y="4292640"/>
            <a:ext cx="2305080" cy="55224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rchite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8360" y="5530680"/>
            <a:ext cx="1166760" cy="41760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36680" y="5214960"/>
            <a:ext cx="1166760" cy="41760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2680" y="4681440"/>
            <a:ext cx="1166760" cy="41760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9120" y="5043600"/>
            <a:ext cx="1166760" cy="4172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X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00480" y="4888080"/>
            <a:ext cx="1166760" cy="4172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WD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3640" y="5268960"/>
            <a:ext cx="1447920" cy="5713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3600" y="53769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Go!zi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22880" y="2989440"/>
            <a:ext cx="1447920" cy="571320"/>
            <a:chOff x="6122880" y="2989440"/>
            <a:chExt cx="1447920" cy="571320"/>
          </a:xfrm>
        </p:grpSpPr>
        <p:sp>
          <p:nvSpPr>
            <p:cNvPr id="112" name=""/>
            <p:cNvSpPr/>
            <p:nvPr/>
          </p:nvSpPr>
          <p:spPr>
            <a:xfrm>
              <a:off x="6122880" y="2989440"/>
              <a:ext cx="1447920" cy="5713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2720" y="30780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Z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21400" y="3166920"/>
            <a:ext cx="1218960" cy="466560"/>
            <a:chOff x="4721400" y="3166920"/>
            <a:chExt cx="1218960" cy="466560"/>
          </a:xfrm>
        </p:grpSpPr>
        <p:sp>
          <p:nvSpPr>
            <p:cNvPr id="115" name=""/>
            <p:cNvSpPr/>
            <p:nvPr/>
          </p:nvSpPr>
          <p:spPr>
            <a:xfrm>
              <a:off x="4721400" y="3166920"/>
              <a:ext cx="1218960" cy="46656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0920" y="324936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62400" y="2332080"/>
            <a:ext cx="1447920" cy="571320"/>
            <a:chOff x="5162400" y="2332080"/>
            <a:chExt cx="1447920" cy="571320"/>
          </a:xfrm>
        </p:grpSpPr>
        <p:sp>
          <p:nvSpPr>
            <p:cNvPr id="118" name=""/>
            <p:cNvSpPr/>
            <p:nvPr/>
          </p:nvSpPr>
          <p:spPr>
            <a:xfrm>
              <a:off x="5162400" y="2332080"/>
              <a:ext cx="1447920" cy="57132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2120" y="2420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X-Ind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134040" y="3389400"/>
            <a:ext cx="1447920" cy="571320"/>
            <a:chOff x="6134040" y="3389400"/>
            <a:chExt cx="1447920" cy="571320"/>
          </a:xfrm>
        </p:grpSpPr>
        <p:sp>
          <p:nvSpPr>
            <p:cNvPr id="121" name=""/>
            <p:cNvSpPr/>
            <p:nvPr/>
          </p:nvSpPr>
          <p:spPr>
            <a:xfrm>
              <a:off x="6134040" y="3389400"/>
              <a:ext cx="1447920" cy="5713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5200" y="347796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Netsca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11800" y="2189160"/>
            <a:ext cx="1447920" cy="571680"/>
            <a:chOff x="6211800" y="2189160"/>
            <a:chExt cx="1447920" cy="571680"/>
          </a:xfrm>
        </p:grpSpPr>
        <p:sp>
          <p:nvSpPr>
            <p:cNvPr id="124" name=""/>
            <p:cNvSpPr/>
            <p:nvPr/>
          </p:nvSpPr>
          <p:spPr>
            <a:xfrm>
              <a:off x="6211800" y="2189160"/>
              <a:ext cx="1447920" cy="5716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93960" y="2278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Coco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10160" y="1903320"/>
            <a:ext cx="1447920" cy="571680"/>
            <a:chOff x="4610160" y="1903320"/>
            <a:chExt cx="1447920" cy="571680"/>
          </a:xfrm>
        </p:grpSpPr>
        <p:sp>
          <p:nvSpPr>
            <p:cNvPr id="127" name=""/>
            <p:cNvSpPr/>
            <p:nvPr/>
          </p:nvSpPr>
          <p:spPr>
            <a:xfrm>
              <a:off x="4610160" y="1903320"/>
              <a:ext cx="1447920" cy="5716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36880" y="19922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APACH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39880" y="4662360"/>
            <a:ext cx="1166760" cy="41760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V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648400"/>
            <a:ext cx="1166760" cy="41760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41640" y="3511440"/>
            <a:ext cx="1457280" cy="5526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ff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25720" y="3848040"/>
            <a:ext cx="1752480" cy="5526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inci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4960" y="3305160"/>
            <a:ext cx="1457280" cy="5526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so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73880" y="2733840"/>
            <a:ext cx="1120680" cy="571320"/>
            <a:chOff x="5573880" y="2733840"/>
            <a:chExt cx="1120680" cy="571320"/>
          </a:xfrm>
        </p:grpSpPr>
        <p:sp>
          <p:nvSpPr>
            <p:cNvPr id="135" name=""/>
            <p:cNvSpPr/>
            <p:nvPr/>
          </p:nvSpPr>
          <p:spPr>
            <a:xfrm>
              <a:off x="5573880" y="2733840"/>
              <a:ext cx="1120680" cy="57132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a2f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8960" y="2822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18680" y="115920"/>
            <a:ext cx="7729560" cy="124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e modèle cartésien de référence”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Généralisation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Relations, ontologies, connaissances, … exprimées en  RDF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95440" y="1852560"/>
            <a:ext cx="4733640" cy="1606320"/>
            <a:chOff x="1495440" y="1852560"/>
            <a:chExt cx="4733640" cy="1606320"/>
          </a:xfrm>
        </p:grpSpPr>
        <p:sp>
          <p:nvSpPr>
            <p:cNvPr id="241" name=""/>
            <p:cNvSpPr/>
            <p:nvPr/>
          </p:nvSpPr>
          <p:spPr>
            <a:xfrm>
              <a:off x="2757240" y="2458080"/>
              <a:ext cx="2080800" cy="368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roc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89120" y="2331360"/>
              <a:ext cx="939960" cy="2664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1160" y="2712600"/>
              <a:ext cx="690120" cy="38736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78880" y="2538360"/>
              <a:ext cx="355680" cy="212400"/>
            </a:xfrm>
            <a:prstGeom prst="rightArrow">
              <a:avLst>
                <a:gd name="adj1" fmla="val 50000"/>
                <a:gd name="adj2" fmla="val 49043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2760" y="1852560"/>
              <a:ext cx="1064880" cy="28728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rô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1160" y="2517480"/>
              <a:ext cx="355680" cy="212400"/>
            </a:xfrm>
            <a:prstGeom prst="rightArrow">
              <a:avLst>
                <a:gd name="adj1" fmla="val 50000"/>
                <a:gd name="adj2" fmla="val 49043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3628440" y="2854800"/>
              <a:ext cx="319320" cy="236520"/>
            </a:xfrm>
            <a:prstGeom prst="rightArrow">
              <a:avLst>
                <a:gd name="adj1" fmla="val 50000"/>
                <a:gd name="adj2" fmla="val 3954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3626640" y="2193480"/>
              <a:ext cx="319320" cy="236160"/>
            </a:xfrm>
            <a:prstGeom prst="rightArrow">
              <a:avLst>
                <a:gd name="adj1" fmla="val 50000"/>
                <a:gd name="adj2" fmla="val 396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93080" y="2698920"/>
              <a:ext cx="690120" cy="38700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95440" y="2287800"/>
              <a:ext cx="939960" cy="2664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0000" y="3155400"/>
              <a:ext cx="1270080" cy="30348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oye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512720" y="4754520"/>
            <a:ext cx="4733640" cy="1606320"/>
            <a:chOff x="1512720" y="4754520"/>
            <a:chExt cx="4733640" cy="1606320"/>
          </a:xfrm>
        </p:grpSpPr>
        <p:sp>
          <p:nvSpPr>
            <p:cNvPr id="253" name=""/>
            <p:cNvSpPr/>
            <p:nvPr/>
          </p:nvSpPr>
          <p:spPr>
            <a:xfrm>
              <a:off x="2774520" y="5360040"/>
              <a:ext cx="2080800" cy="368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roc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6400" y="5233320"/>
              <a:ext cx="939960" cy="2664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8440" y="5614560"/>
              <a:ext cx="690120" cy="38736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6160" y="5440320"/>
              <a:ext cx="355680" cy="212400"/>
            </a:xfrm>
            <a:prstGeom prst="rightArrow">
              <a:avLst>
                <a:gd name="adj1" fmla="val 50000"/>
                <a:gd name="adj2" fmla="val 49043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90040" y="4754520"/>
              <a:ext cx="1064880" cy="28728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rô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88440" y="5419440"/>
              <a:ext cx="355680" cy="212400"/>
            </a:xfrm>
            <a:prstGeom prst="rightArrow">
              <a:avLst>
                <a:gd name="adj1" fmla="val 50000"/>
                <a:gd name="adj2" fmla="val 49043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3645720" y="5756760"/>
              <a:ext cx="319320" cy="236520"/>
            </a:xfrm>
            <a:prstGeom prst="rightArrow">
              <a:avLst>
                <a:gd name="adj1" fmla="val 50000"/>
                <a:gd name="adj2" fmla="val 3954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3643920" y="5095440"/>
              <a:ext cx="319320" cy="236160"/>
            </a:xfrm>
            <a:prstGeom prst="rightArrow">
              <a:avLst>
                <a:gd name="adj1" fmla="val 50000"/>
                <a:gd name="adj2" fmla="val 396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0360" y="5600880"/>
              <a:ext cx="690120" cy="38700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12720" y="5189760"/>
              <a:ext cx="939960" cy="2664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67280" y="6057360"/>
              <a:ext cx="1270080" cy="303480"/>
            </a:xfrm>
            <a:prstGeom prst="cube">
              <a:avLst>
                <a:gd name="adj" fmla="val 25000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oye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18280" y="2882880"/>
            <a:ext cx="2614680" cy="2100240"/>
            <a:chOff x="6218280" y="2882880"/>
            <a:chExt cx="2614680" cy="2100240"/>
          </a:xfrm>
        </p:grpSpPr>
        <p:sp>
          <p:nvSpPr>
            <p:cNvPr id="265" name=""/>
            <p:cNvSpPr/>
            <p:nvPr/>
          </p:nvSpPr>
          <p:spPr>
            <a:xfrm>
              <a:off x="6218280" y="2882880"/>
              <a:ext cx="2571840" cy="21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380280" y="3108240"/>
              <a:ext cx="2452680" cy="1612800"/>
              <a:chOff x="6380280" y="3108240"/>
              <a:chExt cx="2452680" cy="1612800"/>
            </a:xfrm>
          </p:grpSpPr>
          <p:sp>
            <p:nvSpPr>
              <p:cNvPr id="267" name=""/>
              <p:cNvSpPr/>
              <p:nvPr/>
            </p:nvSpPr>
            <p:spPr>
              <a:xfrm>
                <a:off x="6521760" y="3663720"/>
                <a:ext cx="263520" cy="569880"/>
              </a:xfrm>
              <a:prstGeom prst="downArrow">
                <a:avLst>
                  <a:gd name="adj1" fmla="val 50000"/>
                  <a:gd name="adj2" fmla="val 54064"/>
                </a:avLst>
              </a:prstGeom>
              <a:solidFill>
                <a:srgbClr val="ff99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89760" y="3363840"/>
                <a:ext cx="1843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400" spc="-1" strike="noStrike">
                    <a:solidFill>
                      <a:srgbClr val="006b61"/>
                    </a:solidFill>
                    <a:latin typeface="Arial"/>
                  </a:rPr>
                  <a:t>Relations typées entre des ressour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400" spc="-1" strike="noStrike">
                    <a:solidFill>
                      <a:srgbClr val="006b61"/>
                    </a:solidFill>
                    <a:latin typeface="Arial"/>
                  </a:rPr>
                  <a:t>Via </a:t>
                </a:r>
                <a:r>
                  <a:rPr b="1" i="1" lang="fr-FR" sz="1800" spc="-1" strike="noStrike">
                    <a:solidFill>
                      <a:srgbClr val="fc0128"/>
                    </a:solidFill>
                    <a:latin typeface="Arial"/>
                  </a:rPr>
                  <a:t>RDF </a:t>
                </a:r>
                <a:r>
                  <a:rPr b="1" i="1" lang="fr-FR" sz="1400" spc="-1" strike="noStrike">
                    <a:solidFill>
                      <a:srgbClr val="006b61"/>
                    </a:solidFill>
                    <a:latin typeface="Arial"/>
                  </a:rPr>
                  <a:t>exprimé en </a:t>
                </a:r>
                <a:r>
                  <a:rPr b="1" i="1" lang="fr-FR" sz="1800" spc="-1" strike="noStrike">
                    <a:solidFill>
                      <a:srgbClr val="fc0128"/>
                    </a:solidFill>
                    <a:latin typeface="Arial"/>
                  </a:rPr>
                  <a:t>XM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34280" y="4294080"/>
                <a:ext cx="506520" cy="30780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80280" y="3279600"/>
                <a:ext cx="506520" cy="30816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4360" y="3108240"/>
                <a:ext cx="506520" cy="307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6280" y="4413240"/>
                <a:ext cx="506520" cy="307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90600" y="85680"/>
            <a:ext cx="7805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Fusion / intégration </a:t>
            </a:r>
            <a:br>
              <a:rPr sz="4000"/>
            </a:b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Des Essences 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(vidéo, audio, texte, …)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 + Liens + Contrôles + Méta</a:t>
            </a:r>
            <a:r>
              <a:rPr b="1" i="1" lang="fr-BE" sz="2000" spc="-1" strike="noStrike">
                <a:solidFill>
                  <a:srgbClr val="ffffff"/>
                </a:solidFill>
                <a:latin typeface="Times New Roman"/>
              </a:rPr>
              <a:t>donn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57320" y="4861080"/>
            <a:ext cx="2463840" cy="1425600"/>
            <a:chOff x="1057320" y="4861080"/>
            <a:chExt cx="2463840" cy="1425600"/>
          </a:xfrm>
        </p:grpSpPr>
        <p:sp>
          <p:nvSpPr>
            <p:cNvPr id="275" name=""/>
            <p:cNvSpPr/>
            <p:nvPr/>
          </p:nvSpPr>
          <p:spPr>
            <a:xfrm>
              <a:off x="1057320" y="4861080"/>
              <a:ext cx="2463840" cy="1425600"/>
            </a:xfrm>
            <a:prstGeom prst="ellipse">
              <a:avLst/>
            </a:prstGeom>
            <a:gradFill rotWithShape="0">
              <a:gsLst>
                <a:gs pos="0">
                  <a:srgbClr val="531f5c"/>
                </a:gs>
                <a:gs pos="50000">
                  <a:srgbClr val="b544c8"/>
                </a:gs>
                <a:gs pos="100000">
                  <a:srgbClr val="531f5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1480" y="531324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200" spc="-1" strike="noStrike">
                  <a:solidFill>
                    <a:srgbClr val="ffffff"/>
                  </a:solidFill>
                  <a:latin typeface="Times New Roman"/>
                </a:rPr>
                <a:t>Li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6720" y="4992840"/>
            <a:ext cx="2463840" cy="1423800"/>
          </a:xfrm>
          <a:prstGeom prst="ellipse">
            <a:avLst/>
          </a:prstGeom>
          <a:gradFill rotWithShape="0">
            <a:gsLst>
              <a:gs pos="0">
                <a:srgbClr val="8085ff">
                  <a:alpha val="50196"/>
                </a:srgbClr>
              </a:gs>
              <a:gs pos="100000">
                <a:srgbClr val="3b3d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ontrô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3726000"/>
            <a:ext cx="2860560" cy="1114200"/>
          </a:xfrm>
          <a:custGeom>
            <a:avLst/>
            <a:gdLst/>
            <a:ahLst/>
            <a:rect l="l" t="t" r="r" b="b"/>
            <a:pathLst>
              <a:path w="1382" h="741">
                <a:moveTo>
                  <a:pt x="700" y="0"/>
                </a:moveTo>
                <a:lnTo>
                  <a:pt x="663" y="16"/>
                </a:lnTo>
                <a:lnTo>
                  <a:pt x="619" y="36"/>
                </a:lnTo>
                <a:lnTo>
                  <a:pt x="570" y="59"/>
                </a:lnTo>
                <a:lnTo>
                  <a:pt x="528" y="79"/>
                </a:lnTo>
                <a:lnTo>
                  <a:pt x="486" y="103"/>
                </a:lnTo>
                <a:lnTo>
                  <a:pt x="453" y="123"/>
                </a:lnTo>
                <a:lnTo>
                  <a:pt x="411" y="149"/>
                </a:lnTo>
                <a:lnTo>
                  <a:pt x="373" y="172"/>
                </a:lnTo>
                <a:lnTo>
                  <a:pt x="329" y="205"/>
                </a:lnTo>
                <a:lnTo>
                  <a:pt x="289" y="237"/>
                </a:lnTo>
                <a:lnTo>
                  <a:pt x="254" y="264"/>
                </a:lnTo>
                <a:lnTo>
                  <a:pt x="212" y="301"/>
                </a:lnTo>
                <a:lnTo>
                  <a:pt x="179" y="331"/>
                </a:lnTo>
                <a:lnTo>
                  <a:pt x="150" y="364"/>
                </a:lnTo>
                <a:lnTo>
                  <a:pt x="119" y="400"/>
                </a:lnTo>
                <a:lnTo>
                  <a:pt x="93" y="435"/>
                </a:lnTo>
                <a:lnTo>
                  <a:pt x="64" y="479"/>
                </a:lnTo>
                <a:lnTo>
                  <a:pt x="42" y="522"/>
                </a:lnTo>
                <a:lnTo>
                  <a:pt x="22" y="564"/>
                </a:lnTo>
                <a:lnTo>
                  <a:pt x="11" y="597"/>
                </a:lnTo>
                <a:lnTo>
                  <a:pt x="0" y="625"/>
                </a:lnTo>
                <a:lnTo>
                  <a:pt x="49" y="645"/>
                </a:lnTo>
                <a:lnTo>
                  <a:pt x="108" y="661"/>
                </a:lnTo>
                <a:lnTo>
                  <a:pt x="177" y="678"/>
                </a:lnTo>
                <a:lnTo>
                  <a:pt x="252" y="694"/>
                </a:lnTo>
                <a:lnTo>
                  <a:pt x="338" y="711"/>
                </a:lnTo>
                <a:lnTo>
                  <a:pt x="422" y="723"/>
                </a:lnTo>
                <a:lnTo>
                  <a:pt x="488" y="730"/>
                </a:lnTo>
                <a:lnTo>
                  <a:pt x="559" y="736"/>
                </a:lnTo>
                <a:lnTo>
                  <a:pt x="630" y="739"/>
                </a:lnTo>
                <a:lnTo>
                  <a:pt x="692" y="740"/>
                </a:lnTo>
                <a:lnTo>
                  <a:pt x="769" y="739"/>
                </a:lnTo>
                <a:lnTo>
                  <a:pt x="851" y="731"/>
                </a:lnTo>
                <a:lnTo>
                  <a:pt x="941" y="724"/>
                </a:lnTo>
                <a:lnTo>
                  <a:pt x="1019" y="714"/>
                </a:lnTo>
                <a:lnTo>
                  <a:pt x="1083" y="704"/>
                </a:lnTo>
                <a:lnTo>
                  <a:pt x="1151" y="690"/>
                </a:lnTo>
                <a:lnTo>
                  <a:pt x="1200" y="677"/>
                </a:lnTo>
                <a:lnTo>
                  <a:pt x="1253" y="664"/>
                </a:lnTo>
                <a:lnTo>
                  <a:pt x="1301" y="651"/>
                </a:lnTo>
                <a:lnTo>
                  <a:pt x="1354" y="634"/>
                </a:lnTo>
                <a:lnTo>
                  <a:pt x="1381" y="624"/>
                </a:lnTo>
                <a:lnTo>
                  <a:pt x="1372" y="588"/>
                </a:lnTo>
                <a:lnTo>
                  <a:pt x="1357" y="552"/>
                </a:lnTo>
                <a:lnTo>
                  <a:pt x="1339" y="515"/>
                </a:lnTo>
                <a:lnTo>
                  <a:pt x="1310" y="466"/>
                </a:lnTo>
                <a:lnTo>
                  <a:pt x="1273" y="416"/>
                </a:lnTo>
                <a:lnTo>
                  <a:pt x="1229" y="361"/>
                </a:lnTo>
                <a:lnTo>
                  <a:pt x="1191" y="323"/>
                </a:lnTo>
                <a:lnTo>
                  <a:pt x="1151" y="283"/>
                </a:lnTo>
                <a:lnTo>
                  <a:pt x="1118" y="251"/>
                </a:lnTo>
                <a:lnTo>
                  <a:pt x="1067" y="209"/>
                </a:lnTo>
                <a:lnTo>
                  <a:pt x="1027" y="178"/>
                </a:lnTo>
                <a:lnTo>
                  <a:pt x="983" y="149"/>
                </a:lnTo>
                <a:lnTo>
                  <a:pt x="924" y="112"/>
                </a:lnTo>
                <a:lnTo>
                  <a:pt x="882" y="87"/>
                </a:lnTo>
                <a:lnTo>
                  <a:pt x="831" y="60"/>
                </a:lnTo>
                <a:lnTo>
                  <a:pt x="767" y="29"/>
                </a:lnTo>
                <a:lnTo>
                  <a:pt x="700" y="0"/>
                </a:lnTo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d000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8240" y="4203720"/>
            <a:ext cx="30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Méta –Donn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852560" y="2712960"/>
            <a:ext cx="5995800" cy="3509280"/>
            <a:chOff x="1852560" y="2712960"/>
            <a:chExt cx="5995800" cy="3509280"/>
          </a:xfrm>
        </p:grpSpPr>
        <p:grpSp>
          <p:nvGrpSpPr>
            <p:cNvPr id="281" name=""/>
            <p:cNvGrpSpPr/>
            <p:nvPr/>
          </p:nvGrpSpPr>
          <p:grpSpPr>
            <a:xfrm>
              <a:off x="1852560" y="2712960"/>
              <a:ext cx="5995800" cy="2597040"/>
              <a:chOff x="1852560" y="2712960"/>
              <a:chExt cx="5995800" cy="2597040"/>
            </a:xfrm>
          </p:grpSpPr>
          <p:sp>
            <p:nvSpPr>
              <p:cNvPr id="282" name=""/>
              <p:cNvSpPr/>
              <p:nvPr/>
            </p:nvSpPr>
            <p:spPr>
              <a:xfrm rot="7361400">
                <a:off x="1894680" y="3349080"/>
                <a:ext cx="2233440" cy="1320480"/>
              </a:xfrm>
              <a:custGeom>
                <a:avLst/>
                <a:gdLst>
                  <a:gd name="textAreaLeft" fmla="*/ 0 w 2233440"/>
                  <a:gd name="textAreaRight" fmla="*/ 2233800 w 2233440"/>
                  <a:gd name="textAreaTop" fmla="*/ 0 h 1320480"/>
                  <a:gd name="textAreaBottom" fmla="*/ 1320840 h 132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694" y="5934"/>
                    </a:lnTo>
                    <a:lnTo>
                      <a:pt x="12447" y="5934"/>
                    </a:lnTo>
                    <a:lnTo>
                      <a:pt x="12447" y="9153"/>
                    </a:lnTo>
                    <a:lnTo>
                      <a:pt x="15666" y="9153"/>
                    </a:lnTo>
                    <a:lnTo>
                      <a:pt x="15666" y="7906"/>
                    </a:lnTo>
                    <a:lnTo>
                      <a:pt x="21600" y="10800"/>
                    </a:lnTo>
                    <a:lnTo>
                      <a:pt x="15666" y="13694"/>
                    </a:lnTo>
                    <a:lnTo>
                      <a:pt x="15666" y="12447"/>
                    </a:lnTo>
                    <a:lnTo>
                      <a:pt x="5934" y="12447"/>
                    </a:lnTo>
                    <a:lnTo>
                      <a:pt x="5934" y="13694"/>
                    </a:lnTo>
                    <a:lnTo>
                      <a:pt x="0" y="10800"/>
                    </a:lnTo>
                    <a:lnTo>
                      <a:pt x="5934" y="7906"/>
                    </a:lnTo>
                    <a:lnTo>
                      <a:pt x="5934" y="9153"/>
                    </a:lnTo>
                    <a:lnTo>
                      <a:pt x="9153" y="9153"/>
                    </a:lnTo>
                    <a:lnTo>
                      <a:pt x="9153" y="5934"/>
                    </a:lnTo>
                    <a:lnTo>
                      <a:pt x="7906" y="59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f46e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4524800">
                <a:off x="5625000" y="3353760"/>
                <a:ext cx="2233800" cy="1320120"/>
              </a:xfrm>
              <a:custGeom>
                <a:avLst/>
                <a:gdLst>
                  <a:gd name="textAreaLeft" fmla="*/ 0 w 2233800"/>
                  <a:gd name="textAreaRight" fmla="*/ 2234160 w 2233800"/>
                  <a:gd name="textAreaTop" fmla="*/ 0 h 1320120"/>
                  <a:gd name="textAreaBottom" fmla="*/ 1320480 h 132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694" y="5934"/>
                    </a:lnTo>
                    <a:lnTo>
                      <a:pt x="12447" y="5934"/>
                    </a:lnTo>
                    <a:lnTo>
                      <a:pt x="12447" y="9153"/>
                    </a:lnTo>
                    <a:lnTo>
                      <a:pt x="15666" y="9153"/>
                    </a:lnTo>
                    <a:lnTo>
                      <a:pt x="15666" y="7906"/>
                    </a:lnTo>
                    <a:lnTo>
                      <a:pt x="21600" y="10800"/>
                    </a:lnTo>
                    <a:lnTo>
                      <a:pt x="15666" y="13694"/>
                    </a:lnTo>
                    <a:lnTo>
                      <a:pt x="15666" y="12447"/>
                    </a:lnTo>
                    <a:lnTo>
                      <a:pt x="5934" y="12447"/>
                    </a:lnTo>
                    <a:lnTo>
                      <a:pt x="5934" y="13694"/>
                    </a:lnTo>
                    <a:lnTo>
                      <a:pt x="0" y="10800"/>
                    </a:lnTo>
                    <a:lnTo>
                      <a:pt x="5934" y="7906"/>
                    </a:lnTo>
                    <a:lnTo>
                      <a:pt x="5934" y="9153"/>
                    </a:lnTo>
                    <a:lnTo>
                      <a:pt x="9153" y="9153"/>
                    </a:lnTo>
                    <a:lnTo>
                      <a:pt x="9153" y="5934"/>
                    </a:lnTo>
                    <a:lnTo>
                      <a:pt x="7906" y="59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f46e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rot="3600">
              <a:off x="3638520" y="5019120"/>
              <a:ext cx="2452680" cy="1201680"/>
            </a:xfrm>
            <a:custGeom>
              <a:avLst/>
              <a:gdLst>
                <a:gd name="textAreaLeft" fmla="*/ 0 w 2452680"/>
                <a:gd name="textAreaRight" fmla="*/ 2453040 w 2452680"/>
                <a:gd name="textAreaTop" fmla="*/ 0 h 1201680"/>
                <a:gd name="textAreaBottom" fmla="*/ 1201680 h 12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3694" y="5934"/>
                  </a:lnTo>
                  <a:lnTo>
                    <a:pt x="12447" y="5934"/>
                  </a:lnTo>
                  <a:lnTo>
                    <a:pt x="12447" y="9153"/>
                  </a:lnTo>
                  <a:lnTo>
                    <a:pt x="15666" y="9153"/>
                  </a:lnTo>
                  <a:lnTo>
                    <a:pt x="15666" y="7906"/>
                  </a:lnTo>
                  <a:lnTo>
                    <a:pt x="21600" y="10800"/>
                  </a:lnTo>
                  <a:lnTo>
                    <a:pt x="15666" y="13694"/>
                  </a:lnTo>
                  <a:lnTo>
                    <a:pt x="15666" y="12447"/>
                  </a:lnTo>
                  <a:lnTo>
                    <a:pt x="5934" y="12447"/>
                  </a:lnTo>
                  <a:lnTo>
                    <a:pt x="5934" y="13694"/>
                  </a:lnTo>
                  <a:lnTo>
                    <a:pt x="0" y="10800"/>
                  </a:lnTo>
                  <a:lnTo>
                    <a:pt x="5934" y="7906"/>
                  </a:lnTo>
                  <a:lnTo>
                    <a:pt x="5934" y="9153"/>
                  </a:lnTo>
                  <a:lnTo>
                    <a:pt x="9153" y="9153"/>
                  </a:lnTo>
                  <a:lnTo>
                    <a:pt x="9153" y="5934"/>
                  </a:lnTo>
                  <a:lnTo>
                    <a:pt x="7906" y="5934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f46e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579840" y="1973160"/>
            <a:ext cx="2522520" cy="1312920"/>
          </a:xfrm>
          <a:prstGeom prst="ellipse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7240" y="230508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Ess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720360" y="3619440"/>
            <a:ext cx="8402760" cy="82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dynamiqu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AXIS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 TITA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318680" y="115560"/>
            <a:ext cx="7729560" cy="173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La norme d’interchan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a plus value par les servi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90640" y="4331520"/>
            <a:ext cx="17478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pplicatio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6240" y="4402080"/>
            <a:ext cx="592200" cy="212760"/>
          </a:xfrm>
          <a:prstGeom prst="rightArrow">
            <a:avLst>
              <a:gd name="adj1" fmla="val 50000"/>
              <a:gd name="adj2" fmla="val 81518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32320" y="4410000"/>
            <a:ext cx="699840" cy="212760"/>
          </a:xfrm>
          <a:prstGeom prst="rightArrow">
            <a:avLst>
              <a:gd name="adj1" fmla="val 50000"/>
              <a:gd name="adj2" fmla="val 96335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59160" y="4332240"/>
            <a:ext cx="1500120" cy="32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29240" y="4331520"/>
            <a:ext cx="179712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pplication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1720" y="3162240"/>
            <a:ext cx="1355760" cy="530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or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4776120" y="3939840"/>
            <a:ext cx="355680" cy="212760"/>
          </a:xfrm>
          <a:prstGeom prst="rightArrow">
            <a:avLst>
              <a:gd name="adj1" fmla="val 50000"/>
              <a:gd name="adj2" fmla="val 48960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041720" y="2583000"/>
            <a:ext cx="1900440" cy="2504880"/>
            <a:chOff x="4041720" y="2583000"/>
            <a:chExt cx="1900440" cy="2504880"/>
          </a:xfrm>
        </p:grpSpPr>
        <p:sp>
          <p:nvSpPr>
            <p:cNvPr id="297" name=""/>
            <p:cNvSpPr/>
            <p:nvPr/>
          </p:nvSpPr>
          <p:spPr>
            <a:xfrm>
              <a:off x="4041720" y="2616120"/>
              <a:ext cx="1900440" cy="24717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2120" y="25830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Arial"/>
                </a:rPr>
                <a:t>AX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650960" y="3281400"/>
            <a:ext cx="1987560" cy="1793880"/>
            <a:chOff x="1650960" y="3281400"/>
            <a:chExt cx="1987560" cy="1793880"/>
          </a:xfrm>
        </p:grpSpPr>
        <p:sp>
          <p:nvSpPr>
            <p:cNvPr id="300" name=""/>
            <p:cNvSpPr/>
            <p:nvPr/>
          </p:nvSpPr>
          <p:spPr>
            <a:xfrm>
              <a:off x="1650960" y="3281400"/>
              <a:ext cx="1987560" cy="179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16360" y="332748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Vale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ajout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329520" y="3281400"/>
            <a:ext cx="1987560" cy="1793880"/>
            <a:chOff x="6329520" y="3281400"/>
            <a:chExt cx="1987560" cy="1793880"/>
          </a:xfrm>
        </p:grpSpPr>
        <p:sp>
          <p:nvSpPr>
            <p:cNvPr id="303" name=""/>
            <p:cNvSpPr/>
            <p:nvPr/>
          </p:nvSpPr>
          <p:spPr>
            <a:xfrm>
              <a:off x="6329520" y="3281400"/>
              <a:ext cx="1987560" cy="179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94920" y="332748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Vale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ajout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9040" y="169560"/>
            <a:ext cx="683424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La dynamique AXIS de TITAN, </a:t>
            </a:r>
            <a:br>
              <a:rPr sz="32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illustrée par CIMWOS, MADISON, NODAL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776840" y="2511360"/>
            <a:ext cx="942840" cy="3954600"/>
            <a:chOff x="4776840" y="2511360"/>
            <a:chExt cx="942840" cy="3954600"/>
          </a:xfrm>
        </p:grpSpPr>
        <p:sp>
          <p:nvSpPr>
            <p:cNvPr id="307" name=""/>
            <p:cNvSpPr/>
            <p:nvPr/>
          </p:nvSpPr>
          <p:spPr>
            <a:xfrm>
              <a:off x="4776840" y="2511360"/>
              <a:ext cx="942840" cy="3954600"/>
            </a:xfrm>
            <a:custGeom>
              <a:avLst/>
              <a:gdLst>
                <a:gd name="textAreaLeft" fmla="*/ 235800 w 942840"/>
                <a:gd name="textAreaRight" fmla="*/ 707400 w 942840"/>
                <a:gd name="textAreaTop" fmla="*/ 0 h 3954600"/>
                <a:gd name="textAreaBottom" fmla="*/ 3954960 h 39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ffd9b3"/>
                </a:gs>
                <a:gs pos="50000">
                  <a:srgbClr val="756452"/>
                </a:gs>
                <a:gs pos="100000">
                  <a:srgbClr val="ffd9b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72760" y="3546360"/>
              <a:ext cx="40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br>
                <a:rPr sz="2400"/>
              </a:b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br>
                <a:rPr sz="2400"/>
              </a:b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510200" y="4967280"/>
            <a:ext cx="2532240" cy="1622520"/>
            <a:chOff x="1510200" y="4967280"/>
            <a:chExt cx="2532240" cy="1622520"/>
          </a:xfrm>
        </p:grpSpPr>
        <p:grpSp>
          <p:nvGrpSpPr>
            <p:cNvPr id="310" name=""/>
            <p:cNvGrpSpPr/>
            <p:nvPr/>
          </p:nvGrpSpPr>
          <p:grpSpPr>
            <a:xfrm>
              <a:off x="1544760" y="5514840"/>
              <a:ext cx="2465280" cy="1074960"/>
              <a:chOff x="1544760" y="5514840"/>
              <a:chExt cx="2465280" cy="1074960"/>
            </a:xfrm>
          </p:grpSpPr>
          <p:sp>
            <p:nvSpPr>
              <p:cNvPr id="311" name=""/>
              <p:cNvSpPr/>
              <p:nvPr/>
            </p:nvSpPr>
            <p:spPr>
              <a:xfrm>
                <a:off x="1544760" y="5514840"/>
                <a:ext cx="2465280" cy="10749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84360" y="5978520"/>
                <a:ext cx="2419200" cy="45396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DONNEES ET METADONNE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E LA  PRODUC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510200" y="4967280"/>
              <a:ext cx="25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>
                  <a:solidFill>
                    <a:srgbClr val="ffffff"/>
                  </a:solidFill>
                  <a:latin typeface="Arial"/>
                </a:rPr>
                <a:t>+ + + + + + + 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719680" y="4334040"/>
            <a:ext cx="3260880" cy="2325240"/>
            <a:chOff x="5719680" y="4334040"/>
            <a:chExt cx="3260880" cy="2325240"/>
          </a:xfrm>
        </p:grpSpPr>
        <p:grpSp>
          <p:nvGrpSpPr>
            <p:cNvPr id="315" name=""/>
            <p:cNvGrpSpPr/>
            <p:nvPr/>
          </p:nvGrpSpPr>
          <p:grpSpPr>
            <a:xfrm>
              <a:off x="6012000" y="4334040"/>
              <a:ext cx="1520640" cy="1973880"/>
              <a:chOff x="6012000" y="4334040"/>
              <a:chExt cx="1520640" cy="1973880"/>
            </a:xfrm>
          </p:grpSpPr>
          <p:sp>
            <p:nvSpPr>
              <p:cNvPr id="316" name=""/>
              <p:cNvSpPr/>
              <p:nvPr/>
            </p:nvSpPr>
            <p:spPr>
              <a:xfrm>
                <a:off x="6012000" y="4334040"/>
                <a:ext cx="1520640" cy="19738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c1661"/>
                  </a:gs>
                  <a:gs pos="50000">
                    <a:srgbClr val="de28ae"/>
                  </a:gs>
                  <a:gs pos="100000">
                    <a:srgbClr val="7c1661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30440" y="5157720"/>
                <a:ext cx="12686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www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filmlibrary.t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969320" y="4630680"/>
              <a:ext cx="708120" cy="1523880"/>
              <a:chOff x="7969320" y="4630680"/>
              <a:chExt cx="708120" cy="1523880"/>
            </a:xfrm>
          </p:grpSpPr>
          <p:sp>
            <p:nvSpPr>
              <p:cNvPr id="319" name=""/>
              <p:cNvSpPr/>
              <p:nvPr/>
            </p:nvSpPr>
            <p:spPr>
              <a:xfrm>
                <a:off x="7969320" y="4630680"/>
                <a:ext cx="708120" cy="1523880"/>
              </a:xfrm>
              <a:prstGeom prst="leftArrowCallout">
                <a:avLst>
                  <a:gd name="adj1" fmla="val 53805"/>
                  <a:gd name="adj2" fmla="val 53800"/>
                  <a:gd name="adj3" fmla="val 16667"/>
                  <a:gd name="adj4" fmla="val 66673"/>
                </a:avLst>
              </a:prstGeom>
              <a:gradFill rotWithShape="0">
                <a:gsLst>
                  <a:gs pos="0">
                    <a:srgbClr val="ffd9b3"/>
                  </a:gs>
                  <a:gs pos="50000">
                    <a:srgbClr val="756452"/>
                  </a:gs>
                  <a:gs pos="100000">
                    <a:srgbClr val="ffd9b3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99080" y="4800240"/>
                <a:ext cx="29952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719680" y="6443640"/>
              <a:ext cx="326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ffffff"/>
                  </a:solidFill>
                  <a:latin typeface="Times New Roman"/>
                </a:rPr>
                <a:t>Projet  Medai + : Belgavox, RTBF, RTL-TVI,ERT, INNA, ….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428840" y="1638360"/>
            <a:ext cx="3938400" cy="3197160"/>
            <a:chOff x="1428840" y="1638360"/>
            <a:chExt cx="3938400" cy="3197160"/>
          </a:xfrm>
        </p:grpSpPr>
        <p:sp>
          <p:nvSpPr>
            <p:cNvPr id="323" name=""/>
            <p:cNvSpPr/>
            <p:nvPr/>
          </p:nvSpPr>
          <p:spPr>
            <a:xfrm>
              <a:off x="1428840" y="1638360"/>
              <a:ext cx="39384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600" spc="-1" strike="noStrike">
                  <a:solidFill>
                    <a:srgbClr val="ffff00"/>
                  </a:solidFill>
                  <a:latin typeface="Times New Roman"/>
                </a:rPr>
                <a:t>CIMWOS :</a:t>
              </a:r>
              <a:br>
                <a:rPr sz="1600"/>
              </a:br>
              <a:r>
                <a:rPr b="1" i="1" lang="fr-BE" sz="1800" spc="-1" strike="noStrike">
                  <a:solidFill>
                    <a:srgbClr val="ffffff"/>
                  </a:solidFill>
                  <a:latin typeface="Times New Roman"/>
                </a:rPr>
                <a:t>Combined IMage and WOrd Spot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539720" y="2484360"/>
              <a:ext cx="2481480" cy="557280"/>
              <a:chOff x="1539720" y="2484360"/>
              <a:chExt cx="2481480" cy="557280"/>
            </a:xfrm>
          </p:grpSpPr>
          <p:sp>
            <p:nvSpPr>
              <p:cNvPr id="325" name=""/>
              <p:cNvSpPr/>
              <p:nvPr/>
            </p:nvSpPr>
            <p:spPr>
              <a:xfrm>
                <a:off x="1539720" y="2484360"/>
                <a:ext cx="2481480" cy="5572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341944"/>
                  </a:gs>
                  <a:gs pos="50000">
                    <a:srgbClr val="a752dc"/>
                  </a:gs>
                  <a:gs pos="100000">
                    <a:srgbClr val="341944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29440" y="2718720"/>
                <a:ext cx="2072520" cy="226080"/>
              </a:xfrm>
              <a:prstGeom prst="rect">
                <a:avLst/>
              </a:prstGeom>
              <a:gradFill rotWithShape="0">
                <a:gsLst>
                  <a:gs pos="0">
                    <a:srgbClr val="341944"/>
                  </a:gs>
                  <a:gs pos="50000">
                    <a:srgbClr val="a752dc"/>
                  </a:gs>
                  <a:gs pos="100000">
                    <a:srgbClr val="3419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9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EECH RECOGNIT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528920" y="3727440"/>
              <a:ext cx="2503440" cy="517680"/>
              <a:chOff x="1528920" y="3727440"/>
              <a:chExt cx="2503440" cy="517680"/>
            </a:xfrm>
          </p:grpSpPr>
          <p:sp>
            <p:nvSpPr>
              <p:cNvPr id="328" name=""/>
              <p:cNvSpPr/>
              <p:nvPr/>
            </p:nvSpPr>
            <p:spPr>
              <a:xfrm>
                <a:off x="1528920" y="3727440"/>
                <a:ext cx="2503440" cy="5176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40706b"/>
                  </a:gs>
                  <a:gs pos="50000">
                    <a:srgbClr val="8cf4ea"/>
                  </a:gs>
                  <a:gs pos="100000">
                    <a:srgbClr val="40706b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52840" y="3970800"/>
                <a:ext cx="2075760" cy="226080"/>
              </a:xfrm>
              <a:prstGeom prst="rect">
                <a:avLst/>
              </a:prstGeom>
              <a:gradFill rotWithShape="0">
                <a:gsLst>
                  <a:gs pos="0">
                    <a:srgbClr val="40706b"/>
                  </a:gs>
                  <a:gs pos="50000">
                    <a:srgbClr val="8cf4ea"/>
                  </a:gs>
                  <a:gs pos="100000">
                    <a:srgbClr val="4070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9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N SCREEN TEXT RECOGNIT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550880" y="3105000"/>
              <a:ext cx="2486160" cy="527040"/>
              <a:chOff x="1550880" y="3105000"/>
              <a:chExt cx="2486160" cy="527040"/>
            </a:xfrm>
          </p:grpSpPr>
          <p:sp>
            <p:nvSpPr>
              <p:cNvPr id="331" name=""/>
              <p:cNvSpPr/>
              <p:nvPr/>
            </p:nvSpPr>
            <p:spPr>
              <a:xfrm>
                <a:off x="1550880" y="3105000"/>
                <a:ext cx="2486160" cy="527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2c4174"/>
                  </a:gs>
                  <a:gs pos="50000">
                    <a:srgbClr val="618ffd"/>
                  </a:gs>
                  <a:gs pos="100000">
                    <a:srgbClr val="2c4174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40960" y="3325680"/>
                <a:ext cx="2076480" cy="226080"/>
              </a:xfrm>
              <a:prstGeom prst="rect">
                <a:avLst/>
              </a:prstGeom>
              <a:gradFill rotWithShape="0">
                <a:gsLst>
                  <a:gs pos="0">
                    <a:srgbClr val="2c4174"/>
                  </a:gs>
                  <a:gs pos="50000">
                    <a:srgbClr val="618ffd"/>
                  </a:gs>
                  <a:gs pos="100000">
                    <a:srgbClr val="2c417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9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ACE RECOGNIT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517760" y="4314960"/>
              <a:ext cx="2550960" cy="520560"/>
              <a:chOff x="1517760" y="4314960"/>
              <a:chExt cx="2550960" cy="520560"/>
            </a:xfrm>
          </p:grpSpPr>
          <p:sp>
            <p:nvSpPr>
              <p:cNvPr id="334" name=""/>
              <p:cNvSpPr/>
              <p:nvPr/>
            </p:nvSpPr>
            <p:spPr>
              <a:xfrm>
                <a:off x="1517760" y="4314960"/>
                <a:ext cx="2550960" cy="5205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462f75"/>
                  </a:gs>
                  <a:gs pos="50000">
                    <a:srgbClr val="9966ff"/>
                  </a:gs>
                  <a:gs pos="100000">
                    <a:srgbClr val="462f75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2880" y="4533840"/>
                <a:ext cx="2130480" cy="271440"/>
              </a:xfrm>
              <a:prstGeom prst="rect">
                <a:avLst/>
              </a:prstGeom>
              <a:gradFill rotWithShape="0">
                <a:gsLst>
                  <a:gs pos="0">
                    <a:srgbClr val="462f75"/>
                  </a:gs>
                  <a:gs pos="50000">
                    <a:srgbClr val="9966ff"/>
                  </a:gs>
                  <a:gs pos="100000">
                    <a:srgbClr val="46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……………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450080" y="2093760"/>
              <a:ext cx="286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ffffff"/>
                  </a:solidFill>
                  <a:latin typeface="Times New Roman"/>
                </a:rPr>
                <a:t>Projet IST - Consortium : Canal+, Sail Lab, ILSP,  KUL, ….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21360" y="2521080"/>
            <a:ext cx="2668320" cy="1541160"/>
            <a:chOff x="6021360" y="2521080"/>
            <a:chExt cx="2668320" cy="1541160"/>
          </a:xfrm>
        </p:grpSpPr>
        <p:grpSp>
          <p:nvGrpSpPr>
            <p:cNvPr id="338" name=""/>
            <p:cNvGrpSpPr/>
            <p:nvPr/>
          </p:nvGrpSpPr>
          <p:grpSpPr>
            <a:xfrm>
              <a:off x="6021360" y="2521080"/>
              <a:ext cx="1560600" cy="1204560"/>
              <a:chOff x="6021360" y="2521080"/>
              <a:chExt cx="1560600" cy="1204560"/>
            </a:xfrm>
          </p:grpSpPr>
          <p:sp>
            <p:nvSpPr>
              <p:cNvPr id="339" name=""/>
              <p:cNvSpPr/>
              <p:nvPr/>
            </p:nvSpPr>
            <p:spPr>
              <a:xfrm>
                <a:off x="6021360" y="2521080"/>
                <a:ext cx="1560600" cy="12045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fc0128"/>
                  </a:gs>
                  <a:gs pos="50000">
                    <a:srgbClr val="740012"/>
                  </a:gs>
                  <a:gs pos="100000">
                    <a:srgbClr val="fc012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42320" y="3023640"/>
                <a:ext cx="1301040" cy="30204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50000">
                    <a:srgbClr val="740012"/>
                  </a:gs>
                  <a:gs pos="100000">
                    <a:srgbClr val="fc012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MADIS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102720" y="3846600"/>
              <a:ext cx="2586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ffffff"/>
                  </a:solidFill>
                  <a:latin typeface="Times New Roman"/>
                </a:rPr>
                <a:t>Projet IST - Consortium : Deltatec, EPFL,Canal+,, ….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318680" y="115920"/>
            <a:ext cx="7729560" cy="156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La norme d’interchange &amp; archivag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a plus value par la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pérennité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108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0640" y="4331520"/>
            <a:ext cx="17478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pplicatio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26240" y="4402080"/>
            <a:ext cx="592200" cy="212760"/>
          </a:xfrm>
          <a:prstGeom prst="rightArrow">
            <a:avLst>
              <a:gd name="adj1" fmla="val 50000"/>
              <a:gd name="adj2" fmla="val 81518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32320" y="4410000"/>
            <a:ext cx="699840" cy="212760"/>
          </a:xfrm>
          <a:prstGeom prst="rightArrow">
            <a:avLst>
              <a:gd name="adj1" fmla="val 50000"/>
              <a:gd name="adj2" fmla="val 96335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59160" y="4332240"/>
            <a:ext cx="1500120" cy="32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11720" y="3162240"/>
            <a:ext cx="1355760" cy="530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or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776120" y="3939840"/>
            <a:ext cx="355680" cy="212760"/>
          </a:xfrm>
          <a:prstGeom prst="rightArrow">
            <a:avLst>
              <a:gd name="adj1" fmla="val 50000"/>
              <a:gd name="adj2" fmla="val 48960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041720" y="2583000"/>
            <a:ext cx="1900440" cy="2504880"/>
            <a:chOff x="4041720" y="2583000"/>
            <a:chExt cx="1900440" cy="2504880"/>
          </a:xfrm>
        </p:grpSpPr>
        <p:sp>
          <p:nvSpPr>
            <p:cNvPr id="350" name=""/>
            <p:cNvSpPr/>
            <p:nvPr/>
          </p:nvSpPr>
          <p:spPr>
            <a:xfrm>
              <a:off x="4041720" y="2616120"/>
              <a:ext cx="1900440" cy="24717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52120" y="25830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Arial"/>
                </a:rPr>
                <a:t>AX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50960" y="3281400"/>
            <a:ext cx="1987560" cy="1793880"/>
            <a:chOff x="1650960" y="3281400"/>
            <a:chExt cx="1987560" cy="1793880"/>
          </a:xfrm>
        </p:grpSpPr>
        <p:sp>
          <p:nvSpPr>
            <p:cNvPr id="353" name=""/>
            <p:cNvSpPr/>
            <p:nvPr/>
          </p:nvSpPr>
          <p:spPr>
            <a:xfrm>
              <a:off x="1650960" y="3281400"/>
              <a:ext cx="1987560" cy="179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6360" y="332748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Vale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ajout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329520" y="3281400"/>
            <a:ext cx="1987560" cy="179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42480" y="33274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rm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507000" y="4157640"/>
            <a:ext cx="1652760" cy="797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238960" y="4392720"/>
            <a:ext cx="700200" cy="212760"/>
          </a:xfrm>
          <a:prstGeom prst="rightArrow">
            <a:avLst>
              <a:gd name="adj1" fmla="val 50000"/>
              <a:gd name="adj2" fmla="val 96385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6963120" y="5414040"/>
            <a:ext cx="700200" cy="212760"/>
          </a:xfrm>
          <a:prstGeom prst="rightArrow">
            <a:avLst>
              <a:gd name="adj1" fmla="val 50000"/>
              <a:gd name="adj2" fmla="val 96385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0800000">
            <a:off x="1160280" y="5839560"/>
            <a:ext cx="6159240" cy="212760"/>
          </a:xfrm>
          <a:prstGeom prst="rightArrow">
            <a:avLst>
              <a:gd name="adj1" fmla="val 38815"/>
              <a:gd name="adj2" fmla="val 166458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 rot="5400000">
            <a:off x="396720" y="5148360"/>
            <a:ext cx="1376280" cy="212760"/>
          </a:xfrm>
          <a:prstGeom prst="rightArrow">
            <a:avLst>
              <a:gd name="adj1" fmla="val 46278"/>
              <a:gd name="adj2" fmla="val 131320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96920" y="4410000"/>
            <a:ext cx="700200" cy="212760"/>
          </a:xfrm>
          <a:prstGeom prst="rightArrow">
            <a:avLst>
              <a:gd name="adj1" fmla="val 50000"/>
              <a:gd name="adj2" fmla="val 96385"/>
            </a:avLst>
          </a:prstGeom>
          <a:solidFill>
            <a:srgbClr val="fc0128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fondamental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6120" y="1859040"/>
            <a:ext cx="7659720" cy="428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Assur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La création, la représentation, la gestion et l’activatio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Ressources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contenus, outils, personnes, thésaurus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En qualités ciblées ou possi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En toute liberté et indépendance 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Temps, de l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Espace et 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Forma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471920" y="4889520"/>
            <a:ext cx="4381560" cy="307080"/>
            <a:chOff x="4471920" y="4889520"/>
            <a:chExt cx="4381560" cy="307080"/>
          </a:xfrm>
        </p:grpSpPr>
        <p:sp>
          <p:nvSpPr>
            <p:cNvPr id="366" name=""/>
            <p:cNvSpPr/>
            <p:nvPr/>
          </p:nvSpPr>
          <p:spPr>
            <a:xfrm>
              <a:off x="4471920" y="4987800"/>
              <a:ext cx="1041480" cy="117720"/>
            </a:xfrm>
            <a:prstGeom prst="rightArrow">
              <a:avLst>
                <a:gd name="adj1" fmla="val 50000"/>
                <a:gd name="adj2" fmla="val 221177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3840" y="4889520"/>
              <a:ext cx="314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cf4ea"/>
                  </a:solidFill>
                  <a:latin typeface="Arial"/>
                </a:rPr>
                <a:t>via une mémorisation pérenne !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2560" y="5313240"/>
            <a:ext cx="4529160" cy="307080"/>
            <a:chOff x="4462560" y="5313240"/>
            <a:chExt cx="4529160" cy="307080"/>
          </a:xfrm>
        </p:grpSpPr>
        <p:sp>
          <p:nvSpPr>
            <p:cNvPr id="369" name=""/>
            <p:cNvSpPr/>
            <p:nvPr/>
          </p:nvSpPr>
          <p:spPr>
            <a:xfrm>
              <a:off x="4462560" y="5411880"/>
              <a:ext cx="1041480" cy="117360"/>
            </a:xfrm>
            <a:prstGeom prst="rightArrow">
              <a:avLst>
                <a:gd name="adj1" fmla="val 50000"/>
                <a:gd name="adj2" fmla="val 221856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5640" y="5313240"/>
              <a:ext cx="32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cf4ea"/>
                  </a:solidFill>
                  <a:latin typeface="Arial"/>
                </a:rPr>
                <a:t>via des communications rapides  !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462560" y="5757840"/>
            <a:ext cx="4403520" cy="307080"/>
            <a:chOff x="4462560" y="5757840"/>
            <a:chExt cx="4403520" cy="307080"/>
          </a:xfrm>
        </p:grpSpPr>
        <p:sp>
          <p:nvSpPr>
            <p:cNvPr id="372" name=""/>
            <p:cNvSpPr/>
            <p:nvPr/>
          </p:nvSpPr>
          <p:spPr>
            <a:xfrm>
              <a:off x="4462560" y="5857920"/>
              <a:ext cx="1041480" cy="117360"/>
            </a:xfrm>
            <a:prstGeom prst="rightArrow">
              <a:avLst>
                <a:gd name="adj1" fmla="val 50000"/>
                <a:gd name="adj2" fmla="val 221856"/>
              </a:avLst>
            </a:prstGeom>
            <a:solidFill>
              <a:srgbClr val="fc0128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6440" y="5757840"/>
              <a:ext cx="314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cf4ea"/>
                  </a:solidFill>
                  <a:latin typeface="Arial"/>
                </a:rPr>
                <a:t>via un assemblage de normes !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023560" y="100080"/>
            <a:ext cx="6440760" cy="128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390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s apéritives : </a:t>
            </a: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?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m ?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f ?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08400" y="1747800"/>
            <a:ext cx="5229000" cy="3247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101680" y="5113440"/>
            <a:ext cx="5778720" cy="1434960"/>
          </a:xfrm>
          <a:prstGeom prst="rect">
            <a:avLst/>
          </a:prstGeom>
          <a:gradFill rotWithShape="0">
            <a:gsLst>
              <a:gs pos="0">
                <a:srgbClr val="006359"/>
              </a:gs>
              <a:gs pos="50000">
                <a:srgbClr val="009688"/>
              </a:gs>
              <a:gs pos="100000">
                <a:srgbClr val="006359"/>
              </a:gs>
            </a:gsLst>
            <a:lin ang="135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78120" y="5251320"/>
            <a:ext cx="63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Que la fête numériqu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commence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8110440" y="5600880"/>
            <a:ext cx="804960" cy="657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79" name=""/>
          <p:cNvGrpSpPr/>
          <p:nvPr/>
        </p:nvGrpSpPr>
        <p:grpSpPr>
          <a:xfrm>
            <a:off x="587520" y="5570640"/>
            <a:ext cx="1348920" cy="632880"/>
            <a:chOff x="587520" y="5570640"/>
            <a:chExt cx="1348920" cy="632880"/>
          </a:xfrm>
        </p:grpSpPr>
        <p:sp>
          <p:nvSpPr>
            <p:cNvPr id="380" name=""/>
            <p:cNvSpPr/>
            <p:nvPr/>
          </p:nvSpPr>
          <p:spPr>
            <a:xfrm>
              <a:off x="587520" y="5570640"/>
              <a:ext cx="1348920" cy="6328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1" name="titan" descr=""/>
            <p:cNvPicPr/>
            <p:nvPr/>
          </p:nvPicPr>
          <p:blipFill>
            <a:blip r:embed="rId3"/>
            <a:stretch/>
          </p:blipFill>
          <p:spPr>
            <a:xfrm>
              <a:off x="637560" y="5621400"/>
              <a:ext cx="128124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1765440" y="1227240"/>
            <a:ext cx="5955840" cy="4340160"/>
            <a:chOff x="1765440" y="1227240"/>
            <a:chExt cx="5955840" cy="4340160"/>
          </a:xfrm>
        </p:grpSpPr>
        <p:grpSp>
          <p:nvGrpSpPr>
            <p:cNvPr id="383" name=""/>
            <p:cNvGrpSpPr/>
            <p:nvPr/>
          </p:nvGrpSpPr>
          <p:grpSpPr>
            <a:xfrm>
              <a:off x="1765440" y="1227240"/>
              <a:ext cx="5955840" cy="4340160"/>
              <a:chOff x="1765440" y="1227240"/>
              <a:chExt cx="5955840" cy="43401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4792680" y="3483000"/>
                <a:ext cx="1422000" cy="524880"/>
                <a:chOff x="4792680" y="3483000"/>
                <a:chExt cx="1422000" cy="5248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792680" y="3483000"/>
                  <a:ext cx="1422000" cy="51408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935240" y="3487680"/>
                  <a:ext cx="11026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ff"/>
                      </a:solidFill>
                      <a:latin typeface="Arial"/>
                    </a:rPr>
                    <a:t>Windows Medi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856040" y="3164040"/>
                <a:ext cx="1266480" cy="409680"/>
                <a:chOff x="4856040" y="3164040"/>
                <a:chExt cx="1266480" cy="4096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856040" y="3164040"/>
                  <a:ext cx="1266480" cy="40968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943160" y="3208320"/>
                  <a:ext cx="1142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ff"/>
                      </a:solidFill>
                      <a:latin typeface="Arial"/>
                    </a:rPr>
                    <a:t>Quick Tim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4557600" y="2105280"/>
                <a:ext cx="1530000" cy="33228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SGM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65440" y="4014720"/>
                <a:ext cx="1526760" cy="33228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MPEG 2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806640" y="4627800"/>
                <a:ext cx="1526760" cy="33228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MPEG 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708360" y="4337280"/>
                <a:ext cx="1526760" cy="33732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MPEG 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112920" y="2316240"/>
                <a:ext cx="1133280" cy="342720"/>
                <a:chOff x="3112920" y="2316240"/>
                <a:chExt cx="1133280" cy="342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112920" y="2316240"/>
                  <a:ext cx="1133280" cy="34272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253320" y="2343240"/>
                  <a:ext cx="9068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P/TCP .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359320" y="4996080"/>
                <a:ext cx="1447560" cy="571320"/>
                <a:chOff x="5359320" y="4996080"/>
                <a:chExt cx="1447560" cy="5713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359320" y="4996080"/>
                  <a:ext cx="1447560" cy="57132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470560" y="5160960"/>
                  <a:ext cx="1181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400" spc="-1" strike="noStrike">
                      <a:solidFill>
                        <a:srgbClr val="ffffff"/>
                      </a:solidFill>
                      <a:latin typeface="Arial"/>
                    </a:rPr>
                    <a:t>DV / DVc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33720" y="1938600"/>
                <a:ext cx="1306080" cy="468000"/>
                <a:chOff x="3033720" y="1938600"/>
                <a:chExt cx="1306080" cy="468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33720" y="1938600"/>
                  <a:ext cx="1306080" cy="46800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184200" y="2006280"/>
                  <a:ext cx="1060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ff"/>
                      </a:solidFill>
                      <a:latin typeface="Arial"/>
                    </a:rPr>
                    <a:t>Smil 2.0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856040" y="2799000"/>
                <a:ext cx="1218960" cy="466560"/>
                <a:chOff x="4856040" y="2799000"/>
                <a:chExt cx="1218960" cy="466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856040" y="2799000"/>
                  <a:ext cx="1218960" cy="46656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935600" y="2881440"/>
                  <a:ext cx="109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400" spc="-1" strike="noStrike">
                      <a:solidFill>
                        <a:srgbClr val="ffffff"/>
                      </a:solidFill>
                      <a:latin typeface="Arial"/>
                    </a:rPr>
                    <a:t>Real Vide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188040" y="3170160"/>
                <a:ext cx="1447560" cy="571320"/>
                <a:chOff x="6188040" y="3170160"/>
                <a:chExt cx="1447560" cy="5713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188040" y="3170160"/>
                  <a:ext cx="1447560" cy="57132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48240" y="3284280"/>
                  <a:ext cx="110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Explor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46320" y="1650960"/>
                <a:ext cx="1449000" cy="572760"/>
                <a:chOff x="3946320" y="1650960"/>
                <a:chExt cx="1449000" cy="5727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46320" y="1650960"/>
                  <a:ext cx="1449000" cy="57276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24440" y="1763640"/>
                  <a:ext cx="12283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HTML/XM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197400" y="3608640"/>
                <a:ext cx="1447560" cy="571320"/>
                <a:chOff x="6197400" y="3608640"/>
                <a:chExt cx="1447560" cy="571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197400" y="3608640"/>
                  <a:ext cx="1447560" cy="571320"/>
                </a:xfrm>
                <a:prstGeom prst="ellips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90800" y="3722760"/>
                  <a:ext cx="84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Oper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736720" y="1611360"/>
                <a:ext cx="1382400" cy="423720"/>
                <a:chOff x="2736720" y="1611360"/>
                <a:chExt cx="1382400" cy="423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736720" y="1611360"/>
                  <a:ext cx="1382400" cy="423720"/>
                </a:xfrm>
                <a:prstGeom prst="ellips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43080" y="1633320"/>
                  <a:ext cx="748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W3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3902040" y="4894200"/>
                <a:ext cx="1526760" cy="33228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MPEG 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16160" y="5180040"/>
                <a:ext cx="1526760" cy="332280"/>
              </a:xfrm>
              <a:prstGeom prst="rect">
                <a:avLst/>
              </a:prstGeom>
              <a:gradFill rotWithShape="0">
                <a:gsLst>
                  <a:gs pos="0">
                    <a:srgbClr val="740012"/>
                  </a:gs>
                  <a:gs pos="50000">
                    <a:srgbClr val="fc0128"/>
                  </a:gs>
                  <a:gs pos="100000">
                    <a:srgbClr val="74001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60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MPEG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8320" y="4075200"/>
                <a:ext cx="1447560" cy="57168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0a2f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70920" y="4189680"/>
                <a:ext cx="10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ffff"/>
                    </a:solidFill>
                    <a:latin typeface="Arial"/>
                  </a:rPr>
                  <a:t>Acroba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73360" y="3616560"/>
                <a:ext cx="2304720" cy="552240"/>
              </a:xfrm>
              <a:prstGeom prst="ellipse">
                <a:avLst/>
              </a:prstGeom>
              <a:solidFill>
                <a:srgbClr val="0080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Architectur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00280" y="4854600"/>
                <a:ext cx="1166400" cy="41760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AT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98600" y="4538880"/>
                <a:ext cx="1166400" cy="41724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QA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24240" y="4005360"/>
                <a:ext cx="1166400" cy="41760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AAF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61040" y="4367160"/>
                <a:ext cx="1166400" cy="41760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MXF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62040" y="4211640"/>
                <a:ext cx="1166400" cy="41760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CWD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35560" y="4592880"/>
                <a:ext cx="1447560" cy="57132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0a2f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55160" y="470052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ffff"/>
                    </a:solidFill>
                    <a:latin typeface="Arial"/>
                  </a:rPr>
                  <a:t>Go!zill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6184800" y="2313000"/>
                <a:ext cx="1447560" cy="571680"/>
                <a:chOff x="6184800" y="2313000"/>
                <a:chExt cx="1447560" cy="571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84800" y="2313000"/>
                  <a:ext cx="1447560" cy="571680"/>
                </a:xfrm>
                <a:prstGeom prst="ellips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613920" y="2401920"/>
                  <a:ext cx="53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ZI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782960" y="2490840"/>
                <a:ext cx="1218960" cy="466560"/>
                <a:chOff x="4782960" y="2490840"/>
                <a:chExt cx="1218960" cy="4665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782960" y="2490840"/>
                  <a:ext cx="1218960" cy="46656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082480" y="2573280"/>
                  <a:ext cx="64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400" spc="-1" strike="noStrike">
                      <a:solidFill>
                        <a:srgbClr val="ffffff"/>
                      </a:solidFill>
                      <a:latin typeface="Arial"/>
                    </a:rPr>
                    <a:t>Flash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24320" y="1656000"/>
                <a:ext cx="1447560" cy="571320"/>
                <a:chOff x="5224320" y="1656000"/>
                <a:chExt cx="1447560" cy="5713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224320" y="1656000"/>
                  <a:ext cx="1447560" cy="571320"/>
                </a:xfrm>
                <a:prstGeom prst="ellipse">
                  <a:avLst/>
                </a:prstGeom>
                <a:blipFill rotWithShape="0">
                  <a:blip r:embed="rId18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23320" y="1744560"/>
                  <a:ext cx="119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X-Indic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195960" y="2712960"/>
                <a:ext cx="1447560" cy="571680"/>
                <a:chOff x="6195960" y="2712960"/>
                <a:chExt cx="1447560" cy="5716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195960" y="2712960"/>
                  <a:ext cx="1447560" cy="571680"/>
                </a:xfrm>
                <a:prstGeom prst="ellips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296760" y="2801880"/>
                  <a:ext cx="1194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Netscap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273720" y="1513080"/>
                <a:ext cx="1447560" cy="571320"/>
                <a:chOff x="6273720" y="1513080"/>
                <a:chExt cx="1447560" cy="5713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273720" y="1513080"/>
                  <a:ext cx="1447560" cy="571320"/>
                </a:xfrm>
                <a:prstGeom prst="ellipse">
                  <a:avLst/>
                </a:prstGeom>
                <a:blipFill rotWithShape="0">
                  <a:blip r:embed="rId20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455520" y="1601640"/>
                  <a:ext cx="1032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Cocoo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672080" y="1227240"/>
                <a:ext cx="1447200" cy="571320"/>
                <a:chOff x="4672080" y="1227240"/>
                <a:chExt cx="1447200" cy="5713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672080" y="1227240"/>
                  <a:ext cx="1447200" cy="571320"/>
                </a:xfrm>
                <a:prstGeom prst="ellips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0a2f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798080" y="1315800"/>
                  <a:ext cx="1143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800" spc="-1" strike="noStrike">
                      <a:solidFill>
                        <a:srgbClr val="ffffff"/>
                      </a:solidFill>
                      <a:latin typeface="Arial"/>
                    </a:rPr>
                    <a:t>APACH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1801800" y="3986280"/>
                <a:ext cx="1166400" cy="41760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DV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65440" y="4972320"/>
                <a:ext cx="1166760" cy="417240"/>
              </a:xfrm>
              <a:prstGeom prst="ellipse">
                <a:avLst/>
              </a:prstGeom>
              <a:solidFill>
                <a:srgbClr val="99cc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DV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03200" y="2835360"/>
                <a:ext cx="1457280" cy="552600"/>
              </a:xfrm>
              <a:prstGeom prst="ellipse">
                <a:avLst/>
              </a:prstGeom>
              <a:solidFill>
                <a:srgbClr val="0080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Offr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87640" y="3171960"/>
                <a:ext cx="1752120" cy="552240"/>
              </a:xfrm>
              <a:prstGeom prst="ellipse">
                <a:avLst/>
              </a:prstGeom>
              <a:solidFill>
                <a:srgbClr val="0080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Princip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06520" y="2629080"/>
                <a:ext cx="1457280" cy="552240"/>
              </a:xfrm>
              <a:prstGeom prst="ellipse">
                <a:avLst/>
              </a:prstGeom>
              <a:solidFill>
                <a:srgbClr val="0080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Besoin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630760" y="2032200"/>
              <a:ext cx="1120320" cy="571320"/>
              <a:chOff x="5630760" y="2032200"/>
              <a:chExt cx="1120320" cy="571320"/>
            </a:xfrm>
          </p:grpSpPr>
          <p:sp>
            <p:nvSpPr>
              <p:cNvPr id="454" name=""/>
              <p:cNvSpPr/>
              <p:nvPr/>
            </p:nvSpPr>
            <p:spPr>
              <a:xfrm>
                <a:off x="5630760" y="2032200"/>
                <a:ext cx="1120320" cy="57132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0a2f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75480" y="21207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ffffff"/>
                    </a:solidFill>
                    <a:latin typeface="Arial"/>
                  </a:rPr>
                  <a:t>Lin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681920" y="52560"/>
            <a:ext cx="7070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The FUTURE of ARCHIV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u flux binaire à la sémantique num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837560" y="5837400"/>
            <a:ext cx="1165320" cy="555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011680" y="3549600"/>
            <a:ext cx="372528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Contact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2"/>
              </a:rPr>
              <a:t>http://www.titan.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3"/>
              </a:rPr>
              <a:t>roger.roberts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4"/>
              </a:rPr>
              <a:t>@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5"/>
              </a:rPr>
              <a:t>chello.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6"/>
              </a:rPr>
              <a:t>gmarechal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7"/>
              </a:rPr>
              <a:t>@</a:t>
            </a:r>
            <a:r>
              <a:rPr b="0" lang="fr-FR" sz="2400" spc="-1" strike="noStrike" u="sng">
                <a:solidFill>
                  <a:srgbClr val="cecece"/>
                </a:solidFill>
                <a:uFillTx/>
                <a:latin typeface="Arial"/>
                <a:hlinkClick r:id="rId8"/>
              </a:rPr>
              <a:t>brutele.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47120" y="1844640"/>
            <a:ext cx="31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 organized by                      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8042400" y="1836720"/>
            <a:ext cx="981000" cy="290520"/>
            <a:chOff x="8042400" y="1836720"/>
            <a:chExt cx="981000" cy="290520"/>
          </a:xfrm>
        </p:grpSpPr>
        <p:sp>
          <p:nvSpPr>
            <p:cNvPr id="461" name=""/>
            <p:cNvSpPr/>
            <p:nvPr/>
          </p:nvSpPr>
          <p:spPr>
            <a:xfrm>
              <a:off x="8042400" y="1836720"/>
              <a:ext cx="981000" cy="2905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2" name="titan" descr=""/>
            <p:cNvPicPr/>
            <p:nvPr/>
          </p:nvPicPr>
          <p:blipFill>
            <a:blip r:embed="rId9"/>
            <a:stretch/>
          </p:blipFill>
          <p:spPr>
            <a:xfrm>
              <a:off x="8078760" y="1859760"/>
              <a:ext cx="931680" cy="23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6988320" y="1682640"/>
            <a:ext cx="723600" cy="59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2880" y="3438360"/>
            <a:ext cx="7459560" cy="91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ITAN asbl</a:t>
            </a: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0080" y="247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ASBL TITAN :</a:t>
            </a:r>
            <a:br>
              <a:rPr sz="3600"/>
            </a:b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ne vision de l’analogique au numériqu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36240" y="2424240"/>
            <a:ext cx="7459560" cy="255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a promotion de l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’étude et 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développement</a:t>
            </a:r>
            <a:br>
              <a:rPr sz="3600"/>
            </a:b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de programmes et de services audiovisuels et multimédia numériques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 interactif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52680" y="66600"/>
            <a:ext cx="72435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</a:rPr>
              <a:t>TITAN asb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8108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tacts :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41640" y="1709640"/>
            <a:ext cx="3332520" cy="2274840"/>
            <a:chOff x="5741640" y="1709640"/>
            <a:chExt cx="3332520" cy="2274840"/>
          </a:xfrm>
        </p:grpSpPr>
        <p:grpSp>
          <p:nvGrpSpPr>
            <p:cNvPr id="142" name=""/>
            <p:cNvGrpSpPr/>
            <p:nvPr/>
          </p:nvGrpSpPr>
          <p:grpSpPr>
            <a:xfrm>
              <a:off x="6162840" y="2445120"/>
              <a:ext cx="2625120" cy="1539360"/>
              <a:chOff x="6162840" y="2445120"/>
              <a:chExt cx="2625120" cy="1539360"/>
            </a:xfrm>
          </p:grpSpPr>
          <p:sp>
            <p:nvSpPr>
              <p:cNvPr id="143" name=""/>
              <p:cNvSpPr/>
              <p:nvPr/>
            </p:nvSpPr>
            <p:spPr>
              <a:xfrm>
                <a:off x="6602400" y="2835360"/>
                <a:ext cx="365040" cy="36828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6594120" y="2836800"/>
                <a:ext cx="376200" cy="71280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843680" y="2844720"/>
                <a:ext cx="432000" cy="70956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87600" y="3002040"/>
                <a:ext cx="788400" cy="39348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af001b"/>
                  </a:gs>
                </a:gsLst>
                <a:lin ang="10800000"/>
              </a:gradFill>
              <a:ln w="12600">
                <a:solidFill>
                  <a:srgbClr val="009688"/>
                </a:solidFill>
                <a:miter/>
              </a:ln>
              <a:effectLst>
                <a:outerShdw dist="17819" dir="2700000" blurRad="0" rotWithShape="0">
                  <a:srgbClr val="0059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4480" bIns="114480" anchor="b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200" spc="-1" strike="noStrike">
                    <a:solidFill>
                      <a:srgbClr val="ffffff"/>
                    </a:solidFill>
                    <a:latin typeface="Times New Roman"/>
                  </a:rPr>
                  <a:t>Contenu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15520" y="3591000"/>
                <a:ext cx="1143720" cy="39348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af001b"/>
                  </a:gs>
                </a:gsLst>
                <a:lin ang="10800000"/>
              </a:gradFill>
              <a:ln w="12600">
                <a:solidFill>
                  <a:srgbClr val="009688"/>
                </a:solidFill>
                <a:miter/>
              </a:ln>
              <a:effectLst>
                <a:outerShdw dist="17819" dir="2700000" blurRad="0" rotWithShape="0">
                  <a:srgbClr val="0059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4480" bIns="114480" anchor="b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200" spc="-1" strike="noStrike">
                    <a:solidFill>
                      <a:srgbClr val="ffffff"/>
                    </a:solidFill>
                    <a:latin typeface="Times New Roman"/>
                  </a:rPr>
                  <a:t>Infrastructur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62840" y="2445120"/>
                <a:ext cx="893520" cy="39348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af001b"/>
                  </a:gs>
                </a:gsLst>
                <a:lin ang="10800000"/>
              </a:gradFill>
              <a:ln w="12600">
                <a:solidFill>
                  <a:srgbClr val="009688"/>
                </a:solidFill>
                <a:miter/>
              </a:ln>
              <a:effectLst>
                <a:outerShdw dist="17819" dir="2700000" blurRad="0" rotWithShape="0">
                  <a:srgbClr val="0059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114480" bIns="114480" anchor="b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200" spc="-1" strike="noStrike">
                    <a:solidFill>
                      <a:srgbClr val="ffffff"/>
                    </a:solidFill>
                    <a:latin typeface="Times New Roman"/>
                  </a:rPr>
                  <a:t>Foru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64840" y="2449800"/>
                <a:ext cx="1023120" cy="39348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af001b"/>
                  </a:gs>
                </a:gsLst>
                <a:lin ang="10800000"/>
              </a:gradFill>
              <a:ln w="12600">
                <a:solidFill>
                  <a:srgbClr val="009688"/>
                </a:solidFill>
                <a:miter/>
              </a:ln>
              <a:effectLst>
                <a:outerShdw dist="17819" dir="2700000" blurRad="0" rotWithShape="0">
                  <a:srgbClr val="0059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4480" bIns="114480" anchor="b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200" spc="-1" strike="noStrike">
                    <a:solidFill>
                      <a:srgbClr val="ffffff"/>
                    </a:solidFill>
                    <a:latin typeface="Times New Roman"/>
                  </a:rPr>
                  <a:t>Technologi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779960" y="2838600"/>
                <a:ext cx="506520" cy="35388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741640" y="1709640"/>
              <a:ext cx="333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Times New Roman"/>
                </a:rPr>
                <a:t>Domaines d’activité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32080" y="1716120"/>
            <a:ext cx="5284800" cy="23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Membres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fr-BE" sz="1400" spc="-1" strike="noStrike">
                <a:solidFill>
                  <a:srgbClr val="ffffff"/>
                </a:solidFill>
                <a:latin typeface="Arial"/>
              </a:rPr>
              <a:t>ommunauté française de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 Belgique.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BE" sz="1400" spc="-1" strike="noStrike">
                <a:solidFill>
                  <a:srgbClr val="ffffff"/>
                </a:solidFill>
                <a:latin typeface="Arial"/>
              </a:rPr>
              <a:t>Deutschsprachige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i="1" lang="fr-BE" sz="1400" spc="-1" strike="noStrike">
                <a:solidFill>
                  <a:srgbClr val="ffffff"/>
                </a:solidFill>
                <a:latin typeface="Arial"/>
              </a:rPr>
              <a:t>emeinschaft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i="1" lang="fr-BE" sz="1400" spc="-1" strike="noStrike">
                <a:solidFill>
                  <a:srgbClr val="ffffff"/>
                </a:solidFill>
                <a:latin typeface="Arial"/>
              </a:rPr>
              <a:t>elgiens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Diffuseurs :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ANAL+, RTBF, TVLC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Télécommunication :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BELGACOM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Fabricants :</a:t>
            </a:r>
            <a:r>
              <a:rPr b="1" i="1" lang="fr-B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SEE ,  EVS.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Services :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MINOTAUR , inOvo,</a:t>
            </a:r>
            <a:r>
              <a:rPr b="1" i="1" lang="fr-B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NEURO tv, BELGAVOX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55120" y="4597560"/>
            <a:ext cx="6971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Terminal numérique à noyau normali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Système ouvert de contrôle d’accè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Tests du QAM sur les réseaux câblés bel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Ossature jurid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Archivage Intelligent Multimédia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conom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IS </a:t>
            </a:r>
            <a:r>
              <a:rPr b="1" lang="fr-F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ecommandations en gestion documentaire &amp; interchanges ouver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buClr>
                <a:srgbClr val="ffff00"/>
              </a:buClr>
              <a:buFont typeface="Times New Roman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7320" y="920520"/>
            <a:ext cx="236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ecece"/>
                </a:solidFill>
                <a:uFillTx/>
                <a:latin typeface="Arial"/>
                <a:hlinkClick r:id="rId1"/>
              </a:rPr>
              <a:t>roger.roberts@chello.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9320" y="4160880"/>
            <a:ext cx="18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roj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81400" y="348840"/>
            <a:ext cx="5775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Titan asbl : www.titan.b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344520" y="3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06440" y="2351160"/>
            <a:ext cx="6133680" cy="3521160"/>
            <a:chOff x="1306440" y="2351160"/>
            <a:chExt cx="6133680" cy="3521160"/>
          </a:xfrm>
        </p:grpSpPr>
        <p:sp>
          <p:nvSpPr>
            <p:cNvPr id="159" name=""/>
            <p:cNvSpPr/>
            <p:nvPr/>
          </p:nvSpPr>
          <p:spPr>
            <a:xfrm>
              <a:off x="1306440" y="2351160"/>
              <a:ext cx="1450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56520" y="2351160"/>
              <a:ext cx="28198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06440" y="2862360"/>
              <a:ext cx="145008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56520" y="2862360"/>
              <a:ext cx="281988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73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76400" y="2862360"/>
              <a:ext cx="8460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61360" y="2862360"/>
              <a:ext cx="177876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10320" y="2548080"/>
            <a:ext cx="2332080" cy="11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10320" y="4971960"/>
            <a:ext cx="2332080" cy="12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708520" y="5780160"/>
            <a:ext cx="2332080" cy="1364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244520" y="2449440"/>
            <a:ext cx="6152040" cy="3175200"/>
            <a:chOff x="1244520" y="2449440"/>
            <a:chExt cx="6152040" cy="3175200"/>
          </a:xfrm>
        </p:grpSpPr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1265400" y="2951280"/>
              <a:ext cx="3851280" cy="116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5268960" y="2455920"/>
              <a:ext cx="365040" cy="3168720"/>
              <a:chOff x="5268960" y="2455920"/>
              <a:chExt cx="365040" cy="3168720"/>
            </a:xfrm>
          </p:grpSpPr>
          <p:pic>
            <p:nvPicPr>
              <p:cNvPr id="171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5268960" y="2455920"/>
                <a:ext cx="3650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5268960" y="2934000"/>
                <a:ext cx="365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5268960" y="3424320"/>
                <a:ext cx="3650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5268960" y="3902400"/>
                <a:ext cx="365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68960" y="4367520"/>
                <a:ext cx="365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68960" y="4819680"/>
                <a:ext cx="3650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68960" y="5247000"/>
                <a:ext cx="365040" cy="37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5715720" y="244944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Titan asb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03840" y="295740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For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8080" y="52434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Conta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04560" y="481176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Glossai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97360" y="34275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Laboratoi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7160" y="389736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Actuali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90160" y="436716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Photothè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4520" y="2473200"/>
              <a:ext cx="37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Century Gothic"/>
                </a:rPr>
                <a:t>Titan, l’avenir par le numér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092000" y="183996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FR   NL   GB  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72880" y="3438360"/>
            <a:ext cx="7459560" cy="91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Le message</a:t>
            </a:r>
            <a:r>
              <a:rPr b="1" i="1" lang="fr-FR" sz="6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fondamental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6120" y="1859040"/>
            <a:ext cx="7659720" cy="428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</a:rPr>
              <a:t>Assur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La création, la représentation, la gestion et l’activatio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Ressources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(contenus, outils, personnes, thésaurus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En qualités ciblées ou possi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En toute liberté et indépendance 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Temps, de l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Espace et 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Forma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c28"/>
            </a:gs>
            <a:gs pos="100000">
              <a:srgbClr val="00968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06600" y="306000"/>
            <a:ext cx="733248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Le besoin concret ”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63680" y="1922400"/>
            <a:ext cx="7716960" cy="49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Les systèmes doivent être capables d’assure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représentation 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numérique de tous types d’oeuvr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85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1900" spc="-1" strike="noStrike">
                <a:solidFill>
                  <a:srgbClr val="ffffff"/>
                </a:solidFill>
                <a:latin typeface="Times New Roman"/>
              </a:rPr>
              <a:t>(Vidéo, audio, textes, monuments, affiches, partitions musicales, …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es représentations codées en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qualités 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ciblées ou possibl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fusion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 possible des oeuvres et de leurs représent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relations 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entre les oeuvres et / ou leurs représent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a représentation des oeuvres comme des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associ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de contenus, de contrôles, de liens et de métadonné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L’enrichissement  et autres </a:t>
            </a:r>
            <a:r>
              <a:rPr b="1" i="1" lang="fr-FR" sz="2100" spc="-1" strike="noStrike">
                <a:solidFill>
                  <a:srgbClr val="ffff00"/>
                </a:solidFill>
                <a:latin typeface="Times New Roman"/>
              </a:rPr>
              <a:t>modifications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 dans les représent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25320" indent="-625320">
              <a:lnSpc>
                <a:spcPct val="130000"/>
              </a:lnSpc>
              <a:tabLst>
                <a:tab algn="l" pos="0"/>
                <a:tab algn="l" pos="181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21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9:40:13Z</dcterms:created>
  <dc:creator>rro</dc:creator>
  <dc:description/>
  <dc:language>en-US</dc:language>
  <cp:lastModifiedBy> Maréchal Guy</cp:lastModifiedBy>
  <cp:lastPrinted>2001-04-19T13:56:44Z</cp:lastPrinted>
  <dcterms:modified xsi:type="dcterms:W3CDTF">2003-11-27T09:33:08Z</dcterms:modified>
  <cp:revision>264</cp:revision>
  <dc:subject/>
  <dc:title>Aucun titre de diapositive</dc:title>
</cp:coreProperties>
</file>