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220-1CC4-4D9D-B577-013E14E3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8CA-E456-4DB6-A6AD-8EC84E1F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B76-17F3-41E1-99AF-FBBBFB01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261-676E-401D-AC85-E5DC9EAF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5B2-E704-48FB-92B8-9959326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062-E548-4646-A5A6-24734E78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028-89BF-4971-A519-7069758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699-C438-409A-92B8-6971EF9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598-031E-4B40-98F9-E8E0B1D6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85D-057E-4683-9471-811189E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834-FBE7-488D-BE1A-39D065F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182-937A-4A53-9FFF-E2D8213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C658-7230-42DA-8F08-BB82D7930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280" y="2209680"/>
            <a:ext cx="8888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arte14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5715000" cy="4708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880" y="4572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La Fédération des 12 Télévisions francophones de Bel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743200" y="45720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Paradigme de l’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69360" y="2708280"/>
            <a:ext cx="7630920" cy="302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blème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égradation des supports problème le plus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0 000 heures d’archives sur l’ensemble des Télé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quiétudes au niveau de la relecture des archives anc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743200" y="45720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Relevé de la situation e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Dans les télévisions lo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9240" y="2514600"/>
            <a:ext cx="7225560" cy="3751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evé de l’état des Archives dans les télévision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ngage spécifique dans chaque chaî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tre &lt;&gt; T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stat : problème des Archives est beaucoup plu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e l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743200" y="4572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Les différentes étapes de l’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828800"/>
            <a:ext cx="8099280" cy="484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eminement de la séquence avant qu’elle ne devienne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e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herche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herche à long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7432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Pourquoi archive-t-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8076960" cy="448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ivant la valorisation recherchée, l’archive doit contenir des éléments diffé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ne :  le sens commun prévaut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 TVL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changes et Coproductions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       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conomies d’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                    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voi en qualité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rs l’ex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743200" y="45720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ARCH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dc4324"/>
                </a:solidFill>
                <a:latin typeface="Arial Rounded MT Bold"/>
              </a:rPr>
              <a:t>Archivage Commun Harmonisé Elémentaire</a:t>
            </a: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362320"/>
            <a:ext cx="7391160" cy="448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 quoi s’agit-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né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vec le soutien de la Communauté française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prendre le travail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’archivage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à la base 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rs Stockage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totype sur deux chaînes RTC Télé Liège et No Té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xtension sur les dix autres chaînes locales et développement du prototype en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743200" y="457200"/>
            <a:ext cx="6172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Enrichissement séman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Et Optimisation du trafic des in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362320"/>
            <a:ext cx="8001000" cy="411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ser les recherches internes et entre T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=&gt;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soins de métadonnées r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ment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gmenter la quantité d’informations attachées à l’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 de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a réinvention</a:t>
            </a:r>
            <a:r>
              <a:rPr b="0" lang="fr-BE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s méta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ompagnement du processus d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743200" y="4572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L’archive au cœur de la production Des télévisions lo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362320"/>
            <a:ext cx="7391160" cy="411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penser la circulation de l’information pour y introduire l’élément infor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vantage : structures légères et polyva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fficulté : normaliser la manière de travailler dans douze chaînes distinc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us sommes au milieu du processus : le prototype a été réalisé et celui-ci est utilisé dans deux télév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28800" y="1752480"/>
            <a:ext cx="70102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304920"/>
          <a:ext cx="189072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4920"/>
                    <a:ext cx="189072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743200" y="4572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dc4324"/>
                </a:solidFill>
                <a:latin typeface="Arial Rounded MT Bold"/>
              </a:rPr>
              <a:t>La Fédération des 12 Télévisions francophones de Bel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2400" y="3505320"/>
            <a:ext cx="54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cc"/>
                </a:solidFill>
                <a:latin typeface="Times New Roman"/>
              </a:rPr>
              <a:t>Place à la dé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cc"/>
                </a:solidFill>
                <a:latin typeface="Times New Roman"/>
              </a:rPr>
              <a:t>www.federation-tvlocales.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00:08Z</dcterms:created>
  <dc:creator>hello</dc:creator>
  <dc:description/>
  <dc:language>en-US</dc:language>
  <cp:lastModifiedBy>Mercier François</cp:lastModifiedBy>
  <dcterms:modified xsi:type="dcterms:W3CDTF">2003-11-27T15:45:55Z</dcterms:modified>
  <cp:revision>6</cp:revision>
  <dc:subject/>
  <dc:title>Présentation PowerPoint</dc:title>
</cp:coreProperties>
</file>