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845-8E6B-4B34-B217-50867A1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8EA-0B04-4B0C-83FF-DC5CE1A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C43-E766-4058-92ED-FDDC4F48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148-00EE-4D1E-8849-5EAFE2A9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434-F4B0-4DB7-AF68-EC63EAF7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9A9-495C-4680-8A19-9C4C386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C95-6D73-4675-B78B-58F3903F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2778-3957-48EC-98E4-37A6E8A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378-1FFA-4DDC-A99B-FC340C0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51F-8C4E-4DA1-88AB-4C4EFEC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CD8B-FB13-444D-9DE6-72D268A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5DE-602D-4826-82FD-4EF246F7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E0B7-969A-4BDE-8DAE-8CC2586E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6F1-42B9-4FC2-8F4C-3510D20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579-4752-4E96-845F-8EFEA4A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880-BDD3-46E9-9D3D-FFE271EB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3008-92B7-4505-911F-365159D3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A2D-AFCA-477A-8E29-36D4DEC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DEB-6BA3-4FF9-ACED-7CF4DC0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924-7F43-47A6-8ED9-0FD2B996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342-8446-4C9F-8596-22E3CB20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F80-F8E1-40A3-AD2A-C9E8F6F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158-1F18-4065-ABC3-FCBFEA2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562-7F0E-4AA2-A2D0-D3AA848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75F-0A33-41F2-A67E-2570C4E7B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1EE-6F22-409D-8462-28B04DE15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nal+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numér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 veut-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hanger ???!!!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Exemple de perplexité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QUI VEUT CHANG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’est-ce que cela co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urquoi chang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oir de vie (longueur de tem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Etre positif???!!!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Même si on n’a pas pris la dé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même si on n’a pas été concerné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Quelle est la motivation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r la décision 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 faut mesurer le ris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rer l’efficacit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émontrer une rentabilité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 chang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motivation forte des équ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meilleure flexibi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transparence de l’efficac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volonté de chan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grande éducation (formation) des personnes concerné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Belgique, le temps consacré à la formation continuée des professionnels est faible alors que toutes les compétences sont réunies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se de conscience est fondamentale au niveau profession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road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aradigme de l’arch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quo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commenc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ermin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is c’est l’archive………………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 Non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commence par l’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is on l’util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d on ve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 on ve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la manière qu’on veut!!!!!!!!!!!!!!!!!!!!!!!!!!!!!!!!!!!!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u va-t-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ynergie des moy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intelligence réside dans la forme, d’abord, et dans le fond ensu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vision de production est essentiell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voulons n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a dépasse l’aspect des sociétés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-activ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uveaux standards d’é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éforme des méthodes de trav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directe des personnes concer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nal+ chois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ication des métho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diffusion vaut les autr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ance entre membres d’une équ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vérification vaut les autr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ance entre personnes d’origines différentes (services différ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plus grande validité des processus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ération de “Playout” entièrement numéris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chaînes diffusées simultané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érées par 2 person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ilités d’agrandissement à faible coû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uméris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Quel est la base de l’exerc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pproche différente de fonctio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utre manière de travai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s sont les efforts à fourni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meilleure intégration des modes de fonctionn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ésistance au changeme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 veut dire numéris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b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C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5 …………………………???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ù va-t-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axes de réflex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 veut-on fai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ères réactions ?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 y arriver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xième série de réactions 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umérisation Contre toute attente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ranchissement des formats d’enregist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er avec la technolog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der les principes de qualité en s’ouvrant à de nouvelles appro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quo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qu’o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illeure p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en fait plus avec la même ch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fait la même chose avec les mêmes moy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urrait faire plus avec les mêmes moy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romet de faire N x plus avec les mêmes moy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 chang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n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initiative est un apprentissage ou une intu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 induit une manière de fonctio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t processus passe par l’apprenti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erreurs viennent les bonnes maniè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initiative humaine est une répétition d’essais et « d’erreurs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histoire nous répète de ne pas recommencer et pourtant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ent chang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cherche par quel bout cela peut arriver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l est le moyen pour que cela prenne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« profite » de tous les inst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fficac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énéros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génios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isponibi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 difficulté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ta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incon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évén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besoin de reconnaissance « par l’intermédiair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21:46:25Z</dcterms:created>
  <dc:creator>Francis BODSON</dc:creator>
  <dc:description/>
  <dc:language>en-US</dc:language>
  <cp:lastModifiedBy>Francis BODSON</cp:lastModifiedBy>
  <dcterms:modified xsi:type="dcterms:W3CDTF">2003-11-25T20:50:47Z</dcterms:modified>
  <cp:revision>9</cp:revision>
  <dc:subject/>
  <dc:title>Canal+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892013</vt:r8>
  </property>
  <property fmtid="{D5CDD505-2E9C-101B-9397-08002B2CF9AE}" pid="3" name="_AuthorEmail">
    <vt:lpwstr>francisbodson@brutele.be</vt:lpwstr>
  </property>
  <property fmtid="{D5CDD505-2E9C-101B-9397-08002B2CF9AE}" pid="4" name="_AuthorEmailDisplayName">
    <vt:lpwstr>Francis BODSON</vt:lpwstr>
  </property>
  <property fmtid="{D5CDD505-2E9C-101B-9397-08002B2CF9AE}" pid="5" name="_EmailSubject">
    <vt:lpwstr>Canal+2003-11-28.ppt présentation ACF</vt:lpwstr>
  </property>
</Properties>
</file>