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13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9185-8903-4454-AB1E-11F92DB83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EE11-B18B-4E3E-92BF-7A15A2570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13D4-D13A-4595-9EC3-5CB27ADC8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8425-93AC-44BC-8999-8470EF4BD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D8FEA-4795-451D-8306-6E3B56DE0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4CB03-8BBF-47B6-A4D4-003632DEA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C4E4A-6F28-4662-8870-71A6B5D78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6FACF-895D-45CA-8C1E-0F3C598B1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7C703-898B-4E30-83F1-DE7A4FE5A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E2F4E-A5F2-4683-91AA-DFF1517DE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D9B9F-9A9E-45BB-9F07-27143F77C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CED7-9287-4ACF-B7B4-5F91B9AAE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11896-4E58-4B62-B405-943DF4D5D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81B9C-175E-4FFE-9615-68A2EE53C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0D559-3DCE-4ABF-93F6-1AF20D1A7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04521-8B76-4E8C-BD35-04A66A1C8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FCFB6-6C6D-4162-A469-B44EDEB6B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E699-738E-4EB3-B7C5-DE4682232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6489-F672-4676-BE4F-43016B1A4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F296-44D9-4B21-B61F-04247F95B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25D3-3DD8-4DCD-B71F-ABA94C83F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D9AB-ED09-48F0-9220-FD2ADBC41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09A6-0C4F-48D8-B613-42773170E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22EA-2966-41BA-9027-27AF5DFC4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C067D-6D00-42F9-95FB-C3AF1B1A67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09000-7E47-4707-B84C-3577B95234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jpeg"/><Relationship Id="rId8" Type="http://schemas.openxmlformats.org/officeDocument/2006/relationships/oleObject" Target="../embeddings/oleObject1.bin"/><Relationship Id="rId9" Type="http://schemas.openxmlformats.org/officeDocument/2006/relationships/image" Target="../media/image10.wmf"/><Relationship Id="rId10" Type="http://schemas.openxmlformats.org/officeDocument/2006/relationships/image" Target="../media/image9.jpeg"/><Relationship Id="rId11" Type="http://schemas.openxmlformats.org/officeDocument/2006/relationships/oleObject" Target="../embeddings/oleObject2.bin"/><Relationship Id="rId12" Type="http://schemas.openxmlformats.org/officeDocument/2006/relationships/image" Target="../media/image10.wmf"/><Relationship Id="rId13" Type="http://schemas.openxmlformats.org/officeDocument/2006/relationships/oleObject" Target="../embeddings/oleObject3.bin"/><Relationship Id="rId14" Type="http://schemas.openxmlformats.org/officeDocument/2006/relationships/image" Target="../media/image11.wmf"/><Relationship Id="rId15" Type="http://schemas.openxmlformats.org/officeDocument/2006/relationships/oleObject" Target="../embeddings/oleObject4.bin"/><Relationship Id="rId16" Type="http://schemas.openxmlformats.org/officeDocument/2006/relationships/image" Target="../media/image11.wmf"/><Relationship Id="rId17" Type="http://schemas.openxmlformats.org/officeDocument/2006/relationships/oleObject" Target="../embeddings/oleObject5.bin"/><Relationship Id="rId18" Type="http://schemas.openxmlformats.org/officeDocument/2006/relationships/image" Target="../media/image12.wmf"/><Relationship Id="rId19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12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0.wmf"/><Relationship Id="rId11" Type="http://schemas.openxmlformats.org/officeDocument/2006/relationships/image" Target="../media/image9.jpeg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1.wmf"/><Relationship Id="rId1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8000" y="761760"/>
            <a:ext cx="895824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 u="sng">
                <a:solidFill>
                  <a:srgbClr val="ffcc66"/>
                </a:solidFill>
                <a:uFillTx/>
                <a:latin typeface="Arial"/>
              </a:rPr>
              <a:t>Incubateur numérique</a:t>
            </a:r>
            <a:r>
              <a:rPr b="1" lang="fr-BE" sz="4400" spc="-1" strike="noStrike" u="sng">
                <a:solidFill>
                  <a:srgbClr val="ffcc66"/>
                </a:solidFill>
                <a:uFillTx/>
                <a:latin typeface="Arial"/>
              </a:rPr>
              <a:t> wallon</a:t>
            </a:r>
            <a:br>
              <a:rPr sz="4400"/>
            </a:br>
            <a:r>
              <a:rPr b="0" lang="fr-FR" sz="3200" spc="-1" strike="noStrike">
                <a:solidFill>
                  <a:srgbClr val="ffcc66"/>
                </a:solidFill>
                <a:latin typeface="Arial"/>
              </a:rPr>
              <a:t>(</a:t>
            </a:r>
            <a:r>
              <a:rPr b="0" lang="fr-BE" sz="3200" spc="-1" strike="noStrike">
                <a:solidFill>
                  <a:srgbClr val="ffcc66"/>
                </a:solidFill>
                <a:latin typeface="Arial"/>
              </a:rPr>
              <a:t>Axisparc, situé dans le parc scientifique de Louvain-la-Neuve, commune </a:t>
            </a:r>
            <a:r>
              <a:rPr b="0" lang="fr-FR" sz="3200" spc="-1" strike="noStrike">
                <a:solidFill>
                  <a:srgbClr val="ffcc66"/>
                </a:solidFill>
                <a:latin typeface="Arial"/>
              </a:rPr>
              <a:t>Mont-St-Guibert)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0" y="34290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imes New Roman"/>
              </a:rPr>
              <a:t>Présentation résumé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2171880" y="233280"/>
            <a:ext cx="48006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600" spc="-1" strike="noStrike">
                <a:solidFill>
                  <a:srgbClr val="ffcc66"/>
                </a:solidFill>
                <a:latin typeface="Arial"/>
              </a:rPr>
              <a:t>Les application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imes New Roman"/>
              </a:rPr>
              <a:t>Vide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Times New Roman"/>
              </a:rPr>
              <a:t>Conservation d’oeuvres audiovisuel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imes New Roman"/>
              </a:rPr>
              <a:t>Aud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Times New Roman"/>
              </a:rPr>
              <a:t>Conservation de documents aud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imes New Roman"/>
              </a:rPr>
              <a:t>Document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Times New Roman"/>
              </a:rPr>
              <a:t>Segmentation des docu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Times New Roman"/>
              </a:rPr>
              <a:t>Référencement des seg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Times New Roman"/>
              </a:rPr>
              <a:t>Mise en base de donné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imes New Roman"/>
              </a:rPr>
              <a:t>Archivage de documents écri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Times New Roman"/>
              </a:rPr>
              <a:t>Copie ; Stockage; Référencement par ROC et documentation manuel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imes New Roman"/>
              </a:rPr>
              <a:t>Stockage d’images fix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Times New Roman"/>
              </a:rPr>
              <a:t>Médicales; Géographiques …; Historiques 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600" spc="-1" strike="noStrike" u="sng">
                <a:solidFill>
                  <a:srgbClr val="ffcc66"/>
                </a:solidFill>
                <a:uFillTx/>
                <a:latin typeface="Arial"/>
              </a:rPr>
              <a:t>1.2. Centre de développement (start-up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ff"/>
                </a:solidFill>
                <a:latin typeface="Times New Roman"/>
              </a:rPr>
              <a:t>Objet : hébergement temporaire de sociétés start-up exclusivement du secteur numérique &amp; multimédia, et fourniture de services (accueil, secrétariat, téléphonie,… et services de post-production numérique spécialisé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ff"/>
                </a:solidFill>
                <a:latin typeface="Times New Roman"/>
              </a:rPr>
              <a:t>Surface : 800 m² divisés en 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ff"/>
                </a:solidFill>
                <a:latin typeface="Times New Roman"/>
              </a:rPr>
              <a:t>500 m² : surfaces modulables pour 20 ateliers numériques (max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ff"/>
                </a:solidFill>
                <a:latin typeface="Times New Roman"/>
              </a:rPr>
              <a:t>300 m² : services bureau centralisés et espace de rencont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ff"/>
                </a:solidFill>
                <a:latin typeface="Times New Roman"/>
              </a:rPr>
              <a:t>Investissements : 3,1M €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ff"/>
                </a:solidFill>
                <a:latin typeface="Times New Roman"/>
              </a:rPr>
              <a:t>Rentabilisation : hébergement et services at cost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600" spc="-1" strike="noStrike" u="sng">
                <a:solidFill>
                  <a:srgbClr val="ffcc66"/>
                </a:solidFill>
                <a:uFillTx/>
                <a:latin typeface="Arial"/>
              </a:rPr>
              <a:t>1.3. Centre de veille technologique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ff"/>
                </a:solidFill>
                <a:latin typeface="Times New Roman"/>
              </a:rPr>
              <a:t>Objet : hébergement du Centre de Veille Technologique et de Recherche T.I.C.  (A.W.T.), avec laboratoire permettant le développement de projets de veille à l’innovation (sécurité, réseau, streaming, e-learning par ex.) et des tests des technologies de l’information et de la communication émergent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ff"/>
                </a:solidFill>
                <a:latin typeface="Times New Roman"/>
              </a:rPr>
              <a:t>Surface : 800 m²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ff"/>
                </a:solidFill>
                <a:latin typeface="Times New Roman"/>
              </a:rPr>
              <a:t>Investissements : 1.4 M€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ff"/>
                </a:solidFill>
                <a:latin typeface="Times New Roman"/>
              </a:rPr>
              <a:t>Rentabilisation : fonctionnement couvert via dotation de l’AW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600" spc="-1" strike="noStrike" u="sng">
                <a:solidFill>
                  <a:srgbClr val="ffcc66"/>
                </a:solidFill>
                <a:uFillTx/>
                <a:latin typeface="Arial"/>
              </a:rPr>
              <a:t>1.4. Vitrine technologique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ff"/>
                </a:solidFill>
                <a:latin typeface="Times New Roman"/>
              </a:rPr>
              <a:t>Objet : espace de démonstration et de vitrine pour les entreprises déjà bien établies dans le secteur numérique/télécom/web/réseau et du multiméd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ff"/>
                </a:solidFill>
                <a:latin typeface="Times New Roman"/>
              </a:rPr>
              <a:t>Modalités : location d’espaces à thè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ff"/>
                </a:solidFill>
                <a:latin typeface="Times New Roman"/>
              </a:rPr>
              <a:t>Surface : 800 m² minimum modul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ff"/>
                </a:solidFill>
                <a:latin typeface="Times New Roman"/>
              </a:rPr>
              <a:t>Investissements : 1 M€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ff"/>
                </a:solidFill>
                <a:latin typeface="Times New Roman"/>
              </a:rPr>
              <a:t>Rentabilisation : via partenariats spécifiques au sein de la société (cfr structure)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ff"/>
                </a:solidFill>
                <a:latin typeface="Times New Roman"/>
              </a:rPr>
              <a:t>Coût de location d’un espace: environ 100.000 € par an, en fonction de la surface occupé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400" spc="-1" strike="noStrike" u="sng">
                <a:solidFill>
                  <a:srgbClr val="ffcc66"/>
                </a:solidFill>
                <a:uFillTx/>
                <a:latin typeface="Arial"/>
              </a:rPr>
              <a:t>2. Structure juridiqu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305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ff"/>
                </a:solidFill>
                <a:latin typeface="Times New Roman"/>
              </a:rPr>
              <a:t>Société coopérative avec comme coopérateurs : </a:t>
            </a:r>
            <a:r>
              <a:rPr b="0" lang="fr-B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11160" indent="-490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ff"/>
                </a:solidFill>
                <a:latin typeface="Times New Roman"/>
              </a:rPr>
              <a:t>Région Wallonne : 18.000.000 € (360 part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11160" indent="-490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ff"/>
                </a:solidFill>
                <a:latin typeface="Times New Roman"/>
              </a:rPr>
              <a:t>Entreprises : total visé 1er tour partenaires: 2.000.000 € min. (40 parts min.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261800" indent="-4204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ff"/>
                </a:solidFill>
                <a:latin typeface="Times New Roman"/>
              </a:rPr>
              <a:t>Utilisateurs de services : locataires d’espaces et vitri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261800" indent="-4204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ff"/>
                </a:solidFill>
                <a:latin typeface="Times New Roman"/>
              </a:rPr>
              <a:t>Clients : service archive, locataires d’espaces d’incubation (spin-off qualifiées respectant la chart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60520" indent="-56052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ff"/>
                </a:solidFill>
                <a:latin typeface="Times New Roman"/>
              </a:rPr>
              <a:t>Parts de coopérateurs 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11160" indent="-490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ff"/>
                </a:solidFill>
                <a:latin typeface="Times New Roman"/>
              </a:rPr>
              <a:t>Une part = 50.000 €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11160" indent="-490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ff"/>
                </a:solidFill>
                <a:latin typeface="Times New Roman"/>
              </a:rPr>
              <a:t>Participation minimale avec nécessairement utilisation (locataire, client) d’un des 4 volets de l’incubateur, soit sous forme de min. 2 parts (100.000 €), soit sous forme de services (créances à valoi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11160" indent="-490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ff"/>
                </a:solidFill>
                <a:latin typeface="Times New Roman"/>
              </a:rPr>
              <a:t>Qualité de contractant majeur: 10 parts (500.000 €), donnant droit à une représentation au Conseil d’Administr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60520" indent="-56052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ff"/>
                </a:solidFill>
                <a:latin typeface="Times New Roman"/>
              </a:rPr>
              <a:t>Exit : après lock-up (~ 5 ans), cession possible à la valeur comptab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11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400" spc="-1" strike="noStrike" u="sng">
                <a:solidFill>
                  <a:srgbClr val="ffcc66"/>
                </a:solidFill>
                <a:uFillTx/>
                <a:latin typeface="Arial"/>
              </a:rPr>
              <a:t>3. Surfaces total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Times New Roman"/>
              </a:rPr>
              <a:t>Terrain : 10.000 m² à l’angle des N4 et N25 (à proximité du parc scientifique de Louvain-la-Neuv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Times New Roman"/>
              </a:rPr>
              <a:t>Bâtiment : 4.000 à 5.000 m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Times New Roman"/>
              </a:rPr>
              <a:t>Répartition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rchivage :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  800 m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Développement :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BE" sz="2400" spc="-1" strike="noStrike">
                <a:solidFill>
                  <a:srgbClr val="ffffff"/>
                </a:solidFill>
                <a:latin typeface="Times New Roman"/>
              </a:rPr>
              <a:t>   800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m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Veille technologique :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fr-BE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BE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800 m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Vitrine technologique :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fr-BE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BE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800 m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Times New Roman"/>
              </a:rPr>
              <a:t>( + Espace de démonstration et de projection haute définition : 800 m²)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400" spc="-1" strike="noStrike" u="sng">
                <a:solidFill>
                  <a:srgbClr val="ffcc66"/>
                </a:solidFill>
                <a:uFillTx/>
                <a:latin typeface="Arial"/>
              </a:rPr>
              <a:t>4. Timing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ff"/>
                </a:solidFill>
                <a:latin typeface="Times New Roman"/>
              </a:rPr>
              <a:t>Accord de la Région Wallonne (projet et investissement) : obten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ff"/>
                </a:solidFill>
                <a:latin typeface="Times New Roman"/>
              </a:rPr>
              <a:t>Terrain et promotion immobilière : accord-cadre exista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ff"/>
                </a:solidFill>
                <a:latin typeface="Times New Roman"/>
              </a:rPr>
              <a:t>Partenariats (MOU): validation du premier tour en juin et juillet 2003, immédiatement suivi de l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ff"/>
                </a:solidFill>
                <a:latin typeface="Times New Roman"/>
              </a:rPr>
              <a:t>Constitution de la société coopérative à responsabilité limitée (fin 2003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ff"/>
                </a:solidFill>
                <a:latin typeface="Times New Roman"/>
              </a:rPr>
              <a:t>Fonctionnement effectif de l’incubateur: 12 à 15 mois après constitution de la société (dont construction: 9 mois), soit fin 200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ff"/>
                </a:solidFill>
                <a:latin typeface="Times New Roman"/>
              </a:rPr>
              <a:t>Equipement phasé (sur 24 mois à partir de la construction de l’immeuble) et évoluti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ff"/>
                </a:solidFill>
                <a:latin typeface="Times New Roman"/>
              </a:rPr>
              <a:t>NB: démarrage des activités de services envisageable dès constitution de la société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755640" y="189000"/>
            <a:ext cx="7704000" cy="55450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20880" y="5877000"/>
            <a:ext cx="7302240" cy="80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ffcc66"/>
                </a:solidFill>
                <a:uFillTx/>
                <a:latin typeface="Arial"/>
              </a:rPr>
              <a:t>Maquette de l’Incubateur numérique</a:t>
            </a:r>
            <a:r>
              <a:rPr b="1" lang="fr-BE" sz="2400" spc="-1" strike="noStrike" u="sng">
                <a:solidFill>
                  <a:srgbClr val="ffcc66"/>
                </a:solidFill>
                <a:uFillTx/>
                <a:latin typeface="Arial"/>
              </a:rPr>
              <a:t> wallon</a:t>
            </a:r>
            <a:br>
              <a:rPr sz="2400"/>
            </a:b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400" spc="-1" strike="noStrike" u="sng">
                <a:solidFill>
                  <a:srgbClr val="ffcc66"/>
                </a:solidFill>
                <a:uFillTx/>
                <a:latin typeface="Arial"/>
              </a:rPr>
              <a:t>1. Activités principal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imes New Roman"/>
              </a:rPr>
              <a:t>1. Centre d’archivage numériqu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imes New Roman"/>
              </a:rPr>
              <a:t>2. Centre de développement (start-up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imes New Roman"/>
              </a:rPr>
              <a:t>3. Centre de veille technologique AW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imes New Roman"/>
              </a:rPr>
              <a:t>4. Vitrine technologiqu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600" spc="-1" strike="noStrike" u="sng">
                <a:solidFill>
                  <a:srgbClr val="ffcc66"/>
                </a:solidFill>
                <a:uFillTx/>
                <a:latin typeface="Arial"/>
              </a:rPr>
              <a:t>1.1. Centre d’archivage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3680" indent="-1936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ff"/>
                </a:solidFill>
                <a:latin typeface="Times New Roman"/>
              </a:rPr>
              <a:t>Objet : archivage, référencement et stockage de données (son/image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93680" indent="-1936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ff"/>
                </a:solidFill>
                <a:latin typeface="Times New Roman"/>
              </a:rPr>
              <a:t>Accès à distance ultra-rapide via le réseau wallon de fibres  optiques de la SOFICO notamment, via le ‘sans fil’, etc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93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fr-BE" sz="2000" spc="-1" strike="noStrike">
                <a:solidFill>
                  <a:srgbClr val="ffffff"/>
                </a:solidFill>
                <a:latin typeface="Times New Roman"/>
              </a:rPr>
              <a:t>transmission à très haut débit et de façon multiple (622Mb/s. à  1 Gb/s., upgradable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93680" indent="-1936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ff"/>
                </a:solidFill>
                <a:latin typeface="Times New Roman"/>
              </a:rPr>
              <a:t>Outsourcing de la clientèle en 2 phases 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5888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 u="sng">
                <a:solidFill>
                  <a:srgbClr val="ffffff"/>
                </a:solidFill>
                <a:uFillTx/>
                <a:latin typeface="Times New Roman"/>
              </a:rPr>
              <a:t>Phase 1</a:t>
            </a:r>
            <a:r>
              <a:rPr b="0" lang="fr-BE" sz="2000" spc="-1" strike="noStrike">
                <a:solidFill>
                  <a:srgbClr val="ffffff"/>
                </a:solidFill>
                <a:latin typeface="Times New Roman"/>
              </a:rPr>
              <a:t> : archivage TV (RTBF, RTL-TVI, Canal+, Belgavox, TV locales, entreprises, secteur médical…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5888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 u="sng">
                <a:solidFill>
                  <a:srgbClr val="ffffff"/>
                </a:solidFill>
                <a:uFillTx/>
                <a:latin typeface="Times New Roman"/>
              </a:rPr>
              <a:t>Phase 2</a:t>
            </a:r>
            <a:r>
              <a:rPr b="0" lang="fr-BE" sz="2000" spc="-1" strike="noStrike">
                <a:solidFill>
                  <a:srgbClr val="ffffff"/>
                </a:solidFill>
                <a:latin typeface="Times New Roman"/>
              </a:rPr>
              <a:t> : archivage protégé de données et d’imagerie spécifique (médical, RW, cartographie, entreprises, Parlement européen…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93680" indent="-1936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ff"/>
                </a:solidFill>
                <a:latin typeface="Times New Roman"/>
              </a:rPr>
              <a:t>Surface : 800 m²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93680" indent="-1936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ff"/>
                </a:solidFill>
                <a:latin typeface="Times New Roman"/>
              </a:rPr>
              <a:t>Investissements majeurs : équipements, matériel &amp; logiciels spécifiques (11 M€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93680" indent="-1936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ff"/>
                </a:solidFill>
                <a:latin typeface="Times New Roman"/>
              </a:rPr>
              <a:t>Rentabilisation : facturation en base Cost + fe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93680" indent="-1936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ff"/>
                </a:solidFill>
                <a:latin typeface="Times New Roman"/>
              </a:rPr>
              <a:t>Collaborations divers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93680" indent="-1936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ff"/>
                </a:solidFill>
                <a:latin typeface="Times New Roman"/>
              </a:rPr>
              <a:t>Sécurisation complète (dédoublage/backup, gestion des sécurités d’accès, alimentation de secours etc.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58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2590920"/>
            <a:ext cx="228600" cy="2286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600" spc="-1" strike="noStrike">
                <a:solidFill>
                  <a:srgbClr val="ffcc66"/>
                </a:solidFill>
                <a:latin typeface="Arial"/>
              </a:rPr>
              <a:t>Principes du centre d’archivage (1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Un centre techniqu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Un centre informatiq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Une mémoire de masse importante sous la forme d’une armoire de bandes magnétique pour back up informatiq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Une base de données servant à l’identification des produits stocké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Philosophie d’héberg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haque dépositaire RESTE propriétaire de ses archives et donc de leur utilisation ou de leur commercialis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La sécurité d’accès doit être stric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ervices de copie et de mise en archi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Gestion simple et efficace de la documentation d’archiv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600" spc="-1" strike="noStrike">
                <a:solidFill>
                  <a:srgbClr val="ffcc66"/>
                </a:solidFill>
                <a:latin typeface="Arial"/>
              </a:rPr>
              <a:t>Principes du centre d’archivage (2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imes New Roman"/>
              </a:rPr>
              <a:t>Sécurité de stocka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Times New Roman"/>
              </a:rPr>
              <a:t>Stockage simultané sur deux supports séparé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Times New Roman"/>
              </a:rPr>
              <a:t>Accès de la base se donnée d’accès sécurisé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Times New Roman"/>
              </a:rPr>
              <a:t>Procédures de protec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Times New Roman"/>
              </a:rPr>
              <a:t>Alimentation électrique secour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Times New Roman"/>
              </a:rPr>
              <a:t>Haute disponibilité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imes New Roman"/>
              </a:rPr>
              <a:t>Vérification des documents avant archivag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Times New Roman"/>
              </a:rPr>
              <a:t>Les éléments à archiver sont vérifiés préalablemen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Times New Roman"/>
              </a:rPr>
              <a:t>La documentation d’archive permet une segmentation des documents audiovisuel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600" spc="-1" strike="noStrike">
                <a:solidFill>
                  <a:srgbClr val="ffcc66"/>
                </a:solidFill>
                <a:latin typeface="Arial"/>
              </a:rPr>
              <a:t>Principe général: exemple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85800" y="1305000"/>
            <a:ext cx="7848720" cy="55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cc66"/>
                </a:solidFill>
                <a:latin typeface="Arial"/>
              </a:rPr>
              <a:t>Flux de travai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500000" y="1447920"/>
            <a:ext cx="319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cc66"/>
                </a:solidFill>
                <a:latin typeface="Arial"/>
              </a:rPr>
              <a:t>(à base d’archives existante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8600" y="6019920"/>
            <a:ext cx="861048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600200" y="2209680"/>
            <a:ext cx="0" cy="381024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380520" y="3962520"/>
            <a:ext cx="121932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0520" y="5105520"/>
            <a:ext cx="121932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33520" y="4038480"/>
            <a:ext cx="814320" cy="1033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533520" y="2971800"/>
            <a:ext cx="811080" cy="9460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523880" y="3352680"/>
            <a:ext cx="304920" cy="2286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00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3276720" y="2590560"/>
            <a:ext cx="0" cy="34290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380520" y="2819520"/>
            <a:ext cx="121932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523880" y="4267080"/>
            <a:ext cx="304920" cy="2286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00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80880" y="2133720"/>
            <a:ext cx="1143000" cy="533160"/>
          </a:xfrm>
          <a:prstGeom prst="rect">
            <a:avLst/>
          </a:prstGeom>
          <a:solidFill>
            <a:srgbClr val="00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Mond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analogiqu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981080" y="2590920"/>
            <a:ext cx="1143000" cy="533160"/>
          </a:xfrm>
          <a:prstGeom prst="rect">
            <a:avLst/>
          </a:prstGeom>
          <a:solidFill>
            <a:srgbClr val="00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Mond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numériqu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3880" y="2286000"/>
            <a:ext cx="304920" cy="2286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00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1981080" y="4114800"/>
            <a:ext cx="1067040" cy="7873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457200" y="5181480"/>
            <a:ext cx="1066680" cy="7876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1523880" y="5410080"/>
            <a:ext cx="304920" cy="2286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00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200400" y="4343400"/>
            <a:ext cx="304920" cy="2286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00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200400" y="2743200"/>
            <a:ext cx="304920" cy="2286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00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562720" y="2590560"/>
            <a:ext cx="0" cy="34290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038480" y="2590920"/>
            <a:ext cx="1371600" cy="533160"/>
          </a:xfrm>
          <a:prstGeom prst="rect">
            <a:avLst/>
          </a:prstGeom>
          <a:solidFill>
            <a:srgbClr val="00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Mond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des fichier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505320" y="2590920"/>
            <a:ext cx="457200" cy="3352680"/>
          </a:xfrm>
          <a:prstGeom prst="rect">
            <a:avLst/>
          </a:prstGeom>
          <a:solidFill>
            <a:srgbClr val="00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5943600" y="3200400"/>
            <a:ext cx="1219320" cy="8985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6"/>
          <a:stretch/>
        </p:blipFill>
        <p:spPr>
          <a:xfrm>
            <a:off x="1981080" y="5029200"/>
            <a:ext cx="1067040" cy="7858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7"/>
          <a:stretch/>
        </p:blipFill>
        <p:spPr>
          <a:xfrm>
            <a:off x="4038480" y="4038480"/>
            <a:ext cx="1295640" cy="5749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 txBox="1"/>
          <p:nvPr/>
        </p:nvSpPr>
        <p:spPr>
          <a:xfrm rot="16200000">
            <a:off x="2199960" y="4047480"/>
            <a:ext cx="3124440" cy="3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ompression</a:t>
            </a:r>
            <a:endParaRPr b="0" lang="en-US" sz="20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32" name=""/>
          <p:cNvSpPr/>
          <p:nvPr/>
        </p:nvSpPr>
        <p:spPr>
          <a:xfrm>
            <a:off x="5486400" y="2743200"/>
            <a:ext cx="304920" cy="2286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00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867280" y="2590920"/>
            <a:ext cx="1371600" cy="533160"/>
          </a:xfrm>
          <a:prstGeom prst="rect">
            <a:avLst/>
          </a:prstGeom>
          <a:solidFill>
            <a:srgbClr val="00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Mond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de l’archiv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828800" y="2514600"/>
            <a:ext cx="76320" cy="3352680"/>
          </a:xfrm>
          <a:prstGeom prst="rect">
            <a:avLst/>
          </a:prstGeom>
          <a:solidFill>
            <a:srgbClr val="00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4038480" y="3200400"/>
          <a:ext cx="1295640" cy="757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038480" y="3200400"/>
                    <a:ext cx="1295640" cy="75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"/>
          <p:cNvSpPr/>
          <p:nvPr/>
        </p:nvSpPr>
        <p:spPr>
          <a:xfrm flipV="1">
            <a:off x="7391520" y="2590560"/>
            <a:ext cx="0" cy="34290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38680" y="4419720"/>
            <a:ext cx="1676520" cy="609480"/>
          </a:xfrm>
          <a:prstGeom prst="rect">
            <a:avLst/>
          </a:prstGeom>
          <a:solidFill>
            <a:srgbClr val="00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Référencem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Index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58000" y="3962520"/>
            <a:ext cx="304920" cy="609480"/>
          </a:xfrm>
          <a:prstGeom prst="upDownArrow">
            <a:avLst>
              <a:gd name="adj1" fmla="val 50000"/>
              <a:gd name="adj2" fmla="val 39791"/>
            </a:avLst>
          </a:prstGeom>
          <a:solidFill>
            <a:srgbClr val="33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324480" y="4952880"/>
            <a:ext cx="304920" cy="30492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33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09880"/>
            <a:ext cx="304920" cy="2286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00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543800" y="2286000"/>
            <a:ext cx="1371600" cy="838080"/>
          </a:xfrm>
          <a:prstGeom prst="rect">
            <a:avLst/>
          </a:prstGeom>
          <a:solidFill>
            <a:srgbClr val="00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Mond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de l’utilis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Intern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38880" y="5257800"/>
            <a:ext cx="381240" cy="380880"/>
          </a:xfrm>
          <a:prstGeom prst="leftRightArrow">
            <a:avLst>
              <a:gd name="adj1" fmla="val 50000"/>
              <a:gd name="adj2" fmla="val 19926"/>
            </a:avLst>
          </a:prstGeom>
          <a:solidFill>
            <a:srgbClr val="33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0"/>
          <a:stretch/>
        </p:blipFill>
        <p:spPr>
          <a:xfrm>
            <a:off x="7696080" y="4343400"/>
            <a:ext cx="1295640" cy="574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5" name=""/>
          <p:cNvGraphicFramePr/>
          <p:nvPr/>
        </p:nvGraphicFramePr>
        <p:xfrm>
          <a:off x="7696080" y="3505320"/>
          <a:ext cx="1295640" cy="7570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696080" y="3505320"/>
                    <a:ext cx="1295640" cy="75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"/>
          <p:cNvSpPr/>
          <p:nvPr/>
        </p:nvSpPr>
        <p:spPr>
          <a:xfrm>
            <a:off x="7315200" y="3809880"/>
            <a:ext cx="304920" cy="2286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00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4267080" y="5105520"/>
          <a:ext cx="838440" cy="7617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267080" y="5105520"/>
                    <a:ext cx="83844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" name=""/>
          <p:cNvGraphicFramePr/>
          <p:nvPr/>
        </p:nvGraphicFramePr>
        <p:xfrm>
          <a:off x="7924680" y="5105520"/>
          <a:ext cx="838440" cy="7617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924680" y="5105520"/>
                    <a:ext cx="83844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"/>
          <p:cNvSpPr/>
          <p:nvPr/>
        </p:nvSpPr>
        <p:spPr>
          <a:xfrm>
            <a:off x="5410080" y="5257800"/>
            <a:ext cx="381240" cy="380880"/>
          </a:xfrm>
          <a:prstGeom prst="leftRightArrow">
            <a:avLst>
              <a:gd name="adj1" fmla="val 50000"/>
              <a:gd name="adj2" fmla="val 19926"/>
            </a:avLst>
          </a:prstGeom>
          <a:solidFill>
            <a:srgbClr val="33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5867280" y="5257800"/>
          <a:ext cx="1219320" cy="7444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867280" y="5257800"/>
                    <a:ext cx="1219320" cy="74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"/>
          <p:cNvSpPr/>
          <p:nvPr/>
        </p:nvSpPr>
        <p:spPr>
          <a:xfrm>
            <a:off x="1752480" y="1981080"/>
            <a:ext cx="5639040" cy="228600"/>
          </a:xfrm>
          <a:prstGeom prst="rect">
            <a:avLst/>
          </a:prstGeom>
          <a:solidFill>
            <a:srgbClr val="00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La mise en archiv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cc66"/>
                </a:solidFill>
                <a:latin typeface="Arial"/>
              </a:rPr>
              <a:t>Flux de travai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423680" y="1447920"/>
            <a:ext cx="319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cc66"/>
                </a:solidFill>
                <a:latin typeface="Arial"/>
              </a:rPr>
              <a:t>(à base d’archives existante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533520" y="3200400"/>
            <a:ext cx="1218960" cy="89856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457200" y="2590920"/>
            <a:ext cx="1371600" cy="533160"/>
          </a:xfrm>
          <a:prstGeom prst="rect">
            <a:avLst/>
          </a:prstGeom>
          <a:solidFill>
            <a:srgbClr val="00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Mond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de l’archiv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1981080" y="2590560"/>
            <a:ext cx="0" cy="34290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28600" y="4419720"/>
            <a:ext cx="1676520" cy="609480"/>
          </a:xfrm>
          <a:prstGeom prst="rect">
            <a:avLst/>
          </a:prstGeom>
          <a:solidFill>
            <a:srgbClr val="00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Référencem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Index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447920" y="3962520"/>
            <a:ext cx="304560" cy="609480"/>
          </a:xfrm>
          <a:prstGeom prst="upDownArrow">
            <a:avLst>
              <a:gd name="adj1" fmla="val 50000"/>
              <a:gd name="adj2" fmla="val 39838"/>
            </a:avLst>
          </a:prstGeom>
          <a:solidFill>
            <a:srgbClr val="33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4952880"/>
            <a:ext cx="304920" cy="30492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33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133720" y="1981080"/>
            <a:ext cx="5790960" cy="228600"/>
          </a:xfrm>
          <a:prstGeom prst="rect">
            <a:avLst/>
          </a:prstGeom>
          <a:solidFill>
            <a:srgbClr val="00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Monde de l’utilis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828800" y="5257800"/>
            <a:ext cx="380880" cy="38088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33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2286000" y="4343400"/>
            <a:ext cx="1295280" cy="574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9" name=""/>
          <p:cNvGraphicFramePr/>
          <p:nvPr/>
        </p:nvGraphicFramePr>
        <p:xfrm>
          <a:off x="2286000" y="3505320"/>
          <a:ext cx="1295280" cy="757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0" y="3505320"/>
                    <a:ext cx="1295280" cy="75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"/>
          <p:cNvSpPr/>
          <p:nvPr/>
        </p:nvSpPr>
        <p:spPr>
          <a:xfrm>
            <a:off x="1828800" y="3809880"/>
            <a:ext cx="304920" cy="2286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00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2514600" y="4952880"/>
          <a:ext cx="838080" cy="762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14600" y="4952880"/>
                    <a:ext cx="83808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457200" y="5257800"/>
          <a:ext cx="1219320" cy="744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200" y="5257800"/>
                    <a:ext cx="1219320" cy="74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"/>
          <p:cNvSpPr/>
          <p:nvPr/>
        </p:nvSpPr>
        <p:spPr>
          <a:xfrm>
            <a:off x="228600" y="6019920"/>
            <a:ext cx="861048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3809880" y="2590560"/>
            <a:ext cx="0" cy="34290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19920" y="2286000"/>
            <a:ext cx="1904760" cy="838080"/>
          </a:xfrm>
          <a:prstGeom prst="rect">
            <a:avLst/>
          </a:prstGeom>
          <a:solidFill>
            <a:srgbClr val="00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Mond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de la public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828800" y="3200400"/>
            <a:ext cx="4267080" cy="228600"/>
          </a:xfrm>
          <a:prstGeom prst="rightArrow">
            <a:avLst>
              <a:gd name="adj1" fmla="val 50000"/>
              <a:gd name="adj2" fmla="val 466654"/>
            </a:avLst>
          </a:prstGeom>
          <a:solidFill>
            <a:srgbClr val="00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632480" y="3927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861080" y="4460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556160" y="4079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172200" y="3276720"/>
            <a:ext cx="1752480" cy="2666880"/>
          </a:xfrm>
          <a:prstGeom prst="rect">
            <a:avLst/>
          </a:prstGeom>
          <a:solidFill>
            <a:srgbClr val="ffcc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ublic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u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e we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133720" y="2286000"/>
            <a:ext cx="1523880" cy="838080"/>
          </a:xfrm>
          <a:prstGeom prst="rect">
            <a:avLst/>
          </a:prstGeom>
          <a:solidFill>
            <a:srgbClr val="00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Mon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Professionn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Loc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5943600" y="2590560"/>
            <a:ext cx="0" cy="34290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962520" y="2286000"/>
            <a:ext cx="1828800" cy="838080"/>
          </a:xfrm>
          <a:prstGeom prst="rect">
            <a:avLst/>
          </a:prstGeom>
          <a:solidFill>
            <a:srgbClr val="00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Mon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Professionn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Extérieu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962520" y="3352680"/>
            <a:ext cx="304560" cy="2590920"/>
          </a:xfrm>
          <a:prstGeom prst="rect">
            <a:avLst/>
          </a:prstGeom>
          <a:solidFill>
            <a:srgbClr val="ffcc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ublication sur le we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4495680" y="3505320"/>
          <a:ext cx="1295640" cy="757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495680" y="3505320"/>
                    <a:ext cx="1295640" cy="75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0" name="" descr=""/>
          <p:cNvPicPr/>
          <p:nvPr/>
        </p:nvPicPr>
        <p:blipFill>
          <a:blip r:embed="rId11"/>
          <a:stretch/>
        </p:blipFill>
        <p:spPr>
          <a:xfrm>
            <a:off x="4495680" y="4343400"/>
            <a:ext cx="1295640" cy="57456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1676520" y="5715000"/>
            <a:ext cx="2361960" cy="228600"/>
          </a:xfrm>
          <a:prstGeom prst="rightArrow">
            <a:avLst>
              <a:gd name="adj1" fmla="val 50000"/>
              <a:gd name="adj2" fmla="val 258307"/>
            </a:avLst>
          </a:prstGeom>
          <a:solidFill>
            <a:srgbClr val="00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4648320" y="5029200"/>
          <a:ext cx="838080" cy="7621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4648320" y="5029200"/>
                    <a:ext cx="83808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"/>
          <p:cNvSpPr/>
          <p:nvPr/>
        </p:nvSpPr>
        <p:spPr>
          <a:xfrm>
            <a:off x="4191120" y="3809880"/>
            <a:ext cx="304560" cy="228600"/>
          </a:xfrm>
          <a:prstGeom prst="rightArrow">
            <a:avLst>
              <a:gd name="adj1" fmla="val 50000"/>
              <a:gd name="adj2" fmla="val 33307"/>
            </a:avLst>
          </a:prstGeom>
          <a:solidFill>
            <a:srgbClr val="00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91120" y="4495680"/>
            <a:ext cx="304560" cy="228600"/>
          </a:xfrm>
          <a:prstGeom prst="rightArrow">
            <a:avLst>
              <a:gd name="adj1" fmla="val 50000"/>
              <a:gd name="adj2" fmla="val 33307"/>
            </a:avLst>
          </a:prstGeom>
          <a:solidFill>
            <a:srgbClr val="00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267080" y="5257800"/>
            <a:ext cx="381240" cy="380880"/>
          </a:xfrm>
          <a:prstGeom prst="leftRightArrow">
            <a:avLst>
              <a:gd name="adj1" fmla="val 50000"/>
              <a:gd name="adj2" fmla="val 19926"/>
            </a:avLst>
          </a:prstGeom>
          <a:solidFill>
            <a:srgbClr val="33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133720" y="3505320"/>
            <a:ext cx="75960" cy="1371600"/>
          </a:xfrm>
          <a:prstGeom prst="rect">
            <a:avLst/>
          </a:prstGeom>
          <a:solidFill>
            <a:srgbClr val="00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3T12:34:31Z</dcterms:created>
  <dc:creator>ebauche</dc:creator>
  <dc:description/>
  <dc:language>en-US</dc:language>
  <cp:lastModifiedBy> Maréchal Guy</cp:lastModifiedBy>
  <dcterms:modified xsi:type="dcterms:W3CDTF">2003-11-27T17:48:58Z</dcterms:modified>
  <cp:revision>26</cp:revision>
  <dc:subject/>
  <dc:title>Incubateur numérique (Mont-St-Guibert)</dc:title>
</cp:coreProperties>
</file>