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07E-A7CA-412F-8880-D8CF2470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D26-4F03-42F6-B36E-2E637A79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F34-81F5-4C9B-8C39-0865D787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670-58AA-473C-ADC2-00F7F11C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CE7-52B1-4839-BCAB-7AE48D34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8C8-C35F-4C8C-8E2D-0438307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246-7941-4458-B672-BF5B2B36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1C3-E2E9-4E2D-95B5-921DAB29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434-D123-4647-A6B4-BE24451B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B6F-49D3-40F5-98BE-F4E0EF3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B5B-365B-4145-BB68-BA9B449A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616-130D-4D03-B15F-EDC400A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C6B-1E2F-4984-BE3D-C0D766DF2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mplantation des technologies de la communication et de l’information en Région wallo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ACF, Bruxelles le 28 septembr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André Dumont, Télim sc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036-A05D-4A7A-A5E4-54791C2AE8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rois réseaux pour trois 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ur assurer les services associés au traitement distribué d’images animées, il faut remplir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trois 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relier les centres de création et de traitement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, entre autres le Centre d’archivage, par un réseau à très large bande, temps réel, transparent, symétr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distribuer les images terminées aux spectateurs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: il s’agit de connexions mono-directionnelles, temps réel, en arbre,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assurer les services non-temps réel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: signalisation, échange de fichie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DC2-40D4-409A-9147-32489CA092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743200" y="533520"/>
          <a:ext cx="5029200" cy="36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33520"/>
                    <a:ext cx="5029200" cy="36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5DA-2132-4438-B472-8E3F920F07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434880"/>
          <a:ext cx="6248160" cy="59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34880"/>
                    <a:ext cx="6248160" cy="59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869-3759-454F-9C51-5C686A00F6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371600" y="417600"/>
          <a:ext cx="6400800" cy="60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7600"/>
                    <a:ext cx="64008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2E1-9EFE-4B55-9A29-259F9F63A3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 télé-distribution va continuer à progres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Aujourd’hui tous les réseaux « coaxiaux » ont été segmentés et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accrochés à des réseaux primaires optiques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e processus se développera encore avec la diffusion du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standard numérique de télévision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et la vidéo-on-de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La fourniture d’accès à l’Internet par modems-câble se généralisera et fournira le canal de signalisation ad h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Les salles de projection, cinémas d’essai ou auditoires se raccorderont directement au réseau primaire optique, et recevront ainsi les images sans compression, en CWD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zone urbaine on ne sera à plus d’1 Km de la fibre.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2A3-E1BE-4A87-9EB5-0B47C3A209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’interconnexion des sites de création,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’accès au Centre d’archiv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Toutes les villes de Wallonie, et la plupart des Parcs industriels se trouvent à proximité d’une autoroute, donc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des câbles optiques de la Sofico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Des prolongations sont possibles via B-Telecom et les réseaux primaires urbains des télé-distribute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9966"/>
                </a:solidFill>
                <a:latin typeface="Times New Roman"/>
              </a:rPr>
              <a:t>Les techniques WDM (diversité de λ), créées en vue de débits très importants, permettent maintenant d’attribuer des canaux transparents, de bout en bout, à des paires d’utilisateurs. La technique CWDM développée en Wallonie par SEE permet la configuration dynamique.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168-B1F7-448C-89B5-F4DF55AC93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77760" y="487440"/>
          <a:ext cx="718992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487440"/>
                    <a:ext cx="718992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6AD-E951-454C-BE55-82100591FB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5257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75000" y="2278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4680" y="2092320"/>
            <a:ext cx="2789280" cy="3622680"/>
          </a:xfrm>
          <a:custGeom>
            <a:avLst/>
            <a:gdLst/>
            <a:ahLst/>
            <a:rect l="l" t="t" r="r" b="b"/>
            <a:pathLst>
              <a:path w="1757" h="2282">
                <a:moveTo>
                  <a:pt x="22" y="2282"/>
                </a:moveTo>
                <a:cubicBezTo>
                  <a:pt x="8" y="2103"/>
                  <a:pt x="0" y="2105"/>
                  <a:pt x="22" y="1917"/>
                </a:cubicBezTo>
                <a:cubicBezTo>
                  <a:pt x="24" y="1903"/>
                  <a:pt x="25" y="1886"/>
                  <a:pt x="36" y="1878"/>
                </a:cubicBezTo>
                <a:cubicBezTo>
                  <a:pt x="58" y="1862"/>
                  <a:pt x="114" y="1852"/>
                  <a:pt x="114" y="1852"/>
                </a:cubicBezTo>
                <a:cubicBezTo>
                  <a:pt x="238" y="1870"/>
                  <a:pt x="253" y="1878"/>
                  <a:pt x="388" y="1865"/>
                </a:cubicBezTo>
                <a:cubicBezTo>
                  <a:pt x="401" y="1852"/>
                  <a:pt x="416" y="1841"/>
                  <a:pt x="427" y="1826"/>
                </a:cubicBezTo>
                <a:cubicBezTo>
                  <a:pt x="446" y="1801"/>
                  <a:pt x="479" y="1748"/>
                  <a:pt x="479" y="1748"/>
                </a:cubicBezTo>
                <a:cubicBezTo>
                  <a:pt x="463" y="1616"/>
                  <a:pt x="477" y="1676"/>
                  <a:pt x="440" y="1565"/>
                </a:cubicBezTo>
                <a:cubicBezTo>
                  <a:pt x="435" y="1550"/>
                  <a:pt x="420" y="1540"/>
                  <a:pt x="414" y="1526"/>
                </a:cubicBezTo>
                <a:cubicBezTo>
                  <a:pt x="403" y="1501"/>
                  <a:pt x="388" y="1447"/>
                  <a:pt x="388" y="1447"/>
                </a:cubicBezTo>
                <a:cubicBezTo>
                  <a:pt x="384" y="1299"/>
                  <a:pt x="383" y="1152"/>
                  <a:pt x="375" y="1004"/>
                </a:cubicBezTo>
                <a:cubicBezTo>
                  <a:pt x="372" y="937"/>
                  <a:pt x="329" y="895"/>
                  <a:pt x="375" y="821"/>
                </a:cubicBezTo>
                <a:cubicBezTo>
                  <a:pt x="397" y="786"/>
                  <a:pt x="453" y="795"/>
                  <a:pt x="492" y="782"/>
                </a:cubicBezTo>
                <a:cubicBezTo>
                  <a:pt x="636" y="734"/>
                  <a:pt x="823" y="743"/>
                  <a:pt x="974" y="730"/>
                </a:cubicBezTo>
                <a:cubicBezTo>
                  <a:pt x="1098" y="705"/>
                  <a:pt x="1219" y="675"/>
                  <a:pt x="1340" y="639"/>
                </a:cubicBezTo>
                <a:cubicBezTo>
                  <a:pt x="1366" y="631"/>
                  <a:pt x="1395" y="628"/>
                  <a:pt x="1418" y="613"/>
                </a:cubicBezTo>
                <a:cubicBezTo>
                  <a:pt x="1431" y="604"/>
                  <a:pt x="1443" y="593"/>
                  <a:pt x="1457" y="587"/>
                </a:cubicBezTo>
                <a:cubicBezTo>
                  <a:pt x="1482" y="576"/>
                  <a:pt x="1509" y="569"/>
                  <a:pt x="1535" y="560"/>
                </a:cubicBezTo>
                <a:cubicBezTo>
                  <a:pt x="1548" y="556"/>
                  <a:pt x="1574" y="547"/>
                  <a:pt x="1574" y="547"/>
                </a:cubicBezTo>
                <a:cubicBezTo>
                  <a:pt x="1681" y="471"/>
                  <a:pt x="1639" y="509"/>
                  <a:pt x="1705" y="443"/>
                </a:cubicBezTo>
                <a:cubicBezTo>
                  <a:pt x="1742" y="333"/>
                  <a:pt x="1710" y="440"/>
                  <a:pt x="1731" y="195"/>
                </a:cubicBezTo>
                <a:cubicBezTo>
                  <a:pt x="1737" y="130"/>
                  <a:pt x="1757" y="66"/>
                  <a:pt x="1757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60720" y="3498840"/>
            <a:ext cx="2198520" cy="560520"/>
          </a:xfrm>
          <a:custGeom>
            <a:avLst/>
            <a:gdLst/>
            <a:ahLst/>
            <a:rect l="l" t="t" r="r" b="b"/>
            <a:pathLst>
              <a:path w="1385" h="353">
                <a:moveTo>
                  <a:pt x="2" y="353"/>
                </a:moveTo>
                <a:cubicBezTo>
                  <a:pt x="23" y="290"/>
                  <a:pt x="0" y="332"/>
                  <a:pt x="54" y="288"/>
                </a:cubicBezTo>
                <a:cubicBezTo>
                  <a:pt x="185" y="181"/>
                  <a:pt x="274" y="184"/>
                  <a:pt x="446" y="170"/>
                </a:cubicBezTo>
                <a:cubicBezTo>
                  <a:pt x="650" y="102"/>
                  <a:pt x="828" y="78"/>
                  <a:pt x="1045" y="66"/>
                </a:cubicBezTo>
                <a:cubicBezTo>
                  <a:pt x="1141" y="42"/>
                  <a:pt x="1234" y="25"/>
                  <a:pt x="1332" y="14"/>
                </a:cubicBezTo>
                <a:cubicBezTo>
                  <a:pt x="1376" y="0"/>
                  <a:pt x="1358" y="1"/>
                  <a:pt x="1385" y="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BCA-2E6E-4084-8361-A7D9DFFFB9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5257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75000" y="2278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4680" y="2092320"/>
            <a:ext cx="2789280" cy="3622680"/>
          </a:xfrm>
          <a:custGeom>
            <a:avLst/>
            <a:gdLst/>
            <a:ahLst/>
            <a:rect l="l" t="t" r="r" b="b"/>
            <a:pathLst>
              <a:path w="1757" h="2282">
                <a:moveTo>
                  <a:pt x="22" y="2282"/>
                </a:moveTo>
                <a:cubicBezTo>
                  <a:pt x="8" y="2103"/>
                  <a:pt x="0" y="2105"/>
                  <a:pt x="22" y="1917"/>
                </a:cubicBezTo>
                <a:cubicBezTo>
                  <a:pt x="24" y="1903"/>
                  <a:pt x="25" y="1886"/>
                  <a:pt x="36" y="1878"/>
                </a:cubicBezTo>
                <a:cubicBezTo>
                  <a:pt x="58" y="1862"/>
                  <a:pt x="114" y="1852"/>
                  <a:pt x="114" y="1852"/>
                </a:cubicBezTo>
                <a:cubicBezTo>
                  <a:pt x="238" y="1870"/>
                  <a:pt x="253" y="1878"/>
                  <a:pt x="388" y="1865"/>
                </a:cubicBezTo>
                <a:cubicBezTo>
                  <a:pt x="401" y="1852"/>
                  <a:pt x="416" y="1841"/>
                  <a:pt x="427" y="1826"/>
                </a:cubicBezTo>
                <a:cubicBezTo>
                  <a:pt x="446" y="1801"/>
                  <a:pt x="479" y="1748"/>
                  <a:pt x="479" y="1748"/>
                </a:cubicBezTo>
                <a:cubicBezTo>
                  <a:pt x="463" y="1616"/>
                  <a:pt x="477" y="1676"/>
                  <a:pt x="440" y="1565"/>
                </a:cubicBezTo>
                <a:cubicBezTo>
                  <a:pt x="435" y="1550"/>
                  <a:pt x="420" y="1540"/>
                  <a:pt x="414" y="1526"/>
                </a:cubicBezTo>
                <a:cubicBezTo>
                  <a:pt x="403" y="1501"/>
                  <a:pt x="388" y="1447"/>
                  <a:pt x="388" y="1447"/>
                </a:cubicBezTo>
                <a:cubicBezTo>
                  <a:pt x="384" y="1299"/>
                  <a:pt x="383" y="1152"/>
                  <a:pt x="375" y="1004"/>
                </a:cubicBezTo>
                <a:cubicBezTo>
                  <a:pt x="372" y="937"/>
                  <a:pt x="329" y="895"/>
                  <a:pt x="375" y="821"/>
                </a:cubicBezTo>
                <a:cubicBezTo>
                  <a:pt x="397" y="786"/>
                  <a:pt x="453" y="795"/>
                  <a:pt x="492" y="782"/>
                </a:cubicBezTo>
                <a:cubicBezTo>
                  <a:pt x="636" y="734"/>
                  <a:pt x="823" y="743"/>
                  <a:pt x="974" y="730"/>
                </a:cubicBezTo>
                <a:cubicBezTo>
                  <a:pt x="1098" y="705"/>
                  <a:pt x="1219" y="675"/>
                  <a:pt x="1340" y="639"/>
                </a:cubicBezTo>
                <a:cubicBezTo>
                  <a:pt x="1366" y="631"/>
                  <a:pt x="1395" y="628"/>
                  <a:pt x="1418" y="613"/>
                </a:cubicBezTo>
                <a:cubicBezTo>
                  <a:pt x="1431" y="604"/>
                  <a:pt x="1443" y="593"/>
                  <a:pt x="1457" y="587"/>
                </a:cubicBezTo>
                <a:cubicBezTo>
                  <a:pt x="1482" y="576"/>
                  <a:pt x="1509" y="569"/>
                  <a:pt x="1535" y="560"/>
                </a:cubicBezTo>
                <a:cubicBezTo>
                  <a:pt x="1548" y="556"/>
                  <a:pt x="1574" y="547"/>
                  <a:pt x="1574" y="547"/>
                </a:cubicBezTo>
                <a:cubicBezTo>
                  <a:pt x="1681" y="471"/>
                  <a:pt x="1639" y="509"/>
                  <a:pt x="1705" y="443"/>
                </a:cubicBezTo>
                <a:cubicBezTo>
                  <a:pt x="1742" y="333"/>
                  <a:pt x="1710" y="440"/>
                  <a:pt x="1731" y="195"/>
                </a:cubicBezTo>
                <a:cubicBezTo>
                  <a:pt x="1737" y="130"/>
                  <a:pt x="1757" y="66"/>
                  <a:pt x="1757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60720" y="3498840"/>
            <a:ext cx="2198520" cy="560520"/>
          </a:xfrm>
          <a:custGeom>
            <a:avLst/>
            <a:gdLst/>
            <a:ahLst/>
            <a:rect l="l" t="t" r="r" b="b"/>
            <a:pathLst>
              <a:path w="1385" h="353">
                <a:moveTo>
                  <a:pt x="2" y="353"/>
                </a:moveTo>
                <a:cubicBezTo>
                  <a:pt x="23" y="290"/>
                  <a:pt x="0" y="332"/>
                  <a:pt x="54" y="288"/>
                </a:cubicBezTo>
                <a:cubicBezTo>
                  <a:pt x="185" y="181"/>
                  <a:pt x="274" y="184"/>
                  <a:pt x="446" y="170"/>
                </a:cubicBezTo>
                <a:cubicBezTo>
                  <a:pt x="650" y="102"/>
                  <a:pt x="828" y="78"/>
                  <a:pt x="1045" y="66"/>
                </a:cubicBezTo>
                <a:cubicBezTo>
                  <a:pt x="1141" y="42"/>
                  <a:pt x="1234" y="25"/>
                  <a:pt x="1332" y="14"/>
                </a:cubicBezTo>
                <a:cubicBezTo>
                  <a:pt x="1376" y="0"/>
                  <a:pt x="1358" y="1"/>
                  <a:pt x="1385" y="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1846440"/>
            <a:ext cx="7565760" cy="1425240"/>
          </a:xfrm>
          <a:custGeom>
            <a:avLst/>
            <a:gdLst/>
            <a:ahLst/>
            <a:rect l="l" t="t" r="r" b="b"/>
            <a:pathLst>
              <a:path w="4766" h="898">
                <a:moveTo>
                  <a:pt x="45" y="37"/>
                </a:moveTo>
                <a:cubicBezTo>
                  <a:pt x="148" y="105"/>
                  <a:pt x="0" y="0"/>
                  <a:pt x="136" y="141"/>
                </a:cubicBezTo>
                <a:cubicBezTo>
                  <a:pt x="189" y="196"/>
                  <a:pt x="244" y="234"/>
                  <a:pt x="293" y="298"/>
                </a:cubicBezTo>
                <a:cubicBezTo>
                  <a:pt x="349" y="370"/>
                  <a:pt x="385" y="455"/>
                  <a:pt x="462" y="507"/>
                </a:cubicBezTo>
                <a:cubicBezTo>
                  <a:pt x="492" y="552"/>
                  <a:pt x="522" y="559"/>
                  <a:pt x="554" y="598"/>
                </a:cubicBezTo>
                <a:cubicBezTo>
                  <a:pt x="594" y="647"/>
                  <a:pt x="623" y="708"/>
                  <a:pt x="684" y="728"/>
                </a:cubicBezTo>
                <a:cubicBezTo>
                  <a:pt x="857" y="847"/>
                  <a:pt x="976" y="812"/>
                  <a:pt x="1219" y="820"/>
                </a:cubicBezTo>
                <a:cubicBezTo>
                  <a:pt x="1307" y="838"/>
                  <a:pt x="1405" y="882"/>
                  <a:pt x="1493" y="885"/>
                </a:cubicBezTo>
                <a:cubicBezTo>
                  <a:pt x="1736" y="893"/>
                  <a:pt x="1980" y="894"/>
                  <a:pt x="2223" y="898"/>
                </a:cubicBezTo>
                <a:cubicBezTo>
                  <a:pt x="2319" y="894"/>
                  <a:pt x="2415" y="892"/>
                  <a:pt x="2510" y="885"/>
                </a:cubicBezTo>
                <a:cubicBezTo>
                  <a:pt x="2586" y="879"/>
                  <a:pt x="2690" y="833"/>
                  <a:pt x="2771" y="820"/>
                </a:cubicBezTo>
                <a:cubicBezTo>
                  <a:pt x="2945" y="762"/>
                  <a:pt x="3128" y="733"/>
                  <a:pt x="3305" y="689"/>
                </a:cubicBezTo>
                <a:cubicBezTo>
                  <a:pt x="3461" y="650"/>
                  <a:pt x="3608" y="572"/>
                  <a:pt x="3762" y="533"/>
                </a:cubicBezTo>
                <a:cubicBezTo>
                  <a:pt x="3847" y="476"/>
                  <a:pt x="3961" y="456"/>
                  <a:pt x="4062" y="442"/>
                </a:cubicBezTo>
                <a:cubicBezTo>
                  <a:pt x="4178" y="401"/>
                  <a:pt x="4308" y="384"/>
                  <a:pt x="4427" y="350"/>
                </a:cubicBezTo>
                <a:cubicBezTo>
                  <a:pt x="4565" y="311"/>
                  <a:pt x="4372" y="373"/>
                  <a:pt x="4557" y="311"/>
                </a:cubicBezTo>
                <a:cubicBezTo>
                  <a:pt x="4570" y="307"/>
                  <a:pt x="4583" y="302"/>
                  <a:pt x="4596" y="298"/>
                </a:cubicBezTo>
                <a:cubicBezTo>
                  <a:pt x="4609" y="294"/>
                  <a:pt x="4636" y="285"/>
                  <a:pt x="4636" y="285"/>
                </a:cubicBezTo>
                <a:cubicBezTo>
                  <a:pt x="4662" y="268"/>
                  <a:pt x="4688" y="250"/>
                  <a:pt x="4714" y="233"/>
                </a:cubicBezTo>
                <a:cubicBezTo>
                  <a:pt x="4725" y="225"/>
                  <a:pt x="4742" y="228"/>
                  <a:pt x="4753" y="220"/>
                </a:cubicBezTo>
                <a:cubicBezTo>
                  <a:pt x="4761" y="214"/>
                  <a:pt x="4762" y="203"/>
                  <a:pt x="4766" y="19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69880" y="1573200"/>
            <a:ext cx="6231240" cy="3852720"/>
          </a:xfrm>
          <a:custGeom>
            <a:avLst/>
            <a:gdLst/>
            <a:ahLst/>
            <a:rect l="l" t="t" r="r" b="b"/>
            <a:pathLst>
              <a:path w="3925" h="2427">
                <a:moveTo>
                  <a:pt x="0" y="561"/>
                </a:moveTo>
                <a:cubicBezTo>
                  <a:pt x="83" y="557"/>
                  <a:pt x="166" y="557"/>
                  <a:pt x="248" y="548"/>
                </a:cubicBezTo>
                <a:cubicBezTo>
                  <a:pt x="284" y="544"/>
                  <a:pt x="352" y="522"/>
                  <a:pt x="352" y="522"/>
                </a:cubicBezTo>
                <a:cubicBezTo>
                  <a:pt x="412" y="482"/>
                  <a:pt x="480" y="467"/>
                  <a:pt x="548" y="444"/>
                </a:cubicBezTo>
                <a:cubicBezTo>
                  <a:pt x="656" y="408"/>
                  <a:pt x="766" y="376"/>
                  <a:pt x="874" y="340"/>
                </a:cubicBezTo>
                <a:cubicBezTo>
                  <a:pt x="926" y="323"/>
                  <a:pt x="978" y="304"/>
                  <a:pt x="1030" y="287"/>
                </a:cubicBezTo>
                <a:cubicBezTo>
                  <a:pt x="1043" y="283"/>
                  <a:pt x="1056" y="278"/>
                  <a:pt x="1069" y="274"/>
                </a:cubicBezTo>
                <a:cubicBezTo>
                  <a:pt x="1082" y="270"/>
                  <a:pt x="1108" y="261"/>
                  <a:pt x="1108" y="261"/>
                </a:cubicBezTo>
                <a:cubicBezTo>
                  <a:pt x="1394" y="275"/>
                  <a:pt x="1287" y="247"/>
                  <a:pt x="1448" y="300"/>
                </a:cubicBezTo>
                <a:cubicBezTo>
                  <a:pt x="1493" y="315"/>
                  <a:pt x="1524" y="335"/>
                  <a:pt x="1565" y="353"/>
                </a:cubicBezTo>
                <a:cubicBezTo>
                  <a:pt x="1590" y="364"/>
                  <a:pt x="1643" y="379"/>
                  <a:pt x="1643" y="379"/>
                </a:cubicBezTo>
                <a:cubicBezTo>
                  <a:pt x="1717" y="375"/>
                  <a:pt x="1791" y="376"/>
                  <a:pt x="1865" y="366"/>
                </a:cubicBezTo>
                <a:cubicBezTo>
                  <a:pt x="1892" y="362"/>
                  <a:pt x="1943" y="340"/>
                  <a:pt x="1943" y="340"/>
                </a:cubicBezTo>
                <a:cubicBezTo>
                  <a:pt x="1991" y="290"/>
                  <a:pt x="1959" y="320"/>
                  <a:pt x="2047" y="261"/>
                </a:cubicBezTo>
                <a:cubicBezTo>
                  <a:pt x="2087" y="234"/>
                  <a:pt x="2093" y="193"/>
                  <a:pt x="2139" y="170"/>
                </a:cubicBezTo>
                <a:cubicBezTo>
                  <a:pt x="2151" y="164"/>
                  <a:pt x="2166" y="164"/>
                  <a:pt x="2178" y="157"/>
                </a:cubicBezTo>
                <a:cubicBezTo>
                  <a:pt x="2205" y="142"/>
                  <a:pt x="2256" y="105"/>
                  <a:pt x="2256" y="105"/>
                </a:cubicBezTo>
                <a:cubicBezTo>
                  <a:pt x="2288" y="57"/>
                  <a:pt x="2332" y="18"/>
                  <a:pt x="2387" y="0"/>
                </a:cubicBezTo>
                <a:cubicBezTo>
                  <a:pt x="2435" y="12"/>
                  <a:pt x="2482" y="27"/>
                  <a:pt x="2530" y="40"/>
                </a:cubicBezTo>
                <a:cubicBezTo>
                  <a:pt x="2584" y="76"/>
                  <a:pt x="2639" y="85"/>
                  <a:pt x="2700" y="105"/>
                </a:cubicBezTo>
                <a:cubicBezTo>
                  <a:pt x="2768" y="150"/>
                  <a:pt x="2836" y="186"/>
                  <a:pt x="2908" y="222"/>
                </a:cubicBezTo>
                <a:cubicBezTo>
                  <a:pt x="2920" y="228"/>
                  <a:pt x="2935" y="228"/>
                  <a:pt x="2947" y="235"/>
                </a:cubicBezTo>
                <a:cubicBezTo>
                  <a:pt x="3007" y="268"/>
                  <a:pt x="3065" y="331"/>
                  <a:pt x="3130" y="353"/>
                </a:cubicBezTo>
                <a:cubicBezTo>
                  <a:pt x="3152" y="370"/>
                  <a:pt x="3171" y="390"/>
                  <a:pt x="3195" y="405"/>
                </a:cubicBezTo>
                <a:cubicBezTo>
                  <a:pt x="3207" y="412"/>
                  <a:pt x="3222" y="411"/>
                  <a:pt x="3234" y="418"/>
                </a:cubicBezTo>
                <a:cubicBezTo>
                  <a:pt x="3367" y="492"/>
                  <a:pt x="3263" y="454"/>
                  <a:pt x="3352" y="483"/>
                </a:cubicBezTo>
                <a:cubicBezTo>
                  <a:pt x="3393" y="511"/>
                  <a:pt x="3471" y="549"/>
                  <a:pt x="3508" y="587"/>
                </a:cubicBezTo>
                <a:cubicBezTo>
                  <a:pt x="3543" y="622"/>
                  <a:pt x="3571" y="665"/>
                  <a:pt x="3612" y="692"/>
                </a:cubicBezTo>
                <a:cubicBezTo>
                  <a:pt x="3638" y="709"/>
                  <a:pt x="3669" y="722"/>
                  <a:pt x="3691" y="744"/>
                </a:cubicBezTo>
                <a:cubicBezTo>
                  <a:pt x="3717" y="770"/>
                  <a:pt x="3749" y="791"/>
                  <a:pt x="3769" y="822"/>
                </a:cubicBezTo>
                <a:cubicBezTo>
                  <a:pt x="3786" y="848"/>
                  <a:pt x="3821" y="900"/>
                  <a:pt x="3821" y="900"/>
                </a:cubicBezTo>
                <a:cubicBezTo>
                  <a:pt x="3853" y="998"/>
                  <a:pt x="3863" y="1082"/>
                  <a:pt x="3873" y="1187"/>
                </a:cubicBezTo>
                <a:cubicBezTo>
                  <a:pt x="3877" y="1570"/>
                  <a:pt x="3874" y="1953"/>
                  <a:pt x="3886" y="2335"/>
                </a:cubicBezTo>
                <a:cubicBezTo>
                  <a:pt x="3888" y="2394"/>
                  <a:pt x="3898" y="2400"/>
                  <a:pt x="3925" y="24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45120" y="1573200"/>
            <a:ext cx="3476520" cy="3790800"/>
          </a:xfrm>
          <a:custGeom>
            <a:avLst/>
            <a:gdLst/>
            <a:ahLst/>
            <a:rect l="l" t="t" r="r" b="b"/>
            <a:pathLst>
              <a:path w="2190" h="2388">
                <a:moveTo>
                  <a:pt x="0" y="0"/>
                </a:moveTo>
                <a:cubicBezTo>
                  <a:pt x="52" y="79"/>
                  <a:pt x="91" y="158"/>
                  <a:pt x="143" y="235"/>
                </a:cubicBezTo>
                <a:cubicBezTo>
                  <a:pt x="166" y="269"/>
                  <a:pt x="208" y="314"/>
                  <a:pt x="221" y="353"/>
                </a:cubicBezTo>
                <a:cubicBezTo>
                  <a:pt x="230" y="379"/>
                  <a:pt x="232" y="408"/>
                  <a:pt x="247" y="431"/>
                </a:cubicBezTo>
                <a:cubicBezTo>
                  <a:pt x="256" y="444"/>
                  <a:pt x="267" y="456"/>
                  <a:pt x="273" y="470"/>
                </a:cubicBezTo>
                <a:cubicBezTo>
                  <a:pt x="290" y="508"/>
                  <a:pt x="291" y="552"/>
                  <a:pt x="313" y="587"/>
                </a:cubicBezTo>
                <a:cubicBezTo>
                  <a:pt x="345" y="637"/>
                  <a:pt x="363" y="693"/>
                  <a:pt x="391" y="744"/>
                </a:cubicBezTo>
                <a:cubicBezTo>
                  <a:pt x="433" y="820"/>
                  <a:pt x="495" y="873"/>
                  <a:pt x="547" y="940"/>
                </a:cubicBezTo>
                <a:cubicBezTo>
                  <a:pt x="616" y="1029"/>
                  <a:pt x="677" y="1120"/>
                  <a:pt x="756" y="1201"/>
                </a:cubicBezTo>
                <a:cubicBezTo>
                  <a:pt x="780" y="1273"/>
                  <a:pt x="816" y="1300"/>
                  <a:pt x="873" y="1357"/>
                </a:cubicBezTo>
                <a:cubicBezTo>
                  <a:pt x="941" y="1425"/>
                  <a:pt x="1009" y="1492"/>
                  <a:pt x="1082" y="1553"/>
                </a:cubicBezTo>
                <a:cubicBezTo>
                  <a:pt x="1094" y="1563"/>
                  <a:pt x="1107" y="1571"/>
                  <a:pt x="1121" y="1579"/>
                </a:cubicBezTo>
                <a:cubicBezTo>
                  <a:pt x="1138" y="1589"/>
                  <a:pt x="1158" y="1593"/>
                  <a:pt x="1173" y="1605"/>
                </a:cubicBezTo>
                <a:cubicBezTo>
                  <a:pt x="1327" y="1728"/>
                  <a:pt x="1186" y="1644"/>
                  <a:pt x="1304" y="1722"/>
                </a:cubicBezTo>
                <a:cubicBezTo>
                  <a:pt x="1383" y="1774"/>
                  <a:pt x="1461" y="1825"/>
                  <a:pt x="1538" y="1879"/>
                </a:cubicBezTo>
                <a:cubicBezTo>
                  <a:pt x="1564" y="1897"/>
                  <a:pt x="1617" y="1931"/>
                  <a:pt x="1617" y="1931"/>
                </a:cubicBezTo>
                <a:cubicBezTo>
                  <a:pt x="1652" y="1984"/>
                  <a:pt x="1635" y="1967"/>
                  <a:pt x="1695" y="2009"/>
                </a:cubicBezTo>
                <a:cubicBezTo>
                  <a:pt x="1721" y="2027"/>
                  <a:pt x="1773" y="2061"/>
                  <a:pt x="1773" y="2061"/>
                </a:cubicBezTo>
                <a:cubicBezTo>
                  <a:pt x="1815" y="2125"/>
                  <a:pt x="1895" y="2193"/>
                  <a:pt x="1969" y="2218"/>
                </a:cubicBezTo>
                <a:cubicBezTo>
                  <a:pt x="2020" y="2269"/>
                  <a:pt x="2075" y="2303"/>
                  <a:pt x="2138" y="2335"/>
                </a:cubicBezTo>
                <a:cubicBezTo>
                  <a:pt x="2173" y="2371"/>
                  <a:pt x="2155" y="2353"/>
                  <a:pt x="2190" y="23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4920" y="2733840"/>
            <a:ext cx="689040" cy="496800"/>
          </a:xfrm>
          <a:custGeom>
            <a:avLst/>
            <a:gdLst/>
            <a:ahLst/>
            <a:rect l="l" t="t" r="r" b="b"/>
            <a:pathLst>
              <a:path w="434" h="313">
                <a:moveTo>
                  <a:pt x="4" y="0"/>
                </a:moveTo>
                <a:cubicBezTo>
                  <a:pt x="13" y="122"/>
                  <a:pt x="0" y="241"/>
                  <a:pt x="108" y="313"/>
                </a:cubicBezTo>
                <a:cubicBezTo>
                  <a:pt x="164" y="309"/>
                  <a:pt x="221" y="307"/>
                  <a:pt x="277" y="300"/>
                </a:cubicBezTo>
                <a:cubicBezTo>
                  <a:pt x="291" y="298"/>
                  <a:pt x="307" y="297"/>
                  <a:pt x="317" y="287"/>
                </a:cubicBezTo>
                <a:cubicBezTo>
                  <a:pt x="339" y="265"/>
                  <a:pt x="352" y="235"/>
                  <a:pt x="369" y="209"/>
                </a:cubicBezTo>
                <a:cubicBezTo>
                  <a:pt x="379" y="194"/>
                  <a:pt x="396" y="183"/>
                  <a:pt x="408" y="169"/>
                </a:cubicBezTo>
                <a:cubicBezTo>
                  <a:pt x="418" y="157"/>
                  <a:pt x="434" y="130"/>
                  <a:pt x="434" y="1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19051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133720"/>
            <a:ext cx="2490840" cy="3276360"/>
          </a:xfrm>
          <a:custGeom>
            <a:avLst/>
            <a:gdLst/>
            <a:ahLst/>
            <a:rect l="l" t="t" r="r" b="b"/>
            <a:pathLst>
              <a:path w="1569" h="2064">
                <a:moveTo>
                  <a:pt x="1569" y="1108"/>
                </a:moveTo>
                <a:cubicBezTo>
                  <a:pt x="1539" y="1197"/>
                  <a:pt x="1520" y="1275"/>
                  <a:pt x="1438" y="1330"/>
                </a:cubicBezTo>
                <a:cubicBezTo>
                  <a:pt x="1420" y="1384"/>
                  <a:pt x="1403" y="1399"/>
                  <a:pt x="1360" y="1434"/>
                </a:cubicBezTo>
                <a:cubicBezTo>
                  <a:pt x="1198" y="1566"/>
                  <a:pt x="1112" y="1529"/>
                  <a:pt x="864" y="1539"/>
                </a:cubicBezTo>
                <a:cubicBezTo>
                  <a:pt x="851" y="1543"/>
                  <a:pt x="835" y="1542"/>
                  <a:pt x="825" y="1552"/>
                </a:cubicBezTo>
                <a:cubicBezTo>
                  <a:pt x="815" y="1562"/>
                  <a:pt x="818" y="1579"/>
                  <a:pt x="812" y="1591"/>
                </a:cubicBezTo>
                <a:cubicBezTo>
                  <a:pt x="805" y="1605"/>
                  <a:pt x="793" y="1616"/>
                  <a:pt x="786" y="1630"/>
                </a:cubicBezTo>
                <a:cubicBezTo>
                  <a:pt x="766" y="1670"/>
                  <a:pt x="761" y="1719"/>
                  <a:pt x="747" y="1761"/>
                </a:cubicBezTo>
                <a:cubicBezTo>
                  <a:pt x="743" y="1791"/>
                  <a:pt x="734" y="1937"/>
                  <a:pt x="708" y="1969"/>
                </a:cubicBezTo>
                <a:cubicBezTo>
                  <a:pt x="698" y="1981"/>
                  <a:pt x="681" y="1985"/>
                  <a:pt x="669" y="1995"/>
                </a:cubicBezTo>
                <a:cubicBezTo>
                  <a:pt x="659" y="2003"/>
                  <a:pt x="654" y="2016"/>
                  <a:pt x="643" y="2022"/>
                </a:cubicBezTo>
                <a:cubicBezTo>
                  <a:pt x="618" y="2034"/>
                  <a:pt x="564" y="2048"/>
                  <a:pt x="564" y="2048"/>
                </a:cubicBezTo>
                <a:cubicBezTo>
                  <a:pt x="403" y="2044"/>
                  <a:pt x="240" y="2064"/>
                  <a:pt x="82" y="2035"/>
                </a:cubicBezTo>
                <a:cubicBezTo>
                  <a:pt x="55" y="2030"/>
                  <a:pt x="56" y="1956"/>
                  <a:pt x="56" y="1956"/>
                </a:cubicBezTo>
                <a:cubicBezTo>
                  <a:pt x="56" y="1956"/>
                  <a:pt x="0" y="1311"/>
                  <a:pt x="108" y="1095"/>
                </a:cubicBezTo>
                <a:cubicBezTo>
                  <a:pt x="153" y="1004"/>
                  <a:pt x="193" y="919"/>
                  <a:pt x="225" y="821"/>
                </a:cubicBezTo>
                <a:cubicBezTo>
                  <a:pt x="238" y="782"/>
                  <a:pt x="251" y="743"/>
                  <a:pt x="264" y="704"/>
                </a:cubicBezTo>
                <a:cubicBezTo>
                  <a:pt x="268" y="691"/>
                  <a:pt x="277" y="665"/>
                  <a:pt x="277" y="665"/>
                </a:cubicBezTo>
                <a:cubicBezTo>
                  <a:pt x="287" y="565"/>
                  <a:pt x="288" y="464"/>
                  <a:pt x="304" y="365"/>
                </a:cubicBezTo>
                <a:cubicBezTo>
                  <a:pt x="309" y="332"/>
                  <a:pt x="322" y="281"/>
                  <a:pt x="356" y="260"/>
                </a:cubicBezTo>
                <a:cubicBezTo>
                  <a:pt x="368" y="253"/>
                  <a:pt x="383" y="254"/>
                  <a:pt x="395" y="247"/>
                </a:cubicBezTo>
                <a:cubicBezTo>
                  <a:pt x="463" y="209"/>
                  <a:pt x="520" y="161"/>
                  <a:pt x="590" y="130"/>
                </a:cubicBezTo>
                <a:cubicBezTo>
                  <a:pt x="615" y="119"/>
                  <a:pt x="646" y="119"/>
                  <a:pt x="669" y="104"/>
                </a:cubicBezTo>
                <a:cubicBezTo>
                  <a:pt x="707" y="78"/>
                  <a:pt x="750" y="69"/>
                  <a:pt x="786" y="39"/>
                </a:cubicBezTo>
                <a:cubicBezTo>
                  <a:pt x="800" y="27"/>
                  <a:pt x="825" y="0"/>
                  <a:pt x="82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68840" y="3271680"/>
            <a:ext cx="855720" cy="641520"/>
          </a:xfrm>
          <a:custGeom>
            <a:avLst/>
            <a:gdLst/>
            <a:ahLst/>
            <a:rect l="l" t="t" r="r" b="b"/>
            <a:pathLst>
              <a:path w="539" h="404">
                <a:moveTo>
                  <a:pt x="59" y="0"/>
                </a:moveTo>
                <a:cubicBezTo>
                  <a:pt x="68" y="214"/>
                  <a:pt x="0" y="341"/>
                  <a:pt x="189" y="404"/>
                </a:cubicBezTo>
                <a:cubicBezTo>
                  <a:pt x="224" y="400"/>
                  <a:pt x="259" y="397"/>
                  <a:pt x="293" y="391"/>
                </a:cubicBezTo>
                <a:cubicBezTo>
                  <a:pt x="336" y="383"/>
                  <a:pt x="369" y="353"/>
                  <a:pt x="411" y="339"/>
                </a:cubicBezTo>
                <a:cubicBezTo>
                  <a:pt x="480" y="235"/>
                  <a:pt x="389" y="361"/>
                  <a:pt x="476" y="274"/>
                </a:cubicBezTo>
                <a:cubicBezTo>
                  <a:pt x="539" y="211"/>
                  <a:pt x="469" y="252"/>
                  <a:pt x="528" y="2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40240" y="3292560"/>
            <a:ext cx="642960" cy="620640"/>
          </a:xfrm>
          <a:custGeom>
            <a:avLst/>
            <a:gdLst/>
            <a:ahLst/>
            <a:rect l="l" t="t" r="r" b="b"/>
            <a:pathLst>
              <a:path w="405" h="391">
                <a:moveTo>
                  <a:pt x="0" y="170"/>
                </a:moveTo>
                <a:cubicBezTo>
                  <a:pt x="17" y="222"/>
                  <a:pt x="35" y="274"/>
                  <a:pt x="52" y="326"/>
                </a:cubicBezTo>
                <a:cubicBezTo>
                  <a:pt x="56" y="339"/>
                  <a:pt x="54" y="357"/>
                  <a:pt x="65" y="365"/>
                </a:cubicBezTo>
                <a:cubicBezTo>
                  <a:pt x="78" y="374"/>
                  <a:pt x="91" y="382"/>
                  <a:pt x="104" y="391"/>
                </a:cubicBezTo>
                <a:cubicBezTo>
                  <a:pt x="152" y="387"/>
                  <a:pt x="201" y="386"/>
                  <a:pt x="248" y="378"/>
                </a:cubicBezTo>
                <a:cubicBezTo>
                  <a:pt x="275" y="373"/>
                  <a:pt x="326" y="352"/>
                  <a:pt x="326" y="352"/>
                </a:cubicBezTo>
                <a:cubicBezTo>
                  <a:pt x="350" y="279"/>
                  <a:pt x="367" y="204"/>
                  <a:pt x="391" y="131"/>
                </a:cubicBezTo>
                <a:cubicBezTo>
                  <a:pt x="405" y="90"/>
                  <a:pt x="391" y="44"/>
                  <a:pt x="39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9F5-9684-4B2C-A00C-DD99041A38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188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257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75000" y="2278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4680" y="2092320"/>
            <a:ext cx="2789280" cy="3622680"/>
          </a:xfrm>
          <a:custGeom>
            <a:avLst/>
            <a:gdLst/>
            <a:ahLst/>
            <a:rect l="l" t="t" r="r" b="b"/>
            <a:pathLst>
              <a:path w="1757" h="2282">
                <a:moveTo>
                  <a:pt x="22" y="2282"/>
                </a:moveTo>
                <a:cubicBezTo>
                  <a:pt x="8" y="2103"/>
                  <a:pt x="0" y="2105"/>
                  <a:pt x="22" y="1917"/>
                </a:cubicBezTo>
                <a:cubicBezTo>
                  <a:pt x="24" y="1903"/>
                  <a:pt x="25" y="1886"/>
                  <a:pt x="36" y="1878"/>
                </a:cubicBezTo>
                <a:cubicBezTo>
                  <a:pt x="58" y="1862"/>
                  <a:pt x="114" y="1852"/>
                  <a:pt x="114" y="1852"/>
                </a:cubicBezTo>
                <a:cubicBezTo>
                  <a:pt x="238" y="1870"/>
                  <a:pt x="253" y="1878"/>
                  <a:pt x="388" y="1865"/>
                </a:cubicBezTo>
                <a:cubicBezTo>
                  <a:pt x="401" y="1852"/>
                  <a:pt x="416" y="1841"/>
                  <a:pt x="427" y="1826"/>
                </a:cubicBezTo>
                <a:cubicBezTo>
                  <a:pt x="446" y="1801"/>
                  <a:pt x="479" y="1748"/>
                  <a:pt x="479" y="1748"/>
                </a:cubicBezTo>
                <a:cubicBezTo>
                  <a:pt x="463" y="1616"/>
                  <a:pt x="477" y="1676"/>
                  <a:pt x="440" y="1565"/>
                </a:cubicBezTo>
                <a:cubicBezTo>
                  <a:pt x="435" y="1550"/>
                  <a:pt x="420" y="1540"/>
                  <a:pt x="414" y="1526"/>
                </a:cubicBezTo>
                <a:cubicBezTo>
                  <a:pt x="403" y="1501"/>
                  <a:pt x="388" y="1447"/>
                  <a:pt x="388" y="1447"/>
                </a:cubicBezTo>
                <a:cubicBezTo>
                  <a:pt x="384" y="1299"/>
                  <a:pt x="383" y="1152"/>
                  <a:pt x="375" y="1004"/>
                </a:cubicBezTo>
                <a:cubicBezTo>
                  <a:pt x="372" y="937"/>
                  <a:pt x="329" y="895"/>
                  <a:pt x="375" y="821"/>
                </a:cubicBezTo>
                <a:cubicBezTo>
                  <a:pt x="397" y="786"/>
                  <a:pt x="453" y="795"/>
                  <a:pt x="492" y="782"/>
                </a:cubicBezTo>
                <a:cubicBezTo>
                  <a:pt x="636" y="734"/>
                  <a:pt x="823" y="743"/>
                  <a:pt x="974" y="730"/>
                </a:cubicBezTo>
                <a:cubicBezTo>
                  <a:pt x="1098" y="705"/>
                  <a:pt x="1219" y="675"/>
                  <a:pt x="1340" y="639"/>
                </a:cubicBezTo>
                <a:cubicBezTo>
                  <a:pt x="1366" y="631"/>
                  <a:pt x="1395" y="628"/>
                  <a:pt x="1418" y="613"/>
                </a:cubicBezTo>
                <a:cubicBezTo>
                  <a:pt x="1431" y="604"/>
                  <a:pt x="1443" y="593"/>
                  <a:pt x="1457" y="587"/>
                </a:cubicBezTo>
                <a:cubicBezTo>
                  <a:pt x="1482" y="576"/>
                  <a:pt x="1509" y="569"/>
                  <a:pt x="1535" y="560"/>
                </a:cubicBezTo>
                <a:cubicBezTo>
                  <a:pt x="1548" y="556"/>
                  <a:pt x="1574" y="547"/>
                  <a:pt x="1574" y="547"/>
                </a:cubicBezTo>
                <a:cubicBezTo>
                  <a:pt x="1681" y="471"/>
                  <a:pt x="1639" y="509"/>
                  <a:pt x="1705" y="443"/>
                </a:cubicBezTo>
                <a:cubicBezTo>
                  <a:pt x="1742" y="333"/>
                  <a:pt x="1710" y="440"/>
                  <a:pt x="1731" y="195"/>
                </a:cubicBezTo>
                <a:cubicBezTo>
                  <a:pt x="1737" y="130"/>
                  <a:pt x="1757" y="66"/>
                  <a:pt x="1757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98840"/>
            <a:ext cx="2198520" cy="560520"/>
          </a:xfrm>
          <a:custGeom>
            <a:avLst/>
            <a:gdLst/>
            <a:ahLst/>
            <a:rect l="l" t="t" r="r" b="b"/>
            <a:pathLst>
              <a:path w="1385" h="353">
                <a:moveTo>
                  <a:pt x="2" y="353"/>
                </a:moveTo>
                <a:cubicBezTo>
                  <a:pt x="23" y="290"/>
                  <a:pt x="0" y="332"/>
                  <a:pt x="54" y="288"/>
                </a:cubicBezTo>
                <a:cubicBezTo>
                  <a:pt x="185" y="181"/>
                  <a:pt x="274" y="184"/>
                  <a:pt x="446" y="170"/>
                </a:cubicBezTo>
                <a:cubicBezTo>
                  <a:pt x="650" y="102"/>
                  <a:pt x="828" y="78"/>
                  <a:pt x="1045" y="66"/>
                </a:cubicBezTo>
                <a:cubicBezTo>
                  <a:pt x="1141" y="42"/>
                  <a:pt x="1234" y="25"/>
                  <a:pt x="1332" y="14"/>
                </a:cubicBezTo>
                <a:cubicBezTo>
                  <a:pt x="1376" y="0"/>
                  <a:pt x="1358" y="1"/>
                  <a:pt x="1385" y="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1800" y="1846440"/>
            <a:ext cx="7565760" cy="1425240"/>
          </a:xfrm>
          <a:custGeom>
            <a:avLst/>
            <a:gdLst/>
            <a:ahLst/>
            <a:rect l="l" t="t" r="r" b="b"/>
            <a:pathLst>
              <a:path w="4766" h="898">
                <a:moveTo>
                  <a:pt x="45" y="37"/>
                </a:moveTo>
                <a:cubicBezTo>
                  <a:pt x="148" y="105"/>
                  <a:pt x="0" y="0"/>
                  <a:pt x="136" y="141"/>
                </a:cubicBezTo>
                <a:cubicBezTo>
                  <a:pt x="189" y="196"/>
                  <a:pt x="244" y="234"/>
                  <a:pt x="293" y="298"/>
                </a:cubicBezTo>
                <a:cubicBezTo>
                  <a:pt x="349" y="370"/>
                  <a:pt x="385" y="455"/>
                  <a:pt x="462" y="507"/>
                </a:cubicBezTo>
                <a:cubicBezTo>
                  <a:pt x="492" y="552"/>
                  <a:pt x="522" y="559"/>
                  <a:pt x="554" y="598"/>
                </a:cubicBezTo>
                <a:cubicBezTo>
                  <a:pt x="594" y="647"/>
                  <a:pt x="623" y="708"/>
                  <a:pt x="684" y="728"/>
                </a:cubicBezTo>
                <a:cubicBezTo>
                  <a:pt x="857" y="847"/>
                  <a:pt x="976" y="812"/>
                  <a:pt x="1219" y="820"/>
                </a:cubicBezTo>
                <a:cubicBezTo>
                  <a:pt x="1307" y="838"/>
                  <a:pt x="1405" y="882"/>
                  <a:pt x="1493" y="885"/>
                </a:cubicBezTo>
                <a:cubicBezTo>
                  <a:pt x="1736" y="893"/>
                  <a:pt x="1980" y="894"/>
                  <a:pt x="2223" y="898"/>
                </a:cubicBezTo>
                <a:cubicBezTo>
                  <a:pt x="2319" y="894"/>
                  <a:pt x="2415" y="892"/>
                  <a:pt x="2510" y="885"/>
                </a:cubicBezTo>
                <a:cubicBezTo>
                  <a:pt x="2586" y="879"/>
                  <a:pt x="2690" y="833"/>
                  <a:pt x="2771" y="820"/>
                </a:cubicBezTo>
                <a:cubicBezTo>
                  <a:pt x="2945" y="762"/>
                  <a:pt x="3128" y="733"/>
                  <a:pt x="3305" y="689"/>
                </a:cubicBezTo>
                <a:cubicBezTo>
                  <a:pt x="3461" y="650"/>
                  <a:pt x="3608" y="572"/>
                  <a:pt x="3762" y="533"/>
                </a:cubicBezTo>
                <a:cubicBezTo>
                  <a:pt x="3847" y="476"/>
                  <a:pt x="3961" y="456"/>
                  <a:pt x="4062" y="442"/>
                </a:cubicBezTo>
                <a:cubicBezTo>
                  <a:pt x="4178" y="401"/>
                  <a:pt x="4308" y="384"/>
                  <a:pt x="4427" y="350"/>
                </a:cubicBezTo>
                <a:cubicBezTo>
                  <a:pt x="4565" y="311"/>
                  <a:pt x="4372" y="373"/>
                  <a:pt x="4557" y="311"/>
                </a:cubicBezTo>
                <a:cubicBezTo>
                  <a:pt x="4570" y="307"/>
                  <a:pt x="4583" y="302"/>
                  <a:pt x="4596" y="298"/>
                </a:cubicBezTo>
                <a:cubicBezTo>
                  <a:pt x="4609" y="294"/>
                  <a:pt x="4636" y="285"/>
                  <a:pt x="4636" y="285"/>
                </a:cubicBezTo>
                <a:cubicBezTo>
                  <a:pt x="4662" y="268"/>
                  <a:pt x="4688" y="250"/>
                  <a:pt x="4714" y="233"/>
                </a:cubicBezTo>
                <a:cubicBezTo>
                  <a:pt x="4725" y="225"/>
                  <a:pt x="4742" y="228"/>
                  <a:pt x="4753" y="220"/>
                </a:cubicBezTo>
                <a:cubicBezTo>
                  <a:pt x="4761" y="214"/>
                  <a:pt x="4762" y="203"/>
                  <a:pt x="4766" y="19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69880" y="1573200"/>
            <a:ext cx="6231240" cy="3852720"/>
          </a:xfrm>
          <a:custGeom>
            <a:avLst/>
            <a:gdLst/>
            <a:ahLst/>
            <a:rect l="l" t="t" r="r" b="b"/>
            <a:pathLst>
              <a:path w="3925" h="2427">
                <a:moveTo>
                  <a:pt x="0" y="561"/>
                </a:moveTo>
                <a:cubicBezTo>
                  <a:pt x="83" y="557"/>
                  <a:pt x="166" y="557"/>
                  <a:pt x="248" y="548"/>
                </a:cubicBezTo>
                <a:cubicBezTo>
                  <a:pt x="284" y="544"/>
                  <a:pt x="352" y="522"/>
                  <a:pt x="352" y="522"/>
                </a:cubicBezTo>
                <a:cubicBezTo>
                  <a:pt x="412" y="482"/>
                  <a:pt x="480" y="467"/>
                  <a:pt x="548" y="444"/>
                </a:cubicBezTo>
                <a:cubicBezTo>
                  <a:pt x="656" y="408"/>
                  <a:pt x="766" y="376"/>
                  <a:pt x="874" y="340"/>
                </a:cubicBezTo>
                <a:cubicBezTo>
                  <a:pt x="926" y="323"/>
                  <a:pt x="978" y="304"/>
                  <a:pt x="1030" y="287"/>
                </a:cubicBezTo>
                <a:cubicBezTo>
                  <a:pt x="1043" y="283"/>
                  <a:pt x="1056" y="278"/>
                  <a:pt x="1069" y="274"/>
                </a:cubicBezTo>
                <a:cubicBezTo>
                  <a:pt x="1082" y="270"/>
                  <a:pt x="1108" y="261"/>
                  <a:pt x="1108" y="261"/>
                </a:cubicBezTo>
                <a:cubicBezTo>
                  <a:pt x="1394" y="275"/>
                  <a:pt x="1287" y="247"/>
                  <a:pt x="1448" y="300"/>
                </a:cubicBezTo>
                <a:cubicBezTo>
                  <a:pt x="1493" y="315"/>
                  <a:pt x="1524" y="335"/>
                  <a:pt x="1565" y="353"/>
                </a:cubicBezTo>
                <a:cubicBezTo>
                  <a:pt x="1590" y="364"/>
                  <a:pt x="1643" y="379"/>
                  <a:pt x="1643" y="379"/>
                </a:cubicBezTo>
                <a:cubicBezTo>
                  <a:pt x="1717" y="375"/>
                  <a:pt x="1791" y="376"/>
                  <a:pt x="1865" y="366"/>
                </a:cubicBezTo>
                <a:cubicBezTo>
                  <a:pt x="1892" y="362"/>
                  <a:pt x="1943" y="340"/>
                  <a:pt x="1943" y="340"/>
                </a:cubicBezTo>
                <a:cubicBezTo>
                  <a:pt x="1991" y="290"/>
                  <a:pt x="1959" y="320"/>
                  <a:pt x="2047" y="261"/>
                </a:cubicBezTo>
                <a:cubicBezTo>
                  <a:pt x="2087" y="234"/>
                  <a:pt x="2093" y="193"/>
                  <a:pt x="2139" y="170"/>
                </a:cubicBezTo>
                <a:cubicBezTo>
                  <a:pt x="2151" y="164"/>
                  <a:pt x="2166" y="164"/>
                  <a:pt x="2178" y="157"/>
                </a:cubicBezTo>
                <a:cubicBezTo>
                  <a:pt x="2205" y="142"/>
                  <a:pt x="2256" y="105"/>
                  <a:pt x="2256" y="105"/>
                </a:cubicBezTo>
                <a:cubicBezTo>
                  <a:pt x="2288" y="57"/>
                  <a:pt x="2332" y="18"/>
                  <a:pt x="2387" y="0"/>
                </a:cubicBezTo>
                <a:cubicBezTo>
                  <a:pt x="2435" y="12"/>
                  <a:pt x="2482" y="27"/>
                  <a:pt x="2530" y="40"/>
                </a:cubicBezTo>
                <a:cubicBezTo>
                  <a:pt x="2584" y="76"/>
                  <a:pt x="2639" y="85"/>
                  <a:pt x="2700" y="105"/>
                </a:cubicBezTo>
                <a:cubicBezTo>
                  <a:pt x="2768" y="150"/>
                  <a:pt x="2836" y="186"/>
                  <a:pt x="2908" y="222"/>
                </a:cubicBezTo>
                <a:cubicBezTo>
                  <a:pt x="2920" y="228"/>
                  <a:pt x="2935" y="228"/>
                  <a:pt x="2947" y="235"/>
                </a:cubicBezTo>
                <a:cubicBezTo>
                  <a:pt x="3007" y="268"/>
                  <a:pt x="3065" y="331"/>
                  <a:pt x="3130" y="353"/>
                </a:cubicBezTo>
                <a:cubicBezTo>
                  <a:pt x="3152" y="370"/>
                  <a:pt x="3171" y="390"/>
                  <a:pt x="3195" y="405"/>
                </a:cubicBezTo>
                <a:cubicBezTo>
                  <a:pt x="3207" y="412"/>
                  <a:pt x="3222" y="411"/>
                  <a:pt x="3234" y="418"/>
                </a:cubicBezTo>
                <a:cubicBezTo>
                  <a:pt x="3367" y="492"/>
                  <a:pt x="3263" y="454"/>
                  <a:pt x="3352" y="483"/>
                </a:cubicBezTo>
                <a:cubicBezTo>
                  <a:pt x="3393" y="511"/>
                  <a:pt x="3471" y="549"/>
                  <a:pt x="3508" y="587"/>
                </a:cubicBezTo>
                <a:cubicBezTo>
                  <a:pt x="3543" y="622"/>
                  <a:pt x="3571" y="665"/>
                  <a:pt x="3612" y="692"/>
                </a:cubicBezTo>
                <a:cubicBezTo>
                  <a:pt x="3638" y="709"/>
                  <a:pt x="3669" y="722"/>
                  <a:pt x="3691" y="744"/>
                </a:cubicBezTo>
                <a:cubicBezTo>
                  <a:pt x="3717" y="770"/>
                  <a:pt x="3749" y="791"/>
                  <a:pt x="3769" y="822"/>
                </a:cubicBezTo>
                <a:cubicBezTo>
                  <a:pt x="3786" y="848"/>
                  <a:pt x="3821" y="900"/>
                  <a:pt x="3821" y="900"/>
                </a:cubicBezTo>
                <a:cubicBezTo>
                  <a:pt x="3853" y="998"/>
                  <a:pt x="3863" y="1082"/>
                  <a:pt x="3873" y="1187"/>
                </a:cubicBezTo>
                <a:cubicBezTo>
                  <a:pt x="3877" y="1570"/>
                  <a:pt x="3874" y="1953"/>
                  <a:pt x="3886" y="2335"/>
                </a:cubicBezTo>
                <a:cubicBezTo>
                  <a:pt x="3888" y="2394"/>
                  <a:pt x="3898" y="2400"/>
                  <a:pt x="3925" y="24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45120" y="1573200"/>
            <a:ext cx="3476520" cy="3790800"/>
          </a:xfrm>
          <a:custGeom>
            <a:avLst/>
            <a:gdLst/>
            <a:ahLst/>
            <a:rect l="l" t="t" r="r" b="b"/>
            <a:pathLst>
              <a:path w="2190" h="2388">
                <a:moveTo>
                  <a:pt x="0" y="0"/>
                </a:moveTo>
                <a:cubicBezTo>
                  <a:pt x="52" y="79"/>
                  <a:pt x="91" y="158"/>
                  <a:pt x="143" y="235"/>
                </a:cubicBezTo>
                <a:cubicBezTo>
                  <a:pt x="166" y="269"/>
                  <a:pt x="208" y="314"/>
                  <a:pt x="221" y="353"/>
                </a:cubicBezTo>
                <a:cubicBezTo>
                  <a:pt x="230" y="379"/>
                  <a:pt x="232" y="408"/>
                  <a:pt x="247" y="431"/>
                </a:cubicBezTo>
                <a:cubicBezTo>
                  <a:pt x="256" y="444"/>
                  <a:pt x="267" y="456"/>
                  <a:pt x="273" y="470"/>
                </a:cubicBezTo>
                <a:cubicBezTo>
                  <a:pt x="290" y="508"/>
                  <a:pt x="291" y="552"/>
                  <a:pt x="313" y="587"/>
                </a:cubicBezTo>
                <a:cubicBezTo>
                  <a:pt x="345" y="637"/>
                  <a:pt x="363" y="693"/>
                  <a:pt x="391" y="744"/>
                </a:cubicBezTo>
                <a:cubicBezTo>
                  <a:pt x="433" y="820"/>
                  <a:pt x="495" y="873"/>
                  <a:pt x="547" y="940"/>
                </a:cubicBezTo>
                <a:cubicBezTo>
                  <a:pt x="616" y="1029"/>
                  <a:pt x="677" y="1120"/>
                  <a:pt x="756" y="1201"/>
                </a:cubicBezTo>
                <a:cubicBezTo>
                  <a:pt x="780" y="1273"/>
                  <a:pt x="816" y="1300"/>
                  <a:pt x="873" y="1357"/>
                </a:cubicBezTo>
                <a:cubicBezTo>
                  <a:pt x="941" y="1425"/>
                  <a:pt x="1009" y="1492"/>
                  <a:pt x="1082" y="1553"/>
                </a:cubicBezTo>
                <a:cubicBezTo>
                  <a:pt x="1094" y="1563"/>
                  <a:pt x="1107" y="1571"/>
                  <a:pt x="1121" y="1579"/>
                </a:cubicBezTo>
                <a:cubicBezTo>
                  <a:pt x="1138" y="1589"/>
                  <a:pt x="1158" y="1593"/>
                  <a:pt x="1173" y="1605"/>
                </a:cubicBezTo>
                <a:cubicBezTo>
                  <a:pt x="1327" y="1728"/>
                  <a:pt x="1186" y="1644"/>
                  <a:pt x="1304" y="1722"/>
                </a:cubicBezTo>
                <a:cubicBezTo>
                  <a:pt x="1383" y="1774"/>
                  <a:pt x="1461" y="1825"/>
                  <a:pt x="1538" y="1879"/>
                </a:cubicBezTo>
                <a:cubicBezTo>
                  <a:pt x="1564" y="1897"/>
                  <a:pt x="1617" y="1931"/>
                  <a:pt x="1617" y="1931"/>
                </a:cubicBezTo>
                <a:cubicBezTo>
                  <a:pt x="1652" y="1984"/>
                  <a:pt x="1635" y="1967"/>
                  <a:pt x="1695" y="2009"/>
                </a:cubicBezTo>
                <a:cubicBezTo>
                  <a:pt x="1721" y="2027"/>
                  <a:pt x="1773" y="2061"/>
                  <a:pt x="1773" y="2061"/>
                </a:cubicBezTo>
                <a:cubicBezTo>
                  <a:pt x="1815" y="2125"/>
                  <a:pt x="1895" y="2193"/>
                  <a:pt x="1969" y="2218"/>
                </a:cubicBezTo>
                <a:cubicBezTo>
                  <a:pt x="2020" y="2269"/>
                  <a:pt x="2075" y="2303"/>
                  <a:pt x="2138" y="2335"/>
                </a:cubicBezTo>
                <a:cubicBezTo>
                  <a:pt x="2173" y="2371"/>
                  <a:pt x="2155" y="2353"/>
                  <a:pt x="2190" y="23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4920" y="2733840"/>
            <a:ext cx="689040" cy="496800"/>
          </a:xfrm>
          <a:custGeom>
            <a:avLst/>
            <a:gdLst/>
            <a:ahLst/>
            <a:rect l="l" t="t" r="r" b="b"/>
            <a:pathLst>
              <a:path w="434" h="313">
                <a:moveTo>
                  <a:pt x="4" y="0"/>
                </a:moveTo>
                <a:cubicBezTo>
                  <a:pt x="13" y="122"/>
                  <a:pt x="0" y="241"/>
                  <a:pt x="108" y="313"/>
                </a:cubicBezTo>
                <a:cubicBezTo>
                  <a:pt x="164" y="309"/>
                  <a:pt x="221" y="307"/>
                  <a:pt x="277" y="300"/>
                </a:cubicBezTo>
                <a:cubicBezTo>
                  <a:pt x="291" y="298"/>
                  <a:pt x="307" y="297"/>
                  <a:pt x="317" y="287"/>
                </a:cubicBezTo>
                <a:cubicBezTo>
                  <a:pt x="339" y="265"/>
                  <a:pt x="352" y="235"/>
                  <a:pt x="369" y="209"/>
                </a:cubicBezTo>
                <a:cubicBezTo>
                  <a:pt x="379" y="194"/>
                  <a:pt x="396" y="183"/>
                  <a:pt x="408" y="169"/>
                </a:cubicBezTo>
                <a:cubicBezTo>
                  <a:pt x="418" y="157"/>
                  <a:pt x="434" y="130"/>
                  <a:pt x="434" y="1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19051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133720"/>
            <a:ext cx="2490840" cy="3276360"/>
          </a:xfrm>
          <a:custGeom>
            <a:avLst/>
            <a:gdLst/>
            <a:ahLst/>
            <a:rect l="l" t="t" r="r" b="b"/>
            <a:pathLst>
              <a:path w="1569" h="2064">
                <a:moveTo>
                  <a:pt x="1569" y="1108"/>
                </a:moveTo>
                <a:cubicBezTo>
                  <a:pt x="1539" y="1197"/>
                  <a:pt x="1520" y="1275"/>
                  <a:pt x="1438" y="1330"/>
                </a:cubicBezTo>
                <a:cubicBezTo>
                  <a:pt x="1420" y="1384"/>
                  <a:pt x="1403" y="1399"/>
                  <a:pt x="1360" y="1434"/>
                </a:cubicBezTo>
                <a:cubicBezTo>
                  <a:pt x="1198" y="1566"/>
                  <a:pt x="1112" y="1529"/>
                  <a:pt x="864" y="1539"/>
                </a:cubicBezTo>
                <a:cubicBezTo>
                  <a:pt x="851" y="1543"/>
                  <a:pt x="835" y="1542"/>
                  <a:pt x="825" y="1552"/>
                </a:cubicBezTo>
                <a:cubicBezTo>
                  <a:pt x="815" y="1562"/>
                  <a:pt x="818" y="1579"/>
                  <a:pt x="812" y="1591"/>
                </a:cubicBezTo>
                <a:cubicBezTo>
                  <a:pt x="805" y="1605"/>
                  <a:pt x="793" y="1616"/>
                  <a:pt x="786" y="1630"/>
                </a:cubicBezTo>
                <a:cubicBezTo>
                  <a:pt x="766" y="1670"/>
                  <a:pt x="761" y="1719"/>
                  <a:pt x="747" y="1761"/>
                </a:cubicBezTo>
                <a:cubicBezTo>
                  <a:pt x="743" y="1791"/>
                  <a:pt x="734" y="1937"/>
                  <a:pt x="708" y="1969"/>
                </a:cubicBezTo>
                <a:cubicBezTo>
                  <a:pt x="698" y="1981"/>
                  <a:pt x="681" y="1985"/>
                  <a:pt x="669" y="1995"/>
                </a:cubicBezTo>
                <a:cubicBezTo>
                  <a:pt x="659" y="2003"/>
                  <a:pt x="654" y="2016"/>
                  <a:pt x="643" y="2022"/>
                </a:cubicBezTo>
                <a:cubicBezTo>
                  <a:pt x="618" y="2034"/>
                  <a:pt x="564" y="2048"/>
                  <a:pt x="564" y="2048"/>
                </a:cubicBezTo>
                <a:cubicBezTo>
                  <a:pt x="403" y="2044"/>
                  <a:pt x="240" y="2064"/>
                  <a:pt x="82" y="2035"/>
                </a:cubicBezTo>
                <a:cubicBezTo>
                  <a:pt x="55" y="2030"/>
                  <a:pt x="56" y="1956"/>
                  <a:pt x="56" y="1956"/>
                </a:cubicBezTo>
                <a:cubicBezTo>
                  <a:pt x="56" y="1956"/>
                  <a:pt x="0" y="1311"/>
                  <a:pt x="108" y="1095"/>
                </a:cubicBezTo>
                <a:cubicBezTo>
                  <a:pt x="153" y="1004"/>
                  <a:pt x="193" y="919"/>
                  <a:pt x="225" y="821"/>
                </a:cubicBezTo>
                <a:cubicBezTo>
                  <a:pt x="238" y="782"/>
                  <a:pt x="251" y="743"/>
                  <a:pt x="264" y="704"/>
                </a:cubicBezTo>
                <a:cubicBezTo>
                  <a:pt x="268" y="691"/>
                  <a:pt x="277" y="665"/>
                  <a:pt x="277" y="665"/>
                </a:cubicBezTo>
                <a:cubicBezTo>
                  <a:pt x="287" y="565"/>
                  <a:pt x="288" y="464"/>
                  <a:pt x="304" y="365"/>
                </a:cubicBezTo>
                <a:cubicBezTo>
                  <a:pt x="309" y="332"/>
                  <a:pt x="322" y="281"/>
                  <a:pt x="356" y="260"/>
                </a:cubicBezTo>
                <a:cubicBezTo>
                  <a:pt x="368" y="253"/>
                  <a:pt x="383" y="254"/>
                  <a:pt x="395" y="247"/>
                </a:cubicBezTo>
                <a:cubicBezTo>
                  <a:pt x="463" y="209"/>
                  <a:pt x="520" y="161"/>
                  <a:pt x="590" y="130"/>
                </a:cubicBezTo>
                <a:cubicBezTo>
                  <a:pt x="615" y="119"/>
                  <a:pt x="646" y="119"/>
                  <a:pt x="669" y="104"/>
                </a:cubicBezTo>
                <a:cubicBezTo>
                  <a:pt x="707" y="78"/>
                  <a:pt x="750" y="69"/>
                  <a:pt x="786" y="39"/>
                </a:cubicBezTo>
                <a:cubicBezTo>
                  <a:pt x="800" y="27"/>
                  <a:pt x="825" y="0"/>
                  <a:pt x="82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68840" y="3271680"/>
            <a:ext cx="855720" cy="641520"/>
          </a:xfrm>
          <a:custGeom>
            <a:avLst/>
            <a:gdLst/>
            <a:ahLst/>
            <a:rect l="l" t="t" r="r" b="b"/>
            <a:pathLst>
              <a:path w="539" h="404">
                <a:moveTo>
                  <a:pt x="59" y="0"/>
                </a:moveTo>
                <a:cubicBezTo>
                  <a:pt x="68" y="214"/>
                  <a:pt x="0" y="341"/>
                  <a:pt x="189" y="404"/>
                </a:cubicBezTo>
                <a:cubicBezTo>
                  <a:pt x="224" y="400"/>
                  <a:pt x="259" y="397"/>
                  <a:pt x="293" y="391"/>
                </a:cubicBezTo>
                <a:cubicBezTo>
                  <a:pt x="336" y="383"/>
                  <a:pt x="369" y="353"/>
                  <a:pt x="411" y="339"/>
                </a:cubicBezTo>
                <a:cubicBezTo>
                  <a:pt x="480" y="235"/>
                  <a:pt x="389" y="361"/>
                  <a:pt x="476" y="274"/>
                </a:cubicBezTo>
                <a:cubicBezTo>
                  <a:pt x="539" y="211"/>
                  <a:pt x="469" y="252"/>
                  <a:pt x="528" y="2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40240" y="3292560"/>
            <a:ext cx="642960" cy="620640"/>
          </a:xfrm>
          <a:custGeom>
            <a:avLst/>
            <a:gdLst/>
            <a:ahLst/>
            <a:rect l="l" t="t" r="r" b="b"/>
            <a:pathLst>
              <a:path w="405" h="391">
                <a:moveTo>
                  <a:pt x="0" y="170"/>
                </a:moveTo>
                <a:cubicBezTo>
                  <a:pt x="17" y="222"/>
                  <a:pt x="35" y="274"/>
                  <a:pt x="52" y="326"/>
                </a:cubicBezTo>
                <a:cubicBezTo>
                  <a:pt x="56" y="339"/>
                  <a:pt x="54" y="357"/>
                  <a:pt x="65" y="365"/>
                </a:cubicBezTo>
                <a:cubicBezTo>
                  <a:pt x="78" y="374"/>
                  <a:pt x="91" y="382"/>
                  <a:pt x="104" y="391"/>
                </a:cubicBezTo>
                <a:cubicBezTo>
                  <a:pt x="152" y="387"/>
                  <a:pt x="201" y="386"/>
                  <a:pt x="248" y="378"/>
                </a:cubicBezTo>
                <a:cubicBezTo>
                  <a:pt x="275" y="373"/>
                  <a:pt x="326" y="352"/>
                  <a:pt x="326" y="352"/>
                </a:cubicBezTo>
                <a:cubicBezTo>
                  <a:pt x="350" y="279"/>
                  <a:pt x="367" y="204"/>
                  <a:pt x="391" y="131"/>
                </a:cubicBezTo>
                <a:cubicBezTo>
                  <a:pt x="405" y="90"/>
                  <a:pt x="391" y="44"/>
                  <a:pt x="39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16520" y="1739880"/>
            <a:ext cx="3933720" cy="3747960"/>
          </a:xfrm>
          <a:custGeom>
            <a:avLst/>
            <a:gdLst/>
            <a:ahLst/>
            <a:rect l="l" t="t" r="r" b="b"/>
            <a:pathLst>
              <a:path w="2478" h="2361">
                <a:moveTo>
                  <a:pt x="0" y="0"/>
                </a:moveTo>
                <a:cubicBezTo>
                  <a:pt x="28" y="111"/>
                  <a:pt x="41" y="165"/>
                  <a:pt x="104" y="261"/>
                </a:cubicBezTo>
                <a:cubicBezTo>
                  <a:pt x="134" y="307"/>
                  <a:pt x="135" y="333"/>
                  <a:pt x="183" y="365"/>
                </a:cubicBezTo>
                <a:cubicBezTo>
                  <a:pt x="208" y="441"/>
                  <a:pt x="272" y="529"/>
                  <a:pt x="339" y="574"/>
                </a:cubicBezTo>
                <a:cubicBezTo>
                  <a:pt x="362" y="642"/>
                  <a:pt x="409" y="645"/>
                  <a:pt x="457" y="691"/>
                </a:cubicBezTo>
                <a:cubicBezTo>
                  <a:pt x="475" y="746"/>
                  <a:pt x="503" y="747"/>
                  <a:pt x="535" y="795"/>
                </a:cubicBezTo>
                <a:cubicBezTo>
                  <a:pt x="558" y="865"/>
                  <a:pt x="540" y="823"/>
                  <a:pt x="600" y="913"/>
                </a:cubicBezTo>
                <a:cubicBezTo>
                  <a:pt x="615" y="936"/>
                  <a:pt x="617" y="965"/>
                  <a:pt x="626" y="991"/>
                </a:cubicBezTo>
                <a:cubicBezTo>
                  <a:pt x="641" y="1037"/>
                  <a:pt x="657" y="1067"/>
                  <a:pt x="678" y="1109"/>
                </a:cubicBezTo>
                <a:cubicBezTo>
                  <a:pt x="684" y="1121"/>
                  <a:pt x="682" y="1137"/>
                  <a:pt x="691" y="1148"/>
                </a:cubicBezTo>
                <a:cubicBezTo>
                  <a:pt x="701" y="1160"/>
                  <a:pt x="719" y="1163"/>
                  <a:pt x="730" y="1174"/>
                </a:cubicBezTo>
                <a:cubicBezTo>
                  <a:pt x="746" y="1189"/>
                  <a:pt x="757" y="1208"/>
                  <a:pt x="770" y="1226"/>
                </a:cubicBezTo>
                <a:cubicBezTo>
                  <a:pt x="894" y="1402"/>
                  <a:pt x="764" y="1244"/>
                  <a:pt x="861" y="1330"/>
                </a:cubicBezTo>
                <a:cubicBezTo>
                  <a:pt x="953" y="1412"/>
                  <a:pt x="889" y="1384"/>
                  <a:pt x="965" y="1409"/>
                </a:cubicBezTo>
                <a:cubicBezTo>
                  <a:pt x="1031" y="1458"/>
                  <a:pt x="1105" y="1493"/>
                  <a:pt x="1174" y="1539"/>
                </a:cubicBezTo>
                <a:cubicBezTo>
                  <a:pt x="1187" y="1548"/>
                  <a:pt x="1200" y="1556"/>
                  <a:pt x="1213" y="1565"/>
                </a:cubicBezTo>
                <a:cubicBezTo>
                  <a:pt x="1226" y="1574"/>
                  <a:pt x="1252" y="1591"/>
                  <a:pt x="1252" y="1591"/>
                </a:cubicBezTo>
                <a:cubicBezTo>
                  <a:pt x="1297" y="1658"/>
                  <a:pt x="1256" y="1606"/>
                  <a:pt x="1330" y="1669"/>
                </a:cubicBezTo>
                <a:cubicBezTo>
                  <a:pt x="1340" y="1677"/>
                  <a:pt x="1348" y="1686"/>
                  <a:pt x="1356" y="1696"/>
                </a:cubicBezTo>
                <a:cubicBezTo>
                  <a:pt x="1366" y="1708"/>
                  <a:pt x="1370" y="1725"/>
                  <a:pt x="1382" y="1735"/>
                </a:cubicBezTo>
                <a:cubicBezTo>
                  <a:pt x="1406" y="1756"/>
                  <a:pt x="1435" y="1770"/>
                  <a:pt x="1461" y="1787"/>
                </a:cubicBezTo>
                <a:cubicBezTo>
                  <a:pt x="1476" y="1797"/>
                  <a:pt x="1486" y="1814"/>
                  <a:pt x="1500" y="1826"/>
                </a:cubicBezTo>
                <a:cubicBezTo>
                  <a:pt x="1539" y="1859"/>
                  <a:pt x="1586" y="1869"/>
                  <a:pt x="1630" y="1891"/>
                </a:cubicBezTo>
                <a:cubicBezTo>
                  <a:pt x="1731" y="1941"/>
                  <a:pt x="1610" y="1897"/>
                  <a:pt x="1708" y="1930"/>
                </a:cubicBezTo>
                <a:cubicBezTo>
                  <a:pt x="1776" y="1996"/>
                  <a:pt x="1843" y="2000"/>
                  <a:pt x="1930" y="2022"/>
                </a:cubicBezTo>
                <a:cubicBezTo>
                  <a:pt x="1957" y="2029"/>
                  <a:pt x="1982" y="2039"/>
                  <a:pt x="2008" y="2048"/>
                </a:cubicBezTo>
                <a:cubicBezTo>
                  <a:pt x="2021" y="2052"/>
                  <a:pt x="2048" y="2061"/>
                  <a:pt x="2048" y="2061"/>
                </a:cubicBezTo>
                <a:cubicBezTo>
                  <a:pt x="2061" y="2070"/>
                  <a:pt x="2073" y="2080"/>
                  <a:pt x="2087" y="2087"/>
                </a:cubicBezTo>
                <a:cubicBezTo>
                  <a:pt x="2099" y="2093"/>
                  <a:pt x="2114" y="2093"/>
                  <a:pt x="2126" y="2100"/>
                </a:cubicBezTo>
                <a:cubicBezTo>
                  <a:pt x="2184" y="2132"/>
                  <a:pt x="2221" y="2171"/>
                  <a:pt x="2282" y="2191"/>
                </a:cubicBezTo>
                <a:cubicBezTo>
                  <a:pt x="2284" y="2193"/>
                  <a:pt x="2357" y="2253"/>
                  <a:pt x="2361" y="2257"/>
                </a:cubicBezTo>
                <a:cubicBezTo>
                  <a:pt x="2372" y="2268"/>
                  <a:pt x="2375" y="2286"/>
                  <a:pt x="2387" y="2296"/>
                </a:cubicBezTo>
                <a:cubicBezTo>
                  <a:pt x="2411" y="2317"/>
                  <a:pt x="2443" y="2326"/>
                  <a:pt x="2465" y="2348"/>
                </a:cubicBezTo>
                <a:cubicBezTo>
                  <a:pt x="2469" y="2352"/>
                  <a:pt x="2474" y="2357"/>
                  <a:pt x="2478" y="236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2560" y="1987560"/>
            <a:ext cx="6686640" cy="1808280"/>
          </a:xfrm>
          <a:custGeom>
            <a:avLst/>
            <a:gdLst/>
            <a:ahLst/>
            <a:rect l="l" t="t" r="r" b="b"/>
            <a:pathLst>
              <a:path w="4212" h="1139">
                <a:moveTo>
                  <a:pt x="0" y="0"/>
                </a:moveTo>
                <a:cubicBezTo>
                  <a:pt x="2" y="9"/>
                  <a:pt x="12" y="96"/>
                  <a:pt x="26" y="118"/>
                </a:cubicBezTo>
                <a:cubicBezTo>
                  <a:pt x="36" y="133"/>
                  <a:pt x="53" y="143"/>
                  <a:pt x="65" y="157"/>
                </a:cubicBezTo>
                <a:cubicBezTo>
                  <a:pt x="100" y="199"/>
                  <a:pt x="123" y="230"/>
                  <a:pt x="169" y="261"/>
                </a:cubicBezTo>
                <a:cubicBezTo>
                  <a:pt x="190" y="324"/>
                  <a:pt x="172" y="290"/>
                  <a:pt x="235" y="353"/>
                </a:cubicBezTo>
                <a:cubicBezTo>
                  <a:pt x="297" y="415"/>
                  <a:pt x="293" y="494"/>
                  <a:pt x="378" y="522"/>
                </a:cubicBezTo>
                <a:cubicBezTo>
                  <a:pt x="447" y="626"/>
                  <a:pt x="356" y="500"/>
                  <a:pt x="443" y="587"/>
                </a:cubicBezTo>
                <a:cubicBezTo>
                  <a:pt x="454" y="598"/>
                  <a:pt x="459" y="614"/>
                  <a:pt x="469" y="626"/>
                </a:cubicBezTo>
                <a:cubicBezTo>
                  <a:pt x="535" y="705"/>
                  <a:pt x="481" y="632"/>
                  <a:pt x="548" y="692"/>
                </a:cubicBezTo>
                <a:cubicBezTo>
                  <a:pt x="682" y="811"/>
                  <a:pt x="576" y="737"/>
                  <a:pt x="665" y="796"/>
                </a:cubicBezTo>
                <a:cubicBezTo>
                  <a:pt x="681" y="820"/>
                  <a:pt x="704" y="859"/>
                  <a:pt x="730" y="874"/>
                </a:cubicBezTo>
                <a:cubicBezTo>
                  <a:pt x="754" y="887"/>
                  <a:pt x="808" y="900"/>
                  <a:pt x="808" y="900"/>
                </a:cubicBezTo>
                <a:cubicBezTo>
                  <a:pt x="930" y="1018"/>
                  <a:pt x="1266" y="988"/>
                  <a:pt x="1369" y="992"/>
                </a:cubicBezTo>
                <a:cubicBezTo>
                  <a:pt x="1499" y="1025"/>
                  <a:pt x="1641" y="1034"/>
                  <a:pt x="1774" y="1044"/>
                </a:cubicBezTo>
                <a:cubicBezTo>
                  <a:pt x="2036" y="1088"/>
                  <a:pt x="1647" y="1023"/>
                  <a:pt x="1943" y="1070"/>
                </a:cubicBezTo>
                <a:cubicBezTo>
                  <a:pt x="1995" y="1078"/>
                  <a:pt x="2100" y="1096"/>
                  <a:pt x="2100" y="1096"/>
                </a:cubicBezTo>
                <a:cubicBezTo>
                  <a:pt x="2230" y="1139"/>
                  <a:pt x="2370" y="1117"/>
                  <a:pt x="2504" y="1109"/>
                </a:cubicBezTo>
                <a:cubicBezTo>
                  <a:pt x="2624" y="1092"/>
                  <a:pt x="2564" y="1106"/>
                  <a:pt x="2673" y="1070"/>
                </a:cubicBezTo>
                <a:cubicBezTo>
                  <a:pt x="2686" y="1066"/>
                  <a:pt x="2713" y="1057"/>
                  <a:pt x="2713" y="1057"/>
                </a:cubicBezTo>
                <a:cubicBezTo>
                  <a:pt x="2838" y="974"/>
                  <a:pt x="2969" y="964"/>
                  <a:pt x="3117" y="953"/>
                </a:cubicBezTo>
                <a:cubicBezTo>
                  <a:pt x="3228" y="916"/>
                  <a:pt x="3332" y="872"/>
                  <a:pt x="3443" y="835"/>
                </a:cubicBezTo>
                <a:cubicBezTo>
                  <a:pt x="3501" y="816"/>
                  <a:pt x="3578" y="809"/>
                  <a:pt x="3638" y="796"/>
                </a:cubicBezTo>
                <a:cubicBezTo>
                  <a:pt x="3708" y="781"/>
                  <a:pt x="3778" y="761"/>
                  <a:pt x="3847" y="744"/>
                </a:cubicBezTo>
                <a:cubicBezTo>
                  <a:pt x="3874" y="737"/>
                  <a:pt x="3899" y="727"/>
                  <a:pt x="3925" y="718"/>
                </a:cubicBezTo>
                <a:cubicBezTo>
                  <a:pt x="3938" y="714"/>
                  <a:pt x="3965" y="705"/>
                  <a:pt x="3965" y="705"/>
                </a:cubicBezTo>
                <a:cubicBezTo>
                  <a:pt x="4007" y="677"/>
                  <a:pt x="4040" y="641"/>
                  <a:pt x="4082" y="613"/>
                </a:cubicBezTo>
                <a:cubicBezTo>
                  <a:pt x="4146" y="422"/>
                  <a:pt x="4212" y="200"/>
                  <a:pt x="4212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40240" y="1469880"/>
            <a:ext cx="604800" cy="3853080"/>
          </a:xfrm>
          <a:custGeom>
            <a:avLst/>
            <a:gdLst/>
            <a:ahLst/>
            <a:rect l="l" t="t" r="r" b="b"/>
            <a:pathLst>
              <a:path w="381" h="2427">
                <a:moveTo>
                  <a:pt x="326" y="2427"/>
                </a:moveTo>
                <a:cubicBezTo>
                  <a:pt x="381" y="2205"/>
                  <a:pt x="329" y="1994"/>
                  <a:pt x="261" y="1787"/>
                </a:cubicBezTo>
                <a:cubicBezTo>
                  <a:pt x="248" y="1749"/>
                  <a:pt x="239" y="1647"/>
                  <a:pt x="235" y="1618"/>
                </a:cubicBezTo>
                <a:cubicBezTo>
                  <a:pt x="225" y="1549"/>
                  <a:pt x="205" y="1488"/>
                  <a:pt x="183" y="1422"/>
                </a:cubicBezTo>
                <a:cubicBezTo>
                  <a:pt x="147" y="1313"/>
                  <a:pt x="89" y="1219"/>
                  <a:pt x="52" y="1109"/>
                </a:cubicBezTo>
                <a:cubicBezTo>
                  <a:pt x="39" y="1070"/>
                  <a:pt x="26" y="1031"/>
                  <a:pt x="13" y="992"/>
                </a:cubicBezTo>
                <a:cubicBezTo>
                  <a:pt x="9" y="979"/>
                  <a:pt x="0" y="952"/>
                  <a:pt x="0" y="952"/>
                </a:cubicBezTo>
                <a:cubicBezTo>
                  <a:pt x="4" y="748"/>
                  <a:pt x="1" y="543"/>
                  <a:pt x="13" y="339"/>
                </a:cubicBezTo>
                <a:cubicBezTo>
                  <a:pt x="20" y="213"/>
                  <a:pt x="179" y="82"/>
                  <a:pt x="261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30880" y="1387440"/>
            <a:ext cx="4222440" cy="1428840"/>
          </a:xfrm>
          <a:custGeom>
            <a:avLst/>
            <a:gdLst/>
            <a:ahLst/>
            <a:rect l="l" t="t" r="r" b="b"/>
            <a:pathLst>
              <a:path w="2660" h="900">
                <a:moveTo>
                  <a:pt x="0" y="0"/>
                </a:moveTo>
                <a:cubicBezTo>
                  <a:pt x="28" y="9"/>
                  <a:pt x="50" y="31"/>
                  <a:pt x="78" y="39"/>
                </a:cubicBezTo>
                <a:cubicBezTo>
                  <a:pt x="112" y="48"/>
                  <a:pt x="147" y="48"/>
                  <a:pt x="182" y="52"/>
                </a:cubicBezTo>
                <a:cubicBezTo>
                  <a:pt x="229" y="67"/>
                  <a:pt x="265" y="90"/>
                  <a:pt x="313" y="104"/>
                </a:cubicBezTo>
                <a:cubicBezTo>
                  <a:pt x="339" y="112"/>
                  <a:pt x="365" y="121"/>
                  <a:pt x="391" y="130"/>
                </a:cubicBezTo>
                <a:cubicBezTo>
                  <a:pt x="404" y="134"/>
                  <a:pt x="430" y="143"/>
                  <a:pt x="430" y="143"/>
                </a:cubicBezTo>
                <a:cubicBezTo>
                  <a:pt x="536" y="216"/>
                  <a:pt x="626" y="299"/>
                  <a:pt x="717" y="391"/>
                </a:cubicBezTo>
                <a:cubicBezTo>
                  <a:pt x="771" y="445"/>
                  <a:pt x="814" y="501"/>
                  <a:pt x="874" y="548"/>
                </a:cubicBezTo>
                <a:cubicBezTo>
                  <a:pt x="911" y="577"/>
                  <a:pt x="952" y="600"/>
                  <a:pt x="991" y="626"/>
                </a:cubicBezTo>
                <a:cubicBezTo>
                  <a:pt x="1006" y="636"/>
                  <a:pt x="1013" y="658"/>
                  <a:pt x="1030" y="665"/>
                </a:cubicBezTo>
                <a:cubicBezTo>
                  <a:pt x="1080" y="685"/>
                  <a:pt x="1187" y="704"/>
                  <a:pt x="1187" y="704"/>
                </a:cubicBezTo>
                <a:cubicBezTo>
                  <a:pt x="1266" y="745"/>
                  <a:pt x="1350" y="766"/>
                  <a:pt x="1434" y="796"/>
                </a:cubicBezTo>
                <a:cubicBezTo>
                  <a:pt x="1458" y="805"/>
                  <a:pt x="1497" y="832"/>
                  <a:pt x="1526" y="835"/>
                </a:cubicBezTo>
                <a:cubicBezTo>
                  <a:pt x="1599" y="842"/>
                  <a:pt x="1673" y="844"/>
                  <a:pt x="1747" y="848"/>
                </a:cubicBezTo>
                <a:cubicBezTo>
                  <a:pt x="2097" y="891"/>
                  <a:pt x="1575" y="830"/>
                  <a:pt x="2465" y="874"/>
                </a:cubicBezTo>
                <a:cubicBezTo>
                  <a:pt x="2526" y="877"/>
                  <a:pt x="2586" y="900"/>
                  <a:pt x="2647" y="900"/>
                </a:cubicBezTo>
                <a:cubicBezTo>
                  <a:pt x="2651" y="900"/>
                  <a:pt x="2656" y="900"/>
                  <a:pt x="2660" y="90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91120" y="3706920"/>
            <a:ext cx="2506680" cy="2404800"/>
          </a:xfrm>
          <a:custGeom>
            <a:avLst/>
            <a:gdLst/>
            <a:ahLst/>
            <a:rect l="l" t="t" r="r" b="b"/>
            <a:pathLst>
              <a:path w="1579" h="1515">
                <a:moveTo>
                  <a:pt x="66" y="0"/>
                </a:moveTo>
                <a:cubicBezTo>
                  <a:pt x="88" y="66"/>
                  <a:pt x="61" y="118"/>
                  <a:pt x="40" y="183"/>
                </a:cubicBezTo>
                <a:cubicBezTo>
                  <a:pt x="36" y="196"/>
                  <a:pt x="27" y="222"/>
                  <a:pt x="27" y="222"/>
                </a:cubicBezTo>
                <a:cubicBezTo>
                  <a:pt x="35" y="379"/>
                  <a:pt x="0" y="485"/>
                  <a:pt x="106" y="587"/>
                </a:cubicBezTo>
                <a:cubicBezTo>
                  <a:pt x="131" y="663"/>
                  <a:pt x="195" y="751"/>
                  <a:pt x="262" y="796"/>
                </a:cubicBezTo>
                <a:cubicBezTo>
                  <a:pt x="320" y="883"/>
                  <a:pt x="252" y="798"/>
                  <a:pt x="327" y="848"/>
                </a:cubicBezTo>
                <a:cubicBezTo>
                  <a:pt x="355" y="867"/>
                  <a:pt x="377" y="894"/>
                  <a:pt x="405" y="913"/>
                </a:cubicBezTo>
                <a:cubicBezTo>
                  <a:pt x="442" y="967"/>
                  <a:pt x="474" y="1010"/>
                  <a:pt x="536" y="1031"/>
                </a:cubicBezTo>
                <a:cubicBezTo>
                  <a:pt x="577" y="1072"/>
                  <a:pt x="623" y="1099"/>
                  <a:pt x="666" y="1135"/>
                </a:cubicBezTo>
                <a:cubicBezTo>
                  <a:pt x="738" y="1195"/>
                  <a:pt x="823" y="1274"/>
                  <a:pt x="914" y="1304"/>
                </a:cubicBezTo>
                <a:cubicBezTo>
                  <a:pt x="948" y="1340"/>
                  <a:pt x="1010" y="1367"/>
                  <a:pt x="1058" y="1383"/>
                </a:cubicBezTo>
                <a:cubicBezTo>
                  <a:pt x="1138" y="1436"/>
                  <a:pt x="1212" y="1490"/>
                  <a:pt x="1305" y="1513"/>
                </a:cubicBezTo>
                <a:cubicBezTo>
                  <a:pt x="1362" y="1509"/>
                  <a:pt x="1420" y="1515"/>
                  <a:pt x="1475" y="1500"/>
                </a:cubicBezTo>
                <a:cubicBezTo>
                  <a:pt x="1496" y="1494"/>
                  <a:pt x="1518" y="1410"/>
                  <a:pt x="1527" y="1383"/>
                </a:cubicBezTo>
                <a:cubicBezTo>
                  <a:pt x="1531" y="1370"/>
                  <a:pt x="1540" y="1344"/>
                  <a:pt x="1540" y="1344"/>
                </a:cubicBezTo>
                <a:cubicBezTo>
                  <a:pt x="1550" y="1220"/>
                  <a:pt x="1579" y="1089"/>
                  <a:pt x="1579" y="96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22440" y="1592280"/>
            <a:ext cx="1455840" cy="2384280"/>
          </a:xfrm>
          <a:custGeom>
            <a:avLst/>
            <a:gdLst/>
            <a:ahLst/>
            <a:rect l="l" t="t" r="r" b="b"/>
            <a:pathLst>
              <a:path w="917" h="1502">
                <a:moveTo>
                  <a:pt x="0" y="1502"/>
                </a:moveTo>
                <a:cubicBezTo>
                  <a:pt x="26" y="1463"/>
                  <a:pt x="63" y="1429"/>
                  <a:pt x="78" y="1384"/>
                </a:cubicBezTo>
                <a:cubicBezTo>
                  <a:pt x="87" y="1358"/>
                  <a:pt x="95" y="1332"/>
                  <a:pt x="104" y="1306"/>
                </a:cubicBezTo>
                <a:cubicBezTo>
                  <a:pt x="108" y="1293"/>
                  <a:pt x="117" y="1267"/>
                  <a:pt x="117" y="1267"/>
                </a:cubicBezTo>
                <a:cubicBezTo>
                  <a:pt x="121" y="1219"/>
                  <a:pt x="127" y="1171"/>
                  <a:pt x="130" y="1123"/>
                </a:cubicBezTo>
                <a:cubicBezTo>
                  <a:pt x="135" y="1040"/>
                  <a:pt x="136" y="957"/>
                  <a:pt x="143" y="875"/>
                </a:cubicBezTo>
                <a:cubicBezTo>
                  <a:pt x="145" y="856"/>
                  <a:pt x="178" y="749"/>
                  <a:pt x="182" y="745"/>
                </a:cubicBezTo>
                <a:cubicBezTo>
                  <a:pt x="204" y="723"/>
                  <a:pt x="231" y="706"/>
                  <a:pt x="248" y="680"/>
                </a:cubicBezTo>
                <a:cubicBezTo>
                  <a:pt x="257" y="667"/>
                  <a:pt x="263" y="652"/>
                  <a:pt x="274" y="641"/>
                </a:cubicBezTo>
                <a:cubicBezTo>
                  <a:pt x="285" y="630"/>
                  <a:pt x="301" y="625"/>
                  <a:pt x="313" y="615"/>
                </a:cubicBezTo>
                <a:cubicBezTo>
                  <a:pt x="336" y="595"/>
                  <a:pt x="356" y="571"/>
                  <a:pt x="378" y="549"/>
                </a:cubicBezTo>
                <a:cubicBezTo>
                  <a:pt x="391" y="536"/>
                  <a:pt x="404" y="523"/>
                  <a:pt x="417" y="510"/>
                </a:cubicBezTo>
                <a:cubicBezTo>
                  <a:pt x="430" y="497"/>
                  <a:pt x="456" y="471"/>
                  <a:pt x="456" y="471"/>
                </a:cubicBezTo>
                <a:cubicBezTo>
                  <a:pt x="478" y="405"/>
                  <a:pt x="545" y="358"/>
                  <a:pt x="587" y="301"/>
                </a:cubicBezTo>
                <a:cubicBezTo>
                  <a:pt x="653" y="212"/>
                  <a:pt x="695" y="105"/>
                  <a:pt x="808" y="67"/>
                </a:cubicBezTo>
                <a:cubicBezTo>
                  <a:pt x="817" y="58"/>
                  <a:pt x="824" y="47"/>
                  <a:pt x="835" y="41"/>
                </a:cubicBezTo>
                <a:cubicBezTo>
                  <a:pt x="917" y="0"/>
                  <a:pt x="913" y="44"/>
                  <a:pt x="913" y="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46040" y="1407960"/>
            <a:ext cx="2961000" cy="1097280"/>
          </a:xfrm>
          <a:custGeom>
            <a:avLst/>
            <a:gdLst/>
            <a:ahLst/>
            <a:rect l="l" t="t" r="r" b="b"/>
            <a:pathLst>
              <a:path w="1865" h="691">
                <a:moveTo>
                  <a:pt x="0" y="691"/>
                </a:moveTo>
                <a:cubicBezTo>
                  <a:pt x="95" y="628"/>
                  <a:pt x="183" y="555"/>
                  <a:pt x="287" y="509"/>
                </a:cubicBezTo>
                <a:cubicBezTo>
                  <a:pt x="325" y="492"/>
                  <a:pt x="365" y="483"/>
                  <a:pt x="404" y="470"/>
                </a:cubicBezTo>
                <a:cubicBezTo>
                  <a:pt x="417" y="466"/>
                  <a:pt x="430" y="461"/>
                  <a:pt x="443" y="457"/>
                </a:cubicBezTo>
                <a:cubicBezTo>
                  <a:pt x="456" y="453"/>
                  <a:pt x="482" y="444"/>
                  <a:pt x="482" y="444"/>
                </a:cubicBezTo>
                <a:cubicBezTo>
                  <a:pt x="521" y="404"/>
                  <a:pt x="584" y="397"/>
                  <a:pt x="639" y="391"/>
                </a:cubicBezTo>
                <a:cubicBezTo>
                  <a:pt x="769" y="377"/>
                  <a:pt x="1077" y="369"/>
                  <a:pt x="1173" y="365"/>
                </a:cubicBezTo>
                <a:cubicBezTo>
                  <a:pt x="1217" y="361"/>
                  <a:pt x="1261" y="360"/>
                  <a:pt x="1304" y="352"/>
                </a:cubicBezTo>
                <a:cubicBezTo>
                  <a:pt x="1371" y="340"/>
                  <a:pt x="1432" y="300"/>
                  <a:pt x="1499" y="287"/>
                </a:cubicBezTo>
                <a:cubicBezTo>
                  <a:pt x="1599" y="267"/>
                  <a:pt x="1543" y="277"/>
                  <a:pt x="1669" y="261"/>
                </a:cubicBezTo>
                <a:cubicBezTo>
                  <a:pt x="1678" y="248"/>
                  <a:pt x="1683" y="232"/>
                  <a:pt x="1695" y="222"/>
                </a:cubicBezTo>
                <a:cubicBezTo>
                  <a:pt x="1719" y="201"/>
                  <a:pt x="1773" y="170"/>
                  <a:pt x="1773" y="170"/>
                </a:cubicBezTo>
                <a:cubicBezTo>
                  <a:pt x="1788" y="125"/>
                  <a:pt x="1805" y="98"/>
                  <a:pt x="1839" y="65"/>
                </a:cubicBezTo>
                <a:cubicBezTo>
                  <a:pt x="1855" y="17"/>
                  <a:pt x="1846" y="38"/>
                  <a:pt x="1865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04080" y="1884240"/>
            <a:ext cx="906480" cy="3521160"/>
          </a:xfrm>
          <a:custGeom>
            <a:avLst/>
            <a:gdLst/>
            <a:ahLst/>
            <a:rect l="l" t="t" r="r" b="b"/>
            <a:pathLst>
              <a:path w="571" h="2218">
                <a:moveTo>
                  <a:pt x="0" y="2218"/>
                </a:moveTo>
                <a:cubicBezTo>
                  <a:pt x="20" y="2157"/>
                  <a:pt x="32" y="2096"/>
                  <a:pt x="52" y="2035"/>
                </a:cubicBezTo>
                <a:cubicBezTo>
                  <a:pt x="56" y="2022"/>
                  <a:pt x="54" y="2004"/>
                  <a:pt x="65" y="1996"/>
                </a:cubicBezTo>
                <a:cubicBezTo>
                  <a:pt x="78" y="1987"/>
                  <a:pt x="91" y="1979"/>
                  <a:pt x="104" y="1970"/>
                </a:cubicBezTo>
                <a:cubicBezTo>
                  <a:pt x="147" y="1840"/>
                  <a:pt x="74" y="2041"/>
                  <a:pt x="157" y="1892"/>
                </a:cubicBezTo>
                <a:cubicBezTo>
                  <a:pt x="171" y="1868"/>
                  <a:pt x="174" y="1839"/>
                  <a:pt x="183" y="1813"/>
                </a:cubicBezTo>
                <a:cubicBezTo>
                  <a:pt x="204" y="1749"/>
                  <a:pt x="232" y="1684"/>
                  <a:pt x="248" y="1618"/>
                </a:cubicBezTo>
                <a:cubicBezTo>
                  <a:pt x="270" y="1527"/>
                  <a:pt x="273" y="1434"/>
                  <a:pt x="300" y="1344"/>
                </a:cubicBezTo>
                <a:cubicBezTo>
                  <a:pt x="303" y="1333"/>
                  <a:pt x="331" y="1251"/>
                  <a:pt x="339" y="1226"/>
                </a:cubicBezTo>
                <a:cubicBezTo>
                  <a:pt x="349" y="1196"/>
                  <a:pt x="381" y="1178"/>
                  <a:pt x="391" y="1148"/>
                </a:cubicBezTo>
                <a:cubicBezTo>
                  <a:pt x="400" y="1122"/>
                  <a:pt x="408" y="1096"/>
                  <a:pt x="417" y="1070"/>
                </a:cubicBezTo>
                <a:cubicBezTo>
                  <a:pt x="427" y="1040"/>
                  <a:pt x="470" y="991"/>
                  <a:pt x="470" y="991"/>
                </a:cubicBezTo>
                <a:cubicBezTo>
                  <a:pt x="474" y="978"/>
                  <a:pt x="476" y="964"/>
                  <a:pt x="483" y="952"/>
                </a:cubicBezTo>
                <a:cubicBezTo>
                  <a:pt x="498" y="925"/>
                  <a:pt x="535" y="874"/>
                  <a:pt x="535" y="874"/>
                </a:cubicBezTo>
                <a:cubicBezTo>
                  <a:pt x="543" y="843"/>
                  <a:pt x="561" y="815"/>
                  <a:pt x="561" y="783"/>
                </a:cubicBezTo>
                <a:cubicBezTo>
                  <a:pt x="561" y="510"/>
                  <a:pt x="571" y="369"/>
                  <a:pt x="496" y="144"/>
                </a:cubicBezTo>
                <a:cubicBezTo>
                  <a:pt x="480" y="96"/>
                  <a:pt x="481" y="38"/>
                  <a:pt x="443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36800" y="3333600"/>
            <a:ext cx="1635120" cy="870120"/>
          </a:xfrm>
          <a:custGeom>
            <a:avLst/>
            <a:gdLst/>
            <a:ahLst/>
            <a:rect l="l" t="t" r="r" b="b"/>
            <a:pathLst>
              <a:path w="1030" h="548">
                <a:moveTo>
                  <a:pt x="0" y="548"/>
                </a:moveTo>
                <a:cubicBezTo>
                  <a:pt x="9" y="520"/>
                  <a:pt x="15" y="491"/>
                  <a:pt x="39" y="470"/>
                </a:cubicBezTo>
                <a:cubicBezTo>
                  <a:pt x="63" y="449"/>
                  <a:pt x="117" y="418"/>
                  <a:pt x="117" y="418"/>
                </a:cubicBezTo>
                <a:cubicBezTo>
                  <a:pt x="146" y="374"/>
                  <a:pt x="158" y="356"/>
                  <a:pt x="208" y="339"/>
                </a:cubicBezTo>
                <a:cubicBezTo>
                  <a:pt x="230" y="317"/>
                  <a:pt x="252" y="296"/>
                  <a:pt x="274" y="274"/>
                </a:cubicBezTo>
                <a:cubicBezTo>
                  <a:pt x="303" y="245"/>
                  <a:pt x="484" y="225"/>
                  <a:pt x="508" y="222"/>
                </a:cubicBezTo>
                <a:cubicBezTo>
                  <a:pt x="602" y="191"/>
                  <a:pt x="564" y="211"/>
                  <a:pt x="626" y="170"/>
                </a:cubicBezTo>
                <a:cubicBezTo>
                  <a:pt x="643" y="144"/>
                  <a:pt x="656" y="115"/>
                  <a:pt x="678" y="92"/>
                </a:cubicBezTo>
                <a:cubicBezTo>
                  <a:pt x="687" y="83"/>
                  <a:pt x="696" y="75"/>
                  <a:pt x="704" y="65"/>
                </a:cubicBezTo>
                <a:cubicBezTo>
                  <a:pt x="714" y="53"/>
                  <a:pt x="716" y="34"/>
                  <a:pt x="730" y="26"/>
                </a:cubicBezTo>
                <a:cubicBezTo>
                  <a:pt x="737" y="22"/>
                  <a:pt x="873" y="0"/>
                  <a:pt x="873" y="0"/>
                </a:cubicBezTo>
                <a:cubicBezTo>
                  <a:pt x="903" y="29"/>
                  <a:pt x="923" y="62"/>
                  <a:pt x="952" y="92"/>
                </a:cubicBezTo>
                <a:cubicBezTo>
                  <a:pt x="974" y="157"/>
                  <a:pt x="1000" y="213"/>
                  <a:pt x="1030" y="274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2040" y="2525760"/>
            <a:ext cx="102960" cy="1409760"/>
          </a:xfrm>
          <a:custGeom>
            <a:avLst/>
            <a:gdLst/>
            <a:ahLst/>
            <a:rect l="l" t="t" r="r" b="b"/>
            <a:pathLst>
              <a:path w="65" h="888">
                <a:moveTo>
                  <a:pt x="0" y="0"/>
                </a:moveTo>
                <a:cubicBezTo>
                  <a:pt x="24" y="148"/>
                  <a:pt x="20" y="296"/>
                  <a:pt x="39" y="444"/>
                </a:cubicBezTo>
                <a:cubicBezTo>
                  <a:pt x="43" y="471"/>
                  <a:pt x="65" y="495"/>
                  <a:pt x="65" y="522"/>
                </a:cubicBezTo>
                <a:cubicBezTo>
                  <a:pt x="65" y="644"/>
                  <a:pt x="65" y="766"/>
                  <a:pt x="65" y="888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89360" y="1284120"/>
            <a:ext cx="952560" cy="2381400"/>
          </a:xfrm>
          <a:custGeom>
            <a:avLst/>
            <a:gdLst/>
            <a:ahLst/>
            <a:rect l="l" t="t" r="r" b="b"/>
            <a:pathLst>
              <a:path w="600" h="1500">
                <a:moveTo>
                  <a:pt x="0" y="1500"/>
                </a:moveTo>
                <a:cubicBezTo>
                  <a:pt x="13" y="1487"/>
                  <a:pt x="29" y="1476"/>
                  <a:pt x="39" y="1461"/>
                </a:cubicBezTo>
                <a:cubicBezTo>
                  <a:pt x="89" y="1386"/>
                  <a:pt x="4" y="1454"/>
                  <a:pt x="91" y="1396"/>
                </a:cubicBezTo>
                <a:cubicBezTo>
                  <a:pt x="125" y="1292"/>
                  <a:pt x="148" y="1185"/>
                  <a:pt x="182" y="1082"/>
                </a:cubicBezTo>
                <a:cubicBezTo>
                  <a:pt x="184" y="1005"/>
                  <a:pt x="157" y="568"/>
                  <a:pt x="287" y="443"/>
                </a:cubicBezTo>
                <a:cubicBezTo>
                  <a:pt x="310" y="375"/>
                  <a:pt x="383" y="301"/>
                  <a:pt x="443" y="261"/>
                </a:cubicBezTo>
                <a:cubicBezTo>
                  <a:pt x="480" y="205"/>
                  <a:pt x="552" y="137"/>
                  <a:pt x="573" y="78"/>
                </a:cubicBezTo>
                <a:cubicBezTo>
                  <a:pt x="582" y="52"/>
                  <a:pt x="600" y="0"/>
                  <a:pt x="600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98C-19A6-4A63-AD34-EFAD9FC406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1972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6520" y="425772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s illusions enterrées au cimeti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 l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 nouvel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économie »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…c’est le moment de redevenir créatif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238-1587-4663-B05E-43F0F3D428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38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188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5257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75000" y="2278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4680" y="2092320"/>
            <a:ext cx="2789280" cy="3622680"/>
          </a:xfrm>
          <a:custGeom>
            <a:avLst/>
            <a:gdLst/>
            <a:ahLst/>
            <a:rect l="l" t="t" r="r" b="b"/>
            <a:pathLst>
              <a:path w="1757" h="2282">
                <a:moveTo>
                  <a:pt x="22" y="2282"/>
                </a:moveTo>
                <a:cubicBezTo>
                  <a:pt x="8" y="2103"/>
                  <a:pt x="0" y="2105"/>
                  <a:pt x="22" y="1917"/>
                </a:cubicBezTo>
                <a:cubicBezTo>
                  <a:pt x="24" y="1903"/>
                  <a:pt x="25" y="1886"/>
                  <a:pt x="36" y="1878"/>
                </a:cubicBezTo>
                <a:cubicBezTo>
                  <a:pt x="58" y="1862"/>
                  <a:pt x="114" y="1852"/>
                  <a:pt x="114" y="1852"/>
                </a:cubicBezTo>
                <a:cubicBezTo>
                  <a:pt x="238" y="1870"/>
                  <a:pt x="253" y="1878"/>
                  <a:pt x="388" y="1865"/>
                </a:cubicBezTo>
                <a:cubicBezTo>
                  <a:pt x="401" y="1852"/>
                  <a:pt x="416" y="1841"/>
                  <a:pt x="427" y="1826"/>
                </a:cubicBezTo>
                <a:cubicBezTo>
                  <a:pt x="446" y="1801"/>
                  <a:pt x="479" y="1748"/>
                  <a:pt x="479" y="1748"/>
                </a:cubicBezTo>
                <a:cubicBezTo>
                  <a:pt x="463" y="1616"/>
                  <a:pt x="477" y="1676"/>
                  <a:pt x="440" y="1565"/>
                </a:cubicBezTo>
                <a:cubicBezTo>
                  <a:pt x="435" y="1550"/>
                  <a:pt x="420" y="1540"/>
                  <a:pt x="414" y="1526"/>
                </a:cubicBezTo>
                <a:cubicBezTo>
                  <a:pt x="403" y="1501"/>
                  <a:pt x="388" y="1447"/>
                  <a:pt x="388" y="1447"/>
                </a:cubicBezTo>
                <a:cubicBezTo>
                  <a:pt x="384" y="1299"/>
                  <a:pt x="383" y="1152"/>
                  <a:pt x="375" y="1004"/>
                </a:cubicBezTo>
                <a:cubicBezTo>
                  <a:pt x="372" y="937"/>
                  <a:pt x="329" y="895"/>
                  <a:pt x="375" y="821"/>
                </a:cubicBezTo>
                <a:cubicBezTo>
                  <a:pt x="397" y="786"/>
                  <a:pt x="453" y="795"/>
                  <a:pt x="492" y="782"/>
                </a:cubicBezTo>
                <a:cubicBezTo>
                  <a:pt x="636" y="734"/>
                  <a:pt x="823" y="743"/>
                  <a:pt x="974" y="730"/>
                </a:cubicBezTo>
                <a:cubicBezTo>
                  <a:pt x="1098" y="705"/>
                  <a:pt x="1219" y="675"/>
                  <a:pt x="1340" y="639"/>
                </a:cubicBezTo>
                <a:cubicBezTo>
                  <a:pt x="1366" y="631"/>
                  <a:pt x="1395" y="628"/>
                  <a:pt x="1418" y="613"/>
                </a:cubicBezTo>
                <a:cubicBezTo>
                  <a:pt x="1431" y="604"/>
                  <a:pt x="1443" y="593"/>
                  <a:pt x="1457" y="587"/>
                </a:cubicBezTo>
                <a:cubicBezTo>
                  <a:pt x="1482" y="576"/>
                  <a:pt x="1509" y="569"/>
                  <a:pt x="1535" y="560"/>
                </a:cubicBezTo>
                <a:cubicBezTo>
                  <a:pt x="1548" y="556"/>
                  <a:pt x="1574" y="547"/>
                  <a:pt x="1574" y="547"/>
                </a:cubicBezTo>
                <a:cubicBezTo>
                  <a:pt x="1681" y="471"/>
                  <a:pt x="1639" y="509"/>
                  <a:pt x="1705" y="443"/>
                </a:cubicBezTo>
                <a:cubicBezTo>
                  <a:pt x="1742" y="333"/>
                  <a:pt x="1710" y="440"/>
                  <a:pt x="1731" y="195"/>
                </a:cubicBezTo>
                <a:cubicBezTo>
                  <a:pt x="1737" y="130"/>
                  <a:pt x="1757" y="66"/>
                  <a:pt x="1757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60720" y="3498840"/>
            <a:ext cx="2198520" cy="560520"/>
          </a:xfrm>
          <a:custGeom>
            <a:avLst/>
            <a:gdLst/>
            <a:ahLst/>
            <a:rect l="l" t="t" r="r" b="b"/>
            <a:pathLst>
              <a:path w="1385" h="353">
                <a:moveTo>
                  <a:pt x="2" y="353"/>
                </a:moveTo>
                <a:cubicBezTo>
                  <a:pt x="23" y="290"/>
                  <a:pt x="0" y="332"/>
                  <a:pt x="54" y="288"/>
                </a:cubicBezTo>
                <a:cubicBezTo>
                  <a:pt x="185" y="181"/>
                  <a:pt x="274" y="184"/>
                  <a:pt x="446" y="170"/>
                </a:cubicBezTo>
                <a:cubicBezTo>
                  <a:pt x="650" y="102"/>
                  <a:pt x="828" y="78"/>
                  <a:pt x="1045" y="66"/>
                </a:cubicBezTo>
                <a:cubicBezTo>
                  <a:pt x="1141" y="42"/>
                  <a:pt x="1234" y="25"/>
                  <a:pt x="1332" y="14"/>
                </a:cubicBezTo>
                <a:cubicBezTo>
                  <a:pt x="1376" y="0"/>
                  <a:pt x="1358" y="1"/>
                  <a:pt x="1385" y="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1800" y="1846440"/>
            <a:ext cx="7565760" cy="1425240"/>
          </a:xfrm>
          <a:custGeom>
            <a:avLst/>
            <a:gdLst/>
            <a:ahLst/>
            <a:rect l="l" t="t" r="r" b="b"/>
            <a:pathLst>
              <a:path w="4766" h="898">
                <a:moveTo>
                  <a:pt x="45" y="37"/>
                </a:moveTo>
                <a:cubicBezTo>
                  <a:pt x="148" y="105"/>
                  <a:pt x="0" y="0"/>
                  <a:pt x="136" y="141"/>
                </a:cubicBezTo>
                <a:cubicBezTo>
                  <a:pt x="189" y="196"/>
                  <a:pt x="244" y="234"/>
                  <a:pt x="293" y="298"/>
                </a:cubicBezTo>
                <a:cubicBezTo>
                  <a:pt x="349" y="370"/>
                  <a:pt x="385" y="455"/>
                  <a:pt x="462" y="507"/>
                </a:cubicBezTo>
                <a:cubicBezTo>
                  <a:pt x="492" y="552"/>
                  <a:pt x="522" y="559"/>
                  <a:pt x="554" y="598"/>
                </a:cubicBezTo>
                <a:cubicBezTo>
                  <a:pt x="594" y="647"/>
                  <a:pt x="623" y="708"/>
                  <a:pt x="684" y="728"/>
                </a:cubicBezTo>
                <a:cubicBezTo>
                  <a:pt x="857" y="847"/>
                  <a:pt x="976" y="812"/>
                  <a:pt x="1219" y="820"/>
                </a:cubicBezTo>
                <a:cubicBezTo>
                  <a:pt x="1307" y="838"/>
                  <a:pt x="1405" y="882"/>
                  <a:pt x="1493" y="885"/>
                </a:cubicBezTo>
                <a:cubicBezTo>
                  <a:pt x="1736" y="893"/>
                  <a:pt x="1980" y="894"/>
                  <a:pt x="2223" y="898"/>
                </a:cubicBezTo>
                <a:cubicBezTo>
                  <a:pt x="2319" y="894"/>
                  <a:pt x="2415" y="892"/>
                  <a:pt x="2510" y="885"/>
                </a:cubicBezTo>
                <a:cubicBezTo>
                  <a:pt x="2586" y="879"/>
                  <a:pt x="2690" y="833"/>
                  <a:pt x="2771" y="820"/>
                </a:cubicBezTo>
                <a:cubicBezTo>
                  <a:pt x="2945" y="762"/>
                  <a:pt x="3128" y="733"/>
                  <a:pt x="3305" y="689"/>
                </a:cubicBezTo>
                <a:cubicBezTo>
                  <a:pt x="3461" y="650"/>
                  <a:pt x="3608" y="572"/>
                  <a:pt x="3762" y="533"/>
                </a:cubicBezTo>
                <a:cubicBezTo>
                  <a:pt x="3847" y="476"/>
                  <a:pt x="3961" y="456"/>
                  <a:pt x="4062" y="442"/>
                </a:cubicBezTo>
                <a:cubicBezTo>
                  <a:pt x="4178" y="401"/>
                  <a:pt x="4308" y="384"/>
                  <a:pt x="4427" y="350"/>
                </a:cubicBezTo>
                <a:cubicBezTo>
                  <a:pt x="4565" y="311"/>
                  <a:pt x="4372" y="373"/>
                  <a:pt x="4557" y="311"/>
                </a:cubicBezTo>
                <a:cubicBezTo>
                  <a:pt x="4570" y="307"/>
                  <a:pt x="4583" y="302"/>
                  <a:pt x="4596" y="298"/>
                </a:cubicBezTo>
                <a:cubicBezTo>
                  <a:pt x="4609" y="294"/>
                  <a:pt x="4636" y="285"/>
                  <a:pt x="4636" y="285"/>
                </a:cubicBezTo>
                <a:cubicBezTo>
                  <a:pt x="4662" y="268"/>
                  <a:pt x="4688" y="250"/>
                  <a:pt x="4714" y="233"/>
                </a:cubicBezTo>
                <a:cubicBezTo>
                  <a:pt x="4725" y="225"/>
                  <a:pt x="4742" y="228"/>
                  <a:pt x="4753" y="220"/>
                </a:cubicBezTo>
                <a:cubicBezTo>
                  <a:pt x="4761" y="214"/>
                  <a:pt x="4762" y="203"/>
                  <a:pt x="4766" y="19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69880" y="1573200"/>
            <a:ext cx="6231240" cy="3852720"/>
          </a:xfrm>
          <a:custGeom>
            <a:avLst/>
            <a:gdLst/>
            <a:ahLst/>
            <a:rect l="l" t="t" r="r" b="b"/>
            <a:pathLst>
              <a:path w="3925" h="2427">
                <a:moveTo>
                  <a:pt x="0" y="561"/>
                </a:moveTo>
                <a:cubicBezTo>
                  <a:pt x="83" y="557"/>
                  <a:pt x="166" y="557"/>
                  <a:pt x="248" y="548"/>
                </a:cubicBezTo>
                <a:cubicBezTo>
                  <a:pt x="284" y="544"/>
                  <a:pt x="352" y="522"/>
                  <a:pt x="352" y="522"/>
                </a:cubicBezTo>
                <a:cubicBezTo>
                  <a:pt x="412" y="482"/>
                  <a:pt x="480" y="467"/>
                  <a:pt x="548" y="444"/>
                </a:cubicBezTo>
                <a:cubicBezTo>
                  <a:pt x="656" y="408"/>
                  <a:pt x="766" y="376"/>
                  <a:pt x="874" y="340"/>
                </a:cubicBezTo>
                <a:cubicBezTo>
                  <a:pt x="926" y="323"/>
                  <a:pt x="978" y="304"/>
                  <a:pt x="1030" y="287"/>
                </a:cubicBezTo>
                <a:cubicBezTo>
                  <a:pt x="1043" y="283"/>
                  <a:pt x="1056" y="278"/>
                  <a:pt x="1069" y="274"/>
                </a:cubicBezTo>
                <a:cubicBezTo>
                  <a:pt x="1082" y="270"/>
                  <a:pt x="1108" y="261"/>
                  <a:pt x="1108" y="261"/>
                </a:cubicBezTo>
                <a:cubicBezTo>
                  <a:pt x="1394" y="275"/>
                  <a:pt x="1287" y="247"/>
                  <a:pt x="1448" y="300"/>
                </a:cubicBezTo>
                <a:cubicBezTo>
                  <a:pt x="1493" y="315"/>
                  <a:pt x="1524" y="335"/>
                  <a:pt x="1565" y="353"/>
                </a:cubicBezTo>
                <a:cubicBezTo>
                  <a:pt x="1590" y="364"/>
                  <a:pt x="1643" y="379"/>
                  <a:pt x="1643" y="379"/>
                </a:cubicBezTo>
                <a:cubicBezTo>
                  <a:pt x="1717" y="375"/>
                  <a:pt x="1791" y="376"/>
                  <a:pt x="1865" y="366"/>
                </a:cubicBezTo>
                <a:cubicBezTo>
                  <a:pt x="1892" y="362"/>
                  <a:pt x="1943" y="340"/>
                  <a:pt x="1943" y="340"/>
                </a:cubicBezTo>
                <a:cubicBezTo>
                  <a:pt x="1991" y="290"/>
                  <a:pt x="1959" y="320"/>
                  <a:pt x="2047" y="261"/>
                </a:cubicBezTo>
                <a:cubicBezTo>
                  <a:pt x="2087" y="234"/>
                  <a:pt x="2093" y="193"/>
                  <a:pt x="2139" y="170"/>
                </a:cubicBezTo>
                <a:cubicBezTo>
                  <a:pt x="2151" y="164"/>
                  <a:pt x="2166" y="164"/>
                  <a:pt x="2178" y="157"/>
                </a:cubicBezTo>
                <a:cubicBezTo>
                  <a:pt x="2205" y="142"/>
                  <a:pt x="2256" y="105"/>
                  <a:pt x="2256" y="105"/>
                </a:cubicBezTo>
                <a:cubicBezTo>
                  <a:pt x="2288" y="57"/>
                  <a:pt x="2332" y="18"/>
                  <a:pt x="2387" y="0"/>
                </a:cubicBezTo>
                <a:cubicBezTo>
                  <a:pt x="2435" y="12"/>
                  <a:pt x="2482" y="27"/>
                  <a:pt x="2530" y="40"/>
                </a:cubicBezTo>
                <a:cubicBezTo>
                  <a:pt x="2584" y="76"/>
                  <a:pt x="2639" y="85"/>
                  <a:pt x="2700" y="105"/>
                </a:cubicBezTo>
                <a:cubicBezTo>
                  <a:pt x="2768" y="150"/>
                  <a:pt x="2836" y="186"/>
                  <a:pt x="2908" y="222"/>
                </a:cubicBezTo>
                <a:cubicBezTo>
                  <a:pt x="2920" y="228"/>
                  <a:pt x="2935" y="228"/>
                  <a:pt x="2947" y="235"/>
                </a:cubicBezTo>
                <a:cubicBezTo>
                  <a:pt x="3007" y="268"/>
                  <a:pt x="3065" y="331"/>
                  <a:pt x="3130" y="353"/>
                </a:cubicBezTo>
                <a:cubicBezTo>
                  <a:pt x="3152" y="370"/>
                  <a:pt x="3171" y="390"/>
                  <a:pt x="3195" y="405"/>
                </a:cubicBezTo>
                <a:cubicBezTo>
                  <a:pt x="3207" y="412"/>
                  <a:pt x="3222" y="411"/>
                  <a:pt x="3234" y="418"/>
                </a:cubicBezTo>
                <a:cubicBezTo>
                  <a:pt x="3367" y="492"/>
                  <a:pt x="3263" y="454"/>
                  <a:pt x="3352" y="483"/>
                </a:cubicBezTo>
                <a:cubicBezTo>
                  <a:pt x="3393" y="511"/>
                  <a:pt x="3471" y="549"/>
                  <a:pt x="3508" y="587"/>
                </a:cubicBezTo>
                <a:cubicBezTo>
                  <a:pt x="3543" y="622"/>
                  <a:pt x="3571" y="665"/>
                  <a:pt x="3612" y="692"/>
                </a:cubicBezTo>
                <a:cubicBezTo>
                  <a:pt x="3638" y="709"/>
                  <a:pt x="3669" y="722"/>
                  <a:pt x="3691" y="744"/>
                </a:cubicBezTo>
                <a:cubicBezTo>
                  <a:pt x="3717" y="770"/>
                  <a:pt x="3749" y="791"/>
                  <a:pt x="3769" y="822"/>
                </a:cubicBezTo>
                <a:cubicBezTo>
                  <a:pt x="3786" y="848"/>
                  <a:pt x="3821" y="900"/>
                  <a:pt x="3821" y="900"/>
                </a:cubicBezTo>
                <a:cubicBezTo>
                  <a:pt x="3853" y="998"/>
                  <a:pt x="3863" y="1082"/>
                  <a:pt x="3873" y="1187"/>
                </a:cubicBezTo>
                <a:cubicBezTo>
                  <a:pt x="3877" y="1570"/>
                  <a:pt x="3874" y="1953"/>
                  <a:pt x="3886" y="2335"/>
                </a:cubicBezTo>
                <a:cubicBezTo>
                  <a:pt x="3888" y="2394"/>
                  <a:pt x="3898" y="2400"/>
                  <a:pt x="3925" y="24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45120" y="1573200"/>
            <a:ext cx="3476520" cy="3790800"/>
          </a:xfrm>
          <a:custGeom>
            <a:avLst/>
            <a:gdLst/>
            <a:ahLst/>
            <a:rect l="l" t="t" r="r" b="b"/>
            <a:pathLst>
              <a:path w="2190" h="2388">
                <a:moveTo>
                  <a:pt x="0" y="0"/>
                </a:moveTo>
                <a:cubicBezTo>
                  <a:pt x="52" y="79"/>
                  <a:pt x="91" y="158"/>
                  <a:pt x="143" y="235"/>
                </a:cubicBezTo>
                <a:cubicBezTo>
                  <a:pt x="166" y="269"/>
                  <a:pt x="208" y="314"/>
                  <a:pt x="221" y="353"/>
                </a:cubicBezTo>
                <a:cubicBezTo>
                  <a:pt x="230" y="379"/>
                  <a:pt x="232" y="408"/>
                  <a:pt x="247" y="431"/>
                </a:cubicBezTo>
                <a:cubicBezTo>
                  <a:pt x="256" y="444"/>
                  <a:pt x="267" y="456"/>
                  <a:pt x="273" y="470"/>
                </a:cubicBezTo>
                <a:cubicBezTo>
                  <a:pt x="290" y="508"/>
                  <a:pt x="291" y="552"/>
                  <a:pt x="313" y="587"/>
                </a:cubicBezTo>
                <a:cubicBezTo>
                  <a:pt x="345" y="637"/>
                  <a:pt x="363" y="693"/>
                  <a:pt x="391" y="744"/>
                </a:cubicBezTo>
                <a:cubicBezTo>
                  <a:pt x="433" y="820"/>
                  <a:pt x="495" y="873"/>
                  <a:pt x="547" y="940"/>
                </a:cubicBezTo>
                <a:cubicBezTo>
                  <a:pt x="616" y="1029"/>
                  <a:pt x="677" y="1120"/>
                  <a:pt x="756" y="1201"/>
                </a:cubicBezTo>
                <a:cubicBezTo>
                  <a:pt x="780" y="1273"/>
                  <a:pt x="816" y="1300"/>
                  <a:pt x="873" y="1357"/>
                </a:cubicBezTo>
                <a:cubicBezTo>
                  <a:pt x="941" y="1425"/>
                  <a:pt x="1009" y="1492"/>
                  <a:pt x="1082" y="1553"/>
                </a:cubicBezTo>
                <a:cubicBezTo>
                  <a:pt x="1094" y="1563"/>
                  <a:pt x="1107" y="1571"/>
                  <a:pt x="1121" y="1579"/>
                </a:cubicBezTo>
                <a:cubicBezTo>
                  <a:pt x="1138" y="1589"/>
                  <a:pt x="1158" y="1593"/>
                  <a:pt x="1173" y="1605"/>
                </a:cubicBezTo>
                <a:cubicBezTo>
                  <a:pt x="1327" y="1728"/>
                  <a:pt x="1186" y="1644"/>
                  <a:pt x="1304" y="1722"/>
                </a:cubicBezTo>
                <a:cubicBezTo>
                  <a:pt x="1383" y="1774"/>
                  <a:pt x="1461" y="1825"/>
                  <a:pt x="1538" y="1879"/>
                </a:cubicBezTo>
                <a:cubicBezTo>
                  <a:pt x="1564" y="1897"/>
                  <a:pt x="1617" y="1931"/>
                  <a:pt x="1617" y="1931"/>
                </a:cubicBezTo>
                <a:cubicBezTo>
                  <a:pt x="1652" y="1984"/>
                  <a:pt x="1635" y="1967"/>
                  <a:pt x="1695" y="2009"/>
                </a:cubicBezTo>
                <a:cubicBezTo>
                  <a:pt x="1721" y="2027"/>
                  <a:pt x="1773" y="2061"/>
                  <a:pt x="1773" y="2061"/>
                </a:cubicBezTo>
                <a:cubicBezTo>
                  <a:pt x="1815" y="2125"/>
                  <a:pt x="1895" y="2193"/>
                  <a:pt x="1969" y="2218"/>
                </a:cubicBezTo>
                <a:cubicBezTo>
                  <a:pt x="2020" y="2269"/>
                  <a:pt x="2075" y="2303"/>
                  <a:pt x="2138" y="2335"/>
                </a:cubicBezTo>
                <a:cubicBezTo>
                  <a:pt x="2173" y="2371"/>
                  <a:pt x="2155" y="2353"/>
                  <a:pt x="2190" y="23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84920" y="2733840"/>
            <a:ext cx="689040" cy="496800"/>
          </a:xfrm>
          <a:custGeom>
            <a:avLst/>
            <a:gdLst/>
            <a:ahLst/>
            <a:rect l="l" t="t" r="r" b="b"/>
            <a:pathLst>
              <a:path w="434" h="313">
                <a:moveTo>
                  <a:pt x="4" y="0"/>
                </a:moveTo>
                <a:cubicBezTo>
                  <a:pt x="13" y="122"/>
                  <a:pt x="0" y="241"/>
                  <a:pt x="108" y="313"/>
                </a:cubicBezTo>
                <a:cubicBezTo>
                  <a:pt x="164" y="309"/>
                  <a:pt x="221" y="307"/>
                  <a:pt x="277" y="300"/>
                </a:cubicBezTo>
                <a:cubicBezTo>
                  <a:pt x="291" y="298"/>
                  <a:pt x="307" y="297"/>
                  <a:pt x="317" y="287"/>
                </a:cubicBezTo>
                <a:cubicBezTo>
                  <a:pt x="339" y="265"/>
                  <a:pt x="352" y="235"/>
                  <a:pt x="369" y="209"/>
                </a:cubicBezTo>
                <a:cubicBezTo>
                  <a:pt x="379" y="194"/>
                  <a:pt x="396" y="183"/>
                  <a:pt x="408" y="169"/>
                </a:cubicBezTo>
                <a:cubicBezTo>
                  <a:pt x="418" y="157"/>
                  <a:pt x="434" y="130"/>
                  <a:pt x="434" y="1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9051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133720"/>
            <a:ext cx="2490840" cy="3276360"/>
          </a:xfrm>
          <a:custGeom>
            <a:avLst/>
            <a:gdLst/>
            <a:ahLst/>
            <a:rect l="l" t="t" r="r" b="b"/>
            <a:pathLst>
              <a:path w="1569" h="2064">
                <a:moveTo>
                  <a:pt x="1569" y="1108"/>
                </a:moveTo>
                <a:cubicBezTo>
                  <a:pt x="1539" y="1197"/>
                  <a:pt x="1520" y="1275"/>
                  <a:pt x="1438" y="1330"/>
                </a:cubicBezTo>
                <a:cubicBezTo>
                  <a:pt x="1420" y="1384"/>
                  <a:pt x="1403" y="1399"/>
                  <a:pt x="1360" y="1434"/>
                </a:cubicBezTo>
                <a:cubicBezTo>
                  <a:pt x="1198" y="1566"/>
                  <a:pt x="1112" y="1529"/>
                  <a:pt x="864" y="1539"/>
                </a:cubicBezTo>
                <a:cubicBezTo>
                  <a:pt x="851" y="1543"/>
                  <a:pt x="835" y="1542"/>
                  <a:pt x="825" y="1552"/>
                </a:cubicBezTo>
                <a:cubicBezTo>
                  <a:pt x="815" y="1562"/>
                  <a:pt x="818" y="1579"/>
                  <a:pt x="812" y="1591"/>
                </a:cubicBezTo>
                <a:cubicBezTo>
                  <a:pt x="805" y="1605"/>
                  <a:pt x="793" y="1616"/>
                  <a:pt x="786" y="1630"/>
                </a:cubicBezTo>
                <a:cubicBezTo>
                  <a:pt x="766" y="1670"/>
                  <a:pt x="761" y="1719"/>
                  <a:pt x="747" y="1761"/>
                </a:cubicBezTo>
                <a:cubicBezTo>
                  <a:pt x="743" y="1791"/>
                  <a:pt x="734" y="1937"/>
                  <a:pt x="708" y="1969"/>
                </a:cubicBezTo>
                <a:cubicBezTo>
                  <a:pt x="698" y="1981"/>
                  <a:pt x="681" y="1985"/>
                  <a:pt x="669" y="1995"/>
                </a:cubicBezTo>
                <a:cubicBezTo>
                  <a:pt x="659" y="2003"/>
                  <a:pt x="654" y="2016"/>
                  <a:pt x="643" y="2022"/>
                </a:cubicBezTo>
                <a:cubicBezTo>
                  <a:pt x="618" y="2034"/>
                  <a:pt x="564" y="2048"/>
                  <a:pt x="564" y="2048"/>
                </a:cubicBezTo>
                <a:cubicBezTo>
                  <a:pt x="403" y="2044"/>
                  <a:pt x="240" y="2064"/>
                  <a:pt x="82" y="2035"/>
                </a:cubicBezTo>
                <a:cubicBezTo>
                  <a:pt x="55" y="2030"/>
                  <a:pt x="56" y="1956"/>
                  <a:pt x="56" y="1956"/>
                </a:cubicBezTo>
                <a:cubicBezTo>
                  <a:pt x="56" y="1956"/>
                  <a:pt x="0" y="1311"/>
                  <a:pt x="108" y="1095"/>
                </a:cubicBezTo>
                <a:cubicBezTo>
                  <a:pt x="153" y="1004"/>
                  <a:pt x="193" y="919"/>
                  <a:pt x="225" y="821"/>
                </a:cubicBezTo>
                <a:cubicBezTo>
                  <a:pt x="238" y="782"/>
                  <a:pt x="251" y="743"/>
                  <a:pt x="264" y="704"/>
                </a:cubicBezTo>
                <a:cubicBezTo>
                  <a:pt x="268" y="691"/>
                  <a:pt x="277" y="665"/>
                  <a:pt x="277" y="665"/>
                </a:cubicBezTo>
                <a:cubicBezTo>
                  <a:pt x="287" y="565"/>
                  <a:pt x="288" y="464"/>
                  <a:pt x="304" y="365"/>
                </a:cubicBezTo>
                <a:cubicBezTo>
                  <a:pt x="309" y="332"/>
                  <a:pt x="322" y="281"/>
                  <a:pt x="356" y="260"/>
                </a:cubicBezTo>
                <a:cubicBezTo>
                  <a:pt x="368" y="253"/>
                  <a:pt x="383" y="254"/>
                  <a:pt x="395" y="247"/>
                </a:cubicBezTo>
                <a:cubicBezTo>
                  <a:pt x="463" y="209"/>
                  <a:pt x="520" y="161"/>
                  <a:pt x="590" y="130"/>
                </a:cubicBezTo>
                <a:cubicBezTo>
                  <a:pt x="615" y="119"/>
                  <a:pt x="646" y="119"/>
                  <a:pt x="669" y="104"/>
                </a:cubicBezTo>
                <a:cubicBezTo>
                  <a:pt x="707" y="78"/>
                  <a:pt x="750" y="69"/>
                  <a:pt x="786" y="39"/>
                </a:cubicBezTo>
                <a:cubicBezTo>
                  <a:pt x="800" y="27"/>
                  <a:pt x="825" y="0"/>
                  <a:pt x="82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68840" y="3271680"/>
            <a:ext cx="855720" cy="641520"/>
          </a:xfrm>
          <a:custGeom>
            <a:avLst/>
            <a:gdLst/>
            <a:ahLst/>
            <a:rect l="l" t="t" r="r" b="b"/>
            <a:pathLst>
              <a:path w="539" h="404">
                <a:moveTo>
                  <a:pt x="59" y="0"/>
                </a:moveTo>
                <a:cubicBezTo>
                  <a:pt x="68" y="214"/>
                  <a:pt x="0" y="341"/>
                  <a:pt x="189" y="404"/>
                </a:cubicBezTo>
                <a:cubicBezTo>
                  <a:pt x="224" y="400"/>
                  <a:pt x="259" y="397"/>
                  <a:pt x="293" y="391"/>
                </a:cubicBezTo>
                <a:cubicBezTo>
                  <a:pt x="336" y="383"/>
                  <a:pt x="369" y="353"/>
                  <a:pt x="411" y="339"/>
                </a:cubicBezTo>
                <a:cubicBezTo>
                  <a:pt x="480" y="235"/>
                  <a:pt x="389" y="361"/>
                  <a:pt x="476" y="274"/>
                </a:cubicBezTo>
                <a:cubicBezTo>
                  <a:pt x="539" y="211"/>
                  <a:pt x="469" y="252"/>
                  <a:pt x="528" y="2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40240" y="3292560"/>
            <a:ext cx="642960" cy="620640"/>
          </a:xfrm>
          <a:custGeom>
            <a:avLst/>
            <a:gdLst/>
            <a:ahLst/>
            <a:rect l="l" t="t" r="r" b="b"/>
            <a:pathLst>
              <a:path w="405" h="391">
                <a:moveTo>
                  <a:pt x="0" y="170"/>
                </a:moveTo>
                <a:cubicBezTo>
                  <a:pt x="17" y="222"/>
                  <a:pt x="35" y="274"/>
                  <a:pt x="52" y="326"/>
                </a:cubicBezTo>
                <a:cubicBezTo>
                  <a:pt x="56" y="339"/>
                  <a:pt x="54" y="357"/>
                  <a:pt x="65" y="365"/>
                </a:cubicBezTo>
                <a:cubicBezTo>
                  <a:pt x="78" y="374"/>
                  <a:pt x="91" y="382"/>
                  <a:pt x="104" y="391"/>
                </a:cubicBezTo>
                <a:cubicBezTo>
                  <a:pt x="152" y="387"/>
                  <a:pt x="201" y="386"/>
                  <a:pt x="248" y="378"/>
                </a:cubicBezTo>
                <a:cubicBezTo>
                  <a:pt x="275" y="373"/>
                  <a:pt x="326" y="352"/>
                  <a:pt x="326" y="352"/>
                </a:cubicBezTo>
                <a:cubicBezTo>
                  <a:pt x="350" y="279"/>
                  <a:pt x="367" y="204"/>
                  <a:pt x="391" y="131"/>
                </a:cubicBezTo>
                <a:cubicBezTo>
                  <a:pt x="405" y="90"/>
                  <a:pt x="391" y="44"/>
                  <a:pt x="39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6520" y="1739880"/>
            <a:ext cx="3933720" cy="3747960"/>
          </a:xfrm>
          <a:custGeom>
            <a:avLst/>
            <a:gdLst/>
            <a:ahLst/>
            <a:rect l="l" t="t" r="r" b="b"/>
            <a:pathLst>
              <a:path w="2478" h="2361">
                <a:moveTo>
                  <a:pt x="0" y="0"/>
                </a:moveTo>
                <a:cubicBezTo>
                  <a:pt x="28" y="111"/>
                  <a:pt x="41" y="165"/>
                  <a:pt x="104" y="261"/>
                </a:cubicBezTo>
                <a:cubicBezTo>
                  <a:pt x="134" y="307"/>
                  <a:pt x="135" y="333"/>
                  <a:pt x="183" y="365"/>
                </a:cubicBezTo>
                <a:cubicBezTo>
                  <a:pt x="208" y="441"/>
                  <a:pt x="272" y="529"/>
                  <a:pt x="339" y="574"/>
                </a:cubicBezTo>
                <a:cubicBezTo>
                  <a:pt x="362" y="642"/>
                  <a:pt x="409" y="645"/>
                  <a:pt x="457" y="691"/>
                </a:cubicBezTo>
                <a:cubicBezTo>
                  <a:pt x="475" y="746"/>
                  <a:pt x="503" y="747"/>
                  <a:pt x="535" y="795"/>
                </a:cubicBezTo>
                <a:cubicBezTo>
                  <a:pt x="558" y="865"/>
                  <a:pt x="540" y="823"/>
                  <a:pt x="600" y="913"/>
                </a:cubicBezTo>
                <a:cubicBezTo>
                  <a:pt x="615" y="936"/>
                  <a:pt x="617" y="965"/>
                  <a:pt x="626" y="991"/>
                </a:cubicBezTo>
                <a:cubicBezTo>
                  <a:pt x="641" y="1037"/>
                  <a:pt x="657" y="1067"/>
                  <a:pt x="678" y="1109"/>
                </a:cubicBezTo>
                <a:cubicBezTo>
                  <a:pt x="684" y="1121"/>
                  <a:pt x="682" y="1137"/>
                  <a:pt x="691" y="1148"/>
                </a:cubicBezTo>
                <a:cubicBezTo>
                  <a:pt x="701" y="1160"/>
                  <a:pt x="719" y="1163"/>
                  <a:pt x="730" y="1174"/>
                </a:cubicBezTo>
                <a:cubicBezTo>
                  <a:pt x="746" y="1189"/>
                  <a:pt x="757" y="1208"/>
                  <a:pt x="770" y="1226"/>
                </a:cubicBezTo>
                <a:cubicBezTo>
                  <a:pt x="894" y="1402"/>
                  <a:pt x="764" y="1244"/>
                  <a:pt x="861" y="1330"/>
                </a:cubicBezTo>
                <a:cubicBezTo>
                  <a:pt x="953" y="1412"/>
                  <a:pt x="889" y="1384"/>
                  <a:pt x="965" y="1409"/>
                </a:cubicBezTo>
                <a:cubicBezTo>
                  <a:pt x="1031" y="1458"/>
                  <a:pt x="1105" y="1493"/>
                  <a:pt x="1174" y="1539"/>
                </a:cubicBezTo>
                <a:cubicBezTo>
                  <a:pt x="1187" y="1548"/>
                  <a:pt x="1200" y="1556"/>
                  <a:pt x="1213" y="1565"/>
                </a:cubicBezTo>
                <a:cubicBezTo>
                  <a:pt x="1226" y="1574"/>
                  <a:pt x="1252" y="1591"/>
                  <a:pt x="1252" y="1591"/>
                </a:cubicBezTo>
                <a:cubicBezTo>
                  <a:pt x="1297" y="1658"/>
                  <a:pt x="1256" y="1606"/>
                  <a:pt x="1330" y="1669"/>
                </a:cubicBezTo>
                <a:cubicBezTo>
                  <a:pt x="1340" y="1677"/>
                  <a:pt x="1348" y="1686"/>
                  <a:pt x="1356" y="1696"/>
                </a:cubicBezTo>
                <a:cubicBezTo>
                  <a:pt x="1366" y="1708"/>
                  <a:pt x="1370" y="1725"/>
                  <a:pt x="1382" y="1735"/>
                </a:cubicBezTo>
                <a:cubicBezTo>
                  <a:pt x="1406" y="1756"/>
                  <a:pt x="1435" y="1770"/>
                  <a:pt x="1461" y="1787"/>
                </a:cubicBezTo>
                <a:cubicBezTo>
                  <a:pt x="1476" y="1797"/>
                  <a:pt x="1486" y="1814"/>
                  <a:pt x="1500" y="1826"/>
                </a:cubicBezTo>
                <a:cubicBezTo>
                  <a:pt x="1539" y="1859"/>
                  <a:pt x="1586" y="1869"/>
                  <a:pt x="1630" y="1891"/>
                </a:cubicBezTo>
                <a:cubicBezTo>
                  <a:pt x="1731" y="1941"/>
                  <a:pt x="1610" y="1897"/>
                  <a:pt x="1708" y="1930"/>
                </a:cubicBezTo>
                <a:cubicBezTo>
                  <a:pt x="1776" y="1996"/>
                  <a:pt x="1843" y="2000"/>
                  <a:pt x="1930" y="2022"/>
                </a:cubicBezTo>
                <a:cubicBezTo>
                  <a:pt x="1957" y="2029"/>
                  <a:pt x="1982" y="2039"/>
                  <a:pt x="2008" y="2048"/>
                </a:cubicBezTo>
                <a:cubicBezTo>
                  <a:pt x="2021" y="2052"/>
                  <a:pt x="2048" y="2061"/>
                  <a:pt x="2048" y="2061"/>
                </a:cubicBezTo>
                <a:cubicBezTo>
                  <a:pt x="2061" y="2070"/>
                  <a:pt x="2073" y="2080"/>
                  <a:pt x="2087" y="2087"/>
                </a:cubicBezTo>
                <a:cubicBezTo>
                  <a:pt x="2099" y="2093"/>
                  <a:pt x="2114" y="2093"/>
                  <a:pt x="2126" y="2100"/>
                </a:cubicBezTo>
                <a:cubicBezTo>
                  <a:pt x="2184" y="2132"/>
                  <a:pt x="2221" y="2171"/>
                  <a:pt x="2282" y="2191"/>
                </a:cubicBezTo>
                <a:cubicBezTo>
                  <a:pt x="2284" y="2193"/>
                  <a:pt x="2357" y="2253"/>
                  <a:pt x="2361" y="2257"/>
                </a:cubicBezTo>
                <a:cubicBezTo>
                  <a:pt x="2372" y="2268"/>
                  <a:pt x="2375" y="2286"/>
                  <a:pt x="2387" y="2296"/>
                </a:cubicBezTo>
                <a:cubicBezTo>
                  <a:pt x="2411" y="2317"/>
                  <a:pt x="2443" y="2326"/>
                  <a:pt x="2465" y="2348"/>
                </a:cubicBezTo>
                <a:cubicBezTo>
                  <a:pt x="2469" y="2352"/>
                  <a:pt x="2474" y="2357"/>
                  <a:pt x="2478" y="236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52560" y="1987560"/>
            <a:ext cx="6686640" cy="1808280"/>
          </a:xfrm>
          <a:custGeom>
            <a:avLst/>
            <a:gdLst/>
            <a:ahLst/>
            <a:rect l="l" t="t" r="r" b="b"/>
            <a:pathLst>
              <a:path w="4212" h="1139">
                <a:moveTo>
                  <a:pt x="0" y="0"/>
                </a:moveTo>
                <a:cubicBezTo>
                  <a:pt x="2" y="9"/>
                  <a:pt x="12" y="96"/>
                  <a:pt x="26" y="118"/>
                </a:cubicBezTo>
                <a:cubicBezTo>
                  <a:pt x="36" y="133"/>
                  <a:pt x="53" y="143"/>
                  <a:pt x="65" y="157"/>
                </a:cubicBezTo>
                <a:cubicBezTo>
                  <a:pt x="100" y="199"/>
                  <a:pt x="123" y="230"/>
                  <a:pt x="169" y="261"/>
                </a:cubicBezTo>
                <a:cubicBezTo>
                  <a:pt x="190" y="324"/>
                  <a:pt x="172" y="290"/>
                  <a:pt x="235" y="353"/>
                </a:cubicBezTo>
                <a:cubicBezTo>
                  <a:pt x="297" y="415"/>
                  <a:pt x="293" y="494"/>
                  <a:pt x="378" y="522"/>
                </a:cubicBezTo>
                <a:cubicBezTo>
                  <a:pt x="447" y="626"/>
                  <a:pt x="356" y="500"/>
                  <a:pt x="443" y="587"/>
                </a:cubicBezTo>
                <a:cubicBezTo>
                  <a:pt x="454" y="598"/>
                  <a:pt x="459" y="614"/>
                  <a:pt x="469" y="626"/>
                </a:cubicBezTo>
                <a:cubicBezTo>
                  <a:pt x="535" y="705"/>
                  <a:pt x="481" y="632"/>
                  <a:pt x="548" y="692"/>
                </a:cubicBezTo>
                <a:cubicBezTo>
                  <a:pt x="682" y="811"/>
                  <a:pt x="576" y="737"/>
                  <a:pt x="665" y="796"/>
                </a:cubicBezTo>
                <a:cubicBezTo>
                  <a:pt x="681" y="820"/>
                  <a:pt x="704" y="859"/>
                  <a:pt x="730" y="874"/>
                </a:cubicBezTo>
                <a:cubicBezTo>
                  <a:pt x="754" y="887"/>
                  <a:pt x="808" y="900"/>
                  <a:pt x="808" y="900"/>
                </a:cubicBezTo>
                <a:cubicBezTo>
                  <a:pt x="930" y="1018"/>
                  <a:pt x="1266" y="988"/>
                  <a:pt x="1369" y="992"/>
                </a:cubicBezTo>
                <a:cubicBezTo>
                  <a:pt x="1499" y="1025"/>
                  <a:pt x="1641" y="1034"/>
                  <a:pt x="1774" y="1044"/>
                </a:cubicBezTo>
                <a:cubicBezTo>
                  <a:pt x="2036" y="1088"/>
                  <a:pt x="1647" y="1023"/>
                  <a:pt x="1943" y="1070"/>
                </a:cubicBezTo>
                <a:cubicBezTo>
                  <a:pt x="1995" y="1078"/>
                  <a:pt x="2100" y="1096"/>
                  <a:pt x="2100" y="1096"/>
                </a:cubicBezTo>
                <a:cubicBezTo>
                  <a:pt x="2230" y="1139"/>
                  <a:pt x="2370" y="1117"/>
                  <a:pt x="2504" y="1109"/>
                </a:cubicBezTo>
                <a:cubicBezTo>
                  <a:pt x="2624" y="1092"/>
                  <a:pt x="2564" y="1106"/>
                  <a:pt x="2673" y="1070"/>
                </a:cubicBezTo>
                <a:cubicBezTo>
                  <a:pt x="2686" y="1066"/>
                  <a:pt x="2713" y="1057"/>
                  <a:pt x="2713" y="1057"/>
                </a:cubicBezTo>
                <a:cubicBezTo>
                  <a:pt x="2838" y="974"/>
                  <a:pt x="2969" y="964"/>
                  <a:pt x="3117" y="953"/>
                </a:cubicBezTo>
                <a:cubicBezTo>
                  <a:pt x="3228" y="916"/>
                  <a:pt x="3332" y="872"/>
                  <a:pt x="3443" y="835"/>
                </a:cubicBezTo>
                <a:cubicBezTo>
                  <a:pt x="3501" y="816"/>
                  <a:pt x="3578" y="809"/>
                  <a:pt x="3638" y="796"/>
                </a:cubicBezTo>
                <a:cubicBezTo>
                  <a:pt x="3708" y="781"/>
                  <a:pt x="3778" y="761"/>
                  <a:pt x="3847" y="744"/>
                </a:cubicBezTo>
                <a:cubicBezTo>
                  <a:pt x="3874" y="737"/>
                  <a:pt x="3899" y="727"/>
                  <a:pt x="3925" y="718"/>
                </a:cubicBezTo>
                <a:cubicBezTo>
                  <a:pt x="3938" y="714"/>
                  <a:pt x="3965" y="705"/>
                  <a:pt x="3965" y="705"/>
                </a:cubicBezTo>
                <a:cubicBezTo>
                  <a:pt x="4007" y="677"/>
                  <a:pt x="4040" y="641"/>
                  <a:pt x="4082" y="613"/>
                </a:cubicBezTo>
                <a:cubicBezTo>
                  <a:pt x="4146" y="422"/>
                  <a:pt x="4212" y="200"/>
                  <a:pt x="4212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40240" y="1469880"/>
            <a:ext cx="604800" cy="3853080"/>
          </a:xfrm>
          <a:custGeom>
            <a:avLst/>
            <a:gdLst/>
            <a:ahLst/>
            <a:rect l="l" t="t" r="r" b="b"/>
            <a:pathLst>
              <a:path w="381" h="2427">
                <a:moveTo>
                  <a:pt x="326" y="2427"/>
                </a:moveTo>
                <a:cubicBezTo>
                  <a:pt x="381" y="2205"/>
                  <a:pt x="329" y="1994"/>
                  <a:pt x="261" y="1787"/>
                </a:cubicBezTo>
                <a:cubicBezTo>
                  <a:pt x="248" y="1749"/>
                  <a:pt x="239" y="1647"/>
                  <a:pt x="235" y="1618"/>
                </a:cubicBezTo>
                <a:cubicBezTo>
                  <a:pt x="225" y="1549"/>
                  <a:pt x="205" y="1488"/>
                  <a:pt x="183" y="1422"/>
                </a:cubicBezTo>
                <a:cubicBezTo>
                  <a:pt x="147" y="1313"/>
                  <a:pt x="89" y="1219"/>
                  <a:pt x="52" y="1109"/>
                </a:cubicBezTo>
                <a:cubicBezTo>
                  <a:pt x="39" y="1070"/>
                  <a:pt x="26" y="1031"/>
                  <a:pt x="13" y="992"/>
                </a:cubicBezTo>
                <a:cubicBezTo>
                  <a:pt x="9" y="979"/>
                  <a:pt x="0" y="952"/>
                  <a:pt x="0" y="952"/>
                </a:cubicBezTo>
                <a:cubicBezTo>
                  <a:pt x="4" y="748"/>
                  <a:pt x="1" y="543"/>
                  <a:pt x="13" y="339"/>
                </a:cubicBezTo>
                <a:cubicBezTo>
                  <a:pt x="20" y="213"/>
                  <a:pt x="179" y="82"/>
                  <a:pt x="261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30880" y="1387440"/>
            <a:ext cx="4222440" cy="1428840"/>
          </a:xfrm>
          <a:custGeom>
            <a:avLst/>
            <a:gdLst/>
            <a:ahLst/>
            <a:rect l="l" t="t" r="r" b="b"/>
            <a:pathLst>
              <a:path w="2660" h="900">
                <a:moveTo>
                  <a:pt x="0" y="0"/>
                </a:moveTo>
                <a:cubicBezTo>
                  <a:pt x="28" y="9"/>
                  <a:pt x="50" y="31"/>
                  <a:pt x="78" y="39"/>
                </a:cubicBezTo>
                <a:cubicBezTo>
                  <a:pt x="112" y="48"/>
                  <a:pt x="147" y="48"/>
                  <a:pt x="182" y="52"/>
                </a:cubicBezTo>
                <a:cubicBezTo>
                  <a:pt x="229" y="67"/>
                  <a:pt x="265" y="90"/>
                  <a:pt x="313" y="104"/>
                </a:cubicBezTo>
                <a:cubicBezTo>
                  <a:pt x="339" y="112"/>
                  <a:pt x="365" y="121"/>
                  <a:pt x="391" y="130"/>
                </a:cubicBezTo>
                <a:cubicBezTo>
                  <a:pt x="404" y="134"/>
                  <a:pt x="430" y="143"/>
                  <a:pt x="430" y="143"/>
                </a:cubicBezTo>
                <a:cubicBezTo>
                  <a:pt x="536" y="216"/>
                  <a:pt x="626" y="299"/>
                  <a:pt x="717" y="391"/>
                </a:cubicBezTo>
                <a:cubicBezTo>
                  <a:pt x="771" y="445"/>
                  <a:pt x="814" y="501"/>
                  <a:pt x="874" y="548"/>
                </a:cubicBezTo>
                <a:cubicBezTo>
                  <a:pt x="911" y="577"/>
                  <a:pt x="952" y="600"/>
                  <a:pt x="991" y="626"/>
                </a:cubicBezTo>
                <a:cubicBezTo>
                  <a:pt x="1006" y="636"/>
                  <a:pt x="1013" y="658"/>
                  <a:pt x="1030" y="665"/>
                </a:cubicBezTo>
                <a:cubicBezTo>
                  <a:pt x="1080" y="685"/>
                  <a:pt x="1187" y="704"/>
                  <a:pt x="1187" y="704"/>
                </a:cubicBezTo>
                <a:cubicBezTo>
                  <a:pt x="1266" y="745"/>
                  <a:pt x="1350" y="766"/>
                  <a:pt x="1434" y="796"/>
                </a:cubicBezTo>
                <a:cubicBezTo>
                  <a:pt x="1458" y="805"/>
                  <a:pt x="1497" y="832"/>
                  <a:pt x="1526" y="835"/>
                </a:cubicBezTo>
                <a:cubicBezTo>
                  <a:pt x="1599" y="842"/>
                  <a:pt x="1673" y="844"/>
                  <a:pt x="1747" y="848"/>
                </a:cubicBezTo>
                <a:cubicBezTo>
                  <a:pt x="2097" y="891"/>
                  <a:pt x="1575" y="830"/>
                  <a:pt x="2465" y="874"/>
                </a:cubicBezTo>
                <a:cubicBezTo>
                  <a:pt x="2526" y="877"/>
                  <a:pt x="2586" y="900"/>
                  <a:pt x="2647" y="900"/>
                </a:cubicBezTo>
                <a:cubicBezTo>
                  <a:pt x="2651" y="900"/>
                  <a:pt x="2656" y="900"/>
                  <a:pt x="2660" y="90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91120" y="3706920"/>
            <a:ext cx="2506680" cy="2404800"/>
          </a:xfrm>
          <a:custGeom>
            <a:avLst/>
            <a:gdLst/>
            <a:ahLst/>
            <a:rect l="l" t="t" r="r" b="b"/>
            <a:pathLst>
              <a:path w="1579" h="1515">
                <a:moveTo>
                  <a:pt x="66" y="0"/>
                </a:moveTo>
                <a:cubicBezTo>
                  <a:pt x="88" y="66"/>
                  <a:pt x="61" y="118"/>
                  <a:pt x="40" y="183"/>
                </a:cubicBezTo>
                <a:cubicBezTo>
                  <a:pt x="36" y="196"/>
                  <a:pt x="27" y="222"/>
                  <a:pt x="27" y="222"/>
                </a:cubicBezTo>
                <a:cubicBezTo>
                  <a:pt x="35" y="379"/>
                  <a:pt x="0" y="485"/>
                  <a:pt x="106" y="587"/>
                </a:cubicBezTo>
                <a:cubicBezTo>
                  <a:pt x="131" y="663"/>
                  <a:pt x="195" y="751"/>
                  <a:pt x="262" y="796"/>
                </a:cubicBezTo>
                <a:cubicBezTo>
                  <a:pt x="320" y="883"/>
                  <a:pt x="252" y="798"/>
                  <a:pt x="327" y="848"/>
                </a:cubicBezTo>
                <a:cubicBezTo>
                  <a:pt x="355" y="867"/>
                  <a:pt x="377" y="894"/>
                  <a:pt x="405" y="913"/>
                </a:cubicBezTo>
                <a:cubicBezTo>
                  <a:pt x="442" y="967"/>
                  <a:pt x="474" y="1010"/>
                  <a:pt x="536" y="1031"/>
                </a:cubicBezTo>
                <a:cubicBezTo>
                  <a:pt x="577" y="1072"/>
                  <a:pt x="623" y="1099"/>
                  <a:pt x="666" y="1135"/>
                </a:cubicBezTo>
                <a:cubicBezTo>
                  <a:pt x="738" y="1195"/>
                  <a:pt x="823" y="1274"/>
                  <a:pt x="914" y="1304"/>
                </a:cubicBezTo>
                <a:cubicBezTo>
                  <a:pt x="948" y="1340"/>
                  <a:pt x="1010" y="1367"/>
                  <a:pt x="1058" y="1383"/>
                </a:cubicBezTo>
                <a:cubicBezTo>
                  <a:pt x="1138" y="1436"/>
                  <a:pt x="1212" y="1490"/>
                  <a:pt x="1305" y="1513"/>
                </a:cubicBezTo>
                <a:cubicBezTo>
                  <a:pt x="1362" y="1509"/>
                  <a:pt x="1420" y="1515"/>
                  <a:pt x="1475" y="1500"/>
                </a:cubicBezTo>
                <a:cubicBezTo>
                  <a:pt x="1496" y="1494"/>
                  <a:pt x="1518" y="1410"/>
                  <a:pt x="1527" y="1383"/>
                </a:cubicBezTo>
                <a:cubicBezTo>
                  <a:pt x="1531" y="1370"/>
                  <a:pt x="1540" y="1344"/>
                  <a:pt x="1540" y="1344"/>
                </a:cubicBezTo>
                <a:cubicBezTo>
                  <a:pt x="1550" y="1220"/>
                  <a:pt x="1579" y="1089"/>
                  <a:pt x="1579" y="96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22440" y="1592280"/>
            <a:ext cx="1455840" cy="2384280"/>
          </a:xfrm>
          <a:custGeom>
            <a:avLst/>
            <a:gdLst/>
            <a:ahLst/>
            <a:rect l="l" t="t" r="r" b="b"/>
            <a:pathLst>
              <a:path w="917" h="1502">
                <a:moveTo>
                  <a:pt x="0" y="1502"/>
                </a:moveTo>
                <a:cubicBezTo>
                  <a:pt x="26" y="1463"/>
                  <a:pt x="63" y="1429"/>
                  <a:pt x="78" y="1384"/>
                </a:cubicBezTo>
                <a:cubicBezTo>
                  <a:pt x="87" y="1358"/>
                  <a:pt x="95" y="1332"/>
                  <a:pt x="104" y="1306"/>
                </a:cubicBezTo>
                <a:cubicBezTo>
                  <a:pt x="108" y="1293"/>
                  <a:pt x="117" y="1267"/>
                  <a:pt x="117" y="1267"/>
                </a:cubicBezTo>
                <a:cubicBezTo>
                  <a:pt x="121" y="1219"/>
                  <a:pt x="127" y="1171"/>
                  <a:pt x="130" y="1123"/>
                </a:cubicBezTo>
                <a:cubicBezTo>
                  <a:pt x="135" y="1040"/>
                  <a:pt x="136" y="957"/>
                  <a:pt x="143" y="875"/>
                </a:cubicBezTo>
                <a:cubicBezTo>
                  <a:pt x="145" y="856"/>
                  <a:pt x="178" y="749"/>
                  <a:pt x="182" y="745"/>
                </a:cubicBezTo>
                <a:cubicBezTo>
                  <a:pt x="204" y="723"/>
                  <a:pt x="231" y="706"/>
                  <a:pt x="248" y="680"/>
                </a:cubicBezTo>
                <a:cubicBezTo>
                  <a:pt x="257" y="667"/>
                  <a:pt x="263" y="652"/>
                  <a:pt x="274" y="641"/>
                </a:cubicBezTo>
                <a:cubicBezTo>
                  <a:pt x="285" y="630"/>
                  <a:pt x="301" y="625"/>
                  <a:pt x="313" y="615"/>
                </a:cubicBezTo>
                <a:cubicBezTo>
                  <a:pt x="336" y="595"/>
                  <a:pt x="356" y="571"/>
                  <a:pt x="378" y="549"/>
                </a:cubicBezTo>
                <a:cubicBezTo>
                  <a:pt x="391" y="536"/>
                  <a:pt x="404" y="523"/>
                  <a:pt x="417" y="510"/>
                </a:cubicBezTo>
                <a:cubicBezTo>
                  <a:pt x="430" y="497"/>
                  <a:pt x="456" y="471"/>
                  <a:pt x="456" y="471"/>
                </a:cubicBezTo>
                <a:cubicBezTo>
                  <a:pt x="478" y="405"/>
                  <a:pt x="545" y="358"/>
                  <a:pt x="587" y="301"/>
                </a:cubicBezTo>
                <a:cubicBezTo>
                  <a:pt x="653" y="212"/>
                  <a:pt x="695" y="105"/>
                  <a:pt x="808" y="67"/>
                </a:cubicBezTo>
                <a:cubicBezTo>
                  <a:pt x="817" y="58"/>
                  <a:pt x="824" y="47"/>
                  <a:pt x="835" y="41"/>
                </a:cubicBezTo>
                <a:cubicBezTo>
                  <a:pt x="917" y="0"/>
                  <a:pt x="913" y="44"/>
                  <a:pt x="913" y="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46040" y="1407960"/>
            <a:ext cx="2961000" cy="1097280"/>
          </a:xfrm>
          <a:custGeom>
            <a:avLst/>
            <a:gdLst/>
            <a:ahLst/>
            <a:rect l="l" t="t" r="r" b="b"/>
            <a:pathLst>
              <a:path w="1865" h="691">
                <a:moveTo>
                  <a:pt x="0" y="691"/>
                </a:moveTo>
                <a:cubicBezTo>
                  <a:pt x="95" y="628"/>
                  <a:pt x="183" y="555"/>
                  <a:pt x="287" y="509"/>
                </a:cubicBezTo>
                <a:cubicBezTo>
                  <a:pt x="325" y="492"/>
                  <a:pt x="365" y="483"/>
                  <a:pt x="404" y="470"/>
                </a:cubicBezTo>
                <a:cubicBezTo>
                  <a:pt x="417" y="466"/>
                  <a:pt x="430" y="461"/>
                  <a:pt x="443" y="457"/>
                </a:cubicBezTo>
                <a:cubicBezTo>
                  <a:pt x="456" y="453"/>
                  <a:pt x="482" y="444"/>
                  <a:pt x="482" y="444"/>
                </a:cubicBezTo>
                <a:cubicBezTo>
                  <a:pt x="521" y="404"/>
                  <a:pt x="584" y="397"/>
                  <a:pt x="639" y="391"/>
                </a:cubicBezTo>
                <a:cubicBezTo>
                  <a:pt x="769" y="377"/>
                  <a:pt x="1077" y="369"/>
                  <a:pt x="1173" y="365"/>
                </a:cubicBezTo>
                <a:cubicBezTo>
                  <a:pt x="1217" y="361"/>
                  <a:pt x="1261" y="360"/>
                  <a:pt x="1304" y="352"/>
                </a:cubicBezTo>
                <a:cubicBezTo>
                  <a:pt x="1371" y="340"/>
                  <a:pt x="1432" y="300"/>
                  <a:pt x="1499" y="287"/>
                </a:cubicBezTo>
                <a:cubicBezTo>
                  <a:pt x="1599" y="267"/>
                  <a:pt x="1543" y="277"/>
                  <a:pt x="1669" y="261"/>
                </a:cubicBezTo>
                <a:cubicBezTo>
                  <a:pt x="1678" y="248"/>
                  <a:pt x="1683" y="232"/>
                  <a:pt x="1695" y="222"/>
                </a:cubicBezTo>
                <a:cubicBezTo>
                  <a:pt x="1719" y="201"/>
                  <a:pt x="1773" y="170"/>
                  <a:pt x="1773" y="170"/>
                </a:cubicBezTo>
                <a:cubicBezTo>
                  <a:pt x="1788" y="125"/>
                  <a:pt x="1805" y="98"/>
                  <a:pt x="1839" y="65"/>
                </a:cubicBezTo>
                <a:cubicBezTo>
                  <a:pt x="1855" y="17"/>
                  <a:pt x="1846" y="38"/>
                  <a:pt x="1865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04080" y="1884240"/>
            <a:ext cx="906480" cy="3521160"/>
          </a:xfrm>
          <a:custGeom>
            <a:avLst/>
            <a:gdLst/>
            <a:ahLst/>
            <a:rect l="l" t="t" r="r" b="b"/>
            <a:pathLst>
              <a:path w="571" h="2218">
                <a:moveTo>
                  <a:pt x="0" y="2218"/>
                </a:moveTo>
                <a:cubicBezTo>
                  <a:pt x="20" y="2157"/>
                  <a:pt x="32" y="2096"/>
                  <a:pt x="52" y="2035"/>
                </a:cubicBezTo>
                <a:cubicBezTo>
                  <a:pt x="56" y="2022"/>
                  <a:pt x="54" y="2004"/>
                  <a:pt x="65" y="1996"/>
                </a:cubicBezTo>
                <a:cubicBezTo>
                  <a:pt x="78" y="1987"/>
                  <a:pt x="91" y="1979"/>
                  <a:pt x="104" y="1970"/>
                </a:cubicBezTo>
                <a:cubicBezTo>
                  <a:pt x="147" y="1840"/>
                  <a:pt x="74" y="2041"/>
                  <a:pt x="157" y="1892"/>
                </a:cubicBezTo>
                <a:cubicBezTo>
                  <a:pt x="171" y="1868"/>
                  <a:pt x="174" y="1839"/>
                  <a:pt x="183" y="1813"/>
                </a:cubicBezTo>
                <a:cubicBezTo>
                  <a:pt x="204" y="1749"/>
                  <a:pt x="232" y="1684"/>
                  <a:pt x="248" y="1618"/>
                </a:cubicBezTo>
                <a:cubicBezTo>
                  <a:pt x="270" y="1527"/>
                  <a:pt x="273" y="1434"/>
                  <a:pt x="300" y="1344"/>
                </a:cubicBezTo>
                <a:cubicBezTo>
                  <a:pt x="303" y="1333"/>
                  <a:pt x="331" y="1251"/>
                  <a:pt x="339" y="1226"/>
                </a:cubicBezTo>
                <a:cubicBezTo>
                  <a:pt x="349" y="1196"/>
                  <a:pt x="381" y="1178"/>
                  <a:pt x="391" y="1148"/>
                </a:cubicBezTo>
                <a:cubicBezTo>
                  <a:pt x="400" y="1122"/>
                  <a:pt x="408" y="1096"/>
                  <a:pt x="417" y="1070"/>
                </a:cubicBezTo>
                <a:cubicBezTo>
                  <a:pt x="427" y="1040"/>
                  <a:pt x="470" y="991"/>
                  <a:pt x="470" y="991"/>
                </a:cubicBezTo>
                <a:cubicBezTo>
                  <a:pt x="474" y="978"/>
                  <a:pt x="476" y="964"/>
                  <a:pt x="483" y="952"/>
                </a:cubicBezTo>
                <a:cubicBezTo>
                  <a:pt x="498" y="925"/>
                  <a:pt x="535" y="874"/>
                  <a:pt x="535" y="874"/>
                </a:cubicBezTo>
                <a:cubicBezTo>
                  <a:pt x="543" y="843"/>
                  <a:pt x="561" y="815"/>
                  <a:pt x="561" y="783"/>
                </a:cubicBezTo>
                <a:cubicBezTo>
                  <a:pt x="561" y="510"/>
                  <a:pt x="571" y="369"/>
                  <a:pt x="496" y="144"/>
                </a:cubicBezTo>
                <a:cubicBezTo>
                  <a:pt x="480" y="96"/>
                  <a:pt x="481" y="38"/>
                  <a:pt x="443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36800" y="3333600"/>
            <a:ext cx="1635120" cy="870120"/>
          </a:xfrm>
          <a:custGeom>
            <a:avLst/>
            <a:gdLst/>
            <a:ahLst/>
            <a:rect l="l" t="t" r="r" b="b"/>
            <a:pathLst>
              <a:path w="1030" h="548">
                <a:moveTo>
                  <a:pt x="0" y="548"/>
                </a:moveTo>
                <a:cubicBezTo>
                  <a:pt x="9" y="520"/>
                  <a:pt x="15" y="491"/>
                  <a:pt x="39" y="470"/>
                </a:cubicBezTo>
                <a:cubicBezTo>
                  <a:pt x="63" y="449"/>
                  <a:pt x="117" y="418"/>
                  <a:pt x="117" y="418"/>
                </a:cubicBezTo>
                <a:cubicBezTo>
                  <a:pt x="146" y="374"/>
                  <a:pt x="158" y="356"/>
                  <a:pt x="208" y="339"/>
                </a:cubicBezTo>
                <a:cubicBezTo>
                  <a:pt x="230" y="317"/>
                  <a:pt x="252" y="296"/>
                  <a:pt x="274" y="274"/>
                </a:cubicBezTo>
                <a:cubicBezTo>
                  <a:pt x="303" y="245"/>
                  <a:pt x="484" y="225"/>
                  <a:pt x="508" y="222"/>
                </a:cubicBezTo>
                <a:cubicBezTo>
                  <a:pt x="602" y="191"/>
                  <a:pt x="564" y="211"/>
                  <a:pt x="626" y="170"/>
                </a:cubicBezTo>
                <a:cubicBezTo>
                  <a:pt x="643" y="144"/>
                  <a:pt x="656" y="115"/>
                  <a:pt x="678" y="92"/>
                </a:cubicBezTo>
                <a:cubicBezTo>
                  <a:pt x="687" y="83"/>
                  <a:pt x="696" y="75"/>
                  <a:pt x="704" y="65"/>
                </a:cubicBezTo>
                <a:cubicBezTo>
                  <a:pt x="714" y="53"/>
                  <a:pt x="716" y="34"/>
                  <a:pt x="730" y="26"/>
                </a:cubicBezTo>
                <a:cubicBezTo>
                  <a:pt x="737" y="22"/>
                  <a:pt x="873" y="0"/>
                  <a:pt x="873" y="0"/>
                </a:cubicBezTo>
                <a:cubicBezTo>
                  <a:pt x="903" y="29"/>
                  <a:pt x="923" y="62"/>
                  <a:pt x="952" y="92"/>
                </a:cubicBezTo>
                <a:cubicBezTo>
                  <a:pt x="974" y="157"/>
                  <a:pt x="1000" y="213"/>
                  <a:pt x="1030" y="274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02040" y="2525760"/>
            <a:ext cx="102960" cy="1409760"/>
          </a:xfrm>
          <a:custGeom>
            <a:avLst/>
            <a:gdLst/>
            <a:ahLst/>
            <a:rect l="l" t="t" r="r" b="b"/>
            <a:pathLst>
              <a:path w="65" h="888">
                <a:moveTo>
                  <a:pt x="0" y="0"/>
                </a:moveTo>
                <a:cubicBezTo>
                  <a:pt x="24" y="148"/>
                  <a:pt x="20" y="296"/>
                  <a:pt x="39" y="444"/>
                </a:cubicBezTo>
                <a:cubicBezTo>
                  <a:pt x="43" y="471"/>
                  <a:pt x="65" y="495"/>
                  <a:pt x="65" y="522"/>
                </a:cubicBezTo>
                <a:cubicBezTo>
                  <a:pt x="65" y="644"/>
                  <a:pt x="65" y="766"/>
                  <a:pt x="65" y="888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1482840"/>
            <a:ext cx="1709640" cy="2244600"/>
          </a:xfrm>
          <a:custGeom>
            <a:avLst/>
            <a:gdLst/>
            <a:ahLst/>
            <a:rect l="l" t="t" r="r" b="b"/>
            <a:pathLst>
              <a:path w="1077" h="1414">
                <a:moveTo>
                  <a:pt x="464" y="18"/>
                </a:moveTo>
                <a:cubicBezTo>
                  <a:pt x="499" y="123"/>
                  <a:pt x="446" y="0"/>
                  <a:pt x="516" y="70"/>
                </a:cubicBezTo>
                <a:cubicBezTo>
                  <a:pt x="578" y="132"/>
                  <a:pt x="580" y="187"/>
                  <a:pt x="660" y="240"/>
                </a:cubicBezTo>
                <a:cubicBezTo>
                  <a:pt x="729" y="344"/>
                  <a:pt x="638" y="218"/>
                  <a:pt x="725" y="305"/>
                </a:cubicBezTo>
                <a:cubicBezTo>
                  <a:pt x="736" y="316"/>
                  <a:pt x="740" y="333"/>
                  <a:pt x="751" y="344"/>
                </a:cubicBezTo>
                <a:cubicBezTo>
                  <a:pt x="779" y="372"/>
                  <a:pt x="822" y="401"/>
                  <a:pt x="855" y="423"/>
                </a:cubicBezTo>
                <a:cubicBezTo>
                  <a:pt x="903" y="495"/>
                  <a:pt x="919" y="482"/>
                  <a:pt x="986" y="527"/>
                </a:cubicBezTo>
                <a:cubicBezTo>
                  <a:pt x="1014" y="570"/>
                  <a:pt x="1049" y="589"/>
                  <a:pt x="1077" y="631"/>
                </a:cubicBezTo>
                <a:cubicBezTo>
                  <a:pt x="1073" y="679"/>
                  <a:pt x="1071" y="727"/>
                  <a:pt x="1064" y="775"/>
                </a:cubicBezTo>
                <a:cubicBezTo>
                  <a:pt x="1062" y="789"/>
                  <a:pt x="1061" y="804"/>
                  <a:pt x="1051" y="814"/>
                </a:cubicBezTo>
                <a:cubicBezTo>
                  <a:pt x="1044" y="821"/>
                  <a:pt x="948" y="858"/>
                  <a:pt x="934" y="866"/>
                </a:cubicBezTo>
                <a:cubicBezTo>
                  <a:pt x="932" y="867"/>
                  <a:pt x="837" y="930"/>
                  <a:pt x="816" y="944"/>
                </a:cubicBezTo>
                <a:cubicBezTo>
                  <a:pt x="803" y="953"/>
                  <a:pt x="790" y="962"/>
                  <a:pt x="777" y="971"/>
                </a:cubicBezTo>
                <a:cubicBezTo>
                  <a:pt x="764" y="980"/>
                  <a:pt x="738" y="997"/>
                  <a:pt x="738" y="997"/>
                </a:cubicBezTo>
                <a:cubicBezTo>
                  <a:pt x="701" y="1052"/>
                  <a:pt x="658" y="1097"/>
                  <a:pt x="621" y="1153"/>
                </a:cubicBezTo>
                <a:cubicBezTo>
                  <a:pt x="555" y="1253"/>
                  <a:pt x="631" y="1207"/>
                  <a:pt x="568" y="1258"/>
                </a:cubicBezTo>
                <a:cubicBezTo>
                  <a:pt x="556" y="1268"/>
                  <a:pt x="542" y="1275"/>
                  <a:pt x="529" y="1284"/>
                </a:cubicBezTo>
                <a:cubicBezTo>
                  <a:pt x="520" y="1297"/>
                  <a:pt x="515" y="1313"/>
                  <a:pt x="503" y="1323"/>
                </a:cubicBezTo>
                <a:cubicBezTo>
                  <a:pt x="492" y="1332"/>
                  <a:pt x="476" y="1330"/>
                  <a:pt x="464" y="1336"/>
                </a:cubicBezTo>
                <a:cubicBezTo>
                  <a:pt x="450" y="1343"/>
                  <a:pt x="439" y="1356"/>
                  <a:pt x="425" y="1362"/>
                </a:cubicBezTo>
                <a:cubicBezTo>
                  <a:pt x="372" y="1385"/>
                  <a:pt x="311" y="1400"/>
                  <a:pt x="255" y="1414"/>
                </a:cubicBezTo>
                <a:cubicBezTo>
                  <a:pt x="254" y="1414"/>
                  <a:pt x="155" y="1401"/>
                  <a:pt x="138" y="1388"/>
                </a:cubicBezTo>
                <a:cubicBezTo>
                  <a:pt x="126" y="1378"/>
                  <a:pt x="123" y="1360"/>
                  <a:pt x="112" y="1349"/>
                </a:cubicBezTo>
                <a:cubicBezTo>
                  <a:pt x="101" y="1338"/>
                  <a:pt x="86" y="1332"/>
                  <a:pt x="73" y="1323"/>
                </a:cubicBezTo>
                <a:cubicBezTo>
                  <a:pt x="0" y="1214"/>
                  <a:pt x="72" y="1010"/>
                  <a:pt x="86" y="879"/>
                </a:cubicBezTo>
                <a:cubicBezTo>
                  <a:pt x="93" y="682"/>
                  <a:pt x="39" y="432"/>
                  <a:pt x="229" y="305"/>
                </a:cubicBezTo>
                <a:cubicBezTo>
                  <a:pt x="260" y="212"/>
                  <a:pt x="215" y="319"/>
                  <a:pt x="282" y="240"/>
                </a:cubicBezTo>
                <a:cubicBezTo>
                  <a:pt x="367" y="139"/>
                  <a:pt x="250" y="227"/>
                  <a:pt x="347" y="162"/>
                </a:cubicBezTo>
                <a:cubicBezTo>
                  <a:pt x="356" y="149"/>
                  <a:pt x="362" y="134"/>
                  <a:pt x="373" y="123"/>
                </a:cubicBezTo>
                <a:cubicBezTo>
                  <a:pt x="404" y="92"/>
                  <a:pt x="464" y="72"/>
                  <a:pt x="464" y="18"/>
                </a:cubicBez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54560" y="3106800"/>
            <a:ext cx="1099800" cy="1117440"/>
          </a:xfrm>
          <a:custGeom>
            <a:avLst/>
            <a:gdLst/>
            <a:ahLst/>
            <a:rect l="l" t="t" r="r" b="b"/>
            <a:pathLst>
              <a:path w="693" h="704">
                <a:moveTo>
                  <a:pt x="185" y="326"/>
                </a:moveTo>
                <a:cubicBezTo>
                  <a:pt x="189" y="230"/>
                  <a:pt x="182" y="133"/>
                  <a:pt x="198" y="39"/>
                </a:cubicBezTo>
                <a:cubicBezTo>
                  <a:pt x="201" y="20"/>
                  <a:pt x="222" y="72"/>
                  <a:pt x="224" y="91"/>
                </a:cubicBezTo>
                <a:cubicBezTo>
                  <a:pt x="235" y="173"/>
                  <a:pt x="233" y="256"/>
                  <a:pt x="237" y="339"/>
                </a:cubicBezTo>
                <a:cubicBezTo>
                  <a:pt x="287" y="273"/>
                  <a:pt x="322" y="227"/>
                  <a:pt x="354" y="156"/>
                </a:cubicBezTo>
                <a:cubicBezTo>
                  <a:pt x="365" y="131"/>
                  <a:pt x="399" y="59"/>
                  <a:pt x="380" y="78"/>
                </a:cubicBezTo>
                <a:cubicBezTo>
                  <a:pt x="320" y="138"/>
                  <a:pt x="294" y="220"/>
                  <a:pt x="211" y="248"/>
                </a:cubicBezTo>
                <a:cubicBezTo>
                  <a:pt x="215" y="204"/>
                  <a:pt x="210" y="159"/>
                  <a:pt x="224" y="117"/>
                </a:cubicBezTo>
                <a:cubicBezTo>
                  <a:pt x="229" y="102"/>
                  <a:pt x="259" y="76"/>
                  <a:pt x="263" y="91"/>
                </a:cubicBezTo>
                <a:cubicBezTo>
                  <a:pt x="282" y="172"/>
                  <a:pt x="272" y="256"/>
                  <a:pt x="276" y="339"/>
                </a:cubicBezTo>
                <a:cubicBezTo>
                  <a:pt x="289" y="304"/>
                  <a:pt x="297" y="268"/>
                  <a:pt x="315" y="235"/>
                </a:cubicBezTo>
                <a:cubicBezTo>
                  <a:pt x="324" y="219"/>
                  <a:pt x="342" y="209"/>
                  <a:pt x="354" y="195"/>
                </a:cubicBezTo>
                <a:cubicBezTo>
                  <a:pt x="403" y="135"/>
                  <a:pt x="463" y="90"/>
                  <a:pt x="537" y="65"/>
                </a:cubicBezTo>
                <a:cubicBezTo>
                  <a:pt x="550" y="52"/>
                  <a:pt x="576" y="44"/>
                  <a:pt x="576" y="26"/>
                </a:cubicBezTo>
                <a:cubicBezTo>
                  <a:pt x="576" y="10"/>
                  <a:pt x="549" y="42"/>
                  <a:pt x="537" y="52"/>
                </a:cubicBezTo>
                <a:cubicBezTo>
                  <a:pt x="477" y="106"/>
                  <a:pt x="433" y="164"/>
                  <a:pt x="367" y="208"/>
                </a:cubicBezTo>
                <a:cubicBezTo>
                  <a:pt x="339" y="251"/>
                  <a:pt x="304" y="284"/>
                  <a:pt x="276" y="326"/>
                </a:cubicBezTo>
                <a:cubicBezTo>
                  <a:pt x="280" y="300"/>
                  <a:pt x="279" y="272"/>
                  <a:pt x="289" y="248"/>
                </a:cubicBezTo>
                <a:cubicBezTo>
                  <a:pt x="332" y="138"/>
                  <a:pt x="461" y="95"/>
                  <a:pt x="524" y="0"/>
                </a:cubicBezTo>
                <a:cubicBezTo>
                  <a:pt x="514" y="39"/>
                  <a:pt x="514" y="80"/>
                  <a:pt x="498" y="117"/>
                </a:cubicBezTo>
                <a:cubicBezTo>
                  <a:pt x="491" y="133"/>
                  <a:pt x="442" y="162"/>
                  <a:pt x="432" y="169"/>
                </a:cubicBezTo>
                <a:cubicBezTo>
                  <a:pt x="363" y="272"/>
                  <a:pt x="453" y="147"/>
                  <a:pt x="367" y="235"/>
                </a:cubicBezTo>
                <a:cubicBezTo>
                  <a:pt x="356" y="246"/>
                  <a:pt x="330" y="263"/>
                  <a:pt x="341" y="274"/>
                </a:cubicBezTo>
                <a:cubicBezTo>
                  <a:pt x="354" y="287"/>
                  <a:pt x="375" y="264"/>
                  <a:pt x="393" y="261"/>
                </a:cubicBezTo>
                <a:cubicBezTo>
                  <a:pt x="492" y="245"/>
                  <a:pt x="593" y="233"/>
                  <a:pt x="693" y="221"/>
                </a:cubicBezTo>
                <a:cubicBezTo>
                  <a:pt x="667" y="217"/>
                  <a:pt x="638" y="221"/>
                  <a:pt x="615" y="208"/>
                </a:cubicBezTo>
                <a:cubicBezTo>
                  <a:pt x="603" y="201"/>
                  <a:pt x="612" y="179"/>
                  <a:pt x="602" y="169"/>
                </a:cubicBezTo>
                <a:cubicBezTo>
                  <a:pt x="592" y="159"/>
                  <a:pt x="576" y="160"/>
                  <a:pt x="563" y="156"/>
                </a:cubicBezTo>
                <a:cubicBezTo>
                  <a:pt x="554" y="169"/>
                  <a:pt x="548" y="184"/>
                  <a:pt x="537" y="195"/>
                </a:cubicBezTo>
                <a:cubicBezTo>
                  <a:pt x="526" y="206"/>
                  <a:pt x="506" y="208"/>
                  <a:pt x="498" y="221"/>
                </a:cubicBezTo>
                <a:cubicBezTo>
                  <a:pt x="459" y="282"/>
                  <a:pt x="497" y="313"/>
                  <a:pt x="419" y="339"/>
                </a:cubicBezTo>
                <a:cubicBezTo>
                  <a:pt x="386" y="350"/>
                  <a:pt x="350" y="348"/>
                  <a:pt x="315" y="352"/>
                </a:cubicBezTo>
                <a:cubicBezTo>
                  <a:pt x="224" y="382"/>
                  <a:pt x="211" y="369"/>
                  <a:pt x="276" y="391"/>
                </a:cubicBezTo>
                <a:cubicBezTo>
                  <a:pt x="433" y="379"/>
                  <a:pt x="445" y="338"/>
                  <a:pt x="484" y="456"/>
                </a:cubicBezTo>
                <a:cubicBezTo>
                  <a:pt x="494" y="522"/>
                  <a:pt x="508" y="575"/>
                  <a:pt x="524" y="639"/>
                </a:cubicBezTo>
                <a:cubicBezTo>
                  <a:pt x="558" y="536"/>
                  <a:pt x="514" y="500"/>
                  <a:pt x="445" y="443"/>
                </a:cubicBezTo>
                <a:cubicBezTo>
                  <a:pt x="388" y="395"/>
                  <a:pt x="348" y="357"/>
                  <a:pt x="276" y="339"/>
                </a:cubicBezTo>
                <a:cubicBezTo>
                  <a:pt x="254" y="404"/>
                  <a:pt x="259" y="365"/>
                  <a:pt x="289" y="456"/>
                </a:cubicBezTo>
                <a:cubicBezTo>
                  <a:pt x="316" y="538"/>
                  <a:pt x="340" y="622"/>
                  <a:pt x="367" y="704"/>
                </a:cubicBezTo>
                <a:cubicBezTo>
                  <a:pt x="422" y="621"/>
                  <a:pt x="373" y="581"/>
                  <a:pt x="341" y="508"/>
                </a:cubicBezTo>
                <a:cubicBezTo>
                  <a:pt x="330" y="483"/>
                  <a:pt x="315" y="430"/>
                  <a:pt x="315" y="430"/>
                </a:cubicBezTo>
                <a:cubicBezTo>
                  <a:pt x="323" y="400"/>
                  <a:pt x="330" y="312"/>
                  <a:pt x="367" y="430"/>
                </a:cubicBezTo>
                <a:cubicBezTo>
                  <a:pt x="383" y="481"/>
                  <a:pt x="384" y="535"/>
                  <a:pt x="393" y="587"/>
                </a:cubicBezTo>
                <a:cubicBezTo>
                  <a:pt x="395" y="601"/>
                  <a:pt x="402" y="613"/>
                  <a:pt x="406" y="626"/>
                </a:cubicBezTo>
                <a:cubicBezTo>
                  <a:pt x="419" y="622"/>
                  <a:pt x="440" y="626"/>
                  <a:pt x="445" y="613"/>
                </a:cubicBezTo>
                <a:cubicBezTo>
                  <a:pt x="452" y="596"/>
                  <a:pt x="440" y="577"/>
                  <a:pt x="432" y="561"/>
                </a:cubicBezTo>
                <a:cubicBezTo>
                  <a:pt x="394" y="484"/>
                  <a:pt x="395" y="492"/>
                  <a:pt x="341" y="456"/>
                </a:cubicBezTo>
                <a:cubicBezTo>
                  <a:pt x="294" y="484"/>
                  <a:pt x="261" y="518"/>
                  <a:pt x="211" y="535"/>
                </a:cubicBezTo>
                <a:cubicBezTo>
                  <a:pt x="202" y="548"/>
                  <a:pt x="195" y="562"/>
                  <a:pt x="185" y="574"/>
                </a:cubicBezTo>
                <a:cubicBezTo>
                  <a:pt x="177" y="584"/>
                  <a:pt x="165" y="590"/>
                  <a:pt x="158" y="600"/>
                </a:cubicBezTo>
                <a:cubicBezTo>
                  <a:pt x="138" y="629"/>
                  <a:pt x="125" y="662"/>
                  <a:pt x="106" y="691"/>
                </a:cubicBezTo>
                <a:cubicBezTo>
                  <a:pt x="133" y="557"/>
                  <a:pt x="117" y="458"/>
                  <a:pt x="237" y="378"/>
                </a:cubicBezTo>
                <a:cubicBezTo>
                  <a:pt x="246" y="365"/>
                  <a:pt x="276" y="348"/>
                  <a:pt x="263" y="339"/>
                </a:cubicBezTo>
                <a:cubicBezTo>
                  <a:pt x="215" y="307"/>
                  <a:pt x="125" y="424"/>
                  <a:pt x="119" y="430"/>
                </a:cubicBezTo>
                <a:cubicBezTo>
                  <a:pt x="109" y="460"/>
                  <a:pt x="48" y="685"/>
                  <a:pt x="2" y="548"/>
                </a:cubicBezTo>
                <a:cubicBezTo>
                  <a:pt x="6" y="478"/>
                  <a:pt x="0" y="407"/>
                  <a:pt x="15" y="339"/>
                </a:cubicBezTo>
                <a:cubicBezTo>
                  <a:pt x="18" y="324"/>
                  <a:pt x="44" y="325"/>
                  <a:pt x="54" y="313"/>
                </a:cubicBezTo>
                <a:cubicBezTo>
                  <a:pt x="63" y="302"/>
                  <a:pt x="63" y="287"/>
                  <a:pt x="67" y="274"/>
                </a:cubicBezTo>
                <a:cubicBezTo>
                  <a:pt x="12" y="107"/>
                  <a:pt x="49" y="225"/>
                  <a:pt x="67" y="261"/>
                </a:cubicBezTo>
                <a:cubicBezTo>
                  <a:pt x="90" y="308"/>
                  <a:pt x="129" y="348"/>
                  <a:pt x="158" y="391"/>
                </a:cubicBezTo>
                <a:cubicBezTo>
                  <a:pt x="176" y="387"/>
                  <a:pt x="205" y="395"/>
                  <a:pt x="211" y="378"/>
                </a:cubicBezTo>
                <a:cubicBezTo>
                  <a:pt x="216" y="363"/>
                  <a:pt x="182" y="363"/>
                  <a:pt x="171" y="352"/>
                </a:cubicBezTo>
                <a:cubicBezTo>
                  <a:pt x="147" y="328"/>
                  <a:pt x="130" y="298"/>
                  <a:pt x="106" y="274"/>
                </a:cubicBezTo>
                <a:cubicBezTo>
                  <a:pt x="168" y="233"/>
                  <a:pt x="130" y="243"/>
                  <a:pt x="224" y="274"/>
                </a:cubicBezTo>
                <a:cubicBezTo>
                  <a:pt x="237" y="278"/>
                  <a:pt x="263" y="287"/>
                  <a:pt x="263" y="287"/>
                </a:cubicBezTo>
                <a:cubicBezTo>
                  <a:pt x="262" y="288"/>
                  <a:pt x="200" y="366"/>
                  <a:pt x="171" y="352"/>
                </a:cubicBezTo>
                <a:cubicBezTo>
                  <a:pt x="159" y="346"/>
                  <a:pt x="167" y="324"/>
                  <a:pt x="158" y="313"/>
                </a:cubicBezTo>
                <a:cubicBezTo>
                  <a:pt x="148" y="301"/>
                  <a:pt x="131" y="297"/>
                  <a:pt x="119" y="287"/>
                </a:cubicBezTo>
                <a:cubicBezTo>
                  <a:pt x="96" y="267"/>
                  <a:pt x="54" y="221"/>
                  <a:pt x="54" y="221"/>
                </a:cubicBezTo>
                <a:cubicBezTo>
                  <a:pt x="67" y="212"/>
                  <a:pt x="78" y="191"/>
                  <a:pt x="93" y="195"/>
                </a:cubicBezTo>
                <a:cubicBezTo>
                  <a:pt x="135" y="205"/>
                  <a:pt x="209" y="286"/>
                  <a:pt x="237" y="313"/>
                </a:cubicBezTo>
                <a:cubicBezTo>
                  <a:pt x="248" y="324"/>
                  <a:pt x="247" y="352"/>
                  <a:pt x="263" y="352"/>
                </a:cubicBezTo>
                <a:cubicBezTo>
                  <a:pt x="277" y="352"/>
                  <a:pt x="260" y="323"/>
                  <a:pt x="250" y="313"/>
                </a:cubicBezTo>
                <a:cubicBezTo>
                  <a:pt x="240" y="303"/>
                  <a:pt x="224" y="304"/>
                  <a:pt x="211" y="300"/>
                </a:cubicBezTo>
                <a:cubicBezTo>
                  <a:pt x="173" y="243"/>
                  <a:pt x="185" y="245"/>
                  <a:pt x="185" y="326"/>
                </a:cubicBezTo>
                <a:close/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8440" y="1552680"/>
            <a:ext cx="527040" cy="388800"/>
          </a:xfrm>
          <a:custGeom>
            <a:avLst/>
            <a:gdLst/>
            <a:ahLst/>
            <a:rect l="l" t="t" r="r" b="b"/>
            <a:pathLst>
              <a:path w="332" h="245">
                <a:moveTo>
                  <a:pt x="131" y="118"/>
                </a:moveTo>
                <a:cubicBezTo>
                  <a:pt x="144" y="105"/>
                  <a:pt x="156" y="91"/>
                  <a:pt x="170" y="79"/>
                </a:cubicBezTo>
                <a:cubicBezTo>
                  <a:pt x="182" y="69"/>
                  <a:pt x="209" y="69"/>
                  <a:pt x="209" y="53"/>
                </a:cubicBezTo>
                <a:cubicBezTo>
                  <a:pt x="209" y="39"/>
                  <a:pt x="182" y="60"/>
                  <a:pt x="170" y="66"/>
                </a:cubicBezTo>
                <a:cubicBezTo>
                  <a:pt x="156" y="73"/>
                  <a:pt x="145" y="86"/>
                  <a:pt x="131" y="92"/>
                </a:cubicBezTo>
                <a:cubicBezTo>
                  <a:pt x="106" y="103"/>
                  <a:pt x="52" y="118"/>
                  <a:pt x="52" y="118"/>
                </a:cubicBezTo>
                <a:cubicBezTo>
                  <a:pt x="48" y="131"/>
                  <a:pt x="28" y="149"/>
                  <a:pt x="39" y="157"/>
                </a:cubicBezTo>
                <a:cubicBezTo>
                  <a:pt x="84" y="187"/>
                  <a:pt x="150" y="166"/>
                  <a:pt x="196" y="157"/>
                </a:cubicBezTo>
                <a:cubicBezTo>
                  <a:pt x="200" y="144"/>
                  <a:pt x="215" y="130"/>
                  <a:pt x="209" y="118"/>
                </a:cubicBezTo>
                <a:cubicBezTo>
                  <a:pt x="203" y="106"/>
                  <a:pt x="184" y="107"/>
                  <a:pt x="170" y="105"/>
                </a:cubicBezTo>
                <a:cubicBezTo>
                  <a:pt x="114" y="98"/>
                  <a:pt x="57" y="96"/>
                  <a:pt x="0" y="92"/>
                </a:cubicBezTo>
                <a:cubicBezTo>
                  <a:pt x="44" y="88"/>
                  <a:pt x="93" y="101"/>
                  <a:pt x="131" y="79"/>
                </a:cubicBezTo>
                <a:cubicBezTo>
                  <a:pt x="155" y="65"/>
                  <a:pt x="157" y="0"/>
                  <a:pt x="157" y="0"/>
                </a:cubicBezTo>
                <a:cubicBezTo>
                  <a:pt x="161" y="31"/>
                  <a:pt x="144" y="75"/>
                  <a:pt x="170" y="92"/>
                </a:cubicBezTo>
                <a:cubicBezTo>
                  <a:pt x="194" y="108"/>
                  <a:pt x="277" y="78"/>
                  <a:pt x="313" y="66"/>
                </a:cubicBezTo>
                <a:cubicBezTo>
                  <a:pt x="317" y="79"/>
                  <a:pt x="332" y="93"/>
                  <a:pt x="326" y="105"/>
                </a:cubicBezTo>
                <a:cubicBezTo>
                  <a:pt x="311" y="134"/>
                  <a:pt x="246" y="108"/>
                  <a:pt x="235" y="105"/>
                </a:cubicBezTo>
                <a:cubicBezTo>
                  <a:pt x="244" y="133"/>
                  <a:pt x="281" y="216"/>
                  <a:pt x="300" y="235"/>
                </a:cubicBezTo>
                <a:cubicBezTo>
                  <a:pt x="310" y="245"/>
                  <a:pt x="293" y="208"/>
                  <a:pt x="287" y="196"/>
                </a:cubicBezTo>
                <a:cubicBezTo>
                  <a:pt x="272" y="167"/>
                  <a:pt x="266" y="162"/>
                  <a:pt x="248" y="144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1800" y="1305000"/>
            <a:ext cx="1014480" cy="2236680"/>
          </a:xfrm>
          <a:custGeom>
            <a:avLst/>
            <a:gdLst/>
            <a:ahLst/>
            <a:rect l="l" t="t" r="r" b="b"/>
            <a:pathLst>
              <a:path w="639" h="1409">
                <a:moveTo>
                  <a:pt x="0" y="1409"/>
                </a:moveTo>
                <a:cubicBezTo>
                  <a:pt x="17" y="1324"/>
                  <a:pt x="38" y="1243"/>
                  <a:pt x="65" y="1161"/>
                </a:cubicBezTo>
                <a:cubicBezTo>
                  <a:pt x="84" y="1104"/>
                  <a:pt x="136" y="1063"/>
                  <a:pt x="156" y="1004"/>
                </a:cubicBezTo>
                <a:cubicBezTo>
                  <a:pt x="158" y="941"/>
                  <a:pt x="119" y="541"/>
                  <a:pt x="235" y="430"/>
                </a:cubicBezTo>
                <a:cubicBezTo>
                  <a:pt x="257" y="365"/>
                  <a:pt x="235" y="395"/>
                  <a:pt x="326" y="365"/>
                </a:cubicBezTo>
                <a:cubicBezTo>
                  <a:pt x="339" y="361"/>
                  <a:pt x="352" y="356"/>
                  <a:pt x="365" y="352"/>
                </a:cubicBezTo>
                <a:cubicBezTo>
                  <a:pt x="378" y="348"/>
                  <a:pt x="404" y="339"/>
                  <a:pt x="404" y="339"/>
                </a:cubicBezTo>
                <a:cubicBezTo>
                  <a:pt x="431" y="298"/>
                  <a:pt x="463" y="259"/>
                  <a:pt x="495" y="222"/>
                </a:cubicBezTo>
                <a:cubicBezTo>
                  <a:pt x="511" y="203"/>
                  <a:pt x="548" y="169"/>
                  <a:pt x="548" y="169"/>
                </a:cubicBezTo>
                <a:cubicBezTo>
                  <a:pt x="570" y="103"/>
                  <a:pt x="587" y="52"/>
                  <a:pt x="639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B76-46B7-4864-AFE9-6AAA95BBE4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clusions paradox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Le naufrage de la net-économie nous laisse un moyen de communication universel: </a:t>
            </a:r>
            <a:r>
              <a:rPr b="1" i="1" lang="fr-FR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 protocole applicatif et un réseau de transport mondial qui lui est adapté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Les survivants sont les propriétaires d’infrastructure. Parce que la croissance exponentielle du trafic ne s’est pas produite, leur sur-dimensionnement nous offre des possibilités d’applications économiques en temps réel, comme   </a:t>
            </a:r>
            <a:r>
              <a:rPr b="1" i="1" lang="fr-FR" sz="2400" spc="-1" strike="noStrike" u="sng">
                <a:solidFill>
                  <a:srgbClr val="3333cc"/>
                </a:solidFill>
                <a:uFillTx/>
                <a:latin typeface="Times New Roman"/>
              </a:rPr>
              <a:t>le traitement distribué d’images animées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Times New Roman"/>
              </a:rPr>
              <a:t>Profitons-en, en accordant une pensée aux fournisseurs impayés, aux employés licenciés et aux investisseurs ruinés des opérateurs et équipementiers en faill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957-F739-4947-B65B-0BFDFFCDBD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Té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i="1" lang="fr-FR" sz="2800" spc="-1" strike="noStrike">
                <a:solidFill>
                  <a:srgbClr val="3333cc"/>
                </a:solidFill>
                <a:latin typeface="Times New Roman"/>
              </a:rPr>
              <a:t>Merci de votre bonne atten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cc"/>
                </a:solidFill>
                <a:latin typeface="Comic Sans MS"/>
              </a:rPr>
              <a:t>14, rue des Bruyèr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cc"/>
                </a:solidFill>
                <a:latin typeface="Comic Sans MS"/>
              </a:rPr>
              <a:t>B-6120 Jamioul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cc"/>
                </a:solidFill>
                <a:latin typeface="Comic Sans MS"/>
              </a:rPr>
              <a:t>Tél:  0495 32 42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cc"/>
                </a:solidFill>
                <a:latin typeface="Comic Sans MS"/>
              </a:rPr>
              <a:t>Fax: 071 21 77 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cc"/>
                </a:solidFill>
                <a:latin typeface="Comic Sans MS"/>
              </a:rPr>
              <a:t>e-mail: telim@brutele.b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fr-FR" sz="2800" spc="-1" strike="noStrike">
                <a:solidFill>
                  <a:srgbClr val="3333cc"/>
                </a:solidFill>
                <a:latin typeface="Times New Roman"/>
              </a:rPr>
              <a:t>N’hésitez pas à reprendre contact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C13-16E1-464E-9EB3-4F10C8C0A4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’objectif: le traitement vidéo distribu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traitement d’images animées va connaître l’évolution qu’a connue l’informatique: de la machine isolée vers le réseau local, et maintenant à travers le réseau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t on va donc retrouver les mêmes écueils: les studios de création et de traitement d’images animées ont adopté des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standards de communication propr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profitant de l’absence de contraintes en site ferm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argeur de bande très élevée, pour éviter toute détérioration apparente dans un processus suiva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iaisons directes sans commutation intermédiaire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41D-B0AA-4326-B4C5-8E281B43D3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 gageure: éloigner les machines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ns introduire de contraintes nouvel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l est nécessaire, si l’on veut ouvrir à un plus grand nombre d’acteurs l’usage des technologies numériques, de concentrer en des sites communs les investissements les plus lourds - c’est l’objectif du Centre d’archiv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e condition indispensable de son succès est que les utilisateurs distants en reçoivent un service de qualité identique à ce qu’ils attendraient de leurs propres machines locales, don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nde passante ide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s de protocole de transport contraign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80D-8B55-4281-9A50-F75E8E5890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e vieille chimère: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 réseau unique à intégration de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Il est conceptuellement tentant de construire un réseau unique qui puisse transporter </a:t>
            </a: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us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les services et atteindre </a:t>
            </a: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us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les utilisateurs, où qu’ils se trou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Times New Roman"/>
              </a:rPr>
              <a:t>Les PTT avaient pour cela inventer l’ATM; ils ont renoncé à le déployer, malgré les ressources opulentes que leur procurait la tranquillité de leur monop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Times New Roman"/>
              </a:rPr>
              <a:t>Les papes de l’Internet ont repris le rêve: « Everything on IP, IP on everything ». La bulle a éclaté. Mais les années de rêve nous ont laissé un bel héri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Il est donc temps de raisonner logiqu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FE8-4239-4E68-B4BD-DD05A49228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0773600">
            <a:off x="2133000" y="3580560"/>
            <a:ext cx="5027400" cy="1900440"/>
          </a:xfrm>
          <a:custGeom>
            <a:avLst/>
            <a:gdLst>
              <a:gd name="textAreaLeft" fmla="*/ 1105560 w 5027400"/>
              <a:gd name="textAreaRight" fmla="*/ 3921840 w 5027400"/>
              <a:gd name="textAreaTop" fmla="*/ 417960 h 1900440"/>
              <a:gd name="textAreaBottom" fmla="*/ 1482480 h 19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5410080"/>
            <a:ext cx="495288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752480" cy="159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124080" y="4419720"/>
            <a:ext cx="297180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586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gac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quip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990720"/>
            <a:ext cx="1371600" cy="1066680"/>
          </a:xfrm>
          <a:prstGeom prst="plus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54100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3062160" cy="407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105520" y="533520"/>
            <a:ext cx="2654280" cy="38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229-2775-44FB-98D5-B9D8B51460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18511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99072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581280" y="1833480"/>
            <a:ext cx="1067040" cy="1042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1905120"/>
            <a:ext cx="106668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086600" y="1871640"/>
            <a:ext cx="990720" cy="96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14600" y="2895480"/>
            <a:ext cx="9907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895480"/>
            <a:ext cx="91440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8954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28954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28954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3429000"/>
            <a:ext cx="990720" cy="5335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429000"/>
            <a:ext cx="914400" cy="5335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4290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429000"/>
            <a:ext cx="914400" cy="533520"/>
          </a:xfrm>
          <a:prstGeom prst="rect">
            <a:avLst/>
          </a:prstGeom>
          <a:solidFill>
            <a:srgbClr val="0066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3429000"/>
            <a:ext cx="91440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038480"/>
            <a:ext cx="990720" cy="6098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4038480"/>
            <a:ext cx="914400" cy="6098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0384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4038480"/>
            <a:ext cx="914400" cy="6098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4038480"/>
            <a:ext cx="914400" cy="6098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724280"/>
            <a:ext cx="990720" cy="6098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47242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724280"/>
            <a:ext cx="914400" cy="6098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4724280"/>
            <a:ext cx="914400" cy="6098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4724280"/>
            <a:ext cx="914400" cy="6098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Télé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44280" y="13366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896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295280"/>
            <a:ext cx="14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2952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D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1336680"/>
            <a:ext cx="11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720" y="286056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360" y="339408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é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320" y="40798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mps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920" y="476568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3280" y="55278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m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5410080"/>
            <a:ext cx="990720" cy="6098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4100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10080"/>
            <a:ext cx="914400" cy="60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4100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410080"/>
            <a:ext cx="914400" cy="6098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656-72D5-4259-B3AD-F484D25C5C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près l’éclatement de la bull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aucoup de désillusions, mais un bel héritag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Deux legs import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IP est devenu l’interface applicatif universel, même pour le temps réel - quel que soit le transport utilis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1" i="1" lang="fr-F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rabondance de capacité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au niveau interurbain et international, suite aux investissements « justifiés » par des estimations de trafic enthousiast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is le problème de la boucle locale n’a guère évolu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Times New Roman"/>
              </a:rPr>
              <a:t>Elle reste le monopole de Belgacom, mais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3333cc"/>
                </a:solidFill>
                <a:uFillTx/>
                <a:latin typeface="Times New Roman"/>
              </a:rPr>
              <a:t>notre télé-distribution est la plus dense au monde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Nous avons en mains tout ce qu’il nous fa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843-4008-400B-B4E0-386DA6D316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ut sur l’Internet ?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Par construction l’Internet est un réseau à</a:t>
            </a:r>
            <a:br>
              <a:rPr sz="2400"/>
            </a:b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élai variable, non isochrone, à réservation aléatoire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l est parfait pou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 fichiers non-temps rée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05120" y="2193840"/>
          <a:ext cx="4952880" cy="34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93840"/>
                    <a:ext cx="495288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F Bruxelles 2003 - A.Dumo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943-8305-4928-A711-3C80478C16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09:48:00Z</dcterms:created>
  <dc:creator>andu</dc:creator>
  <dc:description/>
  <dc:language>en-US</dc:language>
  <cp:lastModifiedBy>andu</cp:lastModifiedBy>
  <cp:lastPrinted>2003-05-05T08:55:41Z</cp:lastPrinted>
  <dcterms:modified xsi:type="dcterms:W3CDTF">2003-11-26T08:43:18Z</dcterms:modified>
  <cp:revision>38</cp:revision>
  <dc:subject/>
  <dc:title>Aucun titre de diapositive</dc:title>
</cp:coreProperties>
</file>