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7ED761-DC9E-487D-B387-B710DB41E134}" type="datetime5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BEC8B8-A928-4D15-A650-CAA4F281F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906480" cy="1225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308720" y="115920"/>
            <a:ext cx="1681200" cy="58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hianti Win95BT"/>
              </a:rPr>
              <a:t>Novembre 2003 - © Neuro</a:t>
            </a:r>
            <a:r>
              <a:rPr b="1" lang="fr-BE" sz="800" spc="-1" strike="noStrike">
                <a:solidFill>
                  <a:srgbClr val="000000"/>
                </a:solidFill>
                <a:latin typeface="Chianti Win95BT"/>
              </a:rPr>
              <a:t> TV  </a:t>
            </a:r>
            <a:r>
              <a:rPr b="1" lang="fr-FR" sz="800" spc="-1" strike="noStrike">
                <a:solidFill>
                  <a:srgbClr val="000000"/>
                </a:solidFill>
                <a:latin typeface="Chianti Win95BT"/>
              </a:rPr>
              <a:t>- </a:t>
            </a:r>
            <a:fld id="{B0701869-8058-49F6-93F6-060EE9E0BB76}" type="slidenum">
              <a:rPr b="1" lang="fr-FR" sz="800" spc="-1" strike="noStrike">
                <a:solidFill>
                  <a:srgbClr val="000000"/>
                </a:solidFill>
                <a:latin typeface="Chianti Win95BT"/>
              </a:rPr>
              <a:t>&lt;number&gt;</a:t>
            </a:fld>
            <a:r>
              <a:rPr b="1" lang="fr-FR" sz="800" spc="-1" strike="noStrike">
                <a:solidFill>
                  <a:srgbClr val="000000"/>
                </a:solidFill>
                <a:latin typeface="Chianti Win95BT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gvb@neurotv.be" TargetMode="External"/><Relationship Id="rId2" Type="http://schemas.openxmlformats.org/officeDocument/2006/relationships/hyperlink" Target="http://www.neurotv.be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terminal interactif de  télévision numérique “browser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ns tous les foyers à court term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y Vanden Bem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ur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099040"/>
            <a:ext cx="9144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écification technique idéal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codeur câ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le DVB-M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ni d’un disque d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xion TCP-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u en grand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S SI SIMPLE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génierie  des outils pour l’I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re service Engine (le navigat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én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idé et rob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ptim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rtif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abarits et structure de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enu dynam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s à jour réguliè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omatiqu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navigateur = la clef de voû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format de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ès non 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t potent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égalité possible dans le trait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es de MHP vers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e simplement un langage commun aux applications (Ja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e navigateur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ormat des données est 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nées EPG pas standard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ctions PVR pas spécifié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s futures de MHP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s PVR prév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ation de donn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PEG 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V-Any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PEG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rmalisation des données E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terminal interactif de télévision numérique « browser » dans les foyers à court ter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ssi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adoption de standards u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 niveau du décodeur (MH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 niveau des donné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05120"/>
            <a:ext cx="3429000" cy="44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Guy Vanden Bem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Directeur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Neuro 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7-1, Boulevard Initi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7000 Mons –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Tel : +32 (65) 32 15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gvb@neurotv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neurotv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-16002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-22096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514600"/>
            <a:ext cx="8382240" cy="32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uro TV – ITV Speci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ovative Technology Prov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l interactif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codeur de télévision num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ception DV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par câ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que d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TV Broadcasting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620712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 en pr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745164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électio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ér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mm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276640"/>
            <a:ext cx="1800000" cy="295272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395280 h 2952720"/>
              <a:gd name="textAreaBottom" fmla="*/ 25574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 contenu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guide des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grammes enric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’accès dir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navigation non-liné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s outil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élécom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onction pil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guide des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contenus ann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contenus à la de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48360" y="2897280"/>
            <a:ext cx="5835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ations au niveau du term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écessité d’une capacité de sto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ocal (disque d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stant (connexion TCP/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utils de « browse » standardis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éléchargés dynamiqu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tiellement rési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écanisme de cache 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52:13Z</dcterms:created>
  <dc:creator>Guy Vanden Bemden</dc:creator>
  <dc:description/>
  <dc:language>en-US</dc:language>
  <cp:lastModifiedBy>Guy Vanden Bemden</cp:lastModifiedBy>
  <dcterms:modified xsi:type="dcterms:W3CDTF">2003-11-24T08:40:43Z</dcterms:modified>
  <cp:revision>47</cp:revision>
  <dc:subject>Neuro TV - Presentation</dc:subject>
  <dc:title>Digital Interactive Television </dc:title>
</cp:coreProperties>
</file>