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media/image14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206960"/>
            <a:ext cx="73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0574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2069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2069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237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057400"/>
            <a:ext cx="237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057400"/>
            <a:ext cx="237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206960"/>
            <a:ext cx="237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206960"/>
            <a:ext cx="237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206960"/>
            <a:ext cx="237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0574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4920" y="22860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0574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2069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0574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2069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0574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206960"/>
            <a:ext cx="73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orporate%20mansys%20dégradé%20prop%203_ppt" descr=""/>
          <p:cNvPicPr/>
          <p:nvPr/>
        </p:nvPicPr>
        <p:blipFill>
          <a:blip r:embed="rId2"/>
          <a:stretch/>
        </p:blipFill>
        <p:spPr>
          <a:xfrm>
            <a:off x="0" y="0"/>
            <a:ext cx="3089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61"/>
              </a:spcBef>
              <a:spcAft>
                <a:spcPts val="56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561"/>
              </a:spcBef>
              <a:spcAft>
                <a:spcPts val="561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3" marL="1584000" indent="-226080">
              <a:spcBef>
                <a:spcPts val="561"/>
              </a:spcBef>
              <a:spcAft>
                <a:spcPts val="561"/>
              </a:spcAft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4" marL="2036520" indent="-226080">
              <a:spcBef>
                <a:spcPts val="561"/>
              </a:spcBef>
              <a:spcAft>
                <a:spcPts val="561"/>
              </a:spcAft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5" marL="2036520" indent="-226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6" marL="2036520" indent="-226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197280" y="1522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MAN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wmf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19320" y="0"/>
            <a:ext cx="7924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0" spc="-1" strike="noStrike">
                <a:solidFill>
                  <a:srgbClr val="3f0656"/>
                </a:solidFill>
                <a:latin typeface="Helvetica 25 UltraLight"/>
              </a:rPr>
              <a:t>see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09680" y="4114800"/>
            <a:ext cx="6019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Michel Herm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Metro &amp; Access Networks </a:t>
            </a:r>
            <a:br>
              <a:rPr sz="2400"/>
            </a:b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Senior Produ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0099"/>
                </a:solidFill>
                <a:latin typeface="Verdana"/>
              </a:rPr>
              <a:t>m.hermant@see.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99"/>
                </a:solidFill>
                <a:latin typeface="Verdana"/>
              </a:rPr>
              <a:t>Mobile: +32 479 9789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CWDM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10" name="x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968640" cy="2377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19440" y="1523880"/>
            <a:ext cx="7315200" cy="168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800520" y="3586320"/>
            <a:ext cx="5343480" cy="733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3876480" y="2443320"/>
            <a:ext cx="20574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58320" y="2443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'agenda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Le concep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Les Composa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La protection optiqu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Distribution de signaux TV/Vide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Gestion des équipeme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Transmission longue dis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Développements futur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Questions et répon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MANSYS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es composant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14"/>
              </a:spcBef>
              <a:spcAft>
                <a:spcPts val="5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Un modèle principal: 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M-N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14"/>
              </a:spcBef>
              <a:spcAft>
                <a:spcPts val="5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99"/>
                </a:solidFill>
                <a:latin typeface="Verdana"/>
              </a:rPr>
              <a:t>Un modèle d'entrée de gamme: </a:t>
            </a:r>
            <a:br>
              <a:rPr sz="2200"/>
            </a:br>
            <a:r>
              <a:rPr b="0" lang="fr-BE" sz="2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BE" sz="2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BE" sz="2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BE" sz="2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fr-BE" sz="2200" spc="-1" strike="noStrike">
                <a:solidFill>
                  <a:srgbClr val="000099"/>
                </a:solidFill>
                <a:latin typeface="Verdana"/>
              </a:rPr>
              <a:t>S-N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14"/>
              </a:spcBef>
              <a:spcAft>
                <a:spcPts val="5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Un ensemble d'éléments passifs pour les installations sur les chemins de câbles: </a:t>
            </a:r>
            <a:br>
              <a:rPr sz="2200"/>
            </a:b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O-Nod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14"/>
              </a:spcBef>
              <a:spcAft>
                <a:spcPts val="5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Une famille d'interfaces clien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14"/>
              </a:spcBef>
              <a:spcAft>
                <a:spcPts val="5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Un mux Optique Add/Drop reconfigurabl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14"/>
              </a:spcBef>
              <a:spcAft>
                <a:spcPts val="5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Une solution de ges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14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onfiguration de base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 Modèle principal 3U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327636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Configuration de bas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1 châssi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1 NM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Une paire d'alimentation redondante </a:t>
            </a:r>
            <a:br>
              <a:rPr sz="2400"/>
            </a:b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(220V AC – 48 V DC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Une carte de connectique extern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14 emplacements destinés à recevoir les modules fonctionnel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21" name="M_Node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6705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M-Node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es avantages clé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Insertion ou enlèvement des modules "à chaud":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Modules fonctionnels ou alimentation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Détection automatique des nouveaux modules par le software de ges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Aucun connecteur sur la face arrière du châs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Permet l'installation des racks en tête-bêch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Epargne l'espace utilisé dans les salles télécom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Entièrement gérable sur base des protocoles standar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SNMP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HTTP/HTM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24" name="M_Node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281952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M-Node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es avantages clé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1440" y="14479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Verdana"/>
              </a:rPr>
              <a:t>Flexi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Investissements limités aux besoins</a:t>
            </a:r>
            <a:r>
              <a:rPr b="0" i="1" lang="fr-BE" sz="2000" spc="-1" strike="noStrike">
                <a:solidFill>
                  <a:srgbClr val="000099"/>
                </a:solidFill>
                <a:latin typeface="Verdana"/>
              </a:rPr>
              <a:t> ("Buy as you grow"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S'intègre dans une topologie en point-à-point, maillée ou en anneau)</a:t>
            </a:r>
            <a:br>
              <a:rPr sz="2000"/>
            </a:b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Verdana"/>
              </a:rPr>
              <a:t>Robuste, fi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Protection optique en option pour tous les modules fonctionnels,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Double alimentation redondant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27" name="M_Node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281952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S-Node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es avantages clé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790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Modèle d'entrée de gam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Deux ver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S-Node gérable (avec la carte NMS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S-Node sans la carte NMS (non gérable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Utilise les mêmes modules fonctionnels que le modèle principal (M-Nod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0" name="s_node_horiz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2541600" cy="1339920"/>
          </a:xfrm>
          <a:prstGeom prst="rect">
            <a:avLst/>
          </a:prstGeom>
          <a:ln w="0">
            <a:noFill/>
          </a:ln>
        </p:spPr>
      </p:pic>
      <p:pic>
        <p:nvPicPr>
          <p:cNvPr id="131" name="s_node%20biais%20ga%20" descr=""/>
          <p:cNvPicPr/>
          <p:nvPr/>
        </p:nvPicPr>
        <p:blipFill>
          <a:blip r:embed="rId2"/>
          <a:stretch/>
        </p:blipFill>
        <p:spPr>
          <a:xfrm>
            <a:off x="1371600" y="2114640"/>
            <a:ext cx="2057400" cy="1977840"/>
          </a:xfrm>
          <a:prstGeom prst="rect">
            <a:avLst/>
          </a:prstGeom>
          <a:ln w="0">
            <a:noFill/>
          </a:ln>
        </p:spPr>
      </p:pic>
      <p:pic>
        <p:nvPicPr>
          <p:cNvPr id="132" name="rack%20s-node_horiz" descr=""/>
          <p:cNvPicPr/>
          <p:nvPr/>
        </p:nvPicPr>
        <p:blipFill>
          <a:blip r:embed="rId3"/>
          <a:stretch/>
        </p:blipFill>
        <p:spPr>
          <a:xfrm>
            <a:off x="3809880" y="5257800"/>
            <a:ext cx="2637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Terminaison des canaux optiques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es interfaces standard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0" y="121932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Ethernet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ast Ethern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igabit Ethern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SDH : (STM-1, STM-4, STM-16)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Fibre Channel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ngle Speed (1 Gbp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ual Speed    (2 Gbp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Multirate (from 100 Mbps to 2.5 Gbps)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Terminaisons des canaux optiques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es interfaces standards(2)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Verdana"/>
              </a:rPr>
              <a:t>Une interface DVB-ASI à 270 Mbps en bande de bas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Verdana"/>
              </a:rPr>
              <a:t>un couple d'interfaces GbE mono-directionnel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Verdana"/>
              </a:rPr>
              <a:t>Un module Tx (transmission),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Verdana"/>
              </a:rPr>
              <a:t>Un module Rx (réception)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Verdana"/>
              </a:rPr>
              <a:t>Multiplexeur Add/Drop Optique avec Transpondeur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7080" y="990720"/>
            <a:ext cx="2713680" cy="3297600"/>
            <a:chOff x="1297080" y="990720"/>
            <a:chExt cx="2713680" cy="3297600"/>
          </a:xfrm>
        </p:grpSpPr>
        <p:sp>
          <p:nvSpPr>
            <p:cNvPr id="139" name=""/>
            <p:cNvSpPr/>
            <p:nvPr/>
          </p:nvSpPr>
          <p:spPr>
            <a:xfrm>
              <a:off x="1991520" y="373068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 R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95760" y="3730680"/>
              <a:ext cx="48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 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30240" y="990720"/>
              <a:ext cx="1284480" cy="2136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044440" y="2031840"/>
              <a:ext cx="160200" cy="350640"/>
              <a:chOff x="2044440" y="2031840"/>
              <a:chExt cx="160200" cy="350640"/>
            </a:xfrm>
          </p:grpSpPr>
          <p:sp>
            <p:nvSpPr>
              <p:cNvPr id="143" name=""/>
              <p:cNvSpPr/>
              <p:nvPr/>
            </p:nvSpPr>
            <p:spPr>
              <a:xfrm>
                <a:off x="2044440" y="2242080"/>
                <a:ext cx="160200" cy="14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44440" y="2031840"/>
                <a:ext cx="160200" cy="14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635920" y="99072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-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78760" y="990720"/>
              <a:ext cx="4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-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01480" y="137448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93960" y="137448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401480" y="159372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793600" y="160632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16880" y="115560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 OUT 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7080" y="115560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 IN R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7800" y="1703160"/>
              <a:ext cx="67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 IN 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0160" y="170316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 OUT R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525760" y="3073320"/>
              <a:ext cx="0" cy="71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82920" y="2523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84240" y="2085840"/>
              <a:ext cx="0" cy="712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85960" y="3073320"/>
              <a:ext cx="0" cy="71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4240" y="2798640"/>
              <a:ext cx="588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5000" y="2305080"/>
              <a:ext cx="106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11200" y="1537920"/>
              <a:ext cx="0" cy="76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04640" y="1374480"/>
              <a:ext cx="106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44440" y="1374480"/>
              <a:ext cx="74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044440" y="1593720"/>
              <a:ext cx="74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5000" y="1428480"/>
              <a:ext cx="106200" cy="10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098440" y="1647720"/>
              <a:ext cx="0" cy="383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26760" y="2195280"/>
              <a:ext cx="35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 baseline="-30000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 baseline="-30000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044440" y="1307880"/>
              <a:ext cx="160200" cy="350640"/>
              <a:chOff x="2044440" y="1307880"/>
              <a:chExt cx="160200" cy="3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2044440" y="1518120"/>
                <a:ext cx="160200" cy="14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44440" y="1307880"/>
                <a:ext cx="160200" cy="14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633400" y="1307880"/>
              <a:ext cx="160200" cy="350640"/>
              <a:chOff x="2633400" y="1307880"/>
              <a:chExt cx="160200" cy="350640"/>
            </a:xfrm>
          </p:grpSpPr>
          <p:sp>
            <p:nvSpPr>
              <p:cNvPr id="172" name=""/>
              <p:cNvSpPr/>
              <p:nvPr/>
            </p:nvSpPr>
            <p:spPr>
              <a:xfrm>
                <a:off x="2633400" y="1518120"/>
                <a:ext cx="160200" cy="14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33400" y="1307880"/>
                <a:ext cx="160200" cy="14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473200" y="2744640"/>
              <a:ext cx="266760" cy="328320"/>
              <a:chOff x="2473200" y="2744640"/>
              <a:chExt cx="266760" cy="3283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473200" y="2744640"/>
                <a:ext cx="121320" cy="328320"/>
                <a:chOff x="2473200" y="2744640"/>
                <a:chExt cx="121320" cy="328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473200" y="2744640"/>
                  <a:ext cx="121320" cy="1641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473200" y="2908800"/>
                  <a:ext cx="121320" cy="16416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618640" y="2744640"/>
                <a:ext cx="121320" cy="328320"/>
                <a:chOff x="2618640" y="2744640"/>
                <a:chExt cx="121320" cy="3283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618640" y="2744640"/>
                  <a:ext cx="121320" cy="1641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618640" y="2908800"/>
                  <a:ext cx="121320" cy="16416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2527200" y="39510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84240" y="2085840"/>
              <a:ext cx="160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98440" y="2360520"/>
              <a:ext cx="0" cy="272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8440" y="2633400"/>
              <a:ext cx="587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85960" y="2633400"/>
              <a:ext cx="0" cy="11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162920" y="1828800"/>
            <a:ext cx="1803240" cy="4495680"/>
            <a:chOff x="7162920" y="1828800"/>
            <a:chExt cx="1803240" cy="4495680"/>
          </a:xfrm>
        </p:grpSpPr>
        <p:pic>
          <p:nvPicPr>
            <p:cNvPr id="187" name="2" descr=""/>
            <p:cNvPicPr/>
            <p:nvPr/>
          </p:nvPicPr>
          <p:blipFill>
            <a:blip r:embed="rId1"/>
            <a:stretch/>
          </p:blipFill>
          <p:spPr>
            <a:xfrm>
              <a:off x="7162920" y="1828800"/>
              <a:ext cx="68112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R+OAD" descr=""/>
            <p:cNvPicPr/>
            <p:nvPr/>
          </p:nvPicPr>
          <p:blipFill>
            <a:blip r:embed="rId2"/>
            <a:stretch/>
          </p:blipFill>
          <p:spPr>
            <a:xfrm>
              <a:off x="8305920" y="1828800"/>
              <a:ext cx="660240" cy="449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2895480" y="3581280"/>
            <a:ext cx="41148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imes New Roman"/>
              </a:rPr>
              <a:t>Insère et enlève du flux optique couvert  par la norme CWDM, un canal optique coloré et le termine sur une interface compatible avec l'équipement du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66880" y="3276720"/>
            <a:ext cx="48006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000099"/>
                </a:solidFill>
                <a:latin typeface="Helvetica 25 UltraLight"/>
              </a:rPr>
              <a:t>MANS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5029200"/>
            <a:ext cx="6019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Une famille d'équipements </a:t>
            </a:r>
            <a:br>
              <a:rPr sz="2400"/>
            </a:b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conçus pour </a:t>
            </a:r>
            <a:br>
              <a:rPr sz="2400"/>
            </a:b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les réseaux métropolitains et les réseaux d'accè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52280"/>
            <a:ext cx="7924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0" spc="-1" strike="noStrike">
                <a:solidFill>
                  <a:srgbClr val="3f0656"/>
                </a:solidFill>
                <a:latin typeface="Helvetica 25 UltraLight"/>
              </a:rPr>
              <a:t>see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Verdana"/>
              </a:rPr>
              <a:t>Multiplexeur/Démultiplexeur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33880" y="1219320"/>
            <a:ext cx="5409720" cy="4142160"/>
            <a:chOff x="533880" y="1219320"/>
            <a:chExt cx="5409720" cy="4142160"/>
          </a:xfrm>
        </p:grpSpPr>
        <p:grpSp>
          <p:nvGrpSpPr>
            <p:cNvPr id="192" name=""/>
            <p:cNvGrpSpPr/>
            <p:nvPr/>
          </p:nvGrpSpPr>
          <p:grpSpPr>
            <a:xfrm>
              <a:off x="533880" y="1219320"/>
              <a:ext cx="4300920" cy="4142160"/>
              <a:chOff x="533880" y="1219320"/>
              <a:chExt cx="4300920" cy="4142160"/>
            </a:xfrm>
          </p:grpSpPr>
          <p:sp>
            <p:nvSpPr>
              <p:cNvPr id="193" name=""/>
              <p:cNvSpPr/>
              <p:nvPr/>
            </p:nvSpPr>
            <p:spPr>
              <a:xfrm>
                <a:off x="1892880" y="1219320"/>
                <a:ext cx="1835280" cy="4130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3880" y="1519560"/>
                <a:ext cx="55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Times New Roman"/>
                  </a:rPr>
                  <a:t>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13200" y="1757880"/>
                <a:ext cx="815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213200" y="1518480"/>
                <a:ext cx="815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50360" y="1757880"/>
                <a:ext cx="63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00000"/>
                    </a:solidFill>
                    <a:latin typeface="Times New Roman"/>
                  </a:rPr>
                  <a:t>LW R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50720" y="1339920"/>
                <a:ext cx="6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00000"/>
                    </a:solidFill>
                    <a:latin typeface="Times New Roman"/>
                  </a:rPr>
                  <a:t>LW T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12760" y="2117160"/>
                <a:ext cx="0" cy="179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2777040" y="1997280"/>
                <a:ext cx="1495440" cy="299160"/>
                <a:chOff x="2777040" y="1997280"/>
                <a:chExt cx="1495440" cy="299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116880" y="1997280"/>
                  <a:ext cx="203760" cy="15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777040" y="1997280"/>
                  <a:ext cx="203760" cy="15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3252240" y="2056680"/>
                  <a:ext cx="9522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912760" y="2296440"/>
                  <a:ext cx="1359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 flipV="1">
                <a:off x="2845080" y="1757880"/>
                <a:ext cx="0" cy="239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33080" y="1757880"/>
                <a:ext cx="61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184920" y="1518480"/>
                <a:ext cx="0" cy="4788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232720" y="1518480"/>
                <a:ext cx="95148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2777040" y="2476440"/>
                <a:ext cx="1495440" cy="299160"/>
                <a:chOff x="2777040" y="2476440"/>
                <a:chExt cx="1495440" cy="299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116880" y="2476440"/>
                  <a:ext cx="203760" cy="15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77040" y="2476440"/>
                  <a:ext cx="203760" cy="15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252240" y="2535840"/>
                  <a:ext cx="9522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912760" y="2775600"/>
                  <a:ext cx="1359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2912760" y="2595960"/>
                <a:ext cx="0" cy="179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2777040" y="2895120"/>
                <a:ext cx="1495440" cy="299160"/>
                <a:chOff x="2777040" y="2895120"/>
                <a:chExt cx="1495440" cy="2991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116880" y="2895120"/>
                  <a:ext cx="203760" cy="15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777040" y="2895120"/>
                  <a:ext cx="203760" cy="15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252240" y="2954520"/>
                  <a:ext cx="9522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912760" y="3194280"/>
                  <a:ext cx="1359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777040" y="3254400"/>
                <a:ext cx="1495440" cy="299160"/>
                <a:chOff x="2777040" y="3254400"/>
                <a:chExt cx="1495440" cy="2991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16880" y="3254400"/>
                  <a:ext cx="203760" cy="15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777040" y="3254400"/>
                  <a:ext cx="203760" cy="15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3252240" y="3313800"/>
                  <a:ext cx="9522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12760" y="3553560"/>
                  <a:ext cx="1359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2777040" y="3673440"/>
                <a:ext cx="1495440" cy="299160"/>
                <a:chOff x="2777040" y="3673440"/>
                <a:chExt cx="1495440" cy="2991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16880" y="3673440"/>
                  <a:ext cx="203760" cy="15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777040" y="3673440"/>
                  <a:ext cx="203760" cy="15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3252240" y="3732840"/>
                  <a:ext cx="9522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912760" y="3972600"/>
                  <a:ext cx="1359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2777040" y="4092840"/>
                <a:ext cx="1495440" cy="299160"/>
                <a:chOff x="2777040" y="4092840"/>
                <a:chExt cx="1495440" cy="2991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116880" y="4092840"/>
                  <a:ext cx="203760" cy="15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777040" y="4092840"/>
                  <a:ext cx="203760" cy="15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252240" y="4152240"/>
                  <a:ext cx="9522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912760" y="4392000"/>
                  <a:ext cx="1359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777040" y="4511520"/>
                <a:ext cx="1495440" cy="299160"/>
                <a:chOff x="2777040" y="4511520"/>
                <a:chExt cx="1495440" cy="2991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116880" y="4511520"/>
                  <a:ext cx="203760" cy="15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777040" y="4511520"/>
                  <a:ext cx="203760" cy="15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3252240" y="4570920"/>
                  <a:ext cx="9522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12760" y="4810680"/>
                  <a:ext cx="1359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777040" y="4990680"/>
                <a:ext cx="1495440" cy="299160"/>
                <a:chOff x="2777040" y="4990680"/>
                <a:chExt cx="1495440" cy="2991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116880" y="4990680"/>
                  <a:ext cx="203760" cy="15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777040" y="4990680"/>
                  <a:ext cx="203760" cy="153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3252240" y="5050080"/>
                  <a:ext cx="95220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12760" y="5289840"/>
                  <a:ext cx="1359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 flipV="1">
                <a:off x="2912760" y="5170320"/>
                <a:ext cx="0" cy="119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2912760" y="3015000"/>
                <a:ext cx="0" cy="179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912760" y="3374280"/>
                <a:ext cx="0" cy="179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2912760" y="3853080"/>
                <a:ext cx="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2912760" y="4631400"/>
                <a:ext cx="0" cy="179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33080" y="1817640"/>
                <a:ext cx="679320" cy="658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65040" y="1817640"/>
                <a:ext cx="679680" cy="1077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165040" y="1817640"/>
                <a:ext cx="611640" cy="1436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097000" y="1817640"/>
                <a:ext cx="679680" cy="1855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097000" y="1817640"/>
                <a:ext cx="475920" cy="2334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097000" y="1877400"/>
                <a:ext cx="339840" cy="2693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97000" y="1877400"/>
                <a:ext cx="0" cy="3172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72920" y="4152240"/>
                <a:ext cx="203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37200" y="4571640"/>
                <a:ext cx="33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7000" y="5050440"/>
                <a:ext cx="679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2029320" y="1458360"/>
                <a:ext cx="203400" cy="382320"/>
                <a:chOff x="2029320" y="1458360"/>
                <a:chExt cx="203400" cy="3823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029320" y="1687680"/>
                  <a:ext cx="203400" cy="1530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29320" y="1458360"/>
                  <a:ext cx="203400" cy="1530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 flipV="1">
                <a:off x="3116880" y="5050440"/>
                <a:ext cx="0" cy="5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3048840" y="5050440"/>
                <a:ext cx="6768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3048840" y="1578240"/>
                <a:ext cx="0" cy="3471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233080" y="1578240"/>
                <a:ext cx="8157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83440" y="2057040"/>
                <a:ext cx="3513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600" spc="-1" strike="noStrike" baseline="-25000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82000" y="4990680"/>
                <a:ext cx="3513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600" spc="-1" strike="noStrike" baseline="-25000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800600" y="1981080"/>
              <a:ext cx="152280" cy="1676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1480" y="3657600"/>
              <a:ext cx="152640" cy="16765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86400" y="2819520"/>
              <a:ext cx="152280" cy="1676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1320" y="1905120"/>
              <a:ext cx="152280" cy="3429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mux_trafique_16_6_3" descr=""/>
          <p:cNvPicPr/>
          <p:nvPr/>
        </p:nvPicPr>
        <p:blipFill>
          <a:blip r:embed="rId1"/>
          <a:stretch/>
        </p:blipFill>
        <p:spPr>
          <a:xfrm>
            <a:off x="8077320" y="1905120"/>
            <a:ext cx="738000" cy="4724280"/>
          </a:xfrm>
          <a:prstGeom prst="rect">
            <a:avLst/>
          </a:prstGeom>
          <a:ln w="0">
            <a:noFill/>
          </a:ln>
        </p:spPr>
      </p:pic>
      <p:pic>
        <p:nvPicPr>
          <p:cNvPr id="274" name="Dble%208%20ports%20muxdemux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7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Implémentation d'un canal optique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es deux alternative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382840" y="1143000"/>
            <a:ext cx="3463920" cy="5752440"/>
            <a:chOff x="2382840" y="1143000"/>
            <a:chExt cx="3463920" cy="5752440"/>
          </a:xfrm>
        </p:grpSpPr>
        <p:grpSp>
          <p:nvGrpSpPr>
            <p:cNvPr id="277" name=""/>
            <p:cNvGrpSpPr/>
            <p:nvPr/>
          </p:nvGrpSpPr>
          <p:grpSpPr>
            <a:xfrm>
              <a:off x="2382840" y="1492200"/>
              <a:ext cx="3463920" cy="5403240"/>
              <a:chOff x="2382840" y="1492200"/>
              <a:chExt cx="3463920" cy="5403240"/>
            </a:xfrm>
          </p:grpSpPr>
          <p:sp>
            <p:nvSpPr>
              <p:cNvPr id="278" name=""/>
              <p:cNvSpPr/>
              <p:nvPr/>
            </p:nvSpPr>
            <p:spPr>
              <a:xfrm rot="16128000">
                <a:off x="1447560" y="2517120"/>
                <a:ext cx="5334120" cy="33530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2590920" y="1752480"/>
                <a:ext cx="3012840" cy="4876560"/>
                <a:chOff x="2590920" y="1752480"/>
                <a:chExt cx="3012840" cy="4876560"/>
              </a:xfrm>
            </p:grpSpPr>
            <p:pic>
              <p:nvPicPr>
                <p:cNvPr id="280" name="mux_trafique_16_6_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590920" y="1752480"/>
                  <a:ext cx="738000" cy="482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230203_11_SDH%20STM-1%20TR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09880" y="1752480"/>
                  <a:ext cx="744480" cy="487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230203_11_SDH%20STM-1%20TR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59280" y="1752480"/>
                  <a:ext cx="744480" cy="4876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3" name=""/>
            <p:cNvSpPr/>
            <p:nvPr/>
          </p:nvSpPr>
          <p:spPr>
            <a:xfrm>
              <a:off x="2590920" y="11430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1" lang="fr-BE" sz="2000" spc="-1" strike="noStrike">
                  <a:solidFill>
                    <a:srgbClr val="ff3300"/>
                  </a:solidFill>
                  <a:latin typeface="Verdana"/>
                </a:rPr>
                <a:t>MUX/DEMUX + T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1320" y="1143000"/>
            <a:ext cx="3406680" cy="5740560"/>
            <a:chOff x="5791320" y="1143000"/>
            <a:chExt cx="3406680" cy="5740560"/>
          </a:xfrm>
        </p:grpSpPr>
        <p:grpSp>
          <p:nvGrpSpPr>
            <p:cNvPr id="285" name=""/>
            <p:cNvGrpSpPr/>
            <p:nvPr/>
          </p:nvGrpSpPr>
          <p:grpSpPr>
            <a:xfrm>
              <a:off x="5962680" y="1485360"/>
              <a:ext cx="3235320" cy="5398200"/>
              <a:chOff x="5962680" y="1485360"/>
              <a:chExt cx="3235320" cy="5398200"/>
            </a:xfrm>
          </p:grpSpPr>
          <p:sp>
            <p:nvSpPr>
              <p:cNvPr id="286" name=""/>
              <p:cNvSpPr/>
              <p:nvPr/>
            </p:nvSpPr>
            <p:spPr>
              <a:xfrm rot="16128000">
                <a:off x="4913280" y="2622240"/>
                <a:ext cx="5333760" cy="312444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6477120" y="1828800"/>
                <a:ext cx="2183760" cy="4876560"/>
                <a:chOff x="6477120" y="1828800"/>
                <a:chExt cx="2183760" cy="4876560"/>
              </a:xfrm>
            </p:grpSpPr>
            <p:pic>
              <p:nvPicPr>
                <p:cNvPr id="288" name="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477120" y="1828800"/>
                  <a:ext cx="824760" cy="487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TR+OA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61320" y="1828800"/>
                  <a:ext cx="799560" cy="4876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0" name=""/>
            <p:cNvSpPr/>
            <p:nvPr/>
          </p:nvSpPr>
          <p:spPr>
            <a:xfrm>
              <a:off x="5791320" y="11430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Verdana"/>
                </a:rPr>
                <a:t>            </a:t>
              </a:r>
              <a:r>
                <a:rPr b="1" lang="fr-BE" sz="2000" spc="-1" strike="noStrike">
                  <a:solidFill>
                    <a:srgbClr val="ff3300"/>
                  </a:solidFill>
                  <a:latin typeface="Verdana"/>
                </a:rPr>
                <a:t>OADT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Verdana"/>
              </a:rPr>
              <a:t>Fast Ethernet Switch 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1600200"/>
            <a:ext cx="4191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Fournit 4 portes 100BaseT switch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Disponible pour tout canal coloré CWDM et  131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Implémente fonctionnalités de niveau 2 (O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100BaseT%20Switch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1649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Equipements d'extérieur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Filtres passif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3911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1" marL="586800" indent="-225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Injecte/extrait (add/drop) ou duplicie (split) un canal optique hors d'un câble pour le diriger sur le câble pénétrant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S'intègre dans le matériel FIST de TYCOElectronic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657600" y="4419720"/>
            <a:ext cx="5231880" cy="2336400"/>
            <a:chOff x="3657600" y="4419720"/>
            <a:chExt cx="5231880" cy="2336400"/>
          </a:xfrm>
        </p:grpSpPr>
        <p:grpSp>
          <p:nvGrpSpPr>
            <p:cNvPr id="297" name=""/>
            <p:cNvGrpSpPr/>
            <p:nvPr/>
          </p:nvGrpSpPr>
          <p:grpSpPr>
            <a:xfrm>
              <a:off x="8304120" y="4470480"/>
              <a:ext cx="585360" cy="482040"/>
              <a:chOff x="8304120" y="4470480"/>
              <a:chExt cx="585360" cy="482040"/>
            </a:xfrm>
          </p:grpSpPr>
          <p:sp>
            <p:nvSpPr>
              <p:cNvPr id="298" name=""/>
              <p:cNvSpPr/>
              <p:nvPr/>
            </p:nvSpPr>
            <p:spPr>
              <a:xfrm>
                <a:off x="8304120" y="4519080"/>
                <a:ext cx="531000" cy="43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05200" y="4520520"/>
                <a:ext cx="1440" cy="430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305200" y="4951440"/>
                <a:ext cx="531000" cy="10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8836560" y="4520160"/>
                <a:ext cx="1440" cy="430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8304840" y="4520520"/>
                <a:ext cx="531000" cy="10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304120" y="4470480"/>
                <a:ext cx="581040" cy="48600"/>
              </a:xfrm>
              <a:custGeom>
                <a:avLst/>
                <a:gdLst/>
                <a:ahLst/>
                <a:rect l="l" t="t" r="r" b="b"/>
                <a:pathLst>
                  <a:path w="742" h="65">
                    <a:moveTo>
                      <a:pt x="0" y="65"/>
                    </a:moveTo>
                    <a:lnTo>
                      <a:pt x="65" y="0"/>
                    </a:lnTo>
                    <a:lnTo>
                      <a:pt x="742" y="0"/>
                    </a:lnTo>
                    <a:lnTo>
                      <a:pt x="677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8305200" y="4471200"/>
                <a:ext cx="51840" cy="486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357400" y="4471560"/>
                <a:ext cx="529200" cy="144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8836200" y="4471560"/>
                <a:ext cx="50040" cy="486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8304840" y="4520520"/>
                <a:ext cx="531000" cy="10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835120" y="4470480"/>
                <a:ext cx="51480" cy="479520"/>
              </a:xfrm>
              <a:custGeom>
                <a:avLst/>
                <a:gdLst/>
                <a:ahLst/>
                <a:rect l="l" t="t" r="r" b="b"/>
                <a:pathLst>
                  <a:path w="66" h="651">
                    <a:moveTo>
                      <a:pt x="0" y="651"/>
                    </a:moveTo>
                    <a:lnTo>
                      <a:pt x="66" y="586"/>
                    </a:lnTo>
                    <a:lnTo>
                      <a:pt x="66" y="0"/>
                    </a:lnTo>
                    <a:lnTo>
                      <a:pt x="0" y="65"/>
                    </a:lnTo>
                    <a:lnTo>
                      <a:pt x="0" y="651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8836560" y="4902840"/>
                <a:ext cx="51840" cy="4824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8888400" y="4471560"/>
                <a:ext cx="1080" cy="4312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8836560" y="4471560"/>
                <a:ext cx="51840" cy="486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836560" y="4520520"/>
                <a:ext cx="1440" cy="430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598240" y="4574880"/>
                <a:ext cx="203400" cy="77760"/>
              </a:xfrm>
              <a:custGeom>
                <a:avLst/>
                <a:gdLst/>
                <a:ahLst/>
                <a:rect l="l" t="t" r="r" b="b"/>
                <a:pathLst>
                  <a:path w="260" h="107">
                    <a:moveTo>
                      <a:pt x="0" y="107"/>
                    </a:moveTo>
                    <a:lnTo>
                      <a:pt x="260" y="0"/>
                    </a:lnTo>
                    <a:lnTo>
                      <a:pt x="260" y="7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598240" y="4652640"/>
                <a:ext cx="203400" cy="77760"/>
              </a:xfrm>
              <a:custGeom>
                <a:avLst/>
                <a:gdLst/>
                <a:ahLst/>
                <a:rect l="l" t="t" r="r" b="b"/>
                <a:pathLst>
                  <a:path w="260" h="105">
                    <a:moveTo>
                      <a:pt x="0" y="0"/>
                    </a:moveTo>
                    <a:lnTo>
                      <a:pt x="260" y="105"/>
                    </a:lnTo>
                    <a:lnTo>
                      <a:pt x="26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598240" y="4627800"/>
                <a:ext cx="203400" cy="50040"/>
              </a:xfrm>
              <a:custGeom>
                <a:avLst/>
                <a:gdLst/>
                <a:ahLst/>
                <a:rect l="l" t="t" r="r" b="b"/>
                <a:pathLst>
                  <a:path w="260" h="67">
                    <a:moveTo>
                      <a:pt x="0" y="35"/>
                    </a:moveTo>
                    <a:lnTo>
                      <a:pt x="260" y="67"/>
                    </a:lnTo>
                    <a:lnTo>
                      <a:pt x="26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55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8343000" y="4663080"/>
                <a:ext cx="200160" cy="86040"/>
                <a:chOff x="8343000" y="4663080"/>
                <a:chExt cx="200160" cy="860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8343000" y="4725720"/>
                  <a:ext cx="30960" cy="2340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6"/>
                      </a:moveTo>
                      <a:lnTo>
                        <a:pt x="41" y="0"/>
                      </a:lnTo>
                      <a:lnTo>
                        <a:pt x="41" y="14"/>
                      </a:lnTo>
                      <a:lnTo>
                        <a:pt x="0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383680" y="4709880"/>
                  <a:ext cx="32760" cy="2304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6"/>
                      </a:moveTo>
                      <a:lnTo>
                        <a:pt x="41" y="0"/>
                      </a:lnTo>
                      <a:lnTo>
                        <a:pt x="41" y="14"/>
                      </a:lnTo>
                      <a:lnTo>
                        <a:pt x="0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425800" y="4693320"/>
                  <a:ext cx="32760" cy="234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0" y="16"/>
                      </a:moveTo>
                      <a:lnTo>
                        <a:pt x="42" y="0"/>
                      </a:lnTo>
                      <a:lnTo>
                        <a:pt x="42" y="15"/>
                      </a:lnTo>
                      <a:lnTo>
                        <a:pt x="0" y="3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468280" y="4678920"/>
                  <a:ext cx="30960" cy="2160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0" y="17"/>
                      </a:moveTo>
                      <a:lnTo>
                        <a:pt x="41" y="0"/>
                      </a:lnTo>
                      <a:lnTo>
                        <a:pt x="41" y="15"/>
                      </a:lnTo>
                      <a:lnTo>
                        <a:pt x="0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510400" y="4663080"/>
                  <a:ext cx="32760" cy="2304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6"/>
                      </a:moveTo>
                      <a:lnTo>
                        <a:pt x="41" y="0"/>
                      </a:lnTo>
                      <a:lnTo>
                        <a:pt x="41" y="14"/>
                      </a:lnTo>
                      <a:lnTo>
                        <a:pt x="0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8343000" y="4554000"/>
                <a:ext cx="455400" cy="36180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8434080" y="4602600"/>
                <a:ext cx="138960" cy="268920"/>
              </a:xfrm>
              <a:prstGeom prst="line">
                <a:avLst/>
              </a:prstGeom>
              <a:ln w="4680">
                <a:solidFill>
                  <a:srgbClr val="2a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434080" y="4871880"/>
                <a:ext cx="278640" cy="1080"/>
              </a:xfrm>
              <a:prstGeom prst="line">
                <a:avLst/>
              </a:prstGeom>
              <a:ln w="3240">
                <a:solidFill>
                  <a:srgbClr val="2a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8572680" y="4602240"/>
                <a:ext cx="139320" cy="268920"/>
              </a:xfrm>
              <a:prstGeom prst="line">
                <a:avLst/>
              </a:prstGeom>
              <a:ln w="4680">
                <a:solidFill>
                  <a:srgbClr val="2a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6" name=""/>
            <p:cNvCxnSpPr>
              <a:stCxn id="327" idx="3"/>
              <a:endCxn id="322" idx="1"/>
            </p:cNvCxnSpPr>
            <p:nvPr/>
          </p:nvCxnSpPr>
          <p:spPr>
            <a:xfrm>
              <a:off x="4152600" y="4735080"/>
              <a:ext cx="4191480" cy="1080"/>
            </a:xfrm>
            <a:prstGeom prst="straightConnector1">
              <a:avLst/>
            </a:prstGeom>
            <a:ln w="38160">
              <a:solidFill>
                <a:srgbClr val="6600cc"/>
              </a:solidFill>
              <a:miter/>
            </a:ln>
          </p:spPr>
        </p:cxnSp>
        <p:grpSp>
          <p:nvGrpSpPr>
            <p:cNvPr id="328" name=""/>
            <p:cNvGrpSpPr/>
            <p:nvPr/>
          </p:nvGrpSpPr>
          <p:grpSpPr>
            <a:xfrm>
              <a:off x="5029200" y="4724280"/>
              <a:ext cx="604800" cy="232200"/>
              <a:chOff x="5029200" y="4724280"/>
              <a:chExt cx="604800" cy="232200"/>
            </a:xfrm>
          </p:grpSpPr>
          <p:sp>
            <p:nvSpPr>
              <p:cNvPr id="329" name=""/>
              <p:cNvSpPr/>
              <p:nvPr/>
            </p:nvSpPr>
            <p:spPr>
              <a:xfrm>
                <a:off x="5030640" y="4793400"/>
                <a:ext cx="528120" cy="132840"/>
              </a:xfrm>
              <a:custGeom>
                <a:avLst/>
                <a:gdLst/>
                <a:ahLst/>
                <a:rect l="l" t="t" r="r" b="b"/>
                <a:pathLst>
                  <a:path w="14160" h="4589">
                    <a:moveTo>
                      <a:pt x="14160" y="3456"/>
                    </a:moveTo>
                    <a:lnTo>
                      <a:pt x="14159" y="3515"/>
                    </a:lnTo>
                    <a:lnTo>
                      <a:pt x="14155" y="3573"/>
                    </a:lnTo>
                    <a:lnTo>
                      <a:pt x="14147" y="3630"/>
                    </a:lnTo>
                    <a:lnTo>
                      <a:pt x="14137" y="3685"/>
                    </a:lnTo>
                    <a:lnTo>
                      <a:pt x="14124" y="3740"/>
                    </a:lnTo>
                    <a:lnTo>
                      <a:pt x="14109" y="3794"/>
                    </a:lnTo>
                    <a:lnTo>
                      <a:pt x="14091" y="3847"/>
                    </a:lnTo>
                    <a:lnTo>
                      <a:pt x="14071" y="3897"/>
                    </a:lnTo>
                    <a:lnTo>
                      <a:pt x="14048" y="3948"/>
                    </a:lnTo>
                    <a:lnTo>
                      <a:pt x="14023" y="3997"/>
                    </a:lnTo>
                    <a:lnTo>
                      <a:pt x="13996" y="4044"/>
                    </a:lnTo>
                    <a:lnTo>
                      <a:pt x="13966" y="4090"/>
                    </a:lnTo>
                    <a:lnTo>
                      <a:pt x="13935" y="4134"/>
                    </a:lnTo>
                    <a:lnTo>
                      <a:pt x="13901" y="4177"/>
                    </a:lnTo>
                    <a:lnTo>
                      <a:pt x="13866" y="4219"/>
                    </a:lnTo>
                    <a:lnTo>
                      <a:pt x="13828" y="4258"/>
                    </a:lnTo>
                    <a:lnTo>
                      <a:pt x="13789" y="4296"/>
                    </a:lnTo>
                    <a:lnTo>
                      <a:pt x="13747" y="4331"/>
                    </a:lnTo>
                    <a:lnTo>
                      <a:pt x="13705" y="4364"/>
                    </a:lnTo>
                    <a:lnTo>
                      <a:pt x="13660" y="4396"/>
                    </a:lnTo>
                    <a:lnTo>
                      <a:pt x="13615" y="4425"/>
                    </a:lnTo>
                    <a:lnTo>
                      <a:pt x="13567" y="4453"/>
                    </a:lnTo>
                    <a:lnTo>
                      <a:pt x="13518" y="4478"/>
                    </a:lnTo>
                    <a:lnTo>
                      <a:pt x="13468" y="4500"/>
                    </a:lnTo>
                    <a:lnTo>
                      <a:pt x="13417" y="4522"/>
                    </a:lnTo>
                    <a:lnTo>
                      <a:pt x="13364" y="4539"/>
                    </a:lnTo>
                    <a:lnTo>
                      <a:pt x="13311" y="4554"/>
                    </a:lnTo>
                    <a:lnTo>
                      <a:pt x="13255" y="4567"/>
                    </a:lnTo>
                    <a:lnTo>
                      <a:pt x="13199" y="4576"/>
                    </a:lnTo>
                    <a:lnTo>
                      <a:pt x="13142" y="4584"/>
                    </a:lnTo>
                    <a:lnTo>
                      <a:pt x="13086" y="4588"/>
                    </a:lnTo>
                    <a:lnTo>
                      <a:pt x="13027" y="4589"/>
                    </a:lnTo>
                    <a:lnTo>
                      <a:pt x="1132" y="4589"/>
                    </a:lnTo>
                    <a:lnTo>
                      <a:pt x="1074" y="4588"/>
                    </a:lnTo>
                    <a:lnTo>
                      <a:pt x="1016" y="4584"/>
                    </a:lnTo>
                    <a:lnTo>
                      <a:pt x="959" y="4576"/>
                    </a:lnTo>
                    <a:lnTo>
                      <a:pt x="903" y="4567"/>
                    </a:lnTo>
                    <a:lnTo>
                      <a:pt x="849" y="4554"/>
                    </a:lnTo>
                    <a:lnTo>
                      <a:pt x="795" y="4539"/>
                    </a:lnTo>
                    <a:lnTo>
                      <a:pt x="742" y="4522"/>
                    </a:lnTo>
                    <a:lnTo>
                      <a:pt x="691" y="4500"/>
                    </a:lnTo>
                    <a:lnTo>
                      <a:pt x="641" y="4478"/>
                    </a:lnTo>
                    <a:lnTo>
                      <a:pt x="592" y="4453"/>
                    </a:lnTo>
                    <a:lnTo>
                      <a:pt x="545" y="4425"/>
                    </a:lnTo>
                    <a:lnTo>
                      <a:pt x="499" y="4396"/>
                    </a:lnTo>
                    <a:lnTo>
                      <a:pt x="455" y="4364"/>
                    </a:lnTo>
                    <a:lnTo>
                      <a:pt x="411" y="4331"/>
                    </a:lnTo>
                    <a:lnTo>
                      <a:pt x="370" y="4296"/>
                    </a:lnTo>
                    <a:lnTo>
                      <a:pt x="331" y="4258"/>
                    </a:lnTo>
                    <a:lnTo>
                      <a:pt x="293" y="4219"/>
                    </a:lnTo>
                    <a:lnTo>
                      <a:pt x="258" y="4177"/>
                    </a:lnTo>
                    <a:lnTo>
                      <a:pt x="224" y="4134"/>
                    </a:lnTo>
                    <a:lnTo>
                      <a:pt x="193" y="4090"/>
                    </a:lnTo>
                    <a:lnTo>
                      <a:pt x="163" y="4044"/>
                    </a:lnTo>
                    <a:lnTo>
                      <a:pt x="136" y="3997"/>
                    </a:lnTo>
                    <a:lnTo>
                      <a:pt x="111" y="3948"/>
                    </a:lnTo>
                    <a:lnTo>
                      <a:pt x="89" y="3897"/>
                    </a:lnTo>
                    <a:lnTo>
                      <a:pt x="67" y="3847"/>
                    </a:lnTo>
                    <a:lnTo>
                      <a:pt x="50" y="3794"/>
                    </a:lnTo>
                    <a:lnTo>
                      <a:pt x="35" y="3740"/>
                    </a:lnTo>
                    <a:lnTo>
                      <a:pt x="22" y="3685"/>
                    </a:lnTo>
                    <a:lnTo>
                      <a:pt x="13" y="3630"/>
                    </a:lnTo>
                    <a:lnTo>
                      <a:pt x="5" y="3573"/>
                    </a:lnTo>
                    <a:lnTo>
                      <a:pt x="1" y="3515"/>
                    </a:lnTo>
                    <a:lnTo>
                      <a:pt x="0" y="3456"/>
                    </a:lnTo>
                    <a:lnTo>
                      <a:pt x="0" y="1133"/>
                    </a:lnTo>
                    <a:lnTo>
                      <a:pt x="1" y="1075"/>
                    </a:lnTo>
                    <a:lnTo>
                      <a:pt x="5" y="1017"/>
                    </a:lnTo>
                    <a:lnTo>
                      <a:pt x="13" y="960"/>
                    </a:lnTo>
                    <a:lnTo>
                      <a:pt x="22" y="905"/>
                    </a:lnTo>
                    <a:lnTo>
                      <a:pt x="35" y="850"/>
                    </a:lnTo>
                    <a:lnTo>
                      <a:pt x="50" y="796"/>
                    </a:lnTo>
                    <a:lnTo>
                      <a:pt x="67" y="744"/>
                    </a:lnTo>
                    <a:lnTo>
                      <a:pt x="89" y="692"/>
                    </a:lnTo>
                    <a:lnTo>
                      <a:pt x="111" y="641"/>
                    </a:lnTo>
                    <a:lnTo>
                      <a:pt x="136" y="593"/>
                    </a:lnTo>
                    <a:lnTo>
                      <a:pt x="163" y="545"/>
                    </a:lnTo>
                    <a:lnTo>
                      <a:pt x="193" y="499"/>
                    </a:lnTo>
                    <a:lnTo>
                      <a:pt x="224" y="455"/>
                    </a:lnTo>
                    <a:lnTo>
                      <a:pt x="258" y="412"/>
                    </a:lnTo>
                    <a:lnTo>
                      <a:pt x="293" y="371"/>
                    </a:lnTo>
                    <a:lnTo>
                      <a:pt x="331" y="332"/>
                    </a:lnTo>
                    <a:lnTo>
                      <a:pt x="370" y="295"/>
                    </a:lnTo>
                    <a:lnTo>
                      <a:pt x="411" y="258"/>
                    </a:lnTo>
                    <a:lnTo>
                      <a:pt x="455" y="225"/>
                    </a:lnTo>
                    <a:lnTo>
                      <a:pt x="499" y="193"/>
                    </a:lnTo>
                    <a:lnTo>
                      <a:pt x="545" y="164"/>
                    </a:lnTo>
                    <a:lnTo>
                      <a:pt x="592" y="137"/>
                    </a:lnTo>
                    <a:lnTo>
                      <a:pt x="641" y="111"/>
                    </a:lnTo>
                    <a:lnTo>
                      <a:pt x="691" y="89"/>
                    </a:lnTo>
                    <a:lnTo>
                      <a:pt x="742" y="69"/>
                    </a:lnTo>
                    <a:lnTo>
                      <a:pt x="795" y="50"/>
                    </a:lnTo>
                    <a:lnTo>
                      <a:pt x="849" y="35"/>
                    </a:lnTo>
                    <a:lnTo>
                      <a:pt x="903" y="23"/>
                    </a:lnTo>
                    <a:lnTo>
                      <a:pt x="959" y="13"/>
                    </a:lnTo>
                    <a:lnTo>
                      <a:pt x="1016" y="6"/>
                    </a:lnTo>
                    <a:lnTo>
                      <a:pt x="1074" y="1"/>
                    </a:lnTo>
                    <a:lnTo>
                      <a:pt x="1132" y="0"/>
                    </a:lnTo>
                    <a:lnTo>
                      <a:pt x="13027" y="0"/>
                    </a:lnTo>
                    <a:lnTo>
                      <a:pt x="13086" y="1"/>
                    </a:lnTo>
                    <a:lnTo>
                      <a:pt x="13142" y="6"/>
                    </a:lnTo>
                    <a:lnTo>
                      <a:pt x="13199" y="13"/>
                    </a:lnTo>
                    <a:lnTo>
                      <a:pt x="13255" y="23"/>
                    </a:lnTo>
                    <a:lnTo>
                      <a:pt x="13311" y="35"/>
                    </a:lnTo>
                    <a:lnTo>
                      <a:pt x="13364" y="50"/>
                    </a:lnTo>
                    <a:lnTo>
                      <a:pt x="13417" y="69"/>
                    </a:lnTo>
                    <a:lnTo>
                      <a:pt x="13468" y="89"/>
                    </a:lnTo>
                    <a:lnTo>
                      <a:pt x="13518" y="111"/>
                    </a:lnTo>
                    <a:lnTo>
                      <a:pt x="13567" y="137"/>
                    </a:lnTo>
                    <a:lnTo>
                      <a:pt x="13615" y="164"/>
                    </a:lnTo>
                    <a:lnTo>
                      <a:pt x="13660" y="193"/>
                    </a:lnTo>
                    <a:lnTo>
                      <a:pt x="13705" y="225"/>
                    </a:lnTo>
                    <a:lnTo>
                      <a:pt x="13747" y="258"/>
                    </a:lnTo>
                    <a:lnTo>
                      <a:pt x="13789" y="295"/>
                    </a:lnTo>
                    <a:lnTo>
                      <a:pt x="13828" y="332"/>
                    </a:lnTo>
                    <a:lnTo>
                      <a:pt x="13866" y="371"/>
                    </a:lnTo>
                    <a:lnTo>
                      <a:pt x="13901" y="412"/>
                    </a:lnTo>
                    <a:lnTo>
                      <a:pt x="13935" y="455"/>
                    </a:lnTo>
                    <a:lnTo>
                      <a:pt x="13966" y="499"/>
                    </a:lnTo>
                    <a:lnTo>
                      <a:pt x="13996" y="545"/>
                    </a:lnTo>
                    <a:lnTo>
                      <a:pt x="14023" y="593"/>
                    </a:lnTo>
                    <a:lnTo>
                      <a:pt x="14048" y="641"/>
                    </a:lnTo>
                    <a:lnTo>
                      <a:pt x="14071" y="692"/>
                    </a:lnTo>
                    <a:lnTo>
                      <a:pt x="14091" y="744"/>
                    </a:lnTo>
                    <a:lnTo>
                      <a:pt x="14109" y="796"/>
                    </a:lnTo>
                    <a:lnTo>
                      <a:pt x="14124" y="850"/>
                    </a:lnTo>
                    <a:lnTo>
                      <a:pt x="14137" y="905"/>
                    </a:lnTo>
                    <a:lnTo>
                      <a:pt x="14147" y="960"/>
                    </a:lnTo>
                    <a:lnTo>
                      <a:pt x="14155" y="1017"/>
                    </a:lnTo>
                    <a:lnTo>
                      <a:pt x="14159" y="1075"/>
                    </a:lnTo>
                    <a:lnTo>
                      <a:pt x="14160" y="1133"/>
                    </a:lnTo>
                    <a:lnTo>
                      <a:pt x="14160" y="3456"/>
                    </a:lnTo>
                    <a:close/>
                  </a:path>
                </a:pathLst>
              </a:custGeom>
              <a:solidFill>
                <a:srgbClr val="b6b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5089680" y="4840560"/>
                <a:ext cx="352800" cy="115920"/>
                <a:chOff x="5089680" y="4840560"/>
                <a:chExt cx="352800" cy="115920"/>
              </a:xfrm>
            </p:grpSpPr>
            <p:cxnSp>
              <p:nvCxnSpPr>
                <p:cNvPr id="331" name=""/>
                <p:cNvCxnSpPr/>
                <p:nvPr/>
              </p:nvCxnSpPr>
              <p:spPr>
                <a:xfrm>
                  <a:off x="5141520" y="4840560"/>
                  <a:ext cx="301320" cy="1080"/>
                </a:xfrm>
                <a:prstGeom prst="straightConnector1">
                  <a:avLst/>
                </a:prstGeom>
                <a:ln w="38160">
                  <a:solidFill>
                    <a:srgbClr val="6600cc"/>
                  </a:solidFill>
                  <a:miter/>
                </a:ln>
              </p:spPr>
            </p:cxnSp>
            <p:sp>
              <p:nvSpPr>
                <p:cNvPr id="332" name=""/>
                <p:cNvSpPr/>
                <p:nvPr/>
              </p:nvSpPr>
              <p:spPr>
                <a:xfrm>
                  <a:off x="5089680" y="4840920"/>
                  <a:ext cx="275760" cy="1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5044680" y="4725360"/>
                <a:ext cx="575280" cy="81360"/>
              </a:xfrm>
              <a:custGeom>
                <a:avLst/>
                <a:gdLst/>
                <a:ahLst/>
                <a:rect l="l" t="t" r="r" b="b"/>
                <a:pathLst>
                  <a:path w="15410" h="2819">
                    <a:moveTo>
                      <a:pt x="15410" y="331"/>
                    </a:moveTo>
                    <a:lnTo>
                      <a:pt x="15391" y="312"/>
                    </a:lnTo>
                    <a:lnTo>
                      <a:pt x="15371" y="293"/>
                    </a:lnTo>
                    <a:lnTo>
                      <a:pt x="15350" y="275"/>
                    </a:lnTo>
                    <a:lnTo>
                      <a:pt x="15329" y="258"/>
                    </a:lnTo>
                    <a:lnTo>
                      <a:pt x="15308" y="241"/>
                    </a:lnTo>
                    <a:lnTo>
                      <a:pt x="15286" y="225"/>
                    </a:lnTo>
                    <a:lnTo>
                      <a:pt x="15264" y="208"/>
                    </a:lnTo>
                    <a:lnTo>
                      <a:pt x="15242" y="193"/>
                    </a:lnTo>
                    <a:lnTo>
                      <a:pt x="15220" y="178"/>
                    </a:lnTo>
                    <a:lnTo>
                      <a:pt x="15196" y="164"/>
                    </a:lnTo>
                    <a:lnTo>
                      <a:pt x="15173" y="150"/>
                    </a:lnTo>
                    <a:lnTo>
                      <a:pt x="15149" y="136"/>
                    </a:lnTo>
                    <a:lnTo>
                      <a:pt x="15124" y="123"/>
                    </a:lnTo>
                    <a:lnTo>
                      <a:pt x="15100" y="111"/>
                    </a:lnTo>
                    <a:lnTo>
                      <a:pt x="15075" y="99"/>
                    </a:lnTo>
                    <a:lnTo>
                      <a:pt x="15050" y="89"/>
                    </a:lnTo>
                    <a:lnTo>
                      <a:pt x="15024" y="78"/>
                    </a:lnTo>
                    <a:lnTo>
                      <a:pt x="14999" y="68"/>
                    </a:lnTo>
                    <a:lnTo>
                      <a:pt x="14972" y="58"/>
                    </a:lnTo>
                    <a:lnTo>
                      <a:pt x="14946" y="50"/>
                    </a:lnTo>
                    <a:lnTo>
                      <a:pt x="14919" y="42"/>
                    </a:lnTo>
                    <a:lnTo>
                      <a:pt x="14892" y="35"/>
                    </a:lnTo>
                    <a:lnTo>
                      <a:pt x="14865" y="28"/>
                    </a:lnTo>
                    <a:lnTo>
                      <a:pt x="14838" y="22"/>
                    </a:lnTo>
                    <a:lnTo>
                      <a:pt x="14809" y="17"/>
                    </a:lnTo>
                    <a:lnTo>
                      <a:pt x="14782" y="13"/>
                    </a:lnTo>
                    <a:lnTo>
                      <a:pt x="14754" y="9"/>
                    </a:lnTo>
                    <a:lnTo>
                      <a:pt x="14725" y="5"/>
                    </a:lnTo>
                    <a:lnTo>
                      <a:pt x="14696" y="3"/>
                    </a:lnTo>
                    <a:lnTo>
                      <a:pt x="14667" y="1"/>
                    </a:lnTo>
                    <a:lnTo>
                      <a:pt x="14638" y="0"/>
                    </a:lnTo>
                    <a:lnTo>
                      <a:pt x="14609" y="0"/>
                    </a:lnTo>
                    <a:lnTo>
                      <a:pt x="2967" y="0"/>
                    </a:lnTo>
                    <a:lnTo>
                      <a:pt x="2910" y="1"/>
                    </a:lnTo>
                    <a:lnTo>
                      <a:pt x="2854" y="5"/>
                    </a:lnTo>
                    <a:lnTo>
                      <a:pt x="2801" y="11"/>
                    </a:lnTo>
                    <a:lnTo>
                      <a:pt x="2750" y="20"/>
                    </a:lnTo>
                    <a:lnTo>
                      <a:pt x="2700" y="31"/>
                    </a:lnTo>
                    <a:lnTo>
                      <a:pt x="2652" y="44"/>
                    </a:lnTo>
                    <a:lnTo>
                      <a:pt x="2606" y="59"/>
                    </a:lnTo>
                    <a:lnTo>
                      <a:pt x="2561" y="78"/>
                    </a:lnTo>
                    <a:lnTo>
                      <a:pt x="2518" y="97"/>
                    </a:lnTo>
                    <a:lnTo>
                      <a:pt x="2476" y="118"/>
                    </a:lnTo>
                    <a:lnTo>
                      <a:pt x="2435" y="140"/>
                    </a:lnTo>
                    <a:lnTo>
                      <a:pt x="2396" y="166"/>
                    </a:lnTo>
                    <a:lnTo>
                      <a:pt x="2357" y="191"/>
                    </a:lnTo>
                    <a:lnTo>
                      <a:pt x="2320" y="219"/>
                    </a:lnTo>
                    <a:lnTo>
                      <a:pt x="2283" y="248"/>
                    </a:lnTo>
                    <a:lnTo>
                      <a:pt x="2248" y="278"/>
                    </a:lnTo>
                    <a:lnTo>
                      <a:pt x="2214" y="310"/>
                    </a:lnTo>
                    <a:lnTo>
                      <a:pt x="2179" y="342"/>
                    </a:lnTo>
                    <a:lnTo>
                      <a:pt x="2145" y="376"/>
                    </a:lnTo>
                    <a:lnTo>
                      <a:pt x="2111" y="409"/>
                    </a:lnTo>
                    <a:lnTo>
                      <a:pt x="2044" y="480"/>
                    </a:lnTo>
                    <a:lnTo>
                      <a:pt x="1978" y="553"/>
                    </a:lnTo>
                    <a:lnTo>
                      <a:pt x="1913" y="627"/>
                    </a:lnTo>
                    <a:lnTo>
                      <a:pt x="1845" y="702"/>
                    </a:lnTo>
                    <a:lnTo>
                      <a:pt x="1810" y="740"/>
                    </a:lnTo>
                    <a:lnTo>
                      <a:pt x="1776" y="778"/>
                    </a:lnTo>
                    <a:lnTo>
                      <a:pt x="1740" y="814"/>
                    </a:lnTo>
                    <a:lnTo>
                      <a:pt x="1704" y="852"/>
                    </a:lnTo>
                    <a:lnTo>
                      <a:pt x="0" y="2688"/>
                    </a:lnTo>
                    <a:lnTo>
                      <a:pt x="13557" y="2819"/>
                    </a:lnTo>
                    <a:lnTo>
                      <a:pt x="15410" y="331"/>
                    </a:lnTo>
                    <a:close/>
                  </a:path>
                </a:pathLst>
              </a:custGeom>
              <a:solidFill>
                <a:srgbClr val="c8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90080" y="4724280"/>
                <a:ext cx="31320" cy="11520"/>
              </a:xfrm>
              <a:custGeom>
                <a:avLst/>
                <a:gdLst/>
                <a:ahLst/>
                <a:rect l="l" t="t" r="r" b="b"/>
                <a:pathLst>
                  <a:path w="830" h="403">
                    <a:moveTo>
                      <a:pt x="0" y="84"/>
                    </a:moveTo>
                    <a:lnTo>
                      <a:pt x="28" y="85"/>
                    </a:lnTo>
                    <a:lnTo>
                      <a:pt x="56" y="86"/>
                    </a:lnTo>
                    <a:lnTo>
                      <a:pt x="84" y="88"/>
                    </a:lnTo>
                    <a:lnTo>
                      <a:pt x="112" y="90"/>
                    </a:lnTo>
                    <a:lnTo>
                      <a:pt x="138" y="93"/>
                    </a:lnTo>
                    <a:lnTo>
                      <a:pt x="166" y="97"/>
                    </a:lnTo>
                    <a:lnTo>
                      <a:pt x="193" y="101"/>
                    </a:lnTo>
                    <a:lnTo>
                      <a:pt x="220" y="106"/>
                    </a:lnTo>
                    <a:lnTo>
                      <a:pt x="247" y="112"/>
                    </a:lnTo>
                    <a:lnTo>
                      <a:pt x="272" y="119"/>
                    </a:lnTo>
                    <a:lnTo>
                      <a:pt x="299" y="126"/>
                    </a:lnTo>
                    <a:lnTo>
                      <a:pt x="325" y="134"/>
                    </a:lnTo>
                    <a:lnTo>
                      <a:pt x="350" y="142"/>
                    </a:lnTo>
                    <a:lnTo>
                      <a:pt x="376" y="151"/>
                    </a:lnTo>
                    <a:lnTo>
                      <a:pt x="400" y="160"/>
                    </a:lnTo>
                    <a:lnTo>
                      <a:pt x="424" y="170"/>
                    </a:lnTo>
                    <a:lnTo>
                      <a:pt x="448" y="180"/>
                    </a:lnTo>
                    <a:lnTo>
                      <a:pt x="473" y="192"/>
                    </a:lnTo>
                    <a:lnTo>
                      <a:pt x="496" y="204"/>
                    </a:lnTo>
                    <a:lnTo>
                      <a:pt x="519" y="216"/>
                    </a:lnTo>
                    <a:lnTo>
                      <a:pt x="543" y="229"/>
                    </a:lnTo>
                    <a:lnTo>
                      <a:pt x="566" y="242"/>
                    </a:lnTo>
                    <a:lnTo>
                      <a:pt x="587" y="256"/>
                    </a:lnTo>
                    <a:lnTo>
                      <a:pt x="610" y="271"/>
                    </a:lnTo>
                    <a:lnTo>
                      <a:pt x="631" y="286"/>
                    </a:lnTo>
                    <a:lnTo>
                      <a:pt x="652" y="301"/>
                    </a:lnTo>
                    <a:lnTo>
                      <a:pt x="673" y="317"/>
                    </a:lnTo>
                    <a:lnTo>
                      <a:pt x="694" y="333"/>
                    </a:lnTo>
                    <a:lnTo>
                      <a:pt x="714" y="351"/>
                    </a:lnTo>
                    <a:lnTo>
                      <a:pt x="733" y="368"/>
                    </a:lnTo>
                    <a:lnTo>
                      <a:pt x="752" y="386"/>
                    </a:lnTo>
                    <a:lnTo>
                      <a:pt x="771" y="403"/>
                    </a:lnTo>
                    <a:lnTo>
                      <a:pt x="830" y="345"/>
                    </a:lnTo>
                    <a:lnTo>
                      <a:pt x="810" y="324"/>
                    </a:lnTo>
                    <a:lnTo>
                      <a:pt x="790" y="305"/>
                    </a:lnTo>
                    <a:lnTo>
                      <a:pt x="769" y="287"/>
                    </a:lnTo>
                    <a:lnTo>
                      <a:pt x="747" y="269"/>
                    </a:lnTo>
                    <a:lnTo>
                      <a:pt x="725" y="250"/>
                    </a:lnTo>
                    <a:lnTo>
                      <a:pt x="703" y="234"/>
                    </a:lnTo>
                    <a:lnTo>
                      <a:pt x="681" y="217"/>
                    </a:lnTo>
                    <a:lnTo>
                      <a:pt x="657" y="201"/>
                    </a:lnTo>
                    <a:lnTo>
                      <a:pt x="633" y="185"/>
                    </a:lnTo>
                    <a:lnTo>
                      <a:pt x="610" y="170"/>
                    </a:lnTo>
                    <a:lnTo>
                      <a:pt x="584" y="156"/>
                    </a:lnTo>
                    <a:lnTo>
                      <a:pt x="560" y="142"/>
                    </a:lnTo>
                    <a:lnTo>
                      <a:pt x="535" y="129"/>
                    </a:lnTo>
                    <a:lnTo>
                      <a:pt x="509" y="117"/>
                    </a:lnTo>
                    <a:lnTo>
                      <a:pt x="484" y="104"/>
                    </a:lnTo>
                    <a:lnTo>
                      <a:pt x="458" y="92"/>
                    </a:lnTo>
                    <a:lnTo>
                      <a:pt x="430" y="82"/>
                    </a:lnTo>
                    <a:lnTo>
                      <a:pt x="404" y="71"/>
                    </a:lnTo>
                    <a:lnTo>
                      <a:pt x="377" y="62"/>
                    </a:lnTo>
                    <a:lnTo>
                      <a:pt x="349" y="53"/>
                    </a:lnTo>
                    <a:lnTo>
                      <a:pt x="322" y="45"/>
                    </a:lnTo>
                    <a:lnTo>
                      <a:pt x="293" y="37"/>
                    </a:lnTo>
                    <a:lnTo>
                      <a:pt x="265" y="30"/>
                    </a:lnTo>
                    <a:lnTo>
                      <a:pt x="237" y="24"/>
                    </a:lnTo>
                    <a:lnTo>
                      <a:pt x="207" y="18"/>
                    </a:lnTo>
                    <a:lnTo>
                      <a:pt x="179" y="13"/>
                    </a:lnTo>
                    <a:lnTo>
                      <a:pt x="150" y="10"/>
                    </a:lnTo>
                    <a:lnTo>
                      <a:pt x="120" y="6"/>
                    </a:lnTo>
                    <a:lnTo>
                      <a:pt x="90" y="3"/>
                    </a:lnTo>
                    <a:lnTo>
                      <a:pt x="60" y="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55920" y="4724280"/>
                <a:ext cx="434160" cy="2160"/>
              </a:xfrm>
              <a:prstGeom prst="rect">
                <a:avLst/>
              </a:pr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07320" y="4724280"/>
                <a:ext cx="48240" cy="26640"/>
              </a:xfrm>
              <a:custGeom>
                <a:avLst/>
                <a:gdLst/>
                <a:ahLst/>
                <a:rect l="l" t="t" r="r" b="b"/>
                <a:pathLst>
                  <a:path w="1294" h="925">
                    <a:moveTo>
                      <a:pt x="60" y="925"/>
                    </a:moveTo>
                    <a:lnTo>
                      <a:pt x="97" y="888"/>
                    </a:lnTo>
                    <a:lnTo>
                      <a:pt x="133" y="849"/>
                    </a:lnTo>
                    <a:lnTo>
                      <a:pt x="169" y="812"/>
                    </a:lnTo>
                    <a:lnTo>
                      <a:pt x="203" y="773"/>
                    </a:lnTo>
                    <a:lnTo>
                      <a:pt x="271" y="698"/>
                    </a:lnTo>
                    <a:lnTo>
                      <a:pt x="337" y="624"/>
                    </a:lnTo>
                    <a:lnTo>
                      <a:pt x="403" y="551"/>
                    </a:lnTo>
                    <a:lnTo>
                      <a:pt x="469" y="481"/>
                    </a:lnTo>
                    <a:lnTo>
                      <a:pt x="502" y="448"/>
                    </a:lnTo>
                    <a:lnTo>
                      <a:pt x="534" y="415"/>
                    </a:lnTo>
                    <a:lnTo>
                      <a:pt x="569" y="383"/>
                    </a:lnTo>
                    <a:lnTo>
                      <a:pt x="602" y="353"/>
                    </a:lnTo>
                    <a:lnTo>
                      <a:pt x="638" y="323"/>
                    </a:lnTo>
                    <a:lnTo>
                      <a:pt x="673" y="296"/>
                    </a:lnTo>
                    <a:lnTo>
                      <a:pt x="709" y="269"/>
                    </a:lnTo>
                    <a:lnTo>
                      <a:pt x="746" y="243"/>
                    </a:lnTo>
                    <a:lnTo>
                      <a:pt x="784" y="220"/>
                    </a:lnTo>
                    <a:lnTo>
                      <a:pt x="823" y="198"/>
                    </a:lnTo>
                    <a:lnTo>
                      <a:pt x="842" y="187"/>
                    </a:lnTo>
                    <a:lnTo>
                      <a:pt x="863" y="177"/>
                    </a:lnTo>
                    <a:lnTo>
                      <a:pt x="883" y="168"/>
                    </a:lnTo>
                    <a:lnTo>
                      <a:pt x="904" y="159"/>
                    </a:lnTo>
                    <a:lnTo>
                      <a:pt x="926" y="151"/>
                    </a:lnTo>
                    <a:lnTo>
                      <a:pt x="947" y="142"/>
                    </a:lnTo>
                    <a:lnTo>
                      <a:pt x="969" y="135"/>
                    </a:lnTo>
                    <a:lnTo>
                      <a:pt x="991" y="128"/>
                    </a:lnTo>
                    <a:lnTo>
                      <a:pt x="1014" y="121"/>
                    </a:lnTo>
                    <a:lnTo>
                      <a:pt x="1037" y="115"/>
                    </a:lnTo>
                    <a:lnTo>
                      <a:pt x="1060" y="109"/>
                    </a:lnTo>
                    <a:lnTo>
                      <a:pt x="1085" y="104"/>
                    </a:lnTo>
                    <a:lnTo>
                      <a:pt x="1109" y="99"/>
                    </a:lnTo>
                    <a:lnTo>
                      <a:pt x="1134" y="95"/>
                    </a:lnTo>
                    <a:lnTo>
                      <a:pt x="1160" y="92"/>
                    </a:lnTo>
                    <a:lnTo>
                      <a:pt x="1185" y="89"/>
                    </a:lnTo>
                    <a:lnTo>
                      <a:pt x="1211" y="87"/>
                    </a:lnTo>
                    <a:lnTo>
                      <a:pt x="1239" y="86"/>
                    </a:lnTo>
                    <a:lnTo>
                      <a:pt x="1266" y="85"/>
                    </a:lnTo>
                    <a:lnTo>
                      <a:pt x="1294" y="84"/>
                    </a:lnTo>
                    <a:lnTo>
                      <a:pt x="1294" y="0"/>
                    </a:lnTo>
                    <a:lnTo>
                      <a:pt x="1264" y="0"/>
                    </a:lnTo>
                    <a:lnTo>
                      <a:pt x="1235" y="1"/>
                    </a:lnTo>
                    <a:lnTo>
                      <a:pt x="1206" y="3"/>
                    </a:lnTo>
                    <a:lnTo>
                      <a:pt x="1178" y="6"/>
                    </a:lnTo>
                    <a:lnTo>
                      <a:pt x="1150" y="8"/>
                    </a:lnTo>
                    <a:lnTo>
                      <a:pt x="1122" y="12"/>
                    </a:lnTo>
                    <a:lnTo>
                      <a:pt x="1095" y="16"/>
                    </a:lnTo>
                    <a:lnTo>
                      <a:pt x="1068" y="21"/>
                    </a:lnTo>
                    <a:lnTo>
                      <a:pt x="1042" y="27"/>
                    </a:lnTo>
                    <a:lnTo>
                      <a:pt x="1017" y="33"/>
                    </a:lnTo>
                    <a:lnTo>
                      <a:pt x="991" y="40"/>
                    </a:lnTo>
                    <a:lnTo>
                      <a:pt x="967" y="47"/>
                    </a:lnTo>
                    <a:lnTo>
                      <a:pt x="942" y="55"/>
                    </a:lnTo>
                    <a:lnTo>
                      <a:pt x="918" y="63"/>
                    </a:lnTo>
                    <a:lnTo>
                      <a:pt x="895" y="72"/>
                    </a:lnTo>
                    <a:lnTo>
                      <a:pt x="872" y="81"/>
                    </a:lnTo>
                    <a:lnTo>
                      <a:pt x="850" y="91"/>
                    </a:lnTo>
                    <a:lnTo>
                      <a:pt x="826" y="101"/>
                    </a:lnTo>
                    <a:lnTo>
                      <a:pt x="805" y="112"/>
                    </a:lnTo>
                    <a:lnTo>
                      <a:pt x="783" y="124"/>
                    </a:lnTo>
                    <a:lnTo>
                      <a:pt x="741" y="147"/>
                    </a:lnTo>
                    <a:lnTo>
                      <a:pt x="701" y="173"/>
                    </a:lnTo>
                    <a:lnTo>
                      <a:pt x="660" y="200"/>
                    </a:lnTo>
                    <a:lnTo>
                      <a:pt x="622" y="228"/>
                    </a:lnTo>
                    <a:lnTo>
                      <a:pt x="584" y="258"/>
                    </a:lnTo>
                    <a:lnTo>
                      <a:pt x="548" y="289"/>
                    </a:lnTo>
                    <a:lnTo>
                      <a:pt x="512" y="321"/>
                    </a:lnTo>
                    <a:lnTo>
                      <a:pt x="477" y="355"/>
                    </a:lnTo>
                    <a:lnTo>
                      <a:pt x="442" y="388"/>
                    </a:lnTo>
                    <a:lnTo>
                      <a:pt x="408" y="424"/>
                    </a:lnTo>
                    <a:lnTo>
                      <a:pt x="341" y="495"/>
                    </a:lnTo>
                    <a:lnTo>
                      <a:pt x="274" y="568"/>
                    </a:lnTo>
                    <a:lnTo>
                      <a:pt x="208" y="642"/>
                    </a:lnTo>
                    <a:lnTo>
                      <a:pt x="141" y="717"/>
                    </a:lnTo>
                    <a:lnTo>
                      <a:pt x="107" y="754"/>
                    </a:lnTo>
                    <a:lnTo>
                      <a:pt x="71" y="791"/>
                    </a:lnTo>
                    <a:lnTo>
                      <a:pt x="37" y="828"/>
                    </a:lnTo>
                    <a:lnTo>
                      <a:pt x="0" y="865"/>
                    </a:lnTo>
                    <a:lnTo>
                      <a:pt x="60" y="925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41800" y="4749120"/>
                <a:ext cx="68040" cy="55080"/>
              </a:xfrm>
              <a:custGeom>
                <a:avLst/>
                <a:gdLst/>
                <a:ahLst/>
                <a:rect l="l" t="t" r="r" b="b"/>
                <a:pathLst>
                  <a:path w="1830" h="1907">
                    <a:moveTo>
                      <a:pt x="95" y="1907"/>
                    </a:moveTo>
                    <a:lnTo>
                      <a:pt x="126" y="1893"/>
                    </a:lnTo>
                    <a:lnTo>
                      <a:pt x="1830" y="57"/>
                    </a:lnTo>
                    <a:lnTo>
                      <a:pt x="1768" y="0"/>
                    </a:lnTo>
                    <a:lnTo>
                      <a:pt x="64" y="1836"/>
                    </a:lnTo>
                    <a:lnTo>
                      <a:pt x="95" y="1907"/>
                    </a:lnTo>
                    <a:lnTo>
                      <a:pt x="64" y="1836"/>
                    </a:lnTo>
                    <a:lnTo>
                      <a:pt x="0" y="1906"/>
                    </a:lnTo>
                    <a:lnTo>
                      <a:pt x="95" y="1907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044680" y="4801680"/>
                <a:ext cx="506160" cy="6120"/>
              </a:xfrm>
              <a:custGeom>
                <a:avLst/>
                <a:gdLst/>
                <a:ahLst/>
                <a:rect l="l" t="t" r="r" b="b"/>
                <a:pathLst>
                  <a:path w="13558" h="215">
                    <a:moveTo>
                      <a:pt x="13558" y="131"/>
                    </a:moveTo>
                    <a:lnTo>
                      <a:pt x="1" y="0"/>
                    </a:lnTo>
                    <a:lnTo>
                      <a:pt x="0" y="84"/>
                    </a:lnTo>
                    <a:lnTo>
                      <a:pt x="13558" y="215"/>
                    </a:lnTo>
                    <a:lnTo>
                      <a:pt x="13558" y="13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542200" y="4735080"/>
                <a:ext cx="90000" cy="185760"/>
              </a:xfrm>
              <a:custGeom>
                <a:avLst/>
                <a:gdLst/>
                <a:ahLst/>
                <a:rect l="l" t="t" r="r" b="b"/>
                <a:pathLst>
                  <a:path w="2424" h="6422">
                    <a:moveTo>
                      <a:pt x="2093" y="0"/>
                    </a:moveTo>
                    <a:lnTo>
                      <a:pt x="2111" y="19"/>
                    </a:lnTo>
                    <a:lnTo>
                      <a:pt x="2131" y="39"/>
                    </a:lnTo>
                    <a:lnTo>
                      <a:pt x="2149" y="60"/>
                    </a:lnTo>
                    <a:lnTo>
                      <a:pt x="2166" y="81"/>
                    </a:lnTo>
                    <a:lnTo>
                      <a:pt x="2183" y="101"/>
                    </a:lnTo>
                    <a:lnTo>
                      <a:pt x="2200" y="124"/>
                    </a:lnTo>
                    <a:lnTo>
                      <a:pt x="2216" y="146"/>
                    </a:lnTo>
                    <a:lnTo>
                      <a:pt x="2231" y="168"/>
                    </a:lnTo>
                    <a:lnTo>
                      <a:pt x="2246" y="190"/>
                    </a:lnTo>
                    <a:lnTo>
                      <a:pt x="2260" y="214"/>
                    </a:lnTo>
                    <a:lnTo>
                      <a:pt x="2274" y="237"/>
                    </a:lnTo>
                    <a:lnTo>
                      <a:pt x="2288" y="261"/>
                    </a:lnTo>
                    <a:lnTo>
                      <a:pt x="2301" y="286"/>
                    </a:lnTo>
                    <a:lnTo>
                      <a:pt x="2313" y="310"/>
                    </a:lnTo>
                    <a:lnTo>
                      <a:pt x="2324" y="335"/>
                    </a:lnTo>
                    <a:lnTo>
                      <a:pt x="2335" y="361"/>
                    </a:lnTo>
                    <a:lnTo>
                      <a:pt x="2346" y="386"/>
                    </a:lnTo>
                    <a:lnTo>
                      <a:pt x="2356" y="411"/>
                    </a:lnTo>
                    <a:lnTo>
                      <a:pt x="2366" y="438"/>
                    </a:lnTo>
                    <a:lnTo>
                      <a:pt x="2374" y="464"/>
                    </a:lnTo>
                    <a:lnTo>
                      <a:pt x="2382" y="491"/>
                    </a:lnTo>
                    <a:lnTo>
                      <a:pt x="2389" y="518"/>
                    </a:lnTo>
                    <a:lnTo>
                      <a:pt x="2396" y="545"/>
                    </a:lnTo>
                    <a:lnTo>
                      <a:pt x="2402" y="573"/>
                    </a:lnTo>
                    <a:lnTo>
                      <a:pt x="2407" y="601"/>
                    </a:lnTo>
                    <a:lnTo>
                      <a:pt x="2411" y="629"/>
                    </a:lnTo>
                    <a:lnTo>
                      <a:pt x="2415" y="657"/>
                    </a:lnTo>
                    <a:lnTo>
                      <a:pt x="2419" y="686"/>
                    </a:lnTo>
                    <a:lnTo>
                      <a:pt x="2421" y="714"/>
                    </a:lnTo>
                    <a:lnTo>
                      <a:pt x="2423" y="743"/>
                    </a:lnTo>
                    <a:lnTo>
                      <a:pt x="2424" y="772"/>
                    </a:lnTo>
                    <a:lnTo>
                      <a:pt x="2424" y="802"/>
                    </a:lnTo>
                    <a:lnTo>
                      <a:pt x="2424" y="3125"/>
                    </a:lnTo>
                    <a:lnTo>
                      <a:pt x="65" y="6422"/>
                    </a:lnTo>
                    <a:lnTo>
                      <a:pt x="0" y="2390"/>
                    </a:lnTo>
                    <a:lnTo>
                      <a:pt x="2093" y="0"/>
                    </a:lnTo>
                    <a:close/>
                  </a:path>
                </a:pathLst>
              </a:custGeom>
              <a:solidFill>
                <a:srgbClr val="7b7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19240" y="473400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404" h="831">
                    <a:moveTo>
                      <a:pt x="404" y="831"/>
                    </a:moveTo>
                    <a:lnTo>
                      <a:pt x="404" y="800"/>
                    </a:lnTo>
                    <a:lnTo>
                      <a:pt x="402" y="770"/>
                    </a:lnTo>
                    <a:lnTo>
                      <a:pt x="401" y="740"/>
                    </a:lnTo>
                    <a:lnTo>
                      <a:pt x="398" y="710"/>
                    </a:lnTo>
                    <a:lnTo>
                      <a:pt x="394" y="681"/>
                    </a:lnTo>
                    <a:lnTo>
                      <a:pt x="391" y="651"/>
                    </a:lnTo>
                    <a:lnTo>
                      <a:pt x="386" y="623"/>
                    </a:lnTo>
                    <a:lnTo>
                      <a:pt x="380" y="593"/>
                    </a:lnTo>
                    <a:lnTo>
                      <a:pt x="374" y="565"/>
                    </a:lnTo>
                    <a:lnTo>
                      <a:pt x="367" y="537"/>
                    </a:lnTo>
                    <a:lnTo>
                      <a:pt x="359" y="509"/>
                    </a:lnTo>
                    <a:lnTo>
                      <a:pt x="351" y="481"/>
                    </a:lnTo>
                    <a:lnTo>
                      <a:pt x="342" y="454"/>
                    </a:lnTo>
                    <a:lnTo>
                      <a:pt x="333" y="426"/>
                    </a:lnTo>
                    <a:lnTo>
                      <a:pt x="322" y="400"/>
                    </a:lnTo>
                    <a:lnTo>
                      <a:pt x="312" y="372"/>
                    </a:lnTo>
                    <a:lnTo>
                      <a:pt x="300" y="347"/>
                    </a:lnTo>
                    <a:lnTo>
                      <a:pt x="287" y="321"/>
                    </a:lnTo>
                    <a:lnTo>
                      <a:pt x="275" y="295"/>
                    </a:lnTo>
                    <a:lnTo>
                      <a:pt x="262" y="270"/>
                    </a:lnTo>
                    <a:lnTo>
                      <a:pt x="248" y="246"/>
                    </a:lnTo>
                    <a:lnTo>
                      <a:pt x="234" y="221"/>
                    </a:lnTo>
                    <a:lnTo>
                      <a:pt x="219" y="197"/>
                    </a:lnTo>
                    <a:lnTo>
                      <a:pt x="203" y="173"/>
                    </a:lnTo>
                    <a:lnTo>
                      <a:pt x="187" y="150"/>
                    </a:lnTo>
                    <a:lnTo>
                      <a:pt x="171" y="127"/>
                    </a:lnTo>
                    <a:lnTo>
                      <a:pt x="153" y="105"/>
                    </a:lnTo>
                    <a:lnTo>
                      <a:pt x="135" y="83"/>
                    </a:lnTo>
                    <a:lnTo>
                      <a:pt x="117" y="61"/>
                    </a:lnTo>
                    <a:lnTo>
                      <a:pt x="99" y="40"/>
                    </a:lnTo>
                    <a:lnTo>
                      <a:pt x="80" y="20"/>
                    </a:lnTo>
                    <a:lnTo>
                      <a:pt x="59" y="0"/>
                    </a:lnTo>
                    <a:lnTo>
                      <a:pt x="0" y="59"/>
                    </a:lnTo>
                    <a:lnTo>
                      <a:pt x="18" y="78"/>
                    </a:lnTo>
                    <a:lnTo>
                      <a:pt x="36" y="97"/>
                    </a:lnTo>
                    <a:lnTo>
                      <a:pt x="53" y="116"/>
                    </a:lnTo>
                    <a:lnTo>
                      <a:pt x="71" y="136"/>
                    </a:lnTo>
                    <a:lnTo>
                      <a:pt x="87" y="157"/>
                    </a:lnTo>
                    <a:lnTo>
                      <a:pt x="103" y="178"/>
                    </a:lnTo>
                    <a:lnTo>
                      <a:pt x="118" y="199"/>
                    </a:lnTo>
                    <a:lnTo>
                      <a:pt x="133" y="220"/>
                    </a:lnTo>
                    <a:lnTo>
                      <a:pt x="148" y="243"/>
                    </a:lnTo>
                    <a:lnTo>
                      <a:pt x="162" y="265"/>
                    </a:lnTo>
                    <a:lnTo>
                      <a:pt x="175" y="287"/>
                    </a:lnTo>
                    <a:lnTo>
                      <a:pt x="188" y="311"/>
                    </a:lnTo>
                    <a:lnTo>
                      <a:pt x="200" y="334"/>
                    </a:lnTo>
                    <a:lnTo>
                      <a:pt x="212" y="357"/>
                    </a:lnTo>
                    <a:lnTo>
                      <a:pt x="224" y="382"/>
                    </a:lnTo>
                    <a:lnTo>
                      <a:pt x="234" y="406"/>
                    </a:lnTo>
                    <a:lnTo>
                      <a:pt x="244" y="430"/>
                    </a:lnTo>
                    <a:lnTo>
                      <a:pt x="253" y="456"/>
                    </a:lnTo>
                    <a:lnTo>
                      <a:pt x="262" y="481"/>
                    </a:lnTo>
                    <a:lnTo>
                      <a:pt x="270" y="506"/>
                    </a:lnTo>
                    <a:lnTo>
                      <a:pt x="278" y="532"/>
                    </a:lnTo>
                    <a:lnTo>
                      <a:pt x="285" y="558"/>
                    </a:lnTo>
                    <a:lnTo>
                      <a:pt x="292" y="584"/>
                    </a:lnTo>
                    <a:lnTo>
                      <a:pt x="298" y="611"/>
                    </a:lnTo>
                    <a:lnTo>
                      <a:pt x="303" y="637"/>
                    </a:lnTo>
                    <a:lnTo>
                      <a:pt x="307" y="664"/>
                    </a:lnTo>
                    <a:lnTo>
                      <a:pt x="311" y="692"/>
                    </a:lnTo>
                    <a:lnTo>
                      <a:pt x="314" y="719"/>
                    </a:lnTo>
                    <a:lnTo>
                      <a:pt x="316" y="746"/>
                    </a:lnTo>
                    <a:lnTo>
                      <a:pt x="318" y="774"/>
                    </a:lnTo>
                    <a:lnTo>
                      <a:pt x="319" y="802"/>
                    </a:lnTo>
                    <a:lnTo>
                      <a:pt x="320" y="831"/>
                    </a:lnTo>
                    <a:lnTo>
                      <a:pt x="404" y="83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31120" y="4758120"/>
                <a:ext cx="2880" cy="68040"/>
              </a:xfrm>
              <a:custGeom>
                <a:avLst/>
                <a:gdLst/>
                <a:ahLst/>
                <a:rect l="l" t="t" r="r" b="b"/>
                <a:pathLst>
                  <a:path w="84" h="2348">
                    <a:moveTo>
                      <a:pt x="76" y="2348"/>
                    </a:moveTo>
                    <a:lnTo>
                      <a:pt x="84" y="23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2323"/>
                    </a:lnTo>
                    <a:lnTo>
                      <a:pt x="76" y="2348"/>
                    </a:lnTo>
                    <a:lnTo>
                      <a:pt x="76" y="2348"/>
                    </a:lnTo>
                    <a:lnTo>
                      <a:pt x="84" y="2336"/>
                    </a:lnTo>
                    <a:lnTo>
                      <a:pt x="84" y="2323"/>
                    </a:lnTo>
                    <a:lnTo>
                      <a:pt x="76" y="2348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543280" y="4824360"/>
                <a:ext cx="90720" cy="100080"/>
              </a:xfrm>
              <a:custGeom>
                <a:avLst/>
                <a:gdLst/>
                <a:ahLst/>
                <a:rect l="l" t="t" r="r" b="b"/>
                <a:pathLst>
                  <a:path w="2436" h="3448">
                    <a:moveTo>
                      <a:pt x="0" y="3322"/>
                    </a:moveTo>
                    <a:lnTo>
                      <a:pt x="76" y="3345"/>
                    </a:lnTo>
                    <a:lnTo>
                      <a:pt x="2436" y="49"/>
                    </a:lnTo>
                    <a:lnTo>
                      <a:pt x="2367" y="0"/>
                    </a:lnTo>
                    <a:lnTo>
                      <a:pt x="7" y="3297"/>
                    </a:lnTo>
                    <a:lnTo>
                      <a:pt x="0" y="3322"/>
                    </a:lnTo>
                    <a:lnTo>
                      <a:pt x="0" y="3322"/>
                    </a:lnTo>
                    <a:lnTo>
                      <a:pt x="3" y="3448"/>
                    </a:lnTo>
                    <a:lnTo>
                      <a:pt x="76" y="3345"/>
                    </a:lnTo>
                    <a:lnTo>
                      <a:pt x="0" y="3322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40040" y="4804200"/>
                <a:ext cx="6120" cy="116640"/>
              </a:xfrm>
              <a:custGeom>
                <a:avLst/>
                <a:gdLst/>
                <a:ahLst/>
                <a:rect l="l" t="t" r="r" b="b"/>
                <a:pathLst>
                  <a:path w="150" h="4033">
                    <a:moveTo>
                      <a:pt x="0" y="1"/>
                    </a:moveTo>
                    <a:lnTo>
                      <a:pt x="66" y="4033"/>
                    </a:lnTo>
                    <a:lnTo>
                      <a:pt x="150" y="4032"/>
                    </a:lnTo>
                    <a:lnTo>
                      <a:pt x="8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16640" y="4893840"/>
                <a:ext cx="4356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0" y="1176"/>
                    </a:moveTo>
                    <a:lnTo>
                      <a:pt x="0" y="1176"/>
                    </a:lnTo>
                    <a:lnTo>
                      <a:pt x="30" y="1176"/>
                    </a:lnTo>
                    <a:lnTo>
                      <a:pt x="61" y="1174"/>
                    </a:lnTo>
                    <a:lnTo>
                      <a:pt x="90" y="1173"/>
                    </a:lnTo>
                    <a:lnTo>
                      <a:pt x="119" y="1170"/>
                    </a:lnTo>
                    <a:lnTo>
                      <a:pt x="150" y="1167"/>
                    </a:lnTo>
                    <a:lnTo>
                      <a:pt x="179" y="1163"/>
                    </a:lnTo>
                    <a:lnTo>
                      <a:pt x="208" y="1158"/>
                    </a:lnTo>
                    <a:lnTo>
                      <a:pt x="237" y="1152"/>
                    </a:lnTo>
                    <a:lnTo>
                      <a:pt x="265" y="1146"/>
                    </a:lnTo>
                    <a:lnTo>
                      <a:pt x="294" y="1140"/>
                    </a:lnTo>
                    <a:lnTo>
                      <a:pt x="321" y="1131"/>
                    </a:lnTo>
                    <a:lnTo>
                      <a:pt x="349" y="1123"/>
                    </a:lnTo>
                    <a:lnTo>
                      <a:pt x="377" y="1114"/>
                    </a:lnTo>
                    <a:lnTo>
                      <a:pt x="404" y="1105"/>
                    </a:lnTo>
                    <a:lnTo>
                      <a:pt x="431" y="1095"/>
                    </a:lnTo>
                    <a:lnTo>
                      <a:pt x="458" y="1084"/>
                    </a:lnTo>
                    <a:lnTo>
                      <a:pt x="483" y="1073"/>
                    </a:lnTo>
                    <a:lnTo>
                      <a:pt x="510" y="1060"/>
                    </a:lnTo>
                    <a:lnTo>
                      <a:pt x="535" y="1047"/>
                    </a:lnTo>
                    <a:lnTo>
                      <a:pt x="560" y="1034"/>
                    </a:lnTo>
                    <a:lnTo>
                      <a:pt x="585" y="1020"/>
                    </a:lnTo>
                    <a:lnTo>
                      <a:pt x="609" y="1006"/>
                    </a:lnTo>
                    <a:lnTo>
                      <a:pt x="633" y="991"/>
                    </a:lnTo>
                    <a:lnTo>
                      <a:pt x="658" y="975"/>
                    </a:lnTo>
                    <a:lnTo>
                      <a:pt x="681" y="959"/>
                    </a:lnTo>
                    <a:lnTo>
                      <a:pt x="703" y="943"/>
                    </a:lnTo>
                    <a:lnTo>
                      <a:pt x="725" y="926"/>
                    </a:lnTo>
                    <a:lnTo>
                      <a:pt x="748" y="907"/>
                    </a:lnTo>
                    <a:lnTo>
                      <a:pt x="769" y="889"/>
                    </a:lnTo>
                    <a:lnTo>
                      <a:pt x="790" y="871"/>
                    </a:lnTo>
                    <a:lnTo>
                      <a:pt x="811" y="852"/>
                    </a:lnTo>
                    <a:lnTo>
                      <a:pt x="831" y="831"/>
                    </a:lnTo>
                    <a:lnTo>
                      <a:pt x="851" y="811"/>
                    </a:lnTo>
                    <a:lnTo>
                      <a:pt x="870" y="791"/>
                    </a:lnTo>
                    <a:lnTo>
                      <a:pt x="889" y="770"/>
                    </a:lnTo>
                    <a:lnTo>
                      <a:pt x="907" y="748"/>
                    </a:lnTo>
                    <a:lnTo>
                      <a:pt x="925" y="726"/>
                    </a:lnTo>
                    <a:lnTo>
                      <a:pt x="942" y="704"/>
                    </a:lnTo>
                    <a:lnTo>
                      <a:pt x="958" y="681"/>
                    </a:lnTo>
                    <a:lnTo>
                      <a:pt x="975" y="658"/>
                    </a:lnTo>
                    <a:lnTo>
                      <a:pt x="990" y="634"/>
                    </a:lnTo>
                    <a:lnTo>
                      <a:pt x="1005" y="611"/>
                    </a:lnTo>
                    <a:lnTo>
                      <a:pt x="1019" y="586"/>
                    </a:lnTo>
                    <a:lnTo>
                      <a:pt x="1033" y="561"/>
                    </a:lnTo>
                    <a:lnTo>
                      <a:pt x="1047" y="536"/>
                    </a:lnTo>
                    <a:lnTo>
                      <a:pt x="1059" y="510"/>
                    </a:lnTo>
                    <a:lnTo>
                      <a:pt x="1071" y="485"/>
                    </a:lnTo>
                    <a:lnTo>
                      <a:pt x="1083" y="459"/>
                    </a:lnTo>
                    <a:lnTo>
                      <a:pt x="1093" y="431"/>
                    </a:lnTo>
                    <a:lnTo>
                      <a:pt x="1104" y="405"/>
                    </a:lnTo>
                    <a:lnTo>
                      <a:pt x="1113" y="377"/>
                    </a:lnTo>
                    <a:lnTo>
                      <a:pt x="1123" y="350"/>
                    </a:lnTo>
                    <a:lnTo>
                      <a:pt x="1131" y="323"/>
                    </a:lnTo>
                    <a:lnTo>
                      <a:pt x="1138" y="294"/>
                    </a:lnTo>
                    <a:lnTo>
                      <a:pt x="1145" y="266"/>
                    </a:lnTo>
                    <a:lnTo>
                      <a:pt x="1151" y="238"/>
                    </a:lnTo>
                    <a:lnTo>
                      <a:pt x="1157" y="208"/>
                    </a:lnTo>
                    <a:lnTo>
                      <a:pt x="1162" y="180"/>
                    </a:lnTo>
                    <a:lnTo>
                      <a:pt x="1165" y="150"/>
                    </a:lnTo>
                    <a:lnTo>
                      <a:pt x="1169" y="121"/>
                    </a:lnTo>
                    <a:lnTo>
                      <a:pt x="1172" y="91"/>
                    </a:lnTo>
                    <a:lnTo>
                      <a:pt x="1173" y="61"/>
                    </a:lnTo>
                    <a:lnTo>
                      <a:pt x="1175" y="31"/>
                    </a:lnTo>
                    <a:lnTo>
                      <a:pt x="1175" y="0"/>
                    </a:lnTo>
                    <a:lnTo>
                      <a:pt x="1091" y="0"/>
                    </a:lnTo>
                    <a:lnTo>
                      <a:pt x="1090" y="29"/>
                    </a:lnTo>
                    <a:lnTo>
                      <a:pt x="1089" y="57"/>
                    </a:lnTo>
                    <a:lnTo>
                      <a:pt x="1087" y="85"/>
                    </a:lnTo>
                    <a:lnTo>
                      <a:pt x="1085" y="112"/>
                    </a:lnTo>
                    <a:lnTo>
                      <a:pt x="1082" y="139"/>
                    </a:lnTo>
                    <a:lnTo>
                      <a:pt x="1078" y="167"/>
                    </a:lnTo>
                    <a:lnTo>
                      <a:pt x="1074" y="194"/>
                    </a:lnTo>
                    <a:lnTo>
                      <a:pt x="1069" y="220"/>
                    </a:lnTo>
                    <a:lnTo>
                      <a:pt x="1063" y="248"/>
                    </a:lnTo>
                    <a:lnTo>
                      <a:pt x="1057" y="273"/>
                    </a:lnTo>
                    <a:lnTo>
                      <a:pt x="1050" y="299"/>
                    </a:lnTo>
                    <a:lnTo>
                      <a:pt x="1042" y="325"/>
                    </a:lnTo>
                    <a:lnTo>
                      <a:pt x="1033" y="351"/>
                    </a:lnTo>
                    <a:lnTo>
                      <a:pt x="1024" y="375"/>
                    </a:lnTo>
                    <a:lnTo>
                      <a:pt x="1015" y="401"/>
                    </a:lnTo>
                    <a:lnTo>
                      <a:pt x="1005" y="425"/>
                    </a:lnTo>
                    <a:lnTo>
                      <a:pt x="995" y="449"/>
                    </a:lnTo>
                    <a:lnTo>
                      <a:pt x="984" y="474"/>
                    </a:lnTo>
                    <a:lnTo>
                      <a:pt x="972" y="497"/>
                    </a:lnTo>
                    <a:lnTo>
                      <a:pt x="959" y="520"/>
                    </a:lnTo>
                    <a:lnTo>
                      <a:pt x="946" y="544"/>
                    </a:lnTo>
                    <a:lnTo>
                      <a:pt x="933" y="567"/>
                    </a:lnTo>
                    <a:lnTo>
                      <a:pt x="919" y="588"/>
                    </a:lnTo>
                    <a:lnTo>
                      <a:pt x="905" y="611"/>
                    </a:lnTo>
                    <a:lnTo>
                      <a:pt x="890" y="632"/>
                    </a:lnTo>
                    <a:lnTo>
                      <a:pt x="874" y="653"/>
                    </a:lnTo>
                    <a:lnTo>
                      <a:pt x="858" y="674"/>
                    </a:lnTo>
                    <a:lnTo>
                      <a:pt x="842" y="695"/>
                    </a:lnTo>
                    <a:lnTo>
                      <a:pt x="825" y="715"/>
                    </a:lnTo>
                    <a:lnTo>
                      <a:pt x="807" y="734"/>
                    </a:lnTo>
                    <a:lnTo>
                      <a:pt x="789" y="753"/>
                    </a:lnTo>
                    <a:lnTo>
                      <a:pt x="771" y="772"/>
                    </a:lnTo>
                    <a:lnTo>
                      <a:pt x="753" y="790"/>
                    </a:lnTo>
                    <a:lnTo>
                      <a:pt x="734" y="808"/>
                    </a:lnTo>
                    <a:lnTo>
                      <a:pt x="714" y="825"/>
                    </a:lnTo>
                    <a:lnTo>
                      <a:pt x="694" y="843"/>
                    </a:lnTo>
                    <a:lnTo>
                      <a:pt x="674" y="859"/>
                    </a:lnTo>
                    <a:lnTo>
                      <a:pt x="652" y="875"/>
                    </a:lnTo>
                    <a:lnTo>
                      <a:pt x="631" y="890"/>
                    </a:lnTo>
                    <a:lnTo>
                      <a:pt x="610" y="905"/>
                    </a:lnTo>
                    <a:lnTo>
                      <a:pt x="588" y="920"/>
                    </a:lnTo>
                    <a:lnTo>
                      <a:pt x="565" y="934"/>
                    </a:lnTo>
                    <a:lnTo>
                      <a:pt x="543" y="947"/>
                    </a:lnTo>
                    <a:lnTo>
                      <a:pt x="520" y="960"/>
                    </a:lnTo>
                    <a:lnTo>
                      <a:pt x="496" y="972"/>
                    </a:lnTo>
                    <a:lnTo>
                      <a:pt x="473" y="984"/>
                    </a:lnTo>
                    <a:lnTo>
                      <a:pt x="449" y="996"/>
                    </a:lnTo>
                    <a:lnTo>
                      <a:pt x="424" y="1006"/>
                    </a:lnTo>
                    <a:lnTo>
                      <a:pt x="400" y="1016"/>
                    </a:lnTo>
                    <a:lnTo>
                      <a:pt x="375" y="1025"/>
                    </a:lnTo>
                    <a:lnTo>
                      <a:pt x="350" y="1034"/>
                    </a:lnTo>
                    <a:lnTo>
                      <a:pt x="324" y="1042"/>
                    </a:lnTo>
                    <a:lnTo>
                      <a:pt x="299" y="1050"/>
                    </a:lnTo>
                    <a:lnTo>
                      <a:pt x="272" y="1057"/>
                    </a:lnTo>
                    <a:lnTo>
                      <a:pt x="246" y="1064"/>
                    </a:lnTo>
                    <a:lnTo>
                      <a:pt x="220" y="1070"/>
                    </a:lnTo>
                    <a:lnTo>
                      <a:pt x="193" y="1075"/>
                    </a:lnTo>
                    <a:lnTo>
                      <a:pt x="166" y="1079"/>
                    </a:lnTo>
                    <a:lnTo>
                      <a:pt x="139" y="1083"/>
                    </a:lnTo>
                    <a:lnTo>
                      <a:pt x="111" y="1086"/>
                    </a:lnTo>
                    <a:lnTo>
                      <a:pt x="84" y="1089"/>
                    </a:lnTo>
                    <a:lnTo>
                      <a:pt x="57" y="1090"/>
                    </a:lnTo>
                    <a:lnTo>
                      <a:pt x="28" y="1091"/>
                    </a:lnTo>
                    <a:lnTo>
                      <a:pt x="0" y="1092"/>
                    </a:lnTo>
                    <a:lnTo>
                      <a:pt x="0" y="1092"/>
                    </a:lnTo>
                    <a:lnTo>
                      <a:pt x="0" y="1176"/>
                    </a:lnTo>
                    <a:lnTo>
                      <a:pt x="0" y="1176"/>
                    </a:lnTo>
                    <a:lnTo>
                      <a:pt x="0" y="1176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72760" y="4925520"/>
                <a:ext cx="443520" cy="2160"/>
              </a:xfrm>
              <a:custGeom>
                <a:avLst/>
                <a:gdLst/>
                <a:ahLst/>
                <a:rect l="l" t="t" r="r" b="b"/>
                <a:pathLst>
                  <a:path w="11895" h="84">
                    <a:moveTo>
                      <a:pt x="0" y="0"/>
                    </a:moveTo>
                    <a:lnTo>
                      <a:pt x="0" y="84"/>
                    </a:lnTo>
                    <a:lnTo>
                      <a:pt x="11895" y="84"/>
                    </a:lnTo>
                    <a:lnTo>
                      <a:pt x="1189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29200" y="4893840"/>
                <a:ext cx="4356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0" y="0"/>
                    </a:moveTo>
                    <a:lnTo>
                      <a:pt x="0" y="0"/>
                    </a:lnTo>
                    <a:lnTo>
                      <a:pt x="0" y="31"/>
                    </a:lnTo>
                    <a:lnTo>
                      <a:pt x="2" y="61"/>
                    </a:lnTo>
                    <a:lnTo>
                      <a:pt x="3" y="91"/>
                    </a:lnTo>
                    <a:lnTo>
                      <a:pt x="6" y="121"/>
                    </a:lnTo>
                    <a:lnTo>
                      <a:pt x="9" y="150"/>
                    </a:lnTo>
                    <a:lnTo>
                      <a:pt x="13" y="180"/>
                    </a:lnTo>
                    <a:lnTo>
                      <a:pt x="18" y="209"/>
                    </a:lnTo>
                    <a:lnTo>
                      <a:pt x="24" y="238"/>
                    </a:lnTo>
                    <a:lnTo>
                      <a:pt x="30" y="266"/>
                    </a:lnTo>
                    <a:lnTo>
                      <a:pt x="36" y="294"/>
                    </a:lnTo>
                    <a:lnTo>
                      <a:pt x="45" y="323"/>
                    </a:lnTo>
                    <a:lnTo>
                      <a:pt x="53" y="350"/>
                    </a:lnTo>
                    <a:lnTo>
                      <a:pt x="62" y="377"/>
                    </a:lnTo>
                    <a:lnTo>
                      <a:pt x="71" y="405"/>
                    </a:lnTo>
                    <a:lnTo>
                      <a:pt x="81" y="432"/>
                    </a:lnTo>
                    <a:lnTo>
                      <a:pt x="92" y="459"/>
                    </a:lnTo>
                    <a:lnTo>
                      <a:pt x="103" y="485"/>
                    </a:lnTo>
                    <a:lnTo>
                      <a:pt x="116" y="510"/>
                    </a:lnTo>
                    <a:lnTo>
                      <a:pt x="129" y="536"/>
                    </a:lnTo>
                    <a:lnTo>
                      <a:pt x="142" y="561"/>
                    </a:lnTo>
                    <a:lnTo>
                      <a:pt x="156" y="586"/>
                    </a:lnTo>
                    <a:lnTo>
                      <a:pt x="170" y="611"/>
                    </a:lnTo>
                    <a:lnTo>
                      <a:pt x="185" y="634"/>
                    </a:lnTo>
                    <a:lnTo>
                      <a:pt x="201" y="658"/>
                    </a:lnTo>
                    <a:lnTo>
                      <a:pt x="217" y="681"/>
                    </a:lnTo>
                    <a:lnTo>
                      <a:pt x="233" y="704"/>
                    </a:lnTo>
                    <a:lnTo>
                      <a:pt x="250" y="726"/>
                    </a:lnTo>
                    <a:lnTo>
                      <a:pt x="269" y="748"/>
                    </a:lnTo>
                    <a:lnTo>
                      <a:pt x="287" y="770"/>
                    </a:lnTo>
                    <a:lnTo>
                      <a:pt x="305" y="791"/>
                    </a:lnTo>
                    <a:lnTo>
                      <a:pt x="324" y="811"/>
                    </a:lnTo>
                    <a:lnTo>
                      <a:pt x="345" y="831"/>
                    </a:lnTo>
                    <a:lnTo>
                      <a:pt x="365" y="852"/>
                    </a:lnTo>
                    <a:lnTo>
                      <a:pt x="385" y="871"/>
                    </a:lnTo>
                    <a:lnTo>
                      <a:pt x="406" y="889"/>
                    </a:lnTo>
                    <a:lnTo>
                      <a:pt x="428" y="907"/>
                    </a:lnTo>
                    <a:lnTo>
                      <a:pt x="450" y="926"/>
                    </a:lnTo>
                    <a:lnTo>
                      <a:pt x="472" y="943"/>
                    </a:lnTo>
                    <a:lnTo>
                      <a:pt x="494" y="959"/>
                    </a:lnTo>
                    <a:lnTo>
                      <a:pt x="518" y="975"/>
                    </a:lnTo>
                    <a:lnTo>
                      <a:pt x="542" y="991"/>
                    </a:lnTo>
                    <a:lnTo>
                      <a:pt x="565" y="1006"/>
                    </a:lnTo>
                    <a:lnTo>
                      <a:pt x="590" y="1020"/>
                    </a:lnTo>
                    <a:lnTo>
                      <a:pt x="615" y="1034"/>
                    </a:lnTo>
                    <a:lnTo>
                      <a:pt x="640" y="1047"/>
                    </a:lnTo>
                    <a:lnTo>
                      <a:pt x="666" y="1060"/>
                    </a:lnTo>
                    <a:lnTo>
                      <a:pt x="691" y="1073"/>
                    </a:lnTo>
                    <a:lnTo>
                      <a:pt x="717" y="1084"/>
                    </a:lnTo>
                    <a:lnTo>
                      <a:pt x="744" y="1095"/>
                    </a:lnTo>
                    <a:lnTo>
                      <a:pt x="771" y="1105"/>
                    </a:lnTo>
                    <a:lnTo>
                      <a:pt x="798" y="1114"/>
                    </a:lnTo>
                    <a:lnTo>
                      <a:pt x="826" y="1123"/>
                    </a:lnTo>
                    <a:lnTo>
                      <a:pt x="853" y="1131"/>
                    </a:lnTo>
                    <a:lnTo>
                      <a:pt x="882" y="1140"/>
                    </a:lnTo>
                    <a:lnTo>
                      <a:pt x="910" y="1146"/>
                    </a:lnTo>
                    <a:lnTo>
                      <a:pt x="938" y="1152"/>
                    </a:lnTo>
                    <a:lnTo>
                      <a:pt x="967" y="1158"/>
                    </a:lnTo>
                    <a:lnTo>
                      <a:pt x="996" y="1163"/>
                    </a:lnTo>
                    <a:lnTo>
                      <a:pt x="1025" y="1167"/>
                    </a:lnTo>
                    <a:lnTo>
                      <a:pt x="1055" y="1170"/>
                    </a:lnTo>
                    <a:lnTo>
                      <a:pt x="1085" y="1173"/>
                    </a:lnTo>
                    <a:lnTo>
                      <a:pt x="1115" y="1174"/>
                    </a:lnTo>
                    <a:lnTo>
                      <a:pt x="1145" y="1176"/>
                    </a:lnTo>
                    <a:lnTo>
                      <a:pt x="1175" y="1176"/>
                    </a:lnTo>
                    <a:lnTo>
                      <a:pt x="1175" y="1092"/>
                    </a:lnTo>
                    <a:lnTo>
                      <a:pt x="1147" y="1091"/>
                    </a:lnTo>
                    <a:lnTo>
                      <a:pt x="1119" y="1090"/>
                    </a:lnTo>
                    <a:lnTo>
                      <a:pt x="1091" y="1089"/>
                    </a:lnTo>
                    <a:lnTo>
                      <a:pt x="1063" y="1086"/>
                    </a:lnTo>
                    <a:lnTo>
                      <a:pt x="1037" y="1083"/>
                    </a:lnTo>
                    <a:lnTo>
                      <a:pt x="1009" y="1079"/>
                    </a:lnTo>
                    <a:lnTo>
                      <a:pt x="982" y="1075"/>
                    </a:lnTo>
                    <a:lnTo>
                      <a:pt x="955" y="1070"/>
                    </a:lnTo>
                    <a:lnTo>
                      <a:pt x="928" y="1064"/>
                    </a:lnTo>
                    <a:lnTo>
                      <a:pt x="902" y="1057"/>
                    </a:lnTo>
                    <a:lnTo>
                      <a:pt x="876" y="1050"/>
                    </a:lnTo>
                    <a:lnTo>
                      <a:pt x="851" y="1042"/>
                    </a:lnTo>
                    <a:lnTo>
                      <a:pt x="825" y="1034"/>
                    </a:lnTo>
                    <a:lnTo>
                      <a:pt x="800" y="1025"/>
                    </a:lnTo>
                    <a:lnTo>
                      <a:pt x="775" y="1016"/>
                    </a:lnTo>
                    <a:lnTo>
                      <a:pt x="751" y="1006"/>
                    </a:lnTo>
                    <a:lnTo>
                      <a:pt x="727" y="996"/>
                    </a:lnTo>
                    <a:lnTo>
                      <a:pt x="702" y="984"/>
                    </a:lnTo>
                    <a:lnTo>
                      <a:pt x="679" y="972"/>
                    </a:lnTo>
                    <a:lnTo>
                      <a:pt x="656" y="960"/>
                    </a:lnTo>
                    <a:lnTo>
                      <a:pt x="632" y="947"/>
                    </a:lnTo>
                    <a:lnTo>
                      <a:pt x="609" y="934"/>
                    </a:lnTo>
                    <a:lnTo>
                      <a:pt x="587" y="920"/>
                    </a:lnTo>
                    <a:lnTo>
                      <a:pt x="565" y="905"/>
                    </a:lnTo>
                    <a:lnTo>
                      <a:pt x="544" y="890"/>
                    </a:lnTo>
                    <a:lnTo>
                      <a:pt x="523" y="875"/>
                    </a:lnTo>
                    <a:lnTo>
                      <a:pt x="502" y="859"/>
                    </a:lnTo>
                    <a:lnTo>
                      <a:pt x="481" y="843"/>
                    </a:lnTo>
                    <a:lnTo>
                      <a:pt x="461" y="825"/>
                    </a:lnTo>
                    <a:lnTo>
                      <a:pt x="442" y="808"/>
                    </a:lnTo>
                    <a:lnTo>
                      <a:pt x="423" y="790"/>
                    </a:lnTo>
                    <a:lnTo>
                      <a:pt x="404" y="773"/>
                    </a:lnTo>
                    <a:lnTo>
                      <a:pt x="385" y="753"/>
                    </a:lnTo>
                    <a:lnTo>
                      <a:pt x="368" y="734"/>
                    </a:lnTo>
                    <a:lnTo>
                      <a:pt x="351" y="715"/>
                    </a:lnTo>
                    <a:lnTo>
                      <a:pt x="333" y="695"/>
                    </a:lnTo>
                    <a:lnTo>
                      <a:pt x="317" y="674"/>
                    </a:lnTo>
                    <a:lnTo>
                      <a:pt x="301" y="653"/>
                    </a:lnTo>
                    <a:lnTo>
                      <a:pt x="286" y="632"/>
                    </a:lnTo>
                    <a:lnTo>
                      <a:pt x="271" y="611"/>
                    </a:lnTo>
                    <a:lnTo>
                      <a:pt x="256" y="588"/>
                    </a:lnTo>
                    <a:lnTo>
                      <a:pt x="242" y="567"/>
                    </a:lnTo>
                    <a:lnTo>
                      <a:pt x="229" y="544"/>
                    </a:lnTo>
                    <a:lnTo>
                      <a:pt x="216" y="520"/>
                    </a:lnTo>
                    <a:lnTo>
                      <a:pt x="204" y="497"/>
                    </a:lnTo>
                    <a:lnTo>
                      <a:pt x="192" y="474"/>
                    </a:lnTo>
                    <a:lnTo>
                      <a:pt x="180" y="449"/>
                    </a:lnTo>
                    <a:lnTo>
                      <a:pt x="170" y="425"/>
                    </a:lnTo>
                    <a:lnTo>
                      <a:pt x="160" y="401"/>
                    </a:lnTo>
                    <a:lnTo>
                      <a:pt x="151" y="375"/>
                    </a:lnTo>
                    <a:lnTo>
                      <a:pt x="142" y="351"/>
                    </a:lnTo>
                    <a:lnTo>
                      <a:pt x="134" y="325"/>
                    </a:lnTo>
                    <a:lnTo>
                      <a:pt x="126" y="299"/>
                    </a:lnTo>
                    <a:lnTo>
                      <a:pt x="119" y="273"/>
                    </a:lnTo>
                    <a:lnTo>
                      <a:pt x="112" y="248"/>
                    </a:lnTo>
                    <a:lnTo>
                      <a:pt x="106" y="220"/>
                    </a:lnTo>
                    <a:lnTo>
                      <a:pt x="101" y="194"/>
                    </a:lnTo>
                    <a:lnTo>
                      <a:pt x="97" y="167"/>
                    </a:lnTo>
                    <a:lnTo>
                      <a:pt x="93" y="139"/>
                    </a:lnTo>
                    <a:lnTo>
                      <a:pt x="90" y="112"/>
                    </a:lnTo>
                    <a:lnTo>
                      <a:pt x="87" y="85"/>
                    </a:lnTo>
                    <a:lnTo>
                      <a:pt x="86" y="57"/>
                    </a:lnTo>
                    <a:lnTo>
                      <a:pt x="85" y="29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29200" y="4826160"/>
                <a:ext cx="2880" cy="67320"/>
              </a:xfrm>
              <a:custGeom>
                <a:avLst/>
                <a:gdLst/>
                <a:ahLst/>
                <a:rect l="l" t="t" r="r" b="b"/>
                <a:pathLst>
                  <a:path w="84" h="2323">
                    <a:moveTo>
                      <a:pt x="84" y="0"/>
                    </a:moveTo>
                    <a:lnTo>
                      <a:pt x="0" y="0"/>
                    </a:lnTo>
                    <a:lnTo>
                      <a:pt x="0" y="2323"/>
                    </a:lnTo>
                    <a:lnTo>
                      <a:pt x="84" y="2323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029200" y="4792320"/>
                <a:ext cx="4356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1175" y="0"/>
                    </a:moveTo>
                    <a:lnTo>
                      <a:pt x="1175" y="0"/>
                    </a:lnTo>
                    <a:lnTo>
                      <a:pt x="1145" y="1"/>
                    </a:lnTo>
                    <a:lnTo>
                      <a:pt x="1115" y="2"/>
                    </a:lnTo>
                    <a:lnTo>
                      <a:pt x="1085" y="4"/>
                    </a:lnTo>
                    <a:lnTo>
                      <a:pt x="1055" y="6"/>
                    </a:lnTo>
                    <a:lnTo>
                      <a:pt x="1025" y="10"/>
                    </a:lnTo>
                    <a:lnTo>
                      <a:pt x="996" y="14"/>
                    </a:lnTo>
                    <a:lnTo>
                      <a:pt x="968" y="18"/>
                    </a:lnTo>
                    <a:lnTo>
                      <a:pt x="938" y="25"/>
                    </a:lnTo>
                    <a:lnTo>
                      <a:pt x="910" y="31"/>
                    </a:lnTo>
                    <a:lnTo>
                      <a:pt x="882" y="38"/>
                    </a:lnTo>
                    <a:lnTo>
                      <a:pt x="853" y="45"/>
                    </a:lnTo>
                    <a:lnTo>
                      <a:pt x="826" y="54"/>
                    </a:lnTo>
                    <a:lnTo>
                      <a:pt x="798" y="62"/>
                    </a:lnTo>
                    <a:lnTo>
                      <a:pt x="771" y="72"/>
                    </a:lnTo>
                    <a:lnTo>
                      <a:pt x="745" y="82"/>
                    </a:lnTo>
                    <a:lnTo>
                      <a:pt x="717" y="93"/>
                    </a:lnTo>
                    <a:lnTo>
                      <a:pt x="691" y="105"/>
                    </a:lnTo>
                    <a:lnTo>
                      <a:pt x="666" y="117"/>
                    </a:lnTo>
                    <a:lnTo>
                      <a:pt x="640" y="129"/>
                    </a:lnTo>
                    <a:lnTo>
                      <a:pt x="615" y="142"/>
                    </a:lnTo>
                    <a:lnTo>
                      <a:pt x="590" y="156"/>
                    </a:lnTo>
                    <a:lnTo>
                      <a:pt x="565" y="170"/>
                    </a:lnTo>
                    <a:lnTo>
                      <a:pt x="542" y="186"/>
                    </a:lnTo>
                    <a:lnTo>
                      <a:pt x="518" y="201"/>
                    </a:lnTo>
                    <a:lnTo>
                      <a:pt x="494" y="217"/>
                    </a:lnTo>
                    <a:lnTo>
                      <a:pt x="472" y="234"/>
                    </a:lnTo>
                    <a:lnTo>
                      <a:pt x="450" y="252"/>
                    </a:lnTo>
                    <a:lnTo>
                      <a:pt x="428" y="269"/>
                    </a:lnTo>
                    <a:lnTo>
                      <a:pt x="406" y="287"/>
                    </a:lnTo>
                    <a:lnTo>
                      <a:pt x="385" y="306"/>
                    </a:lnTo>
                    <a:lnTo>
                      <a:pt x="365" y="326"/>
                    </a:lnTo>
                    <a:lnTo>
                      <a:pt x="345" y="345"/>
                    </a:lnTo>
                    <a:lnTo>
                      <a:pt x="324" y="365"/>
                    </a:lnTo>
                    <a:lnTo>
                      <a:pt x="305" y="385"/>
                    </a:lnTo>
                    <a:lnTo>
                      <a:pt x="287" y="407"/>
                    </a:lnTo>
                    <a:lnTo>
                      <a:pt x="269" y="428"/>
                    </a:lnTo>
                    <a:lnTo>
                      <a:pt x="250" y="450"/>
                    </a:lnTo>
                    <a:lnTo>
                      <a:pt x="233" y="472"/>
                    </a:lnTo>
                    <a:lnTo>
                      <a:pt x="217" y="496"/>
                    </a:lnTo>
                    <a:lnTo>
                      <a:pt x="201" y="519"/>
                    </a:lnTo>
                    <a:lnTo>
                      <a:pt x="185" y="542"/>
                    </a:lnTo>
                    <a:lnTo>
                      <a:pt x="170" y="567"/>
                    </a:lnTo>
                    <a:lnTo>
                      <a:pt x="156" y="591"/>
                    </a:lnTo>
                    <a:lnTo>
                      <a:pt x="142" y="615"/>
                    </a:lnTo>
                    <a:lnTo>
                      <a:pt x="129" y="641"/>
                    </a:lnTo>
                    <a:lnTo>
                      <a:pt x="116" y="666"/>
                    </a:lnTo>
                    <a:lnTo>
                      <a:pt x="103" y="692"/>
                    </a:lnTo>
                    <a:lnTo>
                      <a:pt x="92" y="719"/>
                    </a:lnTo>
                    <a:lnTo>
                      <a:pt x="81" y="745"/>
                    </a:lnTo>
                    <a:lnTo>
                      <a:pt x="71" y="771"/>
                    </a:lnTo>
                    <a:lnTo>
                      <a:pt x="62" y="799"/>
                    </a:lnTo>
                    <a:lnTo>
                      <a:pt x="53" y="826"/>
                    </a:lnTo>
                    <a:lnTo>
                      <a:pt x="45" y="854"/>
                    </a:lnTo>
                    <a:lnTo>
                      <a:pt x="36" y="882"/>
                    </a:lnTo>
                    <a:lnTo>
                      <a:pt x="30" y="910"/>
                    </a:lnTo>
                    <a:lnTo>
                      <a:pt x="24" y="939"/>
                    </a:lnTo>
                    <a:lnTo>
                      <a:pt x="18" y="968"/>
                    </a:lnTo>
                    <a:lnTo>
                      <a:pt x="13" y="997"/>
                    </a:lnTo>
                    <a:lnTo>
                      <a:pt x="9" y="1027"/>
                    </a:lnTo>
                    <a:lnTo>
                      <a:pt x="6" y="1056"/>
                    </a:lnTo>
                    <a:lnTo>
                      <a:pt x="3" y="1086"/>
                    </a:lnTo>
                    <a:lnTo>
                      <a:pt x="2" y="1116"/>
                    </a:lnTo>
                    <a:lnTo>
                      <a:pt x="0" y="1145"/>
                    </a:lnTo>
                    <a:lnTo>
                      <a:pt x="0" y="1176"/>
                    </a:lnTo>
                    <a:lnTo>
                      <a:pt x="84" y="1176"/>
                    </a:lnTo>
                    <a:lnTo>
                      <a:pt x="85" y="1147"/>
                    </a:lnTo>
                    <a:lnTo>
                      <a:pt x="86" y="1120"/>
                    </a:lnTo>
                    <a:lnTo>
                      <a:pt x="87" y="1092"/>
                    </a:lnTo>
                    <a:lnTo>
                      <a:pt x="90" y="1064"/>
                    </a:lnTo>
                    <a:lnTo>
                      <a:pt x="93" y="1037"/>
                    </a:lnTo>
                    <a:lnTo>
                      <a:pt x="97" y="1010"/>
                    </a:lnTo>
                    <a:lnTo>
                      <a:pt x="101" y="983"/>
                    </a:lnTo>
                    <a:lnTo>
                      <a:pt x="106" y="956"/>
                    </a:lnTo>
                    <a:lnTo>
                      <a:pt x="112" y="929"/>
                    </a:lnTo>
                    <a:lnTo>
                      <a:pt x="119" y="903"/>
                    </a:lnTo>
                    <a:lnTo>
                      <a:pt x="126" y="877"/>
                    </a:lnTo>
                    <a:lnTo>
                      <a:pt x="134" y="851"/>
                    </a:lnTo>
                    <a:lnTo>
                      <a:pt x="142" y="826"/>
                    </a:lnTo>
                    <a:lnTo>
                      <a:pt x="151" y="801"/>
                    </a:lnTo>
                    <a:lnTo>
                      <a:pt x="160" y="775"/>
                    </a:lnTo>
                    <a:lnTo>
                      <a:pt x="170" y="751"/>
                    </a:lnTo>
                    <a:lnTo>
                      <a:pt x="180" y="727"/>
                    </a:lnTo>
                    <a:lnTo>
                      <a:pt x="192" y="703"/>
                    </a:lnTo>
                    <a:lnTo>
                      <a:pt x="204" y="679"/>
                    </a:lnTo>
                    <a:lnTo>
                      <a:pt x="216" y="656"/>
                    </a:lnTo>
                    <a:lnTo>
                      <a:pt x="229" y="633"/>
                    </a:lnTo>
                    <a:lnTo>
                      <a:pt x="242" y="610"/>
                    </a:lnTo>
                    <a:lnTo>
                      <a:pt x="256" y="588"/>
                    </a:lnTo>
                    <a:lnTo>
                      <a:pt x="271" y="566"/>
                    </a:lnTo>
                    <a:lnTo>
                      <a:pt x="286" y="544"/>
                    </a:lnTo>
                    <a:lnTo>
                      <a:pt x="301" y="523"/>
                    </a:lnTo>
                    <a:lnTo>
                      <a:pt x="317" y="503"/>
                    </a:lnTo>
                    <a:lnTo>
                      <a:pt x="333" y="483"/>
                    </a:lnTo>
                    <a:lnTo>
                      <a:pt x="351" y="462"/>
                    </a:lnTo>
                    <a:lnTo>
                      <a:pt x="368" y="442"/>
                    </a:lnTo>
                    <a:lnTo>
                      <a:pt x="385" y="423"/>
                    </a:lnTo>
                    <a:lnTo>
                      <a:pt x="404" y="405"/>
                    </a:lnTo>
                    <a:lnTo>
                      <a:pt x="423" y="386"/>
                    </a:lnTo>
                    <a:lnTo>
                      <a:pt x="442" y="368"/>
                    </a:lnTo>
                    <a:lnTo>
                      <a:pt x="461" y="351"/>
                    </a:lnTo>
                    <a:lnTo>
                      <a:pt x="481" y="334"/>
                    </a:lnTo>
                    <a:lnTo>
                      <a:pt x="502" y="317"/>
                    </a:lnTo>
                    <a:lnTo>
                      <a:pt x="523" y="302"/>
                    </a:lnTo>
                    <a:lnTo>
                      <a:pt x="544" y="286"/>
                    </a:lnTo>
                    <a:lnTo>
                      <a:pt x="565" y="272"/>
                    </a:lnTo>
                    <a:lnTo>
                      <a:pt x="587" y="257"/>
                    </a:lnTo>
                    <a:lnTo>
                      <a:pt x="609" y="242"/>
                    </a:lnTo>
                    <a:lnTo>
                      <a:pt x="632" y="229"/>
                    </a:lnTo>
                    <a:lnTo>
                      <a:pt x="656" y="217"/>
                    </a:lnTo>
                    <a:lnTo>
                      <a:pt x="679" y="204"/>
                    </a:lnTo>
                    <a:lnTo>
                      <a:pt x="702" y="193"/>
                    </a:lnTo>
                    <a:lnTo>
                      <a:pt x="727" y="182"/>
                    </a:lnTo>
                    <a:lnTo>
                      <a:pt x="751" y="170"/>
                    </a:lnTo>
                    <a:lnTo>
                      <a:pt x="775" y="160"/>
                    </a:lnTo>
                    <a:lnTo>
                      <a:pt x="800" y="151"/>
                    </a:lnTo>
                    <a:lnTo>
                      <a:pt x="825" y="142"/>
                    </a:lnTo>
                    <a:lnTo>
                      <a:pt x="851" y="134"/>
                    </a:lnTo>
                    <a:lnTo>
                      <a:pt x="876" y="127"/>
                    </a:lnTo>
                    <a:lnTo>
                      <a:pt x="902" y="119"/>
                    </a:lnTo>
                    <a:lnTo>
                      <a:pt x="928" y="113"/>
                    </a:lnTo>
                    <a:lnTo>
                      <a:pt x="955" y="107"/>
                    </a:lnTo>
                    <a:lnTo>
                      <a:pt x="982" y="103"/>
                    </a:lnTo>
                    <a:lnTo>
                      <a:pt x="1009" y="97"/>
                    </a:lnTo>
                    <a:lnTo>
                      <a:pt x="1037" y="93"/>
                    </a:lnTo>
                    <a:lnTo>
                      <a:pt x="1063" y="90"/>
                    </a:lnTo>
                    <a:lnTo>
                      <a:pt x="1091" y="88"/>
                    </a:lnTo>
                    <a:lnTo>
                      <a:pt x="1119" y="86"/>
                    </a:lnTo>
                    <a:lnTo>
                      <a:pt x="1147" y="85"/>
                    </a:lnTo>
                    <a:lnTo>
                      <a:pt x="1175" y="85"/>
                    </a:lnTo>
                    <a:lnTo>
                      <a:pt x="1175" y="85"/>
                    </a:lnTo>
                    <a:lnTo>
                      <a:pt x="1175" y="0"/>
                    </a:lnTo>
                    <a:lnTo>
                      <a:pt x="1175" y="0"/>
                    </a:lnTo>
                    <a:lnTo>
                      <a:pt x="1175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72760" y="4792320"/>
                <a:ext cx="443520" cy="2160"/>
              </a:xfrm>
              <a:custGeom>
                <a:avLst/>
                <a:gdLst/>
                <a:ahLst/>
                <a:rect l="l" t="t" r="r" b="b"/>
                <a:pathLst>
                  <a:path w="11895" h="85">
                    <a:moveTo>
                      <a:pt x="11895" y="85"/>
                    </a:moveTo>
                    <a:lnTo>
                      <a:pt x="11895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1895" y="85"/>
                    </a:lnTo>
                    <a:lnTo>
                      <a:pt x="11895" y="85"/>
                    </a:lnTo>
                    <a:lnTo>
                      <a:pt x="11895" y="0"/>
                    </a:lnTo>
                    <a:lnTo>
                      <a:pt x="11895" y="0"/>
                    </a:lnTo>
                    <a:lnTo>
                      <a:pt x="11895" y="0"/>
                    </a:lnTo>
                    <a:lnTo>
                      <a:pt x="11895" y="85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16640" y="4792320"/>
                <a:ext cx="4356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1175" y="1176"/>
                    </a:moveTo>
                    <a:lnTo>
                      <a:pt x="1175" y="1176"/>
                    </a:lnTo>
                    <a:lnTo>
                      <a:pt x="1175" y="1145"/>
                    </a:lnTo>
                    <a:lnTo>
                      <a:pt x="1173" y="1115"/>
                    </a:lnTo>
                    <a:lnTo>
                      <a:pt x="1172" y="1086"/>
                    </a:lnTo>
                    <a:lnTo>
                      <a:pt x="1169" y="1056"/>
                    </a:lnTo>
                    <a:lnTo>
                      <a:pt x="1165" y="1027"/>
                    </a:lnTo>
                    <a:lnTo>
                      <a:pt x="1162" y="997"/>
                    </a:lnTo>
                    <a:lnTo>
                      <a:pt x="1157" y="968"/>
                    </a:lnTo>
                    <a:lnTo>
                      <a:pt x="1151" y="939"/>
                    </a:lnTo>
                    <a:lnTo>
                      <a:pt x="1145" y="910"/>
                    </a:lnTo>
                    <a:lnTo>
                      <a:pt x="1138" y="882"/>
                    </a:lnTo>
                    <a:lnTo>
                      <a:pt x="1131" y="854"/>
                    </a:lnTo>
                    <a:lnTo>
                      <a:pt x="1123" y="826"/>
                    </a:lnTo>
                    <a:lnTo>
                      <a:pt x="1113" y="799"/>
                    </a:lnTo>
                    <a:lnTo>
                      <a:pt x="1104" y="772"/>
                    </a:lnTo>
                    <a:lnTo>
                      <a:pt x="1093" y="745"/>
                    </a:lnTo>
                    <a:lnTo>
                      <a:pt x="1083" y="719"/>
                    </a:lnTo>
                    <a:lnTo>
                      <a:pt x="1071" y="692"/>
                    </a:lnTo>
                    <a:lnTo>
                      <a:pt x="1059" y="666"/>
                    </a:lnTo>
                    <a:lnTo>
                      <a:pt x="1047" y="641"/>
                    </a:lnTo>
                    <a:lnTo>
                      <a:pt x="1033" y="615"/>
                    </a:lnTo>
                    <a:lnTo>
                      <a:pt x="1019" y="591"/>
                    </a:lnTo>
                    <a:lnTo>
                      <a:pt x="1005" y="567"/>
                    </a:lnTo>
                    <a:lnTo>
                      <a:pt x="990" y="542"/>
                    </a:lnTo>
                    <a:lnTo>
                      <a:pt x="975" y="519"/>
                    </a:lnTo>
                    <a:lnTo>
                      <a:pt x="958" y="496"/>
                    </a:lnTo>
                    <a:lnTo>
                      <a:pt x="942" y="472"/>
                    </a:lnTo>
                    <a:lnTo>
                      <a:pt x="925" y="450"/>
                    </a:lnTo>
                    <a:lnTo>
                      <a:pt x="907" y="428"/>
                    </a:lnTo>
                    <a:lnTo>
                      <a:pt x="889" y="407"/>
                    </a:lnTo>
                    <a:lnTo>
                      <a:pt x="870" y="385"/>
                    </a:lnTo>
                    <a:lnTo>
                      <a:pt x="851" y="365"/>
                    </a:lnTo>
                    <a:lnTo>
                      <a:pt x="831" y="345"/>
                    </a:lnTo>
                    <a:lnTo>
                      <a:pt x="811" y="326"/>
                    </a:lnTo>
                    <a:lnTo>
                      <a:pt x="790" y="306"/>
                    </a:lnTo>
                    <a:lnTo>
                      <a:pt x="769" y="287"/>
                    </a:lnTo>
                    <a:lnTo>
                      <a:pt x="748" y="269"/>
                    </a:lnTo>
                    <a:lnTo>
                      <a:pt x="725" y="252"/>
                    </a:lnTo>
                    <a:lnTo>
                      <a:pt x="703" y="234"/>
                    </a:lnTo>
                    <a:lnTo>
                      <a:pt x="681" y="217"/>
                    </a:lnTo>
                    <a:lnTo>
                      <a:pt x="658" y="201"/>
                    </a:lnTo>
                    <a:lnTo>
                      <a:pt x="633" y="186"/>
                    </a:lnTo>
                    <a:lnTo>
                      <a:pt x="609" y="170"/>
                    </a:lnTo>
                    <a:lnTo>
                      <a:pt x="585" y="156"/>
                    </a:lnTo>
                    <a:lnTo>
                      <a:pt x="560" y="143"/>
                    </a:lnTo>
                    <a:lnTo>
                      <a:pt x="535" y="129"/>
                    </a:lnTo>
                    <a:lnTo>
                      <a:pt x="510" y="117"/>
                    </a:lnTo>
                    <a:lnTo>
                      <a:pt x="483" y="105"/>
                    </a:lnTo>
                    <a:lnTo>
                      <a:pt x="458" y="93"/>
                    </a:lnTo>
                    <a:lnTo>
                      <a:pt x="431" y="82"/>
                    </a:lnTo>
                    <a:lnTo>
                      <a:pt x="404" y="72"/>
                    </a:lnTo>
                    <a:lnTo>
                      <a:pt x="377" y="62"/>
                    </a:lnTo>
                    <a:lnTo>
                      <a:pt x="349" y="54"/>
                    </a:lnTo>
                    <a:lnTo>
                      <a:pt x="321" y="45"/>
                    </a:lnTo>
                    <a:lnTo>
                      <a:pt x="294" y="38"/>
                    </a:lnTo>
                    <a:lnTo>
                      <a:pt x="265" y="31"/>
                    </a:lnTo>
                    <a:lnTo>
                      <a:pt x="237" y="25"/>
                    </a:lnTo>
                    <a:lnTo>
                      <a:pt x="208" y="18"/>
                    </a:lnTo>
                    <a:lnTo>
                      <a:pt x="179" y="14"/>
                    </a:lnTo>
                    <a:lnTo>
                      <a:pt x="150" y="10"/>
                    </a:lnTo>
                    <a:lnTo>
                      <a:pt x="119" y="6"/>
                    </a:lnTo>
                    <a:lnTo>
                      <a:pt x="90" y="4"/>
                    </a:lnTo>
                    <a:lnTo>
                      <a:pt x="61" y="2"/>
                    </a:lnTo>
                    <a:lnTo>
                      <a:pt x="30" y="1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28" y="85"/>
                    </a:lnTo>
                    <a:lnTo>
                      <a:pt x="56" y="86"/>
                    </a:lnTo>
                    <a:lnTo>
                      <a:pt x="84" y="88"/>
                    </a:lnTo>
                    <a:lnTo>
                      <a:pt x="111" y="90"/>
                    </a:lnTo>
                    <a:lnTo>
                      <a:pt x="139" y="93"/>
                    </a:lnTo>
                    <a:lnTo>
                      <a:pt x="166" y="97"/>
                    </a:lnTo>
                    <a:lnTo>
                      <a:pt x="193" y="103"/>
                    </a:lnTo>
                    <a:lnTo>
                      <a:pt x="220" y="107"/>
                    </a:lnTo>
                    <a:lnTo>
                      <a:pt x="246" y="113"/>
                    </a:lnTo>
                    <a:lnTo>
                      <a:pt x="272" y="119"/>
                    </a:lnTo>
                    <a:lnTo>
                      <a:pt x="299" y="127"/>
                    </a:lnTo>
                    <a:lnTo>
                      <a:pt x="324" y="134"/>
                    </a:lnTo>
                    <a:lnTo>
                      <a:pt x="349" y="142"/>
                    </a:lnTo>
                    <a:lnTo>
                      <a:pt x="375" y="151"/>
                    </a:lnTo>
                    <a:lnTo>
                      <a:pt x="400" y="160"/>
                    </a:lnTo>
                    <a:lnTo>
                      <a:pt x="424" y="170"/>
                    </a:lnTo>
                    <a:lnTo>
                      <a:pt x="449" y="182"/>
                    </a:lnTo>
                    <a:lnTo>
                      <a:pt x="473" y="193"/>
                    </a:lnTo>
                    <a:lnTo>
                      <a:pt x="496" y="204"/>
                    </a:lnTo>
                    <a:lnTo>
                      <a:pt x="520" y="217"/>
                    </a:lnTo>
                    <a:lnTo>
                      <a:pt x="543" y="229"/>
                    </a:lnTo>
                    <a:lnTo>
                      <a:pt x="565" y="242"/>
                    </a:lnTo>
                    <a:lnTo>
                      <a:pt x="588" y="257"/>
                    </a:lnTo>
                    <a:lnTo>
                      <a:pt x="610" y="272"/>
                    </a:lnTo>
                    <a:lnTo>
                      <a:pt x="631" y="286"/>
                    </a:lnTo>
                    <a:lnTo>
                      <a:pt x="652" y="302"/>
                    </a:lnTo>
                    <a:lnTo>
                      <a:pt x="674" y="317"/>
                    </a:lnTo>
                    <a:lnTo>
                      <a:pt x="694" y="334"/>
                    </a:lnTo>
                    <a:lnTo>
                      <a:pt x="714" y="351"/>
                    </a:lnTo>
                    <a:lnTo>
                      <a:pt x="734" y="368"/>
                    </a:lnTo>
                    <a:lnTo>
                      <a:pt x="753" y="386"/>
                    </a:lnTo>
                    <a:lnTo>
                      <a:pt x="771" y="405"/>
                    </a:lnTo>
                    <a:lnTo>
                      <a:pt x="789" y="423"/>
                    </a:lnTo>
                    <a:lnTo>
                      <a:pt x="807" y="442"/>
                    </a:lnTo>
                    <a:lnTo>
                      <a:pt x="825" y="462"/>
                    </a:lnTo>
                    <a:lnTo>
                      <a:pt x="842" y="483"/>
                    </a:lnTo>
                    <a:lnTo>
                      <a:pt x="858" y="503"/>
                    </a:lnTo>
                    <a:lnTo>
                      <a:pt x="874" y="523"/>
                    </a:lnTo>
                    <a:lnTo>
                      <a:pt x="890" y="544"/>
                    </a:lnTo>
                    <a:lnTo>
                      <a:pt x="905" y="566"/>
                    </a:lnTo>
                    <a:lnTo>
                      <a:pt x="919" y="588"/>
                    </a:lnTo>
                    <a:lnTo>
                      <a:pt x="933" y="610"/>
                    </a:lnTo>
                    <a:lnTo>
                      <a:pt x="946" y="633"/>
                    </a:lnTo>
                    <a:lnTo>
                      <a:pt x="959" y="656"/>
                    </a:lnTo>
                    <a:lnTo>
                      <a:pt x="972" y="679"/>
                    </a:lnTo>
                    <a:lnTo>
                      <a:pt x="984" y="703"/>
                    </a:lnTo>
                    <a:lnTo>
                      <a:pt x="995" y="727"/>
                    </a:lnTo>
                    <a:lnTo>
                      <a:pt x="1005" y="751"/>
                    </a:lnTo>
                    <a:lnTo>
                      <a:pt x="1015" y="775"/>
                    </a:lnTo>
                    <a:lnTo>
                      <a:pt x="1024" y="801"/>
                    </a:lnTo>
                    <a:lnTo>
                      <a:pt x="1033" y="826"/>
                    </a:lnTo>
                    <a:lnTo>
                      <a:pt x="1042" y="851"/>
                    </a:lnTo>
                    <a:lnTo>
                      <a:pt x="1050" y="877"/>
                    </a:lnTo>
                    <a:lnTo>
                      <a:pt x="1057" y="903"/>
                    </a:lnTo>
                    <a:lnTo>
                      <a:pt x="1063" y="929"/>
                    </a:lnTo>
                    <a:lnTo>
                      <a:pt x="1069" y="956"/>
                    </a:lnTo>
                    <a:lnTo>
                      <a:pt x="1074" y="982"/>
                    </a:lnTo>
                    <a:lnTo>
                      <a:pt x="1078" y="1010"/>
                    </a:lnTo>
                    <a:lnTo>
                      <a:pt x="1082" y="1037"/>
                    </a:lnTo>
                    <a:lnTo>
                      <a:pt x="1085" y="1064"/>
                    </a:lnTo>
                    <a:lnTo>
                      <a:pt x="1087" y="1092"/>
                    </a:lnTo>
                    <a:lnTo>
                      <a:pt x="1089" y="1120"/>
                    </a:lnTo>
                    <a:lnTo>
                      <a:pt x="1090" y="1147"/>
                    </a:lnTo>
                    <a:lnTo>
                      <a:pt x="1091" y="1176"/>
                    </a:lnTo>
                    <a:lnTo>
                      <a:pt x="1091" y="1176"/>
                    </a:lnTo>
                    <a:lnTo>
                      <a:pt x="1175" y="1176"/>
                    </a:lnTo>
                    <a:lnTo>
                      <a:pt x="1175" y="1176"/>
                    </a:lnTo>
                    <a:lnTo>
                      <a:pt x="1175" y="1176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557320" y="4826160"/>
                <a:ext cx="2880" cy="67320"/>
              </a:xfrm>
              <a:custGeom>
                <a:avLst/>
                <a:gdLst/>
                <a:ahLst/>
                <a:rect l="l" t="t" r="r" b="b"/>
                <a:pathLst>
                  <a:path w="84" h="2323">
                    <a:moveTo>
                      <a:pt x="0" y="2323"/>
                    </a:moveTo>
                    <a:lnTo>
                      <a:pt x="84" y="23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2323"/>
                    </a:lnTo>
                    <a:lnTo>
                      <a:pt x="0" y="2323"/>
                    </a:lnTo>
                    <a:lnTo>
                      <a:pt x="84" y="2323"/>
                    </a:lnTo>
                    <a:lnTo>
                      <a:pt x="84" y="2323"/>
                    </a:lnTo>
                    <a:lnTo>
                      <a:pt x="84" y="2323"/>
                    </a:lnTo>
                    <a:lnTo>
                      <a:pt x="0" y="2323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4919760" y="4826160"/>
              <a:ext cx="131688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657600" y="4470480"/>
              <a:ext cx="585360" cy="482040"/>
              <a:chOff x="3657600" y="4470480"/>
              <a:chExt cx="585360" cy="482040"/>
            </a:xfrm>
          </p:grpSpPr>
          <p:sp>
            <p:nvSpPr>
              <p:cNvPr id="354" name=""/>
              <p:cNvSpPr/>
              <p:nvPr/>
            </p:nvSpPr>
            <p:spPr>
              <a:xfrm>
                <a:off x="3657600" y="4519080"/>
                <a:ext cx="531000" cy="43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58680" y="4520520"/>
                <a:ext cx="1440" cy="430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658680" y="4951440"/>
                <a:ext cx="531000" cy="10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4190040" y="4520160"/>
                <a:ext cx="1440" cy="430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3658320" y="4520520"/>
                <a:ext cx="531000" cy="10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57600" y="4470480"/>
                <a:ext cx="581040" cy="48600"/>
              </a:xfrm>
              <a:custGeom>
                <a:avLst/>
                <a:gdLst/>
                <a:ahLst/>
                <a:rect l="l" t="t" r="r" b="b"/>
                <a:pathLst>
                  <a:path w="742" h="65">
                    <a:moveTo>
                      <a:pt x="0" y="65"/>
                    </a:moveTo>
                    <a:lnTo>
                      <a:pt x="65" y="0"/>
                    </a:lnTo>
                    <a:lnTo>
                      <a:pt x="742" y="0"/>
                    </a:lnTo>
                    <a:lnTo>
                      <a:pt x="677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3658680" y="4471200"/>
                <a:ext cx="51840" cy="486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10880" y="4471560"/>
                <a:ext cx="529200" cy="144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189680" y="4471560"/>
                <a:ext cx="50040" cy="486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3658320" y="4520520"/>
                <a:ext cx="531000" cy="10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88600" y="4470480"/>
                <a:ext cx="51480" cy="479520"/>
              </a:xfrm>
              <a:custGeom>
                <a:avLst/>
                <a:gdLst/>
                <a:ahLst/>
                <a:rect l="l" t="t" r="r" b="b"/>
                <a:pathLst>
                  <a:path w="66" h="651">
                    <a:moveTo>
                      <a:pt x="0" y="651"/>
                    </a:moveTo>
                    <a:lnTo>
                      <a:pt x="66" y="586"/>
                    </a:lnTo>
                    <a:lnTo>
                      <a:pt x="66" y="0"/>
                    </a:lnTo>
                    <a:lnTo>
                      <a:pt x="0" y="65"/>
                    </a:lnTo>
                    <a:lnTo>
                      <a:pt x="0" y="651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4190040" y="4902840"/>
                <a:ext cx="51840" cy="4824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241880" y="4471560"/>
                <a:ext cx="1080" cy="4312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190040" y="4471560"/>
                <a:ext cx="51840" cy="486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90040" y="4520520"/>
                <a:ext cx="1440" cy="430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951720" y="4574880"/>
                <a:ext cx="203400" cy="77760"/>
              </a:xfrm>
              <a:custGeom>
                <a:avLst/>
                <a:gdLst/>
                <a:ahLst/>
                <a:rect l="l" t="t" r="r" b="b"/>
                <a:pathLst>
                  <a:path w="260" h="107">
                    <a:moveTo>
                      <a:pt x="0" y="107"/>
                    </a:moveTo>
                    <a:lnTo>
                      <a:pt x="260" y="0"/>
                    </a:lnTo>
                    <a:lnTo>
                      <a:pt x="260" y="7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51720" y="4652640"/>
                <a:ext cx="203400" cy="77760"/>
              </a:xfrm>
              <a:custGeom>
                <a:avLst/>
                <a:gdLst/>
                <a:ahLst/>
                <a:rect l="l" t="t" r="r" b="b"/>
                <a:pathLst>
                  <a:path w="260" h="105">
                    <a:moveTo>
                      <a:pt x="0" y="0"/>
                    </a:moveTo>
                    <a:lnTo>
                      <a:pt x="260" y="105"/>
                    </a:lnTo>
                    <a:lnTo>
                      <a:pt x="26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951720" y="4627800"/>
                <a:ext cx="203400" cy="50040"/>
              </a:xfrm>
              <a:custGeom>
                <a:avLst/>
                <a:gdLst/>
                <a:ahLst/>
                <a:rect l="l" t="t" r="r" b="b"/>
                <a:pathLst>
                  <a:path w="260" h="67">
                    <a:moveTo>
                      <a:pt x="0" y="35"/>
                    </a:moveTo>
                    <a:lnTo>
                      <a:pt x="260" y="67"/>
                    </a:lnTo>
                    <a:lnTo>
                      <a:pt x="26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55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3696480" y="4663080"/>
                <a:ext cx="200160" cy="86040"/>
                <a:chOff x="3696480" y="4663080"/>
                <a:chExt cx="200160" cy="86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3696480" y="4725720"/>
                  <a:ext cx="30960" cy="2340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6"/>
                      </a:moveTo>
                      <a:lnTo>
                        <a:pt x="41" y="0"/>
                      </a:lnTo>
                      <a:lnTo>
                        <a:pt x="41" y="14"/>
                      </a:lnTo>
                      <a:lnTo>
                        <a:pt x="0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737160" y="4709880"/>
                  <a:ext cx="32760" cy="2304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6"/>
                      </a:moveTo>
                      <a:lnTo>
                        <a:pt x="41" y="0"/>
                      </a:lnTo>
                      <a:lnTo>
                        <a:pt x="41" y="14"/>
                      </a:lnTo>
                      <a:lnTo>
                        <a:pt x="0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779280" y="4693320"/>
                  <a:ext cx="32760" cy="234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0" y="16"/>
                      </a:moveTo>
                      <a:lnTo>
                        <a:pt x="42" y="0"/>
                      </a:lnTo>
                      <a:lnTo>
                        <a:pt x="42" y="15"/>
                      </a:lnTo>
                      <a:lnTo>
                        <a:pt x="0" y="3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821760" y="4678920"/>
                  <a:ext cx="30960" cy="2160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0" y="17"/>
                      </a:moveTo>
                      <a:lnTo>
                        <a:pt x="41" y="0"/>
                      </a:lnTo>
                      <a:lnTo>
                        <a:pt x="41" y="15"/>
                      </a:lnTo>
                      <a:lnTo>
                        <a:pt x="0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863880" y="4663080"/>
                  <a:ext cx="32760" cy="2304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6"/>
                      </a:moveTo>
                      <a:lnTo>
                        <a:pt x="41" y="0"/>
                      </a:lnTo>
                      <a:lnTo>
                        <a:pt x="41" y="14"/>
                      </a:lnTo>
                      <a:lnTo>
                        <a:pt x="0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3696480" y="4554000"/>
                <a:ext cx="455400" cy="36180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787560" y="4602600"/>
                <a:ext cx="138960" cy="268920"/>
              </a:xfrm>
              <a:prstGeom prst="line">
                <a:avLst/>
              </a:prstGeom>
              <a:ln w="4680">
                <a:solidFill>
                  <a:srgbClr val="2a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787560" y="4871880"/>
                <a:ext cx="278640" cy="1080"/>
              </a:xfrm>
              <a:prstGeom prst="line">
                <a:avLst/>
              </a:prstGeom>
              <a:ln w="3240">
                <a:solidFill>
                  <a:srgbClr val="2a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flipV="1">
                <a:off x="3926160" y="4602240"/>
                <a:ext cx="139320" cy="268920"/>
              </a:xfrm>
              <a:prstGeom prst="line">
                <a:avLst/>
              </a:prstGeom>
              <a:ln w="4680">
                <a:solidFill>
                  <a:srgbClr val="2a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341600" y="447048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λ1to λ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39080" y="533412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ff3300"/>
                  </a:solidFill>
                  <a:latin typeface="Verdana"/>
                  <a:ea typeface="Times New Roman"/>
                </a:rPr>
                <a:t> </a:t>
              </a:r>
              <a:r>
                <a:rPr b="0" lang="fr-BE" sz="1600" spc="-1" strike="noStrike">
                  <a:solidFill>
                    <a:srgbClr val="ff3300"/>
                  </a:solidFill>
                  <a:latin typeface="Verdana"/>
                  <a:ea typeface="Times New Roman"/>
                </a:rPr>
                <a:t>λ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22640" y="447048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λ2to λ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6657840" y="4724280"/>
              <a:ext cx="603360" cy="232200"/>
              <a:chOff x="6657840" y="4724280"/>
              <a:chExt cx="603360" cy="232200"/>
            </a:xfrm>
          </p:grpSpPr>
          <p:sp>
            <p:nvSpPr>
              <p:cNvPr id="385" name=""/>
              <p:cNvSpPr/>
              <p:nvPr/>
            </p:nvSpPr>
            <p:spPr>
              <a:xfrm>
                <a:off x="6659280" y="4793400"/>
                <a:ext cx="526680" cy="132840"/>
              </a:xfrm>
              <a:custGeom>
                <a:avLst/>
                <a:gdLst/>
                <a:ahLst/>
                <a:rect l="l" t="t" r="r" b="b"/>
                <a:pathLst>
                  <a:path w="14160" h="4589">
                    <a:moveTo>
                      <a:pt x="14160" y="3456"/>
                    </a:moveTo>
                    <a:lnTo>
                      <a:pt x="14159" y="3515"/>
                    </a:lnTo>
                    <a:lnTo>
                      <a:pt x="14155" y="3573"/>
                    </a:lnTo>
                    <a:lnTo>
                      <a:pt x="14147" y="3630"/>
                    </a:lnTo>
                    <a:lnTo>
                      <a:pt x="14137" y="3685"/>
                    </a:lnTo>
                    <a:lnTo>
                      <a:pt x="14124" y="3740"/>
                    </a:lnTo>
                    <a:lnTo>
                      <a:pt x="14109" y="3794"/>
                    </a:lnTo>
                    <a:lnTo>
                      <a:pt x="14091" y="3847"/>
                    </a:lnTo>
                    <a:lnTo>
                      <a:pt x="14071" y="3897"/>
                    </a:lnTo>
                    <a:lnTo>
                      <a:pt x="14048" y="3948"/>
                    </a:lnTo>
                    <a:lnTo>
                      <a:pt x="14023" y="3997"/>
                    </a:lnTo>
                    <a:lnTo>
                      <a:pt x="13996" y="4044"/>
                    </a:lnTo>
                    <a:lnTo>
                      <a:pt x="13966" y="4090"/>
                    </a:lnTo>
                    <a:lnTo>
                      <a:pt x="13935" y="4134"/>
                    </a:lnTo>
                    <a:lnTo>
                      <a:pt x="13901" y="4177"/>
                    </a:lnTo>
                    <a:lnTo>
                      <a:pt x="13866" y="4219"/>
                    </a:lnTo>
                    <a:lnTo>
                      <a:pt x="13828" y="4258"/>
                    </a:lnTo>
                    <a:lnTo>
                      <a:pt x="13789" y="4296"/>
                    </a:lnTo>
                    <a:lnTo>
                      <a:pt x="13747" y="4331"/>
                    </a:lnTo>
                    <a:lnTo>
                      <a:pt x="13705" y="4364"/>
                    </a:lnTo>
                    <a:lnTo>
                      <a:pt x="13660" y="4396"/>
                    </a:lnTo>
                    <a:lnTo>
                      <a:pt x="13615" y="4425"/>
                    </a:lnTo>
                    <a:lnTo>
                      <a:pt x="13567" y="4453"/>
                    </a:lnTo>
                    <a:lnTo>
                      <a:pt x="13518" y="4478"/>
                    </a:lnTo>
                    <a:lnTo>
                      <a:pt x="13468" y="4500"/>
                    </a:lnTo>
                    <a:lnTo>
                      <a:pt x="13417" y="4522"/>
                    </a:lnTo>
                    <a:lnTo>
                      <a:pt x="13364" y="4539"/>
                    </a:lnTo>
                    <a:lnTo>
                      <a:pt x="13311" y="4554"/>
                    </a:lnTo>
                    <a:lnTo>
                      <a:pt x="13255" y="4567"/>
                    </a:lnTo>
                    <a:lnTo>
                      <a:pt x="13199" y="4576"/>
                    </a:lnTo>
                    <a:lnTo>
                      <a:pt x="13142" y="4584"/>
                    </a:lnTo>
                    <a:lnTo>
                      <a:pt x="13086" y="4588"/>
                    </a:lnTo>
                    <a:lnTo>
                      <a:pt x="13027" y="4589"/>
                    </a:lnTo>
                    <a:lnTo>
                      <a:pt x="1132" y="4589"/>
                    </a:lnTo>
                    <a:lnTo>
                      <a:pt x="1074" y="4588"/>
                    </a:lnTo>
                    <a:lnTo>
                      <a:pt x="1016" y="4584"/>
                    </a:lnTo>
                    <a:lnTo>
                      <a:pt x="959" y="4576"/>
                    </a:lnTo>
                    <a:lnTo>
                      <a:pt x="903" y="4567"/>
                    </a:lnTo>
                    <a:lnTo>
                      <a:pt x="849" y="4554"/>
                    </a:lnTo>
                    <a:lnTo>
                      <a:pt x="795" y="4539"/>
                    </a:lnTo>
                    <a:lnTo>
                      <a:pt x="742" y="4522"/>
                    </a:lnTo>
                    <a:lnTo>
                      <a:pt x="691" y="4500"/>
                    </a:lnTo>
                    <a:lnTo>
                      <a:pt x="641" y="4478"/>
                    </a:lnTo>
                    <a:lnTo>
                      <a:pt x="592" y="4453"/>
                    </a:lnTo>
                    <a:lnTo>
                      <a:pt x="545" y="4425"/>
                    </a:lnTo>
                    <a:lnTo>
                      <a:pt x="499" y="4396"/>
                    </a:lnTo>
                    <a:lnTo>
                      <a:pt x="455" y="4364"/>
                    </a:lnTo>
                    <a:lnTo>
                      <a:pt x="411" y="4331"/>
                    </a:lnTo>
                    <a:lnTo>
                      <a:pt x="370" y="4296"/>
                    </a:lnTo>
                    <a:lnTo>
                      <a:pt x="331" y="4258"/>
                    </a:lnTo>
                    <a:lnTo>
                      <a:pt x="293" y="4219"/>
                    </a:lnTo>
                    <a:lnTo>
                      <a:pt x="258" y="4177"/>
                    </a:lnTo>
                    <a:lnTo>
                      <a:pt x="224" y="4134"/>
                    </a:lnTo>
                    <a:lnTo>
                      <a:pt x="193" y="4090"/>
                    </a:lnTo>
                    <a:lnTo>
                      <a:pt x="163" y="4044"/>
                    </a:lnTo>
                    <a:lnTo>
                      <a:pt x="136" y="3997"/>
                    </a:lnTo>
                    <a:lnTo>
                      <a:pt x="111" y="3948"/>
                    </a:lnTo>
                    <a:lnTo>
                      <a:pt x="89" y="3897"/>
                    </a:lnTo>
                    <a:lnTo>
                      <a:pt x="67" y="3847"/>
                    </a:lnTo>
                    <a:lnTo>
                      <a:pt x="50" y="3794"/>
                    </a:lnTo>
                    <a:lnTo>
                      <a:pt x="35" y="3740"/>
                    </a:lnTo>
                    <a:lnTo>
                      <a:pt x="22" y="3685"/>
                    </a:lnTo>
                    <a:lnTo>
                      <a:pt x="13" y="3630"/>
                    </a:lnTo>
                    <a:lnTo>
                      <a:pt x="5" y="3573"/>
                    </a:lnTo>
                    <a:lnTo>
                      <a:pt x="1" y="3515"/>
                    </a:lnTo>
                    <a:lnTo>
                      <a:pt x="0" y="3456"/>
                    </a:lnTo>
                    <a:lnTo>
                      <a:pt x="0" y="1133"/>
                    </a:lnTo>
                    <a:lnTo>
                      <a:pt x="1" y="1075"/>
                    </a:lnTo>
                    <a:lnTo>
                      <a:pt x="5" y="1017"/>
                    </a:lnTo>
                    <a:lnTo>
                      <a:pt x="13" y="960"/>
                    </a:lnTo>
                    <a:lnTo>
                      <a:pt x="22" y="905"/>
                    </a:lnTo>
                    <a:lnTo>
                      <a:pt x="35" y="850"/>
                    </a:lnTo>
                    <a:lnTo>
                      <a:pt x="50" y="796"/>
                    </a:lnTo>
                    <a:lnTo>
                      <a:pt x="67" y="744"/>
                    </a:lnTo>
                    <a:lnTo>
                      <a:pt x="89" y="692"/>
                    </a:lnTo>
                    <a:lnTo>
                      <a:pt x="111" y="641"/>
                    </a:lnTo>
                    <a:lnTo>
                      <a:pt x="136" y="593"/>
                    </a:lnTo>
                    <a:lnTo>
                      <a:pt x="163" y="545"/>
                    </a:lnTo>
                    <a:lnTo>
                      <a:pt x="193" y="499"/>
                    </a:lnTo>
                    <a:lnTo>
                      <a:pt x="224" y="455"/>
                    </a:lnTo>
                    <a:lnTo>
                      <a:pt x="258" y="412"/>
                    </a:lnTo>
                    <a:lnTo>
                      <a:pt x="293" y="371"/>
                    </a:lnTo>
                    <a:lnTo>
                      <a:pt x="331" y="332"/>
                    </a:lnTo>
                    <a:lnTo>
                      <a:pt x="370" y="295"/>
                    </a:lnTo>
                    <a:lnTo>
                      <a:pt x="411" y="258"/>
                    </a:lnTo>
                    <a:lnTo>
                      <a:pt x="455" y="225"/>
                    </a:lnTo>
                    <a:lnTo>
                      <a:pt x="499" y="193"/>
                    </a:lnTo>
                    <a:lnTo>
                      <a:pt x="545" y="164"/>
                    </a:lnTo>
                    <a:lnTo>
                      <a:pt x="592" y="137"/>
                    </a:lnTo>
                    <a:lnTo>
                      <a:pt x="641" y="111"/>
                    </a:lnTo>
                    <a:lnTo>
                      <a:pt x="691" y="89"/>
                    </a:lnTo>
                    <a:lnTo>
                      <a:pt x="742" y="69"/>
                    </a:lnTo>
                    <a:lnTo>
                      <a:pt x="795" y="50"/>
                    </a:lnTo>
                    <a:lnTo>
                      <a:pt x="849" y="35"/>
                    </a:lnTo>
                    <a:lnTo>
                      <a:pt x="903" y="23"/>
                    </a:lnTo>
                    <a:lnTo>
                      <a:pt x="959" y="13"/>
                    </a:lnTo>
                    <a:lnTo>
                      <a:pt x="1016" y="6"/>
                    </a:lnTo>
                    <a:lnTo>
                      <a:pt x="1074" y="1"/>
                    </a:lnTo>
                    <a:lnTo>
                      <a:pt x="1132" y="0"/>
                    </a:lnTo>
                    <a:lnTo>
                      <a:pt x="13027" y="0"/>
                    </a:lnTo>
                    <a:lnTo>
                      <a:pt x="13086" y="1"/>
                    </a:lnTo>
                    <a:lnTo>
                      <a:pt x="13142" y="6"/>
                    </a:lnTo>
                    <a:lnTo>
                      <a:pt x="13199" y="13"/>
                    </a:lnTo>
                    <a:lnTo>
                      <a:pt x="13255" y="23"/>
                    </a:lnTo>
                    <a:lnTo>
                      <a:pt x="13311" y="35"/>
                    </a:lnTo>
                    <a:lnTo>
                      <a:pt x="13364" y="50"/>
                    </a:lnTo>
                    <a:lnTo>
                      <a:pt x="13417" y="69"/>
                    </a:lnTo>
                    <a:lnTo>
                      <a:pt x="13468" y="89"/>
                    </a:lnTo>
                    <a:lnTo>
                      <a:pt x="13518" y="111"/>
                    </a:lnTo>
                    <a:lnTo>
                      <a:pt x="13567" y="137"/>
                    </a:lnTo>
                    <a:lnTo>
                      <a:pt x="13615" y="164"/>
                    </a:lnTo>
                    <a:lnTo>
                      <a:pt x="13660" y="193"/>
                    </a:lnTo>
                    <a:lnTo>
                      <a:pt x="13705" y="225"/>
                    </a:lnTo>
                    <a:lnTo>
                      <a:pt x="13747" y="258"/>
                    </a:lnTo>
                    <a:lnTo>
                      <a:pt x="13789" y="295"/>
                    </a:lnTo>
                    <a:lnTo>
                      <a:pt x="13828" y="332"/>
                    </a:lnTo>
                    <a:lnTo>
                      <a:pt x="13866" y="371"/>
                    </a:lnTo>
                    <a:lnTo>
                      <a:pt x="13901" y="412"/>
                    </a:lnTo>
                    <a:lnTo>
                      <a:pt x="13935" y="455"/>
                    </a:lnTo>
                    <a:lnTo>
                      <a:pt x="13966" y="499"/>
                    </a:lnTo>
                    <a:lnTo>
                      <a:pt x="13996" y="545"/>
                    </a:lnTo>
                    <a:lnTo>
                      <a:pt x="14023" y="593"/>
                    </a:lnTo>
                    <a:lnTo>
                      <a:pt x="14048" y="641"/>
                    </a:lnTo>
                    <a:lnTo>
                      <a:pt x="14071" y="692"/>
                    </a:lnTo>
                    <a:lnTo>
                      <a:pt x="14091" y="744"/>
                    </a:lnTo>
                    <a:lnTo>
                      <a:pt x="14109" y="796"/>
                    </a:lnTo>
                    <a:lnTo>
                      <a:pt x="14124" y="850"/>
                    </a:lnTo>
                    <a:lnTo>
                      <a:pt x="14137" y="905"/>
                    </a:lnTo>
                    <a:lnTo>
                      <a:pt x="14147" y="960"/>
                    </a:lnTo>
                    <a:lnTo>
                      <a:pt x="14155" y="1017"/>
                    </a:lnTo>
                    <a:lnTo>
                      <a:pt x="14159" y="1075"/>
                    </a:lnTo>
                    <a:lnTo>
                      <a:pt x="14160" y="1133"/>
                    </a:lnTo>
                    <a:lnTo>
                      <a:pt x="14160" y="3456"/>
                    </a:lnTo>
                    <a:close/>
                  </a:path>
                </a:pathLst>
              </a:custGeom>
              <a:solidFill>
                <a:srgbClr val="b6b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6717960" y="4840560"/>
                <a:ext cx="352080" cy="115920"/>
                <a:chOff x="6717960" y="4840560"/>
                <a:chExt cx="352080" cy="115920"/>
              </a:xfrm>
            </p:grpSpPr>
            <p:cxnSp>
              <p:nvCxnSpPr>
                <p:cNvPr id="387" name=""/>
                <p:cNvCxnSpPr/>
                <p:nvPr/>
              </p:nvCxnSpPr>
              <p:spPr>
                <a:xfrm>
                  <a:off x="6769800" y="4840560"/>
                  <a:ext cx="300600" cy="1080"/>
                </a:xfrm>
                <a:prstGeom prst="straightConnector1">
                  <a:avLst/>
                </a:prstGeom>
                <a:ln w="38160">
                  <a:solidFill>
                    <a:srgbClr val="6600cc"/>
                  </a:solidFill>
                  <a:miter/>
                </a:ln>
              </p:spPr>
            </p:cxnSp>
            <p:sp>
              <p:nvSpPr>
                <p:cNvPr id="388" name=""/>
                <p:cNvSpPr/>
                <p:nvPr/>
              </p:nvSpPr>
              <p:spPr>
                <a:xfrm>
                  <a:off x="6717960" y="4840920"/>
                  <a:ext cx="275040" cy="1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6673320" y="4725360"/>
                <a:ext cx="573840" cy="81360"/>
              </a:xfrm>
              <a:custGeom>
                <a:avLst/>
                <a:gdLst/>
                <a:ahLst/>
                <a:rect l="l" t="t" r="r" b="b"/>
                <a:pathLst>
                  <a:path w="15410" h="2819">
                    <a:moveTo>
                      <a:pt x="15410" y="331"/>
                    </a:moveTo>
                    <a:lnTo>
                      <a:pt x="15391" y="312"/>
                    </a:lnTo>
                    <a:lnTo>
                      <a:pt x="15371" y="293"/>
                    </a:lnTo>
                    <a:lnTo>
                      <a:pt x="15350" y="275"/>
                    </a:lnTo>
                    <a:lnTo>
                      <a:pt x="15329" y="258"/>
                    </a:lnTo>
                    <a:lnTo>
                      <a:pt x="15308" y="241"/>
                    </a:lnTo>
                    <a:lnTo>
                      <a:pt x="15286" y="225"/>
                    </a:lnTo>
                    <a:lnTo>
                      <a:pt x="15264" y="208"/>
                    </a:lnTo>
                    <a:lnTo>
                      <a:pt x="15242" y="193"/>
                    </a:lnTo>
                    <a:lnTo>
                      <a:pt x="15220" y="178"/>
                    </a:lnTo>
                    <a:lnTo>
                      <a:pt x="15196" y="164"/>
                    </a:lnTo>
                    <a:lnTo>
                      <a:pt x="15173" y="150"/>
                    </a:lnTo>
                    <a:lnTo>
                      <a:pt x="15149" y="136"/>
                    </a:lnTo>
                    <a:lnTo>
                      <a:pt x="15124" y="123"/>
                    </a:lnTo>
                    <a:lnTo>
                      <a:pt x="15100" y="111"/>
                    </a:lnTo>
                    <a:lnTo>
                      <a:pt x="15075" y="99"/>
                    </a:lnTo>
                    <a:lnTo>
                      <a:pt x="15050" y="89"/>
                    </a:lnTo>
                    <a:lnTo>
                      <a:pt x="15024" y="78"/>
                    </a:lnTo>
                    <a:lnTo>
                      <a:pt x="14999" y="68"/>
                    </a:lnTo>
                    <a:lnTo>
                      <a:pt x="14972" y="58"/>
                    </a:lnTo>
                    <a:lnTo>
                      <a:pt x="14946" y="50"/>
                    </a:lnTo>
                    <a:lnTo>
                      <a:pt x="14919" y="42"/>
                    </a:lnTo>
                    <a:lnTo>
                      <a:pt x="14892" y="35"/>
                    </a:lnTo>
                    <a:lnTo>
                      <a:pt x="14865" y="28"/>
                    </a:lnTo>
                    <a:lnTo>
                      <a:pt x="14838" y="22"/>
                    </a:lnTo>
                    <a:lnTo>
                      <a:pt x="14809" y="17"/>
                    </a:lnTo>
                    <a:lnTo>
                      <a:pt x="14782" y="13"/>
                    </a:lnTo>
                    <a:lnTo>
                      <a:pt x="14754" y="9"/>
                    </a:lnTo>
                    <a:lnTo>
                      <a:pt x="14725" y="5"/>
                    </a:lnTo>
                    <a:lnTo>
                      <a:pt x="14696" y="3"/>
                    </a:lnTo>
                    <a:lnTo>
                      <a:pt x="14667" y="1"/>
                    </a:lnTo>
                    <a:lnTo>
                      <a:pt x="14638" y="0"/>
                    </a:lnTo>
                    <a:lnTo>
                      <a:pt x="14609" y="0"/>
                    </a:lnTo>
                    <a:lnTo>
                      <a:pt x="2967" y="0"/>
                    </a:lnTo>
                    <a:lnTo>
                      <a:pt x="2910" y="1"/>
                    </a:lnTo>
                    <a:lnTo>
                      <a:pt x="2854" y="5"/>
                    </a:lnTo>
                    <a:lnTo>
                      <a:pt x="2801" y="11"/>
                    </a:lnTo>
                    <a:lnTo>
                      <a:pt x="2750" y="20"/>
                    </a:lnTo>
                    <a:lnTo>
                      <a:pt x="2700" y="31"/>
                    </a:lnTo>
                    <a:lnTo>
                      <a:pt x="2652" y="44"/>
                    </a:lnTo>
                    <a:lnTo>
                      <a:pt x="2606" y="59"/>
                    </a:lnTo>
                    <a:lnTo>
                      <a:pt x="2561" y="78"/>
                    </a:lnTo>
                    <a:lnTo>
                      <a:pt x="2518" y="97"/>
                    </a:lnTo>
                    <a:lnTo>
                      <a:pt x="2476" y="118"/>
                    </a:lnTo>
                    <a:lnTo>
                      <a:pt x="2435" y="140"/>
                    </a:lnTo>
                    <a:lnTo>
                      <a:pt x="2396" y="166"/>
                    </a:lnTo>
                    <a:lnTo>
                      <a:pt x="2357" y="191"/>
                    </a:lnTo>
                    <a:lnTo>
                      <a:pt x="2320" y="219"/>
                    </a:lnTo>
                    <a:lnTo>
                      <a:pt x="2283" y="248"/>
                    </a:lnTo>
                    <a:lnTo>
                      <a:pt x="2248" y="278"/>
                    </a:lnTo>
                    <a:lnTo>
                      <a:pt x="2214" y="310"/>
                    </a:lnTo>
                    <a:lnTo>
                      <a:pt x="2179" y="342"/>
                    </a:lnTo>
                    <a:lnTo>
                      <a:pt x="2145" y="376"/>
                    </a:lnTo>
                    <a:lnTo>
                      <a:pt x="2111" y="409"/>
                    </a:lnTo>
                    <a:lnTo>
                      <a:pt x="2044" y="480"/>
                    </a:lnTo>
                    <a:lnTo>
                      <a:pt x="1978" y="553"/>
                    </a:lnTo>
                    <a:lnTo>
                      <a:pt x="1913" y="627"/>
                    </a:lnTo>
                    <a:lnTo>
                      <a:pt x="1845" y="702"/>
                    </a:lnTo>
                    <a:lnTo>
                      <a:pt x="1810" y="740"/>
                    </a:lnTo>
                    <a:lnTo>
                      <a:pt x="1776" y="778"/>
                    </a:lnTo>
                    <a:lnTo>
                      <a:pt x="1740" y="814"/>
                    </a:lnTo>
                    <a:lnTo>
                      <a:pt x="1704" y="852"/>
                    </a:lnTo>
                    <a:lnTo>
                      <a:pt x="0" y="2688"/>
                    </a:lnTo>
                    <a:lnTo>
                      <a:pt x="13557" y="2819"/>
                    </a:lnTo>
                    <a:lnTo>
                      <a:pt x="15410" y="331"/>
                    </a:lnTo>
                    <a:close/>
                  </a:path>
                </a:pathLst>
              </a:custGeom>
              <a:solidFill>
                <a:srgbClr val="c8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17280" y="4724280"/>
                <a:ext cx="31320" cy="11520"/>
              </a:xfrm>
              <a:custGeom>
                <a:avLst/>
                <a:gdLst/>
                <a:ahLst/>
                <a:rect l="l" t="t" r="r" b="b"/>
                <a:pathLst>
                  <a:path w="830" h="403">
                    <a:moveTo>
                      <a:pt x="0" y="84"/>
                    </a:moveTo>
                    <a:lnTo>
                      <a:pt x="28" y="85"/>
                    </a:lnTo>
                    <a:lnTo>
                      <a:pt x="56" y="86"/>
                    </a:lnTo>
                    <a:lnTo>
                      <a:pt x="84" y="88"/>
                    </a:lnTo>
                    <a:lnTo>
                      <a:pt x="112" y="90"/>
                    </a:lnTo>
                    <a:lnTo>
                      <a:pt x="138" y="93"/>
                    </a:lnTo>
                    <a:lnTo>
                      <a:pt x="166" y="97"/>
                    </a:lnTo>
                    <a:lnTo>
                      <a:pt x="193" y="101"/>
                    </a:lnTo>
                    <a:lnTo>
                      <a:pt x="220" y="106"/>
                    </a:lnTo>
                    <a:lnTo>
                      <a:pt x="247" y="112"/>
                    </a:lnTo>
                    <a:lnTo>
                      <a:pt x="272" y="119"/>
                    </a:lnTo>
                    <a:lnTo>
                      <a:pt x="299" y="126"/>
                    </a:lnTo>
                    <a:lnTo>
                      <a:pt x="325" y="134"/>
                    </a:lnTo>
                    <a:lnTo>
                      <a:pt x="350" y="142"/>
                    </a:lnTo>
                    <a:lnTo>
                      <a:pt x="376" y="151"/>
                    </a:lnTo>
                    <a:lnTo>
                      <a:pt x="400" y="160"/>
                    </a:lnTo>
                    <a:lnTo>
                      <a:pt x="424" y="170"/>
                    </a:lnTo>
                    <a:lnTo>
                      <a:pt x="448" y="180"/>
                    </a:lnTo>
                    <a:lnTo>
                      <a:pt x="473" y="192"/>
                    </a:lnTo>
                    <a:lnTo>
                      <a:pt x="496" y="204"/>
                    </a:lnTo>
                    <a:lnTo>
                      <a:pt x="519" y="216"/>
                    </a:lnTo>
                    <a:lnTo>
                      <a:pt x="543" y="229"/>
                    </a:lnTo>
                    <a:lnTo>
                      <a:pt x="566" y="242"/>
                    </a:lnTo>
                    <a:lnTo>
                      <a:pt x="587" y="256"/>
                    </a:lnTo>
                    <a:lnTo>
                      <a:pt x="610" y="271"/>
                    </a:lnTo>
                    <a:lnTo>
                      <a:pt x="631" y="286"/>
                    </a:lnTo>
                    <a:lnTo>
                      <a:pt x="652" y="301"/>
                    </a:lnTo>
                    <a:lnTo>
                      <a:pt x="673" y="317"/>
                    </a:lnTo>
                    <a:lnTo>
                      <a:pt x="694" y="333"/>
                    </a:lnTo>
                    <a:lnTo>
                      <a:pt x="714" y="351"/>
                    </a:lnTo>
                    <a:lnTo>
                      <a:pt x="733" y="368"/>
                    </a:lnTo>
                    <a:lnTo>
                      <a:pt x="752" y="386"/>
                    </a:lnTo>
                    <a:lnTo>
                      <a:pt x="771" y="403"/>
                    </a:lnTo>
                    <a:lnTo>
                      <a:pt x="830" y="345"/>
                    </a:lnTo>
                    <a:lnTo>
                      <a:pt x="810" y="324"/>
                    </a:lnTo>
                    <a:lnTo>
                      <a:pt x="790" y="305"/>
                    </a:lnTo>
                    <a:lnTo>
                      <a:pt x="769" y="287"/>
                    </a:lnTo>
                    <a:lnTo>
                      <a:pt x="747" y="269"/>
                    </a:lnTo>
                    <a:lnTo>
                      <a:pt x="725" y="250"/>
                    </a:lnTo>
                    <a:lnTo>
                      <a:pt x="703" y="234"/>
                    </a:lnTo>
                    <a:lnTo>
                      <a:pt x="681" y="217"/>
                    </a:lnTo>
                    <a:lnTo>
                      <a:pt x="657" y="201"/>
                    </a:lnTo>
                    <a:lnTo>
                      <a:pt x="633" y="185"/>
                    </a:lnTo>
                    <a:lnTo>
                      <a:pt x="610" y="170"/>
                    </a:lnTo>
                    <a:lnTo>
                      <a:pt x="584" y="156"/>
                    </a:lnTo>
                    <a:lnTo>
                      <a:pt x="560" y="142"/>
                    </a:lnTo>
                    <a:lnTo>
                      <a:pt x="535" y="129"/>
                    </a:lnTo>
                    <a:lnTo>
                      <a:pt x="509" y="117"/>
                    </a:lnTo>
                    <a:lnTo>
                      <a:pt x="484" y="104"/>
                    </a:lnTo>
                    <a:lnTo>
                      <a:pt x="458" y="92"/>
                    </a:lnTo>
                    <a:lnTo>
                      <a:pt x="430" y="82"/>
                    </a:lnTo>
                    <a:lnTo>
                      <a:pt x="404" y="71"/>
                    </a:lnTo>
                    <a:lnTo>
                      <a:pt x="377" y="62"/>
                    </a:lnTo>
                    <a:lnTo>
                      <a:pt x="349" y="53"/>
                    </a:lnTo>
                    <a:lnTo>
                      <a:pt x="322" y="45"/>
                    </a:lnTo>
                    <a:lnTo>
                      <a:pt x="293" y="37"/>
                    </a:lnTo>
                    <a:lnTo>
                      <a:pt x="265" y="30"/>
                    </a:lnTo>
                    <a:lnTo>
                      <a:pt x="237" y="24"/>
                    </a:lnTo>
                    <a:lnTo>
                      <a:pt x="207" y="18"/>
                    </a:lnTo>
                    <a:lnTo>
                      <a:pt x="179" y="13"/>
                    </a:lnTo>
                    <a:lnTo>
                      <a:pt x="150" y="10"/>
                    </a:lnTo>
                    <a:lnTo>
                      <a:pt x="120" y="6"/>
                    </a:lnTo>
                    <a:lnTo>
                      <a:pt x="90" y="3"/>
                    </a:lnTo>
                    <a:lnTo>
                      <a:pt x="60" y="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84200" y="4724280"/>
                <a:ext cx="433080" cy="2160"/>
              </a:xfrm>
              <a:prstGeom prst="rect">
                <a:avLst/>
              </a:pr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35960" y="4724280"/>
                <a:ext cx="48240" cy="26640"/>
              </a:xfrm>
              <a:custGeom>
                <a:avLst/>
                <a:gdLst/>
                <a:ahLst/>
                <a:rect l="l" t="t" r="r" b="b"/>
                <a:pathLst>
                  <a:path w="1294" h="925">
                    <a:moveTo>
                      <a:pt x="60" y="925"/>
                    </a:moveTo>
                    <a:lnTo>
                      <a:pt x="97" y="888"/>
                    </a:lnTo>
                    <a:lnTo>
                      <a:pt x="133" y="849"/>
                    </a:lnTo>
                    <a:lnTo>
                      <a:pt x="169" y="812"/>
                    </a:lnTo>
                    <a:lnTo>
                      <a:pt x="203" y="773"/>
                    </a:lnTo>
                    <a:lnTo>
                      <a:pt x="271" y="698"/>
                    </a:lnTo>
                    <a:lnTo>
                      <a:pt x="337" y="624"/>
                    </a:lnTo>
                    <a:lnTo>
                      <a:pt x="403" y="551"/>
                    </a:lnTo>
                    <a:lnTo>
                      <a:pt x="469" y="481"/>
                    </a:lnTo>
                    <a:lnTo>
                      <a:pt x="502" y="448"/>
                    </a:lnTo>
                    <a:lnTo>
                      <a:pt x="534" y="415"/>
                    </a:lnTo>
                    <a:lnTo>
                      <a:pt x="569" y="383"/>
                    </a:lnTo>
                    <a:lnTo>
                      <a:pt x="602" y="353"/>
                    </a:lnTo>
                    <a:lnTo>
                      <a:pt x="638" y="323"/>
                    </a:lnTo>
                    <a:lnTo>
                      <a:pt x="673" y="296"/>
                    </a:lnTo>
                    <a:lnTo>
                      <a:pt x="709" y="269"/>
                    </a:lnTo>
                    <a:lnTo>
                      <a:pt x="746" y="243"/>
                    </a:lnTo>
                    <a:lnTo>
                      <a:pt x="784" y="220"/>
                    </a:lnTo>
                    <a:lnTo>
                      <a:pt x="823" y="198"/>
                    </a:lnTo>
                    <a:lnTo>
                      <a:pt x="842" y="187"/>
                    </a:lnTo>
                    <a:lnTo>
                      <a:pt x="863" y="177"/>
                    </a:lnTo>
                    <a:lnTo>
                      <a:pt x="883" y="168"/>
                    </a:lnTo>
                    <a:lnTo>
                      <a:pt x="904" y="159"/>
                    </a:lnTo>
                    <a:lnTo>
                      <a:pt x="926" y="151"/>
                    </a:lnTo>
                    <a:lnTo>
                      <a:pt x="947" y="142"/>
                    </a:lnTo>
                    <a:lnTo>
                      <a:pt x="969" y="135"/>
                    </a:lnTo>
                    <a:lnTo>
                      <a:pt x="991" y="128"/>
                    </a:lnTo>
                    <a:lnTo>
                      <a:pt x="1014" y="121"/>
                    </a:lnTo>
                    <a:lnTo>
                      <a:pt x="1037" y="115"/>
                    </a:lnTo>
                    <a:lnTo>
                      <a:pt x="1060" y="109"/>
                    </a:lnTo>
                    <a:lnTo>
                      <a:pt x="1085" y="104"/>
                    </a:lnTo>
                    <a:lnTo>
                      <a:pt x="1109" y="99"/>
                    </a:lnTo>
                    <a:lnTo>
                      <a:pt x="1134" y="95"/>
                    </a:lnTo>
                    <a:lnTo>
                      <a:pt x="1160" y="92"/>
                    </a:lnTo>
                    <a:lnTo>
                      <a:pt x="1185" y="89"/>
                    </a:lnTo>
                    <a:lnTo>
                      <a:pt x="1211" y="87"/>
                    </a:lnTo>
                    <a:lnTo>
                      <a:pt x="1239" y="86"/>
                    </a:lnTo>
                    <a:lnTo>
                      <a:pt x="1266" y="85"/>
                    </a:lnTo>
                    <a:lnTo>
                      <a:pt x="1294" y="84"/>
                    </a:lnTo>
                    <a:lnTo>
                      <a:pt x="1294" y="0"/>
                    </a:lnTo>
                    <a:lnTo>
                      <a:pt x="1264" y="0"/>
                    </a:lnTo>
                    <a:lnTo>
                      <a:pt x="1235" y="1"/>
                    </a:lnTo>
                    <a:lnTo>
                      <a:pt x="1206" y="3"/>
                    </a:lnTo>
                    <a:lnTo>
                      <a:pt x="1178" y="6"/>
                    </a:lnTo>
                    <a:lnTo>
                      <a:pt x="1150" y="8"/>
                    </a:lnTo>
                    <a:lnTo>
                      <a:pt x="1122" y="12"/>
                    </a:lnTo>
                    <a:lnTo>
                      <a:pt x="1095" y="16"/>
                    </a:lnTo>
                    <a:lnTo>
                      <a:pt x="1068" y="21"/>
                    </a:lnTo>
                    <a:lnTo>
                      <a:pt x="1042" y="27"/>
                    </a:lnTo>
                    <a:lnTo>
                      <a:pt x="1017" y="33"/>
                    </a:lnTo>
                    <a:lnTo>
                      <a:pt x="991" y="40"/>
                    </a:lnTo>
                    <a:lnTo>
                      <a:pt x="967" y="47"/>
                    </a:lnTo>
                    <a:lnTo>
                      <a:pt x="942" y="55"/>
                    </a:lnTo>
                    <a:lnTo>
                      <a:pt x="918" y="63"/>
                    </a:lnTo>
                    <a:lnTo>
                      <a:pt x="895" y="72"/>
                    </a:lnTo>
                    <a:lnTo>
                      <a:pt x="872" y="81"/>
                    </a:lnTo>
                    <a:lnTo>
                      <a:pt x="850" y="91"/>
                    </a:lnTo>
                    <a:lnTo>
                      <a:pt x="826" y="101"/>
                    </a:lnTo>
                    <a:lnTo>
                      <a:pt x="805" y="112"/>
                    </a:lnTo>
                    <a:lnTo>
                      <a:pt x="783" y="124"/>
                    </a:lnTo>
                    <a:lnTo>
                      <a:pt x="741" y="147"/>
                    </a:lnTo>
                    <a:lnTo>
                      <a:pt x="701" y="173"/>
                    </a:lnTo>
                    <a:lnTo>
                      <a:pt x="660" y="200"/>
                    </a:lnTo>
                    <a:lnTo>
                      <a:pt x="622" y="228"/>
                    </a:lnTo>
                    <a:lnTo>
                      <a:pt x="584" y="258"/>
                    </a:lnTo>
                    <a:lnTo>
                      <a:pt x="548" y="289"/>
                    </a:lnTo>
                    <a:lnTo>
                      <a:pt x="512" y="321"/>
                    </a:lnTo>
                    <a:lnTo>
                      <a:pt x="477" y="355"/>
                    </a:lnTo>
                    <a:lnTo>
                      <a:pt x="442" y="388"/>
                    </a:lnTo>
                    <a:lnTo>
                      <a:pt x="408" y="424"/>
                    </a:lnTo>
                    <a:lnTo>
                      <a:pt x="341" y="495"/>
                    </a:lnTo>
                    <a:lnTo>
                      <a:pt x="274" y="568"/>
                    </a:lnTo>
                    <a:lnTo>
                      <a:pt x="208" y="642"/>
                    </a:lnTo>
                    <a:lnTo>
                      <a:pt x="141" y="717"/>
                    </a:lnTo>
                    <a:lnTo>
                      <a:pt x="107" y="754"/>
                    </a:lnTo>
                    <a:lnTo>
                      <a:pt x="71" y="791"/>
                    </a:lnTo>
                    <a:lnTo>
                      <a:pt x="37" y="828"/>
                    </a:lnTo>
                    <a:lnTo>
                      <a:pt x="0" y="865"/>
                    </a:lnTo>
                    <a:lnTo>
                      <a:pt x="60" y="925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670080" y="4749120"/>
                <a:ext cx="67680" cy="55080"/>
              </a:xfrm>
              <a:custGeom>
                <a:avLst/>
                <a:gdLst/>
                <a:ahLst/>
                <a:rect l="l" t="t" r="r" b="b"/>
                <a:pathLst>
                  <a:path w="1830" h="1907">
                    <a:moveTo>
                      <a:pt x="95" y="1907"/>
                    </a:moveTo>
                    <a:lnTo>
                      <a:pt x="126" y="1893"/>
                    </a:lnTo>
                    <a:lnTo>
                      <a:pt x="1830" y="57"/>
                    </a:lnTo>
                    <a:lnTo>
                      <a:pt x="1768" y="0"/>
                    </a:lnTo>
                    <a:lnTo>
                      <a:pt x="64" y="1836"/>
                    </a:lnTo>
                    <a:lnTo>
                      <a:pt x="95" y="1907"/>
                    </a:lnTo>
                    <a:lnTo>
                      <a:pt x="64" y="1836"/>
                    </a:lnTo>
                    <a:lnTo>
                      <a:pt x="0" y="1906"/>
                    </a:lnTo>
                    <a:lnTo>
                      <a:pt x="95" y="1907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673320" y="4801680"/>
                <a:ext cx="505080" cy="6120"/>
              </a:xfrm>
              <a:custGeom>
                <a:avLst/>
                <a:gdLst/>
                <a:ahLst/>
                <a:rect l="l" t="t" r="r" b="b"/>
                <a:pathLst>
                  <a:path w="13558" h="215">
                    <a:moveTo>
                      <a:pt x="13558" y="131"/>
                    </a:moveTo>
                    <a:lnTo>
                      <a:pt x="1" y="0"/>
                    </a:lnTo>
                    <a:lnTo>
                      <a:pt x="0" y="84"/>
                    </a:lnTo>
                    <a:lnTo>
                      <a:pt x="13558" y="215"/>
                    </a:lnTo>
                    <a:lnTo>
                      <a:pt x="13558" y="13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169760" y="4735080"/>
                <a:ext cx="89640" cy="185760"/>
              </a:xfrm>
              <a:custGeom>
                <a:avLst/>
                <a:gdLst/>
                <a:ahLst/>
                <a:rect l="l" t="t" r="r" b="b"/>
                <a:pathLst>
                  <a:path w="2424" h="6422">
                    <a:moveTo>
                      <a:pt x="2093" y="0"/>
                    </a:moveTo>
                    <a:lnTo>
                      <a:pt x="2111" y="19"/>
                    </a:lnTo>
                    <a:lnTo>
                      <a:pt x="2131" y="39"/>
                    </a:lnTo>
                    <a:lnTo>
                      <a:pt x="2149" y="60"/>
                    </a:lnTo>
                    <a:lnTo>
                      <a:pt x="2166" y="81"/>
                    </a:lnTo>
                    <a:lnTo>
                      <a:pt x="2183" y="101"/>
                    </a:lnTo>
                    <a:lnTo>
                      <a:pt x="2200" y="124"/>
                    </a:lnTo>
                    <a:lnTo>
                      <a:pt x="2216" y="146"/>
                    </a:lnTo>
                    <a:lnTo>
                      <a:pt x="2231" y="168"/>
                    </a:lnTo>
                    <a:lnTo>
                      <a:pt x="2246" y="190"/>
                    </a:lnTo>
                    <a:lnTo>
                      <a:pt x="2260" y="214"/>
                    </a:lnTo>
                    <a:lnTo>
                      <a:pt x="2274" y="237"/>
                    </a:lnTo>
                    <a:lnTo>
                      <a:pt x="2288" y="261"/>
                    </a:lnTo>
                    <a:lnTo>
                      <a:pt x="2301" y="286"/>
                    </a:lnTo>
                    <a:lnTo>
                      <a:pt x="2313" y="310"/>
                    </a:lnTo>
                    <a:lnTo>
                      <a:pt x="2324" y="335"/>
                    </a:lnTo>
                    <a:lnTo>
                      <a:pt x="2335" y="361"/>
                    </a:lnTo>
                    <a:lnTo>
                      <a:pt x="2346" y="386"/>
                    </a:lnTo>
                    <a:lnTo>
                      <a:pt x="2356" y="411"/>
                    </a:lnTo>
                    <a:lnTo>
                      <a:pt x="2366" y="438"/>
                    </a:lnTo>
                    <a:lnTo>
                      <a:pt x="2374" y="464"/>
                    </a:lnTo>
                    <a:lnTo>
                      <a:pt x="2382" y="491"/>
                    </a:lnTo>
                    <a:lnTo>
                      <a:pt x="2389" y="518"/>
                    </a:lnTo>
                    <a:lnTo>
                      <a:pt x="2396" y="545"/>
                    </a:lnTo>
                    <a:lnTo>
                      <a:pt x="2402" y="573"/>
                    </a:lnTo>
                    <a:lnTo>
                      <a:pt x="2407" y="601"/>
                    </a:lnTo>
                    <a:lnTo>
                      <a:pt x="2411" y="629"/>
                    </a:lnTo>
                    <a:lnTo>
                      <a:pt x="2415" y="657"/>
                    </a:lnTo>
                    <a:lnTo>
                      <a:pt x="2419" y="686"/>
                    </a:lnTo>
                    <a:lnTo>
                      <a:pt x="2421" y="714"/>
                    </a:lnTo>
                    <a:lnTo>
                      <a:pt x="2423" y="743"/>
                    </a:lnTo>
                    <a:lnTo>
                      <a:pt x="2424" y="772"/>
                    </a:lnTo>
                    <a:lnTo>
                      <a:pt x="2424" y="802"/>
                    </a:lnTo>
                    <a:lnTo>
                      <a:pt x="2424" y="3125"/>
                    </a:lnTo>
                    <a:lnTo>
                      <a:pt x="65" y="6422"/>
                    </a:lnTo>
                    <a:lnTo>
                      <a:pt x="0" y="2390"/>
                    </a:lnTo>
                    <a:lnTo>
                      <a:pt x="2093" y="0"/>
                    </a:lnTo>
                    <a:close/>
                  </a:path>
                </a:pathLst>
              </a:custGeom>
              <a:solidFill>
                <a:srgbClr val="7b7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46440" y="473400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404" h="831">
                    <a:moveTo>
                      <a:pt x="404" y="831"/>
                    </a:moveTo>
                    <a:lnTo>
                      <a:pt x="404" y="800"/>
                    </a:lnTo>
                    <a:lnTo>
                      <a:pt x="402" y="770"/>
                    </a:lnTo>
                    <a:lnTo>
                      <a:pt x="401" y="740"/>
                    </a:lnTo>
                    <a:lnTo>
                      <a:pt x="398" y="710"/>
                    </a:lnTo>
                    <a:lnTo>
                      <a:pt x="394" y="681"/>
                    </a:lnTo>
                    <a:lnTo>
                      <a:pt x="391" y="651"/>
                    </a:lnTo>
                    <a:lnTo>
                      <a:pt x="386" y="623"/>
                    </a:lnTo>
                    <a:lnTo>
                      <a:pt x="380" y="593"/>
                    </a:lnTo>
                    <a:lnTo>
                      <a:pt x="374" y="565"/>
                    </a:lnTo>
                    <a:lnTo>
                      <a:pt x="367" y="537"/>
                    </a:lnTo>
                    <a:lnTo>
                      <a:pt x="359" y="509"/>
                    </a:lnTo>
                    <a:lnTo>
                      <a:pt x="351" y="481"/>
                    </a:lnTo>
                    <a:lnTo>
                      <a:pt x="342" y="454"/>
                    </a:lnTo>
                    <a:lnTo>
                      <a:pt x="333" y="426"/>
                    </a:lnTo>
                    <a:lnTo>
                      <a:pt x="322" y="400"/>
                    </a:lnTo>
                    <a:lnTo>
                      <a:pt x="312" y="372"/>
                    </a:lnTo>
                    <a:lnTo>
                      <a:pt x="300" y="347"/>
                    </a:lnTo>
                    <a:lnTo>
                      <a:pt x="287" y="321"/>
                    </a:lnTo>
                    <a:lnTo>
                      <a:pt x="275" y="295"/>
                    </a:lnTo>
                    <a:lnTo>
                      <a:pt x="262" y="270"/>
                    </a:lnTo>
                    <a:lnTo>
                      <a:pt x="248" y="246"/>
                    </a:lnTo>
                    <a:lnTo>
                      <a:pt x="234" y="221"/>
                    </a:lnTo>
                    <a:lnTo>
                      <a:pt x="219" y="197"/>
                    </a:lnTo>
                    <a:lnTo>
                      <a:pt x="203" y="173"/>
                    </a:lnTo>
                    <a:lnTo>
                      <a:pt x="187" y="150"/>
                    </a:lnTo>
                    <a:lnTo>
                      <a:pt x="171" y="127"/>
                    </a:lnTo>
                    <a:lnTo>
                      <a:pt x="153" y="105"/>
                    </a:lnTo>
                    <a:lnTo>
                      <a:pt x="135" y="83"/>
                    </a:lnTo>
                    <a:lnTo>
                      <a:pt x="117" y="61"/>
                    </a:lnTo>
                    <a:lnTo>
                      <a:pt x="99" y="40"/>
                    </a:lnTo>
                    <a:lnTo>
                      <a:pt x="80" y="20"/>
                    </a:lnTo>
                    <a:lnTo>
                      <a:pt x="59" y="0"/>
                    </a:lnTo>
                    <a:lnTo>
                      <a:pt x="0" y="59"/>
                    </a:lnTo>
                    <a:lnTo>
                      <a:pt x="18" y="78"/>
                    </a:lnTo>
                    <a:lnTo>
                      <a:pt x="36" y="97"/>
                    </a:lnTo>
                    <a:lnTo>
                      <a:pt x="53" y="116"/>
                    </a:lnTo>
                    <a:lnTo>
                      <a:pt x="71" y="136"/>
                    </a:lnTo>
                    <a:lnTo>
                      <a:pt x="87" y="157"/>
                    </a:lnTo>
                    <a:lnTo>
                      <a:pt x="103" y="178"/>
                    </a:lnTo>
                    <a:lnTo>
                      <a:pt x="118" y="199"/>
                    </a:lnTo>
                    <a:lnTo>
                      <a:pt x="133" y="220"/>
                    </a:lnTo>
                    <a:lnTo>
                      <a:pt x="148" y="243"/>
                    </a:lnTo>
                    <a:lnTo>
                      <a:pt x="162" y="265"/>
                    </a:lnTo>
                    <a:lnTo>
                      <a:pt x="175" y="287"/>
                    </a:lnTo>
                    <a:lnTo>
                      <a:pt x="188" y="311"/>
                    </a:lnTo>
                    <a:lnTo>
                      <a:pt x="200" y="334"/>
                    </a:lnTo>
                    <a:lnTo>
                      <a:pt x="212" y="357"/>
                    </a:lnTo>
                    <a:lnTo>
                      <a:pt x="224" y="382"/>
                    </a:lnTo>
                    <a:lnTo>
                      <a:pt x="234" y="406"/>
                    </a:lnTo>
                    <a:lnTo>
                      <a:pt x="244" y="430"/>
                    </a:lnTo>
                    <a:lnTo>
                      <a:pt x="253" y="456"/>
                    </a:lnTo>
                    <a:lnTo>
                      <a:pt x="262" y="481"/>
                    </a:lnTo>
                    <a:lnTo>
                      <a:pt x="270" y="506"/>
                    </a:lnTo>
                    <a:lnTo>
                      <a:pt x="278" y="532"/>
                    </a:lnTo>
                    <a:lnTo>
                      <a:pt x="285" y="558"/>
                    </a:lnTo>
                    <a:lnTo>
                      <a:pt x="292" y="584"/>
                    </a:lnTo>
                    <a:lnTo>
                      <a:pt x="298" y="611"/>
                    </a:lnTo>
                    <a:lnTo>
                      <a:pt x="303" y="637"/>
                    </a:lnTo>
                    <a:lnTo>
                      <a:pt x="307" y="664"/>
                    </a:lnTo>
                    <a:lnTo>
                      <a:pt x="311" y="692"/>
                    </a:lnTo>
                    <a:lnTo>
                      <a:pt x="314" y="719"/>
                    </a:lnTo>
                    <a:lnTo>
                      <a:pt x="316" y="746"/>
                    </a:lnTo>
                    <a:lnTo>
                      <a:pt x="318" y="774"/>
                    </a:lnTo>
                    <a:lnTo>
                      <a:pt x="319" y="802"/>
                    </a:lnTo>
                    <a:lnTo>
                      <a:pt x="320" y="831"/>
                    </a:lnTo>
                    <a:lnTo>
                      <a:pt x="404" y="83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58320" y="4758120"/>
                <a:ext cx="2880" cy="68040"/>
              </a:xfrm>
              <a:custGeom>
                <a:avLst/>
                <a:gdLst/>
                <a:ahLst/>
                <a:rect l="l" t="t" r="r" b="b"/>
                <a:pathLst>
                  <a:path w="84" h="2348">
                    <a:moveTo>
                      <a:pt x="76" y="2348"/>
                    </a:moveTo>
                    <a:lnTo>
                      <a:pt x="84" y="23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2323"/>
                    </a:lnTo>
                    <a:lnTo>
                      <a:pt x="76" y="2348"/>
                    </a:lnTo>
                    <a:lnTo>
                      <a:pt x="76" y="2348"/>
                    </a:lnTo>
                    <a:lnTo>
                      <a:pt x="84" y="2336"/>
                    </a:lnTo>
                    <a:lnTo>
                      <a:pt x="84" y="2323"/>
                    </a:lnTo>
                    <a:lnTo>
                      <a:pt x="76" y="2348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70480" y="4824360"/>
                <a:ext cx="90360" cy="100080"/>
              </a:xfrm>
              <a:custGeom>
                <a:avLst/>
                <a:gdLst/>
                <a:ahLst/>
                <a:rect l="l" t="t" r="r" b="b"/>
                <a:pathLst>
                  <a:path w="2436" h="3448">
                    <a:moveTo>
                      <a:pt x="0" y="3322"/>
                    </a:moveTo>
                    <a:lnTo>
                      <a:pt x="76" y="3345"/>
                    </a:lnTo>
                    <a:lnTo>
                      <a:pt x="2436" y="49"/>
                    </a:lnTo>
                    <a:lnTo>
                      <a:pt x="2367" y="0"/>
                    </a:lnTo>
                    <a:lnTo>
                      <a:pt x="7" y="3297"/>
                    </a:lnTo>
                    <a:lnTo>
                      <a:pt x="0" y="3322"/>
                    </a:lnTo>
                    <a:lnTo>
                      <a:pt x="0" y="3322"/>
                    </a:lnTo>
                    <a:lnTo>
                      <a:pt x="3" y="3448"/>
                    </a:lnTo>
                    <a:lnTo>
                      <a:pt x="76" y="3345"/>
                    </a:lnTo>
                    <a:lnTo>
                      <a:pt x="0" y="3322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167240" y="4804200"/>
                <a:ext cx="6120" cy="116640"/>
              </a:xfrm>
              <a:custGeom>
                <a:avLst/>
                <a:gdLst/>
                <a:ahLst/>
                <a:rect l="l" t="t" r="r" b="b"/>
                <a:pathLst>
                  <a:path w="150" h="4033">
                    <a:moveTo>
                      <a:pt x="0" y="1"/>
                    </a:moveTo>
                    <a:lnTo>
                      <a:pt x="66" y="4033"/>
                    </a:lnTo>
                    <a:lnTo>
                      <a:pt x="150" y="4032"/>
                    </a:lnTo>
                    <a:lnTo>
                      <a:pt x="8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143840" y="4893840"/>
                <a:ext cx="4356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0" y="1176"/>
                    </a:moveTo>
                    <a:lnTo>
                      <a:pt x="0" y="1176"/>
                    </a:lnTo>
                    <a:lnTo>
                      <a:pt x="30" y="1176"/>
                    </a:lnTo>
                    <a:lnTo>
                      <a:pt x="61" y="1174"/>
                    </a:lnTo>
                    <a:lnTo>
                      <a:pt x="90" y="1173"/>
                    </a:lnTo>
                    <a:lnTo>
                      <a:pt x="119" y="1170"/>
                    </a:lnTo>
                    <a:lnTo>
                      <a:pt x="150" y="1167"/>
                    </a:lnTo>
                    <a:lnTo>
                      <a:pt x="179" y="1163"/>
                    </a:lnTo>
                    <a:lnTo>
                      <a:pt x="208" y="1158"/>
                    </a:lnTo>
                    <a:lnTo>
                      <a:pt x="237" y="1152"/>
                    </a:lnTo>
                    <a:lnTo>
                      <a:pt x="265" y="1146"/>
                    </a:lnTo>
                    <a:lnTo>
                      <a:pt x="294" y="1140"/>
                    </a:lnTo>
                    <a:lnTo>
                      <a:pt x="321" y="1131"/>
                    </a:lnTo>
                    <a:lnTo>
                      <a:pt x="349" y="1123"/>
                    </a:lnTo>
                    <a:lnTo>
                      <a:pt x="377" y="1114"/>
                    </a:lnTo>
                    <a:lnTo>
                      <a:pt x="404" y="1105"/>
                    </a:lnTo>
                    <a:lnTo>
                      <a:pt x="431" y="1095"/>
                    </a:lnTo>
                    <a:lnTo>
                      <a:pt x="458" y="1084"/>
                    </a:lnTo>
                    <a:lnTo>
                      <a:pt x="483" y="1073"/>
                    </a:lnTo>
                    <a:lnTo>
                      <a:pt x="510" y="1060"/>
                    </a:lnTo>
                    <a:lnTo>
                      <a:pt x="535" y="1047"/>
                    </a:lnTo>
                    <a:lnTo>
                      <a:pt x="560" y="1034"/>
                    </a:lnTo>
                    <a:lnTo>
                      <a:pt x="585" y="1020"/>
                    </a:lnTo>
                    <a:lnTo>
                      <a:pt x="609" y="1006"/>
                    </a:lnTo>
                    <a:lnTo>
                      <a:pt x="633" y="991"/>
                    </a:lnTo>
                    <a:lnTo>
                      <a:pt x="658" y="975"/>
                    </a:lnTo>
                    <a:lnTo>
                      <a:pt x="681" y="959"/>
                    </a:lnTo>
                    <a:lnTo>
                      <a:pt x="703" y="943"/>
                    </a:lnTo>
                    <a:lnTo>
                      <a:pt x="725" y="926"/>
                    </a:lnTo>
                    <a:lnTo>
                      <a:pt x="748" y="907"/>
                    </a:lnTo>
                    <a:lnTo>
                      <a:pt x="769" y="889"/>
                    </a:lnTo>
                    <a:lnTo>
                      <a:pt x="790" y="871"/>
                    </a:lnTo>
                    <a:lnTo>
                      <a:pt x="811" y="852"/>
                    </a:lnTo>
                    <a:lnTo>
                      <a:pt x="831" y="831"/>
                    </a:lnTo>
                    <a:lnTo>
                      <a:pt x="851" y="811"/>
                    </a:lnTo>
                    <a:lnTo>
                      <a:pt x="870" y="791"/>
                    </a:lnTo>
                    <a:lnTo>
                      <a:pt x="889" y="770"/>
                    </a:lnTo>
                    <a:lnTo>
                      <a:pt x="907" y="748"/>
                    </a:lnTo>
                    <a:lnTo>
                      <a:pt x="925" y="726"/>
                    </a:lnTo>
                    <a:lnTo>
                      <a:pt x="942" y="704"/>
                    </a:lnTo>
                    <a:lnTo>
                      <a:pt x="958" y="681"/>
                    </a:lnTo>
                    <a:lnTo>
                      <a:pt x="975" y="658"/>
                    </a:lnTo>
                    <a:lnTo>
                      <a:pt x="990" y="634"/>
                    </a:lnTo>
                    <a:lnTo>
                      <a:pt x="1005" y="611"/>
                    </a:lnTo>
                    <a:lnTo>
                      <a:pt x="1019" y="586"/>
                    </a:lnTo>
                    <a:lnTo>
                      <a:pt x="1033" y="561"/>
                    </a:lnTo>
                    <a:lnTo>
                      <a:pt x="1047" y="536"/>
                    </a:lnTo>
                    <a:lnTo>
                      <a:pt x="1059" y="510"/>
                    </a:lnTo>
                    <a:lnTo>
                      <a:pt x="1071" y="485"/>
                    </a:lnTo>
                    <a:lnTo>
                      <a:pt x="1083" y="459"/>
                    </a:lnTo>
                    <a:lnTo>
                      <a:pt x="1093" y="431"/>
                    </a:lnTo>
                    <a:lnTo>
                      <a:pt x="1104" y="405"/>
                    </a:lnTo>
                    <a:lnTo>
                      <a:pt x="1113" y="377"/>
                    </a:lnTo>
                    <a:lnTo>
                      <a:pt x="1123" y="350"/>
                    </a:lnTo>
                    <a:lnTo>
                      <a:pt x="1131" y="323"/>
                    </a:lnTo>
                    <a:lnTo>
                      <a:pt x="1138" y="294"/>
                    </a:lnTo>
                    <a:lnTo>
                      <a:pt x="1145" y="266"/>
                    </a:lnTo>
                    <a:lnTo>
                      <a:pt x="1151" y="238"/>
                    </a:lnTo>
                    <a:lnTo>
                      <a:pt x="1157" y="208"/>
                    </a:lnTo>
                    <a:lnTo>
                      <a:pt x="1162" y="180"/>
                    </a:lnTo>
                    <a:lnTo>
                      <a:pt x="1165" y="150"/>
                    </a:lnTo>
                    <a:lnTo>
                      <a:pt x="1169" y="121"/>
                    </a:lnTo>
                    <a:lnTo>
                      <a:pt x="1172" y="91"/>
                    </a:lnTo>
                    <a:lnTo>
                      <a:pt x="1173" y="61"/>
                    </a:lnTo>
                    <a:lnTo>
                      <a:pt x="1175" y="31"/>
                    </a:lnTo>
                    <a:lnTo>
                      <a:pt x="1175" y="0"/>
                    </a:lnTo>
                    <a:lnTo>
                      <a:pt x="1091" y="0"/>
                    </a:lnTo>
                    <a:lnTo>
                      <a:pt x="1090" y="29"/>
                    </a:lnTo>
                    <a:lnTo>
                      <a:pt x="1089" y="57"/>
                    </a:lnTo>
                    <a:lnTo>
                      <a:pt x="1087" y="85"/>
                    </a:lnTo>
                    <a:lnTo>
                      <a:pt x="1085" y="112"/>
                    </a:lnTo>
                    <a:lnTo>
                      <a:pt x="1082" y="139"/>
                    </a:lnTo>
                    <a:lnTo>
                      <a:pt x="1078" y="167"/>
                    </a:lnTo>
                    <a:lnTo>
                      <a:pt x="1074" y="194"/>
                    </a:lnTo>
                    <a:lnTo>
                      <a:pt x="1069" y="220"/>
                    </a:lnTo>
                    <a:lnTo>
                      <a:pt x="1063" y="248"/>
                    </a:lnTo>
                    <a:lnTo>
                      <a:pt x="1057" y="273"/>
                    </a:lnTo>
                    <a:lnTo>
                      <a:pt x="1050" y="299"/>
                    </a:lnTo>
                    <a:lnTo>
                      <a:pt x="1042" y="325"/>
                    </a:lnTo>
                    <a:lnTo>
                      <a:pt x="1033" y="351"/>
                    </a:lnTo>
                    <a:lnTo>
                      <a:pt x="1024" y="375"/>
                    </a:lnTo>
                    <a:lnTo>
                      <a:pt x="1015" y="401"/>
                    </a:lnTo>
                    <a:lnTo>
                      <a:pt x="1005" y="425"/>
                    </a:lnTo>
                    <a:lnTo>
                      <a:pt x="995" y="449"/>
                    </a:lnTo>
                    <a:lnTo>
                      <a:pt x="984" y="474"/>
                    </a:lnTo>
                    <a:lnTo>
                      <a:pt x="972" y="497"/>
                    </a:lnTo>
                    <a:lnTo>
                      <a:pt x="959" y="520"/>
                    </a:lnTo>
                    <a:lnTo>
                      <a:pt x="946" y="544"/>
                    </a:lnTo>
                    <a:lnTo>
                      <a:pt x="933" y="567"/>
                    </a:lnTo>
                    <a:lnTo>
                      <a:pt x="919" y="588"/>
                    </a:lnTo>
                    <a:lnTo>
                      <a:pt x="905" y="611"/>
                    </a:lnTo>
                    <a:lnTo>
                      <a:pt x="890" y="632"/>
                    </a:lnTo>
                    <a:lnTo>
                      <a:pt x="874" y="653"/>
                    </a:lnTo>
                    <a:lnTo>
                      <a:pt x="858" y="674"/>
                    </a:lnTo>
                    <a:lnTo>
                      <a:pt x="842" y="695"/>
                    </a:lnTo>
                    <a:lnTo>
                      <a:pt x="825" y="715"/>
                    </a:lnTo>
                    <a:lnTo>
                      <a:pt x="807" y="734"/>
                    </a:lnTo>
                    <a:lnTo>
                      <a:pt x="789" y="753"/>
                    </a:lnTo>
                    <a:lnTo>
                      <a:pt x="771" y="772"/>
                    </a:lnTo>
                    <a:lnTo>
                      <a:pt x="753" y="790"/>
                    </a:lnTo>
                    <a:lnTo>
                      <a:pt x="734" y="808"/>
                    </a:lnTo>
                    <a:lnTo>
                      <a:pt x="714" y="825"/>
                    </a:lnTo>
                    <a:lnTo>
                      <a:pt x="694" y="843"/>
                    </a:lnTo>
                    <a:lnTo>
                      <a:pt x="674" y="859"/>
                    </a:lnTo>
                    <a:lnTo>
                      <a:pt x="652" y="875"/>
                    </a:lnTo>
                    <a:lnTo>
                      <a:pt x="631" y="890"/>
                    </a:lnTo>
                    <a:lnTo>
                      <a:pt x="610" y="905"/>
                    </a:lnTo>
                    <a:lnTo>
                      <a:pt x="588" y="920"/>
                    </a:lnTo>
                    <a:lnTo>
                      <a:pt x="565" y="934"/>
                    </a:lnTo>
                    <a:lnTo>
                      <a:pt x="543" y="947"/>
                    </a:lnTo>
                    <a:lnTo>
                      <a:pt x="520" y="960"/>
                    </a:lnTo>
                    <a:lnTo>
                      <a:pt x="496" y="972"/>
                    </a:lnTo>
                    <a:lnTo>
                      <a:pt x="473" y="984"/>
                    </a:lnTo>
                    <a:lnTo>
                      <a:pt x="449" y="996"/>
                    </a:lnTo>
                    <a:lnTo>
                      <a:pt x="424" y="1006"/>
                    </a:lnTo>
                    <a:lnTo>
                      <a:pt x="400" y="1016"/>
                    </a:lnTo>
                    <a:lnTo>
                      <a:pt x="375" y="1025"/>
                    </a:lnTo>
                    <a:lnTo>
                      <a:pt x="350" y="1034"/>
                    </a:lnTo>
                    <a:lnTo>
                      <a:pt x="324" y="1042"/>
                    </a:lnTo>
                    <a:lnTo>
                      <a:pt x="299" y="1050"/>
                    </a:lnTo>
                    <a:lnTo>
                      <a:pt x="272" y="1057"/>
                    </a:lnTo>
                    <a:lnTo>
                      <a:pt x="246" y="1064"/>
                    </a:lnTo>
                    <a:lnTo>
                      <a:pt x="220" y="1070"/>
                    </a:lnTo>
                    <a:lnTo>
                      <a:pt x="193" y="1075"/>
                    </a:lnTo>
                    <a:lnTo>
                      <a:pt x="166" y="1079"/>
                    </a:lnTo>
                    <a:lnTo>
                      <a:pt x="139" y="1083"/>
                    </a:lnTo>
                    <a:lnTo>
                      <a:pt x="111" y="1086"/>
                    </a:lnTo>
                    <a:lnTo>
                      <a:pt x="84" y="1089"/>
                    </a:lnTo>
                    <a:lnTo>
                      <a:pt x="57" y="1090"/>
                    </a:lnTo>
                    <a:lnTo>
                      <a:pt x="28" y="1091"/>
                    </a:lnTo>
                    <a:lnTo>
                      <a:pt x="0" y="1092"/>
                    </a:lnTo>
                    <a:lnTo>
                      <a:pt x="0" y="1092"/>
                    </a:lnTo>
                    <a:lnTo>
                      <a:pt x="0" y="1176"/>
                    </a:lnTo>
                    <a:lnTo>
                      <a:pt x="0" y="1176"/>
                    </a:lnTo>
                    <a:lnTo>
                      <a:pt x="0" y="1176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01400" y="4925520"/>
                <a:ext cx="442440" cy="2160"/>
              </a:xfrm>
              <a:custGeom>
                <a:avLst/>
                <a:gdLst/>
                <a:ahLst/>
                <a:rect l="l" t="t" r="r" b="b"/>
                <a:pathLst>
                  <a:path w="11895" h="84">
                    <a:moveTo>
                      <a:pt x="0" y="0"/>
                    </a:moveTo>
                    <a:lnTo>
                      <a:pt x="0" y="84"/>
                    </a:lnTo>
                    <a:lnTo>
                      <a:pt x="11895" y="84"/>
                    </a:lnTo>
                    <a:lnTo>
                      <a:pt x="1189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57840" y="4893840"/>
                <a:ext cx="4356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0" y="0"/>
                    </a:moveTo>
                    <a:lnTo>
                      <a:pt x="0" y="0"/>
                    </a:lnTo>
                    <a:lnTo>
                      <a:pt x="0" y="31"/>
                    </a:lnTo>
                    <a:lnTo>
                      <a:pt x="2" y="61"/>
                    </a:lnTo>
                    <a:lnTo>
                      <a:pt x="3" y="91"/>
                    </a:lnTo>
                    <a:lnTo>
                      <a:pt x="6" y="121"/>
                    </a:lnTo>
                    <a:lnTo>
                      <a:pt x="9" y="150"/>
                    </a:lnTo>
                    <a:lnTo>
                      <a:pt x="13" y="180"/>
                    </a:lnTo>
                    <a:lnTo>
                      <a:pt x="18" y="209"/>
                    </a:lnTo>
                    <a:lnTo>
                      <a:pt x="24" y="238"/>
                    </a:lnTo>
                    <a:lnTo>
                      <a:pt x="30" y="266"/>
                    </a:lnTo>
                    <a:lnTo>
                      <a:pt x="36" y="294"/>
                    </a:lnTo>
                    <a:lnTo>
                      <a:pt x="45" y="323"/>
                    </a:lnTo>
                    <a:lnTo>
                      <a:pt x="53" y="350"/>
                    </a:lnTo>
                    <a:lnTo>
                      <a:pt x="62" y="377"/>
                    </a:lnTo>
                    <a:lnTo>
                      <a:pt x="71" y="405"/>
                    </a:lnTo>
                    <a:lnTo>
                      <a:pt x="81" y="432"/>
                    </a:lnTo>
                    <a:lnTo>
                      <a:pt x="92" y="459"/>
                    </a:lnTo>
                    <a:lnTo>
                      <a:pt x="103" y="485"/>
                    </a:lnTo>
                    <a:lnTo>
                      <a:pt x="116" y="510"/>
                    </a:lnTo>
                    <a:lnTo>
                      <a:pt x="129" y="536"/>
                    </a:lnTo>
                    <a:lnTo>
                      <a:pt x="142" y="561"/>
                    </a:lnTo>
                    <a:lnTo>
                      <a:pt x="156" y="586"/>
                    </a:lnTo>
                    <a:lnTo>
                      <a:pt x="170" y="611"/>
                    </a:lnTo>
                    <a:lnTo>
                      <a:pt x="185" y="634"/>
                    </a:lnTo>
                    <a:lnTo>
                      <a:pt x="201" y="658"/>
                    </a:lnTo>
                    <a:lnTo>
                      <a:pt x="217" y="681"/>
                    </a:lnTo>
                    <a:lnTo>
                      <a:pt x="233" y="704"/>
                    </a:lnTo>
                    <a:lnTo>
                      <a:pt x="250" y="726"/>
                    </a:lnTo>
                    <a:lnTo>
                      <a:pt x="269" y="748"/>
                    </a:lnTo>
                    <a:lnTo>
                      <a:pt x="287" y="770"/>
                    </a:lnTo>
                    <a:lnTo>
                      <a:pt x="305" y="791"/>
                    </a:lnTo>
                    <a:lnTo>
                      <a:pt x="324" y="811"/>
                    </a:lnTo>
                    <a:lnTo>
                      <a:pt x="345" y="831"/>
                    </a:lnTo>
                    <a:lnTo>
                      <a:pt x="365" y="852"/>
                    </a:lnTo>
                    <a:lnTo>
                      <a:pt x="385" y="871"/>
                    </a:lnTo>
                    <a:lnTo>
                      <a:pt x="406" y="889"/>
                    </a:lnTo>
                    <a:lnTo>
                      <a:pt x="428" y="907"/>
                    </a:lnTo>
                    <a:lnTo>
                      <a:pt x="450" y="926"/>
                    </a:lnTo>
                    <a:lnTo>
                      <a:pt x="472" y="943"/>
                    </a:lnTo>
                    <a:lnTo>
                      <a:pt x="494" y="959"/>
                    </a:lnTo>
                    <a:lnTo>
                      <a:pt x="518" y="975"/>
                    </a:lnTo>
                    <a:lnTo>
                      <a:pt x="542" y="991"/>
                    </a:lnTo>
                    <a:lnTo>
                      <a:pt x="565" y="1006"/>
                    </a:lnTo>
                    <a:lnTo>
                      <a:pt x="590" y="1020"/>
                    </a:lnTo>
                    <a:lnTo>
                      <a:pt x="615" y="1034"/>
                    </a:lnTo>
                    <a:lnTo>
                      <a:pt x="640" y="1047"/>
                    </a:lnTo>
                    <a:lnTo>
                      <a:pt x="666" y="1060"/>
                    </a:lnTo>
                    <a:lnTo>
                      <a:pt x="691" y="1073"/>
                    </a:lnTo>
                    <a:lnTo>
                      <a:pt x="717" y="1084"/>
                    </a:lnTo>
                    <a:lnTo>
                      <a:pt x="744" y="1095"/>
                    </a:lnTo>
                    <a:lnTo>
                      <a:pt x="771" y="1105"/>
                    </a:lnTo>
                    <a:lnTo>
                      <a:pt x="798" y="1114"/>
                    </a:lnTo>
                    <a:lnTo>
                      <a:pt x="826" y="1123"/>
                    </a:lnTo>
                    <a:lnTo>
                      <a:pt x="853" y="1131"/>
                    </a:lnTo>
                    <a:lnTo>
                      <a:pt x="882" y="1140"/>
                    </a:lnTo>
                    <a:lnTo>
                      <a:pt x="910" y="1146"/>
                    </a:lnTo>
                    <a:lnTo>
                      <a:pt x="938" y="1152"/>
                    </a:lnTo>
                    <a:lnTo>
                      <a:pt x="967" y="1158"/>
                    </a:lnTo>
                    <a:lnTo>
                      <a:pt x="996" y="1163"/>
                    </a:lnTo>
                    <a:lnTo>
                      <a:pt x="1025" y="1167"/>
                    </a:lnTo>
                    <a:lnTo>
                      <a:pt x="1055" y="1170"/>
                    </a:lnTo>
                    <a:lnTo>
                      <a:pt x="1085" y="1173"/>
                    </a:lnTo>
                    <a:lnTo>
                      <a:pt x="1115" y="1174"/>
                    </a:lnTo>
                    <a:lnTo>
                      <a:pt x="1145" y="1176"/>
                    </a:lnTo>
                    <a:lnTo>
                      <a:pt x="1175" y="1176"/>
                    </a:lnTo>
                    <a:lnTo>
                      <a:pt x="1175" y="1092"/>
                    </a:lnTo>
                    <a:lnTo>
                      <a:pt x="1147" y="1091"/>
                    </a:lnTo>
                    <a:lnTo>
                      <a:pt x="1119" y="1090"/>
                    </a:lnTo>
                    <a:lnTo>
                      <a:pt x="1091" y="1089"/>
                    </a:lnTo>
                    <a:lnTo>
                      <a:pt x="1063" y="1086"/>
                    </a:lnTo>
                    <a:lnTo>
                      <a:pt x="1037" y="1083"/>
                    </a:lnTo>
                    <a:lnTo>
                      <a:pt x="1009" y="1079"/>
                    </a:lnTo>
                    <a:lnTo>
                      <a:pt x="982" y="1075"/>
                    </a:lnTo>
                    <a:lnTo>
                      <a:pt x="955" y="1070"/>
                    </a:lnTo>
                    <a:lnTo>
                      <a:pt x="928" y="1064"/>
                    </a:lnTo>
                    <a:lnTo>
                      <a:pt x="902" y="1057"/>
                    </a:lnTo>
                    <a:lnTo>
                      <a:pt x="876" y="1050"/>
                    </a:lnTo>
                    <a:lnTo>
                      <a:pt x="851" y="1042"/>
                    </a:lnTo>
                    <a:lnTo>
                      <a:pt x="825" y="1034"/>
                    </a:lnTo>
                    <a:lnTo>
                      <a:pt x="800" y="1025"/>
                    </a:lnTo>
                    <a:lnTo>
                      <a:pt x="775" y="1016"/>
                    </a:lnTo>
                    <a:lnTo>
                      <a:pt x="751" y="1006"/>
                    </a:lnTo>
                    <a:lnTo>
                      <a:pt x="727" y="996"/>
                    </a:lnTo>
                    <a:lnTo>
                      <a:pt x="702" y="984"/>
                    </a:lnTo>
                    <a:lnTo>
                      <a:pt x="679" y="972"/>
                    </a:lnTo>
                    <a:lnTo>
                      <a:pt x="656" y="960"/>
                    </a:lnTo>
                    <a:lnTo>
                      <a:pt x="632" y="947"/>
                    </a:lnTo>
                    <a:lnTo>
                      <a:pt x="609" y="934"/>
                    </a:lnTo>
                    <a:lnTo>
                      <a:pt x="587" y="920"/>
                    </a:lnTo>
                    <a:lnTo>
                      <a:pt x="565" y="905"/>
                    </a:lnTo>
                    <a:lnTo>
                      <a:pt x="544" y="890"/>
                    </a:lnTo>
                    <a:lnTo>
                      <a:pt x="523" y="875"/>
                    </a:lnTo>
                    <a:lnTo>
                      <a:pt x="502" y="859"/>
                    </a:lnTo>
                    <a:lnTo>
                      <a:pt x="481" y="843"/>
                    </a:lnTo>
                    <a:lnTo>
                      <a:pt x="461" y="825"/>
                    </a:lnTo>
                    <a:lnTo>
                      <a:pt x="442" y="808"/>
                    </a:lnTo>
                    <a:lnTo>
                      <a:pt x="423" y="790"/>
                    </a:lnTo>
                    <a:lnTo>
                      <a:pt x="404" y="773"/>
                    </a:lnTo>
                    <a:lnTo>
                      <a:pt x="385" y="753"/>
                    </a:lnTo>
                    <a:lnTo>
                      <a:pt x="368" y="734"/>
                    </a:lnTo>
                    <a:lnTo>
                      <a:pt x="351" y="715"/>
                    </a:lnTo>
                    <a:lnTo>
                      <a:pt x="333" y="695"/>
                    </a:lnTo>
                    <a:lnTo>
                      <a:pt x="317" y="674"/>
                    </a:lnTo>
                    <a:lnTo>
                      <a:pt x="301" y="653"/>
                    </a:lnTo>
                    <a:lnTo>
                      <a:pt x="286" y="632"/>
                    </a:lnTo>
                    <a:lnTo>
                      <a:pt x="271" y="611"/>
                    </a:lnTo>
                    <a:lnTo>
                      <a:pt x="256" y="588"/>
                    </a:lnTo>
                    <a:lnTo>
                      <a:pt x="242" y="567"/>
                    </a:lnTo>
                    <a:lnTo>
                      <a:pt x="229" y="544"/>
                    </a:lnTo>
                    <a:lnTo>
                      <a:pt x="216" y="520"/>
                    </a:lnTo>
                    <a:lnTo>
                      <a:pt x="204" y="497"/>
                    </a:lnTo>
                    <a:lnTo>
                      <a:pt x="192" y="474"/>
                    </a:lnTo>
                    <a:lnTo>
                      <a:pt x="180" y="449"/>
                    </a:lnTo>
                    <a:lnTo>
                      <a:pt x="170" y="425"/>
                    </a:lnTo>
                    <a:lnTo>
                      <a:pt x="160" y="401"/>
                    </a:lnTo>
                    <a:lnTo>
                      <a:pt x="151" y="375"/>
                    </a:lnTo>
                    <a:lnTo>
                      <a:pt x="142" y="351"/>
                    </a:lnTo>
                    <a:lnTo>
                      <a:pt x="134" y="325"/>
                    </a:lnTo>
                    <a:lnTo>
                      <a:pt x="126" y="299"/>
                    </a:lnTo>
                    <a:lnTo>
                      <a:pt x="119" y="273"/>
                    </a:lnTo>
                    <a:lnTo>
                      <a:pt x="112" y="248"/>
                    </a:lnTo>
                    <a:lnTo>
                      <a:pt x="106" y="220"/>
                    </a:lnTo>
                    <a:lnTo>
                      <a:pt x="101" y="194"/>
                    </a:lnTo>
                    <a:lnTo>
                      <a:pt x="97" y="167"/>
                    </a:lnTo>
                    <a:lnTo>
                      <a:pt x="93" y="139"/>
                    </a:lnTo>
                    <a:lnTo>
                      <a:pt x="90" y="112"/>
                    </a:lnTo>
                    <a:lnTo>
                      <a:pt x="87" y="85"/>
                    </a:lnTo>
                    <a:lnTo>
                      <a:pt x="86" y="57"/>
                    </a:lnTo>
                    <a:lnTo>
                      <a:pt x="85" y="29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57840" y="4826160"/>
                <a:ext cx="2880" cy="67320"/>
              </a:xfrm>
              <a:custGeom>
                <a:avLst/>
                <a:gdLst/>
                <a:ahLst/>
                <a:rect l="l" t="t" r="r" b="b"/>
                <a:pathLst>
                  <a:path w="84" h="2323">
                    <a:moveTo>
                      <a:pt x="84" y="0"/>
                    </a:moveTo>
                    <a:lnTo>
                      <a:pt x="0" y="0"/>
                    </a:lnTo>
                    <a:lnTo>
                      <a:pt x="0" y="2323"/>
                    </a:lnTo>
                    <a:lnTo>
                      <a:pt x="84" y="2323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57840" y="4792320"/>
                <a:ext cx="4356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1175" y="0"/>
                    </a:moveTo>
                    <a:lnTo>
                      <a:pt x="1175" y="0"/>
                    </a:lnTo>
                    <a:lnTo>
                      <a:pt x="1145" y="1"/>
                    </a:lnTo>
                    <a:lnTo>
                      <a:pt x="1115" y="2"/>
                    </a:lnTo>
                    <a:lnTo>
                      <a:pt x="1085" y="4"/>
                    </a:lnTo>
                    <a:lnTo>
                      <a:pt x="1055" y="6"/>
                    </a:lnTo>
                    <a:lnTo>
                      <a:pt x="1025" y="10"/>
                    </a:lnTo>
                    <a:lnTo>
                      <a:pt x="996" y="14"/>
                    </a:lnTo>
                    <a:lnTo>
                      <a:pt x="968" y="18"/>
                    </a:lnTo>
                    <a:lnTo>
                      <a:pt x="938" y="25"/>
                    </a:lnTo>
                    <a:lnTo>
                      <a:pt x="910" y="31"/>
                    </a:lnTo>
                    <a:lnTo>
                      <a:pt x="882" y="38"/>
                    </a:lnTo>
                    <a:lnTo>
                      <a:pt x="853" y="45"/>
                    </a:lnTo>
                    <a:lnTo>
                      <a:pt x="826" y="54"/>
                    </a:lnTo>
                    <a:lnTo>
                      <a:pt x="798" y="62"/>
                    </a:lnTo>
                    <a:lnTo>
                      <a:pt x="771" y="72"/>
                    </a:lnTo>
                    <a:lnTo>
                      <a:pt x="745" y="82"/>
                    </a:lnTo>
                    <a:lnTo>
                      <a:pt x="717" y="93"/>
                    </a:lnTo>
                    <a:lnTo>
                      <a:pt x="691" y="105"/>
                    </a:lnTo>
                    <a:lnTo>
                      <a:pt x="666" y="117"/>
                    </a:lnTo>
                    <a:lnTo>
                      <a:pt x="640" y="129"/>
                    </a:lnTo>
                    <a:lnTo>
                      <a:pt x="615" y="142"/>
                    </a:lnTo>
                    <a:lnTo>
                      <a:pt x="590" y="156"/>
                    </a:lnTo>
                    <a:lnTo>
                      <a:pt x="565" y="170"/>
                    </a:lnTo>
                    <a:lnTo>
                      <a:pt x="542" y="186"/>
                    </a:lnTo>
                    <a:lnTo>
                      <a:pt x="518" y="201"/>
                    </a:lnTo>
                    <a:lnTo>
                      <a:pt x="494" y="217"/>
                    </a:lnTo>
                    <a:lnTo>
                      <a:pt x="472" y="234"/>
                    </a:lnTo>
                    <a:lnTo>
                      <a:pt x="450" y="252"/>
                    </a:lnTo>
                    <a:lnTo>
                      <a:pt x="428" y="269"/>
                    </a:lnTo>
                    <a:lnTo>
                      <a:pt x="406" y="287"/>
                    </a:lnTo>
                    <a:lnTo>
                      <a:pt x="385" y="306"/>
                    </a:lnTo>
                    <a:lnTo>
                      <a:pt x="365" y="326"/>
                    </a:lnTo>
                    <a:lnTo>
                      <a:pt x="345" y="345"/>
                    </a:lnTo>
                    <a:lnTo>
                      <a:pt x="324" y="365"/>
                    </a:lnTo>
                    <a:lnTo>
                      <a:pt x="305" y="385"/>
                    </a:lnTo>
                    <a:lnTo>
                      <a:pt x="287" y="407"/>
                    </a:lnTo>
                    <a:lnTo>
                      <a:pt x="269" y="428"/>
                    </a:lnTo>
                    <a:lnTo>
                      <a:pt x="250" y="450"/>
                    </a:lnTo>
                    <a:lnTo>
                      <a:pt x="233" y="472"/>
                    </a:lnTo>
                    <a:lnTo>
                      <a:pt x="217" y="496"/>
                    </a:lnTo>
                    <a:lnTo>
                      <a:pt x="201" y="519"/>
                    </a:lnTo>
                    <a:lnTo>
                      <a:pt x="185" y="542"/>
                    </a:lnTo>
                    <a:lnTo>
                      <a:pt x="170" y="567"/>
                    </a:lnTo>
                    <a:lnTo>
                      <a:pt x="156" y="591"/>
                    </a:lnTo>
                    <a:lnTo>
                      <a:pt x="142" y="615"/>
                    </a:lnTo>
                    <a:lnTo>
                      <a:pt x="129" y="641"/>
                    </a:lnTo>
                    <a:lnTo>
                      <a:pt x="116" y="666"/>
                    </a:lnTo>
                    <a:lnTo>
                      <a:pt x="103" y="692"/>
                    </a:lnTo>
                    <a:lnTo>
                      <a:pt x="92" y="719"/>
                    </a:lnTo>
                    <a:lnTo>
                      <a:pt x="81" y="745"/>
                    </a:lnTo>
                    <a:lnTo>
                      <a:pt x="71" y="771"/>
                    </a:lnTo>
                    <a:lnTo>
                      <a:pt x="62" y="799"/>
                    </a:lnTo>
                    <a:lnTo>
                      <a:pt x="53" y="826"/>
                    </a:lnTo>
                    <a:lnTo>
                      <a:pt x="45" y="854"/>
                    </a:lnTo>
                    <a:lnTo>
                      <a:pt x="36" y="882"/>
                    </a:lnTo>
                    <a:lnTo>
                      <a:pt x="30" y="910"/>
                    </a:lnTo>
                    <a:lnTo>
                      <a:pt x="24" y="939"/>
                    </a:lnTo>
                    <a:lnTo>
                      <a:pt x="18" y="968"/>
                    </a:lnTo>
                    <a:lnTo>
                      <a:pt x="13" y="997"/>
                    </a:lnTo>
                    <a:lnTo>
                      <a:pt x="9" y="1027"/>
                    </a:lnTo>
                    <a:lnTo>
                      <a:pt x="6" y="1056"/>
                    </a:lnTo>
                    <a:lnTo>
                      <a:pt x="3" y="1086"/>
                    </a:lnTo>
                    <a:lnTo>
                      <a:pt x="2" y="1116"/>
                    </a:lnTo>
                    <a:lnTo>
                      <a:pt x="0" y="1145"/>
                    </a:lnTo>
                    <a:lnTo>
                      <a:pt x="0" y="1176"/>
                    </a:lnTo>
                    <a:lnTo>
                      <a:pt x="84" y="1176"/>
                    </a:lnTo>
                    <a:lnTo>
                      <a:pt x="85" y="1147"/>
                    </a:lnTo>
                    <a:lnTo>
                      <a:pt x="86" y="1120"/>
                    </a:lnTo>
                    <a:lnTo>
                      <a:pt x="87" y="1092"/>
                    </a:lnTo>
                    <a:lnTo>
                      <a:pt x="90" y="1064"/>
                    </a:lnTo>
                    <a:lnTo>
                      <a:pt x="93" y="1037"/>
                    </a:lnTo>
                    <a:lnTo>
                      <a:pt x="97" y="1010"/>
                    </a:lnTo>
                    <a:lnTo>
                      <a:pt x="101" y="983"/>
                    </a:lnTo>
                    <a:lnTo>
                      <a:pt x="106" y="956"/>
                    </a:lnTo>
                    <a:lnTo>
                      <a:pt x="112" y="929"/>
                    </a:lnTo>
                    <a:lnTo>
                      <a:pt x="119" y="903"/>
                    </a:lnTo>
                    <a:lnTo>
                      <a:pt x="126" y="877"/>
                    </a:lnTo>
                    <a:lnTo>
                      <a:pt x="134" y="851"/>
                    </a:lnTo>
                    <a:lnTo>
                      <a:pt x="142" y="826"/>
                    </a:lnTo>
                    <a:lnTo>
                      <a:pt x="151" y="801"/>
                    </a:lnTo>
                    <a:lnTo>
                      <a:pt x="160" y="775"/>
                    </a:lnTo>
                    <a:lnTo>
                      <a:pt x="170" y="751"/>
                    </a:lnTo>
                    <a:lnTo>
                      <a:pt x="180" y="727"/>
                    </a:lnTo>
                    <a:lnTo>
                      <a:pt x="192" y="703"/>
                    </a:lnTo>
                    <a:lnTo>
                      <a:pt x="204" y="679"/>
                    </a:lnTo>
                    <a:lnTo>
                      <a:pt x="216" y="656"/>
                    </a:lnTo>
                    <a:lnTo>
                      <a:pt x="229" y="633"/>
                    </a:lnTo>
                    <a:lnTo>
                      <a:pt x="242" y="610"/>
                    </a:lnTo>
                    <a:lnTo>
                      <a:pt x="256" y="588"/>
                    </a:lnTo>
                    <a:lnTo>
                      <a:pt x="271" y="566"/>
                    </a:lnTo>
                    <a:lnTo>
                      <a:pt x="286" y="544"/>
                    </a:lnTo>
                    <a:lnTo>
                      <a:pt x="301" y="523"/>
                    </a:lnTo>
                    <a:lnTo>
                      <a:pt x="317" y="503"/>
                    </a:lnTo>
                    <a:lnTo>
                      <a:pt x="333" y="483"/>
                    </a:lnTo>
                    <a:lnTo>
                      <a:pt x="351" y="462"/>
                    </a:lnTo>
                    <a:lnTo>
                      <a:pt x="368" y="442"/>
                    </a:lnTo>
                    <a:lnTo>
                      <a:pt x="385" y="423"/>
                    </a:lnTo>
                    <a:lnTo>
                      <a:pt x="404" y="405"/>
                    </a:lnTo>
                    <a:lnTo>
                      <a:pt x="423" y="386"/>
                    </a:lnTo>
                    <a:lnTo>
                      <a:pt x="442" y="368"/>
                    </a:lnTo>
                    <a:lnTo>
                      <a:pt x="461" y="351"/>
                    </a:lnTo>
                    <a:lnTo>
                      <a:pt x="481" y="334"/>
                    </a:lnTo>
                    <a:lnTo>
                      <a:pt x="502" y="317"/>
                    </a:lnTo>
                    <a:lnTo>
                      <a:pt x="523" y="302"/>
                    </a:lnTo>
                    <a:lnTo>
                      <a:pt x="544" y="286"/>
                    </a:lnTo>
                    <a:lnTo>
                      <a:pt x="565" y="272"/>
                    </a:lnTo>
                    <a:lnTo>
                      <a:pt x="587" y="257"/>
                    </a:lnTo>
                    <a:lnTo>
                      <a:pt x="609" y="242"/>
                    </a:lnTo>
                    <a:lnTo>
                      <a:pt x="632" y="229"/>
                    </a:lnTo>
                    <a:lnTo>
                      <a:pt x="656" y="217"/>
                    </a:lnTo>
                    <a:lnTo>
                      <a:pt x="679" y="204"/>
                    </a:lnTo>
                    <a:lnTo>
                      <a:pt x="702" y="193"/>
                    </a:lnTo>
                    <a:lnTo>
                      <a:pt x="727" y="182"/>
                    </a:lnTo>
                    <a:lnTo>
                      <a:pt x="751" y="170"/>
                    </a:lnTo>
                    <a:lnTo>
                      <a:pt x="775" y="160"/>
                    </a:lnTo>
                    <a:lnTo>
                      <a:pt x="800" y="151"/>
                    </a:lnTo>
                    <a:lnTo>
                      <a:pt x="825" y="142"/>
                    </a:lnTo>
                    <a:lnTo>
                      <a:pt x="851" y="134"/>
                    </a:lnTo>
                    <a:lnTo>
                      <a:pt x="876" y="127"/>
                    </a:lnTo>
                    <a:lnTo>
                      <a:pt x="902" y="119"/>
                    </a:lnTo>
                    <a:lnTo>
                      <a:pt x="928" y="113"/>
                    </a:lnTo>
                    <a:lnTo>
                      <a:pt x="955" y="107"/>
                    </a:lnTo>
                    <a:lnTo>
                      <a:pt x="982" y="103"/>
                    </a:lnTo>
                    <a:lnTo>
                      <a:pt x="1009" y="97"/>
                    </a:lnTo>
                    <a:lnTo>
                      <a:pt x="1037" y="93"/>
                    </a:lnTo>
                    <a:lnTo>
                      <a:pt x="1063" y="90"/>
                    </a:lnTo>
                    <a:lnTo>
                      <a:pt x="1091" y="88"/>
                    </a:lnTo>
                    <a:lnTo>
                      <a:pt x="1119" y="86"/>
                    </a:lnTo>
                    <a:lnTo>
                      <a:pt x="1147" y="85"/>
                    </a:lnTo>
                    <a:lnTo>
                      <a:pt x="1175" y="85"/>
                    </a:lnTo>
                    <a:lnTo>
                      <a:pt x="1175" y="85"/>
                    </a:lnTo>
                    <a:lnTo>
                      <a:pt x="1175" y="0"/>
                    </a:lnTo>
                    <a:lnTo>
                      <a:pt x="1175" y="0"/>
                    </a:lnTo>
                    <a:lnTo>
                      <a:pt x="1175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701400" y="4792320"/>
                <a:ext cx="442440" cy="2160"/>
              </a:xfrm>
              <a:custGeom>
                <a:avLst/>
                <a:gdLst/>
                <a:ahLst/>
                <a:rect l="l" t="t" r="r" b="b"/>
                <a:pathLst>
                  <a:path w="11895" h="85">
                    <a:moveTo>
                      <a:pt x="11895" y="85"/>
                    </a:moveTo>
                    <a:lnTo>
                      <a:pt x="11895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1895" y="85"/>
                    </a:lnTo>
                    <a:lnTo>
                      <a:pt x="11895" y="85"/>
                    </a:lnTo>
                    <a:lnTo>
                      <a:pt x="11895" y="0"/>
                    </a:lnTo>
                    <a:lnTo>
                      <a:pt x="11895" y="0"/>
                    </a:lnTo>
                    <a:lnTo>
                      <a:pt x="11895" y="0"/>
                    </a:lnTo>
                    <a:lnTo>
                      <a:pt x="11895" y="85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43840" y="4792320"/>
                <a:ext cx="4356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1175" y="1176"/>
                    </a:moveTo>
                    <a:lnTo>
                      <a:pt x="1175" y="1176"/>
                    </a:lnTo>
                    <a:lnTo>
                      <a:pt x="1175" y="1145"/>
                    </a:lnTo>
                    <a:lnTo>
                      <a:pt x="1173" y="1115"/>
                    </a:lnTo>
                    <a:lnTo>
                      <a:pt x="1172" y="1086"/>
                    </a:lnTo>
                    <a:lnTo>
                      <a:pt x="1169" y="1056"/>
                    </a:lnTo>
                    <a:lnTo>
                      <a:pt x="1165" y="1027"/>
                    </a:lnTo>
                    <a:lnTo>
                      <a:pt x="1162" y="997"/>
                    </a:lnTo>
                    <a:lnTo>
                      <a:pt x="1157" y="968"/>
                    </a:lnTo>
                    <a:lnTo>
                      <a:pt x="1151" y="939"/>
                    </a:lnTo>
                    <a:lnTo>
                      <a:pt x="1145" y="910"/>
                    </a:lnTo>
                    <a:lnTo>
                      <a:pt x="1138" y="882"/>
                    </a:lnTo>
                    <a:lnTo>
                      <a:pt x="1131" y="854"/>
                    </a:lnTo>
                    <a:lnTo>
                      <a:pt x="1123" y="826"/>
                    </a:lnTo>
                    <a:lnTo>
                      <a:pt x="1113" y="799"/>
                    </a:lnTo>
                    <a:lnTo>
                      <a:pt x="1104" y="772"/>
                    </a:lnTo>
                    <a:lnTo>
                      <a:pt x="1093" y="745"/>
                    </a:lnTo>
                    <a:lnTo>
                      <a:pt x="1083" y="719"/>
                    </a:lnTo>
                    <a:lnTo>
                      <a:pt x="1071" y="692"/>
                    </a:lnTo>
                    <a:lnTo>
                      <a:pt x="1059" y="666"/>
                    </a:lnTo>
                    <a:lnTo>
                      <a:pt x="1047" y="641"/>
                    </a:lnTo>
                    <a:lnTo>
                      <a:pt x="1033" y="615"/>
                    </a:lnTo>
                    <a:lnTo>
                      <a:pt x="1019" y="591"/>
                    </a:lnTo>
                    <a:lnTo>
                      <a:pt x="1005" y="567"/>
                    </a:lnTo>
                    <a:lnTo>
                      <a:pt x="990" y="542"/>
                    </a:lnTo>
                    <a:lnTo>
                      <a:pt x="975" y="519"/>
                    </a:lnTo>
                    <a:lnTo>
                      <a:pt x="958" y="496"/>
                    </a:lnTo>
                    <a:lnTo>
                      <a:pt x="942" y="472"/>
                    </a:lnTo>
                    <a:lnTo>
                      <a:pt x="925" y="450"/>
                    </a:lnTo>
                    <a:lnTo>
                      <a:pt x="907" y="428"/>
                    </a:lnTo>
                    <a:lnTo>
                      <a:pt x="889" y="407"/>
                    </a:lnTo>
                    <a:lnTo>
                      <a:pt x="870" y="385"/>
                    </a:lnTo>
                    <a:lnTo>
                      <a:pt x="851" y="365"/>
                    </a:lnTo>
                    <a:lnTo>
                      <a:pt x="831" y="345"/>
                    </a:lnTo>
                    <a:lnTo>
                      <a:pt x="811" y="326"/>
                    </a:lnTo>
                    <a:lnTo>
                      <a:pt x="790" y="306"/>
                    </a:lnTo>
                    <a:lnTo>
                      <a:pt x="769" y="287"/>
                    </a:lnTo>
                    <a:lnTo>
                      <a:pt x="748" y="269"/>
                    </a:lnTo>
                    <a:lnTo>
                      <a:pt x="725" y="252"/>
                    </a:lnTo>
                    <a:lnTo>
                      <a:pt x="703" y="234"/>
                    </a:lnTo>
                    <a:lnTo>
                      <a:pt x="681" y="217"/>
                    </a:lnTo>
                    <a:lnTo>
                      <a:pt x="658" y="201"/>
                    </a:lnTo>
                    <a:lnTo>
                      <a:pt x="633" y="186"/>
                    </a:lnTo>
                    <a:lnTo>
                      <a:pt x="609" y="170"/>
                    </a:lnTo>
                    <a:lnTo>
                      <a:pt x="585" y="156"/>
                    </a:lnTo>
                    <a:lnTo>
                      <a:pt x="560" y="143"/>
                    </a:lnTo>
                    <a:lnTo>
                      <a:pt x="535" y="129"/>
                    </a:lnTo>
                    <a:lnTo>
                      <a:pt x="510" y="117"/>
                    </a:lnTo>
                    <a:lnTo>
                      <a:pt x="483" y="105"/>
                    </a:lnTo>
                    <a:lnTo>
                      <a:pt x="458" y="93"/>
                    </a:lnTo>
                    <a:lnTo>
                      <a:pt x="431" y="82"/>
                    </a:lnTo>
                    <a:lnTo>
                      <a:pt x="404" y="72"/>
                    </a:lnTo>
                    <a:lnTo>
                      <a:pt x="377" y="62"/>
                    </a:lnTo>
                    <a:lnTo>
                      <a:pt x="349" y="54"/>
                    </a:lnTo>
                    <a:lnTo>
                      <a:pt x="321" y="45"/>
                    </a:lnTo>
                    <a:lnTo>
                      <a:pt x="294" y="38"/>
                    </a:lnTo>
                    <a:lnTo>
                      <a:pt x="265" y="31"/>
                    </a:lnTo>
                    <a:lnTo>
                      <a:pt x="237" y="25"/>
                    </a:lnTo>
                    <a:lnTo>
                      <a:pt x="208" y="18"/>
                    </a:lnTo>
                    <a:lnTo>
                      <a:pt x="179" y="14"/>
                    </a:lnTo>
                    <a:lnTo>
                      <a:pt x="150" y="10"/>
                    </a:lnTo>
                    <a:lnTo>
                      <a:pt x="119" y="6"/>
                    </a:lnTo>
                    <a:lnTo>
                      <a:pt x="90" y="4"/>
                    </a:lnTo>
                    <a:lnTo>
                      <a:pt x="61" y="2"/>
                    </a:lnTo>
                    <a:lnTo>
                      <a:pt x="30" y="1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28" y="85"/>
                    </a:lnTo>
                    <a:lnTo>
                      <a:pt x="56" y="86"/>
                    </a:lnTo>
                    <a:lnTo>
                      <a:pt x="84" y="88"/>
                    </a:lnTo>
                    <a:lnTo>
                      <a:pt x="111" y="90"/>
                    </a:lnTo>
                    <a:lnTo>
                      <a:pt x="139" y="93"/>
                    </a:lnTo>
                    <a:lnTo>
                      <a:pt x="166" y="97"/>
                    </a:lnTo>
                    <a:lnTo>
                      <a:pt x="193" y="103"/>
                    </a:lnTo>
                    <a:lnTo>
                      <a:pt x="220" y="107"/>
                    </a:lnTo>
                    <a:lnTo>
                      <a:pt x="246" y="113"/>
                    </a:lnTo>
                    <a:lnTo>
                      <a:pt x="272" y="119"/>
                    </a:lnTo>
                    <a:lnTo>
                      <a:pt x="299" y="127"/>
                    </a:lnTo>
                    <a:lnTo>
                      <a:pt x="324" y="134"/>
                    </a:lnTo>
                    <a:lnTo>
                      <a:pt x="349" y="142"/>
                    </a:lnTo>
                    <a:lnTo>
                      <a:pt x="375" y="151"/>
                    </a:lnTo>
                    <a:lnTo>
                      <a:pt x="400" y="160"/>
                    </a:lnTo>
                    <a:lnTo>
                      <a:pt x="424" y="170"/>
                    </a:lnTo>
                    <a:lnTo>
                      <a:pt x="449" y="182"/>
                    </a:lnTo>
                    <a:lnTo>
                      <a:pt x="473" y="193"/>
                    </a:lnTo>
                    <a:lnTo>
                      <a:pt x="496" y="204"/>
                    </a:lnTo>
                    <a:lnTo>
                      <a:pt x="520" y="217"/>
                    </a:lnTo>
                    <a:lnTo>
                      <a:pt x="543" y="229"/>
                    </a:lnTo>
                    <a:lnTo>
                      <a:pt x="565" y="242"/>
                    </a:lnTo>
                    <a:lnTo>
                      <a:pt x="588" y="257"/>
                    </a:lnTo>
                    <a:lnTo>
                      <a:pt x="610" y="272"/>
                    </a:lnTo>
                    <a:lnTo>
                      <a:pt x="631" y="286"/>
                    </a:lnTo>
                    <a:lnTo>
                      <a:pt x="652" y="302"/>
                    </a:lnTo>
                    <a:lnTo>
                      <a:pt x="674" y="317"/>
                    </a:lnTo>
                    <a:lnTo>
                      <a:pt x="694" y="334"/>
                    </a:lnTo>
                    <a:lnTo>
                      <a:pt x="714" y="351"/>
                    </a:lnTo>
                    <a:lnTo>
                      <a:pt x="734" y="368"/>
                    </a:lnTo>
                    <a:lnTo>
                      <a:pt x="753" y="386"/>
                    </a:lnTo>
                    <a:lnTo>
                      <a:pt x="771" y="405"/>
                    </a:lnTo>
                    <a:lnTo>
                      <a:pt x="789" y="423"/>
                    </a:lnTo>
                    <a:lnTo>
                      <a:pt x="807" y="442"/>
                    </a:lnTo>
                    <a:lnTo>
                      <a:pt x="825" y="462"/>
                    </a:lnTo>
                    <a:lnTo>
                      <a:pt x="842" y="483"/>
                    </a:lnTo>
                    <a:lnTo>
                      <a:pt x="858" y="503"/>
                    </a:lnTo>
                    <a:lnTo>
                      <a:pt x="874" y="523"/>
                    </a:lnTo>
                    <a:lnTo>
                      <a:pt x="890" y="544"/>
                    </a:lnTo>
                    <a:lnTo>
                      <a:pt x="905" y="566"/>
                    </a:lnTo>
                    <a:lnTo>
                      <a:pt x="919" y="588"/>
                    </a:lnTo>
                    <a:lnTo>
                      <a:pt x="933" y="610"/>
                    </a:lnTo>
                    <a:lnTo>
                      <a:pt x="946" y="633"/>
                    </a:lnTo>
                    <a:lnTo>
                      <a:pt x="959" y="656"/>
                    </a:lnTo>
                    <a:lnTo>
                      <a:pt x="972" y="679"/>
                    </a:lnTo>
                    <a:lnTo>
                      <a:pt x="984" y="703"/>
                    </a:lnTo>
                    <a:lnTo>
                      <a:pt x="995" y="727"/>
                    </a:lnTo>
                    <a:lnTo>
                      <a:pt x="1005" y="751"/>
                    </a:lnTo>
                    <a:lnTo>
                      <a:pt x="1015" y="775"/>
                    </a:lnTo>
                    <a:lnTo>
                      <a:pt x="1024" y="801"/>
                    </a:lnTo>
                    <a:lnTo>
                      <a:pt x="1033" y="826"/>
                    </a:lnTo>
                    <a:lnTo>
                      <a:pt x="1042" y="851"/>
                    </a:lnTo>
                    <a:lnTo>
                      <a:pt x="1050" y="877"/>
                    </a:lnTo>
                    <a:lnTo>
                      <a:pt x="1057" y="903"/>
                    </a:lnTo>
                    <a:lnTo>
                      <a:pt x="1063" y="929"/>
                    </a:lnTo>
                    <a:lnTo>
                      <a:pt x="1069" y="956"/>
                    </a:lnTo>
                    <a:lnTo>
                      <a:pt x="1074" y="982"/>
                    </a:lnTo>
                    <a:lnTo>
                      <a:pt x="1078" y="1010"/>
                    </a:lnTo>
                    <a:lnTo>
                      <a:pt x="1082" y="1037"/>
                    </a:lnTo>
                    <a:lnTo>
                      <a:pt x="1085" y="1064"/>
                    </a:lnTo>
                    <a:lnTo>
                      <a:pt x="1087" y="1092"/>
                    </a:lnTo>
                    <a:lnTo>
                      <a:pt x="1089" y="1120"/>
                    </a:lnTo>
                    <a:lnTo>
                      <a:pt x="1090" y="1147"/>
                    </a:lnTo>
                    <a:lnTo>
                      <a:pt x="1091" y="1176"/>
                    </a:lnTo>
                    <a:lnTo>
                      <a:pt x="1091" y="1176"/>
                    </a:lnTo>
                    <a:lnTo>
                      <a:pt x="1175" y="1176"/>
                    </a:lnTo>
                    <a:lnTo>
                      <a:pt x="1175" y="1176"/>
                    </a:lnTo>
                    <a:lnTo>
                      <a:pt x="1175" y="1176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84520" y="4826160"/>
                <a:ext cx="2880" cy="67320"/>
              </a:xfrm>
              <a:custGeom>
                <a:avLst/>
                <a:gdLst/>
                <a:ahLst/>
                <a:rect l="l" t="t" r="r" b="b"/>
                <a:pathLst>
                  <a:path w="84" h="2323">
                    <a:moveTo>
                      <a:pt x="0" y="2323"/>
                    </a:moveTo>
                    <a:lnTo>
                      <a:pt x="84" y="23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2323"/>
                    </a:lnTo>
                    <a:lnTo>
                      <a:pt x="0" y="2323"/>
                    </a:lnTo>
                    <a:lnTo>
                      <a:pt x="84" y="2323"/>
                    </a:lnTo>
                    <a:lnTo>
                      <a:pt x="84" y="2323"/>
                    </a:lnTo>
                    <a:lnTo>
                      <a:pt x="84" y="2323"/>
                    </a:lnTo>
                    <a:lnTo>
                      <a:pt x="0" y="2323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548760" y="4826160"/>
              <a:ext cx="131688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77160" y="533412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6600"/>
                  </a:solidFill>
                  <a:latin typeface="Verdana"/>
                  <a:ea typeface="Times New Roman"/>
                </a:rPr>
                <a:t> </a:t>
              </a:r>
              <a:r>
                <a:rPr b="0" lang="fr-BE" sz="1600" spc="-1" strike="noStrike">
                  <a:solidFill>
                    <a:srgbClr val="006600"/>
                  </a:solidFill>
                  <a:latin typeface="Verdana"/>
                  <a:ea typeface="Times New Roman"/>
                </a:rPr>
                <a:t>λ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07080" y="441972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λ3to λ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5945040" y="5740560"/>
              <a:ext cx="603360" cy="203040"/>
              <a:chOff x="5945040" y="5740560"/>
              <a:chExt cx="603360" cy="203040"/>
            </a:xfrm>
          </p:grpSpPr>
          <p:sp>
            <p:nvSpPr>
              <p:cNvPr id="412" name=""/>
              <p:cNvSpPr/>
              <p:nvPr/>
            </p:nvSpPr>
            <p:spPr>
              <a:xfrm>
                <a:off x="5945760" y="5808960"/>
                <a:ext cx="526680" cy="133200"/>
              </a:xfrm>
              <a:custGeom>
                <a:avLst/>
                <a:gdLst/>
                <a:ahLst/>
                <a:rect l="l" t="t" r="r" b="b"/>
                <a:pathLst>
                  <a:path w="14160" h="4589">
                    <a:moveTo>
                      <a:pt x="14160" y="3456"/>
                    </a:moveTo>
                    <a:lnTo>
                      <a:pt x="14159" y="3515"/>
                    </a:lnTo>
                    <a:lnTo>
                      <a:pt x="14155" y="3573"/>
                    </a:lnTo>
                    <a:lnTo>
                      <a:pt x="14147" y="3630"/>
                    </a:lnTo>
                    <a:lnTo>
                      <a:pt x="14137" y="3685"/>
                    </a:lnTo>
                    <a:lnTo>
                      <a:pt x="14124" y="3740"/>
                    </a:lnTo>
                    <a:lnTo>
                      <a:pt x="14109" y="3794"/>
                    </a:lnTo>
                    <a:lnTo>
                      <a:pt x="14091" y="3847"/>
                    </a:lnTo>
                    <a:lnTo>
                      <a:pt x="14071" y="3897"/>
                    </a:lnTo>
                    <a:lnTo>
                      <a:pt x="14048" y="3948"/>
                    </a:lnTo>
                    <a:lnTo>
                      <a:pt x="14023" y="3997"/>
                    </a:lnTo>
                    <a:lnTo>
                      <a:pt x="13996" y="4044"/>
                    </a:lnTo>
                    <a:lnTo>
                      <a:pt x="13966" y="4090"/>
                    </a:lnTo>
                    <a:lnTo>
                      <a:pt x="13935" y="4134"/>
                    </a:lnTo>
                    <a:lnTo>
                      <a:pt x="13901" y="4177"/>
                    </a:lnTo>
                    <a:lnTo>
                      <a:pt x="13866" y="4219"/>
                    </a:lnTo>
                    <a:lnTo>
                      <a:pt x="13828" y="4258"/>
                    </a:lnTo>
                    <a:lnTo>
                      <a:pt x="13789" y="4296"/>
                    </a:lnTo>
                    <a:lnTo>
                      <a:pt x="13747" y="4331"/>
                    </a:lnTo>
                    <a:lnTo>
                      <a:pt x="13705" y="4364"/>
                    </a:lnTo>
                    <a:lnTo>
                      <a:pt x="13660" y="4396"/>
                    </a:lnTo>
                    <a:lnTo>
                      <a:pt x="13615" y="4425"/>
                    </a:lnTo>
                    <a:lnTo>
                      <a:pt x="13567" y="4453"/>
                    </a:lnTo>
                    <a:lnTo>
                      <a:pt x="13518" y="4478"/>
                    </a:lnTo>
                    <a:lnTo>
                      <a:pt x="13468" y="4500"/>
                    </a:lnTo>
                    <a:lnTo>
                      <a:pt x="13417" y="4522"/>
                    </a:lnTo>
                    <a:lnTo>
                      <a:pt x="13364" y="4539"/>
                    </a:lnTo>
                    <a:lnTo>
                      <a:pt x="13311" y="4554"/>
                    </a:lnTo>
                    <a:lnTo>
                      <a:pt x="13255" y="4567"/>
                    </a:lnTo>
                    <a:lnTo>
                      <a:pt x="13199" y="4576"/>
                    </a:lnTo>
                    <a:lnTo>
                      <a:pt x="13142" y="4584"/>
                    </a:lnTo>
                    <a:lnTo>
                      <a:pt x="13086" y="4588"/>
                    </a:lnTo>
                    <a:lnTo>
                      <a:pt x="13027" y="4589"/>
                    </a:lnTo>
                    <a:lnTo>
                      <a:pt x="1132" y="4589"/>
                    </a:lnTo>
                    <a:lnTo>
                      <a:pt x="1074" y="4588"/>
                    </a:lnTo>
                    <a:lnTo>
                      <a:pt x="1016" y="4584"/>
                    </a:lnTo>
                    <a:lnTo>
                      <a:pt x="959" y="4576"/>
                    </a:lnTo>
                    <a:lnTo>
                      <a:pt x="903" y="4567"/>
                    </a:lnTo>
                    <a:lnTo>
                      <a:pt x="849" y="4554"/>
                    </a:lnTo>
                    <a:lnTo>
                      <a:pt x="795" y="4539"/>
                    </a:lnTo>
                    <a:lnTo>
                      <a:pt x="742" y="4522"/>
                    </a:lnTo>
                    <a:lnTo>
                      <a:pt x="691" y="4500"/>
                    </a:lnTo>
                    <a:lnTo>
                      <a:pt x="641" y="4478"/>
                    </a:lnTo>
                    <a:lnTo>
                      <a:pt x="592" y="4453"/>
                    </a:lnTo>
                    <a:lnTo>
                      <a:pt x="545" y="4425"/>
                    </a:lnTo>
                    <a:lnTo>
                      <a:pt x="499" y="4396"/>
                    </a:lnTo>
                    <a:lnTo>
                      <a:pt x="455" y="4364"/>
                    </a:lnTo>
                    <a:lnTo>
                      <a:pt x="411" y="4331"/>
                    </a:lnTo>
                    <a:lnTo>
                      <a:pt x="370" y="4296"/>
                    </a:lnTo>
                    <a:lnTo>
                      <a:pt x="331" y="4258"/>
                    </a:lnTo>
                    <a:lnTo>
                      <a:pt x="293" y="4219"/>
                    </a:lnTo>
                    <a:lnTo>
                      <a:pt x="258" y="4177"/>
                    </a:lnTo>
                    <a:lnTo>
                      <a:pt x="224" y="4134"/>
                    </a:lnTo>
                    <a:lnTo>
                      <a:pt x="193" y="4090"/>
                    </a:lnTo>
                    <a:lnTo>
                      <a:pt x="163" y="4044"/>
                    </a:lnTo>
                    <a:lnTo>
                      <a:pt x="136" y="3997"/>
                    </a:lnTo>
                    <a:lnTo>
                      <a:pt x="111" y="3948"/>
                    </a:lnTo>
                    <a:lnTo>
                      <a:pt x="89" y="3897"/>
                    </a:lnTo>
                    <a:lnTo>
                      <a:pt x="67" y="3847"/>
                    </a:lnTo>
                    <a:lnTo>
                      <a:pt x="50" y="3794"/>
                    </a:lnTo>
                    <a:lnTo>
                      <a:pt x="35" y="3740"/>
                    </a:lnTo>
                    <a:lnTo>
                      <a:pt x="22" y="3685"/>
                    </a:lnTo>
                    <a:lnTo>
                      <a:pt x="13" y="3630"/>
                    </a:lnTo>
                    <a:lnTo>
                      <a:pt x="5" y="3573"/>
                    </a:lnTo>
                    <a:lnTo>
                      <a:pt x="1" y="3515"/>
                    </a:lnTo>
                    <a:lnTo>
                      <a:pt x="0" y="3456"/>
                    </a:lnTo>
                    <a:lnTo>
                      <a:pt x="0" y="1133"/>
                    </a:lnTo>
                    <a:lnTo>
                      <a:pt x="1" y="1075"/>
                    </a:lnTo>
                    <a:lnTo>
                      <a:pt x="5" y="1017"/>
                    </a:lnTo>
                    <a:lnTo>
                      <a:pt x="13" y="960"/>
                    </a:lnTo>
                    <a:lnTo>
                      <a:pt x="22" y="905"/>
                    </a:lnTo>
                    <a:lnTo>
                      <a:pt x="35" y="850"/>
                    </a:lnTo>
                    <a:lnTo>
                      <a:pt x="50" y="796"/>
                    </a:lnTo>
                    <a:lnTo>
                      <a:pt x="67" y="744"/>
                    </a:lnTo>
                    <a:lnTo>
                      <a:pt x="89" y="692"/>
                    </a:lnTo>
                    <a:lnTo>
                      <a:pt x="111" y="641"/>
                    </a:lnTo>
                    <a:lnTo>
                      <a:pt x="136" y="593"/>
                    </a:lnTo>
                    <a:lnTo>
                      <a:pt x="163" y="545"/>
                    </a:lnTo>
                    <a:lnTo>
                      <a:pt x="193" y="499"/>
                    </a:lnTo>
                    <a:lnTo>
                      <a:pt x="224" y="455"/>
                    </a:lnTo>
                    <a:lnTo>
                      <a:pt x="258" y="412"/>
                    </a:lnTo>
                    <a:lnTo>
                      <a:pt x="293" y="371"/>
                    </a:lnTo>
                    <a:lnTo>
                      <a:pt x="331" y="332"/>
                    </a:lnTo>
                    <a:lnTo>
                      <a:pt x="370" y="295"/>
                    </a:lnTo>
                    <a:lnTo>
                      <a:pt x="411" y="258"/>
                    </a:lnTo>
                    <a:lnTo>
                      <a:pt x="455" y="225"/>
                    </a:lnTo>
                    <a:lnTo>
                      <a:pt x="499" y="193"/>
                    </a:lnTo>
                    <a:lnTo>
                      <a:pt x="545" y="164"/>
                    </a:lnTo>
                    <a:lnTo>
                      <a:pt x="592" y="137"/>
                    </a:lnTo>
                    <a:lnTo>
                      <a:pt x="641" y="111"/>
                    </a:lnTo>
                    <a:lnTo>
                      <a:pt x="691" y="89"/>
                    </a:lnTo>
                    <a:lnTo>
                      <a:pt x="742" y="69"/>
                    </a:lnTo>
                    <a:lnTo>
                      <a:pt x="795" y="50"/>
                    </a:lnTo>
                    <a:lnTo>
                      <a:pt x="849" y="35"/>
                    </a:lnTo>
                    <a:lnTo>
                      <a:pt x="903" y="23"/>
                    </a:lnTo>
                    <a:lnTo>
                      <a:pt x="959" y="13"/>
                    </a:lnTo>
                    <a:lnTo>
                      <a:pt x="1016" y="6"/>
                    </a:lnTo>
                    <a:lnTo>
                      <a:pt x="1074" y="1"/>
                    </a:lnTo>
                    <a:lnTo>
                      <a:pt x="1132" y="0"/>
                    </a:lnTo>
                    <a:lnTo>
                      <a:pt x="13027" y="0"/>
                    </a:lnTo>
                    <a:lnTo>
                      <a:pt x="13086" y="1"/>
                    </a:lnTo>
                    <a:lnTo>
                      <a:pt x="13142" y="6"/>
                    </a:lnTo>
                    <a:lnTo>
                      <a:pt x="13199" y="13"/>
                    </a:lnTo>
                    <a:lnTo>
                      <a:pt x="13255" y="23"/>
                    </a:lnTo>
                    <a:lnTo>
                      <a:pt x="13311" y="35"/>
                    </a:lnTo>
                    <a:lnTo>
                      <a:pt x="13364" y="50"/>
                    </a:lnTo>
                    <a:lnTo>
                      <a:pt x="13417" y="69"/>
                    </a:lnTo>
                    <a:lnTo>
                      <a:pt x="13468" y="89"/>
                    </a:lnTo>
                    <a:lnTo>
                      <a:pt x="13518" y="111"/>
                    </a:lnTo>
                    <a:lnTo>
                      <a:pt x="13567" y="137"/>
                    </a:lnTo>
                    <a:lnTo>
                      <a:pt x="13615" y="164"/>
                    </a:lnTo>
                    <a:lnTo>
                      <a:pt x="13660" y="193"/>
                    </a:lnTo>
                    <a:lnTo>
                      <a:pt x="13705" y="225"/>
                    </a:lnTo>
                    <a:lnTo>
                      <a:pt x="13747" y="258"/>
                    </a:lnTo>
                    <a:lnTo>
                      <a:pt x="13789" y="295"/>
                    </a:lnTo>
                    <a:lnTo>
                      <a:pt x="13828" y="332"/>
                    </a:lnTo>
                    <a:lnTo>
                      <a:pt x="13866" y="371"/>
                    </a:lnTo>
                    <a:lnTo>
                      <a:pt x="13901" y="412"/>
                    </a:lnTo>
                    <a:lnTo>
                      <a:pt x="13935" y="455"/>
                    </a:lnTo>
                    <a:lnTo>
                      <a:pt x="13966" y="499"/>
                    </a:lnTo>
                    <a:lnTo>
                      <a:pt x="13996" y="545"/>
                    </a:lnTo>
                    <a:lnTo>
                      <a:pt x="14023" y="593"/>
                    </a:lnTo>
                    <a:lnTo>
                      <a:pt x="14048" y="641"/>
                    </a:lnTo>
                    <a:lnTo>
                      <a:pt x="14071" y="692"/>
                    </a:lnTo>
                    <a:lnTo>
                      <a:pt x="14091" y="744"/>
                    </a:lnTo>
                    <a:lnTo>
                      <a:pt x="14109" y="796"/>
                    </a:lnTo>
                    <a:lnTo>
                      <a:pt x="14124" y="850"/>
                    </a:lnTo>
                    <a:lnTo>
                      <a:pt x="14137" y="905"/>
                    </a:lnTo>
                    <a:lnTo>
                      <a:pt x="14147" y="960"/>
                    </a:lnTo>
                    <a:lnTo>
                      <a:pt x="14155" y="1017"/>
                    </a:lnTo>
                    <a:lnTo>
                      <a:pt x="14159" y="1075"/>
                    </a:lnTo>
                    <a:lnTo>
                      <a:pt x="14160" y="1133"/>
                    </a:lnTo>
                    <a:lnTo>
                      <a:pt x="14160" y="3456"/>
                    </a:lnTo>
                    <a:close/>
                  </a:path>
                </a:pathLst>
              </a:custGeom>
              <a:solidFill>
                <a:srgbClr val="b6b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60520" y="5741280"/>
                <a:ext cx="573840" cy="81360"/>
              </a:xfrm>
              <a:custGeom>
                <a:avLst/>
                <a:gdLst/>
                <a:ahLst/>
                <a:rect l="l" t="t" r="r" b="b"/>
                <a:pathLst>
                  <a:path w="15410" h="2819">
                    <a:moveTo>
                      <a:pt x="15410" y="331"/>
                    </a:moveTo>
                    <a:lnTo>
                      <a:pt x="15391" y="312"/>
                    </a:lnTo>
                    <a:lnTo>
                      <a:pt x="15371" y="293"/>
                    </a:lnTo>
                    <a:lnTo>
                      <a:pt x="15350" y="275"/>
                    </a:lnTo>
                    <a:lnTo>
                      <a:pt x="15329" y="258"/>
                    </a:lnTo>
                    <a:lnTo>
                      <a:pt x="15308" y="241"/>
                    </a:lnTo>
                    <a:lnTo>
                      <a:pt x="15286" y="225"/>
                    </a:lnTo>
                    <a:lnTo>
                      <a:pt x="15264" y="208"/>
                    </a:lnTo>
                    <a:lnTo>
                      <a:pt x="15242" y="193"/>
                    </a:lnTo>
                    <a:lnTo>
                      <a:pt x="15220" y="178"/>
                    </a:lnTo>
                    <a:lnTo>
                      <a:pt x="15196" y="164"/>
                    </a:lnTo>
                    <a:lnTo>
                      <a:pt x="15173" y="150"/>
                    </a:lnTo>
                    <a:lnTo>
                      <a:pt x="15149" y="136"/>
                    </a:lnTo>
                    <a:lnTo>
                      <a:pt x="15124" y="123"/>
                    </a:lnTo>
                    <a:lnTo>
                      <a:pt x="15100" y="111"/>
                    </a:lnTo>
                    <a:lnTo>
                      <a:pt x="15075" y="99"/>
                    </a:lnTo>
                    <a:lnTo>
                      <a:pt x="15050" y="89"/>
                    </a:lnTo>
                    <a:lnTo>
                      <a:pt x="15024" y="78"/>
                    </a:lnTo>
                    <a:lnTo>
                      <a:pt x="14999" y="68"/>
                    </a:lnTo>
                    <a:lnTo>
                      <a:pt x="14972" y="58"/>
                    </a:lnTo>
                    <a:lnTo>
                      <a:pt x="14946" y="50"/>
                    </a:lnTo>
                    <a:lnTo>
                      <a:pt x="14919" y="42"/>
                    </a:lnTo>
                    <a:lnTo>
                      <a:pt x="14892" y="35"/>
                    </a:lnTo>
                    <a:lnTo>
                      <a:pt x="14865" y="28"/>
                    </a:lnTo>
                    <a:lnTo>
                      <a:pt x="14838" y="22"/>
                    </a:lnTo>
                    <a:lnTo>
                      <a:pt x="14809" y="17"/>
                    </a:lnTo>
                    <a:lnTo>
                      <a:pt x="14782" y="13"/>
                    </a:lnTo>
                    <a:lnTo>
                      <a:pt x="14754" y="9"/>
                    </a:lnTo>
                    <a:lnTo>
                      <a:pt x="14725" y="5"/>
                    </a:lnTo>
                    <a:lnTo>
                      <a:pt x="14696" y="3"/>
                    </a:lnTo>
                    <a:lnTo>
                      <a:pt x="14667" y="1"/>
                    </a:lnTo>
                    <a:lnTo>
                      <a:pt x="14638" y="0"/>
                    </a:lnTo>
                    <a:lnTo>
                      <a:pt x="14609" y="0"/>
                    </a:lnTo>
                    <a:lnTo>
                      <a:pt x="2967" y="0"/>
                    </a:lnTo>
                    <a:lnTo>
                      <a:pt x="2910" y="1"/>
                    </a:lnTo>
                    <a:lnTo>
                      <a:pt x="2854" y="5"/>
                    </a:lnTo>
                    <a:lnTo>
                      <a:pt x="2801" y="11"/>
                    </a:lnTo>
                    <a:lnTo>
                      <a:pt x="2750" y="20"/>
                    </a:lnTo>
                    <a:lnTo>
                      <a:pt x="2700" y="31"/>
                    </a:lnTo>
                    <a:lnTo>
                      <a:pt x="2652" y="44"/>
                    </a:lnTo>
                    <a:lnTo>
                      <a:pt x="2606" y="59"/>
                    </a:lnTo>
                    <a:lnTo>
                      <a:pt x="2561" y="78"/>
                    </a:lnTo>
                    <a:lnTo>
                      <a:pt x="2518" y="97"/>
                    </a:lnTo>
                    <a:lnTo>
                      <a:pt x="2476" y="118"/>
                    </a:lnTo>
                    <a:lnTo>
                      <a:pt x="2435" y="140"/>
                    </a:lnTo>
                    <a:lnTo>
                      <a:pt x="2396" y="166"/>
                    </a:lnTo>
                    <a:lnTo>
                      <a:pt x="2357" y="191"/>
                    </a:lnTo>
                    <a:lnTo>
                      <a:pt x="2320" y="219"/>
                    </a:lnTo>
                    <a:lnTo>
                      <a:pt x="2283" y="248"/>
                    </a:lnTo>
                    <a:lnTo>
                      <a:pt x="2248" y="278"/>
                    </a:lnTo>
                    <a:lnTo>
                      <a:pt x="2214" y="310"/>
                    </a:lnTo>
                    <a:lnTo>
                      <a:pt x="2179" y="342"/>
                    </a:lnTo>
                    <a:lnTo>
                      <a:pt x="2145" y="376"/>
                    </a:lnTo>
                    <a:lnTo>
                      <a:pt x="2111" y="409"/>
                    </a:lnTo>
                    <a:lnTo>
                      <a:pt x="2044" y="480"/>
                    </a:lnTo>
                    <a:lnTo>
                      <a:pt x="1978" y="553"/>
                    </a:lnTo>
                    <a:lnTo>
                      <a:pt x="1913" y="627"/>
                    </a:lnTo>
                    <a:lnTo>
                      <a:pt x="1845" y="702"/>
                    </a:lnTo>
                    <a:lnTo>
                      <a:pt x="1810" y="740"/>
                    </a:lnTo>
                    <a:lnTo>
                      <a:pt x="1776" y="778"/>
                    </a:lnTo>
                    <a:lnTo>
                      <a:pt x="1740" y="814"/>
                    </a:lnTo>
                    <a:lnTo>
                      <a:pt x="1704" y="852"/>
                    </a:lnTo>
                    <a:lnTo>
                      <a:pt x="0" y="2688"/>
                    </a:lnTo>
                    <a:lnTo>
                      <a:pt x="13557" y="2819"/>
                    </a:lnTo>
                    <a:lnTo>
                      <a:pt x="15410" y="331"/>
                    </a:lnTo>
                    <a:close/>
                  </a:path>
                </a:pathLst>
              </a:custGeom>
              <a:solidFill>
                <a:srgbClr val="c8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04840" y="5740560"/>
                <a:ext cx="30600" cy="11520"/>
              </a:xfrm>
              <a:custGeom>
                <a:avLst/>
                <a:gdLst/>
                <a:ahLst/>
                <a:rect l="l" t="t" r="r" b="b"/>
                <a:pathLst>
                  <a:path w="830" h="403">
                    <a:moveTo>
                      <a:pt x="0" y="84"/>
                    </a:moveTo>
                    <a:lnTo>
                      <a:pt x="28" y="85"/>
                    </a:lnTo>
                    <a:lnTo>
                      <a:pt x="56" y="86"/>
                    </a:lnTo>
                    <a:lnTo>
                      <a:pt x="84" y="88"/>
                    </a:lnTo>
                    <a:lnTo>
                      <a:pt x="112" y="90"/>
                    </a:lnTo>
                    <a:lnTo>
                      <a:pt x="138" y="93"/>
                    </a:lnTo>
                    <a:lnTo>
                      <a:pt x="166" y="97"/>
                    </a:lnTo>
                    <a:lnTo>
                      <a:pt x="193" y="101"/>
                    </a:lnTo>
                    <a:lnTo>
                      <a:pt x="220" y="106"/>
                    </a:lnTo>
                    <a:lnTo>
                      <a:pt x="247" y="112"/>
                    </a:lnTo>
                    <a:lnTo>
                      <a:pt x="272" y="119"/>
                    </a:lnTo>
                    <a:lnTo>
                      <a:pt x="299" y="126"/>
                    </a:lnTo>
                    <a:lnTo>
                      <a:pt x="325" y="134"/>
                    </a:lnTo>
                    <a:lnTo>
                      <a:pt x="350" y="142"/>
                    </a:lnTo>
                    <a:lnTo>
                      <a:pt x="376" y="151"/>
                    </a:lnTo>
                    <a:lnTo>
                      <a:pt x="400" y="160"/>
                    </a:lnTo>
                    <a:lnTo>
                      <a:pt x="424" y="170"/>
                    </a:lnTo>
                    <a:lnTo>
                      <a:pt x="448" y="180"/>
                    </a:lnTo>
                    <a:lnTo>
                      <a:pt x="473" y="192"/>
                    </a:lnTo>
                    <a:lnTo>
                      <a:pt x="496" y="204"/>
                    </a:lnTo>
                    <a:lnTo>
                      <a:pt x="519" y="216"/>
                    </a:lnTo>
                    <a:lnTo>
                      <a:pt x="543" y="229"/>
                    </a:lnTo>
                    <a:lnTo>
                      <a:pt x="566" y="242"/>
                    </a:lnTo>
                    <a:lnTo>
                      <a:pt x="587" y="256"/>
                    </a:lnTo>
                    <a:lnTo>
                      <a:pt x="610" y="271"/>
                    </a:lnTo>
                    <a:lnTo>
                      <a:pt x="631" y="286"/>
                    </a:lnTo>
                    <a:lnTo>
                      <a:pt x="652" y="301"/>
                    </a:lnTo>
                    <a:lnTo>
                      <a:pt x="673" y="317"/>
                    </a:lnTo>
                    <a:lnTo>
                      <a:pt x="694" y="333"/>
                    </a:lnTo>
                    <a:lnTo>
                      <a:pt x="714" y="351"/>
                    </a:lnTo>
                    <a:lnTo>
                      <a:pt x="733" y="368"/>
                    </a:lnTo>
                    <a:lnTo>
                      <a:pt x="752" y="386"/>
                    </a:lnTo>
                    <a:lnTo>
                      <a:pt x="771" y="403"/>
                    </a:lnTo>
                    <a:lnTo>
                      <a:pt x="830" y="345"/>
                    </a:lnTo>
                    <a:lnTo>
                      <a:pt x="810" y="324"/>
                    </a:lnTo>
                    <a:lnTo>
                      <a:pt x="790" y="305"/>
                    </a:lnTo>
                    <a:lnTo>
                      <a:pt x="769" y="287"/>
                    </a:lnTo>
                    <a:lnTo>
                      <a:pt x="747" y="269"/>
                    </a:lnTo>
                    <a:lnTo>
                      <a:pt x="725" y="250"/>
                    </a:lnTo>
                    <a:lnTo>
                      <a:pt x="703" y="234"/>
                    </a:lnTo>
                    <a:lnTo>
                      <a:pt x="681" y="217"/>
                    </a:lnTo>
                    <a:lnTo>
                      <a:pt x="657" y="201"/>
                    </a:lnTo>
                    <a:lnTo>
                      <a:pt x="633" y="185"/>
                    </a:lnTo>
                    <a:lnTo>
                      <a:pt x="610" y="170"/>
                    </a:lnTo>
                    <a:lnTo>
                      <a:pt x="584" y="156"/>
                    </a:lnTo>
                    <a:lnTo>
                      <a:pt x="560" y="142"/>
                    </a:lnTo>
                    <a:lnTo>
                      <a:pt x="535" y="129"/>
                    </a:lnTo>
                    <a:lnTo>
                      <a:pt x="509" y="117"/>
                    </a:lnTo>
                    <a:lnTo>
                      <a:pt x="484" y="104"/>
                    </a:lnTo>
                    <a:lnTo>
                      <a:pt x="458" y="92"/>
                    </a:lnTo>
                    <a:lnTo>
                      <a:pt x="430" y="82"/>
                    </a:lnTo>
                    <a:lnTo>
                      <a:pt x="404" y="71"/>
                    </a:lnTo>
                    <a:lnTo>
                      <a:pt x="377" y="62"/>
                    </a:lnTo>
                    <a:lnTo>
                      <a:pt x="349" y="53"/>
                    </a:lnTo>
                    <a:lnTo>
                      <a:pt x="322" y="45"/>
                    </a:lnTo>
                    <a:lnTo>
                      <a:pt x="293" y="37"/>
                    </a:lnTo>
                    <a:lnTo>
                      <a:pt x="265" y="30"/>
                    </a:lnTo>
                    <a:lnTo>
                      <a:pt x="237" y="24"/>
                    </a:lnTo>
                    <a:lnTo>
                      <a:pt x="207" y="18"/>
                    </a:lnTo>
                    <a:lnTo>
                      <a:pt x="179" y="13"/>
                    </a:lnTo>
                    <a:lnTo>
                      <a:pt x="150" y="10"/>
                    </a:lnTo>
                    <a:lnTo>
                      <a:pt x="120" y="6"/>
                    </a:lnTo>
                    <a:lnTo>
                      <a:pt x="90" y="3"/>
                    </a:lnTo>
                    <a:lnTo>
                      <a:pt x="60" y="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22800" y="5740560"/>
                <a:ext cx="48960" cy="26280"/>
              </a:xfrm>
              <a:custGeom>
                <a:avLst/>
                <a:gdLst/>
                <a:ahLst/>
                <a:rect l="l" t="t" r="r" b="b"/>
                <a:pathLst>
                  <a:path w="1294" h="925">
                    <a:moveTo>
                      <a:pt x="60" y="925"/>
                    </a:moveTo>
                    <a:lnTo>
                      <a:pt x="97" y="888"/>
                    </a:lnTo>
                    <a:lnTo>
                      <a:pt x="133" y="849"/>
                    </a:lnTo>
                    <a:lnTo>
                      <a:pt x="169" y="812"/>
                    </a:lnTo>
                    <a:lnTo>
                      <a:pt x="203" y="773"/>
                    </a:lnTo>
                    <a:lnTo>
                      <a:pt x="271" y="698"/>
                    </a:lnTo>
                    <a:lnTo>
                      <a:pt x="337" y="624"/>
                    </a:lnTo>
                    <a:lnTo>
                      <a:pt x="403" y="551"/>
                    </a:lnTo>
                    <a:lnTo>
                      <a:pt x="469" y="481"/>
                    </a:lnTo>
                    <a:lnTo>
                      <a:pt x="502" y="448"/>
                    </a:lnTo>
                    <a:lnTo>
                      <a:pt x="534" y="415"/>
                    </a:lnTo>
                    <a:lnTo>
                      <a:pt x="569" y="383"/>
                    </a:lnTo>
                    <a:lnTo>
                      <a:pt x="602" y="353"/>
                    </a:lnTo>
                    <a:lnTo>
                      <a:pt x="638" y="323"/>
                    </a:lnTo>
                    <a:lnTo>
                      <a:pt x="673" y="296"/>
                    </a:lnTo>
                    <a:lnTo>
                      <a:pt x="709" y="269"/>
                    </a:lnTo>
                    <a:lnTo>
                      <a:pt x="746" y="243"/>
                    </a:lnTo>
                    <a:lnTo>
                      <a:pt x="784" y="220"/>
                    </a:lnTo>
                    <a:lnTo>
                      <a:pt x="823" y="198"/>
                    </a:lnTo>
                    <a:lnTo>
                      <a:pt x="842" y="187"/>
                    </a:lnTo>
                    <a:lnTo>
                      <a:pt x="863" y="177"/>
                    </a:lnTo>
                    <a:lnTo>
                      <a:pt x="883" y="168"/>
                    </a:lnTo>
                    <a:lnTo>
                      <a:pt x="904" y="159"/>
                    </a:lnTo>
                    <a:lnTo>
                      <a:pt x="926" y="151"/>
                    </a:lnTo>
                    <a:lnTo>
                      <a:pt x="947" y="142"/>
                    </a:lnTo>
                    <a:lnTo>
                      <a:pt x="969" y="135"/>
                    </a:lnTo>
                    <a:lnTo>
                      <a:pt x="991" y="128"/>
                    </a:lnTo>
                    <a:lnTo>
                      <a:pt x="1014" y="121"/>
                    </a:lnTo>
                    <a:lnTo>
                      <a:pt x="1037" y="115"/>
                    </a:lnTo>
                    <a:lnTo>
                      <a:pt x="1060" y="109"/>
                    </a:lnTo>
                    <a:lnTo>
                      <a:pt x="1085" y="104"/>
                    </a:lnTo>
                    <a:lnTo>
                      <a:pt x="1109" y="99"/>
                    </a:lnTo>
                    <a:lnTo>
                      <a:pt x="1134" y="95"/>
                    </a:lnTo>
                    <a:lnTo>
                      <a:pt x="1160" y="92"/>
                    </a:lnTo>
                    <a:lnTo>
                      <a:pt x="1185" y="89"/>
                    </a:lnTo>
                    <a:lnTo>
                      <a:pt x="1211" y="87"/>
                    </a:lnTo>
                    <a:lnTo>
                      <a:pt x="1239" y="86"/>
                    </a:lnTo>
                    <a:lnTo>
                      <a:pt x="1266" y="85"/>
                    </a:lnTo>
                    <a:lnTo>
                      <a:pt x="1294" y="84"/>
                    </a:lnTo>
                    <a:lnTo>
                      <a:pt x="1294" y="0"/>
                    </a:lnTo>
                    <a:lnTo>
                      <a:pt x="1264" y="0"/>
                    </a:lnTo>
                    <a:lnTo>
                      <a:pt x="1235" y="1"/>
                    </a:lnTo>
                    <a:lnTo>
                      <a:pt x="1206" y="3"/>
                    </a:lnTo>
                    <a:lnTo>
                      <a:pt x="1178" y="6"/>
                    </a:lnTo>
                    <a:lnTo>
                      <a:pt x="1150" y="8"/>
                    </a:lnTo>
                    <a:lnTo>
                      <a:pt x="1122" y="12"/>
                    </a:lnTo>
                    <a:lnTo>
                      <a:pt x="1095" y="16"/>
                    </a:lnTo>
                    <a:lnTo>
                      <a:pt x="1068" y="21"/>
                    </a:lnTo>
                    <a:lnTo>
                      <a:pt x="1042" y="27"/>
                    </a:lnTo>
                    <a:lnTo>
                      <a:pt x="1017" y="33"/>
                    </a:lnTo>
                    <a:lnTo>
                      <a:pt x="991" y="40"/>
                    </a:lnTo>
                    <a:lnTo>
                      <a:pt x="967" y="47"/>
                    </a:lnTo>
                    <a:lnTo>
                      <a:pt x="942" y="55"/>
                    </a:lnTo>
                    <a:lnTo>
                      <a:pt x="918" y="63"/>
                    </a:lnTo>
                    <a:lnTo>
                      <a:pt x="895" y="72"/>
                    </a:lnTo>
                    <a:lnTo>
                      <a:pt x="872" y="81"/>
                    </a:lnTo>
                    <a:lnTo>
                      <a:pt x="850" y="91"/>
                    </a:lnTo>
                    <a:lnTo>
                      <a:pt x="826" y="101"/>
                    </a:lnTo>
                    <a:lnTo>
                      <a:pt x="805" y="112"/>
                    </a:lnTo>
                    <a:lnTo>
                      <a:pt x="783" y="124"/>
                    </a:lnTo>
                    <a:lnTo>
                      <a:pt x="741" y="147"/>
                    </a:lnTo>
                    <a:lnTo>
                      <a:pt x="701" y="173"/>
                    </a:lnTo>
                    <a:lnTo>
                      <a:pt x="660" y="200"/>
                    </a:lnTo>
                    <a:lnTo>
                      <a:pt x="622" y="228"/>
                    </a:lnTo>
                    <a:lnTo>
                      <a:pt x="584" y="258"/>
                    </a:lnTo>
                    <a:lnTo>
                      <a:pt x="548" y="289"/>
                    </a:lnTo>
                    <a:lnTo>
                      <a:pt x="512" y="321"/>
                    </a:lnTo>
                    <a:lnTo>
                      <a:pt x="477" y="355"/>
                    </a:lnTo>
                    <a:lnTo>
                      <a:pt x="442" y="388"/>
                    </a:lnTo>
                    <a:lnTo>
                      <a:pt x="408" y="424"/>
                    </a:lnTo>
                    <a:lnTo>
                      <a:pt x="341" y="495"/>
                    </a:lnTo>
                    <a:lnTo>
                      <a:pt x="274" y="568"/>
                    </a:lnTo>
                    <a:lnTo>
                      <a:pt x="208" y="642"/>
                    </a:lnTo>
                    <a:lnTo>
                      <a:pt x="141" y="717"/>
                    </a:lnTo>
                    <a:lnTo>
                      <a:pt x="107" y="754"/>
                    </a:lnTo>
                    <a:lnTo>
                      <a:pt x="71" y="791"/>
                    </a:lnTo>
                    <a:lnTo>
                      <a:pt x="37" y="828"/>
                    </a:lnTo>
                    <a:lnTo>
                      <a:pt x="0" y="865"/>
                    </a:lnTo>
                    <a:lnTo>
                      <a:pt x="60" y="925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957280" y="5764680"/>
                <a:ext cx="67320" cy="56160"/>
              </a:xfrm>
              <a:custGeom>
                <a:avLst/>
                <a:gdLst/>
                <a:ahLst/>
                <a:rect l="l" t="t" r="r" b="b"/>
                <a:pathLst>
                  <a:path w="1830" h="1907">
                    <a:moveTo>
                      <a:pt x="95" y="1907"/>
                    </a:moveTo>
                    <a:lnTo>
                      <a:pt x="126" y="1893"/>
                    </a:lnTo>
                    <a:lnTo>
                      <a:pt x="1830" y="57"/>
                    </a:lnTo>
                    <a:lnTo>
                      <a:pt x="1768" y="0"/>
                    </a:lnTo>
                    <a:lnTo>
                      <a:pt x="64" y="1836"/>
                    </a:lnTo>
                    <a:lnTo>
                      <a:pt x="95" y="1907"/>
                    </a:lnTo>
                    <a:lnTo>
                      <a:pt x="64" y="1836"/>
                    </a:lnTo>
                    <a:lnTo>
                      <a:pt x="0" y="1906"/>
                    </a:lnTo>
                    <a:lnTo>
                      <a:pt x="95" y="1907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960520" y="5817600"/>
                <a:ext cx="505440" cy="6120"/>
              </a:xfrm>
              <a:custGeom>
                <a:avLst/>
                <a:gdLst/>
                <a:ahLst/>
                <a:rect l="l" t="t" r="r" b="b"/>
                <a:pathLst>
                  <a:path w="13558" h="215">
                    <a:moveTo>
                      <a:pt x="13558" y="131"/>
                    </a:moveTo>
                    <a:lnTo>
                      <a:pt x="1" y="0"/>
                    </a:lnTo>
                    <a:lnTo>
                      <a:pt x="0" y="84"/>
                    </a:lnTo>
                    <a:lnTo>
                      <a:pt x="13558" y="215"/>
                    </a:lnTo>
                    <a:lnTo>
                      <a:pt x="13558" y="13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56960" y="5751000"/>
                <a:ext cx="90360" cy="186120"/>
              </a:xfrm>
              <a:custGeom>
                <a:avLst/>
                <a:gdLst/>
                <a:ahLst/>
                <a:rect l="l" t="t" r="r" b="b"/>
                <a:pathLst>
                  <a:path w="2424" h="6422">
                    <a:moveTo>
                      <a:pt x="2093" y="0"/>
                    </a:moveTo>
                    <a:lnTo>
                      <a:pt x="2111" y="19"/>
                    </a:lnTo>
                    <a:lnTo>
                      <a:pt x="2131" y="39"/>
                    </a:lnTo>
                    <a:lnTo>
                      <a:pt x="2149" y="60"/>
                    </a:lnTo>
                    <a:lnTo>
                      <a:pt x="2166" y="81"/>
                    </a:lnTo>
                    <a:lnTo>
                      <a:pt x="2183" y="101"/>
                    </a:lnTo>
                    <a:lnTo>
                      <a:pt x="2200" y="124"/>
                    </a:lnTo>
                    <a:lnTo>
                      <a:pt x="2216" y="146"/>
                    </a:lnTo>
                    <a:lnTo>
                      <a:pt x="2231" y="168"/>
                    </a:lnTo>
                    <a:lnTo>
                      <a:pt x="2246" y="190"/>
                    </a:lnTo>
                    <a:lnTo>
                      <a:pt x="2260" y="214"/>
                    </a:lnTo>
                    <a:lnTo>
                      <a:pt x="2274" y="237"/>
                    </a:lnTo>
                    <a:lnTo>
                      <a:pt x="2288" y="261"/>
                    </a:lnTo>
                    <a:lnTo>
                      <a:pt x="2301" y="286"/>
                    </a:lnTo>
                    <a:lnTo>
                      <a:pt x="2313" y="310"/>
                    </a:lnTo>
                    <a:lnTo>
                      <a:pt x="2324" y="335"/>
                    </a:lnTo>
                    <a:lnTo>
                      <a:pt x="2335" y="361"/>
                    </a:lnTo>
                    <a:lnTo>
                      <a:pt x="2346" y="386"/>
                    </a:lnTo>
                    <a:lnTo>
                      <a:pt x="2356" y="411"/>
                    </a:lnTo>
                    <a:lnTo>
                      <a:pt x="2366" y="438"/>
                    </a:lnTo>
                    <a:lnTo>
                      <a:pt x="2374" y="464"/>
                    </a:lnTo>
                    <a:lnTo>
                      <a:pt x="2382" y="491"/>
                    </a:lnTo>
                    <a:lnTo>
                      <a:pt x="2389" y="518"/>
                    </a:lnTo>
                    <a:lnTo>
                      <a:pt x="2396" y="545"/>
                    </a:lnTo>
                    <a:lnTo>
                      <a:pt x="2402" y="573"/>
                    </a:lnTo>
                    <a:lnTo>
                      <a:pt x="2407" y="601"/>
                    </a:lnTo>
                    <a:lnTo>
                      <a:pt x="2411" y="629"/>
                    </a:lnTo>
                    <a:lnTo>
                      <a:pt x="2415" y="657"/>
                    </a:lnTo>
                    <a:lnTo>
                      <a:pt x="2419" y="686"/>
                    </a:lnTo>
                    <a:lnTo>
                      <a:pt x="2421" y="714"/>
                    </a:lnTo>
                    <a:lnTo>
                      <a:pt x="2423" y="743"/>
                    </a:lnTo>
                    <a:lnTo>
                      <a:pt x="2424" y="772"/>
                    </a:lnTo>
                    <a:lnTo>
                      <a:pt x="2424" y="802"/>
                    </a:lnTo>
                    <a:lnTo>
                      <a:pt x="2424" y="3125"/>
                    </a:lnTo>
                    <a:lnTo>
                      <a:pt x="65" y="6422"/>
                    </a:lnTo>
                    <a:lnTo>
                      <a:pt x="0" y="2390"/>
                    </a:lnTo>
                    <a:lnTo>
                      <a:pt x="2093" y="0"/>
                    </a:lnTo>
                    <a:close/>
                  </a:path>
                </a:pathLst>
              </a:custGeom>
              <a:solidFill>
                <a:srgbClr val="7b7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33640" y="5749920"/>
                <a:ext cx="14760" cy="24480"/>
              </a:xfrm>
              <a:custGeom>
                <a:avLst/>
                <a:gdLst/>
                <a:ahLst/>
                <a:rect l="l" t="t" r="r" b="b"/>
                <a:pathLst>
                  <a:path w="404" h="831">
                    <a:moveTo>
                      <a:pt x="404" y="831"/>
                    </a:moveTo>
                    <a:lnTo>
                      <a:pt x="404" y="800"/>
                    </a:lnTo>
                    <a:lnTo>
                      <a:pt x="402" y="770"/>
                    </a:lnTo>
                    <a:lnTo>
                      <a:pt x="401" y="740"/>
                    </a:lnTo>
                    <a:lnTo>
                      <a:pt x="398" y="710"/>
                    </a:lnTo>
                    <a:lnTo>
                      <a:pt x="394" y="681"/>
                    </a:lnTo>
                    <a:lnTo>
                      <a:pt x="391" y="651"/>
                    </a:lnTo>
                    <a:lnTo>
                      <a:pt x="386" y="623"/>
                    </a:lnTo>
                    <a:lnTo>
                      <a:pt x="380" y="593"/>
                    </a:lnTo>
                    <a:lnTo>
                      <a:pt x="374" y="565"/>
                    </a:lnTo>
                    <a:lnTo>
                      <a:pt x="367" y="537"/>
                    </a:lnTo>
                    <a:lnTo>
                      <a:pt x="359" y="509"/>
                    </a:lnTo>
                    <a:lnTo>
                      <a:pt x="351" y="481"/>
                    </a:lnTo>
                    <a:lnTo>
                      <a:pt x="342" y="454"/>
                    </a:lnTo>
                    <a:lnTo>
                      <a:pt x="333" y="426"/>
                    </a:lnTo>
                    <a:lnTo>
                      <a:pt x="322" y="400"/>
                    </a:lnTo>
                    <a:lnTo>
                      <a:pt x="312" y="372"/>
                    </a:lnTo>
                    <a:lnTo>
                      <a:pt x="300" y="347"/>
                    </a:lnTo>
                    <a:lnTo>
                      <a:pt x="287" y="321"/>
                    </a:lnTo>
                    <a:lnTo>
                      <a:pt x="275" y="295"/>
                    </a:lnTo>
                    <a:lnTo>
                      <a:pt x="262" y="270"/>
                    </a:lnTo>
                    <a:lnTo>
                      <a:pt x="248" y="246"/>
                    </a:lnTo>
                    <a:lnTo>
                      <a:pt x="234" y="221"/>
                    </a:lnTo>
                    <a:lnTo>
                      <a:pt x="219" y="197"/>
                    </a:lnTo>
                    <a:lnTo>
                      <a:pt x="203" y="173"/>
                    </a:lnTo>
                    <a:lnTo>
                      <a:pt x="187" y="150"/>
                    </a:lnTo>
                    <a:lnTo>
                      <a:pt x="171" y="127"/>
                    </a:lnTo>
                    <a:lnTo>
                      <a:pt x="153" y="105"/>
                    </a:lnTo>
                    <a:lnTo>
                      <a:pt x="135" y="83"/>
                    </a:lnTo>
                    <a:lnTo>
                      <a:pt x="117" y="61"/>
                    </a:lnTo>
                    <a:lnTo>
                      <a:pt x="99" y="40"/>
                    </a:lnTo>
                    <a:lnTo>
                      <a:pt x="80" y="20"/>
                    </a:lnTo>
                    <a:lnTo>
                      <a:pt x="59" y="0"/>
                    </a:lnTo>
                    <a:lnTo>
                      <a:pt x="0" y="59"/>
                    </a:lnTo>
                    <a:lnTo>
                      <a:pt x="18" y="78"/>
                    </a:lnTo>
                    <a:lnTo>
                      <a:pt x="36" y="97"/>
                    </a:lnTo>
                    <a:lnTo>
                      <a:pt x="53" y="116"/>
                    </a:lnTo>
                    <a:lnTo>
                      <a:pt x="71" y="136"/>
                    </a:lnTo>
                    <a:lnTo>
                      <a:pt x="87" y="157"/>
                    </a:lnTo>
                    <a:lnTo>
                      <a:pt x="103" y="178"/>
                    </a:lnTo>
                    <a:lnTo>
                      <a:pt x="118" y="199"/>
                    </a:lnTo>
                    <a:lnTo>
                      <a:pt x="133" y="220"/>
                    </a:lnTo>
                    <a:lnTo>
                      <a:pt x="148" y="243"/>
                    </a:lnTo>
                    <a:lnTo>
                      <a:pt x="162" y="265"/>
                    </a:lnTo>
                    <a:lnTo>
                      <a:pt x="175" y="287"/>
                    </a:lnTo>
                    <a:lnTo>
                      <a:pt x="188" y="311"/>
                    </a:lnTo>
                    <a:lnTo>
                      <a:pt x="200" y="334"/>
                    </a:lnTo>
                    <a:lnTo>
                      <a:pt x="212" y="357"/>
                    </a:lnTo>
                    <a:lnTo>
                      <a:pt x="224" y="382"/>
                    </a:lnTo>
                    <a:lnTo>
                      <a:pt x="234" y="406"/>
                    </a:lnTo>
                    <a:lnTo>
                      <a:pt x="244" y="430"/>
                    </a:lnTo>
                    <a:lnTo>
                      <a:pt x="253" y="456"/>
                    </a:lnTo>
                    <a:lnTo>
                      <a:pt x="262" y="481"/>
                    </a:lnTo>
                    <a:lnTo>
                      <a:pt x="270" y="506"/>
                    </a:lnTo>
                    <a:lnTo>
                      <a:pt x="278" y="532"/>
                    </a:lnTo>
                    <a:lnTo>
                      <a:pt x="285" y="558"/>
                    </a:lnTo>
                    <a:lnTo>
                      <a:pt x="292" y="584"/>
                    </a:lnTo>
                    <a:lnTo>
                      <a:pt x="298" y="611"/>
                    </a:lnTo>
                    <a:lnTo>
                      <a:pt x="303" y="637"/>
                    </a:lnTo>
                    <a:lnTo>
                      <a:pt x="307" y="664"/>
                    </a:lnTo>
                    <a:lnTo>
                      <a:pt x="311" y="692"/>
                    </a:lnTo>
                    <a:lnTo>
                      <a:pt x="314" y="719"/>
                    </a:lnTo>
                    <a:lnTo>
                      <a:pt x="316" y="746"/>
                    </a:lnTo>
                    <a:lnTo>
                      <a:pt x="318" y="774"/>
                    </a:lnTo>
                    <a:lnTo>
                      <a:pt x="319" y="802"/>
                    </a:lnTo>
                    <a:lnTo>
                      <a:pt x="320" y="831"/>
                    </a:lnTo>
                    <a:lnTo>
                      <a:pt x="404" y="83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544800" y="577440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84" h="2348">
                    <a:moveTo>
                      <a:pt x="76" y="2348"/>
                    </a:moveTo>
                    <a:lnTo>
                      <a:pt x="84" y="23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2323"/>
                    </a:lnTo>
                    <a:lnTo>
                      <a:pt x="76" y="2348"/>
                    </a:lnTo>
                    <a:lnTo>
                      <a:pt x="76" y="2348"/>
                    </a:lnTo>
                    <a:lnTo>
                      <a:pt x="84" y="2336"/>
                    </a:lnTo>
                    <a:lnTo>
                      <a:pt x="84" y="2323"/>
                    </a:lnTo>
                    <a:lnTo>
                      <a:pt x="76" y="2348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58040" y="5841000"/>
                <a:ext cx="90000" cy="99360"/>
              </a:xfrm>
              <a:custGeom>
                <a:avLst/>
                <a:gdLst/>
                <a:ahLst/>
                <a:rect l="l" t="t" r="r" b="b"/>
                <a:pathLst>
                  <a:path w="2436" h="3448">
                    <a:moveTo>
                      <a:pt x="0" y="3322"/>
                    </a:moveTo>
                    <a:lnTo>
                      <a:pt x="76" y="3345"/>
                    </a:lnTo>
                    <a:lnTo>
                      <a:pt x="2436" y="49"/>
                    </a:lnTo>
                    <a:lnTo>
                      <a:pt x="2367" y="0"/>
                    </a:lnTo>
                    <a:lnTo>
                      <a:pt x="7" y="3297"/>
                    </a:lnTo>
                    <a:lnTo>
                      <a:pt x="0" y="3322"/>
                    </a:lnTo>
                    <a:lnTo>
                      <a:pt x="0" y="3322"/>
                    </a:lnTo>
                    <a:lnTo>
                      <a:pt x="3" y="3448"/>
                    </a:lnTo>
                    <a:lnTo>
                      <a:pt x="76" y="3345"/>
                    </a:lnTo>
                    <a:lnTo>
                      <a:pt x="0" y="3322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54440" y="5820840"/>
                <a:ext cx="5400" cy="116280"/>
              </a:xfrm>
              <a:custGeom>
                <a:avLst/>
                <a:gdLst/>
                <a:ahLst/>
                <a:rect l="l" t="t" r="r" b="b"/>
                <a:pathLst>
                  <a:path w="150" h="4033">
                    <a:moveTo>
                      <a:pt x="0" y="1"/>
                    </a:moveTo>
                    <a:lnTo>
                      <a:pt x="66" y="4033"/>
                    </a:lnTo>
                    <a:lnTo>
                      <a:pt x="150" y="4032"/>
                    </a:lnTo>
                    <a:lnTo>
                      <a:pt x="8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30680" y="59097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0" y="1176"/>
                    </a:moveTo>
                    <a:lnTo>
                      <a:pt x="0" y="1176"/>
                    </a:lnTo>
                    <a:lnTo>
                      <a:pt x="30" y="1176"/>
                    </a:lnTo>
                    <a:lnTo>
                      <a:pt x="61" y="1174"/>
                    </a:lnTo>
                    <a:lnTo>
                      <a:pt x="90" y="1173"/>
                    </a:lnTo>
                    <a:lnTo>
                      <a:pt x="119" y="1170"/>
                    </a:lnTo>
                    <a:lnTo>
                      <a:pt x="150" y="1167"/>
                    </a:lnTo>
                    <a:lnTo>
                      <a:pt x="179" y="1163"/>
                    </a:lnTo>
                    <a:lnTo>
                      <a:pt x="208" y="1158"/>
                    </a:lnTo>
                    <a:lnTo>
                      <a:pt x="237" y="1152"/>
                    </a:lnTo>
                    <a:lnTo>
                      <a:pt x="265" y="1146"/>
                    </a:lnTo>
                    <a:lnTo>
                      <a:pt x="294" y="1140"/>
                    </a:lnTo>
                    <a:lnTo>
                      <a:pt x="321" y="1131"/>
                    </a:lnTo>
                    <a:lnTo>
                      <a:pt x="349" y="1123"/>
                    </a:lnTo>
                    <a:lnTo>
                      <a:pt x="377" y="1114"/>
                    </a:lnTo>
                    <a:lnTo>
                      <a:pt x="404" y="1105"/>
                    </a:lnTo>
                    <a:lnTo>
                      <a:pt x="431" y="1095"/>
                    </a:lnTo>
                    <a:lnTo>
                      <a:pt x="458" y="1084"/>
                    </a:lnTo>
                    <a:lnTo>
                      <a:pt x="483" y="1073"/>
                    </a:lnTo>
                    <a:lnTo>
                      <a:pt x="510" y="1060"/>
                    </a:lnTo>
                    <a:lnTo>
                      <a:pt x="535" y="1047"/>
                    </a:lnTo>
                    <a:lnTo>
                      <a:pt x="560" y="1034"/>
                    </a:lnTo>
                    <a:lnTo>
                      <a:pt x="585" y="1020"/>
                    </a:lnTo>
                    <a:lnTo>
                      <a:pt x="609" y="1006"/>
                    </a:lnTo>
                    <a:lnTo>
                      <a:pt x="633" y="991"/>
                    </a:lnTo>
                    <a:lnTo>
                      <a:pt x="658" y="975"/>
                    </a:lnTo>
                    <a:lnTo>
                      <a:pt x="681" y="959"/>
                    </a:lnTo>
                    <a:lnTo>
                      <a:pt x="703" y="943"/>
                    </a:lnTo>
                    <a:lnTo>
                      <a:pt x="725" y="926"/>
                    </a:lnTo>
                    <a:lnTo>
                      <a:pt x="748" y="907"/>
                    </a:lnTo>
                    <a:lnTo>
                      <a:pt x="769" y="889"/>
                    </a:lnTo>
                    <a:lnTo>
                      <a:pt x="790" y="871"/>
                    </a:lnTo>
                    <a:lnTo>
                      <a:pt x="811" y="852"/>
                    </a:lnTo>
                    <a:lnTo>
                      <a:pt x="831" y="831"/>
                    </a:lnTo>
                    <a:lnTo>
                      <a:pt x="851" y="811"/>
                    </a:lnTo>
                    <a:lnTo>
                      <a:pt x="870" y="791"/>
                    </a:lnTo>
                    <a:lnTo>
                      <a:pt x="889" y="770"/>
                    </a:lnTo>
                    <a:lnTo>
                      <a:pt x="907" y="748"/>
                    </a:lnTo>
                    <a:lnTo>
                      <a:pt x="925" y="726"/>
                    </a:lnTo>
                    <a:lnTo>
                      <a:pt x="942" y="704"/>
                    </a:lnTo>
                    <a:lnTo>
                      <a:pt x="958" y="681"/>
                    </a:lnTo>
                    <a:lnTo>
                      <a:pt x="975" y="658"/>
                    </a:lnTo>
                    <a:lnTo>
                      <a:pt x="990" y="634"/>
                    </a:lnTo>
                    <a:lnTo>
                      <a:pt x="1005" y="611"/>
                    </a:lnTo>
                    <a:lnTo>
                      <a:pt x="1019" y="586"/>
                    </a:lnTo>
                    <a:lnTo>
                      <a:pt x="1033" y="561"/>
                    </a:lnTo>
                    <a:lnTo>
                      <a:pt x="1047" y="536"/>
                    </a:lnTo>
                    <a:lnTo>
                      <a:pt x="1059" y="510"/>
                    </a:lnTo>
                    <a:lnTo>
                      <a:pt x="1071" y="485"/>
                    </a:lnTo>
                    <a:lnTo>
                      <a:pt x="1083" y="459"/>
                    </a:lnTo>
                    <a:lnTo>
                      <a:pt x="1093" y="431"/>
                    </a:lnTo>
                    <a:lnTo>
                      <a:pt x="1104" y="405"/>
                    </a:lnTo>
                    <a:lnTo>
                      <a:pt x="1113" y="377"/>
                    </a:lnTo>
                    <a:lnTo>
                      <a:pt x="1123" y="350"/>
                    </a:lnTo>
                    <a:lnTo>
                      <a:pt x="1131" y="323"/>
                    </a:lnTo>
                    <a:lnTo>
                      <a:pt x="1138" y="294"/>
                    </a:lnTo>
                    <a:lnTo>
                      <a:pt x="1145" y="266"/>
                    </a:lnTo>
                    <a:lnTo>
                      <a:pt x="1151" y="238"/>
                    </a:lnTo>
                    <a:lnTo>
                      <a:pt x="1157" y="208"/>
                    </a:lnTo>
                    <a:lnTo>
                      <a:pt x="1162" y="180"/>
                    </a:lnTo>
                    <a:lnTo>
                      <a:pt x="1165" y="150"/>
                    </a:lnTo>
                    <a:lnTo>
                      <a:pt x="1169" y="121"/>
                    </a:lnTo>
                    <a:lnTo>
                      <a:pt x="1172" y="91"/>
                    </a:lnTo>
                    <a:lnTo>
                      <a:pt x="1173" y="61"/>
                    </a:lnTo>
                    <a:lnTo>
                      <a:pt x="1175" y="31"/>
                    </a:lnTo>
                    <a:lnTo>
                      <a:pt x="1175" y="0"/>
                    </a:lnTo>
                    <a:lnTo>
                      <a:pt x="1091" y="0"/>
                    </a:lnTo>
                    <a:lnTo>
                      <a:pt x="1090" y="29"/>
                    </a:lnTo>
                    <a:lnTo>
                      <a:pt x="1089" y="57"/>
                    </a:lnTo>
                    <a:lnTo>
                      <a:pt x="1087" y="85"/>
                    </a:lnTo>
                    <a:lnTo>
                      <a:pt x="1085" y="112"/>
                    </a:lnTo>
                    <a:lnTo>
                      <a:pt x="1082" y="139"/>
                    </a:lnTo>
                    <a:lnTo>
                      <a:pt x="1078" y="167"/>
                    </a:lnTo>
                    <a:lnTo>
                      <a:pt x="1074" y="194"/>
                    </a:lnTo>
                    <a:lnTo>
                      <a:pt x="1069" y="220"/>
                    </a:lnTo>
                    <a:lnTo>
                      <a:pt x="1063" y="248"/>
                    </a:lnTo>
                    <a:lnTo>
                      <a:pt x="1057" y="273"/>
                    </a:lnTo>
                    <a:lnTo>
                      <a:pt x="1050" y="299"/>
                    </a:lnTo>
                    <a:lnTo>
                      <a:pt x="1042" y="325"/>
                    </a:lnTo>
                    <a:lnTo>
                      <a:pt x="1033" y="351"/>
                    </a:lnTo>
                    <a:lnTo>
                      <a:pt x="1024" y="375"/>
                    </a:lnTo>
                    <a:lnTo>
                      <a:pt x="1015" y="401"/>
                    </a:lnTo>
                    <a:lnTo>
                      <a:pt x="1005" y="425"/>
                    </a:lnTo>
                    <a:lnTo>
                      <a:pt x="995" y="449"/>
                    </a:lnTo>
                    <a:lnTo>
                      <a:pt x="984" y="474"/>
                    </a:lnTo>
                    <a:lnTo>
                      <a:pt x="972" y="497"/>
                    </a:lnTo>
                    <a:lnTo>
                      <a:pt x="959" y="520"/>
                    </a:lnTo>
                    <a:lnTo>
                      <a:pt x="946" y="544"/>
                    </a:lnTo>
                    <a:lnTo>
                      <a:pt x="933" y="567"/>
                    </a:lnTo>
                    <a:lnTo>
                      <a:pt x="919" y="588"/>
                    </a:lnTo>
                    <a:lnTo>
                      <a:pt x="905" y="611"/>
                    </a:lnTo>
                    <a:lnTo>
                      <a:pt x="890" y="632"/>
                    </a:lnTo>
                    <a:lnTo>
                      <a:pt x="874" y="653"/>
                    </a:lnTo>
                    <a:lnTo>
                      <a:pt x="858" y="674"/>
                    </a:lnTo>
                    <a:lnTo>
                      <a:pt x="842" y="695"/>
                    </a:lnTo>
                    <a:lnTo>
                      <a:pt x="825" y="715"/>
                    </a:lnTo>
                    <a:lnTo>
                      <a:pt x="807" y="734"/>
                    </a:lnTo>
                    <a:lnTo>
                      <a:pt x="789" y="753"/>
                    </a:lnTo>
                    <a:lnTo>
                      <a:pt x="771" y="772"/>
                    </a:lnTo>
                    <a:lnTo>
                      <a:pt x="753" y="790"/>
                    </a:lnTo>
                    <a:lnTo>
                      <a:pt x="734" y="808"/>
                    </a:lnTo>
                    <a:lnTo>
                      <a:pt x="714" y="825"/>
                    </a:lnTo>
                    <a:lnTo>
                      <a:pt x="694" y="843"/>
                    </a:lnTo>
                    <a:lnTo>
                      <a:pt x="674" y="859"/>
                    </a:lnTo>
                    <a:lnTo>
                      <a:pt x="652" y="875"/>
                    </a:lnTo>
                    <a:lnTo>
                      <a:pt x="631" y="890"/>
                    </a:lnTo>
                    <a:lnTo>
                      <a:pt x="610" y="905"/>
                    </a:lnTo>
                    <a:lnTo>
                      <a:pt x="588" y="920"/>
                    </a:lnTo>
                    <a:lnTo>
                      <a:pt x="565" y="934"/>
                    </a:lnTo>
                    <a:lnTo>
                      <a:pt x="543" y="947"/>
                    </a:lnTo>
                    <a:lnTo>
                      <a:pt x="520" y="960"/>
                    </a:lnTo>
                    <a:lnTo>
                      <a:pt x="496" y="972"/>
                    </a:lnTo>
                    <a:lnTo>
                      <a:pt x="473" y="984"/>
                    </a:lnTo>
                    <a:lnTo>
                      <a:pt x="449" y="996"/>
                    </a:lnTo>
                    <a:lnTo>
                      <a:pt x="424" y="1006"/>
                    </a:lnTo>
                    <a:lnTo>
                      <a:pt x="400" y="1016"/>
                    </a:lnTo>
                    <a:lnTo>
                      <a:pt x="375" y="1025"/>
                    </a:lnTo>
                    <a:lnTo>
                      <a:pt x="350" y="1034"/>
                    </a:lnTo>
                    <a:lnTo>
                      <a:pt x="324" y="1042"/>
                    </a:lnTo>
                    <a:lnTo>
                      <a:pt x="299" y="1050"/>
                    </a:lnTo>
                    <a:lnTo>
                      <a:pt x="272" y="1057"/>
                    </a:lnTo>
                    <a:lnTo>
                      <a:pt x="246" y="1064"/>
                    </a:lnTo>
                    <a:lnTo>
                      <a:pt x="220" y="1070"/>
                    </a:lnTo>
                    <a:lnTo>
                      <a:pt x="193" y="1075"/>
                    </a:lnTo>
                    <a:lnTo>
                      <a:pt x="166" y="1079"/>
                    </a:lnTo>
                    <a:lnTo>
                      <a:pt x="139" y="1083"/>
                    </a:lnTo>
                    <a:lnTo>
                      <a:pt x="111" y="1086"/>
                    </a:lnTo>
                    <a:lnTo>
                      <a:pt x="84" y="1089"/>
                    </a:lnTo>
                    <a:lnTo>
                      <a:pt x="57" y="1090"/>
                    </a:lnTo>
                    <a:lnTo>
                      <a:pt x="28" y="1091"/>
                    </a:lnTo>
                    <a:lnTo>
                      <a:pt x="0" y="1092"/>
                    </a:lnTo>
                    <a:lnTo>
                      <a:pt x="0" y="1092"/>
                    </a:lnTo>
                    <a:lnTo>
                      <a:pt x="0" y="1176"/>
                    </a:lnTo>
                    <a:lnTo>
                      <a:pt x="0" y="1176"/>
                    </a:lnTo>
                    <a:lnTo>
                      <a:pt x="0" y="1176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988240" y="5941440"/>
                <a:ext cx="442440" cy="1800"/>
              </a:xfrm>
              <a:custGeom>
                <a:avLst/>
                <a:gdLst/>
                <a:ahLst/>
                <a:rect l="l" t="t" r="r" b="b"/>
                <a:pathLst>
                  <a:path w="11895" h="84">
                    <a:moveTo>
                      <a:pt x="0" y="0"/>
                    </a:moveTo>
                    <a:lnTo>
                      <a:pt x="0" y="84"/>
                    </a:lnTo>
                    <a:lnTo>
                      <a:pt x="11895" y="84"/>
                    </a:lnTo>
                    <a:lnTo>
                      <a:pt x="1189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945040" y="5909760"/>
                <a:ext cx="4320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0" y="0"/>
                    </a:moveTo>
                    <a:lnTo>
                      <a:pt x="0" y="0"/>
                    </a:lnTo>
                    <a:lnTo>
                      <a:pt x="0" y="31"/>
                    </a:lnTo>
                    <a:lnTo>
                      <a:pt x="2" y="61"/>
                    </a:lnTo>
                    <a:lnTo>
                      <a:pt x="3" y="91"/>
                    </a:lnTo>
                    <a:lnTo>
                      <a:pt x="6" y="121"/>
                    </a:lnTo>
                    <a:lnTo>
                      <a:pt x="9" y="150"/>
                    </a:lnTo>
                    <a:lnTo>
                      <a:pt x="13" y="180"/>
                    </a:lnTo>
                    <a:lnTo>
                      <a:pt x="18" y="209"/>
                    </a:lnTo>
                    <a:lnTo>
                      <a:pt x="24" y="238"/>
                    </a:lnTo>
                    <a:lnTo>
                      <a:pt x="30" y="266"/>
                    </a:lnTo>
                    <a:lnTo>
                      <a:pt x="36" y="294"/>
                    </a:lnTo>
                    <a:lnTo>
                      <a:pt x="45" y="323"/>
                    </a:lnTo>
                    <a:lnTo>
                      <a:pt x="53" y="350"/>
                    </a:lnTo>
                    <a:lnTo>
                      <a:pt x="62" y="377"/>
                    </a:lnTo>
                    <a:lnTo>
                      <a:pt x="71" y="405"/>
                    </a:lnTo>
                    <a:lnTo>
                      <a:pt x="81" y="432"/>
                    </a:lnTo>
                    <a:lnTo>
                      <a:pt x="92" y="459"/>
                    </a:lnTo>
                    <a:lnTo>
                      <a:pt x="103" y="485"/>
                    </a:lnTo>
                    <a:lnTo>
                      <a:pt x="116" y="510"/>
                    </a:lnTo>
                    <a:lnTo>
                      <a:pt x="129" y="536"/>
                    </a:lnTo>
                    <a:lnTo>
                      <a:pt x="142" y="561"/>
                    </a:lnTo>
                    <a:lnTo>
                      <a:pt x="156" y="586"/>
                    </a:lnTo>
                    <a:lnTo>
                      <a:pt x="170" y="611"/>
                    </a:lnTo>
                    <a:lnTo>
                      <a:pt x="185" y="634"/>
                    </a:lnTo>
                    <a:lnTo>
                      <a:pt x="201" y="658"/>
                    </a:lnTo>
                    <a:lnTo>
                      <a:pt x="217" y="681"/>
                    </a:lnTo>
                    <a:lnTo>
                      <a:pt x="233" y="704"/>
                    </a:lnTo>
                    <a:lnTo>
                      <a:pt x="250" y="726"/>
                    </a:lnTo>
                    <a:lnTo>
                      <a:pt x="269" y="748"/>
                    </a:lnTo>
                    <a:lnTo>
                      <a:pt x="287" y="770"/>
                    </a:lnTo>
                    <a:lnTo>
                      <a:pt x="305" y="791"/>
                    </a:lnTo>
                    <a:lnTo>
                      <a:pt x="324" y="811"/>
                    </a:lnTo>
                    <a:lnTo>
                      <a:pt x="345" y="831"/>
                    </a:lnTo>
                    <a:lnTo>
                      <a:pt x="365" y="852"/>
                    </a:lnTo>
                    <a:lnTo>
                      <a:pt x="385" y="871"/>
                    </a:lnTo>
                    <a:lnTo>
                      <a:pt x="406" y="889"/>
                    </a:lnTo>
                    <a:lnTo>
                      <a:pt x="428" y="907"/>
                    </a:lnTo>
                    <a:lnTo>
                      <a:pt x="450" y="926"/>
                    </a:lnTo>
                    <a:lnTo>
                      <a:pt x="472" y="943"/>
                    </a:lnTo>
                    <a:lnTo>
                      <a:pt x="494" y="959"/>
                    </a:lnTo>
                    <a:lnTo>
                      <a:pt x="518" y="975"/>
                    </a:lnTo>
                    <a:lnTo>
                      <a:pt x="542" y="991"/>
                    </a:lnTo>
                    <a:lnTo>
                      <a:pt x="565" y="1006"/>
                    </a:lnTo>
                    <a:lnTo>
                      <a:pt x="590" y="1020"/>
                    </a:lnTo>
                    <a:lnTo>
                      <a:pt x="615" y="1034"/>
                    </a:lnTo>
                    <a:lnTo>
                      <a:pt x="640" y="1047"/>
                    </a:lnTo>
                    <a:lnTo>
                      <a:pt x="666" y="1060"/>
                    </a:lnTo>
                    <a:lnTo>
                      <a:pt x="691" y="1073"/>
                    </a:lnTo>
                    <a:lnTo>
                      <a:pt x="717" y="1084"/>
                    </a:lnTo>
                    <a:lnTo>
                      <a:pt x="744" y="1095"/>
                    </a:lnTo>
                    <a:lnTo>
                      <a:pt x="771" y="1105"/>
                    </a:lnTo>
                    <a:lnTo>
                      <a:pt x="798" y="1114"/>
                    </a:lnTo>
                    <a:lnTo>
                      <a:pt x="826" y="1123"/>
                    </a:lnTo>
                    <a:lnTo>
                      <a:pt x="853" y="1131"/>
                    </a:lnTo>
                    <a:lnTo>
                      <a:pt x="882" y="1140"/>
                    </a:lnTo>
                    <a:lnTo>
                      <a:pt x="910" y="1146"/>
                    </a:lnTo>
                    <a:lnTo>
                      <a:pt x="938" y="1152"/>
                    </a:lnTo>
                    <a:lnTo>
                      <a:pt x="967" y="1158"/>
                    </a:lnTo>
                    <a:lnTo>
                      <a:pt x="996" y="1163"/>
                    </a:lnTo>
                    <a:lnTo>
                      <a:pt x="1025" y="1167"/>
                    </a:lnTo>
                    <a:lnTo>
                      <a:pt x="1055" y="1170"/>
                    </a:lnTo>
                    <a:lnTo>
                      <a:pt x="1085" y="1173"/>
                    </a:lnTo>
                    <a:lnTo>
                      <a:pt x="1115" y="1174"/>
                    </a:lnTo>
                    <a:lnTo>
                      <a:pt x="1145" y="1176"/>
                    </a:lnTo>
                    <a:lnTo>
                      <a:pt x="1175" y="1176"/>
                    </a:lnTo>
                    <a:lnTo>
                      <a:pt x="1175" y="1092"/>
                    </a:lnTo>
                    <a:lnTo>
                      <a:pt x="1147" y="1091"/>
                    </a:lnTo>
                    <a:lnTo>
                      <a:pt x="1119" y="1090"/>
                    </a:lnTo>
                    <a:lnTo>
                      <a:pt x="1091" y="1089"/>
                    </a:lnTo>
                    <a:lnTo>
                      <a:pt x="1063" y="1086"/>
                    </a:lnTo>
                    <a:lnTo>
                      <a:pt x="1037" y="1083"/>
                    </a:lnTo>
                    <a:lnTo>
                      <a:pt x="1009" y="1079"/>
                    </a:lnTo>
                    <a:lnTo>
                      <a:pt x="982" y="1075"/>
                    </a:lnTo>
                    <a:lnTo>
                      <a:pt x="955" y="1070"/>
                    </a:lnTo>
                    <a:lnTo>
                      <a:pt x="928" y="1064"/>
                    </a:lnTo>
                    <a:lnTo>
                      <a:pt x="902" y="1057"/>
                    </a:lnTo>
                    <a:lnTo>
                      <a:pt x="876" y="1050"/>
                    </a:lnTo>
                    <a:lnTo>
                      <a:pt x="851" y="1042"/>
                    </a:lnTo>
                    <a:lnTo>
                      <a:pt x="825" y="1034"/>
                    </a:lnTo>
                    <a:lnTo>
                      <a:pt x="800" y="1025"/>
                    </a:lnTo>
                    <a:lnTo>
                      <a:pt x="775" y="1016"/>
                    </a:lnTo>
                    <a:lnTo>
                      <a:pt x="751" y="1006"/>
                    </a:lnTo>
                    <a:lnTo>
                      <a:pt x="727" y="996"/>
                    </a:lnTo>
                    <a:lnTo>
                      <a:pt x="702" y="984"/>
                    </a:lnTo>
                    <a:lnTo>
                      <a:pt x="679" y="972"/>
                    </a:lnTo>
                    <a:lnTo>
                      <a:pt x="656" y="960"/>
                    </a:lnTo>
                    <a:lnTo>
                      <a:pt x="632" y="947"/>
                    </a:lnTo>
                    <a:lnTo>
                      <a:pt x="609" y="934"/>
                    </a:lnTo>
                    <a:lnTo>
                      <a:pt x="587" y="920"/>
                    </a:lnTo>
                    <a:lnTo>
                      <a:pt x="565" y="905"/>
                    </a:lnTo>
                    <a:lnTo>
                      <a:pt x="544" y="890"/>
                    </a:lnTo>
                    <a:lnTo>
                      <a:pt x="523" y="875"/>
                    </a:lnTo>
                    <a:lnTo>
                      <a:pt x="502" y="859"/>
                    </a:lnTo>
                    <a:lnTo>
                      <a:pt x="481" y="843"/>
                    </a:lnTo>
                    <a:lnTo>
                      <a:pt x="461" y="825"/>
                    </a:lnTo>
                    <a:lnTo>
                      <a:pt x="442" y="808"/>
                    </a:lnTo>
                    <a:lnTo>
                      <a:pt x="423" y="790"/>
                    </a:lnTo>
                    <a:lnTo>
                      <a:pt x="404" y="773"/>
                    </a:lnTo>
                    <a:lnTo>
                      <a:pt x="385" y="753"/>
                    </a:lnTo>
                    <a:lnTo>
                      <a:pt x="368" y="734"/>
                    </a:lnTo>
                    <a:lnTo>
                      <a:pt x="351" y="715"/>
                    </a:lnTo>
                    <a:lnTo>
                      <a:pt x="333" y="695"/>
                    </a:lnTo>
                    <a:lnTo>
                      <a:pt x="317" y="674"/>
                    </a:lnTo>
                    <a:lnTo>
                      <a:pt x="301" y="653"/>
                    </a:lnTo>
                    <a:lnTo>
                      <a:pt x="286" y="632"/>
                    </a:lnTo>
                    <a:lnTo>
                      <a:pt x="271" y="611"/>
                    </a:lnTo>
                    <a:lnTo>
                      <a:pt x="256" y="588"/>
                    </a:lnTo>
                    <a:lnTo>
                      <a:pt x="242" y="567"/>
                    </a:lnTo>
                    <a:lnTo>
                      <a:pt x="229" y="544"/>
                    </a:lnTo>
                    <a:lnTo>
                      <a:pt x="216" y="520"/>
                    </a:lnTo>
                    <a:lnTo>
                      <a:pt x="204" y="497"/>
                    </a:lnTo>
                    <a:lnTo>
                      <a:pt x="192" y="474"/>
                    </a:lnTo>
                    <a:lnTo>
                      <a:pt x="180" y="449"/>
                    </a:lnTo>
                    <a:lnTo>
                      <a:pt x="170" y="425"/>
                    </a:lnTo>
                    <a:lnTo>
                      <a:pt x="160" y="401"/>
                    </a:lnTo>
                    <a:lnTo>
                      <a:pt x="151" y="375"/>
                    </a:lnTo>
                    <a:lnTo>
                      <a:pt x="142" y="351"/>
                    </a:lnTo>
                    <a:lnTo>
                      <a:pt x="134" y="325"/>
                    </a:lnTo>
                    <a:lnTo>
                      <a:pt x="126" y="299"/>
                    </a:lnTo>
                    <a:lnTo>
                      <a:pt x="119" y="273"/>
                    </a:lnTo>
                    <a:lnTo>
                      <a:pt x="112" y="248"/>
                    </a:lnTo>
                    <a:lnTo>
                      <a:pt x="106" y="220"/>
                    </a:lnTo>
                    <a:lnTo>
                      <a:pt x="101" y="194"/>
                    </a:lnTo>
                    <a:lnTo>
                      <a:pt x="97" y="167"/>
                    </a:lnTo>
                    <a:lnTo>
                      <a:pt x="93" y="139"/>
                    </a:lnTo>
                    <a:lnTo>
                      <a:pt x="90" y="112"/>
                    </a:lnTo>
                    <a:lnTo>
                      <a:pt x="87" y="85"/>
                    </a:lnTo>
                    <a:lnTo>
                      <a:pt x="86" y="57"/>
                    </a:lnTo>
                    <a:lnTo>
                      <a:pt x="85" y="29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945040" y="58420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84" h="2323">
                    <a:moveTo>
                      <a:pt x="84" y="0"/>
                    </a:moveTo>
                    <a:lnTo>
                      <a:pt x="0" y="0"/>
                    </a:lnTo>
                    <a:lnTo>
                      <a:pt x="0" y="2323"/>
                    </a:lnTo>
                    <a:lnTo>
                      <a:pt x="84" y="2323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45040" y="5808240"/>
                <a:ext cx="4320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1175" y="0"/>
                    </a:moveTo>
                    <a:lnTo>
                      <a:pt x="1175" y="0"/>
                    </a:lnTo>
                    <a:lnTo>
                      <a:pt x="1145" y="1"/>
                    </a:lnTo>
                    <a:lnTo>
                      <a:pt x="1115" y="2"/>
                    </a:lnTo>
                    <a:lnTo>
                      <a:pt x="1085" y="4"/>
                    </a:lnTo>
                    <a:lnTo>
                      <a:pt x="1055" y="6"/>
                    </a:lnTo>
                    <a:lnTo>
                      <a:pt x="1025" y="10"/>
                    </a:lnTo>
                    <a:lnTo>
                      <a:pt x="996" y="14"/>
                    </a:lnTo>
                    <a:lnTo>
                      <a:pt x="968" y="18"/>
                    </a:lnTo>
                    <a:lnTo>
                      <a:pt x="938" y="25"/>
                    </a:lnTo>
                    <a:lnTo>
                      <a:pt x="910" y="31"/>
                    </a:lnTo>
                    <a:lnTo>
                      <a:pt x="882" y="38"/>
                    </a:lnTo>
                    <a:lnTo>
                      <a:pt x="853" y="45"/>
                    </a:lnTo>
                    <a:lnTo>
                      <a:pt x="826" y="54"/>
                    </a:lnTo>
                    <a:lnTo>
                      <a:pt x="798" y="62"/>
                    </a:lnTo>
                    <a:lnTo>
                      <a:pt x="771" y="72"/>
                    </a:lnTo>
                    <a:lnTo>
                      <a:pt x="745" y="82"/>
                    </a:lnTo>
                    <a:lnTo>
                      <a:pt x="717" y="93"/>
                    </a:lnTo>
                    <a:lnTo>
                      <a:pt x="691" y="105"/>
                    </a:lnTo>
                    <a:lnTo>
                      <a:pt x="666" y="117"/>
                    </a:lnTo>
                    <a:lnTo>
                      <a:pt x="640" y="129"/>
                    </a:lnTo>
                    <a:lnTo>
                      <a:pt x="615" y="142"/>
                    </a:lnTo>
                    <a:lnTo>
                      <a:pt x="590" y="156"/>
                    </a:lnTo>
                    <a:lnTo>
                      <a:pt x="565" y="170"/>
                    </a:lnTo>
                    <a:lnTo>
                      <a:pt x="542" y="186"/>
                    </a:lnTo>
                    <a:lnTo>
                      <a:pt x="518" y="201"/>
                    </a:lnTo>
                    <a:lnTo>
                      <a:pt x="494" y="217"/>
                    </a:lnTo>
                    <a:lnTo>
                      <a:pt x="472" y="234"/>
                    </a:lnTo>
                    <a:lnTo>
                      <a:pt x="450" y="252"/>
                    </a:lnTo>
                    <a:lnTo>
                      <a:pt x="428" y="269"/>
                    </a:lnTo>
                    <a:lnTo>
                      <a:pt x="406" y="287"/>
                    </a:lnTo>
                    <a:lnTo>
                      <a:pt x="385" y="306"/>
                    </a:lnTo>
                    <a:lnTo>
                      <a:pt x="365" y="326"/>
                    </a:lnTo>
                    <a:lnTo>
                      <a:pt x="345" y="345"/>
                    </a:lnTo>
                    <a:lnTo>
                      <a:pt x="324" y="365"/>
                    </a:lnTo>
                    <a:lnTo>
                      <a:pt x="305" y="385"/>
                    </a:lnTo>
                    <a:lnTo>
                      <a:pt x="287" y="407"/>
                    </a:lnTo>
                    <a:lnTo>
                      <a:pt x="269" y="428"/>
                    </a:lnTo>
                    <a:lnTo>
                      <a:pt x="250" y="450"/>
                    </a:lnTo>
                    <a:lnTo>
                      <a:pt x="233" y="472"/>
                    </a:lnTo>
                    <a:lnTo>
                      <a:pt x="217" y="496"/>
                    </a:lnTo>
                    <a:lnTo>
                      <a:pt x="201" y="519"/>
                    </a:lnTo>
                    <a:lnTo>
                      <a:pt x="185" y="542"/>
                    </a:lnTo>
                    <a:lnTo>
                      <a:pt x="170" y="567"/>
                    </a:lnTo>
                    <a:lnTo>
                      <a:pt x="156" y="591"/>
                    </a:lnTo>
                    <a:lnTo>
                      <a:pt x="142" y="615"/>
                    </a:lnTo>
                    <a:lnTo>
                      <a:pt x="129" y="641"/>
                    </a:lnTo>
                    <a:lnTo>
                      <a:pt x="116" y="666"/>
                    </a:lnTo>
                    <a:lnTo>
                      <a:pt x="103" y="692"/>
                    </a:lnTo>
                    <a:lnTo>
                      <a:pt x="92" y="719"/>
                    </a:lnTo>
                    <a:lnTo>
                      <a:pt x="81" y="745"/>
                    </a:lnTo>
                    <a:lnTo>
                      <a:pt x="71" y="771"/>
                    </a:lnTo>
                    <a:lnTo>
                      <a:pt x="62" y="799"/>
                    </a:lnTo>
                    <a:lnTo>
                      <a:pt x="53" y="826"/>
                    </a:lnTo>
                    <a:lnTo>
                      <a:pt x="45" y="854"/>
                    </a:lnTo>
                    <a:lnTo>
                      <a:pt x="36" y="882"/>
                    </a:lnTo>
                    <a:lnTo>
                      <a:pt x="30" y="910"/>
                    </a:lnTo>
                    <a:lnTo>
                      <a:pt x="24" y="939"/>
                    </a:lnTo>
                    <a:lnTo>
                      <a:pt x="18" y="968"/>
                    </a:lnTo>
                    <a:lnTo>
                      <a:pt x="13" y="997"/>
                    </a:lnTo>
                    <a:lnTo>
                      <a:pt x="9" y="1027"/>
                    </a:lnTo>
                    <a:lnTo>
                      <a:pt x="6" y="1056"/>
                    </a:lnTo>
                    <a:lnTo>
                      <a:pt x="3" y="1086"/>
                    </a:lnTo>
                    <a:lnTo>
                      <a:pt x="2" y="1116"/>
                    </a:lnTo>
                    <a:lnTo>
                      <a:pt x="0" y="1145"/>
                    </a:lnTo>
                    <a:lnTo>
                      <a:pt x="0" y="1176"/>
                    </a:lnTo>
                    <a:lnTo>
                      <a:pt x="84" y="1176"/>
                    </a:lnTo>
                    <a:lnTo>
                      <a:pt x="85" y="1147"/>
                    </a:lnTo>
                    <a:lnTo>
                      <a:pt x="86" y="1120"/>
                    </a:lnTo>
                    <a:lnTo>
                      <a:pt x="87" y="1092"/>
                    </a:lnTo>
                    <a:lnTo>
                      <a:pt x="90" y="1064"/>
                    </a:lnTo>
                    <a:lnTo>
                      <a:pt x="93" y="1037"/>
                    </a:lnTo>
                    <a:lnTo>
                      <a:pt x="97" y="1010"/>
                    </a:lnTo>
                    <a:lnTo>
                      <a:pt x="101" y="983"/>
                    </a:lnTo>
                    <a:lnTo>
                      <a:pt x="106" y="956"/>
                    </a:lnTo>
                    <a:lnTo>
                      <a:pt x="112" y="929"/>
                    </a:lnTo>
                    <a:lnTo>
                      <a:pt x="119" y="903"/>
                    </a:lnTo>
                    <a:lnTo>
                      <a:pt x="126" y="877"/>
                    </a:lnTo>
                    <a:lnTo>
                      <a:pt x="134" y="851"/>
                    </a:lnTo>
                    <a:lnTo>
                      <a:pt x="142" y="826"/>
                    </a:lnTo>
                    <a:lnTo>
                      <a:pt x="151" y="801"/>
                    </a:lnTo>
                    <a:lnTo>
                      <a:pt x="160" y="775"/>
                    </a:lnTo>
                    <a:lnTo>
                      <a:pt x="170" y="751"/>
                    </a:lnTo>
                    <a:lnTo>
                      <a:pt x="180" y="727"/>
                    </a:lnTo>
                    <a:lnTo>
                      <a:pt x="192" y="703"/>
                    </a:lnTo>
                    <a:lnTo>
                      <a:pt x="204" y="679"/>
                    </a:lnTo>
                    <a:lnTo>
                      <a:pt x="216" y="656"/>
                    </a:lnTo>
                    <a:lnTo>
                      <a:pt x="229" y="633"/>
                    </a:lnTo>
                    <a:lnTo>
                      <a:pt x="242" y="610"/>
                    </a:lnTo>
                    <a:lnTo>
                      <a:pt x="256" y="588"/>
                    </a:lnTo>
                    <a:lnTo>
                      <a:pt x="271" y="566"/>
                    </a:lnTo>
                    <a:lnTo>
                      <a:pt x="286" y="544"/>
                    </a:lnTo>
                    <a:lnTo>
                      <a:pt x="301" y="523"/>
                    </a:lnTo>
                    <a:lnTo>
                      <a:pt x="317" y="503"/>
                    </a:lnTo>
                    <a:lnTo>
                      <a:pt x="333" y="483"/>
                    </a:lnTo>
                    <a:lnTo>
                      <a:pt x="351" y="462"/>
                    </a:lnTo>
                    <a:lnTo>
                      <a:pt x="368" y="442"/>
                    </a:lnTo>
                    <a:lnTo>
                      <a:pt x="385" y="423"/>
                    </a:lnTo>
                    <a:lnTo>
                      <a:pt x="404" y="405"/>
                    </a:lnTo>
                    <a:lnTo>
                      <a:pt x="423" y="386"/>
                    </a:lnTo>
                    <a:lnTo>
                      <a:pt x="442" y="368"/>
                    </a:lnTo>
                    <a:lnTo>
                      <a:pt x="461" y="351"/>
                    </a:lnTo>
                    <a:lnTo>
                      <a:pt x="481" y="334"/>
                    </a:lnTo>
                    <a:lnTo>
                      <a:pt x="502" y="317"/>
                    </a:lnTo>
                    <a:lnTo>
                      <a:pt x="523" y="302"/>
                    </a:lnTo>
                    <a:lnTo>
                      <a:pt x="544" y="286"/>
                    </a:lnTo>
                    <a:lnTo>
                      <a:pt x="565" y="272"/>
                    </a:lnTo>
                    <a:lnTo>
                      <a:pt x="587" y="257"/>
                    </a:lnTo>
                    <a:lnTo>
                      <a:pt x="609" y="242"/>
                    </a:lnTo>
                    <a:lnTo>
                      <a:pt x="632" y="229"/>
                    </a:lnTo>
                    <a:lnTo>
                      <a:pt x="656" y="217"/>
                    </a:lnTo>
                    <a:lnTo>
                      <a:pt x="679" y="204"/>
                    </a:lnTo>
                    <a:lnTo>
                      <a:pt x="702" y="193"/>
                    </a:lnTo>
                    <a:lnTo>
                      <a:pt x="727" y="182"/>
                    </a:lnTo>
                    <a:lnTo>
                      <a:pt x="751" y="170"/>
                    </a:lnTo>
                    <a:lnTo>
                      <a:pt x="775" y="160"/>
                    </a:lnTo>
                    <a:lnTo>
                      <a:pt x="800" y="151"/>
                    </a:lnTo>
                    <a:lnTo>
                      <a:pt x="825" y="142"/>
                    </a:lnTo>
                    <a:lnTo>
                      <a:pt x="851" y="134"/>
                    </a:lnTo>
                    <a:lnTo>
                      <a:pt x="876" y="127"/>
                    </a:lnTo>
                    <a:lnTo>
                      <a:pt x="902" y="119"/>
                    </a:lnTo>
                    <a:lnTo>
                      <a:pt x="928" y="113"/>
                    </a:lnTo>
                    <a:lnTo>
                      <a:pt x="955" y="107"/>
                    </a:lnTo>
                    <a:lnTo>
                      <a:pt x="982" y="103"/>
                    </a:lnTo>
                    <a:lnTo>
                      <a:pt x="1009" y="97"/>
                    </a:lnTo>
                    <a:lnTo>
                      <a:pt x="1037" y="93"/>
                    </a:lnTo>
                    <a:lnTo>
                      <a:pt x="1063" y="90"/>
                    </a:lnTo>
                    <a:lnTo>
                      <a:pt x="1091" y="88"/>
                    </a:lnTo>
                    <a:lnTo>
                      <a:pt x="1119" y="86"/>
                    </a:lnTo>
                    <a:lnTo>
                      <a:pt x="1147" y="85"/>
                    </a:lnTo>
                    <a:lnTo>
                      <a:pt x="1175" y="85"/>
                    </a:lnTo>
                    <a:lnTo>
                      <a:pt x="1175" y="85"/>
                    </a:lnTo>
                    <a:lnTo>
                      <a:pt x="1175" y="0"/>
                    </a:lnTo>
                    <a:lnTo>
                      <a:pt x="1175" y="0"/>
                    </a:lnTo>
                    <a:lnTo>
                      <a:pt x="1175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88240" y="5808240"/>
                <a:ext cx="442440" cy="2160"/>
              </a:xfrm>
              <a:custGeom>
                <a:avLst/>
                <a:gdLst/>
                <a:ahLst/>
                <a:rect l="l" t="t" r="r" b="b"/>
                <a:pathLst>
                  <a:path w="11895" h="85">
                    <a:moveTo>
                      <a:pt x="11895" y="85"/>
                    </a:moveTo>
                    <a:lnTo>
                      <a:pt x="11895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1895" y="85"/>
                    </a:lnTo>
                    <a:lnTo>
                      <a:pt x="11895" y="85"/>
                    </a:lnTo>
                    <a:lnTo>
                      <a:pt x="11895" y="0"/>
                    </a:lnTo>
                    <a:lnTo>
                      <a:pt x="11895" y="0"/>
                    </a:lnTo>
                    <a:lnTo>
                      <a:pt x="11895" y="0"/>
                    </a:lnTo>
                    <a:lnTo>
                      <a:pt x="11895" y="85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0680" y="580824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1175" y="1176"/>
                    </a:moveTo>
                    <a:lnTo>
                      <a:pt x="1175" y="1176"/>
                    </a:lnTo>
                    <a:lnTo>
                      <a:pt x="1175" y="1145"/>
                    </a:lnTo>
                    <a:lnTo>
                      <a:pt x="1173" y="1115"/>
                    </a:lnTo>
                    <a:lnTo>
                      <a:pt x="1172" y="1086"/>
                    </a:lnTo>
                    <a:lnTo>
                      <a:pt x="1169" y="1056"/>
                    </a:lnTo>
                    <a:lnTo>
                      <a:pt x="1165" y="1027"/>
                    </a:lnTo>
                    <a:lnTo>
                      <a:pt x="1162" y="997"/>
                    </a:lnTo>
                    <a:lnTo>
                      <a:pt x="1157" y="968"/>
                    </a:lnTo>
                    <a:lnTo>
                      <a:pt x="1151" y="939"/>
                    </a:lnTo>
                    <a:lnTo>
                      <a:pt x="1145" y="910"/>
                    </a:lnTo>
                    <a:lnTo>
                      <a:pt x="1138" y="882"/>
                    </a:lnTo>
                    <a:lnTo>
                      <a:pt x="1131" y="854"/>
                    </a:lnTo>
                    <a:lnTo>
                      <a:pt x="1123" y="826"/>
                    </a:lnTo>
                    <a:lnTo>
                      <a:pt x="1113" y="799"/>
                    </a:lnTo>
                    <a:lnTo>
                      <a:pt x="1104" y="772"/>
                    </a:lnTo>
                    <a:lnTo>
                      <a:pt x="1093" y="745"/>
                    </a:lnTo>
                    <a:lnTo>
                      <a:pt x="1083" y="719"/>
                    </a:lnTo>
                    <a:lnTo>
                      <a:pt x="1071" y="692"/>
                    </a:lnTo>
                    <a:lnTo>
                      <a:pt x="1059" y="666"/>
                    </a:lnTo>
                    <a:lnTo>
                      <a:pt x="1047" y="641"/>
                    </a:lnTo>
                    <a:lnTo>
                      <a:pt x="1033" y="615"/>
                    </a:lnTo>
                    <a:lnTo>
                      <a:pt x="1019" y="591"/>
                    </a:lnTo>
                    <a:lnTo>
                      <a:pt x="1005" y="567"/>
                    </a:lnTo>
                    <a:lnTo>
                      <a:pt x="990" y="542"/>
                    </a:lnTo>
                    <a:lnTo>
                      <a:pt x="975" y="519"/>
                    </a:lnTo>
                    <a:lnTo>
                      <a:pt x="958" y="496"/>
                    </a:lnTo>
                    <a:lnTo>
                      <a:pt x="942" y="472"/>
                    </a:lnTo>
                    <a:lnTo>
                      <a:pt x="925" y="450"/>
                    </a:lnTo>
                    <a:lnTo>
                      <a:pt x="907" y="428"/>
                    </a:lnTo>
                    <a:lnTo>
                      <a:pt x="889" y="407"/>
                    </a:lnTo>
                    <a:lnTo>
                      <a:pt x="870" y="385"/>
                    </a:lnTo>
                    <a:lnTo>
                      <a:pt x="851" y="365"/>
                    </a:lnTo>
                    <a:lnTo>
                      <a:pt x="831" y="345"/>
                    </a:lnTo>
                    <a:lnTo>
                      <a:pt x="811" y="326"/>
                    </a:lnTo>
                    <a:lnTo>
                      <a:pt x="790" y="306"/>
                    </a:lnTo>
                    <a:lnTo>
                      <a:pt x="769" y="287"/>
                    </a:lnTo>
                    <a:lnTo>
                      <a:pt x="748" y="269"/>
                    </a:lnTo>
                    <a:lnTo>
                      <a:pt x="725" y="252"/>
                    </a:lnTo>
                    <a:lnTo>
                      <a:pt x="703" y="234"/>
                    </a:lnTo>
                    <a:lnTo>
                      <a:pt x="681" y="217"/>
                    </a:lnTo>
                    <a:lnTo>
                      <a:pt x="658" y="201"/>
                    </a:lnTo>
                    <a:lnTo>
                      <a:pt x="633" y="186"/>
                    </a:lnTo>
                    <a:lnTo>
                      <a:pt x="609" y="170"/>
                    </a:lnTo>
                    <a:lnTo>
                      <a:pt x="585" y="156"/>
                    </a:lnTo>
                    <a:lnTo>
                      <a:pt x="560" y="143"/>
                    </a:lnTo>
                    <a:lnTo>
                      <a:pt x="535" y="129"/>
                    </a:lnTo>
                    <a:lnTo>
                      <a:pt x="510" y="117"/>
                    </a:lnTo>
                    <a:lnTo>
                      <a:pt x="483" y="105"/>
                    </a:lnTo>
                    <a:lnTo>
                      <a:pt x="458" y="93"/>
                    </a:lnTo>
                    <a:lnTo>
                      <a:pt x="431" y="82"/>
                    </a:lnTo>
                    <a:lnTo>
                      <a:pt x="404" y="72"/>
                    </a:lnTo>
                    <a:lnTo>
                      <a:pt x="377" y="62"/>
                    </a:lnTo>
                    <a:lnTo>
                      <a:pt x="349" y="54"/>
                    </a:lnTo>
                    <a:lnTo>
                      <a:pt x="321" y="45"/>
                    </a:lnTo>
                    <a:lnTo>
                      <a:pt x="294" y="38"/>
                    </a:lnTo>
                    <a:lnTo>
                      <a:pt x="265" y="31"/>
                    </a:lnTo>
                    <a:lnTo>
                      <a:pt x="237" y="25"/>
                    </a:lnTo>
                    <a:lnTo>
                      <a:pt x="208" y="18"/>
                    </a:lnTo>
                    <a:lnTo>
                      <a:pt x="179" y="14"/>
                    </a:lnTo>
                    <a:lnTo>
                      <a:pt x="150" y="10"/>
                    </a:lnTo>
                    <a:lnTo>
                      <a:pt x="119" y="6"/>
                    </a:lnTo>
                    <a:lnTo>
                      <a:pt x="90" y="4"/>
                    </a:lnTo>
                    <a:lnTo>
                      <a:pt x="61" y="2"/>
                    </a:lnTo>
                    <a:lnTo>
                      <a:pt x="30" y="1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28" y="85"/>
                    </a:lnTo>
                    <a:lnTo>
                      <a:pt x="56" y="86"/>
                    </a:lnTo>
                    <a:lnTo>
                      <a:pt x="84" y="88"/>
                    </a:lnTo>
                    <a:lnTo>
                      <a:pt x="111" y="90"/>
                    </a:lnTo>
                    <a:lnTo>
                      <a:pt x="139" y="93"/>
                    </a:lnTo>
                    <a:lnTo>
                      <a:pt x="166" y="97"/>
                    </a:lnTo>
                    <a:lnTo>
                      <a:pt x="193" y="103"/>
                    </a:lnTo>
                    <a:lnTo>
                      <a:pt x="220" y="107"/>
                    </a:lnTo>
                    <a:lnTo>
                      <a:pt x="246" y="113"/>
                    </a:lnTo>
                    <a:lnTo>
                      <a:pt x="272" y="119"/>
                    </a:lnTo>
                    <a:lnTo>
                      <a:pt x="299" y="127"/>
                    </a:lnTo>
                    <a:lnTo>
                      <a:pt x="324" y="134"/>
                    </a:lnTo>
                    <a:lnTo>
                      <a:pt x="349" y="142"/>
                    </a:lnTo>
                    <a:lnTo>
                      <a:pt x="375" y="151"/>
                    </a:lnTo>
                    <a:lnTo>
                      <a:pt x="400" y="160"/>
                    </a:lnTo>
                    <a:lnTo>
                      <a:pt x="424" y="170"/>
                    </a:lnTo>
                    <a:lnTo>
                      <a:pt x="449" y="182"/>
                    </a:lnTo>
                    <a:lnTo>
                      <a:pt x="473" y="193"/>
                    </a:lnTo>
                    <a:lnTo>
                      <a:pt x="496" y="204"/>
                    </a:lnTo>
                    <a:lnTo>
                      <a:pt x="520" y="217"/>
                    </a:lnTo>
                    <a:lnTo>
                      <a:pt x="543" y="229"/>
                    </a:lnTo>
                    <a:lnTo>
                      <a:pt x="565" y="242"/>
                    </a:lnTo>
                    <a:lnTo>
                      <a:pt x="588" y="257"/>
                    </a:lnTo>
                    <a:lnTo>
                      <a:pt x="610" y="272"/>
                    </a:lnTo>
                    <a:lnTo>
                      <a:pt x="631" y="286"/>
                    </a:lnTo>
                    <a:lnTo>
                      <a:pt x="652" y="302"/>
                    </a:lnTo>
                    <a:lnTo>
                      <a:pt x="674" y="317"/>
                    </a:lnTo>
                    <a:lnTo>
                      <a:pt x="694" y="334"/>
                    </a:lnTo>
                    <a:lnTo>
                      <a:pt x="714" y="351"/>
                    </a:lnTo>
                    <a:lnTo>
                      <a:pt x="734" y="368"/>
                    </a:lnTo>
                    <a:lnTo>
                      <a:pt x="753" y="386"/>
                    </a:lnTo>
                    <a:lnTo>
                      <a:pt x="771" y="405"/>
                    </a:lnTo>
                    <a:lnTo>
                      <a:pt x="789" y="423"/>
                    </a:lnTo>
                    <a:lnTo>
                      <a:pt x="807" y="442"/>
                    </a:lnTo>
                    <a:lnTo>
                      <a:pt x="825" y="462"/>
                    </a:lnTo>
                    <a:lnTo>
                      <a:pt x="842" y="483"/>
                    </a:lnTo>
                    <a:lnTo>
                      <a:pt x="858" y="503"/>
                    </a:lnTo>
                    <a:lnTo>
                      <a:pt x="874" y="523"/>
                    </a:lnTo>
                    <a:lnTo>
                      <a:pt x="890" y="544"/>
                    </a:lnTo>
                    <a:lnTo>
                      <a:pt x="905" y="566"/>
                    </a:lnTo>
                    <a:lnTo>
                      <a:pt x="919" y="588"/>
                    </a:lnTo>
                    <a:lnTo>
                      <a:pt x="933" y="610"/>
                    </a:lnTo>
                    <a:lnTo>
                      <a:pt x="946" y="633"/>
                    </a:lnTo>
                    <a:lnTo>
                      <a:pt x="959" y="656"/>
                    </a:lnTo>
                    <a:lnTo>
                      <a:pt x="972" y="679"/>
                    </a:lnTo>
                    <a:lnTo>
                      <a:pt x="984" y="703"/>
                    </a:lnTo>
                    <a:lnTo>
                      <a:pt x="995" y="727"/>
                    </a:lnTo>
                    <a:lnTo>
                      <a:pt x="1005" y="751"/>
                    </a:lnTo>
                    <a:lnTo>
                      <a:pt x="1015" y="775"/>
                    </a:lnTo>
                    <a:lnTo>
                      <a:pt x="1024" y="801"/>
                    </a:lnTo>
                    <a:lnTo>
                      <a:pt x="1033" y="826"/>
                    </a:lnTo>
                    <a:lnTo>
                      <a:pt x="1042" y="851"/>
                    </a:lnTo>
                    <a:lnTo>
                      <a:pt x="1050" y="877"/>
                    </a:lnTo>
                    <a:lnTo>
                      <a:pt x="1057" y="903"/>
                    </a:lnTo>
                    <a:lnTo>
                      <a:pt x="1063" y="929"/>
                    </a:lnTo>
                    <a:lnTo>
                      <a:pt x="1069" y="956"/>
                    </a:lnTo>
                    <a:lnTo>
                      <a:pt x="1074" y="982"/>
                    </a:lnTo>
                    <a:lnTo>
                      <a:pt x="1078" y="1010"/>
                    </a:lnTo>
                    <a:lnTo>
                      <a:pt x="1082" y="1037"/>
                    </a:lnTo>
                    <a:lnTo>
                      <a:pt x="1085" y="1064"/>
                    </a:lnTo>
                    <a:lnTo>
                      <a:pt x="1087" y="1092"/>
                    </a:lnTo>
                    <a:lnTo>
                      <a:pt x="1089" y="1120"/>
                    </a:lnTo>
                    <a:lnTo>
                      <a:pt x="1090" y="1147"/>
                    </a:lnTo>
                    <a:lnTo>
                      <a:pt x="1091" y="1176"/>
                    </a:lnTo>
                    <a:lnTo>
                      <a:pt x="1091" y="1176"/>
                    </a:lnTo>
                    <a:lnTo>
                      <a:pt x="1175" y="1176"/>
                    </a:lnTo>
                    <a:lnTo>
                      <a:pt x="1175" y="1176"/>
                    </a:lnTo>
                    <a:lnTo>
                      <a:pt x="1175" y="1176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71720" y="58420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84" h="2323">
                    <a:moveTo>
                      <a:pt x="0" y="2323"/>
                    </a:moveTo>
                    <a:lnTo>
                      <a:pt x="84" y="23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2323"/>
                    </a:lnTo>
                    <a:lnTo>
                      <a:pt x="0" y="2323"/>
                    </a:lnTo>
                    <a:lnTo>
                      <a:pt x="84" y="2323"/>
                    </a:lnTo>
                    <a:lnTo>
                      <a:pt x="84" y="2323"/>
                    </a:lnTo>
                    <a:lnTo>
                      <a:pt x="84" y="2323"/>
                    </a:lnTo>
                    <a:lnTo>
                      <a:pt x="0" y="2323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6163560" y="5841720"/>
                <a:ext cx="110160" cy="51120"/>
                <a:chOff x="6163560" y="5841720"/>
                <a:chExt cx="110160" cy="51120"/>
              </a:xfrm>
            </p:grpSpPr>
            <p:sp>
              <p:nvSpPr>
                <p:cNvPr id="432" name=""/>
                <p:cNvSpPr/>
                <p:nvPr/>
              </p:nvSpPr>
              <p:spPr>
                <a:xfrm flipH="1" rot="16200000">
                  <a:off x="6192720" y="5812560"/>
                  <a:ext cx="50760" cy="1098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 rot="5394600">
                  <a:off x="6193080" y="5812200"/>
                  <a:ext cx="50760" cy="109800"/>
                </a:xfrm>
                <a:prstGeom prst="rtTriangl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4" name=""/>
            <p:cNvGrpSpPr/>
            <p:nvPr/>
          </p:nvGrpSpPr>
          <p:grpSpPr>
            <a:xfrm>
              <a:off x="7535880" y="5740560"/>
              <a:ext cx="603000" cy="203040"/>
              <a:chOff x="7535880" y="5740560"/>
              <a:chExt cx="603000" cy="203040"/>
            </a:xfrm>
          </p:grpSpPr>
          <p:sp>
            <p:nvSpPr>
              <p:cNvPr id="435" name=""/>
              <p:cNvSpPr/>
              <p:nvPr/>
            </p:nvSpPr>
            <p:spPr>
              <a:xfrm>
                <a:off x="7536600" y="5808960"/>
                <a:ext cx="526320" cy="133200"/>
              </a:xfrm>
              <a:custGeom>
                <a:avLst/>
                <a:gdLst/>
                <a:ahLst/>
                <a:rect l="l" t="t" r="r" b="b"/>
                <a:pathLst>
                  <a:path w="14160" h="4589">
                    <a:moveTo>
                      <a:pt x="14160" y="3456"/>
                    </a:moveTo>
                    <a:lnTo>
                      <a:pt x="14159" y="3515"/>
                    </a:lnTo>
                    <a:lnTo>
                      <a:pt x="14155" y="3573"/>
                    </a:lnTo>
                    <a:lnTo>
                      <a:pt x="14147" y="3630"/>
                    </a:lnTo>
                    <a:lnTo>
                      <a:pt x="14137" y="3685"/>
                    </a:lnTo>
                    <a:lnTo>
                      <a:pt x="14124" y="3740"/>
                    </a:lnTo>
                    <a:lnTo>
                      <a:pt x="14109" y="3794"/>
                    </a:lnTo>
                    <a:lnTo>
                      <a:pt x="14091" y="3847"/>
                    </a:lnTo>
                    <a:lnTo>
                      <a:pt x="14071" y="3897"/>
                    </a:lnTo>
                    <a:lnTo>
                      <a:pt x="14048" y="3948"/>
                    </a:lnTo>
                    <a:lnTo>
                      <a:pt x="14023" y="3997"/>
                    </a:lnTo>
                    <a:lnTo>
                      <a:pt x="13996" y="4044"/>
                    </a:lnTo>
                    <a:lnTo>
                      <a:pt x="13966" y="4090"/>
                    </a:lnTo>
                    <a:lnTo>
                      <a:pt x="13935" y="4134"/>
                    </a:lnTo>
                    <a:lnTo>
                      <a:pt x="13901" y="4177"/>
                    </a:lnTo>
                    <a:lnTo>
                      <a:pt x="13866" y="4219"/>
                    </a:lnTo>
                    <a:lnTo>
                      <a:pt x="13828" y="4258"/>
                    </a:lnTo>
                    <a:lnTo>
                      <a:pt x="13789" y="4296"/>
                    </a:lnTo>
                    <a:lnTo>
                      <a:pt x="13747" y="4331"/>
                    </a:lnTo>
                    <a:lnTo>
                      <a:pt x="13705" y="4364"/>
                    </a:lnTo>
                    <a:lnTo>
                      <a:pt x="13660" y="4396"/>
                    </a:lnTo>
                    <a:lnTo>
                      <a:pt x="13615" y="4425"/>
                    </a:lnTo>
                    <a:lnTo>
                      <a:pt x="13567" y="4453"/>
                    </a:lnTo>
                    <a:lnTo>
                      <a:pt x="13518" y="4478"/>
                    </a:lnTo>
                    <a:lnTo>
                      <a:pt x="13468" y="4500"/>
                    </a:lnTo>
                    <a:lnTo>
                      <a:pt x="13417" y="4522"/>
                    </a:lnTo>
                    <a:lnTo>
                      <a:pt x="13364" y="4539"/>
                    </a:lnTo>
                    <a:lnTo>
                      <a:pt x="13311" y="4554"/>
                    </a:lnTo>
                    <a:lnTo>
                      <a:pt x="13255" y="4567"/>
                    </a:lnTo>
                    <a:lnTo>
                      <a:pt x="13199" y="4576"/>
                    </a:lnTo>
                    <a:lnTo>
                      <a:pt x="13142" y="4584"/>
                    </a:lnTo>
                    <a:lnTo>
                      <a:pt x="13086" y="4588"/>
                    </a:lnTo>
                    <a:lnTo>
                      <a:pt x="13027" y="4589"/>
                    </a:lnTo>
                    <a:lnTo>
                      <a:pt x="1132" y="4589"/>
                    </a:lnTo>
                    <a:lnTo>
                      <a:pt x="1074" y="4588"/>
                    </a:lnTo>
                    <a:lnTo>
                      <a:pt x="1016" y="4584"/>
                    </a:lnTo>
                    <a:lnTo>
                      <a:pt x="959" y="4576"/>
                    </a:lnTo>
                    <a:lnTo>
                      <a:pt x="903" y="4567"/>
                    </a:lnTo>
                    <a:lnTo>
                      <a:pt x="849" y="4554"/>
                    </a:lnTo>
                    <a:lnTo>
                      <a:pt x="795" y="4539"/>
                    </a:lnTo>
                    <a:lnTo>
                      <a:pt x="742" y="4522"/>
                    </a:lnTo>
                    <a:lnTo>
                      <a:pt x="691" y="4500"/>
                    </a:lnTo>
                    <a:lnTo>
                      <a:pt x="641" y="4478"/>
                    </a:lnTo>
                    <a:lnTo>
                      <a:pt x="592" y="4453"/>
                    </a:lnTo>
                    <a:lnTo>
                      <a:pt x="545" y="4425"/>
                    </a:lnTo>
                    <a:lnTo>
                      <a:pt x="499" y="4396"/>
                    </a:lnTo>
                    <a:lnTo>
                      <a:pt x="455" y="4364"/>
                    </a:lnTo>
                    <a:lnTo>
                      <a:pt x="411" y="4331"/>
                    </a:lnTo>
                    <a:lnTo>
                      <a:pt x="370" y="4296"/>
                    </a:lnTo>
                    <a:lnTo>
                      <a:pt x="331" y="4258"/>
                    </a:lnTo>
                    <a:lnTo>
                      <a:pt x="293" y="4219"/>
                    </a:lnTo>
                    <a:lnTo>
                      <a:pt x="258" y="4177"/>
                    </a:lnTo>
                    <a:lnTo>
                      <a:pt x="224" y="4134"/>
                    </a:lnTo>
                    <a:lnTo>
                      <a:pt x="193" y="4090"/>
                    </a:lnTo>
                    <a:lnTo>
                      <a:pt x="163" y="4044"/>
                    </a:lnTo>
                    <a:lnTo>
                      <a:pt x="136" y="3997"/>
                    </a:lnTo>
                    <a:lnTo>
                      <a:pt x="111" y="3948"/>
                    </a:lnTo>
                    <a:lnTo>
                      <a:pt x="89" y="3897"/>
                    </a:lnTo>
                    <a:lnTo>
                      <a:pt x="67" y="3847"/>
                    </a:lnTo>
                    <a:lnTo>
                      <a:pt x="50" y="3794"/>
                    </a:lnTo>
                    <a:lnTo>
                      <a:pt x="35" y="3740"/>
                    </a:lnTo>
                    <a:lnTo>
                      <a:pt x="22" y="3685"/>
                    </a:lnTo>
                    <a:lnTo>
                      <a:pt x="13" y="3630"/>
                    </a:lnTo>
                    <a:lnTo>
                      <a:pt x="5" y="3573"/>
                    </a:lnTo>
                    <a:lnTo>
                      <a:pt x="1" y="3515"/>
                    </a:lnTo>
                    <a:lnTo>
                      <a:pt x="0" y="3456"/>
                    </a:lnTo>
                    <a:lnTo>
                      <a:pt x="0" y="1133"/>
                    </a:lnTo>
                    <a:lnTo>
                      <a:pt x="1" y="1075"/>
                    </a:lnTo>
                    <a:lnTo>
                      <a:pt x="5" y="1017"/>
                    </a:lnTo>
                    <a:lnTo>
                      <a:pt x="13" y="960"/>
                    </a:lnTo>
                    <a:lnTo>
                      <a:pt x="22" y="905"/>
                    </a:lnTo>
                    <a:lnTo>
                      <a:pt x="35" y="850"/>
                    </a:lnTo>
                    <a:lnTo>
                      <a:pt x="50" y="796"/>
                    </a:lnTo>
                    <a:lnTo>
                      <a:pt x="67" y="744"/>
                    </a:lnTo>
                    <a:lnTo>
                      <a:pt x="89" y="692"/>
                    </a:lnTo>
                    <a:lnTo>
                      <a:pt x="111" y="641"/>
                    </a:lnTo>
                    <a:lnTo>
                      <a:pt x="136" y="593"/>
                    </a:lnTo>
                    <a:lnTo>
                      <a:pt x="163" y="545"/>
                    </a:lnTo>
                    <a:lnTo>
                      <a:pt x="193" y="499"/>
                    </a:lnTo>
                    <a:lnTo>
                      <a:pt x="224" y="455"/>
                    </a:lnTo>
                    <a:lnTo>
                      <a:pt x="258" y="412"/>
                    </a:lnTo>
                    <a:lnTo>
                      <a:pt x="293" y="371"/>
                    </a:lnTo>
                    <a:lnTo>
                      <a:pt x="331" y="332"/>
                    </a:lnTo>
                    <a:lnTo>
                      <a:pt x="370" y="295"/>
                    </a:lnTo>
                    <a:lnTo>
                      <a:pt x="411" y="258"/>
                    </a:lnTo>
                    <a:lnTo>
                      <a:pt x="455" y="225"/>
                    </a:lnTo>
                    <a:lnTo>
                      <a:pt x="499" y="193"/>
                    </a:lnTo>
                    <a:lnTo>
                      <a:pt x="545" y="164"/>
                    </a:lnTo>
                    <a:lnTo>
                      <a:pt x="592" y="137"/>
                    </a:lnTo>
                    <a:lnTo>
                      <a:pt x="641" y="111"/>
                    </a:lnTo>
                    <a:lnTo>
                      <a:pt x="691" y="89"/>
                    </a:lnTo>
                    <a:lnTo>
                      <a:pt x="742" y="69"/>
                    </a:lnTo>
                    <a:lnTo>
                      <a:pt x="795" y="50"/>
                    </a:lnTo>
                    <a:lnTo>
                      <a:pt x="849" y="35"/>
                    </a:lnTo>
                    <a:lnTo>
                      <a:pt x="903" y="23"/>
                    </a:lnTo>
                    <a:lnTo>
                      <a:pt x="959" y="13"/>
                    </a:lnTo>
                    <a:lnTo>
                      <a:pt x="1016" y="6"/>
                    </a:lnTo>
                    <a:lnTo>
                      <a:pt x="1074" y="1"/>
                    </a:lnTo>
                    <a:lnTo>
                      <a:pt x="1132" y="0"/>
                    </a:lnTo>
                    <a:lnTo>
                      <a:pt x="13027" y="0"/>
                    </a:lnTo>
                    <a:lnTo>
                      <a:pt x="13086" y="1"/>
                    </a:lnTo>
                    <a:lnTo>
                      <a:pt x="13142" y="6"/>
                    </a:lnTo>
                    <a:lnTo>
                      <a:pt x="13199" y="13"/>
                    </a:lnTo>
                    <a:lnTo>
                      <a:pt x="13255" y="23"/>
                    </a:lnTo>
                    <a:lnTo>
                      <a:pt x="13311" y="35"/>
                    </a:lnTo>
                    <a:lnTo>
                      <a:pt x="13364" y="50"/>
                    </a:lnTo>
                    <a:lnTo>
                      <a:pt x="13417" y="69"/>
                    </a:lnTo>
                    <a:lnTo>
                      <a:pt x="13468" y="89"/>
                    </a:lnTo>
                    <a:lnTo>
                      <a:pt x="13518" y="111"/>
                    </a:lnTo>
                    <a:lnTo>
                      <a:pt x="13567" y="137"/>
                    </a:lnTo>
                    <a:lnTo>
                      <a:pt x="13615" y="164"/>
                    </a:lnTo>
                    <a:lnTo>
                      <a:pt x="13660" y="193"/>
                    </a:lnTo>
                    <a:lnTo>
                      <a:pt x="13705" y="225"/>
                    </a:lnTo>
                    <a:lnTo>
                      <a:pt x="13747" y="258"/>
                    </a:lnTo>
                    <a:lnTo>
                      <a:pt x="13789" y="295"/>
                    </a:lnTo>
                    <a:lnTo>
                      <a:pt x="13828" y="332"/>
                    </a:lnTo>
                    <a:lnTo>
                      <a:pt x="13866" y="371"/>
                    </a:lnTo>
                    <a:lnTo>
                      <a:pt x="13901" y="412"/>
                    </a:lnTo>
                    <a:lnTo>
                      <a:pt x="13935" y="455"/>
                    </a:lnTo>
                    <a:lnTo>
                      <a:pt x="13966" y="499"/>
                    </a:lnTo>
                    <a:lnTo>
                      <a:pt x="13996" y="545"/>
                    </a:lnTo>
                    <a:lnTo>
                      <a:pt x="14023" y="593"/>
                    </a:lnTo>
                    <a:lnTo>
                      <a:pt x="14048" y="641"/>
                    </a:lnTo>
                    <a:lnTo>
                      <a:pt x="14071" y="692"/>
                    </a:lnTo>
                    <a:lnTo>
                      <a:pt x="14091" y="744"/>
                    </a:lnTo>
                    <a:lnTo>
                      <a:pt x="14109" y="796"/>
                    </a:lnTo>
                    <a:lnTo>
                      <a:pt x="14124" y="850"/>
                    </a:lnTo>
                    <a:lnTo>
                      <a:pt x="14137" y="905"/>
                    </a:lnTo>
                    <a:lnTo>
                      <a:pt x="14147" y="960"/>
                    </a:lnTo>
                    <a:lnTo>
                      <a:pt x="14155" y="1017"/>
                    </a:lnTo>
                    <a:lnTo>
                      <a:pt x="14159" y="1075"/>
                    </a:lnTo>
                    <a:lnTo>
                      <a:pt x="14160" y="1133"/>
                    </a:lnTo>
                    <a:lnTo>
                      <a:pt x="14160" y="3456"/>
                    </a:lnTo>
                    <a:close/>
                  </a:path>
                </a:pathLst>
              </a:custGeom>
              <a:solidFill>
                <a:srgbClr val="b6b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51360" y="5741280"/>
                <a:ext cx="573480" cy="81360"/>
              </a:xfrm>
              <a:custGeom>
                <a:avLst/>
                <a:gdLst/>
                <a:ahLst/>
                <a:rect l="l" t="t" r="r" b="b"/>
                <a:pathLst>
                  <a:path w="15410" h="2819">
                    <a:moveTo>
                      <a:pt x="15410" y="331"/>
                    </a:moveTo>
                    <a:lnTo>
                      <a:pt x="15391" y="312"/>
                    </a:lnTo>
                    <a:lnTo>
                      <a:pt x="15371" y="293"/>
                    </a:lnTo>
                    <a:lnTo>
                      <a:pt x="15350" y="275"/>
                    </a:lnTo>
                    <a:lnTo>
                      <a:pt x="15329" y="258"/>
                    </a:lnTo>
                    <a:lnTo>
                      <a:pt x="15308" y="241"/>
                    </a:lnTo>
                    <a:lnTo>
                      <a:pt x="15286" y="225"/>
                    </a:lnTo>
                    <a:lnTo>
                      <a:pt x="15264" y="208"/>
                    </a:lnTo>
                    <a:lnTo>
                      <a:pt x="15242" y="193"/>
                    </a:lnTo>
                    <a:lnTo>
                      <a:pt x="15220" y="178"/>
                    </a:lnTo>
                    <a:lnTo>
                      <a:pt x="15196" y="164"/>
                    </a:lnTo>
                    <a:lnTo>
                      <a:pt x="15173" y="150"/>
                    </a:lnTo>
                    <a:lnTo>
                      <a:pt x="15149" y="136"/>
                    </a:lnTo>
                    <a:lnTo>
                      <a:pt x="15124" y="123"/>
                    </a:lnTo>
                    <a:lnTo>
                      <a:pt x="15100" y="111"/>
                    </a:lnTo>
                    <a:lnTo>
                      <a:pt x="15075" y="99"/>
                    </a:lnTo>
                    <a:lnTo>
                      <a:pt x="15050" y="89"/>
                    </a:lnTo>
                    <a:lnTo>
                      <a:pt x="15024" y="78"/>
                    </a:lnTo>
                    <a:lnTo>
                      <a:pt x="14999" y="68"/>
                    </a:lnTo>
                    <a:lnTo>
                      <a:pt x="14972" y="58"/>
                    </a:lnTo>
                    <a:lnTo>
                      <a:pt x="14946" y="50"/>
                    </a:lnTo>
                    <a:lnTo>
                      <a:pt x="14919" y="42"/>
                    </a:lnTo>
                    <a:lnTo>
                      <a:pt x="14892" y="35"/>
                    </a:lnTo>
                    <a:lnTo>
                      <a:pt x="14865" y="28"/>
                    </a:lnTo>
                    <a:lnTo>
                      <a:pt x="14838" y="22"/>
                    </a:lnTo>
                    <a:lnTo>
                      <a:pt x="14809" y="17"/>
                    </a:lnTo>
                    <a:lnTo>
                      <a:pt x="14782" y="13"/>
                    </a:lnTo>
                    <a:lnTo>
                      <a:pt x="14754" y="9"/>
                    </a:lnTo>
                    <a:lnTo>
                      <a:pt x="14725" y="5"/>
                    </a:lnTo>
                    <a:lnTo>
                      <a:pt x="14696" y="3"/>
                    </a:lnTo>
                    <a:lnTo>
                      <a:pt x="14667" y="1"/>
                    </a:lnTo>
                    <a:lnTo>
                      <a:pt x="14638" y="0"/>
                    </a:lnTo>
                    <a:lnTo>
                      <a:pt x="14609" y="0"/>
                    </a:lnTo>
                    <a:lnTo>
                      <a:pt x="2967" y="0"/>
                    </a:lnTo>
                    <a:lnTo>
                      <a:pt x="2910" y="1"/>
                    </a:lnTo>
                    <a:lnTo>
                      <a:pt x="2854" y="5"/>
                    </a:lnTo>
                    <a:lnTo>
                      <a:pt x="2801" y="11"/>
                    </a:lnTo>
                    <a:lnTo>
                      <a:pt x="2750" y="20"/>
                    </a:lnTo>
                    <a:lnTo>
                      <a:pt x="2700" y="31"/>
                    </a:lnTo>
                    <a:lnTo>
                      <a:pt x="2652" y="44"/>
                    </a:lnTo>
                    <a:lnTo>
                      <a:pt x="2606" y="59"/>
                    </a:lnTo>
                    <a:lnTo>
                      <a:pt x="2561" y="78"/>
                    </a:lnTo>
                    <a:lnTo>
                      <a:pt x="2518" y="97"/>
                    </a:lnTo>
                    <a:lnTo>
                      <a:pt x="2476" y="118"/>
                    </a:lnTo>
                    <a:lnTo>
                      <a:pt x="2435" y="140"/>
                    </a:lnTo>
                    <a:lnTo>
                      <a:pt x="2396" y="166"/>
                    </a:lnTo>
                    <a:lnTo>
                      <a:pt x="2357" y="191"/>
                    </a:lnTo>
                    <a:lnTo>
                      <a:pt x="2320" y="219"/>
                    </a:lnTo>
                    <a:lnTo>
                      <a:pt x="2283" y="248"/>
                    </a:lnTo>
                    <a:lnTo>
                      <a:pt x="2248" y="278"/>
                    </a:lnTo>
                    <a:lnTo>
                      <a:pt x="2214" y="310"/>
                    </a:lnTo>
                    <a:lnTo>
                      <a:pt x="2179" y="342"/>
                    </a:lnTo>
                    <a:lnTo>
                      <a:pt x="2145" y="376"/>
                    </a:lnTo>
                    <a:lnTo>
                      <a:pt x="2111" y="409"/>
                    </a:lnTo>
                    <a:lnTo>
                      <a:pt x="2044" y="480"/>
                    </a:lnTo>
                    <a:lnTo>
                      <a:pt x="1978" y="553"/>
                    </a:lnTo>
                    <a:lnTo>
                      <a:pt x="1913" y="627"/>
                    </a:lnTo>
                    <a:lnTo>
                      <a:pt x="1845" y="702"/>
                    </a:lnTo>
                    <a:lnTo>
                      <a:pt x="1810" y="740"/>
                    </a:lnTo>
                    <a:lnTo>
                      <a:pt x="1776" y="778"/>
                    </a:lnTo>
                    <a:lnTo>
                      <a:pt x="1740" y="814"/>
                    </a:lnTo>
                    <a:lnTo>
                      <a:pt x="1704" y="852"/>
                    </a:lnTo>
                    <a:lnTo>
                      <a:pt x="0" y="2688"/>
                    </a:lnTo>
                    <a:lnTo>
                      <a:pt x="13557" y="2819"/>
                    </a:lnTo>
                    <a:lnTo>
                      <a:pt x="15410" y="331"/>
                    </a:lnTo>
                    <a:close/>
                  </a:path>
                </a:pathLst>
              </a:custGeom>
              <a:solidFill>
                <a:srgbClr val="c8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95320" y="5740560"/>
                <a:ext cx="30600" cy="11520"/>
              </a:xfrm>
              <a:custGeom>
                <a:avLst/>
                <a:gdLst/>
                <a:ahLst/>
                <a:rect l="l" t="t" r="r" b="b"/>
                <a:pathLst>
                  <a:path w="830" h="403">
                    <a:moveTo>
                      <a:pt x="0" y="84"/>
                    </a:moveTo>
                    <a:lnTo>
                      <a:pt x="28" y="85"/>
                    </a:lnTo>
                    <a:lnTo>
                      <a:pt x="56" y="86"/>
                    </a:lnTo>
                    <a:lnTo>
                      <a:pt x="84" y="88"/>
                    </a:lnTo>
                    <a:lnTo>
                      <a:pt x="112" y="90"/>
                    </a:lnTo>
                    <a:lnTo>
                      <a:pt x="138" y="93"/>
                    </a:lnTo>
                    <a:lnTo>
                      <a:pt x="166" y="97"/>
                    </a:lnTo>
                    <a:lnTo>
                      <a:pt x="193" y="101"/>
                    </a:lnTo>
                    <a:lnTo>
                      <a:pt x="220" y="106"/>
                    </a:lnTo>
                    <a:lnTo>
                      <a:pt x="247" y="112"/>
                    </a:lnTo>
                    <a:lnTo>
                      <a:pt x="272" y="119"/>
                    </a:lnTo>
                    <a:lnTo>
                      <a:pt x="299" y="126"/>
                    </a:lnTo>
                    <a:lnTo>
                      <a:pt x="325" y="134"/>
                    </a:lnTo>
                    <a:lnTo>
                      <a:pt x="350" y="142"/>
                    </a:lnTo>
                    <a:lnTo>
                      <a:pt x="376" y="151"/>
                    </a:lnTo>
                    <a:lnTo>
                      <a:pt x="400" y="160"/>
                    </a:lnTo>
                    <a:lnTo>
                      <a:pt x="424" y="170"/>
                    </a:lnTo>
                    <a:lnTo>
                      <a:pt x="448" y="180"/>
                    </a:lnTo>
                    <a:lnTo>
                      <a:pt x="473" y="192"/>
                    </a:lnTo>
                    <a:lnTo>
                      <a:pt x="496" y="204"/>
                    </a:lnTo>
                    <a:lnTo>
                      <a:pt x="519" y="216"/>
                    </a:lnTo>
                    <a:lnTo>
                      <a:pt x="543" y="229"/>
                    </a:lnTo>
                    <a:lnTo>
                      <a:pt x="566" y="242"/>
                    </a:lnTo>
                    <a:lnTo>
                      <a:pt x="587" y="256"/>
                    </a:lnTo>
                    <a:lnTo>
                      <a:pt x="610" y="271"/>
                    </a:lnTo>
                    <a:lnTo>
                      <a:pt x="631" y="286"/>
                    </a:lnTo>
                    <a:lnTo>
                      <a:pt x="652" y="301"/>
                    </a:lnTo>
                    <a:lnTo>
                      <a:pt x="673" y="317"/>
                    </a:lnTo>
                    <a:lnTo>
                      <a:pt x="694" y="333"/>
                    </a:lnTo>
                    <a:lnTo>
                      <a:pt x="714" y="351"/>
                    </a:lnTo>
                    <a:lnTo>
                      <a:pt x="733" y="368"/>
                    </a:lnTo>
                    <a:lnTo>
                      <a:pt x="752" y="386"/>
                    </a:lnTo>
                    <a:lnTo>
                      <a:pt x="771" y="403"/>
                    </a:lnTo>
                    <a:lnTo>
                      <a:pt x="830" y="345"/>
                    </a:lnTo>
                    <a:lnTo>
                      <a:pt x="810" y="324"/>
                    </a:lnTo>
                    <a:lnTo>
                      <a:pt x="790" y="305"/>
                    </a:lnTo>
                    <a:lnTo>
                      <a:pt x="769" y="287"/>
                    </a:lnTo>
                    <a:lnTo>
                      <a:pt x="747" y="269"/>
                    </a:lnTo>
                    <a:lnTo>
                      <a:pt x="725" y="250"/>
                    </a:lnTo>
                    <a:lnTo>
                      <a:pt x="703" y="234"/>
                    </a:lnTo>
                    <a:lnTo>
                      <a:pt x="681" y="217"/>
                    </a:lnTo>
                    <a:lnTo>
                      <a:pt x="657" y="201"/>
                    </a:lnTo>
                    <a:lnTo>
                      <a:pt x="633" y="185"/>
                    </a:lnTo>
                    <a:lnTo>
                      <a:pt x="610" y="170"/>
                    </a:lnTo>
                    <a:lnTo>
                      <a:pt x="584" y="156"/>
                    </a:lnTo>
                    <a:lnTo>
                      <a:pt x="560" y="142"/>
                    </a:lnTo>
                    <a:lnTo>
                      <a:pt x="535" y="129"/>
                    </a:lnTo>
                    <a:lnTo>
                      <a:pt x="509" y="117"/>
                    </a:lnTo>
                    <a:lnTo>
                      <a:pt x="484" y="104"/>
                    </a:lnTo>
                    <a:lnTo>
                      <a:pt x="458" y="92"/>
                    </a:lnTo>
                    <a:lnTo>
                      <a:pt x="430" y="82"/>
                    </a:lnTo>
                    <a:lnTo>
                      <a:pt x="404" y="71"/>
                    </a:lnTo>
                    <a:lnTo>
                      <a:pt x="377" y="62"/>
                    </a:lnTo>
                    <a:lnTo>
                      <a:pt x="349" y="53"/>
                    </a:lnTo>
                    <a:lnTo>
                      <a:pt x="322" y="45"/>
                    </a:lnTo>
                    <a:lnTo>
                      <a:pt x="293" y="37"/>
                    </a:lnTo>
                    <a:lnTo>
                      <a:pt x="265" y="30"/>
                    </a:lnTo>
                    <a:lnTo>
                      <a:pt x="237" y="24"/>
                    </a:lnTo>
                    <a:lnTo>
                      <a:pt x="207" y="18"/>
                    </a:lnTo>
                    <a:lnTo>
                      <a:pt x="179" y="13"/>
                    </a:lnTo>
                    <a:lnTo>
                      <a:pt x="150" y="10"/>
                    </a:lnTo>
                    <a:lnTo>
                      <a:pt x="120" y="6"/>
                    </a:lnTo>
                    <a:lnTo>
                      <a:pt x="90" y="3"/>
                    </a:lnTo>
                    <a:lnTo>
                      <a:pt x="60" y="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13280" y="5740560"/>
                <a:ext cx="48960" cy="26280"/>
              </a:xfrm>
              <a:custGeom>
                <a:avLst/>
                <a:gdLst/>
                <a:ahLst/>
                <a:rect l="l" t="t" r="r" b="b"/>
                <a:pathLst>
                  <a:path w="1294" h="925">
                    <a:moveTo>
                      <a:pt x="60" y="925"/>
                    </a:moveTo>
                    <a:lnTo>
                      <a:pt x="97" y="888"/>
                    </a:lnTo>
                    <a:lnTo>
                      <a:pt x="133" y="849"/>
                    </a:lnTo>
                    <a:lnTo>
                      <a:pt x="169" y="812"/>
                    </a:lnTo>
                    <a:lnTo>
                      <a:pt x="203" y="773"/>
                    </a:lnTo>
                    <a:lnTo>
                      <a:pt x="271" y="698"/>
                    </a:lnTo>
                    <a:lnTo>
                      <a:pt x="337" y="624"/>
                    </a:lnTo>
                    <a:lnTo>
                      <a:pt x="403" y="551"/>
                    </a:lnTo>
                    <a:lnTo>
                      <a:pt x="469" y="481"/>
                    </a:lnTo>
                    <a:lnTo>
                      <a:pt x="502" y="448"/>
                    </a:lnTo>
                    <a:lnTo>
                      <a:pt x="534" y="415"/>
                    </a:lnTo>
                    <a:lnTo>
                      <a:pt x="569" y="383"/>
                    </a:lnTo>
                    <a:lnTo>
                      <a:pt x="602" y="353"/>
                    </a:lnTo>
                    <a:lnTo>
                      <a:pt x="638" y="323"/>
                    </a:lnTo>
                    <a:lnTo>
                      <a:pt x="673" y="296"/>
                    </a:lnTo>
                    <a:lnTo>
                      <a:pt x="709" y="269"/>
                    </a:lnTo>
                    <a:lnTo>
                      <a:pt x="746" y="243"/>
                    </a:lnTo>
                    <a:lnTo>
                      <a:pt x="784" y="220"/>
                    </a:lnTo>
                    <a:lnTo>
                      <a:pt x="823" y="198"/>
                    </a:lnTo>
                    <a:lnTo>
                      <a:pt x="842" y="187"/>
                    </a:lnTo>
                    <a:lnTo>
                      <a:pt x="863" y="177"/>
                    </a:lnTo>
                    <a:lnTo>
                      <a:pt x="883" y="168"/>
                    </a:lnTo>
                    <a:lnTo>
                      <a:pt x="904" y="159"/>
                    </a:lnTo>
                    <a:lnTo>
                      <a:pt x="926" y="151"/>
                    </a:lnTo>
                    <a:lnTo>
                      <a:pt x="947" y="142"/>
                    </a:lnTo>
                    <a:lnTo>
                      <a:pt x="969" y="135"/>
                    </a:lnTo>
                    <a:lnTo>
                      <a:pt x="991" y="128"/>
                    </a:lnTo>
                    <a:lnTo>
                      <a:pt x="1014" y="121"/>
                    </a:lnTo>
                    <a:lnTo>
                      <a:pt x="1037" y="115"/>
                    </a:lnTo>
                    <a:lnTo>
                      <a:pt x="1060" y="109"/>
                    </a:lnTo>
                    <a:lnTo>
                      <a:pt x="1085" y="104"/>
                    </a:lnTo>
                    <a:lnTo>
                      <a:pt x="1109" y="99"/>
                    </a:lnTo>
                    <a:lnTo>
                      <a:pt x="1134" y="95"/>
                    </a:lnTo>
                    <a:lnTo>
                      <a:pt x="1160" y="92"/>
                    </a:lnTo>
                    <a:lnTo>
                      <a:pt x="1185" y="89"/>
                    </a:lnTo>
                    <a:lnTo>
                      <a:pt x="1211" y="87"/>
                    </a:lnTo>
                    <a:lnTo>
                      <a:pt x="1239" y="86"/>
                    </a:lnTo>
                    <a:lnTo>
                      <a:pt x="1266" y="85"/>
                    </a:lnTo>
                    <a:lnTo>
                      <a:pt x="1294" y="84"/>
                    </a:lnTo>
                    <a:lnTo>
                      <a:pt x="1294" y="0"/>
                    </a:lnTo>
                    <a:lnTo>
                      <a:pt x="1264" y="0"/>
                    </a:lnTo>
                    <a:lnTo>
                      <a:pt x="1235" y="1"/>
                    </a:lnTo>
                    <a:lnTo>
                      <a:pt x="1206" y="3"/>
                    </a:lnTo>
                    <a:lnTo>
                      <a:pt x="1178" y="6"/>
                    </a:lnTo>
                    <a:lnTo>
                      <a:pt x="1150" y="8"/>
                    </a:lnTo>
                    <a:lnTo>
                      <a:pt x="1122" y="12"/>
                    </a:lnTo>
                    <a:lnTo>
                      <a:pt x="1095" y="16"/>
                    </a:lnTo>
                    <a:lnTo>
                      <a:pt x="1068" y="21"/>
                    </a:lnTo>
                    <a:lnTo>
                      <a:pt x="1042" y="27"/>
                    </a:lnTo>
                    <a:lnTo>
                      <a:pt x="1017" y="33"/>
                    </a:lnTo>
                    <a:lnTo>
                      <a:pt x="991" y="40"/>
                    </a:lnTo>
                    <a:lnTo>
                      <a:pt x="967" y="47"/>
                    </a:lnTo>
                    <a:lnTo>
                      <a:pt x="942" y="55"/>
                    </a:lnTo>
                    <a:lnTo>
                      <a:pt x="918" y="63"/>
                    </a:lnTo>
                    <a:lnTo>
                      <a:pt x="895" y="72"/>
                    </a:lnTo>
                    <a:lnTo>
                      <a:pt x="872" y="81"/>
                    </a:lnTo>
                    <a:lnTo>
                      <a:pt x="850" y="91"/>
                    </a:lnTo>
                    <a:lnTo>
                      <a:pt x="826" y="101"/>
                    </a:lnTo>
                    <a:lnTo>
                      <a:pt x="805" y="112"/>
                    </a:lnTo>
                    <a:lnTo>
                      <a:pt x="783" y="124"/>
                    </a:lnTo>
                    <a:lnTo>
                      <a:pt x="741" y="147"/>
                    </a:lnTo>
                    <a:lnTo>
                      <a:pt x="701" y="173"/>
                    </a:lnTo>
                    <a:lnTo>
                      <a:pt x="660" y="200"/>
                    </a:lnTo>
                    <a:lnTo>
                      <a:pt x="622" y="228"/>
                    </a:lnTo>
                    <a:lnTo>
                      <a:pt x="584" y="258"/>
                    </a:lnTo>
                    <a:lnTo>
                      <a:pt x="548" y="289"/>
                    </a:lnTo>
                    <a:lnTo>
                      <a:pt x="512" y="321"/>
                    </a:lnTo>
                    <a:lnTo>
                      <a:pt x="477" y="355"/>
                    </a:lnTo>
                    <a:lnTo>
                      <a:pt x="442" y="388"/>
                    </a:lnTo>
                    <a:lnTo>
                      <a:pt x="408" y="424"/>
                    </a:lnTo>
                    <a:lnTo>
                      <a:pt x="341" y="495"/>
                    </a:lnTo>
                    <a:lnTo>
                      <a:pt x="274" y="568"/>
                    </a:lnTo>
                    <a:lnTo>
                      <a:pt x="208" y="642"/>
                    </a:lnTo>
                    <a:lnTo>
                      <a:pt x="141" y="717"/>
                    </a:lnTo>
                    <a:lnTo>
                      <a:pt x="107" y="754"/>
                    </a:lnTo>
                    <a:lnTo>
                      <a:pt x="71" y="791"/>
                    </a:lnTo>
                    <a:lnTo>
                      <a:pt x="37" y="828"/>
                    </a:lnTo>
                    <a:lnTo>
                      <a:pt x="0" y="865"/>
                    </a:lnTo>
                    <a:lnTo>
                      <a:pt x="60" y="925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48120" y="5764680"/>
                <a:ext cx="67320" cy="56160"/>
              </a:xfrm>
              <a:custGeom>
                <a:avLst/>
                <a:gdLst/>
                <a:ahLst/>
                <a:rect l="l" t="t" r="r" b="b"/>
                <a:pathLst>
                  <a:path w="1830" h="1907">
                    <a:moveTo>
                      <a:pt x="95" y="1907"/>
                    </a:moveTo>
                    <a:lnTo>
                      <a:pt x="126" y="1893"/>
                    </a:lnTo>
                    <a:lnTo>
                      <a:pt x="1830" y="57"/>
                    </a:lnTo>
                    <a:lnTo>
                      <a:pt x="1768" y="0"/>
                    </a:lnTo>
                    <a:lnTo>
                      <a:pt x="64" y="1836"/>
                    </a:lnTo>
                    <a:lnTo>
                      <a:pt x="95" y="1907"/>
                    </a:lnTo>
                    <a:lnTo>
                      <a:pt x="64" y="1836"/>
                    </a:lnTo>
                    <a:lnTo>
                      <a:pt x="0" y="1906"/>
                    </a:lnTo>
                    <a:lnTo>
                      <a:pt x="95" y="1907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551360" y="5817600"/>
                <a:ext cx="505080" cy="6120"/>
              </a:xfrm>
              <a:custGeom>
                <a:avLst/>
                <a:gdLst/>
                <a:ahLst/>
                <a:rect l="l" t="t" r="r" b="b"/>
                <a:pathLst>
                  <a:path w="13558" h="215">
                    <a:moveTo>
                      <a:pt x="13558" y="131"/>
                    </a:moveTo>
                    <a:lnTo>
                      <a:pt x="1" y="0"/>
                    </a:lnTo>
                    <a:lnTo>
                      <a:pt x="0" y="84"/>
                    </a:lnTo>
                    <a:lnTo>
                      <a:pt x="13558" y="215"/>
                    </a:lnTo>
                    <a:lnTo>
                      <a:pt x="13558" y="13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47440" y="5751000"/>
                <a:ext cx="90360" cy="186120"/>
              </a:xfrm>
              <a:custGeom>
                <a:avLst/>
                <a:gdLst/>
                <a:ahLst/>
                <a:rect l="l" t="t" r="r" b="b"/>
                <a:pathLst>
                  <a:path w="2424" h="6422">
                    <a:moveTo>
                      <a:pt x="2093" y="0"/>
                    </a:moveTo>
                    <a:lnTo>
                      <a:pt x="2111" y="19"/>
                    </a:lnTo>
                    <a:lnTo>
                      <a:pt x="2131" y="39"/>
                    </a:lnTo>
                    <a:lnTo>
                      <a:pt x="2149" y="60"/>
                    </a:lnTo>
                    <a:lnTo>
                      <a:pt x="2166" y="81"/>
                    </a:lnTo>
                    <a:lnTo>
                      <a:pt x="2183" y="101"/>
                    </a:lnTo>
                    <a:lnTo>
                      <a:pt x="2200" y="124"/>
                    </a:lnTo>
                    <a:lnTo>
                      <a:pt x="2216" y="146"/>
                    </a:lnTo>
                    <a:lnTo>
                      <a:pt x="2231" y="168"/>
                    </a:lnTo>
                    <a:lnTo>
                      <a:pt x="2246" y="190"/>
                    </a:lnTo>
                    <a:lnTo>
                      <a:pt x="2260" y="214"/>
                    </a:lnTo>
                    <a:lnTo>
                      <a:pt x="2274" y="237"/>
                    </a:lnTo>
                    <a:lnTo>
                      <a:pt x="2288" y="261"/>
                    </a:lnTo>
                    <a:lnTo>
                      <a:pt x="2301" y="286"/>
                    </a:lnTo>
                    <a:lnTo>
                      <a:pt x="2313" y="310"/>
                    </a:lnTo>
                    <a:lnTo>
                      <a:pt x="2324" y="335"/>
                    </a:lnTo>
                    <a:lnTo>
                      <a:pt x="2335" y="361"/>
                    </a:lnTo>
                    <a:lnTo>
                      <a:pt x="2346" y="386"/>
                    </a:lnTo>
                    <a:lnTo>
                      <a:pt x="2356" y="411"/>
                    </a:lnTo>
                    <a:lnTo>
                      <a:pt x="2366" y="438"/>
                    </a:lnTo>
                    <a:lnTo>
                      <a:pt x="2374" y="464"/>
                    </a:lnTo>
                    <a:lnTo>
                      <a:pt x="2382" y="491"/>
                    </a:lnTo>
                    <a:lnTo>
                      <a:pt x="2389" y="518"/>
                    </a:lnTo>
                    <a:lnTo>
                      <a:pt x="2396" y="545"/>
                    </a:lnTo>
                    <a:lnTo>
                      <a:pt x="2402" y="573"/>
                    </a:lnTo>
                    <a:lnTo>
                      <a:pt x="2407" y="601"/>
                    </a:lnTo>
                    <a:lnTo>
                      <a:pt x="2411" y="629"/>
                    </a:lnTo>
                    <a:lnTo>
                      <a:pt x="2415" y="657"/>
                    </a:lnTo>
                    <a:lnTo>
                      <a:pt x="2419" y="686"/>
                    </a:lnTo>
                    <a:lnTo>
                      <a:pt x="2421" y="714"/>
                    </a:lnTo>
                    <a:lnTo>
                      <a:pt x="2423" y="743"/>
                    </a:lnTo>
                    <a:lnTo>
                      <a:pt x="2424" y="772"/>
                    </a:lnTo>
                    <a:lnTo>
                      <a:pt x="2424" y="802"/>
                    </a:lnTo>
                    <a:lnTo>
                      <a:pt x="2424" y="3125"/>
                    </a:lnTo>
                    <a:lnTo>
                      <a:pt x="65" y="6422"/>
                    </a:lnTo>
                    <a:lnTo>
                      <a:pt x="0" y="2390"/>
                    </a:lnTo>
                    <a:lnTo>
                      <a:pt x="2093" y="0"/>
                    </a:lnTo>
                    <a:close/>
                  </a:path>
                </a:pathLst>
              </a:custGeom>
              <a:solidFill>
                <a:srgbClr val="7b7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124120" y="5749920"/>
                <a:ext cx="14760" cy="24480"/>
              </a:xfrm>
              <a:custGeom>
                <a:avLst/>
                <a:gdLst/>
                <a:ahLst/>
                <a:rect l="l" t="t" r="r" b="b"/>
                <a:pathLst>
                  <a:path w="404" h="831">
                    <a:moveTo>
                      <a:pt x="404" y="831"/>
                    </a:moveTo>
                    <a:lnTo>
                      <a:pt x="404" y="800"/>
                    </a:lnTo>
                    <a:lnTo>
                      <a:pt x="402" y="770"/>
                    </a:lnTo>
                    <a:lnTo>
                      <a:pt x="401" y="740"/>
                    </a:lnTo>
                    <a:lnTo>
                      <a:pt x="398" y="710"/>
                    </a:lnTo>
                    <a:lnTo>
                      <a:pt x="394" y="681"/>
                    </a:lnTo>
                    <a:lnTo>
                      <a:pt x="391" y="651"/>
                    </a:lnTo>
                    <a:lnTo>
                      <a:pt x="386" y="623"/>
                    </a:lnTo>
                    <a:lnTo>
                      <a:pt x="380" y="593"/>
                    </a:lnTo>
                    <a:lnTo>
                      <a:pt x="374" y="565"/>
                    </a:lnTo>
                    <a:lnTo>
                      <a:pt x="367" y="537"/>
                    </a:lnTo>
                    <a:lnTo>
                      <a:pt x="359" y="509"/>
                    </a:lnTo>
                    <a:lnTo>
                      <a:pt x="351" y="481"/>
                    </a:lnTo>
                    <a:lnTo>
                      <a:pt x="342" y="454"/>
                    </a:lnTo>
                    <a:lnTo>
                      <a:pt x="333" y="426"/>
                    </a:lnTo>
                    <a:lnTo>
                      <a:pt x="322" y="400"/>
                    </a:lnTo>
                    <a:lnTo>
                      <a:pt x="312" y="372"/>
                    </a:lnTo>
                    <a:lnTo>
                      <a:pt x="300" y="347"/>
                    </a:lnTo>
                    <a:lnTo>
                      <a:pt x="287" y="321"/>
                    </a:lnTo>
                    <a:lnTo>
                      <a:pt x="275" y="295"/>
                    </a:lnTo>
                    <a:lnTo>
                      <a:pt x="262" y="270"/>
                    </a:lnTo>
                    <a:lnTo>
                      <a:pt x="248" y="246"/>
                    </a:lnTo>
                    <a:lnTo>
                      <a:pt x="234" y="221"/>
                    </a:lnTo>
                    <a:lnTo>
                      <a:pt x="219" y="197"/>
                    </a:lnTo>
                    <a:lnTo>
                      <a:pt x="203" y="173"/>
                    </a:lnTo>
                    <a:lnTo>
                      <a:pt x="187" y="150"/>
                    </a:lnTo>
                    <a:lnTo>
                      <a:pt x="171" y="127"/>
                    </a:lnTo>
                    <a:lnTo>
                      <a:pt x="153" y="105"/>
                    </a:lnTo>
                    <a:lnTo>
                      <a:pt x="135" y="83"/>
                    </a:lnTo>
                    <a:lnTo>
                      <a:pt x="117" y="61"/>
                    </a:lnTo>
                    <a:lnTo>
                      <a:pt x="99" y="40"/>
                    </a:lnTo>
                    <a:lnTo>
                      <a:pt x="80" y="20"/>
                    </a:lnTo>
                    <a:lnTo>
                      <a:pt x="59" y="0"/>
                    </a:lnTo>
                    <a:lnTo>
                      <a:pt x="0" y="59"/>
                    </a:lnTo>
                    <a:lnTo>
                      <a:pt x="18" y="78"/>
                    </a:lnTo>
                    <a:lnTo>
                      <a:pt x="36" y="97"/>
                    </a:lnTo>
                    <a:lnTo>
                      <a:pt x="53" y="116"/>
                    </a:lnTo>
                    <a:lnTo>
                      <a:pt x="71" y="136"/>
                    </a:lnTo>
                    <a:lnTo>
                      <a:pt x="87" y="157"/>
                    </a:lnTo>
                    <a:lnTo>
                      <a:pt x="103" y="178"/>
                    </a:lnTo>
                    <a:lnTo>
                      <a:pt x="118" y="199"/>
                    </a:lnTo>
                    <a:lnTo>
                      <a:pt x="133" y="220"/>
                    </a:lnTo>
                    <a:lnTo>
                      <a:pt x="148" y="243"/>
                    </a:lnTo>
                    <a:lnTo>
                      <a:pt x="162" y="265"/>
                    </a:lnTo>
                    <a:lnTo>
                      <a:pt x="175" y="287"/>
                    </a:lnTo>
                    <a:lnTo>
                      <a:pt x="188" y="311"/>
                    </a:lnTo>
                    <a:lnTo>
                      <a:pt x="200" y="334"/>
                    </a:lnTo>
                    <a:lnTo>
                      <a:pt x="212" y="357"/>
                    </a:lnTo>
                    <a:lnTo>
                      <a:pt x="224" y="382"/>
                    </a:lnTo>
                    <a:lnTo>
                      <a:pt x="234" y="406"/>
                    </a:lnTo>
                    <a:lnTo>
                      <a:pt x="244" y="430"/>
                    </a:lnTo>
                    <a:lnTo>
                      <a:pt x="253" y="456"/>
                    </a:lnTo>
                    <a:lnTo>
                      <a:pt x="262" y="481"/>
                    </a:lnTo>
                    <a:lnTo>
                      <a:pt x="270" y="506"/>
                    </a:lnTo>
                    <a:lnTo>
                      <a:pt x="278" y="532"/>
                    </a:lnTo>
                    <a:lnTo>
                      <a:pt x="285" y="558"/>
                    </a:lnTo>
                    <a:lnTo>
                      <a:pt x="292" y="584"/>
                    </a:lnTo>
                    <a:lnTo>
                      <a:pt x="298" y="611"/>
                    </a:lnTo>
                    <a:lnTo>
                      <a:pt x="303" y="637"/>
                    </a:lnTo>
                    <a:lnTo>
                      <a:pt x="307" y="664"/>
                    </a:lnTo>
                    <a:lnTo>
                      <a:pt x="311" y="692"/>
                    </a:lnTo>
                    <a:lnTo>
                      <a:pt x="314" y="719"/>
                    </a:lnTo>
                    <a:lnTo>
                      <a:pt x="316" y="746"/>
                    </a:lnTo>
                    <a:lnTo>
                      <a:pt x="318" y="774"/>
                    </a:lnTo>
                    <a:lnTo>
                      <a:pt x="319" y="802"/>
                    </a:lnTo>
                    <a:lnTo>
                      <a:pt x="320" y="831"/>
                    </a:lnTo>
                    <a:lnTo>
                      <a:pt x="404" y="83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135280" y="577440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84" h="2348">
                    <a:moveTo>
                      <a:pt x="76" y="2348"/>
                    </a:moveTo>
                    <a:lnTo>
                      <a:pt x="84" y="23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2323"/>
                    </a:lnTo>
                    <a:lnTo>
                      <a:pt x="76" y="2348"/>
                    </a:lnTo>
                    <a:lnTo>
                      <a:pt x="76" y="2348"/>
                    </a:lnTo>
                    <a:lnTo>
                      <a:pt x="84" y="2336"/>
                    </a:lnTo>
                    <a:lnTo>
                      <a:pt x="84" y="2323"/>
                    </a:lnTo>
                    <a:lnTo>
                      <a:pt x="76" y="2348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48520" y="5841000"/>
                <a:ext cx="90000" cy="99360"/>
              </a:xfrm>
              <a:custGeom>
                <a:avLst/>
                <a:gdLst/>
                <a:ahLst/>
                <a:rect l="l" t="t" r="r" b="b"/>
                <a:pathLst>
                  <a:path w="2436" h="3448">
                    <a:moveTo>
                      <a:pt x="0" y="3322"/>
                    </a:moveTo>
                    <a:lnTo>
                      <a:pt x="76" y="3345"/>
                    </a:lnTo>
                    <a:lnTo>
                      <a:pt x="2436" y="49"/>
                    </a:lnTo>
                    <a:lnTo>
                      <a:pt x="2367" y="0"/>
                    </a:lnTo>
                    <a:lnTo>
                      <a:pt x="7" y="3297"/>
                    </a:lnTo>
                    <a:lnTo>
                      <a:pt x="0" y="3322"/>
                    </a:lnTo>
                    <a:lnTo>
                      <a:pt x="0" y="3322"/>
                    </a:lnTo>
                    <a:lnTo>
                      <a:pt x="3" y="3448"/>
                    </a:lnTo>
                    <a:lnTo>
                      <a:pt x="76" y="3345"/>
                    </a:lnTo>
                    <a:lnTo>
                      <a:pt x="0" y="3322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44920" y="5820840"/>
                <a:ext cx="5400" cy="116280"/>
              </a:xfrm>
              <a:custGeom>
                <a:avLst/>
                <a:gdLst/>
                <a:ahLst/>
                <a:rect l="l" t="t" r="r" b="b"/>
                <a:pathLst>
                  <a:path w="150" h="4033">
                    <a:moveTo>
                      <a:pt x="0" y="1"/>
                    </a:moveTo>
                    <a:lnTo>
                      <a:pt x="66" y="4033"/>
                    </a:lnTo>
                    <a:lnTo>
                      <a:pt x="150" y="4032"/>
                    </a:lnTo>
                    <a:lnTo>
                      <a:pt x="8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021160" y="59097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0" y="1176"/>
                    </a:moveTo>
                    <a:lnTo>
                      <a:pt x="0" y="1176"/>
                    </a:lnTo>
                    <a:lnTo>
                      <a:pt x="30" y="1176"/>
                    </a:lnTo>
                    <a:lnTo>
                      <a:pt x="61" y="1174"/>
                    </a:lnTo>
                    <a:lnTo>
                      <a:pt x="90" y="1173"/>
                    </a:lnTo>
                    <a:lnTo>
                      <a:pt x="119" y="1170"/>
                    </a:lnTo>
                    <a:lnTo>
                      <a:pt x="150" y="1167"/>
                    </a:lnTo>
                    <a:lnTo>
                      <a:pt x="179" y="1163"/>
                    </a:lnTo>
                    <a:lnTo>
                      <a:pt x="208" y="1158"/>
                    </a:lnTo>
                    <a:lnTo>
                      <a:pt x="237" y="1152"/>
                    </a:lnTo>
                    <a:lnTo>
                      <a:pt x="265" y="1146"/>
                    </a:lnTo>
                    <a:lnTo>
                      <a:pt x="294" y="1140"/>
                    </a:lnTo>
                    <a:lnTo>
                      <a:pt x="321" y="1131"/>
                    </a:lnTo>
                    <a:lnTo>
                      <a:pt x="349" y="1123"/>
                    </a:lnTo>
                    <a:lnTo>
                      <a:pt x="377" y="1114"/>
                    </a:lnTo>
                    <a:lnTo>
                      <a:pt x="404" y="1105"/>
                    </a:lnTo>
                    <a:lnTo>
                      <a:pt x="431" y="1095"/>
                    </a:lnTo>
                    <a:lnTo>
                      <a:pt x="458" y="1084"/>
                    </a:lnTo>
                    <a:lnTo>
                      <a:pt x="483" y="1073"/>
                    </a:lnTo>
                    <a:lnTo>
                      <a:pt x="510" y="1060"/>
                    </a:lnTo>
                    <a:lnTo>
                      <a:pt x="535" y="1047"/>
                    </a:lnTo>
                    <a:lnTo>
                      <a:pt x="560" y="1034"/>
                    </a:lnTo>
                    <a:lnTo>
                      <a:pt x="585" y="1020"/>
                    </a:lnTo>
                    <a:lnTo>
                      <a:pt x="609" y="1006"/>
                    </a:lnTo>
                    <a:lnTo>
                      <a:pt x="633" y="991"/>
                    </a:lnTo>
                    <a:lnTo>
                      <a:pt x="658" y="975"/>
                    </a:lnTo>
                    <a:lnTo>
                      <a:pt x="681" y="959"/>
                    </a:lnTo>
                    <a:lnTo>
                      <a:pt x="703" y="943"/>
                    </a:lnTo>
                    <a:lnTo>
                      <a:pt x="725" y="926"/>
                    </a:lnTo>
                    <a:lnTo>
                      <a:pt x="748" y="907"/>
                    </a:lnTo>
                    <a:lnTo>
                      <a:pt x="769" y="889"/>
                    </a:lnTo>
                    <a:lnTo>
                      <a:pt x="790" y="871"/>
                    </a:lnTo>
                    <a:lnTo>
                      <a:pt x="811" y="852"/>
                    </a:lnTo>
                    <a:lnTo>
                      <a:pt x="831" y="831"/>
                    </a:lnTo>
                    <a:lnTo>
                      <a:pt x="851" y="811"/>
                    </a:lnTo>
                    <a:lnTo>
                      <a:pt x="870" y="791"/>
                    </a:lnTo>
                    <a:lnTo>
                      <a:pt x="889" y="770"/>
                    </a:lnTo>
                    <a:lnTo>
                      <a:pt x="907" y="748"/>
                    </a:lnTo>
                    <a:lnTo>
                      <a:pt x="925" y="726"/>
                    </a:lnTo>
                    <a:lnTo>
                      <a:pt x="942" y="704"/>
                    </a:lnTo>
                    <a:lnTo>
                      <a:pt x="958" y="681"/>
                    </a:lnTo>
                    <a:lnTo>
                      <a:pt x="975" y="658"/>
                    </a:lnTo>
                    <a:lnTo>
                      <a:pt x="990" y="634"/>
                    </a:lnTo>
                    <a:lnTo>
                      <a:pt x="1005" y="611"/>
                    </a:lnTo>
                    <a:lnTo>
                      <a:pt x="1019" y="586"/>
                    </a:lnTo>
                    <a:lnTo>
                      <a:pt x="1033" y="561"/>
                    </a:lnTo>
                    <a:lnTo>
                      <a:pt x="1047" y="536"/>
                    </a:lnTo>
                    <a:lnTo>
                      <a:pt x="1059" y="510"/>
                    </a:lnTo>
                    <a:lnTo>
                      <a:pt x="1071" y="485"/>
                    </a:lnTo>
                    <a:lnTo>
                      <a:pt x="1083" y="459"/>
                    </a:lnTo>
                    <a:lnTo>
                      <a:pt x="1093" y="431"/>
                    </a:lnTo>
                    <a:lnTo>
                      <a:pt x="1104" y="405"/>
                    </a:lnTo>
                    <a:lnTo>
                      <a:pt x="1113" y="377"/>
                    </a:lnTo>
                    <a:lnTo>
                      <a:pt x="1123" y="350"/>
                    </a:lnTo>
                    <a:lnTo>
                      <a:pt x="1131" y="323"/>
                    </a:lnTo>
                    <a:lnTo>
                      <a:pt x="1138" y="294"/>
                    </a:lnTo>
                    <a:lnTo>
                      <a:pt x="1145" y="266"/>
                    </a:lnTo>
                    <a:lnTo>
                      <a:pt x="1151" y="238"/>
                    </a:lnTo>
                    <a:lnTo>
                      <a:pt x="1157" y="208"/>
                    </a:lnTo>
                    <a:lnTo>
                      <a:pt x="1162" y="180"/>
                    </a:lnTo>
                    <a:lnTo>
                      <a:pt x="1165" y="150"/>
                    </a:lnTo>
                    <a:lnTo>
                      <a:pt x="1169" y="121"/>
                    </a:lnTo>
                    <a:lnTo>
                      <a:pt x="1172" y="91"/>
                    </a:lnTo>
                    <a:lnTo>
                      <a:pt x="1173" y="61"/>
                    </a:lnTo>
                    <a:lnTo>
                      <a:pt x="1175" y="31"/>
                    </a:lnTo>
                    <a:lnTo>
                      <a:pt x="1175" y="0"/>
                    </a:lnTo>
                    <a:lnTo>
                      <a:pt x="1091" y="0"/>
                    </a:lnTo>
                    <a:lnTo>
                      <a:pt x="1090" y="29"/>
                    </a:lnTo>
                    <a:lnTo>
                      <a:pt x="1089" y="57"/>
                    </a:lnTo>
                    <a:lnTo>
                      <a:pt x="1087" y="85"/>
                    </a:lnTo>
                    <a:lnTo>
                      <a:pt x="1085" y="112"/>
                    </a:lnTo>
                    <a:lnTo>
                      <a:pt x="1082" y="139"/>
                    </a:lnTo>
                    <a:lnTo>
                      <a:pt x="1078" y="167"/>
                    </a:lnTo>
                    <a:lnTo>
                      <a:pt x="1074" y="194"/>
                    </a:lnTo>
                    <a:lnTo>
                      <a:pt x="1069" y="220"/>
                    </a:lnTo>
                    <a:lnTo>
                      <a:pt x="1063" y="248"/>
                    </a:lnTo>
                    <a:lnTo>
                      <a:pt x="1057" y="273"/>
                    </a:lnTo>
                    <a:lnTo>
                      <a:pt x="1050" y="299"/>
                    </a:lnTo>
                    <a:lnTo>
                      <a:pt x="1042" y="325"/>
                    </a:lnTo>
                    <a:lnTo>
                      <a:pt x="1033" y="351"/>
                    </a:lnTo>
                    <a:lnTo>
                      <a:pt x="1024" y="375"/>
                    </a:lnTo>
                    <a:lnTo>
                      <a:pt x="1015" y="401"/>
                    </a:lnTo>
                    <a:lnTo>
                      <a:pt x="1005" y="425"/>
                    </a:lnTo>
                    <a:lnTo>
                      <a:pt x="995" y="449"/>
                    </a:lnTo>
                    <a:lnTo>
                      <a:pt x="984" y="474"/>
                    </a:lnTo>
                    <a:lnTo>
                      <a:pt x="972" y="497"/>
                    </a:lnTo>
                    <a:lnTo>
                      <a:pt x="959" y="520"/>
                    </a:lnTo>
                    <a:lnTo>
                      <a:pt x="946" y="544"/>
                    </a:lnTo>
                    <a:lnTo>
                      <a:pt x="933" y="567"/>
                    </a:lnTo>
                    <a:lnTo>
                      <a:pt x="919" y="588"/>
                    </a:lnTo>
                    <a:lnTo>
                      <a:pt x="905" y="611"/>
                    </a:lnTo>
                    <a:lnTo>
                      <a:pt x="890" y="632"/>
                    </a:lnTo>
                    <a:lnTo>
                      <a:pt x="874" y="653"/>
                    </a:lnTo>
                    <a:lnTo>
                      <a:pt x="858" y="674"/>
                    </a:lnTo>
                    <a:lnTo>
                      <a:pt x="842" y="695"/>
                    </a:lnTo>
                    <a:lnTo>
                      <a:pt x="825" y="715"/>
                    </a:lnTo>
                    <a:lnTo>
                      <a:pt x="807" y="734"/>
                    </a:lnTo>
                    <a:lnTo>
                      <a:pt x="789" y="753"/>
                    </a:lnTo>
                    <a:lnTo>
                      <a:pt x="771" y="772"/>
                    </a:lnTo>
                    <a:lnTo>
                      <a:pt x="753" y="790"/>
                    </a:lnTo>
                    <a:lnTo>
                      <a:pt x="734" y="808"/>
                    </a:lnTo>
                    <a:lnTo>
                      <a:pt x="714" y="825"/>
                    </a:lnTo>
                    <a:lnTo>
                      <a:pt x="694" y="843"/>
                    </a:lnTo>
                    <a:lnTo>
                      <a:pt x="674" y="859"/>
                    </a:lnTo>
                    <a:lnTo>
                      <a:pt x="652" y="875"/>
                    </a:lnTo>
                    <a:lnTo>
                      <a:pt x="631" y="890"/>
                    </a:lnTo>
                    <a:lnTo>
                      <a:pt x="610" y="905"/>
                    </a:lnTo>
                    <a:lnTo>
                      <a:pt x="588" y="920"/>
                    </a:lnTo>
                    <a:lnTo>
                      <a:pt x="565" y="934"/>
                    </a:lnTo>
                    <a:lnTo>
                      <a:pt x="543" y="947"/>
                    </a:lnTo>
                    <a:lnTo>
                      <a:pt x="520" y="960"/>
                    </a:lnTo>
                    <a:lnTo>
                      <a:pt x="496" y="972"/>
                    </a:lnTo>
                    <a:lnTo>
                      <a:pt x="473" y="984"/>
                    </a:lnTo>
                    <a:lnTo>
                      <a:pt x="449" y="996"/>
                    </a:lnTo>
                    <a:lnTo>
                      <a:pt x="424" y="1006"/>
                    </a:lnTo>
                    <a:lnTo>
                      <a:pt x="400" y="1016"/>
                    </a:lnTo>
                    <a:lnTo>
                      <a:pt x="375" y="1025"/>
                    </a:lnTo>
                    <a:lnTo>
                      <a:pt x="350" y="1034"/>
                    </a:lnTo>
                    <a:lnTo>
                      <a:pt x="324" y="1042"/>
                    </a:lnTo>
                    <a:lnTo>
                      <a:pt x="299" y="1050"/>
                    </a:lnTo>
                    <a:lnTo>
                      <a:pt x="272" y="1057"/>
                    </a:lnTo>
                    <a:lnTo>
                      <a:pt x="246" y="1064"/>
                    </a:lnTo>
                    <a:lnTo>
                      <a:pt x="220" y="1070"/>
                    </a:lnTo>
                    <a:lnTo>
                      <a:pt x="193" y="1075"/>
                    </a:lnTo>
                    <a:lnTo>
                      <a:pt x="166" y="1079"/>
                    </a:lnTo>
                    <a:lnTo>
                      <a:pt x="139" y="1083"/>
                    </a:lnTo>
                    <a:lnTo>
                      <a:pt x="111" y="1086"/>
                    </a:lnTo>
                    <a:lnTo>
                      <a:pt x="84" y="1089"/>
                    </a:lnTo>
                    <a:lnTo>
                      <a:pt x="57" y="1090"/>
                    </a:lnTo>
                    <a:lnTo>
                      <a:pt x="28" y="1091"/>
                    </a:lnTo>
                    <a:lnTo>
                      <a:pt x="0" y="1092"/>
                    </a:lnTo>
                    <a:lnTo>
                      <a:pt x="0" y="1092"/>
                    </a:lnTo>
                    <a:lnTo>
                      <a:pt x="0" y="1176"/>
                    </a:lnTo>
                    <a:lnTo>
                      <a:pt x="0" y="1176"/>
                    </a:lnTo>
                    <a:lnTo>
                      <a:pt x="0" y="1176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79080" y="5941440"/>
                <a:ext cx="442080" cy="1800"/>
              </a:xfrm>
              <a:custGeom>
                <a:avLst/>
                <a:gdLst/>
                <a:ahLst/>
                <a:rect l="l" t="t" r="r" b="b"/>
                <a:pathLst>
                  <a:path w="11895" h="84">
                    <a:moveTo>
                      <a:pt x="0" y="0"/>
                    </a:moveTo>
                    <a:lnTo>
                      <a:pt x="0" y="84"/>
                    </a:lnTo>
                    <a:lnTo>
                      <a:pt x="11895" y="84"/>
                    </a:lnTo>
                    <a:lnTo>
                      <a:pt x="1189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35880" y="5909760"/>
                <a:ext cx="4320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0" y="0"/>
                    </a:moveTo>
                    <a:lnTo>
                      <a:pt x="0" y="0"/>
                    </a:lnTo>
                    <a:lnTo>
                      <a:pt x="0" y="31"/>
                    </a:lnTo>
                    <a:lnTo>
                      <a:pt x="2" y="61"/>
                    </a:lnTo>
                    <a:lnTo>
                      <a:pt x="3" y="91"/>
                    </a:lnTo>
                    <a:lnTo>
                      <a:pt x="6" y="121"/>
                    </a:lnTo>
                    <a:lnTo>
                      <a:pt x="9" y="150"/>
                    </a:lnTo>
                    <a:lnTo>
                      <a:pt x="13" y="180"/>
                    </a:lnTo>
                    <a:lnTo>
                      <a:pt x="18" y="209"/>
                    </a:lnTo>
                    <a:lnTo>
                      <a:pt x="24" y="238"/>
                    </a:lnTo>
                    <a:lnTo>
                      <a:pt x="30" y="266"/>
                    </a:lnTo>
                    <a:lnTo>
                      <a:pt x="36" y="294"/>
                    </a:lnTo>
                    <a:lnTo>
                      <a:pt x="45" y="323"/>
                    </a:lnTo>
                    <a:lnTo>
                      <a:pt x="53" y="350"/>
                    </a:lnTo>
                    <a:lnTo>
                      <a:pt x="62" y="377"/>
                    </a:lnTo>
                    <a:lnTo>
                      <a:pt x="71" y="405"/>
                    </a:lnTo>
                    <a:lnTo>
                      <a:pt x="81" y="432"/>
                    </a:lnTo>
                    <a:lnTo>
                      <a:pt x="92" y="459"/>
                    </a:lnTo>
                    <a:lnTo>
                      <a:pt x="103" y="485"/>
                    </a:lnTo>
                    <a:lnTo>
                      <a:pt x="116" y="510"/>
                    </a:lnTo>
                    <a:lnTo>
                      <a:pt x="129" y="536"/>
                    </a:lnTo>
                    <a:lnTo>
                      <a:pt x="142" y="561"/>
                    </a:lnTo>
                    <a:lnTo>
                      <a:pt x="156" y="586"/>
                    </a:lnTo>
                    <a:lnTo>
                      <a:pt x="170" y="611"/>
                    </a:lnTo>
                    <a:lnTo>
                      <a:pt x="185" y="634"/>
                    </a:lnTo>
                    <a:lnTo>
                      <a:pt x="201" y="658"/>
                    </a:lnTo>
                    <a:lnTo>
                      <a:pt x="217" y="681"/>
                    </a:lnTo>
                    <a:lnTo>
                      <a:pt x="233" y="704"/>
                    </a:lnTo>
                    <a:lnTo>
                      <a:pt x="250" y="726"/>
                    </a:lnTo>
                    <a:lnTo>
                      <a:pt x="269" y="748"/>
                    </a:lnTo>
                    <a:lnTo>
                      <a:pt x="287" y="770"/>
                    </a:lnTo>
                    <a:lnTo>
                      <a:pt x="305" y="791"/>
                    </a:lnTo>
                    <a:lnTo>
                      <a:pt x="324" y="811"/>
                    </a:lnTo>
                    <a:lnTo>
                      <a:pt x="345" y="831"/>
                    </a:lnTo>
                    <a:lnTo>
                      <a:pt x="365" y="852"/>
                    </a:lnTo>
                    <a:lnTo>
                      <a:pt x="385" y="871"/>
                    </a:lnTo>
                    <a:lnTo>
                      <a:pt x="406" y="889"/>
                    </a:lnTo>
                    <a:lnTo>
                      <a:pt x="428" y="907"/>
                    </a:lnTo>
                    <a:lnTo>
                      <a:pt x="450" y="926"/>
                    </a:lnTo>
                    <a:lnTo>
                      <a:pt x="472" y="943"/>
                    </a:lnTo>
                    <a:lnTo>
                      <a:pt x="494" y="959"/>
                    </a:lnTo>
                    <a:lnTo>
                      <a:pt x="518" y="975"/>
                    </a:lnTo>
                    <a:lnTo>
                      <a:pt x="542" y="991"/>
                    </a:lnTo>
                    <a:lnTo>
                      <a:pt x="565" y="1006"/>
                    </a:lnTo>
                    <a:lnTo>
                      <a:pt x="590" y="1020"/>
                    </a:lnTo>
                    <a:lnTo>
                      <a:pt x="615" y="1034"/>
                    </a:lnTo>
                    <a:lnTo>
                      <a:pt x="640" y="1047"/>
                    </a:lnTo>
                    <a:lnTo>
                      <a:pt x="666" y="1060"/>
                    </a:lnTo>
                    <a:lnTo>
                      <a:pt x="691" y="1073"/>
                    </a:lnTo>
                    <a:lnTo>
                      <a:pt x="717" y="1084"/>
                    </a:lnTo>
                    <a:lnTo>
                      <a:pt x="744" y="1095"/>
                    </a:lnTo>
                    <a:lnTo>
                      <a:pt x="771" y="1105"/>
                    </a:lnTo>
                    <a:lnTo>
                      <a:pt x="798" y="1114"/>
                    </a:lnTo>
                    <a:lnTo>
                      <a:pt x="826" y="1123"/>
                    </a:lnTo>
                    <a:lnTo>
                      <a:pt x="853" y="1131"/>
                    </a:lnTo>
                    <a:lnTo>
                      <a:pt x="882" y="1140"/>
                    </a:lnTo>
                    <a:lnTo>
                      <a:pt x="910" y="1146"/>
                    </a:lnTo>
                    <a:lnTo>
                      <a:pt x="938" y="1152"/>
                    </a:lnTo>
                    <a:lnTo>
                      <a:pt x="967" y="1158"/>
                    </a:lnTo>
                    <a:lnTo>
                      <a:pt x="996" y="1163"/>
                    </a:lnTo>
                    <a:lnTo>
                      <a:pt x="1025" y="1167"/>
                    </a:lnTo>
                    <a:lnTo>
                      <a:pt x="1055" y="1170"/>
                    </a:lnTo>
                    <a:lnTo>
                      <a:pt x="1085" y="1173"/>
                    </a:lnTo>
                    <a:lnTo>
                      <a:pt x="1115" y="1174"/>
                    </a:lnTo>
                    <a:lnTo>
                      <a:pt x="1145" y="1176"/>
                    </a:lnTo>
                    <a:lnTo>
                      <a:pt x="1175" y="1176"/>
                    </a:lnTo>
                    <a:lnTo>
                      <a:pt x="1175" y="1092"/>
                    </a:lnTo>
                    <a:lnTo>
                      <a:pt x="1147" y="1091"/>
                    </a:lnTo>
                    <a:lnTo>
                      <a:pt x="1119" y="1090"/>
                    </a:lnTo>
                    <a:lnTo>
                      <a:pt x="1091" y="1089"/>
                    </a:lnTo>
                    <a:lnTo>
                      <a:pt x="1063" y="1086"/>
                    </a:lnTo>
                    <a:lnTo>
                      <a:pt x="1037" y="1083"/>
                    </a:lnTo>
                    <a:lnTo>
                      <a:pt x="1009" y="1079"/>
                    </a:lnTo>
                    <a:lnTo>
                      <a:pt x="982" y="1075"/>
                    </a:lnTo>
                    <a:lnTo>
                      <a:pt x="955" y="1070"/>
                    </a:lnTo>
                    <a:lnTo>
                      <a:pt x="928" y="1064"/>
                    </a:lnTo>
                    <a:lnTo>
                      <a:pt x="902" y="1057"/>
                    </a:lnTo>
                    <a:lnTo>
                      <a:pt x="876" y="1050"/>
                    </a:lnTo>
                    <a:lnTo>
                      <a:pt x="851" y="1042"/>
                    </a:lnTo>
                    <a:lnTo>
                      <a:pt x="825" y="1034"/>
                    </a:lnTo>
                    <a:lnTo>
                      <a:pt x="800" y="1025"/>
                    </a:lnTo>
                    <a:lnTo>
                      <a:pt x="775" y="1016"/>
                    </a:lnTo>
                    <a:lnTo>
                      <a:pt x="751" y="1006"/>
                    </a:lnTo>
                    <a:lnTo>
                      <a:pt x="727" y="996"/>
                    </a:lnTo>
                    <a:lnTo>
                      <a:pt x="702" y="984"/>
                    </a:lnTo>
                    <a:lnTo>
                      <a:pt x="679" y="972"/>
                    </a:lnTo>
                    <a:lnTo>
                      <a:pt x="656" y="960"/>
                    </a:lnTo>
                    <a:lnTo>
                      <a:pt x="632" y="947"/>
                    </a:lnTo>
                    <a:lnTo>
                      <a:pt x="609" y="934"/>
                    </a:lnTo>
                    <a:lnTo>
                      <a:pt x="587" y="920"/>
                    </a:lnTo>
                    <a:lnTo>
                      <a:pt x="565" y="905"/>
                    </a:lnTo>
                    <a:lnTo>
                      <a:pt x="544" y="890"/>
                    </a:lnTo>
                    <a:lnTo>
                      <a:pt x="523" y="875"/>
                    </a:lnTo>
                    <a:lnTo>
                      <a:pt x="502" y="859"/>
                    </a:lnTo>
                    <a:lnTo>
                      <a:pt x="481" y="843"/>
                    </a:lnTo>
                    <a:lnTo>
                      <a:pt x="461" y="825"/>
                    </a:lnTo>
                    <a:lnTo>
                      <a:pt x="442" y="808"/>
                    </a:lnTo>
                    <a:lnTo>
                      <a:pt x="423" y="790"/>
                    </a:lnTo>
                    <a:lnTo>
                      <a:pt x="404" y="773"/>
                    </a:lnTo>
                    <a:lnTo>
                      <a:pt x="385" y="753"/>
                    </a:lnTo>
                    <a:lnTo>
                      <a:pt x="368" y="734"/>
                    </a:lnTo>
                    <a:lnTo>
                      <a:pt x="351" y="715"/>
                    </a:lnTo>
                    <a:lnTo>
                      <a:pt x="333" y="695"/>
                    </a:lnTo>
                    <a:lnTo>
                      <a:pt x="317" y="674"/>
                    </a:lnTo>
                    <a:lnTo>
                      <a:pt x="301" y="653"/>
                    </a:lnTo>
                    <a:lnTo>
                      <a:pt x="286" y="632"/>
                    </a:lnTo>
                    <a:lnTo>
                      <a:pt x="271" y="611"/>
                    </a:lnTo>
                    <a:lnTo>
                      <a:pt x="256" y="588"/>
                    </a:lnTo>
                    <a:lnTo>
                      <a:pt x="242" y="567"/>
                    </a:lnTo>
                    <a:lnTo>
                      <a:pt x="229" y="544"/>
                    </a:lnTo>
                    <a:lnTo>
                      <a:pt x="216" y="520"/>
                    </a:lnTo>
                    <a:lnTo>
                      <a:pt x="204" y="497"/>
                    </a:lnTo>
                    <a:lnTo>
                      <a:pt x="192" y="474"/>
                    </a:lnTo>
                    <a:lnTo>
                      <a:pt x="180" y="449"/>
                    </a:lnTo>
                    <a:lnTo>
                      <a:pt x="170" y="425"/>
                    </a:lnTo>
                    <a:lnTo>
                      <a:pt x="160" y="401"/>
                    </a:lnTo>
                    <a:lnTo>
                      <a:pt x="151" y="375"/>
                    </a:lnTo>
                    <a:lnTo>
                      <a:pt x="142" y="351"/>
                    </a:lnTo>
                    <a:lnTo>
                      <a:pt x="134" y="325"/>
                    </a:lnTo>
                    <a:lnTo>
                      <a:pt x="126" y="299"/>
                    </a:lnTo>
                    <a:lnTo>
                      <a:pt x="119" y="273"/>
                    </a:lnTo>
                    <a:lnTo>
                      <a:pt x="112" y="248"/>
                    </a:lnTo>
                    <a:lnTo>
                      <a:pt x="106" y="220"/>
                    </a:lnTo>
                    <a:lnTo>
                      <a:pt x="101" y="194"/>
                    </a:lnTo>
                    <a:lnTo>
                      <a:pt x="97" y="167"/>
                    </a:lnTo>
                    <a:lnTo>
                      <a:pt x="93" y="139"/>
                    </a:lnTo>
                    <a:lnTo>
                      <a:pt x="90" y="112"/>
                    </a:lnTo>
                    <a:lnTo>
                      <a:pt x="87" y="85"/>
                    </a:lnTo>
                    <a:lnTo>
                      <a:pt x="86" y="57"/>
                    </a:lnTo>
                    <a:lnTo>
                      <a:pt x="85" y="29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35880" y="58420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84" h="2323">
                    <a:moveTo>
                      <a:pt x="84" y="0"/>
                    </a:moveTo>
                    <a:lnTo>
                      <a:pt x="0" y="0"/>
                    </a:lnTo>
                    <a:lnTo>
                      <a:pt x="0" y="2323"/>
                    </a:lnTo>
                    <a:lnTo>
                      <a:pt x="84" y="2323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535880" y="5808240"/>
                <a:ext cx="4320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1175" y="0"/>
                    </a:moveTo>
                    <a:lnTo>
                      <a:pt x="1175" y="0"/>
                    </a:lnTo>
                    <a:lnTo>
                      <a:pt x="1145" y="1"/>
                    </a:lnTo>
                    <a:lnTo>
                      <a:pt x="1115" y="2"/>
                    </a:lnTo>
                    <a:lnTo>
                      <a:pt x="1085" y="4"/>
                    </a:lnTo>
                    <a:lnTo>
                      <a:pt x="1055" y="6"/>
                    </a:lnTo>
                    <a:lnTo>
                      <a:pt x="1025" y="10"/>
                    </a:lnTo>
                    <a:lnTo>
                      <a:pt x="996" y="14"/>
                    </a:lnTo>
                    <a:lnTo>
                      <a:pt x="968" y="18"/>
                    </a:lnTo>
                    <a:lnTo>
                      <a:pt x="938" y="25"/>
                    </a:lnTo>
                    <a:lnTo>
                      <a:pt x="910" y="31"/>
                    </a:lnTo>
                    <a:lnTo>
                      <a:pt x="882" y="38"/>
                    </a:lnTo>
                    <a:lnTo>
                      <a:pt x="853" y="45"/>
                    </a:lnTo>
                    <a:lnTo>
                      <a:pt x="826" y="54"/>
                    </a:lnTo>
                    <a:lnTo>
                      <a:pt x="798" y="62"/>
                    </a:lnTo>
                    <a:lnTo>
                      <a:pt x="771" y="72"/>
                    </a:lnTo>
                    <a:lnTo>
                      <a:pt x="745" y="82"/>
                    </a:lnTo>
                    <a:lnTo>
                      <a:pt x="717" y="93"/>
                    </a:lnTo>
                    <a:lnTo>
                      <a:pt x="691" y="105"/>
                    </a:lnTo>
                    <a:lnTo>
                      <a:pt x="666" y="117"/>
                    </a:lnTo>
                    <a:lnTo>
                      <a:pt x="640" y="129"/>
                    </a:lnTo>
                    <a:lnTo>
                      <a:pt x="615" y="142"/>
                    </a:lnTo>
                    <a:lnTo>
                      <a:pt x="590" y="156"/>
                    </a:lnTo>
                    <a:lnTo>
                      <a:pt x="565" y="170"/>
                    </a:lnTo>
                    <a:lnTo>
                      <a:pt x="542" y="186"/>
                    </a:lnTo>
                    <a:lnTo>
                      <a:pt x="518" y="201"/>
                    </a:lnTo>
                    <a:lnTo>
                      <a:pt x="494" y="217"/>
                    </a:lnTo>
                    <a:lnTo>
                      <a:pt x="472" y="234"/>
                    </a:lnTo>
                    <a:lnTo>
                      <a:pt x="450" y="252"/>
                    </a:lnTo>
                    <a:lnTo>
                      <a:pt x="428" y="269"/>
                    </a:lnTo>
                    <a:lnTo>
                      <a:pt x="406" y="287"/>
                    </a:lnTo>
                    <a:lnTo>
                      <a:pt x="385" y="306"/>
                    </a:lnTo>
                    <a:lnTo>
                      <a:pt x="365" y="326"/>
                    </a:lnTo>
                    <a:lnTo>
                      <a:pt x="345" y="345"/>
                    </a:lnTo>
                    <a:lnTo>
                      <a:pt x="324" y="365"/>
                    </a:lnTo>
                    <a:lnTo>
                      <a:pt x="305" y="385"/>
                    </a:lnTo>
                    <a:lnTo>
                      <a:pt x="287" y="407"/>
                    </a:lnTo>
                    <a:lnTo>
                      <a:pt x="269" y="428"/>
                    </a:lnTo>
                    <a:lnTo>
                      <a:pt x="250" y="450"/>
                    </a:lnTo>
                    <a:lnTo>
                      <a:pt x="233" y="472"/>
                    </a:lnTo>
                    <a:lnTo>
                      <a:pt x="217" y="496"/>
                    </a:lnTo>
                    <a:lnTo>
                      <a:pt x="201" y="519"/>
                    </a:lnTo>
                    <a:lnTo>
                      <a:pt x="185" y="542"/>
                    </a:lnTo>
                    <a:lnTo>
                      <a:pt x="170" y="567"/>
                    </a:lnTo>
                    <a:lnTo>
                      <a:pt x="156" y="591"/>
                    </a:lnTo>
                    <a:lnTo>
                      <a:pt x="142" y="615"/>
                    </a:lnTo>
                    <a:lnTo>
                      <a:pt x="129" y="641"/>
                    </a:lnTo>
                    <a:lnTo>
                      <a:pt x="116" y="666"/>
                    </a:lnTo>
                    <a:lnTo>
                      <a:pt x="103" y="692"/>
                    </a:lnTo>
                    <a:lnTo>
                      <a:pt x="92" y="719"/>
                    </a:lnTo>
                    <a:lnTo>
                      <a:pt x="81" y="745"/>
                    </a:lnTo>
                    <a:lnTo>
                      <a:pt x="71" y="771"/>
                    </a:lnTo>
                    <a:lnTo>
                      <a:pt x="62" y="799"/>
                    </a:lnTo>
                    <a:lnTo>
                      <a:pt x="53" y="826"/>
                    </a:lnTo>
                    <a:lnTo>
                      <a:pt x="45" y="854"/>
                    </a:lnTo>
                    <a:lnTo>
                      <a:pt x="36" y="882"/>
                    </a:lnTo>
                    <a:lnTo>
                      <a:pt x="30" y="910"/>
                    </a:lnTo>
                    <a:lnTo>
                      <a:pt x="24" y="939"/>
                    </a:lnTo>
                    <a:lnTo>
                      <a:pt x="18" y="968"/>
                    </a:lnTo>
                    <a:lnTo>
                      <a:pt x="13" y="997"/>
                    </a:lnTo>
                    <a:lnTo>
                      <a:pt x="9" y="1027"/>
                    </a:lnTo>
                    <a:lnTo>
                      <a:pt x="6" y="1056"/>
                    </a:lnTo>
                    <a:lnTo>
                      <a:pt x="3" y="1086"/>
                    </a:lnTo>
                    <a:lnTo>
                      <a:pt x="2" y="1116"/>
                    </a:lnTo>
                    <a:lnTo>
                      <a:pt x="0" y="1145"/>
                    </a:lnTo>
                    <a:lnTo>
                      <a:pt x="0" y="1176"/>
                    </a:lnTo>
                    <a:lnTo>
                      <a:pt x="84" y="1176"/>
                    </a:lnTo>
                    <a:lnTo>
                      <a:pt x="85" y="1147"/>
                    </a:lnTo>
                    <a:lnTo>
                      <a:pt x="86" y="1120"/>
                    </a:lnTo>
                    <a:lnTo>
                      <a:pt x="87" y="1092"/>
                    </a:lnTo>
                    <a:lnTo>
                      <a:pt x="90" y="1064"/>
                    </a:lnTo>
                    <a:lnTo>
                      <a:pt x="93" y="1037"/>
                    </a:lnTo>
                    <a:lnTo>
                      <a:pt x="97" y="1010"/>
                    </a:lnTo>
                    <a:lnTo>
                      <a:pt x="101" y="983"/>
                    </a:lnTo>
                    <a:lnTo>
                      <a:pt x="106" y="956"/>
                    </a:lnTo>
                    <a:lnTo>
                      <a:pt x="112" y="929"/>
                    </a:lnTo>
                    <a:lnTo>
                      <a:pt x="119" y="903"/>
                    </a:lnTo>
                    <a:lnTo>
                      <a:pt x="126" y="877"/>
                    </a:lnTo>
                    <a:lnTo>
                      <a:pt x="134" y="851"/>
                    </a:lnTo>
                    <a:lnTo>
                      <a:pt x="142" y="826"/>
                    </a:lnTo>
                    <a:lnTo>
                      <a:pt x="151" y="801"/>
                    </a:lnTo>
                    <a:lnTo>
                      <a:pt x="160" y="775"/>
                    </a:lnTo>
                    <a:lnTo>
                      <a:pt x="170" y="751"/>
                    </a:lnTo>
                    <a:lnTo>
                      <a:pt x="180" y="727"/>
                    </a:lnTo>
                    <a:lnTo>
                      <a:pt x="192" y="703"/>
                    </a:lnTo>
                    <a:lnTo>
                      <a:pt x="204" y="679"/>
                    </a:lnTo>
                    <a:lnTo>
                      <a:pt x="216" y="656"/>
                    </a:lnTo>
                    <a:lnTo>
                      <a:pt x="229" y="633"/>
                    </a:lnTo>
                    <a:lnTo>
                      <a:pt x="242" y="610"/>
                    </a:lnTo>
                    <a:lnTo>
                      <a:pt x="256" y="588"/>
                    </a:lnTo>
                    <a:lnTo>
                      <a:pt x="271" y="566"/>
                    </a:lnTo>
                    <a:lnTo>
                      <a:pt x="286" y="544"/>
                    </a:lnTo>
                    <a:lnTo>
                      <a:pt x="301" y="523"/>
                    </a:lnTo>
                    <a:lnTo>
                      <a:pt x="317" y="503"/>
                    </a:lnTo>
                    <a:lnTo>
                      <a:pt x="333" y="483"/>
                    </a:lnTo>
                    <a:lnTo>
                      <a:pt x="351" y="462"/>
                    </a:lnTo>
                    <a:lnTo>
                      <a:pt x="368" y="442"/>
                    </a:lnTo>
                    <a:lnTo>
                      <a:pt x="385" y="423"/>
                    </a:lnTo>
                    <a:lnTo>
                      <a:pt x="404" y="405"/>
                    </a:lnTo>
                    <a:lnTo>
                      <a:pt x="423" y="386"/>
                    </a:lnTo>
                    <a:lnTo>
                      <a:pt x="442" y="368"/>
                    </a:lnTo>
                    <a:lnTo>
                      <a:pt x="461" y="351"/>
                    </a:lnTo>
                    <a:lnTo>
                      <a:pt x="481" y="334"/>
                    </a:lnTo>
                    <a:lnTo>
                      <a:pt x="502" y="317"/>
                    </a:lnTo>
                    <a:lnTo>
                      <a:pt x="523" y="302"/>
                    </a:lnTo>
                    <a:lnTo>
                      <a:pt x="544" y="286"/>
                    </a:lnTo>
                    <a:lnTo>
                      <a:pt x="565" y="272"/>
                    </a:lnTo>
                    <a:lnTo>
                      <a:pt x="587" y="257"/>
                    </a:lnTo>
                    <a:lnTo>
                      <a:pt x="609" y="242"/>
                    </a:lnTo>
                    <a:lnTo>
                      <a:pt x="632" y="229"/>
                    </a:lnTo>
                    <a:lnTo>
                      <a:pt x="656" y="217"/>
                    </a:lnTo>
                    <a:lnTo>
                      <a:pt x="679" y="204"/>
                    </a:lnTo>
                    <a:lnTo>
                      <a:pt x="702" y="193"/>
                    </a:lnTo>
                    <a:lnTo>
                      <a:pt x="727" y="182"/>
                    </a:lnTo>
                    <a:lnTo>
                      <a:pt x="751" y="170"/>
                    </a:lnTo>
                    <a:lnTo>
                      <a:pt x="775" y="160"/>
                    </a:lnTo>
                    <a:lnTo>
                      <a:pt x="800" y="151"/>
                    </a:lnTo>
                    <a:lnTo>
                      <a:pt x="825" y="142"/>
                    </a:lnTo>
                    <a:lnTo>
                      <a:pt x="851" y="134"/>
                    </a:lnTo>
                    <a:lnTo>
                      <a:pt x="876" y="127"/>
                    </a:lnTo>
                    <a:lnTo>
                      <a:pt x="902" y="119"/>
                    </a:lnTo>
                    <a:lnTo>
                      <a:pt x="928" y="113"/>
                    </a:lnTo>
                    <a:lnTo>
                      <a:pt x="955" y="107"/>
                    </a:lnTo>
                    <a:lnTo>
                      <a:pt x="982" y="103"/>
                    </a:lnTo>
                    <a:lnTo>
                      <a:pt x="1009" y="97"/>
                    </a:lnTo>
                    <a:lnTo>
                      <a:pt x="1037" y="93"/>
                    </a:lnTo>
                    <a:lnTo>
                      <a:pt x="1063" y="90"/>
                    </a:lnTo>
                    <a:lnTo>
                      <a:pt x="1091" y="88"/>
                    </a:lnTo>
                    <a:lnTo>
                      <a:pt x="1119" y="86"/>
                    </a:lnTo>
                    <a:lnTo>
                      <a:pt x="1147" y="85"/>
                    </a:lnTo>
                    <a:lnTo>
                      <a:pt x="1175" y="85"/>
                    </a:lnTo>
                    <a:lnTo>
                      <a:pt x="1175" y="85"/>
                    </a:lnTo>
                    <a:lnTo>
                      <a:pt x="1175" y="0"/>
                    </a:lnTo>
                    <a:lnTo>
                      <a:pt x="1175" y="0"/>
                    </a:lnTo>
                    <a:lnTo>
                      <a:pt x="1175" y="0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579080" y="5808240"/>
                <a:ext cx="442080" cy="2160"/>
              </a:xfrm>
              <a:custGeom>
                <a:avLst/>
                <a:gdLst/>
                <a:ahLst/>
                <a:rect l="l" t="t" r="r" b="b"/>
                <a:pathLst>
                  <a:path w="11895" h="85">
                    <a:moveTo>
                      <a:pt x="11895" y="85"/>
                    </a:moveTo>
                    <a:lnTo>
                      <a:pt x="11895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1895" y="85"/>
                    </a:lnTo>
                    <a:lnTo>
                      <a:pt x="11895" y="85"/>
                    </a:lnTo>
                    <a:lnTo>
                      <a:pt x="11895" y="0"/>
                    </a:lnTo>
                    <a:lnTo>
                      <a:pt x="11895" y="0"/>
                    </a:lnTo>
                    <a:lnTo>
                      <a:pt x="11895" y="0"/>
                    </a:lnTo>
                    <a:lnTo>
                      <a:pt x="11895" y="85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21160" y="580824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1175" h="1176">
                    <a:moveTo>
                      <a:pt x="1175" y="1176"/>
                    </a:moveTo>
                    <a:lnTo>
                      <a:pt x="1175" y="1176"/>
                    </a:lnTo>
                    <a:lnTo>
                      <a:pt x="1175" y="1145"/>
                    </a:lnTo>
                    <a:lnTo>
                      <a:pt x="1173" y="1115"/>
                    </a:lnTo>
                    <a:lnTo>
                      <a:pt x="1172" y="1086"/>
                    </a:lnTo>
                    <a:lnTo>
                      <a:pt x="1169" y="1056"/>
                    </a:lnTo>
                    <a:lnTo>
                      <a:pt x="1165" y="1027"/>
                    </a:lnTo>
                    <a:lnTo>
                      <a:pt x="1162" y="997"/>
                    </a:lnTo>
                    <a:lnTo>
                      <a:pt x="1157" y="968"/>
                    </a:lnTo>
                    <a:lnTo>
                      <a:pt x="1151" y="939"/>
                    </a:lnTo>
                    <a:lnTo>
                      <a:pt x="1145" y="910"/>
                    </a:lnTo>
                    <a:lnTo>
                      <a:pt x="1138" y="882"/>
                    </a:lnTo>
                    <a:lnTo>
                      <a:pt x="1131" y="854"/>
                    </a:lnTo>
                    <a:lnTo>
                      <a:pt x="1123" y="826"/>
                    </a:lnTo>
                    <a:lnTo>
                      <a:pt x="1113" y="799"/>
                    </a:lnTo>
                    <a:lnTo>
                      <a:pt x="1104" y="772"/>
                    </a:lnTo>
                    <a:lnTo>
                      <a:pt x="1093" y="745"/>
                    </a:lnTo>
                    <a:lnTo>
                      <a:pt x="1083" y="719"/>
                    </a:lnTo>
                    <a:lnTo>
                      <a:pt x="1071" y="692"/>
                    </a:lnTo>
                    <a:lnTo>
                      <a:pt x="1059" y="666"/>
                    </a:lnTo>
                    <a:lnTo>
                      <a:pt x="1047" y="641"/>
                    </a:lnTo>
                    <a:lnTo>
                      <a:pt x="1033" y="615"/>
                    </a:lnTo>
                    <a:lnTo>
                      <a:pt x="1019" y="591"/>
                    </a:lnTo>
                    <a:lnTo>
                      <a:pt x="1005" y="567"/>
                    </a:lnTo>
                    <a:lnTo>
                      <a:pt x="990" y="542"/>
                    </a:lnTo>
                    <a:lnTo>
                      <a:pt x="975" y="519"/>
                    </a:lnTo>
                    <a:lnTo>
                      <a:pt x="958" y="496"/>
                    </a:lnTo>
                    <a:lnTo>
                      <a:pt x="942" y="472"/>
                    </a:lnTo>
                    <a:lnTo>
                      <a:pt x="925" y="450"/>
                    </a:lnTo>
                    <a:lnTo>
                      <a:pt x="907" y="428"/>
                    </a:lnTo>
                    <a:lnTo>
                      <a:pt x="889" y="407"/>
                    </a:lnTo>
                    <a:lnTo>
                      <a:pt x="870" y="385"/>
                    </a:lnTo>
                    <a:lnTo>
                      <a:pt x="851" y="365"/>
                    </a:lnTo>
                    <a:lnTo>
                      <a:pt x="831" y="345"/>
                    </a:lnTo>
                    <a:lnTo>
                      <a:pt x="811" y="326"/>
                    </a:lnTo>
                    <a:lnTo>
                      <a:pt x="790" y="306"/>
                    </a:lnTo>
                    <a:lnTo>
                      <a:pt x="769" y="287"/>
                    </a:lnTo>
                    <a:lnTo>
                      <a:pt x="748" y="269"/>
                    </a:lnTo>
                    <a:lnTo>
                      <a:pt x="725" y="252"/>
                    </a:lnTo>
                    <a:lnTo>
                      <a:pt x="703" y="234"/>
                    </a:lnTo>
                    <a:lnTo>
                      <a:pt x="681" y="217"/>
                    </a:lnTo>
                    <a:lnTo>
                      <a:pt x="658" y="201"/>
                    </a:lnTo>
                    <a:lnTo>
                      <a:pt x="633" y="186"/>
                    </a:lnTo>
                    <a:lnTo>
                      <a:pt x="609" y="170"/>
                    </a:lnTo>
                    <a:lnTo>
                      <a:pt x="585" y="156"/>
                    </a:lnTo>
                    <a:lnTo>
                      <a:pt x="560" y="143"/>
                    </a:lnTo>
                    <a:lnTo>
                      <a:pt x="535" y="129"/>
                    </a:lnTo>
                    <a:lnTo>
                      <a:pt x="510" y="117"/>
                    </a:lnTo>
                    <a:lnTo>
                      <a:pt x="483" y="105"/>
                    </a:lnTo>
                    <a:lnTo>
                      <a:pt x="458" y="93"/>
                    </a:lnTo>
                    <a:lnTo>
                      <a:pt x="431" y="82"/>
                    </a:lnTo>
                    <a:lnTo>
                      <a:pt x="404" y="72"/>
                    </a:lnTo>
                    <a:lnTo>
                      <a:pt x="377" y="62"/>
                    </a:lnTo>
                    <a:lnTo>
                      <a:pt x="349" y="54"/>
                    </a:lnTo>
                    <a:lnTo>
                      <a:pt x="321" y="45"/>
                    </a:lnTo>
                    <a:lnTo>
                      <a:pt x="294" y="38"/>
                    </a:lnTo>
                    <a:lnTo>
                      <a:pt x="265" y="31"/>
                    </a:lnTo>
                    <a:lnTo>
                      <a:pt x="237" y="25"/>
                    </a:lnTo>
                    <a:lnTo>
                      <a:pt x="208" y="18"/>
                    </a:lnTo>
                    <a:lnTo>
                      <a:pt x="179" y="14"/>
                    </a:lnTo>
                    <a:lnTo>
                      <a:pt x="150" y="10"/>
                    </a:lnTo>
                    <a:lnTo>
                      <a:pt x="119" y="6"/>
                    </a:lnTo>
                    <a:lnTo>
                      <a:pt x="90" y="4"/>
                    </a:lnTo>
                    <a:lnTo>
                      <a:pt x="61" y="2"/>
                    </a:lnTo>
                    <a:lnTo>
                      <a:pt x="30" y="1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28" y="85"/>
                    </a:lnTo>
                    <a:lnTo>
                      <a:pt x="56" y="86"/>
                    </a:lnTo>
                    <a:lnTo>
                      <a:pt x="84" y="88"/>
                    </a:lnTo>
                    <a:lnTo>
                      <a:pt x="111" y="90"/>
                    </a:lnTo>
                    <a:lnTo>
                      <a:pt x="139" y="93"/>
                    </a:lnTo>
                    <a:lnTo>
                      <a:pt x="166" y="97"/>
                    </a:lnTo>
                    <a:lnTo>
                      <a:pt x="193" y="103"/>
                    </a:lnTo>
                    <a:lnTo>
                      <a:pt x="220" y="107"/>
                    </a:lnTo>
                    <a:lnTo>
                      <a:pt x="246" y="113"/>
                    </a:lnTo>
                    <a:lnTo>
                      <a:pt x="272" y="119"/>
                    </a:lnTo>
                    <a:lnTo>
                      <a:pt x="299" y="127"/>
                    </a:lnTo>
                    <a:lnTo>
                      <a:pt x="324" y="134"/>
                    </a:lnTo>
                    <a:lnTo>
                      <a:pt x="349" y="142"/>
                    </a:lnTo>
                    <a:lnTo>
                      <a:pt x="375" y="151"/>
                    </a:lnTo>
                    <a:lnTo>
                      <a:pt x="400" y="160"/>
                    </a:lnTo>
                    <a:lnTo>
                      <a:pt x="424" y="170"/>
                    </a:lnTo>
                    <a:lnTo>
                      <a:pt x="449" y="182"/>
                    </a:lnTo>
                    <a:lnTo>
                      <a:pt x="473" y="193"/>
                    </a:lnTo>
                    <a:lnTo>
                      <a:pt x="496" y="204"/>
                    </a:lnTo>
                    <a:lnTo>
                      <a:pt x="520" y="217"/>
                    </a:lnTo>
                    <a:lnTo>
                      <a:pt x="543" y="229"/>
                    </a:lnTo>
                    <a:lnTo>
                      <a:pt x="565" y="242"/>
                    </a:lnTo>
                    <a:lnTo>
                      <a:pt x="588" y="257"/>
                    </a:lnTo>
                    <a:lnTo>
                      <a:pt x="610" y="272"/>
                    </a:lnTo>
                    <a:lnTo>
                      <a:pt x="631" y="286"/>
                    </a:lnTo>
                    <a:lnTo>
                      <a:pt x="652" y="302"/>
                    </a:lnTo>
                    <a:lnTo>
                      <a:pt x="674" y="317"/>
                    </a:lnTo>
                    <a:lnTo>
                      <a:pt x="694" y="334"/>
                    </a:lnTo>
                    <a:lnTo>
                      <a:pt x="714" y="351"/>
                    </a:lnTo>
                    <a:lnTo>
                      <a:pt x="734" y="368"/>
                    </a:lnTo>
                    <a:lnTo>
                      <a:pt x="753" y="386"/>
                    </a:lnTo>
                    <a:lnTo>
                      <a:pt x="771" y="405"/>
                    </a:lnTo>
                    <a:lnTo>
                      <a:pt x="789" y="423"/>
                    </a:lnTo>
                    <a:lnTo>
                      <a:pt x="807" y="442"/>
                    </a:lnTo>
                    <a:lnTo>
                      <a:pt x="825" y="462"/>
                    </a:lnTo>
                    <a:lnTo>
                      <a:pt x="842" y="483"/>
                    </a:lnTo>
                    <a:lnTo>
                      <a:pt x="858" y="503"/>
                    </a:lnTo>
                    <a:lnTo>
                      <a:pt x="874" y="523"/>
                    </a:lnTo>
                    <a:lnTo>
                      <a:pt x="890" y="544"/>
                    </a:lnTo>
                    <a:lnTo>
                      <a:pt x="905" y="566"/>
                    </a:lnTo>
                    <a:lnTo>
                      <a:pt x="919" y="588"/>
                    </a:lnTo>
                    <a:lnTo>
                      <a:pt x="933" y="610"/>
                    </a:lnTo>
                    <a:lnTo>
                      <a:pt x="946" y="633"/>
                    </a:lnTo>
                    <a:lnTo>
                      <a:pt x="959" y="656"/>
                    </a:lnTo>
                    <a:lnTo>
                      <a:pt x="972" y="679"/>
                    </a:lnTo>
                    <a:lnTo>
                      <a:pt x="984" y="703"/>
                    </a:lnTo>
                    <a:lnTo>
                      <a:pt x="995" y="727"/>
                    </a:lnTo>
                    <a:lnTo>
                      <a:pt x="1005" y="751"/>
                    </a:lnTo>
                    <a:lnTo>
                      <a:pt x="1015" y="775"/>
                    </a:lnTo>
                    <a:lnTo>
                      <a:pt x="1024" y="801"/>
                    </a:lnTo>
                    <a:lnTo>
                      <a:pt x="1033" y="826"/>
                    </a:lnTo>
                    <a:lnTo>
                      <a:pt x="1042" y="851"/>
                    </a:lnTo>
                    <a:lnTo>
                      <a:pt x="1050" y="877"/>
                    </a:lnTo>
                    <a:lnTo>
                      <a:pt x="1057" y="903"/>
                    </a:lnTo>
                    <a:lnTo>
                      <a:pt x="1063" y="929"/>
                    </a:lnTo>
                    <a:lnTo>
                      <a:pt x="1069" y="956"/>
                    </a:lnTo>
                    <a:lnTo>
                      <a:pt x="1074" y="982"/>
                    </a:lnTo>
                    <a:lnTo>
                      <a:pt x="1078" y="1010"/>
                    </a:lnTo>
                    <a:lnTo>
                      <a:pt x="1082" y="1037"/>
                    </a:lnTo>
                    <a:lnTo>
                      <a:pt x="1085" y="1064"/>
                    </a:lnTo>
                    <a:lnTo>
                      <a:pt x="1087" y="1092"/>
                    </a:lnTo>
                    <a:lnTo>
                      <a:pt x="1089" y="1120"/>
                    </a:lnTo>
                    <a:lnTo>
                      <a:pt x="1090" y="1147"/>
                    </a:lnTo>
                    <a:lnTo>
                      <a:pt x="1091" y="1176"/>
                    </a:lnTo>
                    <a:lnTo>
                      <a:pt x="1091" y="1176"/>
                    </a:lnTo>
                    <a:lnTo>
                      <a:pt x="1175" y="1176"/>
                    </a:lnTo>
                    <a:lnTo>
                      <a:pt x="1175" y="1176"/>
                    </a:lnTo>
                    <a:lnTo>
                      <a:pt x="1175" y="1176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062200" y="58420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84" h="2323">
                    <a:moveTo>
                      <a:pt x="0" y="2323"/>
                    </a:moveTo>
                    <a:lnTo>
                      <a:pt x="84" y="23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2323"/>
                    </a:lnTo>
                    <a:lnTo>
                      <a:pt x="0" y="2323"/>
                    </a:lnTo>
                    <a:lnTo>
                      <a:pt x="84" y="2323"/>
                    </a:lnTo>
                    <a:lnTo>
                      <a:pt x="84" y="2323"/>
                    </a:lnTo>
                    <a:lnTo>
                      <a:pt x="84" y="2323"/>
                    </a:lnTo>
                    <a:lnTo>
                      <a:pt x="0" y="2323"/>
                    </a:lnTo>
                    <a:close/>
                  </a:path>
                </a:pathLst>
              </a:custGeom>
              <a:solidFill>
                <a:srgbClr val="4e5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7754040" y="5841720"/>
                <a:ext cx="110160" cy="51120"/>
                <a:chOff x="7754040" y="5841720"/>
                <a:chExt cx="110160" cy="51120"/>
              </a:xfrm>
            </p:grpSpPr>
            <p:sp>
              <p:nvSpPr>
                <p:cNvPr id="455" name=""/>
                <p:cNvSpPr/>
                <p:nvPr/>
              </p:nvSpPr>
              <p:spPr>
                <a:xfrm flipH="1" rot="16200000">
                  <a:off x="7783200" y="5812560"/>
                  <a:ext cx="50760" cy="1098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 rot="5394600">
                  <a:off x="7783560" y="5812200"/>
                  <a:ext cx="50760" cy="109800"/>
                </a:xfrm>
                <a:prstGeom prst="rtTriangl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457" name="Tyco fist sasa2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196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'agenda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Le concep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Les Composa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La protection optiqu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Distribution de signaux TV/Vide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Gestion des équipeme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Transmission longue dis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Développements futur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Questions et répon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Verdana"/>
              </a:rPr>
              <a:t>Protection d'un canal optique (1) 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450440" y="1219320"/>
            <a:ext cx="3437640" cy="4693320"/>
            <a:chOff x="1450440" y="1219320"/>
            <a:chExt cx="3437640" cy="4693320"/>
          </a:xfrm>
        </p:grpSpPr>
        <p:sp>
          <p:nvSpPr>
            <p:cNvPr id="462" name=""/>
            <p:cNvSpPr/>
            <p:nvPr/>
          </p:nvSpPr>
          <p:spPr>
            <a:xfrm>
              <a:off x="2133360" y="1219320"/>
              <a:ext cx="1684080" cy="4343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09680" y="3200400"/>
              <a:ext cx="1523520" cy="76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11200" y="5181480"/>
              <a:ext cx="48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 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94560" y="518148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 R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52680" y="3657600"/>
              <a:ext cx="202680" cy="16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47760" y="3352680"/>
              <a:ext cx="204480" cy="16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06360" y="3665520"/>
              <a:ext cx="203040" cy="16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42840" y="3657600"/>
              <a:ext cx="203040" cy="16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45320" y="129528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-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59560" y="1295280"/>
              <a:ext cx="4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-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82560" y="1755720"/>
              <a:ext cx="81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46200" y="1755720"/>
              <a:ext cx="81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582200" y="2019240"/>
              <a:ext cx="81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345840" y="2035080"/>
              <a:ext cx="81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55520" y="1492200"/>
              <a:ext cx="101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ine OUT 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50440" y="14922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ine  IN R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50800" y="215100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ine IN 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23560" y="215100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ine OUT  R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90680" y="3139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74760" y="458784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06360" y="1755720"/>
              <a:ext cx="136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71720" y="2019240"/>
              <a:ext cx="6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74760" y="2019240"/>
              <a:ext cx="6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2599920" y="1755720"/>
              <a:ext cx="13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6880" y="1755720"/>
              <a:ext cx="94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396880" y="2019240"/>
              <a:ext cx="94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31880" y="1822320"/>
              <a:ext cx="202680" cy="64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006360" y="1821960"/>
              <a:ext cx="203040" cy="1314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2396880" y="1676160"/>
              <a:ext cx="202320" cy="421560"/>
              <a:chOff x="2396880" y="1676160"/>
              <a:chExt cx="202320" cy="421560"/>
            </a:xfrm>
          </p:grpSpPr>
          <p:sp>
            <p:nvSpPr>
              <p:cNvPr id="491" name=""/>
              <p:cNvSpPr/>
              <p:nvPr/>
            </p:nvSpPr>
            <p:spPr>
              <a:xfrm>
                <a:off x="2396880" y="1928880"/>
                <a:ext cx="202320" cy="168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96880" y="1676160"/>
                <a:ext cx="202320" cy="168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3143160" y="1676160"/>
              <a:ext cx="202320" cy="421560"/>
              <a:chOff x="3143160" y="1676160"/>
              <a:chExt cx="202320" cy="421560"/>
            </a:xfrm>
          </p:grpSpPr>
          <p:sp>
            <p:nvSpPr>
              <p:cNvPr id="494" name=""/>
              <p:cNvSpPr/>
              <p:nvPr/>
            </p:nvSpPr>
            <p:spPr>
              <a:xfrm>
                <a:off x="3143160" y="1928880"/>
                <a:ext cx="202320" cy="168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43160" y="1676160"/>
                <a:ext cx="202320" cy="168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flipH="1">
              <a:off x="3199680" y="3429000"/>
              <a:ext cx="75960" cy="3121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66880" y="3352680"/>
              <a:ext cx="204480" cy="16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1960" y="3657600"/>
              <a:ext cx="202680" cy="16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66880" y="3429000"/>
              <a:ext cx="75600" cy="304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2871720" y="4587480"/>
              <a:ext cx="0" cy="7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2803320" y="4192560"/>
              <a:ext cx="339120" cy="394560"/>
              <a:chOff x="2803320" y="4192560"/>
              <a:chExt cx="339120" cy="39456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2803320" y="4192560"/>
                <a:ext cx="154080" cy="394560"/>
                <a:chOff x="2803320" y="4192560"/>
                <a:chExt cx="154080" cy="39456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803320" y="4192560"/>
                  <a:ext cx="154080" cy="197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803320" y="4389840"/>
                  <a:ext cx="154080" cy="1972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2988360" y="4192560"/>
                <a:ext cx="154080" cy="394560"/>
                <a:chOff x="2988360" y="4192560"/>
                <a:chExt cx="154080" cy="3945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988360" y="4192560"/>
                  <a:ext cx="154080" cy="197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988360" y="4389840"/>
                  <a:ext cx="154080" cy="1972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8" name=""/>
            <p:cNvSpPr/>
            <p:nvPr/>
          </p:nvSpPr>
          <p:spPr>
            <a:xfrm>
              <a:off x="3217320" y="3863880"/>
              <a:ext cx="35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 baseline="-30000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 baseline="-30000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871720" y="3863880"/>
              <a:ext cx="0" cy="32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74760" y="3863880"/>
              <a:ext cx="0" cy="32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04760" y="55753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42840" y="1904760"/>
              <a:ext cx="380880" cy="1447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42840" y="2895480"/>
              <a:ext cx="0" cy="456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2514240" y="2133360"/>
              <a:ext cx="22824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71440" y="2057400"/>
              <a:ext cx="0" cy="5328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666880" y="2590560"/>
              <a:ext cx="22824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2438280" y="2590560"/>
              <a:ext cx="151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438280" y="2590200"/>
              <a:ext cx="0" cy="106668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76360" y="2133360"/>
              <a:ext cx="0" cy="83808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76360" y="2971800"/>
              <a:ext cx="151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28640" y="2971800"/>
              <a:ext cx="0" cy="68544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14240" y="297180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ff3300"/>
                  </a:solidFill>
                  <a:latin typeface="Times New Roman"/>
                </a:rPr>
                <a:t>Wor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00040" y="251460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6600"/>
                  </a:solidFill>
                  <a:latin typeface="Times New Roman"/>
                </a:rPr>
                <a:t>Prot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9840" y="297180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6600"/>
                  </a:solidFill>
                  <a:latin typeface="Times New Roman"/>
                </a:rPr>
                <a:t>Prot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724280" y="152388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Implémentée entre une paire de modules terminant un canal op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2 chemins optiques pré-définis sur un réseau en annea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Un chemin principal du côté "Oues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Un chemin de sauvegarde (côté "Est"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Canal Optique Add/Drop 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Protégé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602720" y="990720"/>
            <a:ext cx="3438000" cy="4693320"/>
            <a:chOff x="1602720" y="990720"/>
            <a:chExt cx="3438000" cy="4693320"/>
          </a:xfrm>
        </p:grpSpPr>
        <p:sp>
          <p:nvSpPr>
            <p:cNvPr id="528" name=""/>
            <p:cNvSpPr/>
            <p:nvPr/>
          </p:nvSpPr>
          <p:spPr>
            <a:xfrm>
              <a:off x="2286000" y="990720"/>
              <a:ext cx="1684440" cy="4343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62320" y="2971800"/>
              <a:ext cx="1523880" cy="76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64200" y="4952880"/>
              <a:ext cx="48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 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47560" y="495288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 R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05320" y="3429000"/>
              <a:ext cx="203040" cy="16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0400" y="3124080"/>
              <a:ext cx="204840" cy="16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59000" y="3436920"/>
              <a:ext cx="203400" cy="16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95480" y="3429000"/>
              <a:ext cx="203400" cy="16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97960" y="106668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-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12200" y="1066680"/>
              <a:ext cx="4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-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35200" y="152712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98840" y="152712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1735200" y="179064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3498840" y="18064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08520" y="1263600"/>
              <a:ext cx="101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ine OUT 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02720" y="12636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ine  IN R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3440" y="192240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ine IN 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76200" y="192240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Line OUT  R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43320" y="2911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27400" y="435924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59000" y="1527120"/>
              <a:ext cx="136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24360" y="1790640"/>
              <a:ext cx="66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27400" y="1790640"/>
              <a:ext cx="68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2752200" y="1527120"/>
              <a:ext cx="135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49520" y="1527120"/>
              <a:ext cx="94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2549160" y="1790640"/>
              <a:ext cx="94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84520" y="1593720"/>
              <a:ext cx="203040" cy="64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3159000" y="1593360"/>
              <a:ext cx="203400" cy="1314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2549520" y="1447560"/>
              <a:ext cx="202680" cy="421560"/>
              <a:chOff x="2549520" y="1447560"/>
              <a:chExt cx="202680" cy="421560"/>
            </a:xfrm>
          </p:grpSpPr>
          <p:sp>
            <p:nvSpPr>
              <p:cNvPr id="557" name=""/>
              <p:cNvSpPr/>
              <p:nvPr/>
            </p:nvSpPr>
            <p:spPr>
              <a:xfrm>
                <a:off x="2549520" y="1700280"/>
                <a:ext cx="202680" cy="168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49520" y="1447560"/>
                <a:ext cx="202680" cy="168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3295800" y="1447560"/>
              <a:ext cx="202680" cy="421560"/>
              <a:chOff x="3295800" y="1447560"/>
              <a:chExt cx="202680" cy="421560"/>
            </a:xfrm>
          </p:grpSpPr>
          <p:sp>
            <p:nvSpPr>
              <p:cNvPr id="560" name=""/>
              <p:cNvSpPr/>
              <p:nvPr/>
            </p:nvSpPr>
            <p:spPr>
              <a:xfrm>
                <a:off x="3295800" y="1700280"/>
                <a:ext cx="202680" cy="168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295800" y="1447560"/>
                <a:ext cx="202680" cy="168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 flipH="1">
              <a:off x="3352680" y="3200400"/>
              <a:ext cx="76320" cy="3121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19520" y="3124080"/>
              <a:ext cx="204840" cy="16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3429000"/>
              <a:ext cx="203040" cy="16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19520" y="3200400"/>
              <a:ext cx="75960" cy="304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024360" y="4358880"/>
              <a:ext cx="0" cy="7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2955960" y="3963960"/>
              <a:ext cx="339840" cy="394560"/>
              <a:chOff x="2955960" y="3963960"/>
              <a:chExt cx="339840" cy="3945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2955960" y="3963960"/>
                <a:ext cx="154440" cy="394560"/>
                <a:chOff x="2955960" y="3963960"/>
                <a:chExt cx="154440" cy="39456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2955960" y="3963960"/>
                  <a:ext cx="154440" cy="197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955960" y="4161240"/>
                  <a:ext cx="154440" cy="1972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3141360" y="3963960"/>
                <a:ext cx="154440" cy="394560"/>
                <a:chOff x="3141360" y="3963960"/>
                <a:chExt cx="154440" cy="3945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3141360" y="3963960"/>
                  <a:ext cx="154440" cy="197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41360" y="4161240"/>
                  <a:ext cx="154440" cy="1972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4" name=""/>
            <p:cNvSpPr/>
            <p:nvPr/>
          </p:nvSpPr>
          <p:spPr>
            <a:xfrm>
              <a:off x="3369960" y="3635280"/>
              <a:ext cx="35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 baseline="-30000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 baseline="-30000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024360" y="3635280"/>
              <a:ext cx="0" cy="32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27400" y="3635280"/>
              <a:ext cx="0" cy="32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57400" y="53467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95480" y="1676160"/>
              <a:ext cx="381240" cy="1447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95480" y="2666880"/>
              <a:ext cx="0" cy="456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2666520" y="1904760"/>
              <a:ext cx="22860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24080" y="1828800"/>
              <a:ext cx="0" cy="5328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819160" y="2361960"/>
              <a:ext cx="22860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590560" y="2361960"/>
              <a:ext cx="15228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590920" y="2361600"/>
              <a:ext cx="0" cy="106668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29000" y="1904760"/>
              <a:ext cx="0" cy="83808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29000" y="2743200"/>
              <a:ext cx="15228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81280" y="2743200"/>
              <a:ext cx="0" cy="68544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66880" y="274320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ff3300"/>
                  </a:solidFill>
                  <a:latin typeface="Times New Roman"/>
                </a:rPr>
                <a:t>Wor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228600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6600"/>
                  </a:solidFill>
                  <a:latin typeface="Times New Roman"/>
                </a:rPr>
                <a:t>Prot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52480" y="274320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6600"/>
                  </a:solidFill>
                  <a:latin typeface="Times New Roman"/>
                </a:rPr>
                <a:t>Prot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PROT%20TR%20OAD%20GbE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154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'agenda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Le concep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Les Composan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La protection optiqu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Distribution de signaux TV/Video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Gestion des équipemen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Transmission longue distanc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Multiplexeur Optical Add/Drop reconfigur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Développements futur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Questions et répon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Distribution de signaux TV 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sur GbE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Les avantages par rapport à la solution analogique classique</a:t>
            </a:r>
            <a:br>
              <a:rPr sz="2600"/>
            </a:b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Investissement moins important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Très peu de frais de maintenance et d'opérat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Un seul résau de transport pour l'ensemble des servic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Rend le plan d'affaire pour les services sur demande attractif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Prêt pour le Video On Dema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Distribution de signaux TV 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sur GbE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676520" y="1295280"/>
            <a:ext cx="3962160" cy="3809880"/>
            <a:chOff x="1676520" y="1295280"/>
            <a:chExt cx="3962160" cy="3809880"/>
          </a:xfrm>
        </p:grpSpPr>
        <p:pic>
          <p:nvPicPr>
            <p:cNvPr id="598" name="DVVDM_Ring" descr=""/>
            <p:cNvPicPr/>
            <p:nvPr/>
          </p:nvPicPr>
          <p:blipFill>
            <a:blip r:embed="rId1"/>
            <a:stretch/>
          </p:blipFill>
          <p:spPr>
            <a:xfrm>
              <a:off x="1900080" y="2468160"/>
              <a:ext cx="3738600" cy="18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generalapp" descr=""/>
            <p:cNvPicPr/>
            <p:nvPr/>
          </p:nvPicPr>
          <p:blipFill>
            <a:blip r:embed="rId2"/>
            <a:stretch/>
          </p:blipFill>
          <p:spPr>
            <a:xfrm>
              <a:off x="1676520" y="4169160"/>
              <a:ext cx="44712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generalapp" descr=""/>
            <p:cNvPicPr/>
            <p:nvPr/>
          </p:nvPicPr>
          <p:blipFill>
            <a:blip r:embed="rId3"/>
            <a:stretch/>
          </p:blipFill>
          <p:spPr>
            <a:xfrm>
              <a:off x="3107880" y="4579560"/>
              <a:ext cx="44748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generalapp" descr=""/>
            <p:cNvPicPr/>
            <p:nvPr/>
          </p:nvPicPr>
          <p:blipFill>
            <a:blip r:embed="rId4"/>
            <a:stretch/>
          </p:blipFill>
          <p:spPr>
            <a:xfrm>
              <a:off x="5121360" y="4227840"/>
              <a:ext cx="4474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 flipV="1">
              <a:off x="1810440" y="3875400"/>
              <a:ext cx="312840" cy="351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3287160" y="4169160"/>
              <a:ext cx="312840" cy="410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" descr=""/>
            <p:cNvPicPr/>
            <p:nvPr/>
          </p:nvPicPr>
          <p:blipFill>
            <a:blip r:embed="rId5"/>
            <a:stretch/>
          </p:blipFill>
          <p:spPr>
            <a:xfrm>
              <a:off x="2123640" y="1295280"/>
              <a:ext cx="311040" cy="5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MANSYS%20rack%20entier_detoure" descr=""/>
            <p:cNvPicPr/>
            <p:nvPr/>
          </p:nvPicPr>
          <p:blipFill>
            <a:blip r:embed="rId6"/>
            <a:stretch/>
          </p:blipFill>
          <p:spPr>
            <a:xfrm>
              <a:off x="2705400" y="2526840"/>
              <a:ext cx="71568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MANSYS%20rack%20entier_detoure" descr=""/>
            <p:cNvPicPr/>
            <p:nvPr/>
          </p:nvPicPr>
          <p:blipFill>
            <a:blip r:embed="rId7"/>
            <a:stretch/>
          </p:blipFill>
          <p:spPr>
            <a:xfrm>
              <a:off x="1944720" y="3582720"/>
              <a:ext cx="71568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MANSYS%20rack%20entier_detoure" descr=""/>
            <p:cNvPicPr/>
            <p:nvPr/>
          </p:nvPicPr>
          <p:blipFill>
            <a:blip r:embed="rId8"/>
            <a:stretch/>
          </p:blipFill>
          <p:spPr>
            <a:xfrm>
              <a:off x="3197520" y="3993480"/>
              <a:ext cx="71568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MANSYS%20rack%20entier_detoure" descr=""/>
            <p:cNvPicPr/>
            <p:nvPr/>
          </p:nvPicPr>
          <p:blipFill>
            <a:blip r:embed="rId9"/>
            <a:stretch/>
          </p:blipFill>
          <p:spPr>
            <a:xfrm>
              <a:off x="4718880" y="3758760"/>
              <a:ext cx="715680" cy="30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 flipH="1" flipV="1">
              <a:off x="5210640" y="4051440"/>
              <a:ext cx="133920" cy="234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2302200" y="1881360"/>
              <a:ext cx="447480" cy="703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65720" y="3171960"/>
              <a:ext cx="84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2" name="Dble%20mono%20GbE%20PROT%20Rx" descr=""/>
          <p:cNvPicPr/>
          <p:nvPr/>
        </p:nvPicPr>
        <p:blipFill>
          <a:blip r:embed="rId10"/>
          <a:stretch/>
        </p:blipFill>
        <p:spPr>
          <a:xfrm>
            <a:off x="6629400" y="1905120"/>
            <a:ext cx="1333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'agenda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Le concep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Les Composa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La protection optiqu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Distribution de signaux TV/Vide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Gestion des équipeme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Transmission longue dis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Développements futur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Questions et répon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Modules Tx/Rx Mono Directionnels 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SDI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99"/>
                </a:solidFill>
                <a:latin typeface="Verdana"/>
              </a:rPr>
              <a:t>Un module offrant une connectivité SDI au travers d'un interface BNC pour la connexion de caméras</a:t>
            </a:r>
            <a:br>
              <a:rPr sz="3000"/>
            </a:br>
            <a:r>
              <a:rPr b="0" lang="fr-BE" sz="3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99"/>
                </a:solidFill>
                <a:latin typeface="Verdana"/>
              </a:rPr>
              <a:t>Canal transparent à 270 Mbps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'agenda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Le concep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Les Composan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La protection optiqu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Distribution de signaux TV/Video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Gestion des équipemen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Transmission longue distanc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Multiplexeur Optical Add/Drop reconfigur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Développements futur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Questions et répon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Module de gestion - NM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8" name="Carte%20NMS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382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619" name=""/>
          <p:cNvGrpSpPr/>
          <p:nvPr/>
        </p:nvGrpSpPr>
        <p:grpSpPr>
          <a:xfrm>
            <a:off x="3276720" y="1219320"/>
            <a:ext cx="4952160" cy="2913480"/>
            <a:chOff x="3276720" y="1219320"/>
            <a:chExt cx="4952160" cy="2913480"/>
          </a:xfrm>
        </p:grpSpPr>
        <p:grpSp>
          <p:nvGrpSpPr>
            <p:cNvPr id="620" name=""/>
            <p:cNvGrpSpPr/>
            <p:nvPr/>
          </p:nvGrpSpPr>
          <p:grpSpPr>
            <a:xfrm>
              <a:off x="5880960" y="3036960"/>
              <a:ext cx="2347920" cy="1095840"/>
              <a:chOff x="5880960" y="3036960"/>
              <a:chExt cx="2347920" cy="109584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880960" y="3036960"/>
                <a:ext cx="312480" cy="1095840"/>
                <a:chOff x="5880960" y="3036960"/>
                <a:chExt cx="312480" cy="109584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919840" y="3036960"/>
                  <a:ext cx="255240" cy="1062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924520" y="3989880"/>
                  <a:ext cx="258480" cy="74160"/>
                </a:xfrm>
                <a:prstGeom prst="rect">
                  <a:avLst/>
                </a:prstGeom>
                <a:noFill/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29880" bIns="29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880960" y="3967920"/>
                  <a:ext cx="31248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NMS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977080" y="3111120"/>
                  <a:ext cx="145440" cy="131040"/>
                </a:xfrm>
                <a:prstGeom prst="rect">
                  <a:avLst/>
                </a:prstGeom>
                <a:noFill/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015960" y="3124440"/>
                  <a:ext cx="89640" cy="104760"/>
                </a:xfrm>
                <a:prstGeom prst="rect">
                  <a:avLst/>
                </a:prstGeom>
                <a:solidFill>
                  <a:srgbClr val="230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93640" y="3159360"/>
                  <a:ext cx="33480" cy="34920"/>
                </a:xfrm>
                <a:prstGeom prst="rect">
                  <a:avLst/>
                </a:prstGeom>
                <a:solidFill>
                  <a:srgbClr val="230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-9360" bIns="-9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6221520" y="3066480"/>
                <a:ext cx="200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800" spc="-1" strike="noStrike">
                    <a:solidFill>
                      <a:srgbClr val="000099"/>
                    </a:solidFill>
                    <a:latin typeface="Times New Roman"/>
                  </a:rPr>
                  <a:t>NMS Car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3276720" y="1219320"/>
              <a:ext cx="4815000" cy="1884600"/>
              <a:chOff x="3276720" y="1219320"/>
              <a:chExt cx="4815000" cy="188460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3276720" y="2498040"/>
                <a:ext cx="4815000" cy="403920"/>
                <a:chOff x="3276720" y="2498040"/>
                <a:chExt cx="4815000" cy="4039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3276720" y="2498040"/>
                  <a:ext cx="4815000" cy="403920"/>
                </a:xfrm>
                <a:prstGeom prst="leftRightArrow">
                  <a:avLst>
                    <a:gd name="adj1" fmla="val 50000"/>
                    <a:gd name="adj2" fmla="val 237309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01840" y="2566440"/>
                  <a:ext cx="2751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200" spc="-1" strike="noStrike">
                      <a:solidFill>
                        <a:srgbClr val="ffff00"/>
                      </a:solidFill>
                      <a:latin typeface="Times New Roman"/>
                    </a:rPr>
                    <a:t>RS485/MODB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368960" y="1219320"/>
                <a:ext cx="436680" cy="1194480"/>
                <a:chOff x="4368960" y="1219320"/>
                <a:chExt cx="436680" cy="11944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433760" y="1219320"/>
                  <a:ext cx="272880" cy="1077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503960" y="1333800"/>
                  <a:ext cx="43920" cy="128880"/>
                  <a:chOff x="4503960" y="1333800"/>
                  <a:chExt cx="43920" cy="12888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503960" y="1333800"/>
                    <a:ext cx="43920" cy="37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503960" y="1379520"/>
                    <a:ext cx="43920" cy="3780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503960" y="1424880"/>
                    <a:ext cx="43920" cy="3780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9" name=""/>
                <p:cNvSpPr/>
                <p:nvPr/>
              </p:nvSpPr>
              <p:spPr>
                <a:xfrm>
                  <a:off x="4451400" y="1276920"/>
                  <a:ext cx="237600" cy="419400"/>
                </a:xfrm>
                <a:prstGeom prst="rect">
                  <a:avLst/>
                </a:prstGeom>
                <a:noFill/>
                <a:ln w="12600">
                  <a:solidFill>
                    <a:srgbClr val="80008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02440" y="1267920"/>
                  <a:ext cx="34308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Clien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452120" y="1319760"/>
                  <a:ext cx="35352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Alarm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446360" y="1367640"/>
                  <a:ext cx="35676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Signal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455720" y="1413720"/>
                  <a:ext cx="33372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Clock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503960" y="1780920"/>
                  <a:ext cx="43920" cy="128880"/>
                  <a:chOff x="4503960" y="1780920"/>
                  <a:chExt cx="43920" cy="12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503960" y="1780920"/>
                    <a:ext cx="43920" cy="37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503960" y="1826640"/>
                    <a:ext cx="43920" cy="3780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4503960" y="1872000"/>
                    <a:ext cx="43920" cy="3780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8" name=""/>
                <p:cNvSpPr/>
                <p:nvPr/>
              </p:nvSpPr>
              <p:spPr>
                <a:xfrm>
                  <a:off x="4451400" y="1723680"/>
                  <a:ext cx="237600" cy="419400"/>
                </a:xfrm>
                <a:prstGeom prst="rect">
                  <a:avLst/>
                </a:prstGeom>
                <a:noFill/>
                <a:ln w="12600">
                  <a:solidFill>
                    <a:srgbClr val="80008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394520" y="1715760"/>
                  <a:ext cx="36288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Access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452120" y="1768680"/>
                  <a:ext cx="35352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Alarm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46360" y="1814040"/>
                  <a:ext cx="35676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Signal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455720" y="1860120"/>
                  <a:ext cx="33372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Clock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443120" y="2185560"/>
                  <a:ext cx="262800" cy="84240"/>
                </a:xfrm>
                <a:prstGeom prst="rect">
                  <a:avLst/>
                </a:prstGeom>
                <a:noFill/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39960" bIns="399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368960" y="2172960"/>
                  <a:ext cx="414720" cy="24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1570nm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476240" y="1501200"/>
                  <a:ext cx="299160" cy="229320"/>
                  <a:chOff x="4476240" y="1501200"/>
                  <a:chExt cx="299160" cy="22932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526640" y="1501200"/>
                    <a:ext cx="246960" cy="16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BE" sz="500" spc="-1" strike="noStrike">
                        <a:solidFill>
                          <a:srgbClr val="660066"/>
                        </a:solidFill>
                        <a:latin typeface="Verdana"/>
                      </a:rPr>
                      <a:t>TX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523760" y="1565640"/>
                    <a:ext cx="251640" cy="16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BE" sz="500" spc="-1" strike="noStrike">
                        <a:solidFill>
                          <a:srgbClr val="660066"/>
                        </a:solidFill>
                        <a:latin typeface="Verdana"/>
                      </a:rPr>
                      <a:t>RX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4476240" y="1518840"/>
                    <a:ext cx="130680" cy="114480"/>
                    <a:chOff x="4476240" y="1518840"/>
                    <a:chExt cx="130680" cy="11448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flipH="1" rot="16200000">
                      <a:off x="4483800" y="1511280"/>
                      <a:ext cx="114480" cy="129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4476240" y="1577880"/>
                      <a:ext cx="130680" cy="0"/>
                    </a:xfrm>
                    <a:prstGeom prst="line">
                      <a:avLst/>
                    </a:prstGeom>
                    <a:ln cap="rnd" w="12600">
                      <a:solidFill>
                        <a:srgbClr val="80008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flipH="1" rot="16200000">
                      <a:off x="4518720" y="1522800"/>
                      <a:ext cx="44280" cy="50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-7920" bIns="-79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H="1" rot="16200000">
                      <a:off x="4518720" y="1578960"/>
                      <a:ext cx="44280" cy="50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-7920" bIns="-79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4476240" y="1954080"/>
                  <a:ext cx="299160" cy="229320"/>
                  <a:chOff x="4476240" y="1954080"/>
                  <a:chExt cx="299160" cy="2293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4526640" y="1954080"/>
                    <a:ext cx="246960" cy="16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BE" sz="500" spc="-1" strike="noStrike">
                        <a:solidFill>
                          <a:srgbClr val="660066"/>
                        </a:solidFill>
                        <a:latin typeface="Verdana"/>
                      </a:rPr>
                      <a:t>TX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523760" y="2018520"/>
                    <a:ext cx="251640" cy="16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BE" sz="500" spc="-1" strike="noStrike">
                        <a:solidFill>
                          <a:srgbClr val="660066"/>
                        </a:solidFill>
                        <a:latin typeface="Verdana"/>
                      </a:rPr>
                      <a:t>RX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4476240" y="1971720"/>
                    <a:ext cx="130680" cy="114480"/>
                    <a:chOff x="4476240" y="1971720"/>
                    <a:chExt cx="130680" cy="11448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flipH="1" rot="16200000">
                      <a:off x="4483800" y="1964160"/>
                      <a:ext cx="114480" cy="129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4476240" y="2030760"/>
                      <a:ext cx="130680" cy="0"/>
                    </a:xfrm>
                    <a:prstGeom prst="line">
                      <a:avLst/>
                    </a:prstGeom>
                    <a:ln cap="rnd" w="12600">
                      <a:solidFill>
                        <a:srgbClr val="80008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6200000">
                      <a:off x="4518720" y="1975680"/>
                      <a:ext cx="44280" cy="50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-7920" bIns="-79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 rot="16200000">
                      <a:off x="4518720" y="2031840"/>
                      <a:ext cx="44280" cy="50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-7920" bIns="-79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71" name=""/>
              <p:cNvGrpSpPr/>
              <p:nvPr/>
            </p:nvGrpSpPr>
            <p:grpSpPr>
              <a:xfrm>
                <a:off x="5056920" y="1219320"/>
                <a:ext cx="436680" cy="1194480"/>
                <a:chOff x="5056920" y="1219320"/>
                <a:chExt cx="436680" cy="11944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121720" y="1219320"/>
                  <a:ext cx="272880" cy="1077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3" name=""/>
                <p:cNvGrpSpPr/>
                <p:nvPr/>
              </p:nvGrpSpPr>
              <p:grpSpPr>
                <a:xfrm>
                  <a:off x="5191920" y="1333800"/>
                  <a:ext cx="43920" cy="128880"/>
                  <a:chOff x="5191920" y="1333800"/>
                  <a:chExt cx="43920" cy="12888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5191920" y="1333800"/>
                    <a:ext cx="43920" cy="37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191920" y="1379520"/>
                    <a:ext cx="43920" cy="3780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191920" y="1424880"/>
                    <a:ext cx="43920" cy="3780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>
                  <a:off x="5139360" y="1276920"/>
                  <a:ext cx="237600" cy="419400"/>
                </a:xfrm>
                <a:prstGeom prst="rect">
                  <a:avLst/>
                </a:prstGeom>
                <a:noFill/>
                <a:ln w="12600">
                  <a:solidFill>
                    <a:srgbClr val="80008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89320" y="1267920"/>
                  <a:ext cx="34308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Clien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140080" y="1319760"/>
                  <a:ext cx="35352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Alarm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33600" y="1367640"/>
                  <a:ext cx="35676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Signal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43680" y="1413720"/>
                  <a:ext cx="33372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Clock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2" name=""/>
                <p:cNvGrpSpPr/>
                <p:nvPr/>
              </p:nvGrpSpPr>
              <p:grpSpPr>
                <a:xfrm>
                  <a:off x="5191920" y="1780920"/>
                  <a:ext cx="43920" cy="128880"/>
                  <a:chOff x="5191920" y="1780920"/>
                  <a:chExt cx="43920" cy="12888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5191920" y="1780920"/>
                    <a:ext cx="43920" cy="37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5191920" y="1826640"/>
                    <a:ext cx="43920" cy="3780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191920" y="1872000"/>
                    <a:ext cx="43920" cy="3780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17280" bIns="-17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6" name=""/>
                <p:cNvSpPr/>
                <p:nvPr/>
              </p:nvSpPr>
              <p:spPr>
                <a:xfrm>
                  <a:off x="5139360" y="1723680"/>
                  <a:ext cx="237600" cy="419400"/>
                </a:xfrm>
                <a:prstGeom prst="rect">
                  <a:avLst/>
                </a:prstGeom>
                <a:noFill/>
                <a:ln w="12600">
                  <a:solidFill>
                    <a:srgbClr val="80008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081400" y="1715760"/>
                  <a:ext cx="36288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Access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140080" y="1768680"/>
                  <a:ext cx="35352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Alarm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3600" y="1814040"/>
                  <a:ext cx="35676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Signal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143680" y="1860120"/>
                  <a:ext cx="33372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Clock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31080" y="2185560"/>
                  <a:ext cx="262800" cy="84240"/>
                </a:xfrm>
                <a:prstGeom prst="rect">
                  <a:avLst/>
                </a:prstGeom>
                <a:noFill/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39960" bIns="399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056920" y="2172960"/>
                  <a:ext cx="414720" cy="24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1570nm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3" name=""/>
                <p:cNvGrpSpPr/>
                <p:nvPr/>
              </p:nvGrpSpPr>
              <p:grpSpPr>
                <a:xfrm>
                  <a:off x="5164920" y="1501200"/>
                  <a:ext cx="299880" cy="229320"/>
                  <a:chOff x="5164920" y="1501200"/>
                  <a:chExt cx="299880" cy="22932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5216400" y="1501200"/>
                    <a:ext cx="246960" cy="16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BE" sz="500" spc="-1" strike="noStrike">
                        <a:solidFill>
                          <a:srgbClr val="660066"/>
                        </a:solidFill>
                        <a:latin typeface="Verdana"/>
                      </a:rPr>
                      <a:t>TX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213160" y="1565640"/>
                    <a:ext cx="251640" cy="16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BE" sz="500" spc="-1" strike="noStrike">
                        <a:solidFill>
                          <a:srgbClr val="660066"/>
                        </a:solidFill>
                        <a:latin typeface="Verdana"/>
                      </a:rPr>
                      <a:t>RX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164920" y="1518840"/>
                    <a:ext cx="130320" cy="114480"/>
                    <a:chOff x="5164920" y="1518840"/>
                    <a:chExt cx="130320" cy="11448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flipH="1" rot="16200000">
                      <a:off x="5172840" y="1511640"/>
                      <a:ext cx="114480" cy="12888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5164920" y="1577880"/>
                      <a:ext cx="130320" cy="0"/>
                    </a:xfrm>
                    <a:prstGeom prst="line">
                      <a:avLst/>
                    </a:prstGeom>
                    <a:ln cap="rnd" w="12600">
                      <a:solidFill>
                        <a:srgbClr val="80008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16200000">
                      <a:off x="5206680" y="1522800"/>
                      <a:ext cx="44280" cy="50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-7920" bIns="-79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flipH="1" rot="16200000">
                      <a:off x="5206680" y="1578960"/>
                      <a:ext cx="44280" cy="50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-7920" bIns="-79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5164920" y="1954080"/>
                  <a:ext cx="299880" cy="229320"/>
                  <a:chOff x="5164920" y="1954080"/>
                  <a:chExt cx="299880" cy="22932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5216400" y="1954080"/>
                    <a:ext cx="246960" cy="16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BE" sz="500" spc="-1" strike="noStrike">
                        <a:solidFill>
                          <a:srgbClr val="660066"/>
                        </a:solidFill>
                        <a:latin typeface="Verdana"/>
                      </a:rPr>
                      <a:t>TX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5213160" y="2018520"/>
                    <a:ext cx="251640" cy="16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BE" sz="500" spc="-1" strike="noStrike">
                        <a:solidFill>
                          <a:srgbClr val="660066"/>
                        </a:solidFill>
                        <a:latin typeface="Verdana"/>
                      </a:rPr>
                      <a:t>RX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5164920" y="1971720"/>
                    <a:ext cx="130320" cy="114480"/>
                    <a:chOff x="5164920" y="1971720"/>
                    <a:chExt cx="130320" cy="11448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 flipH="1" rot="16200000">
                      <a:off x="5172840" y="1964520"/>
                      <a:ext cx="114480" cy="12888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5164920" y="2030760"/>
                      <a:ext cx="130320" cy="0"/>
                    </a:xfrm>
                    <a:prstGeom prst="line">
                      <a:avLst/>
                    </a:prstGeom>
                    <a:ln cap="rnd" w="12600">
                      <a:solidFill>
                        <a:srgbClr val="80008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 rot="16200000">
                      <a:off x="5206680" y="1975680"/>
                      <a:ext cx="44280" cy="50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-7920" bIns="-79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16200000">
                      <a:off x="5206680" y="2031840"/>
                      <a:ext cx="44280" cy="50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-7920" bIns="-79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09" name=""/>
              <p:cNvGrpSpPr/>
              <p:nvPr/>
            </p:nvGrpSpPr>
            <p:grpSpPr>
              <a:xfrm>
                <a:off x="5883840" y="1219320"/>
                <a:ext cx="370440" cy="1134720"/>
                <a:chOff x="5883840" y="1219320"/>
                <a:chExt cx="370440" cy="1134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927400" y="1219320"/>
                  <a:ext cx="274320" cy="1009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956920" y="2124720"/>
                  <a:ext cx="222840" cy="78840"/>
                </a:xfrm>
                <a:prstGeom prst="rect">
                  <a:avLst/>
                </a:prstGeom>
                <a:noFill/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34560" bIns="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883840" y="2113200"/>
                  <a:ext cx="370440" cy="24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Power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Supply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6296760" y="1219320"/>
                <a:ext cx="370440" cy="1134720"/>
                <a:chOff x="6296760" y="1219320"/>
                <a:chExt cx="370440" cy="11347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6340320" y="1219320"/>
                  <a:ext cx="274320" cy="1009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69840" y="2124720"/>
                  <a:ext cx="222840" cy="78840"/>
                </a:xfrm>
                <a:prstGeom prst="rect">
                  <a:avLst/>
                </a:prstGeom>
                <a:noFill/>
                <a:ln w="1260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34560" bIns="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296760" y="2113200"/>
                  <a:ext cx="370440" cy="24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Power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BE" sz="500" spc="-1" strike="noStrike">
                      <a:solidFill>
                        <a:srgbClr val="660066"/>
                      </a:solidFill>
                      <a:latin typeface="Verdana"/>
                    </a:rPr>
                    <a:t>Supply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4583160" y="2296080"/>
                <a:ext cx="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271480" y="2296080"/>
                <a:ext cx="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027840" y="2296080"/>
                <a:ext cx="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09520" y="2296080"/>
                <a:ext cx="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27840" y="2767680"/>
                <a:ext cx="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2" name=""/>
          <p:cNvSpPr/>
          <p:nvPr/>
        </p:nvSpPr>
        <p:spPr>
          <a:xfrm>
            <a:off x="2133720" y="4191120"/>
            <a:ext cx="6781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Passerelle entre les modules connectés au bus (modules fonctionnels et alimentations) et la station de 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Connectivité au travers d'un interface RJ45 – 100Ba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Full Linux O.S., TCP/IP stack, agent SNMP, client DHCP, etc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Module de gestion - NM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724" name="Carte%20NMS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382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133720" y="2057400"/>
            <a:ext cx="6781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Tout mouvement de modules (insertion/retrait) est signalé au module NMS par une ala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Lors de l'insertion d'un module fonctionnel dans son logement, une configuration par défaut lui est associ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Si le module est désactivé et ensuite réactivé, le module NMS recharge sa dernière configuration (effet de mémo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Les données gérées par le module NMS sont sauvegardables (FTP) sur un autre PC et rechargeables sur une nouivelle carte NMS, en cas de panne de l'exi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Gestion locale ou éloignée (2)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90920" y="1981080"/>
            <a:ext cx="5790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Soit, en utilisant un browser qui va permettre de lire des pages HTML dynamiques, stockées sur le web server du module NM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Soit, en utilisant un flux SNMP entre le module NMS et un SNMP manag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Permet l'implémentation d'un véritable réseau privé IP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728" name="Carte%20NMS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38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'agenda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Le concep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Les Composan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La protection optiqu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Distribution de signaux TV/Video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Gestion des équipemen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99"/>
                </a:solidFill>
                <a:latin typeface="Verdana"/>
              </a:rPr>
              <a:t>Transmission longue distanc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Multiplexeur Optical Add/Drop reconfigur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Développements futur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b2b2b2"/>
                </a:solidFill>
                <a:latin typeface="Verdana"/>
              </a:rPr>
              <a:t>Questions et répon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Verdana"/>
              </a:rPr>
              <a:t>Transmission sur longue distance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Augmenter le budget optique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Possibilité d'utiliser un module d'amplification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Augmenter la sensitivité des récepteurs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Récepteurs  basés sur des photodiodes à effet Avalanche en lieu et place des PIN diodes (-30 dBm vs –20 dBm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'agenda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Le concep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Les Composa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La protection optiqu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Distribution de signaux TV/Vide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Gestion des équipeme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Transmission longue dis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Développements futur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Questions et répon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'agenda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Le concep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Les Composa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La protection optiqu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Distribution de signaux TV/Vide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Gestion des équipeme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Transmission longue dis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Développements futur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b2b2b2"/>
                </a:solidFill>
                <a:latin typeface="Verdana"/>
              </a:rPr>
              <a:t>Questions et répon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Développements futur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Sous-multiplexage sur un canal optique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Solutions mixtes: </a:t>
            </a:r>
            <a:br>
              <a:rPr sz="2400"/>
            </a:b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Fast/Gigabit Ethernet + E1’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Dual Gigabit Ethernet ports</a:t>
            </a:r>
            <a:br>
              <a:rPr sz="2400"/>
            </a:b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10 GbE</a:t>
            </a:r>
            <a:br>
              <a:rPr sz="2600"/>
            </a:b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Intégration DWDM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219320" y="0"/>
            <a:ext cx="7924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0" spc="-1" strike="noStrike">
                <a:solidFill>
                  <a:srgbClr val="3f0656"/>
                </a:solidFill>
                <a:latin typeface="Helvetica 25 UltraLight"/>
              </a:rPr>
              <a:t>see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895480" y="5918040"/>
            <a:ext cx="40388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Verdana"/>
              </a:rPr>
              <a:t>Michel Herm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Verdana"/>
              </a:rPr>
              <a:t>m.hermant@see.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Verdana"/>
              </a:rPr>
              <a:t>Mobile: +32 479 9789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rack%203_4ha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5989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La décision stratégique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2057400"/>
            <a:ext cx="6782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imes New Roman"/>
              </a:rPr>
              <a:t>Fort de son expertise dans les transmissions analogiques, SEE Telecom entre dans le marché des télécommunications numériques et met à la disposition de ses clients, une famille d'équipements de multiplexage optique destinés à couvrir les besoins des réseaux métropolitains et d'accès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e marché cible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 rot="20857200">
            <a:off x="2590920" y="3429000"/>
            <a:ext cx="4419360" cy="19810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35160" y="1981080"/>
            <a:ext cx="6781680" cy="2106720"/>
            <a:chOff x="1235160" y="1981080"/>
            <a:chExt cx="6781680" cy="2106720"/>
          </a:xfrm>
        </p:grpSpPr>
        <p:grpSp>
          <p:nvGrpSpPr>
            <p:cNvPr id="54" name=""/>
            <p:cNvGrpSpPr/>
            <p:nvPr/>
          </p:nvGrpSpPr>
          <p:grpSpPr>
            <a:xfrm>
              <a:off x="1235160" y="1981080"/>
              <a:ext cx="6781680" cy="2106720"/>
              <a:chOff x="1235160" y="1981080"/>
              <a:chExt cx="6781680" cy="2106720"/>
            </a:xfrm>
          </p:grpSpPr>
          <p:sp>
            <p:nvSpPr>
              <p:cNvPr id="55" name=""/>
              <p:cNvSpPr/>
              <p:nvPr/>
            </p:nvSpPr>
            <p:spPr>
              <a:xfrm>
                <a:off x="1235160" y="2057400"/>
                <a:ext cx="237960" cy="2080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616760" y="1981080"/>
                <a:ext cx="1922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800" spc="-1" strike="noStrike">
                    <a:solidFill>
                      <a:srgbClr val="000000"/>
                    </a:solidFill>
                    <a:latin typeface="Times New Roman"/>
                  </a:rPr>
                  <a:t>Carrier Major P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Cloud"/>
              <p:cNvSpPr/>
              <p:nvPr/>
            </p:nvSpPr>
            <p:spPr>
              <a:xfrm>
                <a:off x="4402080" y="1981080"/>
                <a:ext cx="3614760" cy="21067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57720" y="3699000"/>
                <a:ext cx="126828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6578280" y="3289320"/>
                <a:ext cx="368280" cy="326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92600" y="3222720"/>
                <a:ext cx="301680" cy="3934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87720" y="2554200"/>
                <a:ext cx="26067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Core Backbo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52880" y="3581280"/>
              <a:ext cx="238320" cy="20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64440" y="3581280"/>
              <a:ext cx="237960" cy="20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95280" y="3048120"/>
            <a:ext cx="4921200" cy="2239920"/>
            <a:chOff x="1295280" y="3048120"/>
            <a:chExt cx="4921200" cy="2239920"/>
          </a:xfrm>
        </p:grpSpPr>
        <p:sp>
          <p:nvSpPr>
            <p:cNvPr id="65" name=""/>
            <p:cNvSpPr/>
            <p:nvPr/>
          </p:nvSpPr>
          <p:spPr>
            <a:xfrm>
              <a:off x="4613400" y="4894200"/>
              <a:ext cx="158760" cy="139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92680" y="4673520"/>
              <a:ext cx="42084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59520" y="5151600"/>
              <a:ext cx="156960" cy="136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13200" y="4630680"/>
              <a:ext cx="160200" cy="138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95280" y="3200400"/>
              <a:ext cx="157320" cy="138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77240" y="30481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Times New Roman"/>
                </a:rPr>
                <a:t>Carrier Access P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65400" y="4145040"/>
              <a:ext cx="1079640" cy="83664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08400" y="4102200"/>
              <a:ext cx="160560" cy="137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9560" y="4419720"/>
              <a:ext cx="797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295280" y="2438280"/>
            <a:ext cx="5464440" cy="2252880"/>
            <a:chOff x="1295280" y="2438280"/>
            <a:chExt cx="5464440" cy="2252880"/>
          </a:xfrm>
        </p:grpSpPr>
        <p:sp>
          <p:nvSpPr>
            <p:cNvPr id="75" name=""/>
            <p:cNvSpPr/>
            <p:nvPr/>
          </p:nvSpPr>
          <p:spPr>
            <a:xfrm>
              <a:off x="1295280" y="2590920"/>
              <a:ext cx="158760" cy="137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75080" y="2438280"/>
              <a:ext cx="214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Times New Roman"/>
                </a:rPr>
                <a:t>Carrier minor PO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Times New Roman"/>
                </a:rPr>
                <a:t>(carrier hotel, IX, 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818240" y="3478320"/>
              <a:ext cx="1941480" cy="1212840"/>
              <a:chOff x="4818240" y="3478320"/>
              <a:chExt cx="1941480" cy="1212840"/>
            </a:xfrm>
          </p:grpSpPr>
          <p:sp>
            <p:nvSpPr>
              <p:cNvPr id="78" name=""/>
              <p:cNvSpPr/>
              <p:nvPr/>
            </p:nvSpPr>
            <p:spPr>
              <a:xfrm>
                <a:off x="5073480" y="4049640"/>
                <a:ext cx="1206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"/>
                  </a:rPr>
                  <a:t>Metro C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"/>
                  </a:rPr>
                  <a:t>R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18240" y="3478320"/>
                <a:ext cx="1941480" cy="1144440"/>
              </a:xfrm>
              <a:prstGeom prst="ellipse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611680" y="4552920"/>
                <a:ext cx="158760" cy="1382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443640" y="4344840"/>
                <a:ext cx="158760" cy="1382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97440" y="4275000"/>
                <a:ext cx="158760" cy="1382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1295280" y="3505320"/>
            <a:ext cx="3511800" cy="1915920"/>
            <a:chOff x="1295280" y="3505320"/>
            <a:chExt cx="3511800" cy="1915920"/>
          </a:xfrm>
        </p:grpSpPr>
        <p:sp>
          <p:nvSpPr>
            <p:cNvPr id="84" name=""/>
            <p:cNvSpPr/>
            <p:nvPr/>
          </p:nvSpPr>
          <p:spPr>
            <a:xfrm>
              <a:off x="1295280" y="3657600"/>
              <a:ext cx="158760" cy="1396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77240" y="3505320"/>
              <a:ext cx="19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Times New Roman"/>
                </a:rPr>
                <a:t>Business Custom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03560" y="4365720"/>
              <a:ext cx="158760" cy="1378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15080" y="4799160"/>
              <a:ext cx="9579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30480" y="4600440"/>
              <a:ext cx="934920" cy="638280"/>
            </a:xfrm>
            <a:custGeom>
              <a:avLst/>
              <a:gdLst/>
              <a:ahLst/>
              <a:rect l="l" t="t" r="r" b="b"/>
              <a:pathLst>
                <a:path w="832" h="696">
                  <a:moveTo>
                    <a:pt x="832" y="128"/>
                  </a:moveTo>
                  <a:cubicBezTo>
                    <a:pt x="608" y="64"/>
                    <a:pt x="384" y="0"/>
                    <a:pt x="256" y="80"/>
                  </a:cubicBezTo>
                  <a:cubicBezTo>
                    <a:pt x="128" y="160"/>
                    <a:pt x="0" y="520"/>
                    <a:pt x="64" y="608"/>
                  </a:cubicBezTo>
                  <a:cubicBezTo>
                    <a:pt x="128" y="696"/>
                    <a:pt x="544" y="608"/>
                    <a:pt x="640" y="6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79560" y="4894200"/>
              <a:ext cx="158760" cy="1382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08400" y="5283360"/>
              <a:ext cx="156960" cy="1378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86200" y="3962160"/>
              <a:ext cx="38088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3760" y="3881520"/>
              <a:ext cx="158760" cy="1378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211560" y="4497120"/>
              <a:ext cx="1080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941560" y="498168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73560" y="5202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5029200"/>
              <a:ext cx="158760" cy="1382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3576600" y="4314600"/>
              <a:ext cx="37800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68600" y="4226040"/>
              <a:ext cx="158760" cy="1396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00400" y="1371600"/>
            <a:ext cx="5559840" cy="5349240"/>
            <a:chOff x="3200400" y="1371600"/>
            <a:chExt cx="5559840" cy="5349240"/>
          </a:xfrm>
        </p:grpSpPr>
        <p:sp>
          <p:nvSpPr>
            <p:cNvPr id="100" name=""/>
            <p:cNvSpPr/>
            <p:nvPr/>
          </p:nvSpPr>
          <p:spPr>
            <a:xfrm>
              <a:off x="6709680" y="1371600"/>
              <a:ext cx="2050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Distance: 200+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Protocols: *  DWD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                   </a:t>
              </a: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* STM-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                   </a:t>
              </a: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* STM-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00400" y="5410080"/>
              <a:ext cx="4114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Distance:  &lt;  50 - 80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Protocols: *  GbE, 100 Ba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                   </a:t>
              </a: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* ESCON, Fibre Chan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                   </a:t>
              </a: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* STM-1, STM-4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                   </a:t>
              </a:r>
              <a:r>
                <a:rPr b="1" lang="fr-BE" sz="1600" spc="-1" strike="noStrike">
                  <a:solidFill>
                    <a:srgbClr val="ff0000"/>
                  </a:solidFill>
                  <a:latin typeface="Times New Roman"/>
                </a:rPr>
                <a:t>* E1, E3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676520" y="106668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Représentation hiérarchique des rés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Faiblesse des solutions actuelle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Dérivées des solutions développées pour les réseaux "longue distance":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Sur-dimensionnées pour les réseaux métropolita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Basées sur des protocoles DWDM et SD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Ne répondent pas aux attentes des clien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Peu flexibles,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Technologies coûteuses à implémenter et à maintenir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MANSYS </a:t>
            </a:r>
            <a:br>
              <a:rPr sz="3000"/>
            </a:b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R&amp;D Lignes directrices</a:t>
            </a: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Totalement compatible avec les standards internationaux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Nécessite un faible investissement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Droit d'entrée minimum,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Coût additionnel par module.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Réduit les frais d'opération à leur stricte minimum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Maintenance très faci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Verdana"/>
              </a:rPr>
              <a:t>Aide aux opérat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99"/>
                </a:solidFill>
                <a:latin typeface="Verdana"/>
              </a:rPr>
              <a:t>Gérable en accès local ou éloigné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La solution </a:t>
            </a:r>
            <a:r>
              <a:rPr b="0" lang="fr-BE" sz="4400" spc="-1" strike="noStrike">
                <a:solidFill>
                  <a:srgbClr val="000099"/>
                </a:solidFill>
                <a:latin typeface="Helvetica 25 UltraLight"/>
              </a:rPr>
              <a:t>see</a:t>
            </a: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3000"/>
            </a:br>
            <a:r>
              <a:rPr b="1" lang="fr-BE" sz="3000" spc="-1" strike="noStrike">
                <a:solidFill>
                  <a:srgbClr val="000099"/>
                </a:solidFill>
                <a:latin typeface="Verdana"/>
              </a:rPr>
              <a:t>Une paire de fibres virtuelles</a:t>
            </a:r>
            <a:br>
              <a:rPr sz="3000"/>
            </a:br>
            <a:endParaRPr b="1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Verdana"/>
              </a:rPr>
              <a:t>Offrent  jusque 8+1 canaux optiques bidirectionnels,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Verdana"/>
              </a:rPr>
              <a:t>Terminés au travers d'interfaces standards tels que Fast/Gigabit Ethernet, SDH, Fibre Channel, multirate…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Verdana"/>
              </a:rPr>
              <a:t>Basé sur le dernière version de la technologie CWDM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16:44Z</dcterms:created>
  <dc:creator>wuyts</dc:creator>
  <dc:description/>
  <dc:language>en-US</dc:language>
  <cp:lastModifiedBy>Mhermant</cp:lastModifiedBy>
  <cp:lastPrinted>2003-01-16T13:22:39Z</cp:lastPrinted>
  <dcterms:modified xsi:type="dcterms:W3CDTF">2003-11-21T10:35:18Z</dcterms:modified>
  <cp:revision>89</cp:revision>
  <dc:subject/>
  <dc:title>Présentation PowerPoint</dc:title>
</cp:coreProperties>
</file>