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30.png" ContentType="image/png"/>
  <Override PartName="/ppt/media/image31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41.wmf" ContentType="image/x-wmf"/>
  <Override PartName="/ppt/media/image8.png" ContentType="image/png"/>
  <Override PartName="/ppt/media/image13.png" ContentType="image/png"/>
  <Override PartName="/ppt/media/image40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44.jpeg" ContentType="image/jpeg"/>
  <Override PartName="/ppt/media/image4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5.png" ContentType="image/png"/>
  <Override PartName="/ppt/media/image35.png" ContentType="image/png"/>
  <Override PartName="/ppt/media/image43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67513" cy="9907588"/>
  <p:custShowLst>
    <p:custShow name="Manufacturing" id="0">
      <p:sldLst>
        <p:sld r:id="rId22"/>
        <p:sld r:id="rId26"/>
        <p:sld r:id="rId10"/>
        <p:sld r:id="rId18"/>
      </p:sldLst>
    </p:custShow>
    <p:custShow name="POUR XILINX" id="1">
      <p:sldLst>
        <p:sld r:id="rId22"/>
        <p:sld r:id="rId26"/>
        <p:sld r:id="rId6"/>
        <p:sld r:id="rId7"/>
        <p:sld r:id="rId5"/>
        <p:sld r:id="rId9"/>
        <p:sld r:id="rId11"/>
        <p:sld r:id="rId10"/>
        <p:sld r:id="rId18"/>
        <p:sld r:id="rId28"/>
        <p:sld r:id="rId29"/>
        <p:sld r:id="rId30"/>
        <p:sld r:id="rId32"/>
        <p:sld r:id="rId33"/>
        <p:sld r:id="rId31"/>
        <p:sld r:id="rId16"/>
        <p:sld r:id="rId14"/>
        <p:sld r:id="rId25"/>
        <p:sld r:id="rId15"/>
        <p:sld r:id="rId19"/>
        <p:sld r:id="rId20"/>
      </p:sldLst>
    </p:custShow>
    <p:custShow name="etudiants" id="2">
      <p:sldLst>
        <p:sld r:id="rId22"/>
        <p:sld r:id="rId26"/>
        <p:sld r:id="rId6"/>
        <p:sld r:id="rId7"/>
        <p:sld r:id="rId5"/>
        <p:sld r:id="rId9"/>
        <p:sld r:id="rId11"/>
        <p:sld r:id="rId10"/>
        <p:sld r:id="rId29"/>
        <p:sld r:id="rId30"/>
        <p:sld r:id="rId32"/>
        <p:sld r:id="rId33"/>
        <p:sld r:id="rId31"/>
      </p:sldLst>
    </p:custShow>
    <p:custShow name="grappe" id="3">
      <p:sldLst>
        <p:sld r:id="rId22"/>
        <p:sld r:id="rId26"/>
        <p:sld r:id="rId6"/>
        <p:sld r:id="rId14"/>
        <p:sld r:id="rId25"/>
      </p:sldLst>
    </p:custShow>
    <p:custShow name="test" id="4">
      <p:sldLst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916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456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70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456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70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58068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916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916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456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7000" y="1600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456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27000" y="40284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58068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9160" y="40284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284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6204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98108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98108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98108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a42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15000" y="6400800"/>
            <a:ext cx="228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1fa42c"/>
                </a:solidFill>
                <a:latin typeface="Verdana"/>
              </a:rPr>
              <a:t>Brussels, 28</a:t>
            </a:r>
            <a:r>
              <a:rPr b="0" lang="fr-BE" sz="1000" spc="-1" strike="noStrike" baseline="30000">
                <a:solidFill>
                  <a:srgbClr val="1fa42c"/>
                </a:solidFill>
                <a:latin typeface="Verdana"/>
              </a:rPr>
              <a:t>th</a:t>
            </a:r>
            <a:r>
              <a:rPr b="0" lang="fr-BE" sz="1000" spc="-1" strike="noStrike">
                <a:solidFill>
                  <a:srgbClr val="1fa42c"/>
                </a:solidFill>
                <a:latin typeface="Verdana"/>
              </a:rPr>
              <a:t> November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10"/>
          <a:stretch/>
        </p:blipFill>
        <p:spPr>
          <a:xfrm>
            <a:off x="8001000" y="6302520"/>
            <a:ext cx="1165320" cy="55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-28440" y="6305400"/>
          <a:ext cx="117144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28440" y="6305400"/>
                    <a:ext cx="11714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26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42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33440" algn="ctr"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75248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7524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7524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jpeg"/><Relationship Id="rId10" Type="http://schemas.openxmlformats.org/officeDocument/2006/relationships/image" Target="../media/image41.wmf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image" Target="../media/image44.jpeg"/><Relationship Id="rId1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26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3-D virtual worlds for broadcast television</a:t>
            </a: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IST project MADISON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4038480"/>
            <a:ext cx="38862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Thierry Keut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nior Application Engin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LTAT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.keutgen@deltatec.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ww.deltatec.b</a:t>
            </a: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95680" y="2054160"/>
            <a:ext cx="2895840" cy="3889440"/>
          </a:xfrm>
          <a:prstGeom prst="rect">
            <a:avLst/>
          </a:prstGeom>
          <a:solidFill>
            <a:srgbClr val="ff5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27600" y="2527200"/>
            <a:ext cx="1039680" cy="94464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Satellit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Cab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re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42000" y="5284800"/>
            <a:ext cx="2369880" cy="47304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Operating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233960"/>
            <a:ext cx="1017720" cy="56988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94120" y="4233960"/>
            <a:ext cx="1019160" cy="56808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08000" y="1566720"/>
            <a:ext cx="1276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99"/>
                </a:solidFill>
                <a:latin typeface="Arial"/>
              </a:rPr>
              <a:t>Set-Top Bo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37492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248112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71600" y="3014280"/>
            <a:ext cx="228600" cy="837720"/>
            <a:chOff x="1371600" y="3014280"/>
            <a:chExt cx="228600" cy="837720"/>
          </a:xfrm>
        </p:grpSpPr>
        <p:sp>
          <p:nvSpPr>
            <p:cNvPr id="175" name=""/>
            <p:cNvSpPr/>
            <p:nvPr/>
          </p:nvSpPr>
          <p:spPr>
            <a:xfrm flipV="1">
              <a:off x="1371600" y="3014280"/>
              <a:ext cx="0" cy="83772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71600" y="3014640"/>
              <a:ext cx="22860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600200" y="2373480"/>
            <a:ext cx="1066680" cy="94428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Inj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237492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Distribu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400536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4035600"/>
            <a:ext cx="1066680" cy="94428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408132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de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86236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2800"/>
            <a:ext cx="6094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538520"/>
            <a:ext cx="10666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086240" y="4538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2938320"/>
            <a:ext cx="6094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120" y="3243240"/>
            <a:ext cx="0" cy="12952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130800" y="2481120"/>
            <a:ext cx="2822760" cy="1024200"/>
            <a:chOff x="6130800" y="2481120"/>
            <a:chExt cx="2822760" cy="1024200"/>
          </a:xfrm>
        </p:grpSpPr>
        <p:sp>
          <p:nvSpPr>
            <p:cNvPr id="190" name=""/>
            <p:cNvSpPr/>
            <p:nvPr/>
          </p:nvSpPr>
          <p:spPr>
            <a:xfrm>
              <a:off x="6130800" y="2527200"/>
              <a:ext cx="1032120" cy="94464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MPEG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Sub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4680" y="2481120"/>
              <a:ext cx="1028880" cy="94464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TV 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62920" y="2743200"/>
              <a:ext cx="7617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162920" y="324324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30800" y="2514600"/>
              <a:ext cx="1032120" cy="9907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MPEG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Sub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24680" y="2484360"/>
              <a:ext cx="1028880" cy="944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TV 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2920" y="2743200"/>
              <a:ext cx="761760" cy="0"/>
            </a:xfrm>
            <a:prstGeom prst="line">
              <a:avLst/>
            </a:prstGeom>
            <a:ln w="139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791320" y="4230720"/>
            <a:ext cx="1322280" cy="569880"/>
            <a:chOff x="5791320" y="4230720"/>
            <a:chExt cx="1322280" cy="569880"/>
          </a:xfrm>
        </p:grpSpPr>
        <p:sp>
          <p:nvSpPr>
            <p:cNvPr id="198" name=""/>
            <p:cNvSpPr/>
            <p:nvPr/>
          </p:nvSpPr>
          <p:spPr>
            <a:xfrm>
              <a:off x="6095880" y="4230720"/>
              <a:ext cx="1017720" cy="5698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Applicatio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791320" y="4535640"/>
              <a:ext cx="304560" cy="0"/>
            </a:xfrm>
            <a:prstGeom prst="line">
              <a:avLst/>
            </a:prstGeom>
            <a:ln w="139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28440" y="4038480"/>
            <a:ext cx="1752840" cy="944640"/>
            <a:chOff x="1828440" y="4038480"/>
            <a:chExt cx="1752840" cy="944640"/>
          </a:xfrm>
        </p:grpSpPr>
        <p:sp>
          <p:nvSpPr>
            <p:cNvPr id="201" name=""/>
            <p:cNvSpPr/>
            <p:nvPr/>
          </p:nvSpPr>
          <p:spPr>
            <a:xfrm>
              <a:off x="2514600" y="4038480"/>
              <a:ext cx="1066680" cy="944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828440" y="4525920"/>
              <a:ext cx="685800" cy="0"/>
            </a:xfrm>
            <a:prstGeom prst="line">
              <a:avLst/>
            </a:prstGeom>
            <a:ln w="139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3017880"/>
            <a:ext cx="1066680" cy="1934640"/>
            <a:chOff x="685800" y="3017880"/>
            <a:chExt cx="1066680" cy="1934640"/>
          </a:xfrm>
        </p:grpSpPr>
        <p:sp>
          <p:nvSpPr>
            <p:cNvPr id="204" name=""/>
            <p:cNvSpPr/>
            <p:nvPr/>
          </p:nvSpPr>
          <p:spPr>
            <a:xfrm>
              <a:off x="685800" y="4008240"/>
              <a:ext cx="1066680" cy="944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Sim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219320" y="3017880"/>
              <a:ext cx="380880" cy="1142640"/>
              <a:chOff x="1219320" y="3017880"/>
              <a:chExt cx="380880" cy="114264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1295280" y="3017880"/>
                <a:ext cx="0" cy="1142640"/>
              </a:xfrm>
              <a:prstGeom prst="line">
                <a:avLst/>
              </a:prstGeom>
              <a:ln w="13968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19320" y="3017880"/>
                <a:ext cx="380880" cy="0"/>
              </a:xfrm>
              <a:prstGeom prst="line">
                <a:avLst/>
              </a:prstGeom>
              <a:ln w="13968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1600200" y="2362320"/>
            <a:ext cx="1447920" cy="944280"/>
            <a:chOff x="1600200" y="2362320"/>
            <a:chExt cx="1447920" cy="944280"/>
          </a:xfrm>
        </p:grpSpPr>
        <p:sp>
          <p:nvSpPr>
            <p:cNvPr id="209" name=""/>
            <p:cNvSpPr/>
            <p:nvPr/>
          </p:nvSpPr>
          <p:spPr>
            <a:xfrm>
              <a:off x="1600200" y="2362320"/>
              <a:ext cx="1066680" cy="944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Inje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3200" y="2849400"/>
              <a:ext cx="304920" cy="0"/>
            </a:xfrm>
            <a:prstGeom prst="line">
              <a:avLst/>
            </a:prstGeom>
            <a:ln w="139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48120" y="2362320"/>
            <a:ext cx="1828800" cy="944280"/>
            <a:chOff x="3048120" y="2362320"/>
            <a:chExt cx="1828800" cy="944280"/>
          </a:xfrm>
        </p:grpSpPr>
        <p:sp>
          <p:nvSpPr>
            <p:cNvPr id="212" name=""/>
            <p:cNvSpPr/>
            <p:nvPr/>
          </p:nvSpPr>
          <p:spPr>
            <a:xfrm>
              <a:off x="3048120" y="2362320"/>
              <a:ext cx="1066680" cy="944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Distribu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91120" y="2925720"/>
              <a:ext cx="685800" cy="0"/>
            </a:xfrm>
            <a:prstGeom prst="line">
              <a:avLst/>
            </a:prstGeom>
            <a:ln w="139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35520" y="2514600"/>
            <a:ext cx="1336680" cy="990360"/>
            <a:chOff x="4835520" y="2514600"/>
            <a:chExt cx="1336680" cy="990360"/>
          </a:xfrm>
        </p:grpSpPr>
        <p:sp>
          <p:nvSpPr>
            <p:cNvPr id="215" name=""/>
            <p:cNvSpPr/>
            <p:nvPr/>
          </p:nvSpPr>
          <p:spPr>
            <a:xfrm>
              <a:off x="4835520" y="2514600"/>
              <a:ext cx="1031760" cy="990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Satellite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C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receiv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67280" y="2945880"/>
              <a:ext cx="304920" cy="0"/>
            </a:xfrm>
            <a:prstGeom prst="line">
              <a:avLst/>
            </a:prstGeom>
            <a:ln w="139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086600" y="4084560"/>
            <a:ext cx="1828800" cy="944280"/>
            <a:chOff x="7086600" y="4084560"/>
            <a:chExt cx="1828800" cy="944280"/>
          </a:xfrm>
        </p:grpSpPr>
        <p:sp>
          <p:nvSpPr>
            <p:cNvPr id="218" name=""/>
            <p:cNvSpPr/>
            <p:nvPr/>
          </p:nvSpPr>
          <p:spPr>
            <a:xfrm>
              <a:off x="7848720" y="4084560"/>
              <a:ext cx="1066680" cy="944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Interac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86600" y="4541760"/>
              <a:ext cx="762120" cy="0"/>
            </a:xfrm>
            <a:prstGeom prst="line">
              <a:avLst/>
            </a:prstGeom>
            <a:ln w="139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657600" y="4230720"/>
            <a:ext cx="2160720" cy="569880"/>
            <a:chOff x="3657600" y="4230720"/>
            <a:chExt cx="2160720" cy="569880"/>
          </a:xfrm>
        </p:grpSpPr>
        <p:sp>
          <p:nvSpPr>
            <p:cNvPr id="221" name=""/>
            <p:cNvSpPr/>
            <p:nvPr/>
          </p:nvSpPr>
          <p:spPr>
            <a:xfrm>
              <a:off x="4800600" y="4230720"/>
              <a:ext cx="1017720" cy="5698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3f9fe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Lay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57600" y="4535640"/>
              <a:ext cx="1143000" cy="0"/>
            </a:xfrm>
            <a:prstGeom prst="line">
              <a:avLst/>
            </a:prstGeom>
            <a:ln w="139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Partners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71720" y="1885680"/>
            <a:ext cx="596736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09260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rchetyp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260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oostwork</a:t>
            </a: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260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anal+ Belgiqu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260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ltate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260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PF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260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emondo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260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rsk Regnesentr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981080" y="5334120"/>
            <a:ext cx="53352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981080" y="2057400"/>
            <a:ext cx="533520" cy="343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981080" y="2514600"/>
            <a:ext cx="541440" cy="36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1981080" y="3124080"/>
            <a:ext cx="541440" cy="322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1973160" y="4800600"/>
            <a:ext cx="541440" cy="360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1981080" y="3657600"/>
            <a:ext cx="541440" cy="32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Results produced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-4856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imulation server – IEEE DIS-like message protoc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PEG-4 over MPEG-2 injecto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twork acceleration lay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ototype ST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181480" y="36576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952560" y="4335480"/>
            <a:ext cx="384804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Channel selection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438280" y="196200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3-D virtual world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914400" y="1257480"/>
            <a:ext cx="3352680" cy="2517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257800" y="1219320"/>
            <a:ext cx="3416400" cy="2552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2971800" y="3911760"/>
            <a:ext cx="34164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Interaction with context or other users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927000" y="1219320"/>
            <a:ext cx="3416400" cy="2552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105520" y="1219320"/>
            <a:ext cx="3416040" cy="2552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105520" y="3924360"/>
            <a:ext cx="3416040" cy="2552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939960" y="392436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Data Injector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320" y="1566720"/>
            <a:ext cx="8877240" cy="4376520"/>
            <a:chOff x="76320" y="1566720"/>
            <a:chExt cx="8877240" cy="4376520"/>
          </a:xfrm>
        </p:grpSpPr>
        <p:sp>
          <p:nvSpPr>
            <p:cNvPr id="249" name=""/>
            <p:cNvSpPr/>
            <p:nvPr/>
          </p:nvSpPr>
          <p:spPr>
            <a:xfrm>
              <a:off x="76320" y="2374920"/>
              <a:ext cx="1066680" cy="94464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Provid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9320" y="248112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371600" y="3014280"/>
              <a:ext cx="228600" cy="837720"/>
              <a:chOff x="1371600" y="3014280"/>
              <a:chExt cx="228600" cy="8377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1371600" y="3014280"/>
                <a:ext cx="0" cy="83772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71600" y="3014640"/>
                <a:ext cx="2286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495680" y="1566720"/>
              <a:ext cx="2895840" cy="4376520"/>
              <a:chOff x="4495680" y="1566720"/>
              <a:chExt cx="2895840" cy="43765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495680" y="1566720"/>
                <a:ext cx="2895840" cy="4376520"/>
                <a:chOff x="4495680" y="1566720"/>
                <a:chExt cx="2895840" cy="43765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508000" y="1566720"/>
                  <a:ext cx="127620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99"/>
                      </a:solidFill>
                      <a:latin typeface="Arial"/>
                    </a:rPr>
                    <a:t>Set-Top Box</a:t>
                  </a:r>
                  <a:endParaRPr b="0" lang="en-US" sz="17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495680" y="2053800"/>
                  <a:ext cx="2895840" cy="3889440"/>
                </a:xfrm>
                <a:prstGeom prst="rect">
                  <a:avLst/>
                </a:prstGeom>
                <a:solidFill>
                  <a:srgbClr val="ff5f3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4827600" y="2527200"/>
                <a:ext cx="1039680" cy="94428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Satellite/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Cabl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receiv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2000" y="5284440"/>
                <a:ext cx="2369880" cy="47304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Operating syste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95880" y="4233600"/>
                <a:ext cx="1017720" cy="56988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Application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Softwar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94120" y="4233600"/>
                <a:ext cx="1019160" cy="56844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Network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Lay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30800" y="2527200"/>
                <a:ext cx="1032120" cy="94428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MPEG 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Subsyste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600200" y="2373480"/>
              <a:ext cx="1066680" cy="94428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Inje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8120" y="2374920"/>
              <a:ext cx="1066680" cy="94464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Distribu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4005360"/>
              <a:ext cx="1066680" cy="94464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Sim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4035600"/>
              <a:ext cx="1066680" cy="94428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848720" y="2481120"/>
              <a:ext cx="1104840" cy="2544480"/>
              <a:chOff x="7848720" y="2481120"/>
              <a:chExt cx="1104840" cy="2544480"/>
            </a:xfrm>
          </p:grpSpPr>
          <p:sp>
            <p:nvSpPr>
              <p:cNvPr id="268" name=""/>
              <p:cNvSpPr/>
              <p:nvPr/>
            </p:nvSpPr>
            <p:spPr>
              <a:xfrm>
                <a:off x="7924680" y="2481120"/>
                <a:ext cx="1028880" cy="944280"/>
              </a:xfrm>
              <a:prstGeom prst="rect">
                <a:avLst/>
              </a:prstGeom>
              <a:gradFill rotWithShape="0">
                <a:gsLst>
                  <a:gs pos="0">
                    <a:srgbClr val="feee9e"/>
                  </a:gs>
                  <a:gs pos="50000">
                    <a:srgbClr val="fdf5cc"/>
                  </a:gs>
                  <a:gs pos="100000">
                    <a:srgbClr val="feee9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400" spc="-1" strike="noStrike">
                    <a:solidFill>
                      <a:srgbClr val="000099"/>
                    </a:solidFill>
                    <a:latin typeface="Arial"/>
                  </a:rPr>
                  <a:t>TV s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48720" y="4081320"/>
                <a:ext cx="1066680" cy="944280"/>
              </a:xfrm>
              <a:prstGeom prst="rect">
                <a:avLst/>
              </a:prstGeom>
              <a:gradFill rotWithShape="0">
                <a:gsLst>
                  <a:gs pos="0">
                    <a:srgbClr val="feee9e"/>
                  </a:gs>
                  <a:gs pos="50000">
                    <a:srgbClr val="fdf5cc"/>
                  </a:gs>
                  <a:gs pos="100000">
                    <a:srgbClr val="feee9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400" spc="-1" strike="noStrike">
                    <a:solidFill>
                      <a:srgbClr val="000099"/>
                    </a:solidFill>
                    <a:latin typeface="Arial"/>
                  </a:rPr>
                  <a:t>Us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400" spc="-1" strike="noStrike">
                    <a:solidFill>
                      <a:srgbClr val="000099"/>
                    </a:solidFill>
                    <a:latin typeface="Arial"/>
                  </a:rPr>
                  <a:t>Intera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400" spc="-1" strike="noStrike">
                    <a:solidFill>
                      <a:srgbClr val="000099"/>
                    </a:solidFill>
                    <a:latin typeface="Arial"/>
                  </a:rPr>
                  <a:t>devic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743200" y="286236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4492800"/>
              <a:ext cx="60948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33920" y="4538520"/>
              <a:ext cx="106668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2920" y="2743200"/>
              <a:ext cx="7617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91120" y="2938320"/>
              <a:ext cx="60948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086240" y="4538520"/>
              <a:ext cx="76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162920" y="324324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20120" y="3243240"/>
              <a:ext cx="0" cy="1295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295280" y="2028960"/>
            <a:ext cx="1752840" cy="1552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0f2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Arial"/>
              </a:rPr>
              <a:t>Inj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MPEG-4 over MPEG-2 injector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ifferent options to inject data over a MPEG-2 TS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aw data over a MPEG-2 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P over MPEG-2 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P4 file hinting an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j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«True» MPEG-4 SL-Packet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embedding through a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MIF interf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5181480" y="3290760"/>
            <a:ext cx="381024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MPEG-4 over MPEG-2 injector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ased on a PCI board with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2 DVB ASI transmitters and 2 receiv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configurable I/O controller</a:t>
            </a: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 to process MPEG-2 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Application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ID filtering and TS process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VB MPEG-2 video serv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active Television (iTV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P data insertion/Data broadcas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ideo over IP (VoIP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ideo-on-Demand (Vo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5334120" y="4481640"/>
            <a:ext cx="3581280" cy="16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SL-Packets injector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75080" y="2852640"/>
            <a:ext cx="5162400" cy="1898640"/>
          </a:xfrm>
          <a:prstGeom prst="rect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99"/>
                </a:solidFill>
                <a:latin typeface="Arial"/>
              </a:rPr>
              <a:t>Data Inj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33960" y="3048120"/>
            <a:ext cx="949320" cy="57132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TS Pack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57640" y="3990960"/>
            <a:ext cx="996840" cy="57168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P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and Up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360440" y="2093760"/>
            <a:ext cx="949320" cy="3416400"/>
            <a:chOff x="1360440" y="2093760"/>
            <a:chExt cx="949320" cy="3416400"/>
          </a:xfrm>
        </p:grpSpPr>
        <p:sp>
          <p:nvSpPr>
            <p:cNvPr id="290" name=""/>
            <p:cNvSpPr/>
            <p:nvPr/>
          </p:nvSpPr>
          <p:spPr>
            <a:xfrm>
              <a:off x="1360440" y="2093760"/>
              <a:ext cx="949320" cy="568440"/>
            </a:xfrm>
            <a:prstGeom prst="rect">
              <a:avLst/>
            </a:prstGeom>
            <a:gradFill rotWithShape="0">
              <a:gsLst>
                <a:gs pos="0">
                  <a:srgbClr val="fee39e"/>
                </a:gs>
                <a:gs pos="50000">
                  <a:srgbClr val="fdefca"/>
                </a:gs>
                <a:gs pos="100000">
                  <a:srgbClr val="fee39e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Simul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60440" y="4941720"/>
              <a:ext cx="949320" cy="568440"/>
            </a:xfrm>
            <a:prstGeom prst="rect">
              <a:avLst/>
            </a:prstGeom>
            <a:gradFill rotWithShape="0">
              <a:gsLst>
                <a:gs pos="0">
                  <a:srgbClr val="fee39e"/>
                </a:gs>
                <a:gs pos="50000">
                  <a:srgbClr val="fdefca"/>
                </a:gs>
                <a:gs pos="100000">
                  <a:srgbClr val="fee39e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DVB Serv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001000" y="4562640"/>
            <a:ext cx="949320" cy="568080"/>
          </a:xfrm>
          <a:prstGeom prst="rect">
            <a:avLst/>
          </a:prstGeom>
          <a:gradFill rotWithShape="0">
            <a:gsLst>
              <a:gs pos="0">
                <a:srgbClr val="fee39e"/>
              </a:gs>
              <a:gs pos="50000">
                <a:srgbClr val="fdefca"/>
              </a:gs>
              <a:gs pos="100000">
                <a:srgbClr val="fee39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DV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Multiplex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481120" y="3992400"/>
            <a:ext cx="1067040" cy="50328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2862360" y="2946240"/>
            <a:ext cx="1357200" cy="951120"/>
            <a:chOff x="2862360" y="2946240"/>
            <a:chExt cx="1357200" cy="951120"/>
          </a:xfrm>
        </p:grpSpPr>
        <p:sp>
          <p:nvSpPr>
            <p:cNvPr id="295" name=""/>
            <p:cNvSpPr/>
            <p:nvPr/>
          </p:nvSpPr>
          <p:spPr>
            <a:xfrm>
              <a:off x="2862360" y="2946240"/>
              <a:ext cx="949320" cy="951120"/>
            </a:xfrm>
            <a:prstGeom prst="rect">
              <a:avLst/>
            </a:prstGeom>
            <a:solidFill>
              <a:srgbClr val="ffefab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FlexMu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38680" y="3352680"/>
              <a:ext cx="38088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548160" y="4267080"/>
            <a:ext cx="60948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29240" y="3613320"/>
            <a:ext cx="1295280" cy="560160"/>
            <a:chOff x="5529240" y="3613320"/>
            <a:chExt cx="1295280" cy="560160"/>
          </a:xfrm>
        </p:grpSpPr>
        <p:sp>
          <p:nvSpPr>
            <p:cNvPr id="299" name=""/>
            <p:cNvSpPr/>
            <p:nvPr/>
          </p:nvSpPr>
          <p:spPr>
            <a:xfrm>
              <a:off x="5529240" y="3613320"/>
              <a:ext cx="914400" cy="560160"/>
            </a:xfrm>
            <a:prstGeom prst="rect">
              <a:avLst/>
            </a:prstGeom>
            <a:solidFill>
              <a:srgbClr val="ffefab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Co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Embed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43640" y="3886200"/>
              <a:ext cx="38088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148360" y="3352680"/>
            <a:ext cx="380880" cy="990720"/>
            <a:chOff x="5148360" y="3352680"/>
            <a:chExt cx="380880" cy="990720"/>
          </a:xfrm>
        </p:grpSpPr>
        <p:sp>
          <p:nvSpPr>
            <p:cNvPr id="302" name=""/>
            <p:cNvSpPr/>
            <p:nvPr/>
          </p:nvSpPr>
          <p:spPr>
            <a:xfrm>
              <a:off x="5148360" y="3352680"/>
              <a:ext cx="15228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00640" y="3352680"/>
              <a:ext cx="0" cy="9907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8360" y="4343400"/>
              <a:ext cx="15228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00640" y="3886200"/>
              <a:ext cx="2286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891560" y="3960720"/>
            <a:ext cx="685800" cy="533520"/>
            <a:chOff x="7891560" y="3960720"/>
            <a:chExt cx="685800" cy="533520"/>
          </a:xfrm>
        </p:grpSpPr>
        <p:sp>
          <p:nvSpPr>
            <p:cNvPr id="307" name=""/>
            <p:cNvSpPr/>
            <p:nvPr/>
          </p:nvSpPr>
          <p:spPr>
            <a:xfrm>
              <a:off x="8575560" y="3960720"/>
              <a:ext cx="0" cy="5335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91560" y="3962520"/>
              <a:ext cx="6858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488960" y="4114800"/>
            <a:ext cx="1065240" cy="685800"/>
            <a:chOff x="1488960" y="4114800"/>
            <a:chExt cx="1065240" cy="685800"/>
          </a:xfrm>
        </p:grpSpPr>
        <p:sp>
          <p:nvSpPr>
            <p:cNvPr id="310" name=""/>
            <p:cNvSpPr/>
            <p:nvPr/>
          </p:nvSpPr>
          <p:spPr>
            <a:xfrm>
              <a:off x="1488960" y="4114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99"/>
                  </a:solidFill>
                  <a:latin typeface="Arial"/>
                </a:rPr>
                <a:t>MPEG-2 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90040" y="434340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99"/>
                  </a:solidFill>
                  <a:latin typeface="Arial"/>
                </a:rPr>
                <a:t>AS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1868040" y="4343400"/>
              <a:ext cx="3240" cy="4572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68400" y="4338720"/>
              <a:ext cx="6858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2200" y="2666880"/>
            <a:ext cx="2180160" cy="1280520"/>
            <a:chOff x="682200" y="2666880"/>
            <a:chExt cx="2180160" cy="1280520"/>
          </a:xfrm>
        </p:grpSpPr>
        <p:sp>
          <p:nvSpPr>
            <p:cNvPr id="315" name=""/>
            <p:cNvSpPr/>
            <p:nvPr/>
          </p:nvSpPr>
          <p:spPr>
            <a:xfrm>
              <a:off x="682200" y="2743200"/>
              <a:ext cx="9151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99"/>
                  </a:solidFill>
                  <a:latin typeface="Arial"/>
                </a:rPr>
                <a:t>MPEG-4</a:t>
              </a:r>
              <a:br>
                <a:rPr sz="1400"/>
              </a:br>
              <a:r>
                <a:rPr b="0" lang="fr-BE" sz="1400" spc="-1" strike="noStrike">
                  <a:solidFill>
                    <a:srgbClr val="ffff99"/>
                  </a:solidFill>
                  <a:latin typeface="Arial"/>
                </a:rPr>
                <a:t>descripto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ffff99"/>
                  </a:solidFill>
                  <a:latin typeface="Arial"/>
                </a:rPr>
                <a:t>MPEG-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ffff99"/>
                  </a:solidFill>
                  <a:latin typeface="Arial"/>
                </a:rPr>
                <a:t>SL-Packe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83440" y="373392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99"/>
                  </a:solidFill>
                  <a:latin typeface="Arial"/>
                </a:rPr>
                <a:t>TCP/I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08160" y="2666880"/>
              <a:ext cx="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08160" y="3048120"/>
              <a:ext cx="7542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90800" y="2666880"/>
              <a:ext cx="0" cy="5335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90800" y="3200400"/>
              <a:ext cx="8715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74880" y="2666880"/>
              <a:ext cx="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74880" y="3352680"/>
              <a:ext cx="98748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58960" y="2666880"/>
              <a:ext cx="0" cy="8384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58960" y="3505320"/>
              <a:ext cx="11034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43040" y="2666880"/>
              <a:ext cx="0" cy="9907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43040" y="3657600"/>
              <a:ext cx="121932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824520" y="3657600"/>
            <a:ext cx="106704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52178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Television ?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280" y="14479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952880" y="609480"/>
            <a:ext cx="373392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Interne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616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666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16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MP4 file hinter and injector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57280" y="2852640"/>
            <a:ext cx="5162760" cy="1898640"/>
          </a:xfrm>
          <a:prstGeom prst="rect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99"/>
                </a:solidFill>
                <a:latin typeface="Arial"/>
              </a:rPr>
              <a:t>Data</a:t>
            </a:r>
            <a:r>
              <a:rPr b="0" lang="fr-BE" sz="1400" spc="-1" strike="noStrike">
                <a:solidFill>
                  <a:srgbClr val="1fa42c"/>
                </a:solidFill>
                <a:latin typeface="Arial"/>
              </a:rPr>
              <a:t> </a:t>
            </a:r>
            <a:r>
              <a:rPr b="0" lang="fr-BE" sz="1400" spc="-1" strike="noStrike">
                <a:solidFill>
                  <a:srgbClr val="ffff99"/>
                </a:solidFill>
                <a:latin typeface="Arial"/>
              </a:rPr>
              <a:t>Inj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57560" y="3048120"/>
            <a:ext cx="949320" cy="57132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TS Pack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2093760"/>
            <a:ext cx="949320" cy="568440"/>
          </a:xfrm>
          <a:prstGeom prst="rect">
            <a:avLst/>
          </a:prstGeom>
          <a:gradFill rotWithShape="0">
            <a:gsLst>
              <a:gs pos="0">
                <a:srgbClr val="fee39e"/>
              </a:gs>
              <a:gs pos="50000">
                <a:srgbClr val="fdefca"/>
              </a:gs>
              <a:gs pos="100000">
                <a:srgbClr val="fee39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Sim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78080" y="3124080"/>
            <a:ext cx="685800" cy="48276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Hi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49840" y="3352680"/>
            <a:ext cx="24264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006880" y="3352680"/>
            <a:ext cx="381240" cy="990720"/>
            <a:chOff x="5006880" y="3352680"/>
            <a:chExt cx="381240" cy="990720"/>
          </a:xfrm>
        </p:grpSpPr>
        <p:sp>
          <p:nvSpPr>
            <p:cNvPr id="335" name=""/>
            <p:cNvSpPr/>
            <p:nvPr/>
          </p:nvSpPr>
          <p:spPr>
            <a:xfrm>
              <a:off x="5006880" y="3352680"/>
              <a:ext cx="15264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59520" y="3352680"/>
              <a:ext cx="0" cy="9907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06880" y="4343400"/>
              <a:ext cx="15264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59520" y="3886200"/>
              <a:ext cx="2286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981600" y="3990960"/>
            <a:ext cx="996840" cy="57168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P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and Up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4941720"/>
            <a:ext cx="949320" cy="568440"/>
          </a:xfrm>
          <a:prstGeom prst="rect">
            <a:avLst/>
          </a:prstGeom>
          <a:gradFill rotWithShape="0">
            <a:gsLst>
              <a:gs pos="0">
                <a:srgbClr val="fee39e"/>
              </a:gs>
              <a:gs pos="50000">
                <a:srgbClr val="fdefca"/>
              </a:gs>
              <a:gs pos="100000">
                <a:srgbClr val="fee39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DVB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263680" y="3992400"/>
            <a:ext cx="1067040" cy="503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330720" y="4267080"/>
            <a:ext cx="60948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293480" y="4191120"/>
            <a:ext cx="1046520" cy="685800"/>
            <a:chOff x="1293480" y="4191120"/>
            <a:chExt cx="1046520" cy="685800"/>
          </a:xfrm>
        </p:grpSpPr>
        <p:sp>
          <p:nvSpPr>
            <p:cNvPr id="344" name=""/>
            <p:cNvSpPr/>
            <p:nvPr/>
          </p:nvSpPr>
          <p:spPr>
            <a:xfrm>
              <a:off x="1293480" y="419112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99"/>
                  </a:solidFill>
                  <a:latin typeface="Arial"/>
                </a:rPr>
                <a:t>MPEG-2 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94560" y="441972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99"/>
                  </a:solidFill>
                  <a:latin typeface="Arial"/>
                </a:rPr>
                <a:t>AS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654200" y="4419720"/>
              <a:ext cx="0" cy="4572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54200" y="4419720"/>
              <a:ext cx="6858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67680" y="2666880"/>
            <a:ext cx="1600920" cy="915840"/>
            <a:chOff x="967680" y="2666880"/>
            <a:chExt cx="1600920" cy="915840"/>
          </a:xfrm>
        </p:grpSpPr>
        <p:sp>
          <p:nvSpPr>
            <p:cNvPr id="349" name=""/>
            <p:cNvSpPr/>
            <p:nvPr/>
          </p:nvSpPr>
          <p:spPr>
            <a:xfrm>
              <a:off x="967680" y="3156120"/>
              <a:ext cx="634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ffff99"/>
                  </a:solidFill>
                  <a:latin typeface="Arial"/>
                </a:rPr>
                <a:t>MP4</a:t>
              </a:r>
              <a:r>
                <a:rPr b="0" lang="fr-BE" sz="1100" spc="-1" strike="noStrike">
                  <a:solidFill>
                    <a:srgbClr val="1fa42c"/>
                  </a:solidFill>
                  <a:latin typeface="Arial"/>
                </a:rPr>
                <a:t> </a:t>
              </a:r>
              <a:r>
                <a:rPr b="0" lang="fr-BE" sz="1400" spc="-1" strike="noStrike">
                  <a:solidFill>
                    <a:srgbClr val="ffff99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99"/>
                  </a:solidFill>
                  <a:latin typeface="Arial"/>
                </a:rPr>
                <a:t>TCP/I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57440" y="2666880"/>
              <a:ext cx="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57440" y="3352680"/>
              <a:ext cx="91116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7783560" y="4562640"/>
            <a:ext cx="949320" cy="568080"/>
          </a:xfrm>
          <a:prstGeom prst="rect">
            <a:avLst/>
          </a:prstGeom>
          <a:gradFill rotWithShape="0">
            <a:gsLst>
              <a:gs pos="0">
                <a:srgbClr val="fee39e"/>
              </a:gs>
              <a:gs pos="50000">
                <a:srgbClr val="fdefca"/>
              </a:gs>
              <a:gs pos="100000">
                <a:srgbClr val="fee39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DV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Multiplex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88120" y="3613320"/>
            <a:ext cx="914400" cy="56016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Embe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02520" y="3886200"/>
            <a:ext cx="38088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674120" y="3960720"/>
            <a:ext cx="685800" cy="533520"/>
            <a:chOff x="7674120" y="3960720"/>
            <a:chExt cx="685800" cy="533520"/>
          </a:xfrm>
        </p:grpSpPr>
        <p:sp>
          <p:nvSpPr>
            <p:cNvPr id="356" name=""/>
            <p:cNvSpPr/>
            <p:nvPr/>
          </p:nvSpPr>
          <p:spPr>
            <a:xfrm>
              <a:off x="8358120" y="3960720"/>
              <a:ext cx="0" cy="5335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74120" y="3962520"/>
              <a:ext cx="685800" cy="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6683400" y="3657600"/>
            <a:ext cx="1066680" cy="5014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935440" y="3352680"/>
            <a:ext cx="24264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276640" y="2793960"/>
            <a:ext cx="1140840" cy="863640"/>
            <a:chOff x="2276640" y="2793960"/>
            <a:chExt cx="1140840" cy="863640"/>
          </a:xfrm>
        </p:grpSpPr>
        <p:sp>
          <p:nvSpPr>
            <p:cNvPr id="361" name=""/>
            <p:cNvSpPr/>
            <p:nvPr/>
          </p:nvSpPr>
          <p:spPr>
            <a:xfrm>
              <a:off x="2568600" y="3048120"/>
              <a:ext cx="380880" cy="609480"/>
            </a:xfrm>
            <a:prstGeom prst="can">
              <a:avLst>
                <a:gd name="adj" fmla="val 25000"/>
              </a:avLst>
            </a:prstGeom>
            <a:solidFill>
              <a:srgbClr val="ffefa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76640" y="2793960"/>
              <a:ext cx="114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ffff99"/>
                  </a:solidFill>
                  <a:latin typeface="Arial"/>
                </a:rPr>
                <a:t>Local MP4 fi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Prototype Set-Top Box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6320" y="1566720"/>
            <a:ext cx="8877240" cy="4376520"/>
            <a:chOff x="76320" y="1566720"/>
            <a:chExt cx="8877240" cy="4376520"/>
          </a:xfrm>
        </p:grpSpPr>
        <p:sp>
          <p:nvSpPr>
            <p:cNvPr id="365" name=""/>
            <p:cNvSpPr/>
            <p:nvPr/>
          </p:nvSpPr>
          <p:spPr>
            <a:xfrm>
              <a:off x="76320" y="2374920"/>
              <a:ext cx="1066680" cy="94464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Provid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19320" y="248112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371600" y="3014280"/>
              <a:ext cx="228600" cy="837720"/>
              <a:chOff x="1371600" y="3014280"/>
              <a:chExt cx="228600" cy="83772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1371600" y="3014280"/>
                <a:ext cx="0" cy="83772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71600" y="3014640"/>
                <a:ext cx="2286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4495680" y="1566720"/>
              <a:ext cx="2895840" cy="4376520"/>
              <a:chOff x="4495680" y="1566720"/>
              <a:chExt cx="2895840" cy="43765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4495680" y="1566720"/>
                <a:ext cx="2895840" cy="4376520"/>
                <a:chOff x="4495680" y="1566720"/>
                <a:chExt cx="2895840" cy="43765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508000" y="1566720"/>
                  <a:ext cx="127620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99"/>
                      </a:solidFill>
                      <a:latin typeface="Arial"/>
                    </a:rPr>
                    <a:t>Set-Top Box</a:t>
                  </a:r>
                  <a:endParaRPr b="0" lang="en-US" sz="17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95680" y="2053800"/>
                  <a:ext cx="2895840" cy="3889440"/>
                </a:xfrm>
                <a:prstGeom prst="rect">
                  <a:avLst/>
                </a:prstGeom>
                <a:solidFill>
                  <a:srgbClr val="ff5f3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4827600" y="2527200"/>
                <a:ext cx="1039680" cy="94428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Satellite/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Cabl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receiv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42000" y="5284440"/>
                <a:ext cx="2369880" cy="47304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Operating syste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5880" y="4233600"/>
                <a:ext cx="1017720" cy="56988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Application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Softwar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94120" y="4233600"/>
                <a:ext cx="1019160" cy="56844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Network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Lay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30800" y="2527200"/>
                <a:ext cx="1032120" cy="944280"/>
              </a:xfrm>
              <a:prstGeom prst="rect">
                <a:avLst/>
              </a:prstGeom>
              <a:solidFill>
                <a:srgbClr val="ffefab"/>
              </a:solidFill>
              <a:ln w="0">
                <a:noFill/>
              </a:ln>
              <a:effectLst>
                <a:outerShdw dist="153753" dir="2700000" blurRad="0" rotWithShape="0">
                  <a:srgbClr val="988e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MPEG 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000099"/>
                    </a:solidFill>
                    <a:latin typeface="Arial"/>
                  </a:rPr>
                  <a:t>Subsyste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1600200" y="2373480"/>
              <a:ext cx="1066680" cy="94428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Inje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8120" y="2374920"/>
              <a:ext cx="1066680" cy="94464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Distribu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800" y="4005360"/>
              <a:ext cx="1066680" cy="94464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Sim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14600" y="4035600"/>
              <a:ext cx="1066680" cy="94428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848720" y="2481120"/>
              <a:ext cx="1104840" cy="2544480"/>
              <a:chOff x="7848720" y="2481120"/>
              <a:chExt cx="1104840" cy="2544480"/>
            </a:xfrm>
          </p:grpSpPr>
          <p:sp>
            <p:nvSpPr>
              <p:cNvPr id="384" name=""/>
              <p:cNvSpPr/>
              <p:nvPr/>
            </p:nvSpPr>
            <p:spPr>
              <a:xfrm>
                <a:off x="7924680" y="2481120"/>
                <a:ext cx="1028880" cy="944280"/>
              </a:xfrm>
              <a:prstGeom prst="rect">
                <a:avLst/>
              </a:prstGeom>
              <a:gradFill rotWithShape="0">
                <a:gsLst>
                  <a:gs pos="0">
                    <a:srgbClr val="feee9e"/>
                  </a:gs>
                  <a:gs pos="50000">
                    <a:srgbClr val="fdf5cc"/>
                  </a:gs>
                  <a:gs pos="100000">
                    <a:srgbClr val="feee9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400" spc="-1" strike="noStrike">
                    <a:solidFill>
                      <a:srgbClr val="000099"/>
                    </a:solidFill>
                    <a:latin typeface="Arial"/>
                  </a:rPr>
                  <a:t>TV s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848720" y="4081320"/>
                <a:ext cx="1066680" cy="944280"/>
              </a:xfrm>
              <a:prstGeom prst="rect">
                <a:avLst/>
              </a:prstGeom>
              <a:gradFill rotWithShape="0">
                <a:gsLst>
                  <a:gs pos="0">
                    <a:srgbClr val="feee9e"/>
                  </a:gs>
                  <a:gs pos="50000">
                    <a:srgbClr val="fdf5cc"/>
                  </a:gs>
                  <a:gs pos="100000">
                    <a:srgbClr val="feee9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400" spc="-1" strike="noStrike">
                    <a:solidFill>
                      <a:srgbClr val="000099"/>
                    </a:solidFill>
                    <a:latin typeface="Arial"/>
                  </a:rPr>
                  <a:t>Us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400" spc="-1" strike="noStrike">
                    <a:solidFill>
                      <a:srgbClr val="000099"/>
                    </a:solidFill>
                    <a:latin typeface="Arial"/>
                  </a:rPr>
                  <a:t>Intera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400" spc="-1" strike="noStrike">
                    <a:solidFill>
                      <a:srgbClr val="000099"/>
                    </a:solidFill>
                    <a:latin typeface="Arial"/>
                  </a:rPr>
                  <a:t>devic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743200" y="286236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05120" y="4492800"/>
              <a:ext cx="60948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33920" y="4538520"/>
              <a:ext cx="106668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62920" y="2743200"/>
              <a:ext cx="7617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91120" y="2938320"/>
              <a:ext cx="60948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7086240" y="4538520"/>
              <a:ext cx="76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162920" y="324324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20120" y="3243240"/>
              <a:ext cx="0" cy="1295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495680" y="1981080"/>
            <a:ext cx="2895840" cy="3962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2f3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99"/>
                </a:solidFill>
                <a:latin typeface="Arial"/>
              </a:rPr>
              <a:t>Set-Top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Prototype STB - MadBox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-4856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ased on a PC running Windows 2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QAM receiver board and demultiplex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PEG-4 DMIF f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61920" indent="-285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ocal fi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1920" indent="-285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1920" indent="-285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roadca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stomised hou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verything managed through a TV remote contr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0"/>
          <a:stretch/>
        </p:blipFill>
        <p:spPr>
          <a:xfrm>
            <a:off x="3962520" y="2743200"/>
            <a:ext cx="5029200" cy="21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Broadcast DMIF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447920" y="1982880"/>
            <a:ext cx="6858000" cy="35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4495680" y="1676520"/>
            <a:ext cx="4191120" cy="3504960"/>
            <a:chOff x="4495680" y="1676520"/>
            <a:chExt cx="4191120" cy="3504960"/>
          </a:xfrm>
        </p:grpSpPr>
        <p:sp>
          <p:nvSpPr>
            <p:cNvPr id="401" name=""/>
            <p:cNvSpPr/>
            <p:nvPr/>
          </p:nvSpPr>
          <p:spPr>
            <a:xfrm>
              <a:off x="4495680" y="1676520"/>
              <a:ext cx="4191120" cy="3504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6029640" y="1752480"/>
              <a:ext cx="1289880" cy="419760"/>
              <a:chOff x="6029640" y="1752480"/>
              <a:chExt cx="1289880" cy="419760"/>
            </a:xfrm>
          </p:grpSpPr>
          <p:sp>
            <p:nvSpPr>
              <p:cNvPr id="403" name=""/>
              <p:cNvSpPr/>
              <p:nvPr/>
            </p:nvSpPr>
            <p:spPr>
              <a:xfrm>
                <a:off x="6029640" y="1752480"/>
                <a:ext cx="1289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99"/>
                    </a:solidFill>
                    <a:latin typeface="Arial"/>
                  </a:rPr>
                  <a:t>Broadcast DMI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327000" y="1958760"/>
                <a:ext cx="67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99"/>
                    </a:solidFill>
                    <a:latin typeface="Arial"/>
                  </a:rPr>
                  <a:t>Instanc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Broadcast DMIF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691160" y="2438280"/>
            <a:ext cx="3728880" cy="1014480"/>
            <a:chOff x="4691160" y="2438280"/>
            <a:chExt cx="3728880" cy="1014480"/>
          </a:xfrm>
        </p:grpSpPr>
        <p:sp>
          <p:nvSpPr>
            <p:cNvPr id="407" name=""/>
            <p:cNvSpPr/>
            <p:nvPr/>
          </p:nvSpPr>
          <p:spPr>
            <a:xfrm>
              <a:off x="4691160" y="2438280"/>
              <a:ext cx="3728880" cy="1014480"/>
            </a:xfrm>
            <a:prstGeom prst="rect">
              <a:avLst/>
            </a:prstGeom>
            <a:gradFill rotWithShape="0">
              <a:gsLst>
                <a:gs pos="0">
                  <a:srgbClr val="fee39e"/>
                </a:gs>
                <a:gs pos="50000">
                  <a:srgbClr val="fdeab9"/>
                </a:gs>
                <a:gs pos="100000">
                  <a:srgbClr val="fee39e"/>
                </a:gs>
              </a:gsLst>
              <a:lin ang="5400000"/>
            </a:gra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BroadcastInstance Clas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94360" y="2752560"/>
              <a:ext cx="1354320" cy="5889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53753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Callba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Method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61080" y="2743200"/>
              <a:ext cx="1353960" cy="58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53753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DAI Primitiv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09560" y="1623960"/>
            <a:ext cx="3292560" cy="1935360"/>
            <a:chOff x="709560" y="1623960"/>
            <a:chExt cx="3292560" cy="1935360"/>
          </a:xfrm>
        </p:grpSpPr>
        <p:sp>
          <p:nvSpPr>
            <p:cNvPr id="411" name=""/>
            <p:cNvSpPr/>
            <p:nvPr/>
          </p:nvSpPr>
          <p:spPr>
            <a:xfrm>
              <a:off x="709560" y="1623960"/>
              <a:ext cx="3292560" cy="1935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52960" y="1679400"/>
              <a:ext cx="194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99"/>
                  </a:solidFill>
                  <a:latin typeface="Arial"/>
                </a:rPr>
                <a:t>Top-level terminal lay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846000" y="2978280"/>
            <a:ext cx="3019680" cy="38880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99"/>
                </a:solidFill>
                <a:latin typeface="Arial"/>
              </a:rPr>
              <a:t>Sync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6000" y="2013120"/>
            <a:ext cx="3019680" cy="77292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99"/>
                </a:solidFill>
                <a:latin typeface="Arial"/>
              </a:rPr>
              <a:t>Application Lay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(Decoders + Composito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3733920"/>
            <a:ext cx="3292560" cy="15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99"/>
                </a:solidFill>
                <a:latin typeface="Arial"/>
              </a:rPr>
              <a:t>Delivery Lay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9560" y="5486400"/>
            <a:ext cx="3292560" cy="388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99"/>
                </a:solidFill>
                <a:latin typeface="Arial"/>
              </a:rPr>
              <a:t>Delivery Medium (MPEG-2 Transport Strea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46000" y="4038480"/>
            <a:ext cx="3019680" cy="685800"/>
            <a:chOff x="846000" y="4038480"/>
            <a:chExt cx="3019680" cy="685800"/>
          </a:xfrm>
        </p:grpSpPr>
        <p:sp>
          <p:nvSpPr>
            <p:cNvPr id="418" name=""/>
            <p:cNvSpPr/>
            <p:nvPr/>
          </p:nvSpPr>
          <p:spPr>
            <a:xfrm>
              <a:off x="846000" y="4038480"/>
              <a:ext cx="3019680" cy="30492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99"/>
                  </a:solidFill>
                  <a:latin typeface="Arial"/>
                </a:rPr>
                <a:t>FlexMu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6000" y="4429080"/>
              <a:ext cx="3019680" cy="29520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99"/>
                  </a:solidFill>
                  <a:latin typeface="Arial"/>
                </a:rPr>
                <a:t>DMIF Fil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846000" y="4800600"/>
            <a:ext cx="3032280" cy="457200"/>
            <a:chOff x="846000" y="4800600"/>
            <a:chExt cx="3032280" cy="457200"/>
          </a:xfrm>
        </p:grpSpPr>
        <p:sp>
          <p:nvSpPr>
            <p:cNvPr id="421" name=""/>
            <p:cNvSpPr/>
            <p:nvPr/>
          </p:nvSpPr>
          <p:spPr>
            <a:xfrm>
              <a:off x="846000" y="4800600"/>
              <a:ext cx="906480" cy="45720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Local Fi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DMI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71800" y="4803840"/>
              <a:ext cx="906480" cy="45396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99"/>
                  </a:solidFill>
                  <a:latin typeface="Arial"/>
                </a:rPr>
                <a:t>DMI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905120" y="4803840"/>
            <a:ext cx="906480" cy="4539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Broadc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99"/>
                </a:solidFill>
                <a:latin typeface="Arial"/>
              </a:rPr>
              <a:t>DMI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4724280"/>
            <a:ext cx="3733920" cy="38124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99"/>
                </a:solidFill>
                <a:latin typeface="Arial"/>
              </a:rPr>
              <a:t>Low-level TS access fun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4191120"/>
            <a:ext cx="3733920" cy="38088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99"/>
                </a:solidFill>
                <a:latin typeface="Arial"/>
              </a:rPr>
              <a:t>MPEG-2 Parsing fun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3657600"/>
            <a:ext cx="3733920" cy="38088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99"/>
                </a:solidFill>
                <a:latin typeface="Arial"/>
              </a:rPr>
              <a:t>MPEG-4 Parsing fun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2481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MPEG-4 for broadcast…</a:t>
            </a:r>
            <a:br>
              <a:rPr sz="3200"/>
            </a:b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for now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PEG-4 is not just low bit-rate vide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Authoring tools are mis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3-D is really a step forw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PEG-4 and 3-D are very demanding for the ST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hancements are good, content is k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Next R&amp;D step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-4856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We are ready for MPEG-4 in broadca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We want to go fur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-4856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IST ENAMORADO projec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1920" indent="-2854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Production of multimedia content for live events: AR, metadata, transmission, 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1920" indent="-2854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Delivery to multiple types of mobile cli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1920" indent="-2854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Focus on MPEG-7, R&amp;D on MPEG-2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1920" indent="-2854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Deltatec, Canal+, Siemens Mobile, 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Get concrete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858000" y="2209680"/>
            <a:ext cx="1219320" cy="581040"/>
            <a:chOff x="6858000" y="2209680"/>
            <a:chExt cx="1219320" cy="581040"/>
          </a:xfrm>
        </p:grpSpPr>
        <p:sp>
          <p:nvSpPr>
            <p:cNvPr id="433" name=""/>
            <p:cNvSpPr/>
            <p:nvPr/>
          </p:nvSpPr>
          <p:spPr>
            <a:xfrm>
              <a:off x="6858000" y="2209680"/>
              <a:ext cx="1219320" cy="58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f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6858000" y="2267640"/>
              <a:ext cx="1208160" cy="46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6858000" y="3657600"/>
            <a:ext cx="1905120" cy="566640"/>
          </a:xfrm>
          <a:prstGeom prst="rect">
            <a:avLst/>
          </a:prstGeom>
          <a:ln w="0">
            <a:noFill/>
          </a:ln>
        </p:spPr>
      </p:pic>
      <p:grpSp>
        <p:nvGrpSpPr>
          <p:cNvPr id="436" name=""/>
          <p:cNvGrpSpPr/>
          <p:nvPr/>
        </p:nvGrpSpPr>
        <p:grpSpPr>
          <a:xfrm>
            <a:off x="2438280" y="1447920"/>
            <a:ext cx="1676520" cy="744480"/>
            <a:chOff x="2438280" y="1447920"/>
            <a:chExt cx="1676520" cy="744480"/>
          </a:xfrm>
        </p:grpSpPr>
        <p:sp>
          <p:nvSpPr>
            <p:cNvPr id="437" name=""/>
            <p:cNvSpPr/>
            <p:nvPr/>
          </p:nvSpPr>
          <p:spPr>
            <a:xfrm>
              <a:off x="2542320" y="1551960"/>
              <a:ext cx="145800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f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4"/>
            <a:stretch/>
          </p:blipFill>
          <p:spPr>
            <a:xfrm>
              <a:off x="2438280" y="1447920"/>
              <a:ext cx="1676520" cy="7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914400" y="2590920"/>
            <a:ext cx="838080" cy="838080"/>
            <a:chOff x="914400" y="2590920"/>
            <a:chExt cx="838080" cy="838080"/>
          </a:xfrm>
        </p:grpSpPr>
        <p:sp>
          <p:nvSpPr>
            <p:cNvPr id="440" name=""/>
            <p:cNvSpPr/>
            <p:nvPr/>
          </p:nvSpPr>
          <p:spPr>
            <a:xfrm>
              <a:off x="914400" y="2590920"/>
              <a:ext cx="83808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f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5"/>
            <a:stretch/>
          </p:blipFill>
          <p:spPr>
            <a:xfrm>
              <a:off x="914400" y="2590920"/>
              <a:ext cx="838080" cy="83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"/>
          <p:cNvGrpSpPr/>
          <p:nvPr/>
        </p:nvGrpSpPr>
        <p:grpSpPr>
          <a:xfrm>
            <a:off x="4495680" y="4876920"/>
            <a:ext cx="1524240" cy="438120"/>
            <a:chOff x="4495680" y="4876920"/>
            <a:chExt cx="1524240" cy="438120"/>
          </a:xfrm>
        </p:grpSpPr>
        <p:sp>
          <p:nvSpPr>
            <p:cNvPr id="443" name=""/>
            <p:cNvSpPr/>
            <p:nvPr/>
          </p:nvSpPr>
          <p:spPr>
            <a:xfrm>
              <a:off x="4495680" y="4876920"/>
              <a:ext cx="1524240" cy="38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f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4" name="" descr=""/>
            <p:cNvPicPr/>
            <p:nvPr/>
          </p:nvPicPr>
          <p:blipFill>
            <a:blip r:embed="rId6"/>
            <a:stretch/>
          </p:blipFill>
          <p:spPr>
            <a:xfrm>
              <a:off x="4495680" y="4876920"/>
              <a:ext cx="152424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"/>
          <p:cNvGrpSpPr/>
          <p:nvPr/>
        </p:nvGrpSpPr>
        <p:grpSpPr>
          <a:xfrm>
            <a:off x="2133720" y="5562720"/>
            <a:ext cx="1752480" cy="493560"/>
            <a:chOff x="2133720" y="5562720"/>
            <a:chExt cx="1752480" cy="493560"/>
          </a:xfrm>
        </p:grpSpPr>
        <p:sp>
          <p:nvSpPr>
            <p:cNvPr id="446" name=""/>
            <p:cNvSpPr/>
            <p:nvPr/>
          </p:nvSpPr>
          <p:spPr>
            <a:xfrm>
              <a:off x="2133720" y="5562720"/>
              <a:ext cx="1752480" cy="49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f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7"/>
            <a:stretch/>
          </p:blipFill>
          <p:spPr>
            <a:xfrm>
              <a:off x="2133720" y="5562720"/>
              <a:ext cx="1752480" cy="49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7010280" y="5181480"/>
            <a:ext cx="1524240" cy="534960"/>
            <a:chOff x="7010280" y="5181480"/>
            <a:chExt cx="1524240" cy="534960"/>
          </a:xfrm>
        </p:grpSpPr>
        <p:sp>
          <p:nvSpPr>
            <p:cNvPr id="449" name=""/>
            <p:cNvSpPr/>
            <p:nvPr/>
          </p:nvSpPr>
          <p:spPr>
            <a:xfrm>
              <a:off x="7062480" y="5286600"/>
              <a:ext cx="1419120" cy="31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f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8"/>
            <a:stretch/>
          </p:blipFill>
          <p:spPr>
            <a:xfrm>
              <a:off x="7010280" y="5181480"/>
              <a:ext cx="15242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1" name="" descr=""/>
          <p:cNvPicPr/>
          <p:nvPr/>
        </p:nvPicPr>
        <p:blipFill>
          <a:blip r:embed="rId9"/>
          <a:stretch/>
        </p:blipFill>
        <p:spPr>
          <a:xfrm>
            <a:off x="5181480" y="1295280"/>
            <a:ext cx="1371600" cy="5572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10"/>
          <a:stretch/>
        </p:blipFill>
        <p:spPr>
          <a:xfrm>
            <a:off x="3486240" y="3865680"/>
            <a:ext cx="2076480" cy="3920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11"/>
          <a:stretch/>
        </p:blipFill>
        <p:spPr>
          <a:xfrm>
            <a:off x="2438280" y="2743200"/>
            <a:ext cx="1009800" cy="5302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2"/>
          <a:stretch/>
        </p:blipFill>
        <p:spPr>
          <a:xfrm>
            <a:off x="4724280" y="2590920"/>
            <a:ext cx="927360" cy="699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3"/>
          <a:stretch/>
        </p:blipFill>
        <p:spPr>
          <a:xfrm>
            <a:off x="762120" y="4267080"/>
            <a:ext cx="190476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DELTA-asi</a:t>
            </a: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DELTA-sdi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From a MADISON prototype … to a range of produ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191120" cy="37054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4973760" y="1905120"/>
            <a:ext cx="3684600" cy="3733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5800" y="5486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www.deltacast.t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Get concrete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4840" indent="-474840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B processing power is market</a:t>
            </a: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riven 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748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74840" indent="-474840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anufacturers </a:t>
            </a: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still to endorse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the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748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74840" indent="-474840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Let’s demonstrate the technology on programs that p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748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74840" indent="-474840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In football: ad insertion, synthetic replay, new camera views, T-commerce, virtual after-match pub, 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Television ?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Internet on TV …… TV on Inter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Is it the issue 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elevision is evolving in a new frame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New business models: pay TV, pay-per-view, games,</a:t>
            </a:r>
            <a:br>
              <a:rPr sz="2000"/>
            </a:b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T-commerce, 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Content to multiple types of suppor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Verdana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485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ierry Keut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.keutgen@deltatec.b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+32 4 239 78 8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www.deltatec.b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How do we make it happen ?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Deltatec is a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High-tech explorer for its custom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Specialist in broadca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his revolution is an opportun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It’s far from trivial … R&amp;D work need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European IST Project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With real-world objectives it is a nice framework 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Meet technical expe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Meet industrial end-us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Explore new technical fiel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Get a technical edge for our custo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5880" y="3048120"/>
          <a:ext cx="2210040" cy="104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3048120"/>
                    <a:ext cx="221004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Idea – Issues - Solutions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676520"/>
          <a:ext cx="8229600" cy="1260360"/>
        </p:xfrm>
        <a:graphic>
          <a:graphicData uri="http://schemas.openxmlformats.org/drawingml/2006/table">
            <a:tbl>
              <a:tblPr/>
              <a:tblGrid>
                <a:gridCol w="3683160"/>
                <a:gridCol w="454644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-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lti-us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5720" indent="-469800"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ent-to-client inter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855720" indent="-469800"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adca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09480" y="3311640"/>
          <a:ext cx="8305920" cy="1260360"/>
        </p:xfrm>
        <a:graphic>
          <a:graphicData uri="http://schemas.openxmlformats.org/drawingml/2006/table">
            <a:tbl>
              <a:tblPr/>
              <a:tblGrid>
                <a:gridCol w="3683160"/>
                <a:gridCol w="46227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t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ributed appli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61840" indent="-475920"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demonstrator for the technolog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09480" y="5130720"/>
          <a:ext cx="8305560" cy="812880"/>
        </p:xfrm>
        <a:graphic>
          <a:graphicData uri="http://schemas.openxmlformats.org/drawingml/2006/table">
            <a:tbl>
              <a:tblPr/>
              <a:tblGrid>
                <a:gridCol w="3682800"/>
                <a:gridCol w="462276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288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EEE D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61840" indent="-475920"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2884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EG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fa42c"/>
                </a:solidFill>
                <a:latin typeface="Arial"/>
              </a:rPr>
              <a:t>MPEG-4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MPEG-4 allows to wrap 3-D synthesis information into more general mulitmedia structures where video, audio, 3-D and image objects coexist and intera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76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NOT low bit rate vide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76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NOT encoding / deco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76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NOT inter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476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BROADC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37492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48112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71600" y="3014280"/>
            <a:ext cx="228600" cy="837720"/>
            <a:chOff x="1371600" y="3014280"/>
            <a:chExt cx="228600" cy="837720"/>
          </a:xfrm>
        </p:grpSpPr>
        <p:sp>
          <p:nvSpPr>
            <p:cNvPr id="105" name=""/>
            <p:cNvSpPr/>
            <p:nvPr/>
          </p:nvSpPr>
          <p:spPr>
            <a:xfrm flipV="1">
              <a:off x="1371600" y="3014280"/>
              <a:ext cx="0" cy="83772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1600" y="3014640"/>
              <a:ext cx="22860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495680" y="1566720"/>
            <a:ext cx="2895840" cy="4376520"/>
            <a:chOff x="4495680" y="1566720"/>
            <a:chExt cx="2895840" cy="4376520"/>
          </a:xfrm>
        </p:grpSpPr>
        <p:grpSp>
          <p:nvGrpSpPr>
            <p:cNvPr id="108" name=""/>
            <p:cNvGrpSpPr/>
            <p:nvPr/>
          </p:nvGrpSpPr>
          <p:grpSpPr>
            <a:xfrm>
              <a:off x="4495680" y="1566720"/>
              <a:ext cx="2895840" cy="4376520"/>
              <a:chOff x="4495680" y="1566720"/>
              <a:chExt cx="2895840" cy="4376520"/>
            </a:xfrm>
          </p:grpSpPr>
          <p:sp>
            <p:nvSpPr>
              <p:cNvPr id="109" name=""/>
              <p:cNvSpPr/>
              <p:nvPr/>
            </p:nvSpPr>
            <p:spPr>
              <a:xfrm>
                <a:off x="5508000" y="1566720"/>
                <a:ext cx="1276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700" spc="-1" strike="noStrike">
                    <a:solidFill>
                      <a:srgbClr val="ffff99"/>
                    </a:solidFill>
                    <a:latin typeface="Arial"/>
                  </a:rPr>
                  <a:t>Set-Top Box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2053800"/>
                <a:ext cx="2895840" cy="3889440"/>
              </a:xfrm>
              <a:prstGeom prst="rect">
                <a:avLst/>
              </a:prstGeom>
              <a:solidFill>
                <a:srgbClr val="ff5f3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4827600" y="2527200"/>
              <a:ext cx="1039680" cy="94428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Satellite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Cabl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receiv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5284440"/>
              <a:ext cx="2369880" cy="47304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5880" y="4233600"/>
              <a:ext cx="1017720" cy="56988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Applicatio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94120" y="4233600"/>
              <a:ext cx="1019160" cy="56844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Lay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0800" y="2527200"/>
              <a:ext cx="1032120" cy="944280"/>
            </a:xfrm>
            <a:prstGeom prst="rect">
              <a:avLst/>
            </a:prstGeom>
            <a:solidFill>
              <a:srgbClr val="ffefab"/>
            </a:solidFill>
            <a:ln w="0">
              <a:noFill/>
            </a:ln>
            <a:effectLst>
              <a:outerShdw dist="153753" dir="2700000" blurRad="0" rotWithShape="0">
                <a:srgbClr val="988e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MPEG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99"/>
                  </a:solidFill>
                  <a:latin typeface="Arial"/>
                </a:rPr>
                <a:t>Sub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00200" y="2373480"/>
            <a:ext cx="1066680" cy="94428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Inj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37492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Distribu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00536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035600"/>
            <a:ext cx="1066680" cy="94428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848720" y="2481120"/>
            <a:ext cx="1104840" cy="2544480"/>
            <a:chOff x="7848720" y="2481120"/>
            <a:chExt cx="1104840" cy="2544480"/>
          </a:xfrm>
        </p:grpSpPr>
        <p:sp>
          <p:nvSpPr>
            <p:cNvPr id="121" name=""/>
            <p:cNvSpPr/>
            <p:nvPr/>
          </p:nvSpPr>
          <p:spPr>
            <a:xfrm>
              <a:off x="7924680" y="2481120"/>
              <a:ext cx="1028880" cy="94428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TV 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8720" y="4081320"/>
              <a:ext cx="1066680" cy="944280"/>
            </a:xfrm>
            <a:prstGeom prst="rect">
              <a:avLst/>
            </a:prstGeom>
            <a:gradFill rotWithShape="0">
              <a:gsLst>
                <a:gs pos="0">
                  <a:srgbClr val="feee9e"/>
                </a:gs>
                <a:gs pos="50000">
                  <a:srgbClr val="fdf5cc"/>
                </a:gs>
                <a:gs pos="100000">
                  <a:srgbClr val="feee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Interac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99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43200" y="286236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492800"/>
            <a:ext cx="6094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4538520"/>
            <a:ext cx="10666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274320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2938320"/>
            <a:ext cx="6094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6240" y="3243240"/>
            <a:ext cx="762120" cy="1295280"/>
            <a:chOff x="7086240" y="3243240"/>
            <a:chExt cx="762120" cy="1295280"/>
          </a:xfrm>
        </p:grpSpPr>
        <p:sp>
          <p:nvSpPr>
            <p:cNvPr id="129" name=""/>
            <p:cNvSpPr/>
            <p:nvPr/>
          </p:nvSpPr>
          <p:spPr>
            <a:xfrm flipH="1">
              <a:off x="7086240" y="4538520"/>
              <a:ext cx="76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162920" y="324324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3243240"/>
              <a:ext cx="0" cy="1295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95680" y="2054160"/>
            <a:ext cx="2895840" cy="3889440"/>
          </a:xfrm>
          <a:prstGeom prst="rect">
            <a:avLst/>
          </a:prstGeom>
          <a:solidFill>
            <a:srgbClr val="ff5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27600" y="2527200"/>
            <a:ext cx="1039680" cy="94464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Satellit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Cab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re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42000" y="5284800"/>
            <a:ext cx="2369880" cy="47304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Operating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233960"/>
            <a:ext cx="1017720" cy="56988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94120" y="4233960"/>
            <a:ext cx="1019160" cy="56808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08000" y="1566720"/>
            <a:ext cx="1276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99"/>
                </a:solidFill>
                <a:latin typeface="Arial"/>
              </a:rPr>
              <a:t>Set-Top Bo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237492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48112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371600" y="3014280"/>
            <a:ext cx="228600" cy="837720"/>
            <a:chOff x="1371600" y="3014280"/>
            <a:chExt cx="228600" cy="837720"/>
          </a:xfrm>
        </p:grpSpPr>
        <p:sp>
          <p:nvSpPr>
            <p:cNvPr id="141" name=""/>
            <p:cNvSpPr/>
            <p:nvPr/>
          </p:nvSpPr>
          <p:spPr>
            <a:xfrm flipV="1">
              <a:off x="1371600" y="3014280"/>
              <a:ext cx="0" cy="83772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1600" y="3014640"/>
              <a:ext cx="228600" cy="0"/>
            </a:xfrm>
            <a:prstGeom prst="line">
              <a:avLst/>
            </a:prstGeom>
            <a:ln w="28440">
              <a:solidFill>
                <a:srgbClr val="ffff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130800" y="2527200"/>
            <a:ext cx="1032120" cy="944640"/>
          </a:xfrm>
          <a:prstGeom prst="rect">
            <a:avLst/>
          </a:prstGeom>
          <a:solidFill>
            <a:srgbClr val="ffefab"/>
          </a:solidFill>
          <a:ln w="0">
            <a:noFill/>
          </a:ln>
          <a:effectLst>
            <a:outerShdw dist="153753" dir="2700000" blurRad="0" rotWithShape="0">
              <a:srgbClr val="988e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MPEG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Sub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373480"/>
            <a:ext cx="1066680" cy="94428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Inj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37492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Distribu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00536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4035600"/>
            <a:ext cx="1066680" cy="94428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4680" y="2481120"/>
            <a:ext cx="10288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TV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4081320"/>
            <a:ext cx="1066680" cy="944640"/>
          </a:xfrm>
          <a:prstGeom prst="rect">
            <a:avLst/>
          </a:prstGeom>
          <a:gradFill rotWithShape="0">
            <a:gsLst>
              <a:gs pos="0">
                <a:srgbClr val="feee9e"/>
              </a:gs>
              <a:gs pos="50000">
                <a:srgbClr val="fdf5cc"/>
              </a:gs>
              <a:gs pos="100000">
                <a:srgbClr val="feee9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de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86236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492800"/>
            <a:ext cx="6094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4538520"/>
            <a:ext cx="10666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274320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086240" y="4538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2938320"/>
            <a:ext cx="609480" cy="0"/>
          </a:xfrm>
          <a:prstGeom prst="line">
            <a:avLst/>
          </a:prstGeom>
          <a:ln w="2844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162920" y="324324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3243240"/>
            <a:ext cx="0" cy="12952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80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a42c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1fa42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4081320"/>
            <a:ext cx="1066680" cy="944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def2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de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233960"/>
            <a:ext cx="1017720" cy="569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def2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cecff"/>
            </a:solidFill>
            <a:miter/>
          </a:ln>
          <a:effectLst>
            <a:outerShdw dist="153753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30800" y="2527200"/>
            <a:ext cx="1032120" cy="944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def2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cecff"/>
            </a:solidFill>
            <a:miter/>
          </a:ln>
          <a:effectLst>
            <a:outerShdw dist="153753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MPEG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99"/>
                </a:solidFill>
                <a:latin typeface="Arial"/>
              </a:rPr>
              <a:t>Sub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24680" y="2481120"/>
            <a:ext cx="1028880" cy="944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def2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99"/>
                </a:solidFill>
                <a:latin typeface="Arial"/>
              </a:rPr>
              <a:t>TV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553080" y="3471480"/>
            <a:ext cx="0" cy="76212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2743200"/>
            <a:ext cx="761760" cy="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572000"/>
            <a:ext cx="762120" cy="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4:09:29Z</dcterms:created>
  <dc:creator>Marie-Astrid Roba</dc:creator>
  <dc:description/>
  <dc:language>en-US</dc:language>
  <cp:lastModifiedBy> Maréchal Guy</cp:lastModifiedBy>
  <cp:lastPrinted>2000-09-28T15:39:41Z</cp:lastPrinted>
  <dcterms:modified xsi:type="dcterms:W3CDTF">2003-11-28T12:23:35Z</dcterms:modified>
  <cp:revision>363</cp:revision>
  <dc:subject/>
  <dc:title>Version 3.03</dc:title>
</cp:coreProperties>
</file>