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CEC-54B1-4747-8B60-EB4F4AB9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127-2CAF-46DF-BC00-DC409A6D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203-937B-4EF8-8B20-8EC373B0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1A7-FDEA-40FF-BBE4-D904D30F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829F-CE15-4DC3-95CB-084900D2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CAFB-964C-4BAC-83AF-53C792B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9E6B-DA5A-4056-8EB1-66E1C7D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7956-F041-4A30-AEFA-EF5ACD17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D746-920B-40B8-9CB9-0D9F3D9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80AA-7BC7-4087-ADA4-110D611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6155-1EFA-4600-9230-E6B7D19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0F5-F31B-45F6-A3E9-6080B1B6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8CFA-6861-4685-8FC6-662FED6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56CA-F105-4B35-B2E1-F8657CD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77A0-BE04-4EF0-BC63-D184A056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0F01-8995-46BE-921C-E6B26F61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943F-3CA9-47BD-A8AC-3F682EA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66F-D77C-45E7-A116-7ED3618E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040-8830-444C-9EF8-ED5B657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036-4BFC-4644-A012-005B0447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529-9B3C-46FA-9AA0-96C2368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FEB-B12A-4F78-B33C-5433164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65E-D923-491A-A7A9-5FFEEDC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15C-A7A8-476C-BCBF-B398C95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B73-37F5-4402-8BE5-9A9CD74064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928-DF1D-4045-84EA-ED946E31459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emière parti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tude de cas des télévisions Africaines Francophones et réalisation d’une solution industr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Vue métier (1/2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 et docu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administrative, technique, et docu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j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documentaire, pointeurs sur l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é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he documentaire, pointeurs sur l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Vue métier (2/2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informations de processus « métiers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on des utilisateurs et des dro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on du workflow d’archi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historique des processus d’archivage et de la réalisation des archives et de leurs usages (Archive de référence, archive d’échang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et export d’archives entr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relation entre la vue métier et la vue architectura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squé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se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à Archi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i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j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équ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Le point n’est pas utilis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oix techniqu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nées: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du modèle Architecturale 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des fiches documentaires 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 informatique : suite Apache Jakarta Tomcat Lu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 AV: Windows media player ou Video Lan Project, choix des formats Mpeg2 et Mpeg4(xv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é et validé sur réseau Intranet (Windows et Linux en mix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 archive (DVD) est un mini centre qui se suffit à lui mê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archive AIME est autonome. Elle cont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éfinitions formelles de l’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éfinitions formelles document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éfinitions structurelles du document (essence et prox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onnées d’indexation et dro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ite Internet embarqué de consul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version Industri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1160" y="1523880"/>
            <a:ext cx="78519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version Industri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version industrielle est validée et déployée à l’île Maurice (MBC) et au Gabon (RTG). Sept autres pays sont programmés d’ici fin 20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uxième parti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an critique de 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e réussite opérationnel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s les services atten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her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conom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é d’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6172200" y="1143000"/>
            <a:ext cx="24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s limites de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s avons vu dans les pages précédentes que le modèle Architectural était un modèle « statique 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a nous a obligé à gérer dans l’application elle même le workflow de l’archivage, les thésaurus, et la gestion des droits et des utilisate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Étude de cas: Les télévisions Africaines Francoph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u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2000 2001, une étude missionnée par la BAFD montre que les archives des télévisions Africaine sont en train de se pe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irtef (Conseil International des Télévisions Francophone) missionne  un groupe d’expert issue de l’industrie, de la recherche, et de la télévision pour trouver un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tion doit être simple, robuste, et adaptée aux conditions des pays du S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tte limite montre la nécessité de redéfinir l’Op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Opus est un « processus » qui doit aboutir à un résul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c un « Processus » peut se décliner en « Processus » plus élémentai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a permet de confier l’exécution d’un « Processus » à un système t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’intérêt de cette nouvelle approch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ait d’accepter que les Opus/Processus puissent être arborescents, permet de tracer la vie du document donc permet au modèle architectural d’assumer le rôle de gestionnaire de projet, rôle qui était dévolu à l’application dans le modèle A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IME propose un modèle statique.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AIME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7816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modèle Statique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administrative gère les aspects de « droit » lié à toute application document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structurelle permet de gérer les représentations des documents gé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ension fonctionnelle permet d’associer à ces éléments les informations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XIS propose un modèle dynamique.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AXIS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6294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modèle dynamique AX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modèle AXIS ajoute la gestion du projet documentaire. On peut donc le qualifier de modèle « dynamique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ès lors, tous les systèmes embarquant l’intelligence AXIS sont en situation de collaborer  (Exemple: Un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caméra numérique avec un MAM/D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retour d’expérience démont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ertinence des approches par « modèle » évidemment confrontées à des retours du ter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aisabilité technique de tels pro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opportunité à intégrer la notion de gestion de projet dans le modèle lui mê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isque la gestion de projet est aussi invariante que la gestion des structures et de dro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mercie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vous remercie de votre attention. J’ai le plaisir de céder la parole à M. Guy Maréchal, qui va vous exposer la norme AX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tiens à remercier Messieurs Roberts et Maréchal pour le rôle fondamental qu’il ont joué dans le projet que je viens de vous rela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s concepts reten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conclusions du groupe d’étude s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e des centres d’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é des archiv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épendance industr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érabilité entre centre d’archi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 des supports d’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n déploiement modulaire et économiqu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lutivité des centres d’archi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ces critères sont respectés, le projet est conforme aux attentes du Cirt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 Cirtef demande une solution opérationnelle: A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groupe chargé de mission conçoit une norme et la réalise d’un prototype validant la faisabilité du projet au travers d’orientations technologiques préci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2 puis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sation des grammaires X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és multimédia des réseaux d’ordinate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ment des briques « Open Source » et des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52600" y="162000"/>
            <a:ext cx="62769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’une des pages 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site Web nomad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généré par la commande d’un client du ‘Centre de gestion documentair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95440" y="1662120"/>
            <a:ext cx="5713560" cy="451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1360" y="95724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électionnel (vidéo ou 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051440" y="1235160"/>
            <a:ext cx="1085760" cy="154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29600" y="1173240"/>
            <a:ext cx="14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Cent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35880" y="1438200"/>
            <a:ext cx="877680" cy="1030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61280" y="19414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Collectio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65760" y="2201760"/>
            <a:ext cx="866880" cy="118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43640" y="2751120"/>
            <a:ext cx="17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é ‘Documen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38840" y="2959200"/>
            <a:ext cx="835200" cy="1247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19065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j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1480" y="2217600"/>
            <a:ext cx="946080" cy="425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360" y="2217600"/>
            <a:ext cx="914400" cy="766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9160" y="2184480"/>
            <a:ext cx="893880" cy="1179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6880" y="1254240"/>
            <a:ext cx="24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de temporel du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3080" y="1486080"/>
            <a:ext cx="704880" cy="113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" y="3797280"/>
            <a:ext cx="14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mps documentaires des s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j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35040" y="4597560"/>
            <a:ext cx="1104840" cy="9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4606920"/>
            <a:ext cx="1062000" cy="366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280" y="4629240"/>
            <a:ext cx="1039680" cy="711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240" y="4594320"/>
            <a:ext cx="1000440" cy="1112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0560" y="5683320"/>
            <a:ext cx="14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mps documentaires des ent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897520" y="3111480"/>
            <a:ext cx="1679760" cy="2557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856120" y="3797280"/>
            <a:ext cx="1733760" cy="1906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992920" y="4973760"/>
            <a:ext cx="1596960" cy="730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lidation du prototy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isabilité du projet est validé à Niamey par le Cirtef lors de congres annuel baptisé SE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réviation de séminaire de 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écision de principe du développement d’une version industrielle est pri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a réalisation: un comprom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ue métier des professionnels de la documentation audio-visu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ître leur vocab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ître leurs processus habituels de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vue architectu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une pérennité et une évolu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ettre et préparer la compatibilité (la convergence) des système documentaires plus géné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faisabilité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appuyer sur des techno. non proprié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ailler dans un budget restreint (+- 100.000 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ue architecturale (la hiérarchie des entité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(récurs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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haque entité, on associe une fiche descriptive localisée. Ces fiches descriptives traitent, selon l’entité, des aspects administratifs, structurels ou sémantiques de l’entité associé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ue architecturale (définitions des entité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ntre Audio Visuel respons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emble des Opus participants à une intention commune – (Ex: les J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u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emble des documents et annexes liés à un même document maître (rush, script, accessoire…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it un document numérique, soit pointeur sur un document ré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écursif) Segment d’un document séquent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eur sur un document séquentie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5:55:16Z</dcterms:created>
  <dc:creator> </dc:creator>
  <dc:description/>
  <dc:language>en-US</dc:language>
  <cp:lastModifiedBy>Roger ROBERTS</cp:lastModifiedBy>
  <dcterms:modified xsi:type="dcterms:W3CDTF">2005-11-16T11:02:11Z</dcterms:modified>
  <cp:revision>12</cp:revision>
  <dc:subject/>
  <dc:title>Exemple opérationnel: AIME</dc:title>
</cp:coreProperties>
</file>