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015-7C5F-4E11-8145-C1657F0B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C0E-4B37-485D-AC86-AA74A37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C4E-DA4D-49DE-B6FA-0F88AC70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3BF-E729-490E-A163-5A1740F2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57ED-ACEC-4F90-B0B1-DD8134CE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0065-7006-4EE5-9E25-351EBB08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C232-9FC8-4127-8F79-A113A914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0CC9-1579-4222-B423-E88226EB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5CF9-4610-4F43-B37E-936D36E9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C668-1F61-4993-BB97-26F24BF6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A06E-7700-4E4F-955B-46AC7ED6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D9C-9826-4177-8F4A-BAAAD163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291F-F5B1-4F66-A863-33CF24C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7A36-851E-415D-B35A-7F93A17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4250-01D5-4281-A6BB-2B8CD32B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B5C3-9C56-4012-83BE-082B51EC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137C-1019-40A3-8113-39139FC2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522-97A5-4B1D-B6B0-2D8B825B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23F-E83C-4FC0-A93C-30983943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AE2-9742-4C3C-95F2-9FB50C6C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974-C04E-4D93-ADC1-EAFBBA37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1E7-888F-407F-BF8E-E2C7550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85C-DE81-4B3E-868A-FFD40EE3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F25-ACDF-4FE4-B992-0986C0A3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B419-DA3C-4724-ACD9-1304559CAD4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1E34-030D-48EC-8DF4-35F98232A01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emière partie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tude de cas des télévisions Africaines Francophones et réalisation d’une solution industri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IME Vue métier (1/2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administrative et docu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administrative, technique, et docu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j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documentaire, pointeurs sur l’é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é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documentaire, pointeurs sur l’é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IME Vue métier (2/2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informations de processus « métiers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on des utilisateurs et des dro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on du workflow d’archi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historique des processus d’archivage et de la réalisation des archives et de leurs usages (Archive de référence, archive d’échang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et export d’archives entre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a relation entre la vue métier et la vue architectura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squé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seu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à Archi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i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j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éque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Le point n’est pas utilis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oix techniqu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nées: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du modèle Architecturale X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des fiches documentaires X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e informatique : suite Apache Jakarta Tomcat Lu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e AV: Windows media player ou Video Lan Project, choix des formats Mpeg2 et Mpeg4(xv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é et validé sur réseau Intranet (Windows et Linux en mix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n archive (DVD) est un mini centre qui se suffit à lui mê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archive AIME est autonome. Elle conti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définitions formelles de l’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définitions formelles documentai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définitions structurelles du document (essence et prox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données d’indexation et dro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ite Internet embarqué de consul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a version Industriel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11160" y="1523880"/>
            <a:ext cx="78519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a version Industriel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version industrielle est validée et déployée à l’île Maurice (MBC) et au Gabon (RTG). Sept autres pays sont programmés d’ici fin 200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uxième partie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an critique de A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ne réussite opérationnel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s les services attend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her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conom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é d’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6172200" y="1143000"/>
            <a:ext cx="249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s limites de AI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s avons vu dans les pages précédentes que le modèle Architectural était un modèle « statique 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a nous a obligé à gérer dans l’application elle même le workflow de l’archivage, les thésaurus, et la gestion des droits et des utilisate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Étude de cas: Les télévisions Africaines Francoph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u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2000 2001, une étude missionnée par la BAFD montre que les archives des télévisions Africaine sont en train de se pe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e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Cirtef (Conseil International des Télévisions Francophone) missionne  un groupe d’expert issue de l’industrie, de la recherche, et de la télévision pour trouver une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lution doit être simple, robuste, et adaptée aux conditions des pays du S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tte limite montre la nécessité de redéfinir l’Op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Opus est un « processus » qui doit aboutir à un résul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c un « Processus » peut se décliner en « Processus » plus élémentai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a permet de confier l’exécution d’un « Processus » à un système t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’intérêt de cette nouvelle approch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fait d’accepter que les Opus/Processus puissent être arborescents, permet de tracer la vie du document donc permet au modèle architectural d’assumer le rôle de gestionnaire de projet, rôle qui était dévolu à l’application dans le modèle A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IME propose un modèle statique.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5" name="AIME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78168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 modèle Statique AI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mension administrative gère les aspects de « droit » lié à toute application documenta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mension structurelle permet de gérer les représentations des documents gér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mension fonctionnelle permet d’associer à ces éléments les informations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XIS propose un modèle dynamique.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9" name="AXIS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66294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 modèle dynamique AXI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modèle AXIS ajoute la gestion du projet documentaire. On peut donc le qualifier de modèle « dynamique 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ès lors, tous les systèmes embarquant l’intelligence AXIS sont en situation de collaborer  (Exemple: Un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caméra numérique avec un MAM/D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retour d’expérience démont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ertinence des approches par « modèle » évidemment confrontées à des retours du ter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aisabilité technique de tels proj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opportunité à intégrer la notion de gestion de projet dans le modèle lui mê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uisque la gestion de projet est aussi invariante que la gestion des structures et de dro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merciemen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vous remercie de votre attention. J’ai le plaisir de céder la parole à M. Guy Maréchal, qui va vous exposer la norme AX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tiens à remercier Messieurs Roberts et Maréchal pour le rôle fondamental qu’il ont joué dans le projet que je viens de vous rela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s concepts reten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conclusions du groupe d’étude s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e des centres d’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ilité des archive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épendance industri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érabilité entre centre d’archiv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on des supports d’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n déploiement modulaire et économiqu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olutivité des centres d’archiv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ces critères sont respectés, le projet est conforme aux attentes du Cirt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 Cirtef demande une solution opérationnelle: AI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groupe chargé de mission conçoit une norme et la réalise d’un prototype validant la faisabilité du projet au travers d’orientations technologiques préci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2 puis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sation des grammaires X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és multimédia des réseaux d’ordinate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ment des briques « Open Source » et des standa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52600" y="162000"/>
            <a:ext cx="62769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L’une des pages 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du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site Web nomad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généré par la commande d’un client du ‘Centre de gestion documentair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95440" y="1662120"/>
            <a:ext cx="5713560" cy="4514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1360" y="95724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électionnel (vidéo ou 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051440" y="1235160"/>
            <a:ext cx="1085760" cy="154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29600" y="1173240"/>
            <a:ext cx="14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ité ‘Centr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635880" y="1438200"/>
            <a:ext cx="877680" cy="1030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61280" y="194148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ité ‘Collection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65760" y="2201760"/>
            <a:ext cx="866880" cy="1181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43640" y="2751120"/>
            <a:ext cx="17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ité ‘Document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738840" y="2959200"/>
            <a:ext cx="835200" cy="1247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190656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j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1480" y="2217600"/>
            <a:ext cx="946080" cy="425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360" y="2217600"/>
            <a:ext cx="914400" cy="766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9160" y="2184480"/>
            <a:ext cx="893880" cy="1179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6880" y="1254240"/>
            <a:ext cx="24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de temporel du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3080" y="1486080"/>
            <a:ext cx="704880" cy="113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" y="3797280"/>
            <a:ext cx="144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mps documentaires des s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j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35040" y="4597560"/>
            <a:ext cx="1104840" cy="9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2960" y="4606920"/>
            <a:ext cx="1062000" cy="3668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5280" y="4629240"/>
            <a:ext cx="1039680" cy="711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240" y="4594320"/>
            <a:ext cx="1000440" cy="1112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0560" y="5683320"/>
            <a:ext cx="144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mps documentaires des ent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897520" y="3111480"/>
            <a:ext cx="1679760" cy="2557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856120" y="3797280"/>
            <a:ext cx="1733760" cy="1906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992920" y="4973760"/>
            <a:ext cx="1596960" cy="730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alidation du prototyp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isabilité du projet est validé à Niamey par le Cirtef lors de congres annuel baptisé SE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réviation de séminaire de 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écision de principe du développement d’une version industrielle est pri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a réalisation: un compromi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vue métier des professionnels de la documentation audio-visu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aître leur vocab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aître leurs processus habituels de trav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vue architectu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ire une pérennité et une évolu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ettre et préparer la compatibilité (la convergence) des système documentaires plus géné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faisabilité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appuyer sur des techno. non proprié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ailler dans un budget restreint (+- 100.000 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ue architecturale (la hiérarchie des entités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(récurs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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haque entité, on associe une fiche descriptive localisée. Ces fiches descriptives traitent, selon l’entité, des aspects administratifs, structurels ou sémantiques de l’entité associé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ue architecturale (définitions des entités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ntre Audio Visuel respons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emble des Opus participants à une intention commune – (Ex: les J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u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emble des documents et annexes liés à un même document maître (rush, script, accessoire…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it un document numérique, soit pointeur sur un document ré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récursif) Segment d’un document séquenti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inteur sur un document séquentie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5:55:16Z</dcterms:created>
  <dc:creator> </dc:creator>
  <dc:description/>
  <dc:language>en-US</dc:language>
  <cp:lastModifiedBy>Roger ROBERTS</cp:lastModifiedBy>
  <dcterms:modified xsi:type="dcterms:W3CDTF">2005-11-16T11:02:11Z</dcterms:modified>
  <cp:revision>12</cp:revision>
  <dc:subject/>
  <dc:title>Exemple opérationnel: AIME</dc:title>
</cp:coreProperties>
</file>